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459-04B9-46A0-A978-BBF04066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A131-D52B-4409-9E41-C035A6CF566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C879-9128-43F7-8211-FA94E1D03F2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C07F-A184-43A0-9FD0-5E7717AEAC0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0EC1-65C2-4334-8C49-223A3731523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AD1-05A7-4E77-AFB7-3CC4443196A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B93-5122-4EAD-A4C1-8F1AACF4971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8B9-8EB1-44A3-AE48-DDADAB716F0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4CC-2432-4870-8DDD-E669DF61F5B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085A-C8EF-42E2-AD45-0E4DC79F363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6593-0377-4CFF-98E3-784FD140435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E5B-FD3C-4CD3-B9E3-CBFE4CC4FDC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Users/Ingvarr/Pictures/&#1057;&#1090;&#1072;&#1090;&#1080;&#1089;&#1090;&#1080;&#1082;&#1072;%20&#1074;&#1072;&#1082;&#1094;&#1080;&#1085;&#1072;&#1094;&#1080;&#1080;%20&#1074;%20&#1056;&#1086;&#1089;&#1089;&#1080;&#1080;%20-%20&#1055;&#1088;&#1086;&#1092;%20&#1087;&#1088;&#1080;&#1074;&#1080;&#1074;&#1082;&#1080;.html" TargetMode="External"/><Relationship Id="rId2" Type="http://schemas.openxmlformats.org/officeDocument/2006/relationships/hyperlink" Target="http://www.euro.who.int/ru/media-centre/sections/press-releases/2017/measles-outbreaks-across-europe-threaten-progress-towards-elimination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ospotrebnadzor.ru/activities/statistical-materials/statictic_details.php?ELEMENT_ID=5836" TargetMode="External"/><Relationship Id="rId2" Type="http://schemas.openxmlformats.org/officeDocument/2006/relationships/hyperlink" Target="http://rospotrebnadzor.ru/activities/statistical-materials/statictic_details.php?ELEMENT_ID=5836" TargetMode="External"/><Relationship Id="rId3" Type="http://schemas.openxmlformats.org/officeDocument/2006/relationships/hyperlink" Target="https://antivakcina.org/nado-li-ogranichivat-v-kontaktax-neprivityx-detej/" TargetMode="External"/><Relationship Id="rId4" Type="http://schemas.openxmlformats.org/officeDocument/2006/relationships/hyperlink" Target="https://lamp.im/istoriya-mirovyih-epidemiy-chast-1-chuma-i-ospa/" TargetMode="External"/><Relationship Id="rId5" Type="http://schemas.openxmlformats.org/officeDocument/2006/relationships/hyperlink" Target="http://www.stihi-xix-xx-vekov.ru/m-stih300.html" TargetMode="External"/><Relationship Id="rId6" Type="http://schemas.openxmlformats.org/officeDocument/2006/relationships/hyperlink" Target="file:///C:/Users/Ingvarr/Desktop/&#1087;&#1088;&#1077;&#1079;&#1077;&#1085;&#1090;&#1072;&#1094;&#1080;&#1103;%20&#1080;&#1084;&#1084;&#1091;&#1085;&#1085;&#1080;&#1079;&#1072;&#1094;&#1080;&#1080;%20&#1085;&#1072;%20&#1082;&#1086;&#1085;&#1082;&#1091;&#1088;&#1089;/EpiData-No01-2017-ru.pdf" TargetMode="Externa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648320" cy="704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1ff"/>
                </a:solidFill>
                <a:latin typeface="Microsoft Sans Serif"/>
              </a:rPr>
              <a:t>Иммунизация </a:t>
            </a:r>
            <a:endParaRPr b="0" lang="en-US" sz="36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19520" y="4647960"/>
            <a:ext cx="5943600" cy="160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Microsoft Sans Serif"/>
              </a:rPr>
              <a:t>Учитель русского языка МБОУ СШ №36 г.Дзержинск Нижегородской обл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Microsoft Sans Serif"/>
              </a:rPr>
              <a:t>Половинкина Екатерина Сергеевн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93432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Ученый Луи Пастер</a:t>
            </a:r>
            <a:br>
              <a:rPr sz="4000"/>
            </a:b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дал пинка им всем.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116" name="Picture 2" descr="C:\Users\Ingvarr\Pictures\img9 5.jpg"/>
          <p:cNvPicPr/>
          <p:nvPr/>
        </p:nvPicPr>
        <p:blipFill>
          <a:blip r:embed="rId2"/>
          <a:srcRect l="0" t="0" r="45210" b="6734"/>
          <a:stretch/>
        </p:blipFill>
        <p:spPr>
          <a:xfrm>
            <a:off x="4664160" y="2712960"/>
            <a:ext cx="4114800" cy="394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Ingvarr\Pictures\1263930012_rrrrryo-r-rrr-ryesrsrrr-ryerrrsrs.jpg"/>
          <p:cNvPicPr/>
          <p:nvPr/>
        </p:nvPicPr>
        <p:blipFill>
          <a:blip r:embed="rId3"/>
          <a:stretch/>
        </p:blipFill>
        <p:spPr>
          <a:xfrm>
            <a:off x="3124080" y="1662120"/>
            <a:ext cx="2438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Луи Пастер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78400" y="198108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казал, что заболевания можно экспериментально вызывать путем введения в здоровые организмы определенных микробов. Он вошел в историю как создатель вакцин против куриной холеры, сибирской язвы и бешенства и как автор метода ослабления заразности микробов путем искусственных обработок в лаборатори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0" name="Picture 6" descr="C:\Users\Ingvarr\Pictures\640full-louis-pasteur.jpg"/>
          <p:cNvPicPr/>
          <p:nvPr/>
        </p:nvPicPr>
        <p:blipFill>
          <a:blip r:embed="rId1"/>
          <a:srcRect l="18243" t="0" r="11977" b="0"/>
          <a:stretch/>
        </p:blipFill>
        <p:spPr>
          <a:xfrm>
            <a:off x="380880" y="2305080"/>
            <a:ext cx="40197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Антигены и антител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последовавшее столетие медицина энергично внедрила пастеровский принцип изготовления вакцинирующих препаратов путем искусственного ослабления (аттенуации) диких микробов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891 г. Пауль Эрлих назвал противомикробные вещества крови термином «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антитело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» (по-немецки antikorper), так как бактерий в то время называли термином korper — микроскопические тельц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Антигены и антител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21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899 г. JI. Детре (сотрудник И.И. Мечникова) ввел термин «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антиген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» для обозначения субстанций, в ответ на которые организм животных и человека способен вырабатывать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антител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908 г. П. Эрлиху вручили Нобелевскую премию за гуморальную теорию иммунитет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дновременно с П. Эрлихом в 1908 г. Нобелевскую премию за клеточную теорию иммунитета получил великий русский ученый Илья Ильич Мечников (1845—1916)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спа в Российской империи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981080"/>
            <a:ext cx="4267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Российской империи оспа истребляла людей с 1610 г. От нее погиб Петр 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II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.ниже родовой герб дворянина Маркова-Оспенного, получившего дворянство за то, что с его руки был взят материал для прививк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7" name="Объект 3" descr="https://cdn2.lamp.im/wp-content/uploads/2017/03/jepidemii-5.jpg"/>
          <p:cNvPicPr/>
          <p:nvPr/>
        </p:nvPicPr>
        <p:blipFill>
          <a:blip r:embed="rId1"/>
          <a:stretch/>
        </p:blipFill>
        <p:spPr>
          <a:xfrm>
            <a:off x="5181480" y="2057400"/>
            <a:ext cx="3427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Прививки в Росси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14440" y="2182320"/>
            <a:ext cx="4724280" cy="33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оссийская императрица Екатерина II учредила Медицинскую коллегию. В России начинают делать прививки от осп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ервую в стране прививку сделали в 1768 году Екатерине II, решившей подать подданным пример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0" name="Picture 5" descr="C:\Users\Ingvarr\Downloads\ekaterina2.jpeg"/>
          <p:cNvPicPr/>
          <p:nvPr/>
        </p:nvPicPr>
        <p:blipFill>
          <a:blip r:embed="rId1"/>
          <a:stretch/>
        </p:blipFill>
        <p:spPr>
          <a:xfrm>
            <a:off x="152280" y="1828800"/>
            <a:ext cx="4016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Вакцинация в СССР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РСФСР  декрет об обязательных прививках ввели в 1919 г. Если в 1919 году зарегистрировали 186 тысяч больных, то в 1925 году — 25 тысяч, в 1935 году — чуть больше 3 тысяч. К 1936 году натуральную оспу в СССР ликвидировали полностью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977 году был отмечен последний случай заражения оспой в мире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исло управляемых</a:t>
            </a:r>
            <a:br>
              <a:rPr sz="4400"/>
            </a:b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 инфекций в Росси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rcRect l="19138" t="47475" r="8057" b="27106"/>
          <a:stretch/>
        </p:blipFill>
        <p:spPr>
          <a:xfrm>
            <a:off x="152280" y="2514600"/>
            <a:ext cx="899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86400" y="533160"/>
            <a:ext cx="281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ГИГИЕНА И ВАКЦИНАЦИЯ – НАШ ОТВЕТ НА ИХ ПРОВОКАЦИ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3810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ИРУСОВ ОРУЖИЕ – НЕЗАМЕТНОСТЬ И МУТАЦИЯ</a:t>
            </a:r>
            <a:endParaRPr b="0" lang="en-US" sz="24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137" name="Picture 1" descr="C:\Users\Ingvarr\Pictures\mayak50-1.jpg"/>
          <p:cNvPicPr/>
          <p:nvPr/>
        </p:nvPicPr>
        <p:blipFill>
          <a:blip r:embed="rId2"/>
          <a:srcRect l="0" t="0" r="0" b="10619"/>
          <a:stretch/>
        </p:blipFill>
        <p:spPr>
          <a:xfrm>
            <a:off x="1828800" y="1857240"/>
            <a:ext cx="2922480" cy="313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http://abload.de/img/141761410526607kfts.jpg"/>
          <p:cNvPicPr/>
          <p:nvPr/>
        </p:nvPicPr>
        <p:blipFill>
          <a:blip r:embed="rId3"/>
          <a:stretch/>
        </p:blipFill>
        <p:spPr>
          <a:xfrm>
            <a:off x="5486400" y="2448000"/>
            <a:ext cx="3165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тказ от прививок – признак неграмотност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19160" y="1905120"/>
            <a:ext cx="373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Каждый грамотный, ты, -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ты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должен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зяться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а дело ликвидаци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езграмотност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и темнот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Окна РОСТА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666520"/>
            <a:ext cx="38862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1.МЫ ОДОЛЕЛИ БОЛЕЗНЕЙ МНОЖЕСТВО,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7" name="Picture 2" descr="C:\Users\Ingvarr\Pictures\1263930012_rrrrryo-r-rrr-ryesrsrrr-ryerrrsrs.jpg"/>
          <p:cNvPicPr/>
          <p:nvPr/>
        </p:nvPicPr>
        <p:blipFill>
          <a:blip r:embed="rId2"/>
          <a:stretch/>
        </p:blipFill>
        <p:spPr>
          <a:xfrm>
            <a:off x="6697800" y="228600"/>
            <a:ext cx="1955520" cy="2124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5791320" y="249552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2. НО ЕЩЕ ЖИВО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ВИРУСА НИЧТОЖЕСТВО.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4" descr="http://weclipart.com/gimg/70AD92037C3D75A5/18433775-Cartoon-nurse-with-first-aid-kit-and-syringe--Stock-Vector.jpg"/>
          <p:cNvPicPr/>
          <p:nvPr/>
        </p:nvPicPr>
        <p:blipFill>
          <a:blip r:embed="rId3"/>
          <a:stretch/>
        </p:blipFill>
        <p:spPr>
          <a:xfrm>
            <a:off x="2301840" y="3573360"/>
            <a:ext cx="1279440" cy="2452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828800" y="602604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3.ЗНАЧИТ НУЖНА НАМ ЕЩЕ ВАКЦИНАЦИЯ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34120" y="5791320"/>
            <a:ext cx="350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4d4d4d"/>
                </a:solidFill>
                <a:latin typeface="Microsoft Sans Serif"/>
              </a:rPr>
              <a:t>4.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ЗНАЧИТ ДЕЛАТЬ ЕЕ НУЖНО,  И ВАЖНА  ЗДЕСЬ СИСТЕМАТИЗАЦИЯ.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" name="Picture 12" descr="http://oddlife.ru/wp-content/uploads/2016/10/2016-10-17_194355.png"/>
          <p:cNvPicPr/>
          <p:nvPr/>
        </p:nvPicPr>
        <p:blipFill>
          <a:blip r:embed="rId4"/>
          <a:srcRect l="47389" t="1056" r="0" b="0"/>
          <a:stretch/>
        </p:blipFill>
        <p:spPr>
          <a:xfrm>
            <a:off x="6553080" y="3800520"/>
            <a:ext cx="2016360" cy="199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C:\Users\Ingvarr\Pictures\img9 7.jpg"/>
          <p:cNvPicPr/>
          <p:nvPr/>
        </p:nvPicPr>
        <p:blipFill>
          <a:blip r:embed="rId5"/>
          <a:stretch/>
        </p:blipFill>
        <p:spPr>
          <a:xfrm>
            <a:off x="2301840" y="841320"/>
            <a:ext cx="2251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тказ от прививок – признак неграмотности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971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Готов л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ты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для этого труда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- Да!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удут л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езграмотные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 нашей стране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Нет!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.Маяковский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Теория коллективного иммунитет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1904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Если  95 % населения привито, то нет угрозы эпидемий — то есть неконтролируемого стремительного распространения болезни в популяции.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Дело в том, что прививки делаются не только для того, чтобы ваш ребенок не заболел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мимо основной задачи «не заболеть» прививка служит барьером  для передачи инфекции. Можно и не болеть, но быть носителем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ривитый ребенок  не болеет сам, не передает инфекцию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Непривитый ребенок  может не болеть сам некоторое время, но носить инфекцию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Теория коллективного иммунитет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Чтобы среди детей не было эпидемии, необходимо, чтобы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НЕ  МЕНЬШЕ 95% ДЕТЕЙ  БЫЛИ ПРИВИТЫ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. Тогда не заболеют оставшиеся 5% непривитых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Есть диагнозы, когда врачи запрещают прививки ребенку из-за особенностей его иммунитета. Такие дети могут жить, пока привиты все те, кому прививки не запрещены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огда же родители начинают отказываться от прививок здоровым детям, гибнут все. И здоровые, но не привитые дети, и нездоровые, которым прививки действительно нельзя было делать по медицинским показаниям. 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Симптомы кори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1980720"/>
            <a:ext cx="6096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Сыпь по всему телу, сопровождающаяся зудом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Повышение температуры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Головные боли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величение лимфоузлов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12120" indent="-31212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Кашель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49" name="Рисунок 3" descr="у ребёнка температура и красные пятна"/>
          <p:cNvPicPr/>
          <p:nvPr/>
        </p:nvPicPr>
        <p:blipFill>
          <a:blip r:embed="rId1"/>
          <a:stretch/>
        </p:blipFill>
        <p:spPr>
          <a:xfrm>
            <a:off x="6000840" y="4267080"/>
            <a:ext cx="28573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Последствия  повальной моды на анти-вакцинацию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9810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Румынии в  2016г  привито 86 % населе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103 случая заболевания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Летальный исход, осложнения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19320" y="2590560"/>
            <a:ext cx="6248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10 %  глухот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5 % пневмо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17 человек умерл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1ff"/>
                </a:solidFill>
                <a:latin typeface="Microsoft Sans Serif"/>
              </a:rPr>
              <a:t>Эпидемиологические данные ВОЗ </a:t>
            </a:r>
            <a:br>
              <a:rPr sz="2000"/>
            </a:br>
            <a:r>
              <a:rPr b="0" lang="ru-RU" sz="2000" spc="-1" strike="noStrike">
                <a:solidFill>
                  <a:srgbClr val="0091ff"/>
                </a:solidFill>
                <a:latin typeface="Microsoft Sans Serif"/>
              </a:rPr>
              <a:t>Случаи кори, зарегистрированные за 12 мес., </a:t>
            </a:r>
            <a:br>
              <a:rPr sz="2000"/>
            </a:br>
            <a:r>
              <a:rPr b="0" lang="ru-RU" sz="2000" spc="-1" strike="noStrike">
                <a:solidFill>
                  <a:srgbClr val="0091ff"/>
                </a:solidFill>
                <a:latin typeface="Microsoft Sans Serif"/>
              </a:rPr>
              <a:t>Февраль 2016 - Январь 2017 </a:t>
            </a:r>
            <a:br>
              <a:rPr sz="2000"/>
            </a:br>
            <a:r>
              <a:rPr b="0" lang="ru-RU" sz="2000" spc="-1" strike="noStrike">
                <a:solidFill>
                  <a:srgbClr val="0091ff"/>
                </a:solidFill>
                <a:latin typeface="Microsoft Sans Serif"/>
              </a:rPr>
              <a:t>(данные по состоянию на 13 Март 2017 г.) </a:t>
            </a:r>
            <a:endParaRPr b="0" lang="en-US" sz="2000" spc="-1" strike="noStrike">
              <a:solidFill>
                <a:srgbClr val="0091ff"/>
              </a:solidFill>
              <a:latin typeface="Microsoft Sans Serif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879560"/>
          <a:ext cx="8153280" cy="48196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трана 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Общее население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оказатель заболеваемости Фев 16 - Янв 17 (на 1 миллион населения)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вто случаев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c4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Австрия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8 569 63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6,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5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Армен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3 026 048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0,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Бельгия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1 371 928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9,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09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Ирланд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4 713 99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9,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4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59 801 004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7,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02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Румын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8 379 477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0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99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Швейцар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8 379 477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9,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77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af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143 439 83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5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то сказал бы В. Маяковский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6880" y="2133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Я волком бы выгрыз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болезни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мире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 микробам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чтения нет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 любым советам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тнесусь настороженно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но не к этом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то сказал бы В. Маяковский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90920" y="1981080"/>
            <a:ext cx="541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делай прививку,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ой мудрый товарищ!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озьми себя в руки,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тбросив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рах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чувств никаких не изведав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брети защиту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 антителах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асин Егор 9  «Б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БОУ СШ № 36 г.Дзержинск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Используемые сайты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«Статистика вакцинации в России»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1"/>
              </a:rPr>
              <a:t> «file:///C:/Users/Ingvarr/Pictures/Статистика%20вакцинации%20в%20России%20-%20Проф%20прививки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«Вспышки кори в Европейском регионе ставят под угрозу элиминацию этой болезни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2"/>
              </a:rPr>
              <a:t>http://www.euro.who.int/ru/media-centre/sections/press-releases/2017/measles-outbreaks-across-europe-threaten-progress-towards-elimination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Вирусы оспы и чумы 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95" name="Picture 7" descr="C:\Users\Ingvarr\Downloads\71db99fd85dd48e8a69770300f5e986d.jpg"/>
          <p:cNvPicPr/>
          <p:nvPr/>
        </p:nvPicPr>
        <p:blipFill>
          <a:blip r:embed="rId1"/>
          <a:srcRect l="0" t="0" r="0" b="-6092"/>
          <a:stretch/>
        </p:blipFill>
        <p:spPr>
          <a:xfrm>
            <a:off x="5181480" y="3673440"/>
            <a:ext cx="375768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Ingvarr\Desktop\презентация иммуннизации на конкурс\оспа.jpg"/>
          <p:cNvPicPr/>
          <p:nvPr/>
        </p:nvPicPr>
        <p:blipFill>
          <a:blip r:embed="rId2"/>
          <a:stretch/>
        </p:blipFill>
        <p:spPr>
          <a:xfrm>
            <a:off x="914400" y="1828800"/>
            <a:ext cx="3736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«Инфекционная заболеваемость в Российской Федерации за январь 2016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1"/>
              </a:rPr>
              <a:t>» 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2"/>
              </a:rPr>
              <a:t>http://rospotrebnadzor.ru/activities/statistical-materials/statictic_details.php?ELEMENT_ID=5836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3"/>
              </a:rPr>
              <a:t>https://antivakcina.org/nado-li-ogranichivat-v-kontaktax-neprivityx-detej/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атья  «История мировых эпидемий, часть 1. Чума и Оспа».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4"/>
              </a:rPr>
              <a:t>https://lamp.im/istoriya-mirovyih-epidemiy-chast-1-chuma-i-ospa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фмованные лозунги В.Маяковского </a:t>
            </a:r>
            <a:r>
              <a:rPr b="0" lang="en-US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5"/>
              </a:rPr>
              <a:t>http://www.stihi-xix-xx-vekov.ru/m-stih300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Таблица «Эпидемиологические данные ВОЗ» </a:t>
            </a:r>
            <a:r>
              <a:rPr b="0" lang="en-US" sz="2400" spc="-1" strike="noStrike" u="sng">
                <a:solidFill>
                  <a:srgbClr val="0091ff"/>
                </a:solidFill>
                <a:uFillTx/>
                <a:latin typeface="Microsoft Sans Serif"/>
                <a:hlinkClick r:id="rId6"/>
              </a:rPr>
              <a:t>file:///C:/Users/Ingvarr/Desktop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резентация%20иммуннизации%20на%20конкурс/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EpiData-No01-2017-ru.pdf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лакаты окна РОСТА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okna.dlyakvartiry.ru/Rabota-v.mayakovskogo-v-oknah-rosta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Аристократическая бледность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www.60.app.yuterra.life/post/216252/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вируса черной оспы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www.dv.kp.ru/daily/26111/3006883/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вируса черной оспы, дифтерии 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www.dv.kp.ru/daily/26111/3006883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22200" indent="-3222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ирус чумы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health.unian.net/worldnews/943262-v-kitayskom-gorode-yuymyin-vveli-karantin-iz-za-bubonnoy-chumyi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Вирус кори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vb-dzm.ru/?p=848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Фотография рубцов от ветрянки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transholding74.ru/kak-izbavitsya-ot-shramov-ot-vetryanki-v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Фотография Луи Пастера 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www.listal.com/viewimage/6185718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ртрет  Екатерины Второй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operm.ru/index/istorija/0-4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артины на 6,7,8 слайде и герб на 14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s://lamp.im/istoriya-mirovyih-epidemiy-chast-1-chuma-i-ospa/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8440" indent="-2984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Фотография мальчика с корью </a:t>
            </a:r>
            <a:r>
              <a:rPr b="0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http://lechimdetok.ru/infektsii/reaktsiya-na-privivku-kor-krasnuha-parotit-7748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исунок  смерти 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http://annmafia.blogspot.ru/2012/02/blog-post_14.html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список использованных печатных источников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активные ссылки на страницы материалов в Интернете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  <a:ea typeface="Arial"/>
              </a:rPr>
              <a:t>активные ссылки на использованные изображени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1ff"/>
                </a:solidFill>
                <a:latin typeface="Microsoft Sans Serif"/>
              </a:rPr>
              <a:t>Вирусы  кори и палочка дифтерии</a:t>
            </a:r>
            <a:endParaRPr b="0" lang="en-US" sz="4000" spc="-1" strike="noStrike">
              <a:solidFill>
                <a:srgbClr val="0091ff"/>
              </a:solidFill>
              <a:latin typeface="Microsoft Sans Serif"/>
            </a:endParaRPr>
          </a:p>
        </p:txBody>
      </p:sp>
      <p:pic>
        <p:nvPicPr>
          <p:cNvPr id="98" name="Picture 2" descr="C:\Users\Ingvarr\Desktop\презентация иммуннизации на конкурс\дифтерия.jpg"/>
          <p:cNvPicPr/>
          <p:nvPr/>
        </p:nvPicPr>
        <p:blipFill>
          <a:blip r:embed="rId1"/>
          <a:stretch/>
        </p:blipFill>
        <p:spPr>
          <a:xfrm>
            <a:off x="380880" y="2133720"/>
            <a:ext cx="4276800" cy="23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Ingvarr\Desktop\презентация иммуннизации на конкурс\img16.jpg"/>
          <p:cNvPicPr/>
          <p:nvPr/>
        </p:nvPicPr>
        <p:blipFill>
          <a:blip r:embed="rId2"/>
          <a:stretch/>
        </p:blipFill>
        <p:spPr>
          <a:xfrm>
            <a:off x="4800600" y="4032360"/>
            <a:ext cx="4140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2286000" y="533520"/>
            <a:ext cx="640080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КАК ЖАДНЫЙ БУРЖУЙ,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ХОЧЕТ МИР ПОГЛОТИТ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ДРЕВНЕЙШАЯ ЭТА СТРУКТУР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У КЛЕТКИ ОНА ЗАБИРАЕТ ЖИЗНЬ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СТРУКТУР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 baseline="-25000">
                <a:solidFill>
                  <a:srgbClr val="4d4d4d"/>
                </a:solidFill>
                <a:latin typeface="Microsoft Sans Serif"/>
              </a:rPr>
              <a:t>СОВСЕМ  НЕ ДУР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1" name="Picture 4" descr="C:\Users\Ingvarr\Pictures\carnival-21.jpg"/>
          <p:cNvPicPr/>
          <p:nvPr/>
        </p:nvPicPr>
        <p:blipFill>
          <a:blip r:embed="rId2"/>
          <a:stretch/>
        </p:blipFill>
        <p:spPr>
          <a:xfrm>
            <a:off x="2514600" y="2190600"/>
            <a:ext cx="5348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ума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амой крупной и самой известной пандемией чумы стала «чёрная смерть» 1346—1353 годов. Источниками эпидемии были Китай и Индия, до Европы болезнь дошла с монгольскими войсками и торговыми караванами. Не менее 60 миллионов человек погибли. Позже эпидемии повторялись в 1361 и 1369 годах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4" name="Рисунок 4" descr="https://cdn2.lamp.im/wp-content/uploads/2017/03/jepidemii-2.jpg"/>
          <p:cNvPicPr/>
          <p:nvPr/>
        </p:nvPicPr>
        <p:blipFill>
          <a:blip r:embed="rId1"/>
          <a:stretch/>
        </p:blipFill>
        <p:spPr>
          <a:xfrm>
            <a:off x="2209680" y="3962520"/>
            <a:ext cx="4138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Чума 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7524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Каждый год чумой заболевают около 2,5 тысяч человек. К счастью, смертность с 95% снизилась до 7%.. В России с 1979 по 2016 год не было зарегистрировано ни одного заболевания чумой, хотя под риском заражения на территории природных очагов находятся десятки тысяч человек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7" name="Рисунок 3" descr="https://cdn2.lamp.im/wp-content/uploads/2017/03/jepidemii-1.jpg"/>
          <p:cNvPicPr/>
          <p:nvPr/>
        </p:nvPicPr>
        <p:blipFill>
          <a:blip r:embed="rId1"/>
          <a:stretch/>
        </p:blipFill>
        <p:spPr>
          <a:xfrm>
            <a:off x="2286000" y="3994200"/>
            <a:ext cx="38545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сп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мертность от чёрной оспы составляет до 40%, но выздоровевшие люди теряют зрение полностью или частично, на коже остаются рубцы от язв. Вирусы передаются от человека человеку без участия животных. Каждый восьмой заболевший в Европе умирал, а среди детей шанс умереть был один к трём. Ежегодно от оспы, вплоть до XX века, умирало около полутора миллионов человек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Рисунок 3" descr="https://cdn1.lamp.im/wp-content/uploads/2017/03/jepidemii-3.png"/>
          <p:cNvPicPr/>
          <p:nvPr/>
        </p:nvPicPr>
        <p:blipFill>
          <a:blip r:embed="rId1"/>
          <a:stretch/>
        </p:blipFill>
        <p:spPr>
          <a:xfrm>
            <a:off x="2293920" y="4097160"/>
            <a:ext cx="37576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1ff"/>
                </a:solidFill>
                <a:latin typeface="Microsoft Sans Serif"/>
              </a:rPr>
              <a:t>Оспа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9172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собой приметой считалось отсутствие знаков осп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ногие стали злоупотреблять косметикой для того, чтобы скрыть рубц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3" name="Picture 2" descr="C:\Users\Ingvarr\Downloads\pic216732.jpg"/>
          <p:cNvPicPr/>
          <p:nvPr/>
        </p:nvPicPr>
        <p:blipFill>
          <a:blip r:embed="rId1"/>
          <a:srcRect l="15196" t="0" r="2051" b="0"/>
          <a:stretch/>
        </p:blipFill>
        <p:spPr>
          <a:xfrm>
            <a:off x="636480" y="3706920"/>
            <a:ext cx="4135680" cy="2314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www.www.m.yucolors.com/upload/blogs/e6/35/e6358244c7b53d2c7afbc2a4670f5b70_RSZ_690.jpg"/>
          <p:cNvPicPr/>
          <p:nvPr/>
        </p:nvPicPr>
        <p:blipFill>
          <a:blip r:embed="rId2"/>
          <a:stretch/>
        </p:blipFill>
        <p:spPr>
          <a:xfrm>
            <a:off x="5105520" y="2879640"/>
            <a:ext cx="3120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Ingvarr</cp:lastModifiedBy>
  <dcterms:modified xsi:type="dcterms:W3CDTF">2017-09-06T17:33:11Z</dcterms:modified>
  <cp:revision>165</cp:revision>
  <dc:subject/>
  <dc:title>Name of presentation</dc:title>
</cp:coreProperties>
</file>