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44-770D-49D1-ADD9-E05B9768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8AF-A69E-4DB1-B25F-50C8B6A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902-66FA-43E7-8DB0-6660C3A5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6C2-0F9D-4754-AEC2-6D94FE1F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EBB-F009-4F6F-9822-1F18ACC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762-9013-4224-A4AE-07095D3B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D59-4CBD-4C73-B669-8D34150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954-48DA-4530-8DB1-E018B3B3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E3D-6592-4DFC-956C-A948E4C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824-FE06-4FCC-92ED-40016FE0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377-4A5E-494B-A1CD-19256D5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B1D-01CB-4EB8-AA28-0C6CA8D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72F-F2E5-4561-90BE-21300E799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200"/>
            </a:b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«Детский сад общеразвивающего вида № 50»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расноармейского района</a:t>
            </a:r>
            <a:br>
              <a:rPr sz="1400"/>
            </a:b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 – коммуникационных технологий как средства повышения эффективности логопедической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боты  в ДО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257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орыстина Мария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0820520" y="1758960"/>
            <a:ext cx="2438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49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технологии принадлежат к числу эффективных средств обучения, все чаще применяемых в специальной педагогике. Своевременная коррекция речевых расстройств является необходимым условием психологической готовности детей к школьному обучению, их адаптации к новым социальным услови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91120" y="3049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компьютерных технологий сегодня является новой ступенью в образовательном процессе. Логопеды не только не остались в стороне, но и активно включились в процесс широкого использования ИКТ в своей практик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G:\100_6372.JPG"/>
          <p:cNvPicPr/>
          <p:nvPr/>
        </p:nvPicPr>
        <p:blipFill>
          <a:blip r:embed="rId1"/>
          <a:stretch/>
        </p:blipFill>
        <p:spPr>
          <a:xfrm>
            <a:off x="4419720" y="3429000"/>
            <a:ext cx="4257720" cy="30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эффективности логопедических занятий используется двуполушарный подход к обучению, когда словесные методы сочетаются со зрительными. </a:t>
            </a:r>
            <a:br>
              <a:rPr sz="1800"/>
            </a:b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езентационные материалы могут применяться для: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32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alibri"/>
              </a:rPr>
              <a:t>Развития речевого дыхания - вместе с героями на экране ребёнок учится правильно дышать, закрепляет умение  регулировать силу и направление воздушной струи и длительность речевого выдох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7" descr="260120121315.jpg"/>
          <p:cNvPicPr/>
          <p:nvPr/>
        </p:nvPicPr>
        <p:blipFill>
          <a:blip r:embed="rId1"/>
          <a:srcRect l="0" t="12005" r="4850" b="5998"/>
          <a:stretch/>
        </p:blipFill>
        <p:spPr>
          <a:xfrm>
            <a:off x="304920" y="2514600"/>
            <a:ext cx="4419360" cy="31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46c0a"/>
                </a:solidFill>
                <a:latin typeface="Calibri"/>
              </a:rPr>
              <a:t>Применение компьютерных презентаций в процессе обучения детей имеет следующие достоинств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219320"/>
            <a:ext cx="5105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олисенсорного восприятия материал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емонстрации различных объектов с помощью мультимедийного проектора и проекционного экрана в многократно увеличенном ви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аудио-, видео- и анимационных эффектов в единую презентацию способствует компенсации объема информации, получаемого детьми с картинного материал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емонстрации объектов более доступных для восприятия сохранной сенсорной систем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зрительных функций, глазомерных возможностей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презентации удобно использовать для вывода информации в виде распечаток крупным шрифтом на принтере в качестве раздаточного материала для занятий с дошкольн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ультимедийных презентаций позволяет сделать занятие привлекательным и по-настоящему современ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G:\100_6347.JPG"/>
          <p:cNvPicPr/>
          <p:nvPr/>
        </p:nvPicPr>
        <p:blipFill>
          <a:blip r:embed="rId1"/>
          <a:srcRect l="4260" t="8477" r="0" b="0"/>
          <a:stretch/>
        </p:blipFill>
        <p:spPr>
          <a:xfrm>
            <a:off x="5410080" y="2514600"/>
            <a:ext cx="34290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и неотъемлемой частью коррекционной работы является тесное </a:t>
            </a:r>
            <a:r>
              <a:rPr b="0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учителя – логопеда и род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еловек воспринимает информацию с помощью различных органов чувств. Эффективность слухового восприятия информации составляет 15%, зрительного-25%, а их одновременное включение повышает эффективность восприятия до 65%.Поэтому использование презентаций, например во время проведения родительских собраний, круглых столов, позволяет расширить осведомлённость родителей в вопросах коррекционного процесса, продемонстрировать необходимые приёмы рабо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DSC02527"/>
          <p:cNvPicPr/>
          <p:nvPr/>
        </p:nvPicPr>
        <p:blipFill>
          <a:blip r:embed="rId1"/>
          <a:stretch/>
        </p:blipFill>
        <p:spPr>
          <a:xfrm>
            <a:off x="1905120" y="3581280"/>
            <a:ext cx="4800600" cy="3141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280" y="3808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результативность коррекционно – образовательного процесса зависит и о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связи работы учителя – логопеда, воспитателя </a:t>
            </a:r>
            <a:r>
              <a:rPr b="0" lang="ru-RU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 др. специалистов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ультимедийных презентаций – это один из современных методов работы с педагогическими кадрами, способствующий решению многих зада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G:\100_6357.JPG"/>
          <p:cNvPicPr/>
          <p:nvPr/>
        </p:nvPicPr>
        <p:blipFill>
          <a:blip r:embed="rId1"/>
          <a:srcRect l="3950" t="11727" r="3950" b="12087"/>
          <a:stretch/>
        </p:blipFill>
        <p:spPr>
          <a:xfrm>
            <a:off x="1905120" y="2971800"/>
            <a:ext cx="53337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2200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41-33 копия"/>
          <p:cNvPicPr/>
          <p:nvPr/>
        </p:nvPicPr>
        <p:blipFill>
          <a:blip r:embed="rId2"/>
          <a:stretch/>
        </p:blipFill>
        <p:spPr>
          <a:xfrm>
            <a:off x="3124080" y="2286000"/>
            <a:ext cx="3200400" cy="409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2:42:26Z</dcterms:created>
  <dc:creator>Анюта</dc:creator>
  <dc:description/>
  <dc:language>en-US</dc:language>
  <cp:lastModifiedBy>DS50</cp:lastModifiedBy>
  <dcterms:modified xsi:type="dcterms:W3CDTF">2017-09-06T08:29:21Z</dcterms:modified>
  <cp:revision>92</cp:revision>
  <dc:subject/>
  <dc:title>МУНИЦИПАЛЬНОЕ БЮДЖЕТНОЕ ДОШКОЛЬНОЕ ОБРАЗОВАТЕЛЬНОЕ УЧРЕЖДЕНИЕ «Детский сад компенсирующего вида №105»     Использование информационно – коммуникационных технологий в работе учителя – логопеда</dc:title>
</cp:coreProperties>
</file>