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BB3-1D37-478C-9C5C-A21D9F4A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101-E6D4-42CC-9DC6-2075223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EC7-8E32-4E15-BF68-97C8FAA2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79D-DE53-460E-9424-E9BF96AC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085-B463-4162-9A4C-2B8A68A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3FD-2B7E-4C2B-BB41-D84F5E5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7DE-E6A8-4EC3-BED1-F080829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D68-54EE-4F74-9B75-619956D0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1C5-2ADA-4A3D-A7A8-0B4EB0BB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95A-8AF6-4A55-9892-C489BD73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99D-DC7B-4AE5-BDEC-7A66C43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23B-AA5B-4332-B812-3559731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005C-9227-42E0-A717-83F4451A5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исследовательской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289548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МОУ «Средняя школа № 46» г.Петрозавод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йцева И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327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2286000"/>
            <a:ext cx="4267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исследовательской деятельности (И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кольников – не простое, но увлекательное занят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торам необходимо проявлять и управленческие способности, и творческий подход, и энтузиа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819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ство ИД учащихся – это вид педагогического взаимодействия, в котором максимально раскрываются возм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автор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ние с юными исследователями бесконечно раду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еся удивляют глубиной своих и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есной формулировкой гипоте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имостью полученных результ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 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чащихся – построение собственного нового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ный руководитель консультирует, советует, направляет, наталкивает на возможные 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76880" y="3244680"/>
            <a:ext cx="106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й руководитель консультирует, советует, направляет, наталкивает на возможные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3920" y="2514600"/>
            <a:ext cx="39625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ое исследование сохраняет логику исследования науч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отличается от него тем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открывает объективно новых для человечества знан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 учащихся позволяет решать следующ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развитие самостоятельности при работе со специальной и научной литературой при выполнении наблюдений и опы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развитие абстрактного мышления, необходимого учащему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развитие способности формировать свое мнение и умение его отстаи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развитие умения общаться с аудиторией, выступая на конференциях, в круж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сформировать чувство ответственности за порученное де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воспитывать уверенность в себе, сознание значимости выполне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привить желание в дальнейшем заниматься научно-исследовательской раб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ое в ИД учащихся не результат, а пройденный детьми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направлена на формирование эффективного проц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обретения знаний и навыков учащими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657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работа заканчивается отчё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представляется в виде реферата и презентации, с которой учащийся может выступить в классе, на школьной НПК и других конферен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ыкновенное чуд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56386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дская конференция 29.03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типов Дмитрий и Ананьев Даниил. 5б класс «М.В.Ломоносов – великий сын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ыкновенное чуд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.03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пов Дмитр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б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лшебные свойства клетчатой бумаг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лукова Ма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б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есные приёмы вычисл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чего всё начина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, геометрия  -  царица нау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есть квадрат, и, конечно же,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личии здесь же име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ё то, что я списать понадея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от треугольник похож на цве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из-под снега подняться не с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пройдут времена, и исчезнут сне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ыберется треугольник на свет без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также похож на летний зак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колючие искры его вершины гор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дрёней геометрии науки уж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сё, что я вам рассказал, - это бред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олдатов Максим. 7б класс. 1997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ыкновенное чуд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 Карлуковой Марины о своей системе счё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15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ыкновенное чуд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 Димы Антипова о применении формулы П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800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09720" y="1294920"/>
            <a:ext cx="3505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яя исследовательскую работу, ученики в одинаковой степени   приобр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следовательские умения и углубляют свои знания в област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на фото выпускница нашей школы 2012 года Фомкина Ольга, с которой мы писали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начение чисел в жизни людей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ыне студентка П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581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выки, полученные в процессе выполнения ИР, пригодятся при обучении в вузе. Как руководитель ИР, я стараюсь научить школьников работать над собой, быть самостоятельными в приобретении знаний, не бояться трудностей, быть уверенными в своих знаниях, мотивирую их на активную познавательную и поисковую деятельность. Исследования в области математики формируют умения и навыки, позволяющие человеку развиваться и самосовершенствоваться в течение все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920" y="14475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о ИД учащихся дает мне моральное удовлетворение от работы с умными, целеустремленными детьми, радость за их успехи, их личностный р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месте со своими учениками расту и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На фото со мной 5б класс с грамотой за участие в математическом фестивале «Театральная весна» апрель 2011 год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124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ю удачи и в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733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всё начина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14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, треугольник, как ты прос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мне напоминаешь горок ск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, может, Буратино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будь тебя и не было бы кры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ынок у девчат, пилоток у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ты ведь есть, и это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тобой нам просто и легко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Филиппова Оксана. 7з класс. 1979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всё начина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242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, треугольник! Трёхсторонни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еременчив ты п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, если угол острый т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ты колючий, даже зл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если угол твой туп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ты совсем-совсем смеш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, если угол твой пря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ты великий и прост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айтимиров Лев. 7 ж класс. 1979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из этого получи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астье для учител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его ученики 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ополучны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пешными гражд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а фото Оксана Филиппова – выпускница 2001 года, одна из тех моих учениц и учеников, кто принял участие в моём первом проекте «Ода треугольнику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 творческих работ к серьёзным исследования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33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человек по природе  своей исследов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может эту способность подавить, а может развить, освоив наработанные способы организаци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я творческие задания, наши ученики учатся изобретать и понимать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2895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10080" y="2437920"/>
            <a:ext cx="3200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следование понимается как один из универсальных способов познания действительности, способствующих развитию личности в изменяющемся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позволяет развить у учащихся умение выделять и решать наиболее важные проблемы с учетом социальных, экономических условий и отражать новейшие достижения в определенной науч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1911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вовлечение учащихся в исследовательскую деятельно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из основных задач образования сего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7-09-06T14:39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