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6CCC10-9B3E-47E4-934E-F262524BE2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803FA8-C657-441E-B968-9440325BFD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5E2575-ADA3-4C96-998B-2B6E3439E1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6E4CD5-A3A3-4E78-AC36-7489C37262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1EB016-FC8F-4B9D-8D5A-E05ACE9C05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DE3C4A-C30D-4314-8CC3-E50404B47C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9CF2F1-271B-4CD9-A5F6-BDF1F56889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3C72AC-FCF9-44A7-938B-EC09C29607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A6BBFF-DCB9-45A3-B1C7-428FC449B1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436E59-9025-4561-8450-FCC0A5902C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A98001-15C7-4E7E-BAA2-DDFF577C76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52A111-6CE5-4E93-9E54-7EC29A3DAC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AC8A3-AA05-48FA-8EC7-21E995B08D0B}"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TextBox 1"/>
          <p:cNvSpPr/>
          <p:nvPr/>
        </p:nvSpPr>
        <p:spPr>
          <a:xfrm>
            <a:off x="3367080" y="1268280"/>
            <a:ext cx="429408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000000"/>
                </a:solidFill>
                <a:latin typeface="Arial"/>
              </a:rPr>
              <a:t>Чепуштанов </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000000"/>
                </a:solidFill>
                <a:latin typeface="Arial"/>
              </a:rPr>
              <a:t>Егор </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000000"/>
                </a:solidFill>
                <a:latin typeface="Arial"/>
              </a:rPr>
              <a:t>Игнатьевич</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 name="Рисунок 2" descr="C:\Documents and Settings\Admin\Мои документы\Мои рисунки\Изображение\Изображение 008.jpg"/>
          <p:cNvPicPr/>
          <p:nvPr/>
        </p:nvPicPr>
        <p:blipFill>
          <a:blip r:embed="rId1"/>
          <a:srcRect l="24854" t="56180" r="38912" b="19114"/>
          <a:stretch/>
        </p:blipFill>
        <p:spPr>
          <a:xfrm>
            <a:off x="3203640" y="692280"/>
            <a:ext cx="5256000" cy="5257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5"/>
          <p:cNvSpPr/>
          <p:nvPr/>
        </p:nvSpPr>
        <p:spPr>
          <a:xfrm>
            <a:off x="1000080" y="907920"/>
            <a:ext cx="7272360" cy="5582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Чепуштанов Егор Игнатьевич родился 5 мая1918 года в п.Красноярский Поспелихинского района Алтайского края. В 1939 году призван в г.Ужуре на срочную службу в железнодорожные войска возле Владивостока, станция Манзовка. Их часть сопровождала и охраняла эшелоны. Перед самой войной их часть была отправлена в Польшу, где уже шли военные действия.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о время одной поездки началась бомбёжка, Егор Игнатьевич был контужен , когда он поднялся с земли, то увидел, что стоит в окружении фашистов. Единственное, что он запомнил хорошо, это то, что они сняли с него сапоги. Так он попал в плен. Их переправили через Ла Манш в концлагерь на острова между Англией и Францией.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 середине войны пленных повезли во Францию для выполнения ремонтных работ. Там Егор Игнатьевич и группа его товарищей смогли убежать. Некоторое время они прятались в лесах, ночевали на дачах. Он вспоминал, что очень сильно голодали.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5"/>
          <p:cNvSpPr/>
          <p:nvPr/>
        </p:nvSpPr>
        <p:spPr>
          <a:xfrm>
            <a:off x="1000080" y="981000"/>
            <a:ext cx="7272360" cy="466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Одним из его воспоминаний был случай, о том, что когда он прятался от фашистов, то залез в один из домов. Переждал, когда закончится облаву, хотел выйти, но путь ему перекрыла большая собака, которая не хотела его выпускать. Тогда Егор Игнатьевич, не растерявшись, поставил перед ней таз со сметаной, который стоял на столе.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Местные жители свели их с французскими партизанами. В их отряде были чехи, поляки, русские, африканцы, русские. Затем этот партизанский отряд назвали Французским легионом. Во время одного из боевых действий был ранен в спину.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осле окончания войны, один русский, эмигрировавший из страны в 20-е годы, предложил остаться во Франции, а затем перебраться в Америку. Но Егор Игнатьевич отказался. Затем их отправили в Польшу, в фильтрационный лагерь, где проверялись обстоятельства, при которых он попал в плен.</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Rectangle 5"/>
          <p:cNvSpPr/>
          <p:nvPr/>
        </p:nvSpPr>
        <p:spPr>
          <a:xfrm>
            <a:off x="1000080" y="1785960"/>
            <a:ext cx="7272360" cy="222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оверку осуществлял особый отдел около двух месяцев. Затем ему нужно было явиться в Москву. Но солдат из охраны посоветовал ему туда не заходить, иначе может больше не выйти.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Так Егор Игнатьевич вернулся в Ужурский район , гдк работал и жил до конца своих дней.</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Награждён Орденом Отечественной войн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5"/>
          <p:cNvSpPr/>
          <p:nvPr/>
        </p:nvSpPr>
        <p:spPr>
          <a:xfrm>
            <a:off x="1000080" y="1785960"/>
            <a:ext cx="727236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Вы можете использовать данное оформление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для создания своих презентаций,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но в своей презентации вы должны указать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источник шаблона:</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984807"/>
                </a:solidFill>
                <a:latin typeface="Calibri"/>
              </a:rPr>
              <a:t>Шумарина Вера Алексеевна,</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84807"/>
                </a:solidFill>
                <a:latin typeface="Calibri"/>
              </a:rPr>
              <a:t>учитель ГКС(К)ОУ</a:t>
            </a:r>
            <a:r>
              <a:rPr b="0" lang="en-US" sz="2400" spc="-1" strike="noStrike">
                <a:solidFill>
                  <a:srgbClr val="984807"/>
                </a:solidFill>
                <a:latin typeface="Calibri"/>
              </a:rPr>
              <a:t> ’’</a:t>
            </a:r>
            <a:r>
              <a:rPr b="0" lang="ru-RU" sz="2400" spc="-1" strike="noStrike">
                <a:solidFill>
                  <a:srgbClr val="984807"/>
                </a:solidFill>
                <a:latin typeface="Calibri"/>
              </a:rPr>
              <a:t>С(К)ОШ №11 </a:t>
            </a:r>
            <a:r>
              <a:rPr b="0" lang="en-US" sz="2400" spc="-1" strike="noStrike">
                <a:solidFill>
                  <a:srgbClr val="984807"/>
                </a:solidFill>
                <a:latin typeface="Calibri"/>
              </a:rPr>
              <a:t>VIII</a:t>
            </a:r>
            <a:r>
              <a:rPr b="0" lang="ru-RU" sz="2400" spc="-1" strike="noStrike">
                <a:solidFill>
                  <a:srgbClr val="984807"/>
                </a:solidFill>
                <a:latin typeface="Calibri"/>
              </a:rPr>
              <a:t>вида. </a:t>
            </a:r>
            <a:br>
              <a:rPr sz="2400"/>
            </a:br>
            <a:r>
              <a:rPr b="0" lang="ru-RU" sz="2400" spc="-1" strike="noStrike">
                <a:solidFill>
                  <a:srgbClr val="984807"/>
                </a:solidFill>
                <a:latin typeface="Calibri"/>
              </a:rPr>
              <a:t>г. Балашова</a:t>
            </a:r>
            <a:r>
              <a:rPr b="0" lang="en-US" sz="2400" spc="-1" strike="noStrike">
                <a:solidFill>
                  <a:srgbClr val="984807"/>
                </a:solidFill>
                <a:latin typeface="Calibri"/>
              </a:rPr>
              <a:t>’’</a:t>
            </a:r>
            <a:br>
              <a:rPr sz="2400"/>
            </a:br>
            <a:r>
              <a:rPr b="0" lang="ru-RU" sz="2400" spc="-1" strike="noStrike">
                <a:solidFill>
                  <a:srgbClr val="984807"/>
                </a:solidFill>
                <a:latin typeface="Calibri"/>
              </a:rPr>
              <a:t>Сайт:</a:t>
            </a:r>
            <a:r>
              <a:rPr b="0" i="1" lang="en-US" sz="2400" spc="-1" strike="noStrike">
                <a:solidFill>
                  <a:srgbClr val="984807"/>
                </a:solidFill>
                <a:latin typeface="Cambria"/>
              </a:rPr>
              <a:t>http</a:t>
            </a:r>
            <a:r>
              <a:rPr b="0" i="1" lang="ru-RU" sz="2400" spc="-1" strike="noStrike">
                <a:solidFill>
                  <a:srgbClr val="984807"/>
                </a:solidFill>
                <a:latin typeface="Cambria"/>
              </a:rPr>
              <a:t>://</a:t>
            </a:r>
            <a:r>
              <a:rPr b="0" i="1" lang="en-US" sz="2400" spc="-1" strike="noStrike">
                <a:solidFill>
                  <a:srgbClr val="984807"/>
                </a:solidFill>
                <a:latin typeface="Cambria"/>
              </a:rPr>
              <a:t>pedsovet.su</a:t>
            </a:r>
            <a:r>
              <a:rPr b="0" i="1" lang="ru-RU" sz="2400" spc="-1" strike="noStrike">
                <a:solidFill>
                  <a:srgbClr val="984807"/>
                </a:solidFill>
                <a:latin typeface="Cambria"/>
              </a:rPr>
              <a: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cp:lastModifiedBy>
  <dcterms:modified xsi:type="dcterms:W3CDTF">2016-06-15T03:37:39Z</dcterms:modified>
  <cp:revision>8</cp:revision>
  <dc:subject/>
  <dc:title>Слайд 1</dc:title>
</cp:coreProperties>
</file>