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36.jpeg" ContentType="image/jpeg"/>
  <Override PartName="/ppt/media/image43.jpeg" ContentType="image/jpeg"/>
  <Override PartName="/ppt/media/image48.jpeg" ContentType="image/jpeg"/>
  <Override PartName="/ppt/media/image44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7.png" ContentType="image/png"/>
  <Override PartName="/ppt/media/image34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0B45-A718-458E-B29D-0E5E4007B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A09B-9044-4507-B3A8-C6BD212A5B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D4BB-C256-428D-BA07-1DE2B410A3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F05-15AD-44E8-B3BC-771DC4B5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3DD-91F8-4537-827B-4D30B6AC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264-5B9D-4CDA-AC29-606DB1DC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F1B-3CEE-4ABD-834D-ABD14184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70C1-DC11-424E-9A00-2601AC72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155F-DDF5-48CC-911E-581CC419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449A-8224-406B-99BC-7977962D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835-E92E-42E2-9524-A50A406E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767B-08F0-4E58-B19C-EF19AA5E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8D30-8984-4A23-9532-EA571FE8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E89B-C383-44D8-9D09-EC3CE9DC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0A0-27F7-4664-B5FB-DDAFF32A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7B3D-C49C-41DF-B117-A498F599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4A59-9777-4DBE-BB1E-C5858906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C74C-F373-4000-A6EA-6F695A91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24A6-59B4-47BE-AFC4-7038B835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226-FCF9-4990-A69D-1E9C8966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903-1CC4-4183-ABE5-69DB45BC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A47-FEEB-4D0D-AA0A-B96A7E24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7C7-D672-4F45-9E6A-CA588B05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650-F777-494A-BA7B-7739E957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567-C342-408B-94C3-94B6940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B6F-F19A-47A6-B0AD-4F193A8E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D17-EECE-4017-8D45-E1B38227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85DD-0116-4489-AE07-B381E00B6513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DAB5-44C2-4118-96CD-26C38887998D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14360" y="249120"/>
            <a:ext cx="8242200" cy="2622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29120" y="3071880"/>
            <a:ext cx="3500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3ea9"/>
                </a:solidFill>
                <a:latin typeface="Calibri"/>
              </a:rPr>
              <a:t>Проект подготови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3ea9"/>
                </a:solidFill>
                <a:latin typeface="Calibri"/>
              </a:rPr>
              <a:t>ученик 4 Б класс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3ea9"/>
                </a:solidFill>
                <a:latin typeface="Calibri"/>
              </a:rPr>
              <a:t>МБОУ «СОШ №22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3ea9"/>
                </a:solidFill>
                <a:latin typeface="Calibri"/>
              </a:rPr>
              <a:t>Белоглазов Дени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3ea9"/>
                </a:solidFill>
                <a:latin typeface="Calibri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3ea9"/>
                </a:solidFill>
                <a:latin typeface="Calibri"/>
              </a:rPr>
              <a:t>учитель начальны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3ea9"/>
                </a:solidFill>
                <a:latin typeface="Calibri"/>
              </a:rPr>
              <a:t>клас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3ea9"/>
                </a:solidFill>
                <a:latin typeface="Calibri"/>
              </a:rPr>
              <a:t>Яковенко Т.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3714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3097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DSC0112111"/>
          <p:cNvPicPr/>
          <p:nvPr/>
        </p:nvPicPr>
        <p:blipFill>
          <a:blip r:embed="rId2"/>
          <a:stretch/>
        </p:blipFill>
        <p:spPr>
          <a:xfrm>
            <a:off x="428760" y="3429000"/>
            <a:ext cx="2571480" cy="28576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DSC0112114"/>
          <p:cNvPicPr/>
          <p:nvPr/>
        </p:nvPicPr>
        <p:blipFill>
          <a:blip r:embed="rId3"/>
          <a:stretch/>
        </p:blipFill>
        <p:spPr>
          <a:xfrm>
            <a:off x="3279600" y="3483000"/>
            <a:ext cx="2506680" cy="280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DSC01132"/>
          <p:cNvPicPr/>
          <p:nvPr/>
        </p:nvPicPr>
        <p:blipFill>
          <a:blip r:embed="rId4"/>
          <a:stretch/>
        </p:blipFill>
        <p:spPr>
          <a:xfrm>
            <a:off x="6143760" y="3500280"/>
            <a:ext cx="250020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SC01133"/>
          <p:cNvPicPr/>
          <p:nvPr/>
        </p:nvPicPr>
        <p:blipFill>
          <a:blip r:embed="rId1"/>
          <a:stretch/>
        </p:blipFill>
        <p:spPr>
          <a:xfrm>
            <a:off x="428760" y="285840"/>
            <a:ext cx="2357280" cy="1857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DSC01137"/>
          <p:cNvPicPr/>
          <p:nvPr/>
        </p:nvPicPr>
        <p:blipFill>
          <a:blip r:embed="rId2"/>
          <a:stretch/>
        </p:blipFill>
        <p:spPr>
          <a:xfrm>
            <a:off x="3357720" y="35712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DSC011318"/>
          <p:cNvPicPr/>
          <p:nvPr/>
        </p:nvPicPr>
        <p:blipFill>
          <a:blip r:embed="rId3"/>
          <a:stretch/>
        </p:blipFill>
        <p:spPr>
          <a:xfrm>
            <a:off x="6286680" y="28584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DSC01140"/>
          <p:cNvPicPr/>
          <p:nvPr/>
        </p:nvPicPr>
        <p:blipFill>
          <a:blip r:embed="rId4"/>
          <a:stretch/>
        </p:blipFill>
        <p:spPr>
          <a:xfrm>
            <a:off x="500040" y="2500200"/>
            <a:ext cx="2286000" cy="1967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DSC01144"/>
          <p:cNvPicPr/>
          <p:nvPr/>
        </p:nvPicPr>
        <p:blipFill>
          <a:blip r:embed="rId5"/>
          <a:stretch/>
        </p:blipFill>
        <p:spPr>
          <a:xfrm>
            <a:off x="3357720" y="2571840"/>
            <a:ext cx="2404800" cy="185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SC01149"/>
          <p:cNvPicPr/>
          <p:nvPr/>
        </p:nvPicPr>
        <p:blipFill>
          <a:blip r:embed="rId6"/>
          <a:stretch/>
        </p:blipFill>
        <p:spPr>
          <a:xfrm>
            <a:off x="6286680" y="257184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9" descr="DSC01156"/>
          <p:cNvPicPr/>
          <p:nvPr/>
        </p:nvPicPr>
        <p:blipFill>
          <a:blip r:embed="rId7"/>
          <a:stretch/>
        </p:blipFill>
        <p:spPr>
          <a:xfrm>
            <a:off x="428760" y="4572000"/>
            <a:ext cx="3643200" cy="2017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4286160" y="4772160"/>
            <a:ext cx="43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Вывод: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и сжигании абсорбированных опилок с нефтью, сгорают органические вещества, а минеральные остаются, оседают на дно и включаются в круговорот вещ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714240" y="42876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Опыт 3.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Проверка эффективности способа очистки нефтяного  загрязнения при использовании дисковых пеноснима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" descr="20111013_3_2"/>
          <p:cNvPicPr/>
          <p:nvPr/>
        </p:nvPicPr>
        <p:blipFill>
          <a:blip r:embed="rId1"/>
          <a:stretch/>
        </p:blipFill>
        <p:spPr>
          <a:xfrm>
            <a:off x="357120" y="221472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DSC01166"/>
          <p:cNvPicPr/>
          <p:nvPr/>
        </p:nvPicPr>
        <p:blipFill>
          <a:blip r:embed="rId2"/>
          <a:stretch/>
        </p:blipFill>
        <p:spPr>
          <a:xfrm>
            <a:off x="2500200" y="221472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DSC01171"/>
          <p:cNvPicPr/>
          <p:nvPr/>
        </p:nvPicPr>
        <p:blipFill>
          <a:blip r:embed="rId3"/>
          <a:stretch/>
        </p:blipFill>
        <p:spPr>
          <a:xfrm>
            <a:off x="4643280" y="221472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DSC01177"/>
          <p:cNvPicPr/>
          <p:nvPr/>
        </p:nvPicPr>
        <p:blipFill>
          <a:blip r:embed="rId4"/>
          <a:stretch/>
        </p:blipFill>
        <p:spPr>
          <a:xfrm>
            <a:off x="6643800" y="2214720"/>
            <a:ext cx="1987560" cy="170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DSC01189"/>
          <p:cNvPicPr/>
          <p:nvPr/>
        </p:nvPicPr>
        <p:blipFill>
          <a:blip r:embed="rId5"/>
          <a:stretch/>
        </p:blipFill>
        <p:spPr>
          <a:xfrm>
            <a:off x="357120" y="464328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DSC01193"/>
          <p:cNvPicPr/>
          <p:nvPr/>
        </p:nvPicPr>
        <p:blipFill>
          <a:blip r:embed="rId6"/>
          <a:stretch/>
        </p:blipFill>
        <p:spPr>
          <a:xfrm>
            <a:off x="2500200" y="4643280"/>
            <a:ext cx="2071800" cy="17859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4786200" y="465120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Вывод: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а метода очистки      эффективны. После удаления нефти с поверхности воды, её остаётся совсем нем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1071720" y="127440"/>
            <a:ext cx="68580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533ea9"/>
                </a:solidFill>
                <a:latin typeface="Calibri"/>
                <a:ea typeface="Times New Roman"/>
              </a:rPr>
              <a:t>Современные способы добычи нефти не дают стопроцентной гарантии безопасности. Происходят нефтяные аварии, ведущие к экологическим катастрофам. Но на данном этапе развития общества человечество не может обойтись без нефти. Применяются способы ликвидации нефтяных разливов. Способы, которые были рассмотрены при проведении опытов, являются наиболее приемлемыми и ведётся  дальнейшая  работа над более эффективными технологиями (лазерный мето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1" descr="860"/>
          <p:cNvPicPr/>
          <p:nvPr/>
        </p:nvPicPr>
        <p:blipFill>
          <a:blip r:embed="rId1"/>
          <a:stretch/>
        </p:blipFill>
        <p:spPr>
          <a:xfrm>
            <a:off x="3924360" y="5445000"/>
            <a:ext cx="12142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3" descr=""/>
          <p:cNvPicPr/>
          <p:nvPr/>
        </p:nvPicPr>
        <p:blipFill>
          <a:blip r:embed="rId1"/>
          <a:stretch/>
        </p:blipFill>
        <p:spPr>
          <a:xfrm>
            <a:off x="390600" y="249120"/>
            <a:ext cx="8582040" cy="1616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4832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Нефть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41800" indent="-4068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C:\Documents and Settings\admin\Рабочий стол\Работа\Черновой Проект Белоглазова Д\Кирилл и 3-клссники\DSC02141.JPG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409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0_dcf0_9a3feae0_XL"/>
          <p:cNvPicPr/>
          <p:nvPr/>
        </p:nvPicPr>
        <p:blipFill>
          <a:blip r:embed="rId3"/>
          <a:stretch/>
        </p:blipFill>
        <p:spPr>
          <a:xfrm>
            <a:off x="4857840" y="3571920"/>
            <a:ext cx="1143000" cy="110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vazelin"/>
          <p:cNvPicPr/>
          <p:nvPr/>
        </p:nvPicPr>
        <p:blipFill>
          <a:blip r:embed="rId4"/>
          <a:stretch/>
        </p:blipFill>
        <p:spPr>
          <a:xfrm>
            <a:off x="6215040" y="3571920"/>
            <a:ext cx="1285920" cy="113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Копия reck2"/>
          <p:cNvPicPr/>
          <p:nvPr/>
        </p:nvPicPr>
        <p:blipFill>
          <a:blip r:embed="rId5"/>
          <a:stretch/>
        </p:blipFill>
        <p:spPr>
          <a:xfrm>
            <a:off x="7643880" y="3571920"/>
            <a:ext cx="1166760" cy="110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Asus_90NGHA6391212GMC106T_2493_big"/>
          <p:cNvPicPr/>
          <p:nvPr/>
        </p:nvPicPr>
        <p:blipFill>
          <a:blip r:embed="rId6"/>
          <a:stretch/>
        </p:blipFill>
        <p:spPr>
          <a:xfrm>
            <a:off x="7643880" y="507204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4"/>
          <p:cNvPicPr/>
          <p:nvPr/>
        </p:nvPicPr>
        <p:blipFill>
          <a:blip r:embed="rId7"/>
          <a:stretch/>
        </p:blipFill>
        <p:spPr>
          <a:xfrm>
            <a:off x="6286680" y="5072040"/>
            <a:ext cx="1209600" cy="10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hoes2"/>
          <p:cNvPicPr/>
          <p:nvPr/>
        </p:nvPicPr>
        <p:blipFill>
          <a:blip r:embed="rId8"/>
          <a:stretch/>
        </p:blipFill>
        <p:spPr>
          <a:xfrm>
            <a:off x="4857840" y="5072040"/>
            <a:ext cx="1214280" cy="10746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4"/>
          <p:cNvSpPr/>
          <p:nvPr/>
        </p:nvSpPr>
        <p:spPr>
          <a:xfrm>
            <a:off x="5072040" y="2786040"/>
            <a:ext cx="37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e4e99"/>
                </a:solidFill>
                <a:uFillTx/>
                <a:latin typeface="Calibri"/>
                <a:ea typeface="Calibri"/>
              </a:rPr>
              <a:t>Положительное</a:t>
            </a:r>
            <a:r>
              <a:rPr b="1" i="1" lang="ru-RU" sz="2400" spc="-1" strike="noStrike" u="sng">
                <a:solidFill>
                  <a:srgbClr val="7e4e99"/>
                </a:solidFill>
                <a:uFillTx/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90600" y="36360"/>
            <a:ext cx="8594640" cy="21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71680" y="207144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Влияние нефти  на растения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0" y="2071800"/>
            <a:ext cx="4038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Влияние нефти на живые организмы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10" descr="ST831038"/>
          <p:cNvPicPr/>
          <p:nvPr/>
        </p:nvPicPr>
        <p:blipFill>
          <a:blip r:embed="rId2"/>
          <a:stretch/>
        </p:blipFill>
        <p:spPr>
          <a:xfrm>
            <a:off x="642960" y="3143160"/>
            <a:ext cx="3357720" cy="1935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ST831039"/>
          <p:cNvPicPr/>
          <p:nvPr/>
        </p:nvPicPr>
        <p:blipFill>
          <a:blip r:embed="rId3"/>
          <a:stretch/>
        </p:blipFill>
        <p:spPr>
          <a:xfrm>
            <a:off x="642960" y="4857840"/>
            <a:ext cx="3357720" cy="172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T830951"/>
          <p:cNvPicPr/>
          <p:nvPr/>
        </p:nvPicPr>
        <p:blipFill>
          <a:blip r:embed="rId4"/>
          <a:stretch/>
        </p:blipFill>
        <p:spPr>
          <a:xfrm>
            <a:off x="5572080" y="3000240"/>
            <a:ext cx="2571840" cy="1643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ST831022"/>
          <p:cNvPicPr/>
          <p:nvPr/>
        </p:nvPicPr>
        <p:blipFill>
          <a:blip r:embed="rId5"/>
          <a:stretch/>
        </p:blipFill>
        <p:spPr>
          <a:xfrm>
            <a:off x="4178160" y="4714920"/>
            <a:ext cx="2322720" cy="185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T831023"/>
          <p:cNvPicPr/>
          <p:nvPr/>
        </p:nvPicPr>
        <p:blipFill>
          <a:blip r:embed="rId6"/>
          <a:stretch/>
        </p:blipFill>
        <p:spPr>
          <a:xfrm>
            <a:off x="6643800" y="4714920"/>
            <a:ext cx="2214360" cy="1824120"/>
          </a:xfrm>
          <a:prstGeom prst="rect">
            <a:avLst/>
          </a:prstGeom>
          <a:ln w="0">
            <a:noFill/>
          </a:ln>
        </p:spPr>
      </p:pic>
      <p:sp>
        <p:nvSpPr>
          <p:cNvPr id="110" name="Line 17"/>
          <p:cNvSpPr/>
          <p:nvPr/>
        </p:nvSpPr>
        <p:spPr>
          <a:xfrm flipH="1">
            <a:off x="5500440" y="4143240"/>
            <a:ext cx="857160" cy="10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7572240" y="4000680"/>
            <a:ext cx="71640" cy="10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85840" y="0"/>
            <a:ext cx="8456400" cy="1305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500040" y="928800"/>
            <a:ext cx="4038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52520" indent="-182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Атмосфе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352520" indent="-182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Промышленные         Автомобильны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предприятия                   транспорт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928800"/>
            <a:ext cx="403848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Гидросфера и земная поверхнос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V="1">
            <a:off x="928800" y="927720"/>
            <a:ext cx="178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1571400" y="1428840"/>
            <a:ext cx="57132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86080" y="1428840"/>
            <a:ext cx="28584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gal1003_5"/>
          <p:cNvPicPr/>
          <p:nvPr/>
        </p:nvPicPr>
        <p:blipFill>
          <a:blip r:embed="rId2"/>
          <a:stretch/>
        </p:blipFill>
        <p:spPr>
          <a:xfrm>
            <a:off x="571680" y="2857680"/>
            <a:ext cx="1879560" cy="1500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101034"/>
          <p:cNvPicPr/>
          <p:nvPr/>
        </p:nvPicPr>
        <p:blipFill>
          <a:blip r:embed="rId3"/>
          <a:stretch/>
        </p:blipFill>
        <p:spPr>
          <a:xfrm>
            <a:off x="2571840" y="2857680"/>
            <a:ext cx="1904760" cy="150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18460872_1203538988_14ik9"/>
          <p:cNvPicPr/>
          <p:nvPr/>
        </p:nvPicPr>
        <p:blipFill>
          <a:blip r:embed="rId4"/>
          <a:stretch/>
        </p:blipFill>
        <p:spPr>
          <a:xfrm>
            <a:off x="4929120" y="2857680"/>
            <a:ext cx="185760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23dc0d99af765bdda725f0ca3f8071f7"/>
          <p:cNvPicPr/>
          <p:nvPr/>
        </p:nvPicPr>
        <p:blipFill>
          <a:blip r:embed="rId5"/>
          <a:stretch/>
        </p:blipFill>
        <p:spPr>
          <a:xfrm>
            <a:off x="6929280" y="2857680"/>
            <a:ext cx="1785960" cy="1500120"/>
          </a:xfrm>
          <a:prstGeom prst="rect">
            <a:avLst/>
          </a:prstGeom>
          <a:ln w="0">
            <a:noFill/>
          </a:ln>
        </p:spPr>
      </p:pic>
      <p:sp>
        <p:nvSpPr>
          <p:cNvPr id="122" name="Line 17"/>
          <p:cNvSpPr/>
          <p:nvPr/>
        </p:nvSpPr>
        <p:spPr>
          <a:xfrm>
            <a:off x="5000760" y="1428840"/>
            <a:ext cx="285480" cy="10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 flipH="1">
            <a:off x="7571880" y="1357200"/>
            <a:ext cx="142920" cy="135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714240" y="44290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Влияние вредных веществ на здоровье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0501"/>
          <p:cNvPicPr/>
          <p:nvPr/>
        </p:nvPicPr>
        <p:blipFill>
          <a:blip r:embed="rId6"/>
          <a:stretch/>
        </p:blipFill>
        <p:spPr>
          <a:xfrm>
            <a:off x="357120" y="5143680"/>
            <a:ext cx="2500560" cy="13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4"/>
          <p:cNvPicPr/>
          <p:nvPr/>
        </p:nvPicPr>
        <p:blipFill>
          <a:blip r:embed="rId7"/>
          <a:stretch/>
        </p:blipFill>
        <p:spPr>
          <a:xfrm>
            <a:off x="3357720" y="5143680"/>
            <a:ext cx="2500200" cy="13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187286954-107"/>
          <p:cNvPicPr/>
          <p:nvPr/>
        </p:nvPicPr>
        <p:blipFill>
          <a:blip r:embed="rId8"/>
          <a:stretch/>
        </p:blipFill>
        <p:spPr>
          <a:xfrm>
            <a:off x="6286680" y="5143680"/>
            <a:ext cx="2500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4" descr=""/>
          <p:cNvPicPr/>
          <p:nvPr/>
        </p:nvPicPr>
        <p:blipFill>
          <a:blip r:embed="rId1"/>
          <a:stretch/>
        </p:blipFill>
        <p:spPr>
          <a:xfrm>
            <a:off x="907920" y="285840"/>
            <a:ext cx="8242560" cy="1639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428760" y="2085840"/>
            <a:ext cx="771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533ea9"/>
                </a:solidFill>
                <a:uFillTx/>
                <a:latin typeface="Calibri"/>
                <a:ea typeface="Times New Roman"/>
              </a:rPr>
              <a:t>Я предполагаю</a:t>
            </a:r>
            <a:r>
              <a:rPr b="1" i="1" lang="ru-RU" sz="2800" spc="-1" strike="noStrike">
                <a:solidFill>
                  <a:srgbClr val="533ea9"/>
                </a:solidFill>
                <a:latin typeface="Calibri"/>
                <a:ea typeface="Times New Roman"/>
              </a:rPr>
              <a:t>, что современные способы добычи нефти не дают стопроцентной гарантии безопасности. Происходят нефтяные аварии, ведущие к экологическим катастрофам. Следствием этого является разработка наиболее эффективных методов ликвидации нефтяных разлив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639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971640" y="2276640"/>
            <a:ext cx="70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5bb0"/>
                </a:solidFill>
                <a:latin typeface="Arial"/>
              </a:rPr>
              <a:t>Выяснить влияние нефтяных разливов на живые организмы водоёмов, береговой зоны и выявить наиболее эффективные способы их очистки</a:t>
            </a:r>
            <a:r>
              <a:rPr b="0" i="1" lang="ru-RU" sz="3200" spc="-1" strike="noStrike">
                <a:solidFill>
                  <a:srgbClr val="375bb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639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1285920" y="1486440"/>
            <a:ext cx="61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5bb0"/>
                </a:solidFill>
                <a:latin typeface="Calibri"/>
                <a:ea typeface="Calibri"/>
              </a:rPr>
              <a:t>1.Найти и изучить сведения об экологических нефтяных авариях в морских  акватор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332000" y="2796120"/>
            <a:ext cx="65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5bb0"/>
                </a:solidFill>
                <a:latin typeface="Calibri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375bb0"/>
                </a:solidFill>
                <a:latin typeface="Calibri"/>
                <a:ea typeface="Times New Roman"/>
              </a:rPr>
              <a:t>2.Выявить способы очистки нефтяных загрязнений и опытным путём проверить эффективность двух способ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5bb0"/>
                </a:solidFill>
                <a:latin typeface="Calibri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375bb0"/>
                </a:solidFill>
                <a:latin typeface="Calibri"/>
                <a:ea typeface="Times New Roman"/>
              </a:rPr>
              <a:t>3. Исследовать влияние нефти на живые организмы водоёмов и береговой зоны путём проведения опытов по проращиванию семян рас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3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428760" y="171468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25 янв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2014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1-ы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324000" y="3141720"/>
            <a:ext cx="37875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тог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2 февра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201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9-ы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3071880" y="142884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6072120" y="1428840"/>
            <a:ext cx="2643120" cy="207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admin\Рабочий стол\Работа\Черновой Проект Белоглазова Д\6-ой день\DSC02111.JPG"/>
          <p:cNvPicPr/>
          <p:nvPr/>
        </p:nvPicPr>
        <p:blipFill>
          <a:blip r:embed="rId4"/>
          <a:stretch/>
        </p:blipFill>
        <p:spPr>
          <a:xfrm>
            <a:off x="3071880" y="400068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Documents and Settings\admin\Рабочий стол\Работа\Черновой Проект Белоглазова Д\6-ой день\DSC02116.JPG"/>
          <p:cNvPicPr/>
          <p:nvPr/>
        </p:nvPicPr>
        <p:blipFill>
          <a:blip r:embed="rId5"/>
          <a:stretch/>
        </p:blipFill>
        <p:spPr>
          <a:xfrm>
            <a:off x="6072120" y="4000680"/>
            <a:ext cx="2643120" cy="20714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1"/>
          <p:cNvSpPr/>
          <p:nvPr/>
        </p:nvSpPr>
        <p:spPr>
          <a:xfrm>
            <a:off x="3927600" y="34290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1 образ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3857760" y="600084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1 образе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6715080" y="35002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2 образе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6500880" y="6072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2 образе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285840" y="500040"/>
            <a:ext cx="257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25 янв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2014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1-ы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285840" y="2500200"/>
            <a:ext cx="242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Итог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2 февра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201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9-ы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286000" y="214200"/>
            <a:ext cx="3071880" cy="17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5643720" y="21420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2357280" y="2643120"/>
            <a:ext cx="3000600" cy="1714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5715000" y="2643120"/>
            <a:ext cx="3071880" cy="17146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8"/>
          <p:cNvSpPr/>
          <p:nvPr/>
        </p:nvSpPr>
        <p:spPr>
          <a:xfrm>
            <a:off x="2357280" y="207180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            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3 образец                                                  4 образ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2286000" y="45720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3 образец                                                  4 образ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2286000" y="500076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Нефть оказывает губительное воздействие на  проращивание семян растений и тем самым  изначально не даёт перспектив  их роста и разви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2:24:20Z</dcterms:created>
  <dc:creator>admin</dc:creator>
  <dc:description/>
  <dc:language>en-US</dc:language>
  <cp:lastModifiedBy>Admin</cp:lastModifiedBy>
  <dcterms:modified xsi:type="dcterms:W3CDTF">2017-09-06T12:45:30Z</dcterms:modified>
  <cp:revision>73</cp:revision>
  <dc:subject/>
  <dc:title>Слайд 1</dc:title>
</cp:coreProperties>
</file>