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DE7-C8DB-4BE3-87EA-A03737A88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9CC-8AF9-42F4-981E-BAEB51F689C9}" type="slidenum">
              <a:rPr b="0" lang="ru-RU" sz="12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906-6377-4990-A556-716FE04A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34F-106B-4C62-A2F6-7814743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ED4-D982-492A-BFC9-FC821195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B9E-80C8-4A64-BB0A-EAE6E0FE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D11A-0CF7-434D-9AA0-A115678B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529-3295-4544-A6A7-2F6532D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082E-3B09-441D-BC42-F4C3D550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F6C6-FFFC-4BDC-9573-25DE6CC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928-32D9-4AF5-9901-A1C11B45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5BB-A521-4F97-B8C6-5519AB7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A547-417C-4E6C-B1C7-85D83F9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C22-7B64-48A2-B55C-62F51243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C13C-47B1-466F-879B-1447F49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61E5-BBDA-4575-9655-588BE8F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BED2-BE5A-47A0-A674-A160EB60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F33-4238-41F9-BA7D-90F2B6CB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F6E4-CD67-4C12-8FE9-DE2F127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94F-7F90-4B38-B6BB-ECBA164C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882-BCCC-4D16-88EE-B920A32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79F-5846-4D29-AC09-5BF6CAF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73E-7827-4F99-8502-19E5388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69F-DC1D-40B4-A119-9604D56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50B-F433-455A-9DC3-1057B22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75-6A19-4F7B-BCE3-1B2D3C6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B8D1-E1DC-4BA7-A888-F7534852E3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B693-9117-44AF-AC3D-ABE265F02E3E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Тема: Психолого-педагогическое сопровождение</a:t>
            </a:r>
            <a:br>
              <a:rPr sz="4800"/>
            </a:br>
            <a:r>
              <a:rPr b="1" lang="ru-RU" sz="4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эмоционально – личностной сферы детей 4 – 5 лет (1 этап)</a:t>
            </a:r>
            <a:br>
              <a:rPr sz="4800"/>
            </a:br>
            <a:endParaRPr b="1" lang="en-US" sz="4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одготовила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едагог – психолог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Лаптева Ж. В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5516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город Краснокаменск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МАДОУ № 9 «Росинка»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011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       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Задачи исследования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1d4944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Проанализировать психолого-педагогическую литературу по проблеме эмоционально - личностного развития детей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2.Изучить возрастные особенности дошкольников 4-5 лет и их эмоционально – личностные качества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3.Подобрать диагностический и методический инструментарий.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4.Разработать программу по эмоционально – личностному развитию детей 4-5 лет.</a:t>
            </a:r>
            <a:br>
              <a:rPr sz="2800"/>
            </a:b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4920" y="785880"/>
            <a:ext cx="828036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Методы исследования</a:t>
            </a:r>
            <a:r>
              <a:rPr b="0" lang="ru-RU" sz="40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ализ литературы по проблеме исследования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Наблюдение за детьми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Тестирование родителей;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кетирование педагогов;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ализ результатов, подведение итогов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42600"/>
            <a:ext cx="8391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Ожидаемые результаты</a:t>
            </a:r>
            <a:r>
              <a:rPr b="1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 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Педагог – психолог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Будет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проанализирована психолого - педагогическая литература по проблеме развития эмоционально – личностного состояния детей 4-5 лет;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зработана программа по эмоционально – личностному  развитию детей 4-5 лет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Будут: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ссмотрены возрастные особенности детей среднего дошкольного возраста и развитие их эмоционально – личностного состояния;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изучены особенности эмоционального развития детей среднего дошкольного возраста и выявлены причины их эмоционального неблагополучия.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разработано психолого-педагогическое сопровождение по развитию эмоциональной среды дошкольника для повышения уровня его эмоционального развития.</a:t>
            </a:r>
            <a:br>
              <a:rPr sz="3600"/>
            </a:br>
            <a:r>
              <a:rPr b="0" lang="ru-RU" sz="36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3" name="Picture 5" descr="j0410483"/>
          <p:cNvPicPr/>
          <p:nvPr/>
        </p:nvPicPr>
        <p:blipFill>
          <a:blip r:embed="rId1"/>
          <a:stretch/>
        </p:blipFill>
        <p:spPr>
          <a:xfrm>
            <a:off x="7207200" y="142920"/>
            <a:ext cx="1936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4643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2052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285480"/>
            <a:ext cx="9501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Дети</a:t>
            </a:r>
            <a:r>
              <a:rPr b="1" i="1" lang="ru-RU" sz="2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знание </a:t>
            </a: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основных эмоций (положительные и отрицательные)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вышение самооценки, появление умения осознавать свое реальное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«Я», решение внутренних конфликтов.  регулирование страхов,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агрессивных тенденций, беспокойства и чувства вины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управление элементарными приемами саморегуляции и простейшими способами снятия мышечного и эмоционального   напряжения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явление способности выражать свои эмоции вербально и невербально;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появление умения сдерживать собственные эмоции и распознавать эмоции  других людей при общении</a:t>
            </a:r>
            <a:br>
              <a:rPr sz="2400"/>
            </a:br>
            <a:r>
              <a:rPr b="1" i="1" lang="ru-RU" sz="24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 Родители:</a:t>
            </a:r>
            <a:br>
              <a:rPr sz="2400"/>
            </a:br>
            <a:r>
              <a:rPr b="0" lang="ru-RU" sz="24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Умение поддерживать благоприятное эмоциональное состояние ребёнка</a:t>
            </a:r>
            <a:br>
              <a:rPr sz="2400"/>
            </a:b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1320" y="1000080"/>
            <a:ext cx="82803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20011"/>
                </a:solidFill>
                <a:uFillTx/>
                <a:latin typeface="Times New Roman"/>
              </a:rPr>
              <a:t>План инновационнай деятельности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Этапы эксперимента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Организационно-подготовительный: сентябрь 2013-декабрь 2014 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Основной (практический):январь 2015 – ноябрь 2015 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III </a:t>
            </a:r>
            <a:r>
              <a:rPr b="0" lang="ru-RU" sz="36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Заключительный (результативный): декабрь  2015г - март 2016год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188640"/>
            <a:ext cx="896472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Настойчивость и терпеливость – в единстве противоположностей – два козыря успеха».</a:t>
            </a:r>
            <a:br>
              <a:rPr sz="2800"/>
            </a:b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Восточная мудрость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785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«…Только тогда, когда педагоги будут знать, что надо делать, они смогут делать»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П.П. Блонский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20" name="Picture 13" descr="j0428123"/>
          <p:cNvPicPr/>
          <p:nvPr/>
        </p:nvPicPr>
        <p:blipFill>
          <a:blip r:embed="rId1"/>
          <a:stretch/>
        </p:blipFill>
        <p:spPr>
          <a:xfrm>
            <a:off x="3286080" y="2643120"/>
            <a:ext cx="19051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49636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Развитие эмоционально - личностной сферы ребенка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и воспитание его чувств являются первостепенной задачей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«не менее, а в каком-то смысле даже более важной, 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чем воспитание его ума» 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(А.В. Запорожец).</a:t>
            </a:r>
            <a:br>
              <a:rPr sz="3600"/>
            </a:b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1d4337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4" name="Picture 3" descr="j0410483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104320" cy="60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1d4337"/>
                </a:solidFill>
                <a:uFillTx/>
                <a:latin typeface="Times New Roman"/>
                <a:ea typeface="Times New Roman"/>
              </a:rPr>
              <a:t>Актуальность : </a:t>
            </a:r>
            <a:endParaRPr b="0" lang="en-US" sz="4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Маленький ребёнок не умеет управлять эмоциями. Его чувства быстро возникают и также быстро исчезают.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Для ребенка-дошкольника 4-5 лет наиболее характерны эмоциональная неустойчивость, яркость, импульсивность проявления эмоций, что постепенно сменяется большей адаптивностью. 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Все это определяет основную направленность педагогической работы с дошкольником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эмоциональное наполнение жизни ребенка и оказание помощи в осознании эмоций и их регуляции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56000" y="83664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-365400"/>
            <a:ext cx="7556400" cy="68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1d4337"/>
                </a:solidFill>
                <a:uFillTx/>
                <a:latin typeface="Times New Roman"/>
                <a:ea typeface="Calibri"/>
              </a:rPr>
              <a:t>Направленность проект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1d4337"/>
                </a:solidFill>
                <a:latin typeface="Times New Roman"/>
                <a:ea typeface="Calibri"/>
              </a:rPr>
              <a:t>Социально – коммуникативная,</a:t>
            </a:r>
            <a:br>
              <a:rPr sz="4000"/>
            </a:br>
            <a:r>
              <a:rPr b="0" lang="ru-RU" sz="4000" spc="-1" strike="noStrike">
                <a:solidFill>
                  <a:srgbClr val="1d4944"/>
                </a:solidFill>
                <a:latin typeface="Arial"/>
                <a:ea typeface="Calibri"/>
              </a:rPr>
              <a:t>в основе которого лежит личностно ориентированная модель взаимодействия педагога – психолога с детьми и их эмоциональное благополучие. </a:t>
            </a:r>
            <a:br>
              <a:rPr sz="4000"/>
            </a:br>
            <a:r>
              <a:rPr b="0" lang="ru-RU" sz="40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Теоретическая значимость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9840" y="1285560"/>
            <a:ext cx="87138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зработка программы дополнительного образования для детей среднего дошкольного возраста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Практическая значимость </a:t>
            </a:r>
            <a:r>
              <a:rPr b="1" lang="ru-RU" sz="3600" spc="-1" strike="noStrike">
                <a:solidFill>
                  <a:srgbClr val="1d4337"/>
                </a:solidFill>
                <a:latin typeface="Arial"/>
              </a:rPr>
              <a:t>заключается в следующем: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зработан методический комплект  по эмоционально – личностному развитию с использованием разнообразных форм и методов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0" name="Picture 5" descr="j0398003"/>
          <p:cNvPicPr/>
          <p:nvPr/>
        </p:nvPicPr>
        <p:blipFill>
          <a:blip r:embed="rId1"/>
          <a:stretch/>
        </p:blipFill>
        <p:spPr>
          <a:xfrm>
            <a:off x="6910560" y="4616280"/>
            <a:ext cx="2233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Новизна проекта заключается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:</a:t>
            </a:r>
            <a:br>
              <a:rPr sz="3600"/>
            </a:b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29360" y="5928840"/>
            <a:ext cx="5713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484280"/>
          <a:ext cx="7284960" cy="4680000"/>
        </p:xfrm>
        <a:graphic>
          <a:graphicData uri="http://schemas.openxmlformats.org/drawingml/2006/table">
            <a:tbl>
              <a:tblPr/>
              <a:tblGrid>
                <a:gridCol w="6460920"/>
                <a:gridCol w="460440"/>
                <a:gridCol w="363600"/>
              </a:tblGrid>
              <a:tr h="478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азработаны адаптированные, развивающие занятия, консультаций и различные мероприятий, применяемые в интегрированном сочетании, поэтому по - новому рассматривается степень их воздействия на эмоционально - личностную сферу детей 4-5 лет;  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Дети могут свободно исследовать и выражать своё «Я», безопасно проявлять свои эмоции и чувства.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1d433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5" descr="j0428105"/>
          <p:cNvPicPr/>
          <p:nvPr/>
        </p:nvPicPr>
        <p:blipFill>
          <a:blip r:embed="rId1"/>
          <a:stretch/>
        </p:blipFill>
        <p:spPr>
          <a:xfrm>
            <a:off x="6858000" y="500040"/>
            <a:ext cx="208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714600" y="333000"/>
            <a:ext cx="106138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944"/>
                </a:solidFill>
                <a:uFillTx/>
                <a:latin typeface="Arial"/>
              </a:rPr>
              <a:t>Сроки эксперимента: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643040"/>
            <a:ext cx="91440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март 2014г - март 2016г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Объект исследования:</a:t>
            </a:r>
            <a:r>
              <a:rPr b="0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Эмоционально – личностная   сфера</a:t>
            </a: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детей 4-5 лет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4337"/>
                </a:solidFill>
                <a:uFillTx/>
                <a:latin typeface="Arial"/>
              </a:rPr>
              <a:t>Предмет исследования</a:t>
            </a:r>
            <a:r>
              <a:rPr b="1" lang="ru-RU" sz="3600" spc="-1" strike="noStrike">
                <a:solidFill>
                  <a:srgbClr val="1d4337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Психолого – педагогическое сопровождение эмоционально – личностной сферы детей 4-5 лет.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d4944"/>
                </a:solidFill>
                <a:uFillTx/>
                <a:latin typeface="Arial"/>
              </a:rPr>
              <a:t>В основу исследования положена гипотеза</a:t>
            </a: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: </a:t>
            </a:r>
            <a:br>
              <a:rPr sz="2800"/>
            </a:b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993680"/>
            <a:ext cx="878544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Процесс формирования эмоционально – личностной сферы детей среднего дошкольного возраста будет эффективным, если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d4337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занятия по эмоционально-личностному развитию детей будут проводиться с использова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нообразных инновационных форм и методов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1d4337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будет создана предметно – пространственная развивающая образовательная среда для реализации программы по дополнительному образованию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Calibri"/>
              </a:rPr>
              <a:t>то дети среднего дошкольного возраста смогут выражать, проявлять и понимать свои эмоции и чувства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1d4944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1" lang="ru-RU" sz="40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1d4944"/>
                </a:solidFill>
                <a:latin typeface="Times New Roman"/>
                <a:ea typeface="Times New Roman"/>
              </a:rPr>
              <a:t>Организация психолого – педагогического сопровождения, направленного на развитие эмоционально – личностной сферы детей 4-5 лет через реализацию программы по дополнительному образованию.    </a:t>
            </a:r>
            <a:br>
              <a:rPr sz="4000"/>
            </a:b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6:23:58Z</dcterms:created>
  <dc:creator>User1</dc:creator>
  <dc:description/>
  <cp:keywords/>
  <dc:language>en-US</dc:language>
  <cp:lastModifiedBy>Психолог</cp:lastModifiedBy>
  <dcterms:modified xsi:type="dcterms:W3CDTF">2016-02-24T03:04:36Z</dcterms:modified>
  <cp:revision>42</cp:revision>
  <dc:subject/>
  <dc:title>Центр психолого-педагогической реабилитации и корре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