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367D-BB82-48B8-A3FE-8AFD66682C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BD42-E133-46EF-B9C2-4FA20094112A}" type="slidenum">
              <a:rPr b="0" lang="ru-RU" sz="12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4E6-632E-42F4-BA71-BB1F0CE0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9DD-9964-4751-B27B-1C88BEC7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70F-1E88-430B-B2D5-4764F7EA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6E4-DE1C-4EFE-8C9D-973439DF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0604-BC26-425C-9638-3FB5C609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A128-C058-453B-BC3C-57BF3BDB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3CFD-17A3-4BC3-B154-B755938E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A05B-590A-4335-807A-695166F1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B074-51F5-4D93-BA7D-2B04E06A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E39A-F185-4C21-BC83-D3700828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FBC7-0E28-4CF1-AA28-A87D3C9A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432-1E74-4599-9028-ADBA8D45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2503-5AC1-4660-A9AB-50805300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5816-1596-4F7C-8502-D366B567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9A1E-247F-439C-A2D1-67A6210B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FEAC-CE21-4DEA-A110-132D4FC5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F58F-0BF2-4569-AD5C-E838E9BC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F95-2A65-4CB7-B211-FE459E45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4CA-65B8-476E-9812-89F19F22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EBE8-0FCD-414A-B0BF-D261C502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AAE-C621-4CC8-A2C2-EB77790A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9DF-701F-4A37-9D52-07978BED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BFE-BD66-44B1-88BE-072D3866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63F6-B755-47B9-9896-5EF15CC8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8BE5-1550-4460-B9DE-0B75602D4E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F9CE-5ACE-4156-AF8C-D2E6716ECD97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Тема: Психолого-педагогическое сопровождение</a:t>
            </a:r>
            <a:br>
              <a:rPr sz="4800"/>
            </a:br>
            <a:r>
              <a:rPr b="1" lang="ru-RU" sz="48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эмоционально – личностной сферы детей 4 – 5 лет (1 этап)</a:t>
            </a:r>
            <a:br>
              <a:rPr sz="4800"/>
            </a:br>
            <a:endParaRPr b="1" lang="en-US" sz="4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2844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Подготовила: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2844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Педагог – психолог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2844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Лаптева Ж. В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551628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0011"/>
                </a:solidFill>
                <a:latin typeface="Times New Roman"/>
              </a:rPr>
              <a:t>город Краснокаменск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0011"/>
                </a:solidFill>
                <a:latin typeface="Times New Roman"/>
              </a:rPr>
              <a:t>МАДОУ № 9 «Росинка»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0011"/>
                </a:solidFill>
                <a:latin typeface="Times New Roman"/>
              </a:rPr>
              <a:t>2014 год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50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         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1d4944"/>
                </a:solidFill>
                <a:uFillTx/>
                <a:latin typeface="Arial"/>
              </a:rPr>
              <a:t>Задачи исследования</a:t>
            </a: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: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1d4944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1d4944"/>
                </a:solidFill>
                <a:latin typeface="Arial"/>
              </a:rPr>
              <a:t>Проанализировать психолого-педагогическую литературу по проблеме эмоционально - личностного развития детей.</a:t>
            </a:r>
            <a:br>
              <a:rPr sz="2800"/>
            </a:br>
            <a:r>
              <a:rPr b="0" lang="ru-RU" sz="2800" spc="-1" strike="noStrike">
                <a:solidFill>
                  <a:srgbClr val="1d4944"/>
                </a:solidFill>
                <a:latin typeface="Arial"/>
              </a:rPr>
              <a:t>2.Изучить возрастные особенности дошкольников 4-5 лет и их эмоционально – личностные качества.</a:t>
            </a:r>
            <a:br>
              <a:rPr sz="2800"/>
            </a:br>
            <a:r>
              <a:rPr b="0" lang="ru-RU" sz="2800" spc="-1" strike="noStrike">
                <a:solidFill>
                  <a:srgbClr val="1d4944"/>
                </a:solidFill>
                <a:latin typeface="Arial"/>
              </a:rPr>
              <a:t>3.Подобрать диагностический и методический инструментарий.</a:t>
            </a:r>
            <a:br>
              <a:rPr sz="2800"/>
            </a:br>
            <a:r>
              <a:rPr b="0" lang="ru-RU" sz="2800" spc="-1" strike="noStrike">
                <a:solidFill>
                  <a:srgbClr val="1d4944"/>
                </a:solidFill>
                <a:latin typeface="Arial"/>
              </a:rPr>
              <a:t>4.Разработать программу по эмоционально – личностному развитию детей 4-5 лет.</a:t>
            </a:r>
            <a:br>
              <a:rPr sz="2800"/>
            </a:b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4920" y="785880"/>
            <a:ext cx="828036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d4337"/>
                </a:solidFill>
                <a:uFillTx/>
                <a:latin typeface="Times New Roman"/>
                <a:ea typeface="Times New Roman"/>
              </a:rPr>
              <a:t>Методы исследования</a:t>
            </a:r>
            <a:r>
              <a:rPr b="0" lang="ru-RU" sz="40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: </a:t>
            </a:r>
            <a:endParaRPr b="0" lang="en-US" sz="4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Анализ литературы по проблеме исследования;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Наблюдение за детьми;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Тестирование родителей;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Анкетирование педагогов;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Анализ результатов, подведение итогов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642600"/>
            <a:ext cx="8391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d4337"/>
                </a:solidFill>
                <a:uFillTx/>
                <a:latin typeface="Times New Roman"/>
                <a:ea typeface="Times New Roman"/>
              </a:rPr>
              <a:t>Ожидаемые результаты</a:t>
            </a:r>
            <a:r>
              <a:rPr b="1" lang="ru-RU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:  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d4337"/>
                </a:solidFill>
                <a:uFillTx/>
                <a:latin typeface="Times New Roman"/>
                <a:ea typeface="Times New Roman"/>
              </a:rPr>
              <a:t>Педагог – психолог: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Будет: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проанализирована психолого - педагогическая литература по проблеме развития эмоционально – личностного состояния детей 4-5 лет;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разработана программа по эмоционально – личностному  развитию детей 4-5 лет.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Будут: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рассмотрены возрастные особенности детей среднего дошкольного возраста и развитие их эмоционально – личностного состояния;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изучены особенности эмоционального развития детей среднего дошкольного возраста и выявлены причины их эмоционального неблагополучия.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7a8e3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разработано психолого-педагогическое сопровождение по развитию эмоциональной среды дошкольника для повышения уровня его эмоционального развития.</a:t>
            </a:r>
            <a:br>
              <a:rPr sz="3600"/>
            </a:br>
            <a:r>
              <a:rPr b="0" lang="ru-RU" sz="3600" spc="-1" strike="noStrike">
                <a:solidFill>
                  <a:srgbClr val="1d4337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3" name="Picture 5" descr="j0410483"/>
          <p:cNvPicPr/>
          <p:nvPr/>
        </p:nvPicPr>
        <p:blipFill>
          <a:blip r:embed="rId1"/>
          <a:stretch/>
        </p:blipFill>
        <p:spPr>
          <a:xfrm>
            <a:off x="7207200" y="142920"/>
            <a:ext cx="1936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46432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205272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285480"/>
            <a:ext cx="95011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1d4944"/>
                </a:solidFill>
                <a:uFillTx/>
                <a:latin typeface="Times New Roman"/>
                <a:ea typeface="Times New Roman"/>
              </a:rPr>
              <a:t>Дети</a:t>
            </a:r>
            <a:r>
              <a:rPr b="1" i="1" lang="ru-RU" sz="28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знание </a:t>
            </a:r>
            <a:r>
              <a:rPr b="0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основных эмоций (положительные и отрицательные);</a:t>
            </a:r>
            <a:br>
              <a:rPr sz="2400"/>
            </a:br>
            <a:r>
              <a:rPr b="0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повышение самооценки, появление умения осознавать свое реальное</a:t>
            </a:r>
            <a:br>
              <a:rPr sz="2400"/>
            </a:br>
            <a:r>
              <a:rPr b="0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«Я», решение внутренних конфликтов.  регулирование страхов,</a:t>
            </a:r>
            <a:br>
              <a:rPr sz="2400"/>
            </a:br>
            <a:r>
              <a:rPr b="0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агрессивных тенденций, беспокойства и чувства вины;</a:t>
            </a:r>
            <a:br>
              <a:rPr sz="2400"/>
            </a:br>
            <a:r>
              <a:rPr b="0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управление элементарными приемами саморегуляции и простейшими способами снятия мышечного и эмоционального   напряжения;</a:t>
            </a:r>
            <a:br>
              <a:rPr sz="2400"/>
            </a:br>
            <a:r>
              <a:rPr b="0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появление способности выражать свои эмоции вербально и невербально;</a:t>
            </a:r>
            <a:br>
              <a:rPr sz="2400"/>
            </a:br>
            <a:r>
              <a:rPr b="0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появление умения сдерживать собственные эмоции и распознавать эмоции  других людей при общении</a:t>
            </a:r>
            <a:br>
              <a:rPr sz="2400"/>
            </a:br>
            <a:r>
              <a:rPr b="1" i="1" lang="ru-RU" sz="2400" spc="-1" strike="noStrike" u="sng">
                <a:solidFill>
                  <a:srgbClr val="1d4944"/>
                </a:solidFill>
                <a:uFillTx/>
                <a:latin typeface="Times New Roman"/>
                <a:ea typeface="Times New Roman"/>
              </a:rPr>
              <a:t> Родители:</a:t>
            </a:r>
            <a:br>
              <a:rPr sz="2400"/>
            </a:br>
            <a:r>
              <a:rPr b="0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Умение поддерживать благоприятное эмоциональное состояние ребёнка</a:t>
            </a:r>
            <a:br>
              <a:rPr sz="2400"/>
            </a:b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1320" y="1000080"/>
            <a:ext cx="828036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220011"/>
                </a:solidFill>
                <a:uFillTx/>
                <a:latin typeface="Times New Roman"/>
              </a:rPr>
              <a:t>План инновационнай деятельности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Этапы эксперимента</a:t>
            </a:r>
            <a:r>
              <a:rPr b="0" lang="ru-RU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I </a:t>
            </a:r>
            <a:r>
              <a:rPr b="0" lang="ru-RU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Организационно-подготовительный: сентябрь 2013-декабрь 2014 год.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II </a:t>
            </a:r>
            <a:r>
              <a:rPr b="0" lang="ru-RU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Основной (практический):январь 2015 – ноябрь 2015 год.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III </a:t>
            </a:r>
            <a:r>
              <a:rPr b="0" lang="ru-RU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Заключительный (результативный): декабрь  2015г - март 2016год.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9280" y="188640"/>
            <a:ext cx="8964720" cy="22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«Настойчивость и терпеливость – в единстве противоположностей – два козыря успеха».</a:t>
            </a:r>
            <a:br>
              <a:rPr sz="2800"/>
            </a:b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                                                   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Восточная мудрость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78596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«…Только тогда, когда педагоги будут знать, что надо делать, они смогут делать»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                                                           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П.П. Блонский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СПАСИБО ЗА ВНИМАНИЕ !</a:t>
            </a:r>
            <a:endParaRPr b="0" lang="en-US" sz="4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20" name="Picture 13" descr="j0428123"/>
          <p:cNvPicPr/>
          <p:nvPr/>
        </p:nvPicPr>
        <p:blipFill>
          <a:blip r:embed="rId1"/>
          <a:stretch/>
        </p:blipFill>
        <p:spPr>
          <a:xfrm>
            <a:off x="3286080" y="2643120"/>
            <a:ext cx="19051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496360" cy="19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Развитие эмоционально - личностной сферы ребенка</a:t>
            </a:r>
            <a:br>
              <a:rPr sz="3600"/>
            </a:b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 и воспитание его чувств являются первостепенной задачей</a:t>
            </a:r>
            <a:br>
              <a:rPr sz="3600"/>
            </a:b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 «не менее, а в каком-то смысле даже более важной, </a:t>
            </a:r>
            <a:br>
              <a:rPr sz="3600"/>
            </a:b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чем воспитание его ума» </a:t>
            </a:r>
            <a:br>
              <a:rPr sz="3600"/>
            </a:b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(А.В. Запорожец).</a:t>
            </a:r>
            <a:br>
              <a:rPr sz="3600"/>
            </a:b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 </a:t>
            </a:r>
            <a:br>
              <a:rPr sz="3600"/>
            </a:b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446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1d4337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4" name="Picture 3" descr="j0410483"/>
          <p:cNvPicPr/>
          <p:nvPr/>
        </p:nvPicPr>
        <p:blipFill>
          <a:blip r:embed="rId1"/>
          <a:stretch/>
        </p:blipFill>
        <p:spPr>
          <a:xfrm>
            <a:off x="250920" y="189000"/>
            <a:ext cx="14396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8104320" cy="60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  </a:t>
            </a:r>
            <a:r>
              <a:rPr b="1" lang="ru-RU" sz="4800" spc="-1" strike="noStrike" u="sng">
                <a:solidFill>
                  <a:srgbClr val="1d4337"/>
                </a:solidFill>
                <a:uFillTx/>
                <a:latin typeface="Times New Roman"/>
                <a:ea typeface="Times New Roman"/>
              </a:rPr>
              <a:t>Актуальность : </a:t>
            </a:r>
            <a:endParaRPr b="0" lang="en-US" sz="4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Маленький ребёнок не умеет управлять эмоциями. Его чувства быстро возникают и также быстро исчезают.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Для ребенка-дошкольника 4-5 лет наиболее характерны эмоциональная неустойчивость, яркость, импульсивность проявления эмоций, что постепенно сменяется большей адаптивностью. </a:t>
            </a: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Все это определяет основную направленность педагогической работы с дошкольником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— эмоциональное наполнение жизни ребенка и оказание помощи в осознании эмоций и их регуляции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556000" y="83664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-365400"/>
            <a:ext cx="7556400" cy="68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100000"/>
              </a:lnSpc>
              <a:buClr>
                <a:srgbClr val="1d43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1d4337"/>
                </a:solidFill>
                <a:uFillTx/>
                <a:latin typeface="Times New Roman"/>
                <a:ea typeface="Calibri"/>
              </a:rPr>
              <a:t>Направленность проекта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1d4337"/>
                </a:solidFill>
                <a:latin typeface="Times New Roman"/>
                <a:ea typeface="Calibri"/>
              </a:rPr>
              <a:t>Социально – коммуникативная,</a:t>
            </a:r>
            <a:br>
              <a:rPr sz="4000"/>
            </a:br>
            <a:r>
              <a:rPr b="0" lang="ru-RU" sz="4000" spc="-1" strike="noStrike">
                <a:solidFill>
                  <a:srgbClr val="1d4944"/>
                </a:solidFill>
                <a:latin typeface="Arial"/>
                <a:ea typeface="Calibri"/>
              </a:rPr>
              <a:t>в основе которого лежит личностно ориентированная модель взаимодействия педагога – психолога с детьми и их эмоциональное благополучие. </a:t>
            </a:r>
            <a:br>
              <a:rPr sz="4000"/>
            </a:br>
            <a:r>
              <a:rPr b="0" lang="ru-RU" sz="4000" spc="-1" strike="noStrike">
                <a:solidFill>
                  <a:srgbClr val="1d4337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1d4944"/>
                </a:solidFill>
                <a:uFillTx/>
                <a:latin typeface="Arial"/>
              </a:rPr>
              <a:t>Теоретическая значимость</a:t>
            </a: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:</a:t>
            </a:r>
            <a:br>
              <a:rPr sz="3600"/>
            </a:b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9840" y="1285560"/>
            <a:ext cx="87138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Разработка программы дополнительного образования для детей среднего дошкольного возраста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d4337"/>
                </a:solidFill>
                <a:uFillTx/>
                <a:latin typeface="Arial"/>
              </a:rPr>
              <a:t>Практическая значимость </a:t>
            </a:r>
            <a:r>
              <a:rPr b="1" lang="ru-RU" sz="3600" spc="-1" strike="noStrike">
                <a:solidFill>
                  <a:srgbClr val="1d4337"/>
                </a:solidFill>
                <a:latin typeface="Arial"/>
              </a:rPr>
              <a:t>заключается в следующем: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Разработан методический комплект  по эмоционально – личностному развитию с использованием разнообразных форм и методов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0" name="Picture 5" descr="j0398003"/>
          <p:cNvPicPr/>
          <p:nvPr/>
        </p:nvPicPr>
        <p:blipFill>
          <a:blip r:embed="rId1"/>
          <a:stretch/>
        </p:blipFill>
        <p:spPr>
          <a:xfrm>
            <a:off x="6910560" y="4616280"/>
            <a:ext cx="223344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d4944"/>
                </a:solidFill>
                <a:uFillTx/>
                <a:latin typeface="Arial"/>
              </a:rPr>
              <a:t>Новизна проекта заключается</a:t>
            </a: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:</a:t>
            </a:r>
            <a:br>
              <a:rPr sz="3600"/>
            </a:b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929360" y="5928840"/>
            <a:ext cx="57132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484280"/>
          <a:ext cx="7284960" cy="4680000"/>
        </p:xfrm>
        <a:graphic>
          <a:graphicData uri="http://schemas.openxmlformats.org/drawingml/2006/table">
            <a:tbl>
              <a:tblPr/>
              <a:tblGrid>
                <a:gridCol w="6460920"/>
                <a:gridCol w="460440"/>
                <a:gridCol w="363600"/>
              </a:tblGrid>
              <a:tr h="478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Разработаны адаптированные, развивающие занятия, консультаций и различные мероприятий, применяемые в интегрированном сочетании, поэтому по - новому рассматривается степень их воздействия на эмоционально - личностную сферу детей 4-5 лет;  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Дети могут свободно исследовать и выражать своё «Я», безопасно проявлять свои эмоции и чувства.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1d4337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5" descr="j0428105"/>
          <p:cNvPicPr/>
          <p:nvPr/>
        </p:nvPicPr>
        <p:blipFill>
          <a:blip r:embed="rId1"/>
          <a:stretch/>
        </p:blipFill>
        <p:spPr>
          <a:xfrm>
            <a:off x="6858000" y="500040"/>
            <a:ext cx="208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714600" y="333000"/>
            <a:ext cx="1061388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d4944"/>
                </a:solidFill>
                <a:uFillTx/>
                <a:latin typeface="Arial"/>
              </a:rPr>
              <a:t>Сроки эксперимента: 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643040"/>
            <a:ext cx="91440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d4337"/>
                </a:solidFill>
                <a:latin typeface="Arial"/>
              </a:rPr>
              <a:t>март 2014г - март 2016г.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d4337"/>
                </a:solidFill>
                <a:uFillTx/>
                <a:latin typeface="Arial"/>
              </a:rPr>
              <a:t>Объект исследования:</a:t>
            </a:r>
            <a:r>
              <a:rPr b="0" lang="ru-RU" sz="3600" spc="-1" strike="noStrike" u="sng">
                <a:solidFill>
                  <a:srgbClr val="1d4337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4337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1d4337"/>
                </a:solidFill>
                <a:latin typeface="Arial"/>
              </a:rPr>
              <a:t>Эмоционально – личностная   сфера</a:t>
            </a:r>
            <a:r>
              <a:rPr b="0" lang="en-US" sz="36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1d4337"/>
                </a:solidFill>
                <a:latin typeface="Arial"/>
              </a:rPr>
              <a:t>детей 4-5 лет.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d4337"/>
                </a:solidFill>
                <a:uFillTx/>
                <a:latin typeface="Arial"/>
              </a:rPr>
              <a:t>Предмет исследования</a:t>
            </a:r>
            <a:r>
              <a:rPr b="1" lang="ru-RU" sz="3600" spc="-1" strike="noStrike">
                <a:solidFill>
                  <a:srgbClr val="1d4337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4337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1d4337"/>
                </a:solidFill>
                <a:latin typeface="Arial"/>
              </a:rPr>
              <a:t>Психолого – педагогическое сопровождение эмоционально – личностной сферы детей 4-5 лет.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d4944"/>
                </a:solidFill>
                <a:uFillTx/>
                <a:latin typeface="Arial"/>
              </a:rPr>
              <a:t>В основу исследования положена гипотеза</a:t>
            </a: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: </a:t>
            </a:r>
            <a:br>
              <a:rPr sz="2800"/>
            </a:b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993680"/>
            <a:ext cx="878544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  <a:ea typeface="Calibri"/>
              </a:rPr>
              <a:t>Процесс формирования эмоционально – личностной сферы детей среднего дошкольного возраста будет эффективным, если: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1d4337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  <a:ea typeface="Calibri"/>
              </a:rPr>
              <a:t>занятия по эмоционально-личностному развитию детей будут проводиться с использование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нообразных инновационных форм и методов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  <a:ea typeface="Calibri"/>
              </a:rPr>
              <a:t>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1d4337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  <a:ea typeface="Calibri"/>
              </a:rPr>
              <a:t>будет создана предметно – пространственная развивающая образовательная среда для реализации программы по дополнительному образованию,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  <a:ea typeface="Calibri"/>
              </a:rPr>
              <a:t>то дети среднего дошкольного возраста смогут выражать, проявлять и понимать свои эмоции и чувства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545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1d4944"/>
                </a:solidFill>
                <a:uFillTx/>
                <a:latin typeface="Times New Roman"/>
                <a:ea typeface="Times New Roman"/>
              </a:rPr>
              <a:t>Цель исследования</a:t>
            </a:r>
            <a:r>
              <a:rPr b="1" lang="ru-RU" sz="40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: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Организация психолого – педагогического сопровождения, направленного на развитие эмоционально – личностной сферы детей 4-5 лет через реализацию программы по дополнительному образованию.    </a:t>
            </a:r>
            <a:br>
              <a:rPr sz="4000"/>
            </a:b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6:23:58Z</dcterms:created>
  <dc:creator>User1</dc:creator>
  <dc:description/>
  <cp:keywords/>
  <dc:language>en-US</dc:language>
  <cp:lastModifiedBy>Психолог</cp:lastModifiedBy>
  <dcterms:modified xsi:type="dcterms:W3CDTF">2016-02-24T03:04:36Z</dcterms:modified>
  <cp:revision>42</cp:revision>
  <dc:subject/>
  <dc:title>Центр психолого-педагогической реабилитации и коррек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1049</vt:lpwstr>
  </property>
</Properties>
</file>