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CC91-0EDA-40F1-9BA2-EBF8E6D7BB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028B-C783-43E4-AAC1-787028C1D6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425-4943-4076-85A8-600D4997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04C-EF17-4CA2-BA36-3A32B81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D78-3473-4BD4-9E55-1549D526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76B-B8E4-4493-9F4E-4703A49B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B62-B92C-46D7-AC34-242577D9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D2A-5261-40F2-9A73-A96DBB3C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FBD-E481-44A4-A587-475B8FA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DF6-DA6E-4682-A120-5BA47707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737-5201-45D8-8811-15F1FE15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A26-43A5-430E-BDA2-5C1A4838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234-80D3-4C07-B858-20A2063B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140-E8AC-409F-8DCE-AF5F7056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E906-E70B-4A99-8E73-9BDAE0535D00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6422"/>
                </a:solidFill>
                <a:latin typeface="Segoe Script"/>
              </a:rPr>
              <a:t>Природные зоны России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546422"/>
                </a:solidFill>
                <a:latin typeface="Segoe Script"/>
              </a:rPr>
              <a:t>Урок обобщения знаний </a:t>
            </a:r>
            <a:br>
              <a:rPr sz="4000"/>
            </a:br>
            <a:r>
              <a:rPr b="0" lang="ru-RU" sz="4000" spc="-1" strike="noStrike">
                <a:solidFill>
                  <a:srgbClr val="546422"/>
                </a:solidFill>
                <a:latin typeface="Segoe Script"/>
              </a:rPr>
              <a:t>для 8 класса</a:t>
            </a: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egoe Script"/>
              </a:rPr>
              <a:t>Тест</a:t>
            </a: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 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571320"/>
            <a:ext cx="90010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7. Смешанные муссонные леса распространены на Русской равнине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8. В лесотундре лес встречается в основном по долинам рек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9. Воздействие человека на природу изменяет какие – либо связи в ПК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20. Облик тундры, так или иначе связан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624"/>
              </a:spcBef>
              <a:buSzPct val="1316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Segoe Script"/>
              </a:rPr>
              <a:t>Распределите растения по природным зонам</a:t>
            </a:r>
            <a:endParaRPr b="0" lang="en-US" sz="3600" spc="-1" strike="noStrike">
              <a:solidFill>
                <a:srgbClr val="546422"/>
              </a:solidFill>
              <a:latin typeface="Segoe Scrip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4200" y="1357200"/>
          <a:ext cx="8786880" cy="1285920"/>
        </p:xfrm>
        <a:graphic>
          <a:graphicData uri="http://schemas.openxmlformats.org/drawingml/2006/table">
            <a:tbl>
              <a:tblPr/>
              <a:tblGrid>
                <a:gridCol w="1555920"/>
                <a:gridCol w="963720"/>
                <a:gridCol w="1874520"/>
                <a:gridCol w="1463760"/>
                <a:gridCol w="1571760"/>
                <a:gridCol w="13572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egoe UI"/>
                        </a:rPr>
                        <a:t>Тундра и лесотундра</a:t>
                      </a:r>
                      <a:endParaRPr b="0" lang="en-US" sz="18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egoe UI"/>
                        </a:rPr>
                        <a:t>Тайга </a:t>
                      </a:r>
                      <a:endParaRPr b="0" lang="en-US" sz="18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egoe UI"/>
                        </a:rPr>
                        <a:t>Широколист-  венные  леса</a:t>
                      </a:r>
                      <a:endParaRPr b="0" lang="en-US" sz="18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egoe UI"/>
                        </a:rPr>
                        <a:t>Лесостепи и степи </a:t>
                      </a:r>
                      <a:endParaRPr b="0" lang="en-US" sz="18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egoe UI"/>
                        </a:rPr>
                        <a:t>Пустыни и полупусты-ни</a:t>
                      </a:r>
                      <a:endParaRPr b="0" lang="en-US" sz="18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egoe UI"/>
                        </a:rPr>
                        <a:t>Области высотной поясности </a:t>
                      </a:r>
                      <a:endParaRPr b="0" lang="en-US" sz="18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546422"/>
                        </a:solidFill>
                        <a:latin typeface="Sego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-2880" y="-11880"/>
            <a:ext cx="8494200" cy="69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Растения:</a:t>
            </a: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. Полынь                                       8. Ель</a:t>
            </a: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 Мхи, лишайники.                       9. Полярная ива</a:t>
            </a: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 Дуб                                              10. Кедр</a:t>
            </a: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Верблюжья колючка                11 Лиственница</a:t>
            </a: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. Ковыль                                       12 Перекати-поле</a:t>
            </a: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6. Карликовая березка                 13.  Липа</a:t>
            </a: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7. Клен                                             14 Сосна                        </a:t>
            </a: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5 Бук</a:t>
            </a: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egoe Script"/>
              </a:rPr>
              <a:t>Найдите лишнее растение: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UI"/>
              </a:rPr>
              <a:t>1. Полярная ива, лишайники, клен, карликовая береза, голубика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UI"/>
              </a:rPr>
              <a:t>2. Лиственница, дуб, сосна, пихта, ель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UI"/>
              </a:rPr>
              <a:t>3. Липа, амурский бархат, вяз, бук, брусника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egoe Script"/>
              </a:rPr>
              <a:t>Работа с терминами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Овал 3"/>
          <p:cNvSpPr/>
          <p:nvPr/>
        </p:nvSpPr>
        <p:spPr>
          <a:xfrm>
            <a:off x="826920" y="2000160"/>
            <a:ext cx="2173320" cy="9288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ная зональность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2" name="Овал 6"/>
          <p:cNvSpPr/>
          <p:nvPr/>
        </p:nvSpPr>
        <p:spPr>
          <a:xfrm>
            <a:off x="4214880" y="1928880"/>
            <a:ext cx="2000160" cy="785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азник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3" name="Овал 8"/>
          <p:cNvSpPr/>
          <p:nvPr/>
        </p:nvSpPr>
        <p:spPr>
          <a:xfrm>
            <a:off x="900000" y="3357720"/>
            <a:ext cx="192888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розия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4" name="Овал 10"/>
          <p:cNvSpPr/>
          <p:nvPr/>
        </p:nvSpPr>
        <p:spPr>
          <a:xfrm>
            <a:off x="3929040" y="3071880"/>
            <a:ext cx="2286000" cy="10000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оведник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6643800" y="2643120"/>
            <a:ext cx="1928880" cy="9288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"/>
              </a:rPr>
              <a:t>Солончаки 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6" name="Овал 13"/>
          <p:cNvSpPr/>
          <p:nvPr/>
        </p:nvSpPr>
        <p:spPr>
          <a:xfrm>
            <a:off x="6804000" y="2781360"/>
            <a:ext cx="16430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"/>
              </a:rPr>
              <a:t>5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7" name="Овал 14"/>
          <p:cNvSpPr/>
          <p:nvPr/>
        </p:nvSpPr>
        <p:spPr>
          <a:xfrm>
            <a:off x="1071720" y="4714920"/>
            <a:ext cx="2000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"/>
              </a:rPr>
              <a:t>Суховеи 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8" name="Овал 15"/>
          <p:cNvSpPr/>
          <p:nvPr/>
        </p:nvSpPr>
        <p:spPr>
          <a:xfrm>
            <a:off x="1258920" y="4724280"/>
            <a:ext cx="1785960" cy="9288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"/>
              </a:rPr>
              <a:t>6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9" name="Овал 16"/>
          <p:cNvSpPr/>
          <p:nvPr/>
        </p:nvSpPr>
        <p:spPr>
          <a:xfrm>
            <a:off x="3714840" y="4500720"/>
            <a:ext cx="1928880" cy="7855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"/>
              </a:rPr>
              <a:t>Засуха 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0" name="Овал 17"/>
          <p:cNvSpPr/>
          <p:nvPr/>
        </p:nvSpPr>
        <p:spPr>
          <a:xfrm>
            <a:off x="3708360" y="4437000"/>
            <a:ext cx="1785960" cy="785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"/>
              </a:rPr>
              <a:t>7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1" name="Овал 18"/>
          <p:cNvSpPr/>
          <p:nvPr/>
        </p:nvSpPr>
        <p:spPr>
          <a:xfrm>
            <a:off x="2643120" y="5572080"/>
            <a:ext cx="2714760" cy="9288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циональный парк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2" name="Овал 19"/>
          <p:cNvSpPr/>
          <p:nvPr/>
        </p:nvSpPr>
        <p:spPr>
          <a:xfrm>
            <a:off x="2987640" y="5734080"/>
            <a:ext cx="1928880" cy="5713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"/>
              </a:rPr>
              <a:t>8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3" name="Овал 9"/>
          <p:cNvSpPr/>
          <p:nvPr/>
        </p:nvSpPr>
        <p:spPr>
          <a:xfrm>
            <a:off x="971640" y="3429000"/>
            <a:ext cx="1857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"/>
              </a:rPr>
              <a:t>3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4" name="Овал 5"/>
          <p:cNvSpPr/>
          <p:nvPr/>
        </p:nvSpPr>
        <p:spPr>
          <a:xfrm>
            <a:off x="900000" y="2060640"/>
            <a:ext cx="2000520" cy="785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5" name="Овал 5"/>
          <p:cNvSpPr/>
          <p:nvPr/>
        </p:nvSpPr>
        <p:spPr>
          <a:xfrm>
            <a:off x="4356000" y="1916280"/>
            <a:ext cx="2000520" cy="7855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6" name="Овал 9"/>
          <p:cNvSpPr/>
          <p:nvPr/>
        </p:nvSpPr>
        <p:spPr>
          <a:xfrm>
            <a:off x="4140360" y="3284640"/>
            <a:ext cx="1857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egoe Script"/>
              </a:rPr>
              <a:t>Практическая работа 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UI"/>
              </a:rPr>
              <a:t>План: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Географическое положение зоны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Климат (зима, лето, увлажнение)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очвы (плодородие)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Типичные растения (черты приспособленности к условиям жизни)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Типичные животные и их приспособление к условиям обитания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Хозяйственная деятельность человека и экологические проблемы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 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Домашнее задание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Найти художественное описание природы Русской равнины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6422"/>
                </a:solidFill>
                <a:latin typeface="Segoe Script"/>
              </a:rPr>
              <a:t>По описанию определите природную зону</a:t>
            </a: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d23"/>
                </a:solidFill>
                <a:latin typeface="Arial"/>
              </a:rPr>
              <a:t>1.Огромные деревья образовали зеленый шатер, а под ним – густые заросли орешника, черемухи, жимолости. Местами на опушках покачивает ветвями белоствольная березка, трепещет осина, благоухает липа. Посреди поляны огромный дуб, его ствол так толст,  что с трудом обхватят три человека                                                  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d23"/>
                </a:solidFill>
                <a:latin typeface="Arial"/>
              </a:rPr>
              <a:t>2. Здесь царство холода и снега, бушует  пурга, ветер валит человека с ног. Снег сухой и сыпучий, сдувается ветром, образуя застывшие беспорядочные волны. Летом почвы прогреваются на небольшую глубину, но и тогда возможны заморозки и снегопады.  Все растения имеют карликовый рост. Много ягод.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Определите природную зону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52" name="Содержимое 3" descr="Image 0.jpg"/>
          <p:cNvPicPr/>
          <p:nvPr/>
        </p:nvPicPr>
        <p:blipFill>
          <a:blip r:embed="rId1"/>
          <a:srcRect l="4735" t="0" r="2139" b="8711"/>
          <a:stretch/>
        </p:blipFill>
        <p:spPr>
          <a:xfrm>
            <a:off x="357120" y="1461960"/>
            <a:ext cx="62866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Image 0.jpg2.jpg"/>
          <p:cNvPicPr/>
          <p:nvPr/>
        </p:nvPicPr>
        <p:blipFill>
          <a:blip r:embed="rId1"/>
          <a:srcRect l="2843" t="1666" r="2328" b="16046"/>
          <a:stretch/>
        </p:blipFill>
        <p:spPr>
          <a:xfrm>
            <a:off x="714240" y="571680"/>
            <a:ext cx="5857920" cy="596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Image 1.jpg"/>
          <p:cNvPicPr/>
          <p:nvPr/>
        </p:nvPicPr>
        <p:blipFill>
          <a:blip r:embed="rId1"/>
          <a:srcRect l="2786" t="2701" r="21480" b="23409"/>
          <a:stretch/>
        </p:blipFill>
        <p:spPr>
          <a:xfrm>
            <a:off x="500040" y="571680"/>
            <a:ext cx="671508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Image 1.jpg3.jpg"/>
          <p:cNvPicPr/>
          <p:nvPr/>
        </p:nvPicPr>
        <p:blipFill>
          <a:blip r:embed="rId1"/>
          <a:srcRect l="1501" t="0" r="1096" b="5077"/>
          <a:stretch/>
        </p:blipFill>
        <p:spPr>
          <a:xfrm>
            <a:off x="285840" y="285840"/>
            <a:ext cx="69278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Исправьте ошибки 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Тайга расположена в умеренном климатическом поясе, на севере она граничит с тундрой. Здесь преобладают серые лесные почвы. В Якутии, в зоне резко</a:t>
            </a:r>
            <a:r>
              <a:rPr b="0" lang="ru-RU" sz="3200" spc="-1" strike="noStrike">
                <a:solidFill>
                  <a:srgbClr val="e97d23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 континентального климата преобладает темнохвойная тайга. В тайге богатый животный мир: лоси, медведи, кабарга, соболя, бурундуки, много птиц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egoe Script"/>
              </a:rPr>
              <a:t>Тест 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4200" y="857160"/>
            <a:ext cx="8715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. В зоне Восточно-Европейской тайги преобладают темнохвойные породы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22200" indent="-322200"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2. В зоне тундры преобладают дерново-подзолистые почвы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22200" indent="-322200"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3. В степях водятся бурундуки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22200" indent="-322200"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4. В степях серые лесные почвы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22200" indent="-322200">
              <a:spcBef>
                <a:spcPts val="624"/>
              </a:spcBef>
              <a:buSzPct val="1316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5. Главнейшее богатство тайги – древесина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22200" indent="-322200">
              <a:spcBef>
                <a:spcPts val="624"/>
              </a:spcBef>
              <a:buSzPct val="1316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6.  Лесостепная зона – это переходная зона от леса к тундре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22200" indent="-322200">
              <a:spcBef>
                <a:spcPts val="624"/>
              </a:spcBef>
              <a:buSzPct val="1316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7. Ведущую роль в формировании природных зон играет соотношение тепла и влаги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22200" indent="-322200">
              <a:spcBef>
                <a:spcPts val="624"/>
              </a:spcBef>
              <a:buSzPct val="13168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8. В настоящее время степи в основном  распаханы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egoe Script"/>
              </a:rPr>
              <a:t>Тест</a:t>
            </a: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 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785880"/>
            <a:ext cx="88581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9. Под хвойными лесами формируются богатые гумусом почвы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32640" indent="-332640"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0. Поверхностный сток в степях незначительный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32640" indent="-332640"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1. В высокогорьях преобладают широколиственные породы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32640" indent="-332640"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2. В зоне Средней Сибири преобладают темнохвойные  породы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32640" indent="-332640">
              <a:spcBef>
                <a:spcPts val="624"/>
              </a:spcBef>
              <a:buSzPct val="1316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3. В зоне тундры водятся олени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32640" indent="-332640">
              <a:spcBef>
                <a:spcPts val="624"/>
              </a:spcBef>
              <a:buSzPct val="1316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4. В зоне степей водятся грызуны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32640" indent="-332640">
              <a:spcBef>
                <a:spcPts val="624"/>
              </a:spcBef>
              <a:buSzPct val="1316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5. Области высотной поясности распространены и на островах Северного Ледовитого океана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  <a:p>
            <a:pPr marL="332640" indent="-332640">
              <a:spcBef>
                <a:spcPts val="624"/>
              </a:spcBef>
              <a:buSzPct val="13168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UI"/>
              </a:rPr>
              <a:t>16. Смешанные леса протягиваются  широкой полосой от западных границ России до Охотского моря.</a:t>
            </a:r>
            <a:endParaRPr b="0" lang="en-US" sz="25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4:20:50Z</dcterms:created>
  <dc:creator/>
  <dc:description>Шаблон оформления к 8 Марта</dc:description>
  <dc:language>en-US</dc:language>
  <cp:lastModifiedBy/>
  <dcterms:modified xsi:type="dcterms:W3CDTF">2014-03-28T06:43:54Z</dcterms:modified>
  <cp:revision>5</cp:revision>
  <dc:subject/>
  <dc:title>Природные зоны России   Урок обобщения знаний  для 8 клас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16771049</vt:lpwstr>
  </property>
</Properties>
</file>