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99A-3247-4766-A15D-F6C54C10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27B-3992-48A0-B1DA-D9AAD659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04C-780E-42E9-9E12-375095C5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5F6-9171-455B-813B-7564F3D6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2EBD-7D35-4C83-8D7A-261DF960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9786-A7DF-4B0A-95A2-C8AE4630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5A6E-58F4-4609-9883-0D9C5FB6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4C39-DC65-4B23-A1AC-81F0E49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8D4B-9062-49B0-B8F7-6BD49A2C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0AE0-75B2-403A-BA80-C549F53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EAF2-A0E8-431F-A5C5-5615687C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4B7-7A6F-4E55-BF26-A35C12E8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711B-4DC9-4A01-874E-5EC180D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4C01-6C0C-41AD-8172-0A1C900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006-D96E-4904-A542-757652BA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4524-9B29-4191-A335-937357EE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C5DA-70DC-417E-B28F-40F2890F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DCA-D8FA-451D-96B7-E6A82B64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C77-4A35-4502-866C-FAC88237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5C9-A9E5-4E25-BE86-5FA0F7C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86E-1479-4079-9ED5-4C5DAE71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D03-8A26-4A35-90DE-19867A4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8DA-572E-4DDB-A3AD-7579A17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AB6-30BC-4F06-AE78-5220FED7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517B-7C23-49C0-9F7E-40475D975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C5E4-9719-4759-9C54-81D5350DE0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016760" cy="525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сихологическая готовность ребенка к школ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ая готовность к школе – это своеобразие интеллектуального развития ребенка и некоторые особенности его личности, без которых невозможно успешное обучение в шко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ая готовность включает в себ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чностную готов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ллектуальную готов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тивационну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DSC05664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DSC05668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чностная гото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строить отношения с учителем (умение регулировать свои действия и свое поведение, умение воспринимать учебную зада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общаться со сверстниками (принимать точку зрения другого, умение взглянуть на себя со стороны, умение выслушивать одноклассников, адекватно реагировать на неудачу други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е к себе (отсутствие заниженной самооцен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новая папка 067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DSC05309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ллектуальная гото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Наиболее важные показатели – это развитие мышления и речи. Речь является основой, на которой строится учебный процесс. Особенно важно владение монологической речью (пересказ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личие у ребенка кругозора, запаса конкретных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Развитие мелкой моторики, зрительно-двигательных коодин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9" descr="новая папка 060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DSC05257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тивационная гото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тивация может быть внешняя и внутренняя. Внутренняя мотивация, то есть ребенок хочет идти в школу, потому что там интересно, и он хочет много знать, а не потому что у него будет новый ранец или родители пообещали купить велосипед (внешняя мотивац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тивационная готовность - это желание учиться, получать знания, умение слушать учителя и выполнять его задания, это определенный уровень развития мышления, памяти, вним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DSC05658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Изображение 125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тивационная гото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правило, компоненты готовности к школе возникают естественным путем при нормальном развитии ребенка, когда малыш много играет сам, со сверстниками, со взрослыми, как в сюжетные игры, так и в игры с правилами (мозаика, лото, конструктор, кубик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ение также должно быть неотъемлемой частью каждого дня ребен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ые игрушки, компьютерные игры не многофункциональны, они не оказывают достаточного влияния на развитие интеллек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ика ребенка развивается в игре. Постепенно исчерпав свои возможности, игра, как ведущий вид деятельности, уступает место обучени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ен не объем знаний ребенка, а их качество. Важно не учить читать, а развивать речь. Не учить писать, а создать условия для развития мелкой моторики ру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ечно хорошо, что будущий первоклассник умеет читать, считать. Но для полноценного развития дошкольнику необходимо общаться со сверстниками, взрослыми, играть в развивающие игры, слушать чтение книг, рисовать, лепить, фантазиров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Изображение 137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DSC05597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6:36:03Z</dcterms:created>
  <dc:creator>Loner-XP</dc:creator>
  <dc:description/>
  <dc:language>en-US</dc:language>
  <cp:lastModifiedBy>Светлана</cp:lastModifiedBy>
  <dcterms:modified xsi:type="dcterms:W3CDTF">2017-02-13T13:02:43Z</dcterms:modified>
  <cp:revision>6</cp:revision>
  <dc:subject/>
  <dc:title>Психологическая готовность ребенка к школе</dc:title>
</cp:coreProperties>
</file>