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333-8019-4682-BF29-1D7AC1F7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410-31B7-475B-8BE5-79D2F5C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8A0-EBC5-4F60-BB96-8D3F7D3D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3E5-A82D-4EAB-9428-A5ED18FA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8F54-132F-4692-A353-DE61047A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3904-CE50-4B65-95E0-9C1BD1BE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3AAF-99DB-437E-805A-D986C9DC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BAED-13B6-402B-9684-5BDBEC78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86C0-0ECA-4276-9B8C-7E0B5825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711C-0A7D-4CF2-9E1E-27D0A05C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29AD-8862-4460-A1DD-639A3668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186-55A3-44F0-BD95-5A5063A8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56F0-2CAC-4AE6-9A9E-48235039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5860-E693-4B60-8CC6-02E1EB8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1E47-9BB2-4DAE-AC72-30E136CA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A92F-C10B-4F34-ABAB-F90A726B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07E3-E7C6-4B22-96B3-3E2B7F55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6B8-5008-4B3C-A4C8-9FDDC01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DE2-18C1-454B-9AC8-768A503F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B2F-EDEE-46A6-B170-5EE7CF04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A98-9350-4627-977C-654BD2BA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3C1-0D17-43EC-A1AF-B9F67897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ED4-FD93-4211-B177-E45434EB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067-F0E9-4A3B-9FC5-82662006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AB4F-679B-435A-B2F9-F47DDA144C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B5DB-7383-4539-A33B-67D934659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«Внимание дети!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е родительское собр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е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Вторые младшие 4,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2" descr="C:\Users\1\Desktop\фото к стать ПДД МАДОУ 5\DSCN6400.JPG"/>
          <p:cNvPicPr/>
          <p:nvPr/>
        </p:nvPicPr>
        <p:blipFill>
          <a:blip r:embed="rId1"/>
          <a:stretch/>
        </p:blipFill>
        <p:spPr>
          <a:xfrm>
            <a:off x="395280" y="1557360"/>
            <a:ext cx="4824360" cy="3311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C:\Users\1\Desktop\IMG_20170330_135815.jpg"/>
          <p:cNvPicPr/>
          <p:nvPr/>
        </p:nvPicPr>
        <p:blipFill>
          <a:blip r:embed="rId2"/>
          <a:stretch/>
        </p:blipFill>
        <p:spPr>
          <a:xfrm>
            <a:off x="4788000" y="3645000"/>
            <a:ext cx="435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Средние группы 5,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2" descr="C:\Users\1\Desktop\фото к стать ПДД МАДОУ 5\DSCN6410.JPG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C:\Users\1\Desktop\фото к стать ПДД МАДОУ 5\DSCN6417.JPG"/>
          <p:cNvPicPr/>
          <p:nvPr/>
        </p:nvPicPr>
        <p:blipFill>
          <a:blip r:embed="rId2"/>
          <a:stretch/>
        </p:blipFill>
        <p:spPr>
          <a:xfrm>
            <a:off x="4356000" y="3068640"/>
            <a:ext cx="43196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Старшие группы 3,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2" descr="C:\Users\1\Desktop\фото к стать ПДД МАДОУ 5\фото 2.JPG"/>
          <p:cNvPicPr/>
          <p:nvPr/>
        </p:nvPicPr>
        <p:blipFill>
          <a:blip r:embed="rId1"/>
          <a:stretch/>
        </p:blipFill>
        <p:spPr>
          <a:xfrm>
            <a:off x="324000" y="1413000"/>
            <a:ext cx="4248000" cy="39607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C:\Users\1\Desktop\фото к стать ПДД МАДОУ 5\DSCN6395.JPG"/>
          <p:cNvPicPr/>
          <p:nvPr/>
        </p:nvPicPr>
        <p:blipFill>
          <a:blip r:embed="rId2"/>
          <a:stretch/>
        </p:blipFill>
        <p:spPr>
          <a:xfrm>
            <a:off x="4427640" y="2852640"/>
            <a:ext cx="45068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одготовительные группы 7,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C:\Users\1\Desktop\фото к стать ПДД МАДОУ 5\фото 3.JPG"/>
          <p:cNvPicPr/>
          <p:nvPr/>
        </p:nvPicPr>
        <p:blipFill>
          <a:blip r:embed="rId1"/>
          <a:stretch/>
        </p:blipFill>
        <p:spPr>
          <a:xfrm>
            <a:off x="0" y="1197000"/>
            <a:ext cx="4680000" cy="3384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C:\Users\1\Desktop\фото к стать ПДД МАДОУ 5\DSCN6401.JPG"/>
          <p:cNvPicPr/>
          <p:nvPr/>
        </p:nvPicPr>
        <p:blipFill>
          <a:blip r:embed="rId2"/>
          <a:stretch/>
        </p:blipFill>
        <p:spPr>
          <a:xfrm>
            <a:off x="4284720" y="2924280"/>
            <a:ext cx="46083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Инспектор по пропаганде БДД ОМД РФ по Ленинградскому району капитан полиции </a:t>
            </a:r>
            <a:br>
              <a:rPr sz="4400"/>
            </a:b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Довбня Оксан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2" descr="http://nord-news.ru/img/newsimages/20160520/1_926fdb37e714.jpg"/>
          <p:cNvPicPr/>
          <p:nvPr/>
        </p:nvPicPr>
        <p:blipFill>
          <a:blip r:embed="rId1"/>
          <a:stretch/>
        </p:blipFill>
        <p:spPr>
          <a:xfrm>
            <a:off x="1476360" y="3068640"/>
            <a:ext cx="6191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Движение с уважением!</a:t>
            </a:r>
            <a:br>
              <a:rPr sz="4400"/>
            </a:b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данным Всемирной организации здравоохранения, использование в транспортных средствах детских удерживающих устройств позволяет снизить смертность среди младенцев на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71%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среди детей более старшего возраста н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45%.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2" descr="http://yanter.ru/sites/default/files/u8/avtokreslo.jpg"/>
          <p:cNvPicPr/>
          <p:nvPr/>
        </p:nvPicPr>
        <p:blipFill>
          <a:blip r:embed="rId1"/>
          <a:stretch/>
        </p:blipFill>
        <p:spPr>
          <a:xfrm>
            <a:off x="179280" y="407664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Нет автокресла – нет поездки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s://pampik.com/uploads/product/big/20150819/20150819_0xyV.jpg"/>
          <p:cNvPicPr/>
          <p:nvPr/>
        </p:nvPicPr>
        <p:blipFill>
          <a:blip r:embed="rId1"/>
          <a:stretch/>
        </p:blipFill>
        <p:spPr>
          <a:xfrm>
            <a:off x="179280" y="14842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s://pampik.com/uploads/product/big/20170106/20170106_7rbV.jpg"/>
          <p:cNvPicPr/>
          <p:nvPr/>
        </p:nvPicPr>
        <p:blipFill>
          <a:blip r:embed="rId2"/>
          <a:stretch/>
        </p:blipFill>
        <p:spPr>
          <a:xfrm>
            <a:off x="2843280" y="2852640"/>
            <a:ext cx="3024000" cy="309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www.ukrtecka.cz/uws/tools/pic_view.asp?file=/uws_images/eshop/63073630MC.jpg&amp;width=600&amp;height=900"/>
          <p:cNvPicPr/>
          <p:nvPr/>
        </p:nvPicPr>
        <p:blipFill>
          <a:blip r:embed="rId3"/>
          <a:stretch/>
        </p:blipFill>
        <p:spPr>
          <a:xfrm>
            <a:off x="5724360" y="1341360"/>
            <a:ext cx="3168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равила дорожного движения езде на велосипедах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- Детям до 14 лет ездить на велосипеде по дорогам и улицам запрещено! 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Дети до 14 лет имеют право управлять велосипедом только на пешеходных и жилых зонах, тротуарах, велосипедных и пешеходных дорожках.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- Не достигшие 14-летнего возраста могут выезжать на дорогу только в сопровождении взрослого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равила перевозки пассажиров на велосипед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39640" y="162864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сли водителю велосипеда не исполнилось 14 лет, ему нельзя перевозить пассажиров, которым не исполнилось 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олько если тебе исполнилось 14 лет , можно перевозить в качестве пассажира ребёнка возрастом до 7 лет на дополнительном сиденье с надёжными поднож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 велосипеда дол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ыть специальное пассажир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день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дножки для пассаж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4" descr="http://pavon.kz/cache/normal/media/img/gallery/source/2633/1435663074_photo_161410.jpg"/>
          <p:cNvPicPr/>
          <p:nvPr/>
        </p:nvPicPr>
        <p:blipFill>
          <a:blip r:embed="rId1"/>
          <a:stretch/>
        </p:blipFill>
        <p:spPr>
          <a:xfrm>
            <a:off x="6084720" y="4221000"/>
            <a:ext cx="289908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13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Статья 5.35 КоАП РФ 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«неисполнение родителями или иными законными представителями несовершеннолетних обязанностей по содержанию, воспитанию, обучению, защите прав и интересов  несовершеннолетних влечёт предупреждение или наложение административного штрафа от ста до пятисот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http://my.mosreg.ru/upload/iblock/786/816914_picture_30e3da8007476e04608bdaded298fa0049797367.jpg"/>
          <p:cNvPicPr/>
          <p:nvPr/>
        </p:nvPicPr>
        <p:blipFill>
          <a:blip r:embed="rId1"/>
          <a:stretch/>
        </p:blipFill>
        <p:spPr>
          <a:xfrm>
            <a:off x="4788000" y="3645000"/>
            <a:ext cx="3781440" cy="2849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http://tv29.ru/files/21531.jpg"/>
          <p:cNvPicPr/>
          <p:nvPr/>
        </p:nvPicPr>
        <p:blipFill>
          <a:blip r:embed="rId2"/>
          <a:stretch/>
        </p:blipFill>
        <p:spPr>
          <a:xfrm>
            <a:off x="324000" y="3645000"/>
            <a:ext cx="3744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Воспитание безопасного поведения на дор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ezhvakomi.ru/upload/iblock/000/16-22-011-2015/.thumbs/32df63ee32236308ccdfcf5b3d4ae032_500_0_0.jpg"/>
          <p:cNvPicPr/>
          <p:nvPr/>
        </p:nvPicPr>
        <p:blipFill>
          <a:blip r:embed="rId1"/>
          <a:stretch/>
        </p:blipFill>
        <p:spPr>
          <a:xfrm>
            <a:off x="1403280" y="1844640"/>
            <a:ext cx="676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20733000">
            <a:off x="134280" y="1414440"/>
            <a:ext cx="88246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54061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2" descr="http://daychel.ru/upload/iblock/3a6/3a68638313b41e68a152b5309b4db9ba.jpg"/>
          <p:cNvPicPr/>
          <p:nvPr/>
        </p:nvPicPr>
        <p:blipFill>
          <a:blip r:embed="rId1"/>
          <a:stretch/>
        </p:blipFill>
        <p:spPr>
          <a:xfrm>
            <a:off x="3348000" y="2708280"/>
            <a:ext cx="5796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Нет страшнее слов на свете – «На дорогах гибнут дети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s://im0-tub-ru.yandex.net/i?id=50984b3e88d7a4246d4cbc97f3aa5d30&amp;n=33&amp;h=215&amp;w=217"/>
          <p:cNvPicPr/>
          <p:nvPr/>
        </p:nvPicPr>
        <p:blipFill>
          <a:blip r:embed="rId1"/>
          <a:stretch/>
        </p:blipFill>
        <p:spPr>
          <a:xfrm>
            <a:off x="0" y="1700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s.auto.drom.ru/i24200/com/278/277024.jpeg"/>
          <p:cNvPicPr/>
          <p:nvPr/>
        </p:nvPicPr>
        <p:blipFill>
          <a:blip r:embed="rId2"/>
          <a:stretch/>
        </p:blipFill>
        <p:spPr>
          <a:xfrm>
            <a:off x="1258920" y="4292640"/>
            <a:ext cx="3241800" cy="23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school8.shr.edu.ru/images/plakat_2_preview.jpg"/>
          <p:cNvPicPr/>
          <p:nvPr/>
        </p:nvPicPr>
        <p:blipFill>
          <a:blip r:embed="rId3"/>
          <a:stretch/>
        </p:blipFill>
        <p:spPr>
          <a:xfrm>
            <a:off x="4284720" y="1773360"/>
            <a:ext cx="46800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Избежать опасностей можно лишь путём соответствующего воспитания и обучения ребёнка с самого раннего возрас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C:\Users\1\Downloads\Фото для отчёта по ПДД\DSCN5970.JPG"/>
          <p:cNvPicPr/>
          <p:nvPr/>
        </p:nvPicPr>
        <p:blipFill>
          <a:blip r:embed="rId1"/>
          <a:stretch/>
        </p:blipFill>
        <p:spPr>
          <a:xfrm>
            <a:off x="250920" y="2276640"/>
            <a:ext cx="273672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http://www.webkarapuz.ru/resize/100/341/w/uploads/section/4948288.jpg"/>
          <p:cNvPicPr/>
          <p:nvPr/>
        </p:nvPicPr>
        <p:blipFill>
          <a:blip r:embed="rId2"/>
          <a:stretch/>
        </p:blipFill>
        <p:spPr>
          <a:xfrm>
            <a:off x="3059280" y="3645000"/>
            <a:ext cx="2895480" cy="22651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C:\Users\1\Downloads\Фото для отчёта по ПДД\Дидактическая игра дорожные знаки.jpg"/>
          <p:cNvPicPr/>
          <p:nvPr/>
        </p:nvPicPr>
        <p:blipFill>
          <a:blip r:embed="rId3"/>
          <a:stretch/>
        </p:blipFill>
        <p:spPr>
          <a:xfrm>
            <a:off x="6012000" y="2421000"/>
            <a:ext cx="288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Культура поведения на дорогах, улицах, в общественном транспор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terraplan.ru/images/stories/journal10_2007/092-1.jpg"/>
          <p:cNvPicPr/>
          <p:nvPr/>
        </p:nvPicPr>
        <p:blipFill>
          <a:blip r:embed="rId1"/>
          <a:stretch/>
        </p:blipFill>
        <p:spPr>
          <a:xfrm>
            <a:off x="179280" y="1989000"/>
            <a:ext cx="3333960" cy="2219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http://110.caduk.ru/images/p155_02.jpg"/>
          <p:cNvPicPr/>
          <p:nvPr/>
        </p:nvPicPr>
        <p:blipFill>
          <a:blip r:embed="rId2"/>
          <a:stretch/>
        </p:blipFill>
        <p:spPr>
          <a:xfrm>
            <a:off x="1835280" y="4157640"/>
            <a:ext cx="3681360" cy="2700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ds3log.by/d/1236040/d/vezhlivost-k-starshim.jpg"/>
          <p:cNvPicPr/>
          <p:nvPr/>
        </p:nvPicPr>
        <p:blipFill>
          <a:blip r:embed="rId3"/>
          <a:stretch/>
        </p:blipFill>
        <p:spPr>
          <a:xfrm>
            <a:off x="5508720" y="2205000"/>
            <a:ext cx="34351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работы по ПД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МАДОУ № 5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ле 1"/>
          <p:cNvSpPr/>
          <p:nvPr/>
        </p:nvSpPr>
        <p:spPr>
          <a:xfrm>
            <a:off x="395280" y="1557360"/>
            <a:ext cx="3816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Журн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дения 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ы с воспитанниками и родите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профилактике дет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о-транспортного травмат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 группы № 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и: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т: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кончен: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раздники, развлечения, бес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E:\фото к стать ПДД МАДОУ 5\фото 6.JPG"/>
          <p:cNvPicPr/>
          <p:nvPr/>
        </p:nvPicPr>
        <p:blipFill>
          <a:blip r:embed="rId1"/>
          <a:stretch/>
        </p:blipFill>
        <p:spPr>
          <a:xfrm>
            <a:off x="395280" y="1916280"/>
            <a:ext cx="3672000" cy="30938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E:\Масленица, ДПС\1457738828353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90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Наглядная информация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E:\фото к стать ПДД МАДОУ 5\DSCN6393.JPG"/>
          <p:cNvPicPr/>
          <p:nvPr/>
        </p:nvPicPr>
        <p:blipFill>
          <a:blip r:embed="rId1"/>
          <a:stretch/>
        </p:blipFill>
        <p:spPr>
          <a:xfrm>
            <a:off x="250920" y="1700280"/>
            <a:ext cx="3459240" cy="25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E:\фото к стать ПДД МАДОУ 5\DSCN6414.JPG"/>
          <p:cNvPicPr/>
          <p:nvPr/>
        </p:nvPicPr>
        <p:blipFill>
          <a:blip r:embed="rId2"/>
          <a:stretch/>
        </p:blipFill>
        <p:spPr>
          <a:xfrm>
            <a:off x="1908000" y="3860640"/>
            <a:ext cx="3989520" cy="2818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E:\фото к стать ПДД МАДОУ 5\фото 1.JPG"/>
          <p:cNvPicPr/>
          <p:nvPr/>
        </p:nvPicPr>
        <p:blipFill>
          <a:blip r:embed="rId3"/>
          <a:stretch/>
        </p:blipFill>
        <p:spPr>
          <a:xfrm>
            <a:off x="5148360" y="1628640"/>
            <a:ext cx="365904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ервые младшие группы 1,2,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C:\Users\1\Desktop\фото к стать ПДД МАДОУ 5\DSCN6416.JPG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3024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C:\Users\1\Desktop\фото к стать ПДД МАДОУ 5\DSCN6389.JPG"/>
          <p:cNvPicPr/>
          <p:nvPr/>
        </p:nvPicPr>
        <p:blipFill>
          <a:blip r:embed="rId2"/>
          <a:stretch/>
        </p:blipFill>
        <p:spPr>
          <a:xfrm>
            <a:off x="3851280" y="3943440"/>
            <a:ext cx="3816360" cy="291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C:\Users\1\Desktop\фото к стать ПДД МАДОУ 5\DSCN6384.JPG"/>
          <p:cNvPicPr/>
          <p:nvPr/>
        </p:nvPicPr>
        <p:blipFill>
          <a:blip r:embed="rId3"/>
          <a:stretch/>
        </p:blipFill>
        <p:spPr>
          <a:xfrm>
            <a:off x="4572000" y="1268280"/>
            <a:ext cx="434196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1</cp:lastModifiedBy>
  <dcterms:modified xsi:type="dcterms:W3CDTF">2017-09-06T17:11:12Z</dcterms:modified>
  <cp:revision>59</cp:revision>
  <dc:subject/>
  <dc:title>Слайд 1</dc:title>
</cp:coreProperties>
</file>