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AA7-3405-46EC-B0D3-76D84AAB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F90-5567-4827-BD0D-C020C3EF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780-71FA-4577-89AB-FD25DE19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F36-8904-4E34-8B64-1D133CCD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1F8-F91C-4F77-96A1-4B7EC176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CA1-D147-45EF-A0FA-05401ED7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E7D-0B5D-4EEB-B6D1-A228F33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BC6-763E-492B-BE41-D3C9CC4D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CC8-FA78-49FA-89E8-0837C3F3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22A-0BEC-4CCB-9942-3AAB3346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D39-6521-4C71-B141-C732C7EE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220-5C36-4A1C-BA37-CD462DD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BC85-E9AC-4A09-9C5F-CCE26A881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29840" cy="70754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847800" y="876240"/>
            <a:ext cx="79786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cc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ремя года – ВЕ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есяц – М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День недели – ВТОРНИК</a:t>
            </a:r>
            <a:r>
              <a:rPr b="0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за братом, у него идей богато, он за все берется смело, и работа закипела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егодня 14 м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Занятие проходит на 3 этаже в кабинете психо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2073240" y="1476360"/>
            <a:ext cx="55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приятие чувства тяжести от разных предм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933480" y="1963800"/>
            <a:ext cx="773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тому что он давит вниз своим ве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177920" y="641520"/>
            <a:ext cx="708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ПОЧЕМУ МЫ ЧУВСТВУЕМ ТЯЖЕСТЬ ПРЕДМЕ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iвесы.jpg"/>
          <p:cNvPicPr/>
          <p:nvPr/>
        </p:nvPicPr>
        <p:blipFill>
          <a:blip r:embed="rId2"/>
          <a:stretch/>
        </p:blipFill>
        <p:spPr>
          <a:xfrm>
            <a:off x="2120760" y="2689200"/>
            <a:ext cx="53168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612720" y="1292400"/>
            <a:ext cx="8059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дицинс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Кухон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поль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Электрон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ха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77920" y="641520"/>
            <a:ext cx="70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Какие весы быв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9" descr="depositphotos_11186817-stock-illustration-shop-scales.jpg"/>
          <p:cNvPicPr/>
          <p:nvPr/>
        </p:nvPicPr>
        <p:blipFill>
          <a:blip r:embed="rId2"/>
          <a:stretch/>
        </p:blipFill>
        <p:spPr>
          <a:xfrm>
            <a:off x="3760920" y="1365120"/>
            <a:ext cx="2427120" cy="280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giri-dlya-detey-vesa-57935-large.jpg"/>
          <p:cNvPicPr/>
          <p:nvPr/>
        </p:nvPicPr>
        <p:blipFill>
          <a:blip r:embed="rId3"/>
          <a:stretch/>
        </p:blipFill>
        <p:spPr>
          <a:xfrm>
            <a:off x="6307200" y="1504800"/>
            <a:ext cx="2082600" cy="1544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1" descr="99i.jpg"/>
          <p:cNvPicPr/>
          <p:nvPr/>
        </p:nvPicPr>
        <p:blipFill>
          <a:blip r:embed="rId4"/>
          <a:stretch/>
        </p:blipFill>
        <p:spPr>
          <a:xfrm>
            <a:off x="6148440" y="3495600"/>
            <a:ext cx="2773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1177920" y="641520"/>
            <a:ext cx="70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Какие весы быв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7i.jpg"/>
          <p:cNvPicPr/>
          <p:nvPr/>
        </p:nvPicPr>
        <p:blipFill>
          <a:blip r:embed="rId2"/>
          <a:stretch/>
        </p:blipFill>
        <p:spPr>
          <a:xfrm>
            <a:off x="3279600" y="1316160"/>
            <a:ext cx="2173320" cy="1876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8i.jpg"/>
          <p:cNvPicPr/>
          <p:nvPr/>
        </p:nvPicPr>
        <p:blipFill>
          <a:blip r:embed="rId3"/>
          <a:stretch/>
        </p:blipFill>
        <p:spPr>
          <a:xfrm>
            <a:off x="465120" y="1673280"/>
            <a:ext cx="2524320" cy="3108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848639-700x700.jpeg"/>
          <p:cNvPicPr/>
          <p:nvPr/>
        </p:nvPicPr>
        <p:blipFill>
          <a:blip r:embed="rId4"/>
          <a:stretch/>
        </p:blipFill>
        <p:spPr>
          <a:xfrm>
            <a:off x="6251400" y="1309680"/>
            <a:ext cx="1913040" cy="1913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2364968.jpg"/>
          <p:cNvPicPr/>
          <p:nvPr/>
        </p:nvPicPr>
        <p:blipFill>
          <a:blip r:embed="rId5"/>
          <a:stretch/>
        </p:blipFill>
        <p:spPr>
          <a:xfrm>
            <a:off x="3476520" y="3432240"/>
            <a:ext cx="49626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773280" y="1765440"/>
            <a:ext cx="77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гантелю в руки взяли, Раз подняли, два подня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яжело, устали очень, Опустили на пол ср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ло легче, но решили Шар надуть мы, три-четы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ем раз-шар маловат, Дуем 3 раза под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 огромен, полетели, Но пора снижаться к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дух выпустил едва, Шарик стал как кож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046160" y="1017720"/>
            <a:ext cx="70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ОРА И ОТДОХ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687240" y="2120760"/>
            <a:ext cx="539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с помощью ладоней (лодочкой, на весу, движения вверх-вни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веса «на глазо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63520" y="744480"/>
            <a:ext cx="84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Еще способы измерения/сравнения веса предм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1-5908.jpg"/>
          <p:cNvPicPr/>
          <p:nvPr/>
        </p:nvPicPr>
        <p:blipFill>
          <a:blip r:embed="rId2"/>
          <a:stretch/>
        </p:blipFill>
        <p:spPr>
          <a:xfrm>
            <a:off x="1015920" y="4025880"/>
            <a:ext cx="2932200" cy="19512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88i.jpg"/>
          <p:cNvPicPr/>
          <p:nvPr/>
        </p:nvPicPr>
        <p:blipFill>
          <a:blip r:embed="rId3"/>
          <a:stretch/>
        </p:blipFill>
        <p:spPr>
          <a:xfrm>
            <a:off x="6786720" y="4186080"/>
            <a:ext cx="1622160" cy="135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888i.jpg"/>
          <p:cNvPicPr/>
          <p:nvPr/>
        </p:nvPicPr>
        <p:blipFill>
          <a:blip r:embed="rId4"/>
          <a:stretch/>
        </p:blipFill>
        <p:spPr>
          <a:xfrm>
            <a:off x="5757840" y="2013120"/>
            <a:ext cx="30970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263520" y="744480"/>
            <a:ext cx="84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Еще способы измерения/сравнения веса предм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5" descr="2i.jpg"/>
          <p:cNvPicPr/>
          <p:nvPr/>
        </p:nvPicPr>
        <p:blipFill>
          <a:blip r:embed="rId2"/>
          <a:stretch/>
        </p:blipFill>
        <p:spPr>
          <a:xfrm>
            <a:off x="909720" y="2050920"/>
            <a:ext cx="3406680" cy="3407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3i.jpg"/>
          <p:cNvPicPr/>
          <p:nvPr/>
        </p:nvPicPr>
        <p:blipFill>
          <a:blip r:embed="rId3"/>
          <a:stretch/>
        </p:blipFill>
        <p:spPr>
          <a:xfrm>
            <a:off x="4716360" y="1857240"/>
            <a:ext cx="380052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концовка.jpg"/>
          <p:cNvPicPr/>
          <p:nvPr/>
        </p:nvPicPr>
        <p:blipFill>
          <a:blip r:embed="rId2"/>
          <a:stretch/>
        </p:blipFill>
        <p:spPr>
          <a:xfrm>
            <a:off x="825480" y="1488960"/>
            <a:ext cx="75214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Gamer</cp:lastModifiedBy>
  <dcterms:modified xsi:type="dcterms:W3CDTF">2017-03-14T06:20:03Z</dcterms:modified>
  <cp:revision>48</cp:revision>
  <dc:subject/>
  <dc:title>Презентация PowerPoint</dc:title>
</cp:coreProperties>
</file>