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6DB8-F6D4-4D58-A6E1-8E81C377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A81-C0AD-4564-A689-7F13E80C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3DE-A254-47BC-A519-7B3494CD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4E1-A98D-4D8E-B77A-01A6DB3D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356-1089-4C95-BCFC-A123CA2E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6A1-29B2-47BE-BA36-2F0D7200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FA1E-8D2B-4191-AC58-6F696C71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4EF-073B-47E4-94A9-7DB0F50A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8A1C-4B67-45C5-9D02-BA28B56D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ADB-34E0-4078-8B1C-B6090700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80B-5691-48F3-8A40-6700121F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D5C-1F7F-47B5-A1EC-52ADCF98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8EA8-8552-4205-9EEA-71C259DA38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47762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Проект по теме:</a:t>
            </a:r>
            <a:br>
              <a:rPr sz="4800"/>
            </a:b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«Чай, чай, выручай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844640"/>
            <a:ext cx="640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й – напиток здоров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1290974211_s1_66041_16"/>
          <p:cNvPicPr/>
          <p:nvPr/>
        </p:nvPicPr>
        <p:blipFill>
          <a:blip r:embed="rId1"/>
          <a:stretch/>
        </p:blipFill>
        <p:spPr>
          <a:xfrm>
            <a:off x="1187280" y="2421000"/>
            <a:ext cx="6840720" cy="410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ды ч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висимости от способа обработки листа различают ч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ё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лё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695737811"/>
          <p:cNvPicPr/>
          <p:nvPr/>
        </p:nvPicPr>
        <p:blipFill>
          <a:blip r:embed="rId1"/>
          <a:stretch/>
        </p:blipFill>
        <p:spPr>
          <a:xfrm>
            <a:off x="3132000" y="2276640"/>
            <a:ext cx="5256360" cy="36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диаграмма1"/>
          <p:cNvPicPr/>
          <p:nvPr/>
        </p:nvPicPr>
        <p:blipFill>
          <a:blip r:embed="rId1"/>
          <a:stretch/>
        </p:blipFill>
        <p:spPr>
          <a:xfrm>
            <a:off x="-95400" y="-95400"/>
            <a:ext cx="9334800" cy="704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диаграмма2"/>
          <p:cNvPicPr/>
          <p:nvPr/>
        </p:nvPicPr>
        <p:blipFill>
          <a:blip r:embed="rId1"/>
          <a:stretch/>
        </p:blipFill>
        <p:spPr>
          <a:xfrm>
            <a:off x="-541440" y="0"/>
            <a:ext cx="9867960" cy="698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Состав ча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убильные вещества, алкалоиды, эфирные масла, придающие чаю аромат, и витам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же такое дубильные вещества? Это катехины и чайный танин, которые придают чаю терпкий, вяжущий, горьковатый вкус. В состав чая входит от 8 до 30 %  танина; чем его больше, тем лучше качество ч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ым алкалоидом чая является кофеин, или как ещё его называют в составе чая – теин. Кофеин – один из главных виновников тяги людей к чаю, как тонизирующему напитку. Он, действительно бодрит и поднимает жизненный тонус. Чайный кофеин действует мягче, чем чистый кофейный кофеин, и он не задерживается, не накапливается в организме человека, что исключает опасность отравления даже при самом частом употреблении ч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Какие же витамины содержит в себе чай? Множество разных: это и витамин А, и витамины группы В, витамин С, Р, К, а также цинк, кальций и фолиевую кисло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Чем полезен чай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шка чая не только помогает согреться в холодное время года, но и предупреждает развитие некоторых заболеваний. Благодаря витамину С чай повышает иммунитет и защищает нас от вирусов и бакте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ы группы В помогают нашей нервной системе работать без сбоев, а также придают здоровый цвет нашей коже, охраняют волосы от выпа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Р укрепляет стенки кровеносных сосудов, витамин К участвует в процессах свёртывания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А, содержащийся в чайном напитке, очень важен для нашего зрения. Крепкий чай можно давать в качестве первой помощи при отравлениях. Компрессы из крепкого чая снимают боль и воспаление кожи при солнечных ожог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леный чай принимают при лечении дизентерии, при повышенной проницаемости и ломкости капилляров. В небольших дозах зеленый чай полезен при атеросклерозе. Зелёный чай помогает похудеть. Поэтому желающим избавиться от парочки лишних килограммов, можно попроб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й «Каркаде» имеет в своем составе практически все витамины в полезных для человеческого организма количест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й стабилизирует кровяное д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ет спазмолитическим и мочегонным действ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учшает выработку желчи и защищает печень от вредных воз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ое потребление чая снижает риск возникновения онкологических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й – источник фтора, а значит он укрепляет зубную эмаль. Поэтому можно чаем полоскать рот. При этом надо помнить, что в зелёном чае намного больше ф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йте чай с удовольствием и берегите своё здоровь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500"/>
                            </p:stCondLst>
                            <p:childTnLst>
                              <p:par>
                                <p:cTn id="27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итайский спосо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70197776_0"/>
          <p:cNvPicPr/>
          <p:nvPr/>
        </p:nvPicPr>
        <p:blipFill>
          <a:blip r:embed="rId1"/>
          <a:stretch/>
        </p:blipFill>
        <p:spPr>
          <a:xfrm>
            <a:off x="539640" y="1341360"/>
            <a:ext cx="7993080" cy="518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Английский спосо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47"/>
          <p:cNvPicPr/>
          <p:nvPr/>
        </p:nvPicPr>
        <p:blipFill>
          <a:blip r:embed="rId1"/>
          <a:stretch/>
        </p:blipFill>
        <p:spPr>
          <a:xfrm>
            <a:off x="539640" y="1386000"/>
            <a:ext cx="8064720" cy="49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Японский спосо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836ac21133a"/>
          <p:cNvPicPr/>
          <p:nvPr/>
        </p:nvPicPr>
        <p:blipFill>
          <a:blip r:embed="rId1"/>
          <a:stretch/>
        </p:blipFill>
        <p:spPr>
          <a:xfrm>
            <a:off x="539640" y="1509840"/>
            <a:ext cx="7993080" cy="458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Что такое ча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й – род тропических вечнозелёных многолетни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два вида ч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й китайский (кустарник высотой до 3 метр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й индийский (дерево высотой до 10-15 метров, растущий в лесах Инди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йный куст неприхотлив. Он выносит и жару и снег. Может жить до 100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5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0095pt6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Пословицы о ча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97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ей чайку — забудешь тос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й не пьешь - откуда силу возьмеш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й не пить, так на свете не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чаем не скучаем — по семь чашек выпива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вар кипит, уходить не вел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й крепче, если он с добрым другом раздел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ем на Руси никто не подавился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7000"/>
                            </p:stCondLst>
                            <p:childTnLst>
                              <p:par>
                                <p:cTn id="3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А знаете ли вы, ч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еке на Руси мужчин, торговавших чаем, называли «чайниками», а женщин – «чайницами», по аналогии с рыбаками и грибн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Documents and Settings\Admin\Рабочий стол\Идём все пить чай.jpg"/>
          <p:cNvPicPr/>
          <p:nvPr/>
        </p:nvPicPr>
        <p:blipFill>
          <a:blip r:embed="rId1"/>
          <a:stretch/>
        </p:blipFill>
        <p:spPr>
          <a:xfrm>
            <a:off x="3348000" y="3573360"/>
            <a:ext cx="5300640" cy="308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Admin\Рабочий стол\калмычка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522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А знаете ли вы, ч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как в Калмык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сная вода явля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им дефици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чай там приня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рить на верблюжь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кобыльем мол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500"/>
                            </p:stCondLst>
                            <p:childTnLst>
                              <p:par>
                                <p:cTn id="4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А знаете ли вы, ч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анхае существ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титут чая, где кажд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д на экзамен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тай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уденты показыв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ё мастерство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ариванию чая. А так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ют экспертную оцен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хому чайному листу.</a:t>
            </a:r>
            <a:r>
              <a:rPr b="0" lang="ru-RU" sz="3200" spc="-1" strike="noStrike">
                <a:solidFill>
                  <a:srgbClr val="852f7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Admin\Рабочий стол\шанхай.jpg"/>
          <p:cNvPicPr/>
          <p:nvPr/>
        </p:nvPicPr>
        <p:blipFill>
          <a:blip r:embed="rId1"/>
          <a:stretch/>
        </p:blipFill>
        <p:spPr>
          <a:xfrm>
            <a:off x="4932360" y="1773360"/>
            <a:ext cx="4211640" cy="458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500"/>
                            </p:stCondLst>
                            <p:childTnLst>
                              <p:par>
                                <p:cTn id="4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500"/>
                            </p:stCondLst>
                            <p:childTnLst>
                              <p:par>
                                <p:cTn id="4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А знаете ли вы, ч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тербургских тракти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й  подавали в чашк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не которых было изоб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нштадского  соб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если какому – то купц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вали плохо заваренный ч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он крича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у и чай – Кронштадт видно!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Documents and Settings\Admin\Рабочий стол\чай - источник кофеина.jpg"/>
          <p:cNvPicPr/>
          <p:nvPr/>
        </p:nvPicPr>
        <p:blipFill>
          <a:blip r:embed="rId1"/>
          <a:stretch/>
        </p:blipFill>
        <p:spPr>
          <a:xfrm>
            <a:off x="5508720" y="1413000"/>
            <a:ext cx="3456000" cy="47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500"/>
                            </p:stCondLst>
                            <p:childTnLst>
                              <p:par>
                                <p:cTn id="5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large"/>
          <p:cNvPicPr/>
          <p:nvPr/>
        </p:nvPicPr>
        <p:blipFill>
          <a:blip r:embed="rId1"/>
          <a:stretch/>
        </p:blipFill>
        <p:spPr>
          <a:xfrm>
            <a:off x="762120" y="1341360"/>
            <a:ext cx="7619760" cy="518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Родина чая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ит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all"/>
          <p:cNvPicPr/>
          <p:nvPr/>
        </p:nvPicPr>
        <p:blipFill>
          <a:blip r:embed="rId1"/>
          <a:stretch/>
        </p:blipFill>
        <p:spPr>
          <a:xfrm>
            <a:off x="539640" y="981000"/>
            <a:ext cx="8136000" cy="547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tk_sob_large_100_07_10_10_03_01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95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7900850_444800600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Что означает слово «чай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7705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й называем по-разному 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зависит от части стра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-то он «цха», а в другом месте «ть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ще всего называем мы «ч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вод с китайского прост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Ча» означает листок молодой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800px-Çay-1"/>
          <p:cNvPicPr/>
          <p:nvPr/>
        </p:nvPicPr>
        <p:blipFill>
          <a:blip r:embed="rId1"/>
          <a:stretch/>
        </p:blipFill>
        <p:spPr>
          <a:xfrm>
            <a:off x="1835280" y="2565360"/>
            <a:ext cx="4752720" cy="336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green"/>
          <p:cNvPicPr/>
          <p:nvPr/>
        </p:nvPicPr>
        <p:blipFill>
          <a:blip r:embed="rId1"/>
          <a:stretch/>
        </p:blipFill>
        <p:spPr>
          <a:xfrm>
            <a:off x="539640" y="333360"/>
            <a:ext cx="8136000" cy="590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52697031_zel_chai_31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90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ap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3:38:36Z</dcterms:created>
  <dc:creator>Customer</dc:creator>
  <dc:description/>
  <dc:language>en-US</dc:language>
  <cp:lastModifiedBy>Asus</cp:lastModifiedBy>
  <dcterms:modified xsi:type="dcterms:W3CDTF">2017-09-06T18:34:23Z</dcterms:modified>
  <cp:revision>41</cp:revision>
  <dc:subject/>
  <dc:title>Проект по теме: «Чай, чай, выручай!»</dc:title>
</cp:coreProperties>
</file>