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5416-5E54-46DB-AA60-DD5ED1B4DE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E178-8CF1-4251-B80F-11DD27D545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28F-9621-47C1-BB58-D6E69017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49E-98A2-455B-8D7D-3C646BBD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AF0-E360-4175-96E4-D359A8F3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EBE-07B3-499C-973B-9220CB60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CFFD-FEAC-4D82-9210-CACFA120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6FCB-0A87-41AC-8F32-C90328EF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09CD-2019-4BE5-901D-AB07DF63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228C-6FDF-4D47-AD5C-03671AFA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BF1D-64F2-4D69-B6DF-7DBFE75D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EB40-D104-4F2F-845B-27909425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2F72-DEB0-4FF2-9BE0-BD31F50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E74-1ADA-4143-8D0C-AFCA229C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B3F2-FD97-44F1-8CC4-70061EA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3719-B928-4753-B911-839B647B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D7EA-C36C-444C-97A2-7C15EDFB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0CDB-F45E-4630-84A9-264EC962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BD91-5BE0-4211-B8C6-938BB3E6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076-5FFC-4732-B25D-76AC211E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252-E22D-421A-98E3-C2414AC3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8F9-8CEB-4EB0-982A-66B643A5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01D-BEE4-469A-80D4-530EFC5A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3C3-8827-430D-9B46-3E644F3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917-0A59-4B27-A071-9F37B4C1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8BB-2C8E-4C15-8A16-09B195E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92CD-C619-4F8F-9BE6-0909F65570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7391-B853-4314-9E9A-AE7F058376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Пережогина Юлия Анатольевна</a:t>
            </a:r>
            <a:br>
              <a:rPr sz="5400"/>
            </a:br>
            <a:r>
              <a:rPr b="1" lang="ru-RU" sz="4000" spc="-1" strike="noStrike">
                <a:solidFill>
                  <a:srgbClr val="ff6600"/>
                </a:solidFill>
                <a:latin typeface="Monotype Corsiva"/>
              </a:rPr>
              <a:t>«Развитие творческого воображения и его роль в передаче выразительности образа при создании общих  композиций из природного материала</a:t>
            </a:r>
            <a:r>
              <a:rPr b="1" lang="ru-RU" sz="4400" spc="-1" strike="noStrike">
                <a:solidFill>
                  <a:srgbClr val="ff6600"/>
                </a:solidFill>
                <a:latin typeface="Monotype Corsiva"/>
              </a:rPr>
              <a:t>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403848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Базовая модел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обобщённог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педагогического опыт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4" descr="00043671"/>
          <p:cNvPicPr/>
          <p:nvPr/>
        </p:nvPicPr>
        <p:blipFill>
          <a:blip r:embed="rId1"/>
          <a:stretch/>
        </p:blipFill>
        <p:spPr>
          <a:xfrm>
            <a:off x="5148360" y="3573360"/>
            <a:ext cx="2952720" cy="2880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9900"/>
                </a:solidFill>
                <a:uFillTx/>
                <a:latin typeface="Monotype Corsiva"/>
              </a:rPr>
              <a:t>Сведения об авторе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5" descr="F:\ФОТО\100_6453-2.jpg"/>
          <p:cNvPicPr/>
          <p:nvPr/>
        </p:nvPicPr>
        <p:blipFill>
          <a:blip r:embed="rId1"/>
          <a:stretch/>
        </p:blipFill>
        <p:spPr>
          <a:xfrm>
            <a:off x="6143760" y="500040"/>
            <a:ext cx="2412720" cy="30114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2" name=""/>
          <p:cNvSpPr txBox="1"/>
          <p:nvPr/>
        </p:nvSpPr>
        <p:spPr>
          <a:xfrm>
            <a:off x="357120" y="30718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Воспитатель МБОУ ЦО № 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(дошкольное отделени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Образование –</a:t>
            </a: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высшее. Окончила Тульский государственный педагогический университет им. Л.Н.Толстого, 23 октября 2007г., диплом № ВСГ16074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Специальность – дошкольная педагогика и психолог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Высшая квалификационная катего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Последняя дата аттестации  – 28.11.2012 год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Педагогический стаж работы –  18 лет, с 1.11.1999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42680" y="356760"/>
            <a:ext cx="53578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УСЛОВИЯ </a:t>
            </a:r>
            <a:br>
              <a:rPr sz="4400"/>
            </a:b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ВОЗНИКНОВЕНИЯ</a:t>
            </a:r>
            <a:br>
              <a:rPr sz="4400"/>
            </a:b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ОПЫТ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5786280" y="3786120"/>
            <a:ext cx="307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Times New Roman"/>
              </a:rPr>
              <a:t>Создание условий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Times New Roman"/>
              </a:rPr>
              <a:t>для развития художественного творчества, активизирующие самостоятельное изобразительное творчество детей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 flipV="1">
            <a:off x="1428840" y="2785680"/>
            <a:ext cx="1871640" cy="108108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5715000" y="2786040"/>
            <a:ext cx="2087640" cy="115272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42920" y="4071960"/>
            <a:ext cx="32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Ручной труд является важнейшим средством активизации процесса развития художественного твор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1714680" cy="2500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7143840" y="357120"/>
            <a:ext cx="1820880" cy="25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3571920" y="500076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571680" y="285840"/>
            <a:ext cx="778644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Monotype Corsiva"/>
              </a:rPr>
              <a:t>Актуальность темы:</a:t>
            </a:r>
            <a:br>
              <a:rPr sz="3200"/>
            </a:br>
            <a:r>
              <a:rPr b="1" lang="ru-RU" sz="20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Гуманизация образования, как одна из задач современного образования предполагает сосредоточение усилий на развитии каждого ребенка как творческой индивидуальности,  неповторимости личности. Особое значение в этом процессе имеет развитие художественного творчества, определяющее возможность проявления и полноту раскрытия творческих способностей детей в различных видах художественной деятельности.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Вместе с тем, приходится констатировать, что в педагогической литературе рассматривались лишь отдельные аспекты развития художественного творчества дошкольников в процессе трудовой деятельности. Исследований, посвящённых вопросам создания условий для развития художественного творчества детей дошкольного возраста через трудовое обучение, до настоящего времени не проводилось. Именно поэтому в практике работы дошкольных учреждений организация данного вида деятельности затрудне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680" y="-35748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Monotype Corsiva"/>
              </a:rPr>
              <a:t>                </a:t>
            </a:r>
            <a:br>
              <a:rPr sz="4800"/>
            </a:br>
            <a:r>
              <a:rPr b="1" lang="ru-RU" sz="2800" spc="-1" strike="noStrike" u="sng">
                <a:solidFill>
                  <a:srgbClr val="ff9900"/>
                </a:solidFill>
                <a:uFillTx/>
                <a:latin typeface="Monotype Corsiva"/>
              </a:rPr>
              <a:t> </a:t>
            </a: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Цель </a:t>
            </a:r>
            <a:r>
              <a:rPr b="1" lang="ru-RU" sz="4400" spc="-1" strike="noStrike">
                <a:solidFill>
                  <a:srgbClr val="ff9900"/>
                </a:solidFill>
                <a:latin typeface="Monotype Corsiva"/>
              </a:rPr>
              <a:t>–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творческого воображения у детей в работе при создании поделок и композиций из природного материала. </a:t>
            </a:r>
            <a:br>
              <a:rPr sz="4800"/>
            </a:b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Задачи :</a:t>
            </a:r>
            <a:br>
              <a:rPr sz="48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Развивать продуктивную (конструктивную) деятельность детей при работе с природным материалом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накомить с разновидностями и свойствами природного материала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чить использовать для закрепления частей клей, пластилин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общать детей к изготовлению поделок из природного материала: коры, веток, листьев, каштанов, желудей, ореховой скорлупы и др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вать интерес к работе с природным материалом.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спитывать любовь к природе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7429680" y="1214280"/>
            <a:ext cx="1238040" cy="12099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285840" y="285840"/>
            <a:ext cx="835812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9900"/>
                </a:solidFill>
                <a:uFillTx/>
                <a:latin typeface="Monotype Corsiva"/>
              </a:rPr>
              <a:t>Ведущая педагогическая идея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Художественный труд  дошкольников позволяет развивать их творчество при следующих условиях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в процессе наблюдений за объектами природы стимулируется образное восприятие растительного мира (цвет, пропорции, пластичность форм и др.);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осуществляется при поэтапном обучении данному виду труда: от эстетического восприятия - через исполнительство - к художественному творчеству;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 создание в уголке изобразительной деятельности развивающей среды, активизирующая самостоятельное изобразительное творчество де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2"/>
          <p:cNvSpPr/>
          <p:nvPr/>
        </p:nvSpPr>
        <p:spPr>
          <a:xfrm>
            <a:off x="214200" y="642960"/>
            <a:ext cx="85010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Monotype Corsiva"/>
              </a:rPr>
              <a:t>Оснащение  по опыту  работ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Monotype Corsiva"/>
              </a:rPr>
              <a:t>подобраны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- методическая литерату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- материалы для консультаций родителей и педагог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- конспекты НО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- иллюстрации и фотографии с изображением поделок из природного материала, творческие поделки взрослых и детей из различного природного материала, природный материал, изобразительные средства и технологические таблицы с поэтапным изображением различных поделок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06:11Z</dcterms:created>
  <dc:creator>Аля</dc:creator>
  <dc:description/>
  <dc:language>en-US</dc:language>
  <cp:lastModifiedBy>RuVarez User</cp:lastModifiedBy>
  <dcterms:modified xsi:type="dcterms:W3CDTF">2017-09-06T17:55:01Z</dcterms:modified>
  <cp:revision>152</cp:revision>
  <dc:subject/>
  <dc:title>Дипломная работа на тему: Развитие художественного творчества старших дошкольников посредством ручного труда (на примере конструирования из природного материала)</dc:title>
</cp:coreProperties>
</file>