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5AFF-89C1-46A0-83D4-09508E0E82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7E30-E110-41A6-BCEC-789CB41D3C4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CB98-7656-49F7-9F34-2926671ED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2827-FB69-483E-A612-3776D3DA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AA50-05FC-4EF8-87A1-BF21489A1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8632-27B6-431D-B444-3748473A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DF76-6EC2-4DD6-A404-B8602E11D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A216-B88F-4A86-AD3C-A7684FC5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EE23-5A45-4512-898A-99FE1D18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481F-0651-4C01-8B73-6FB28A21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8DEE-2BC0-4F4F-94D2-4EC0517F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CC97-6CCC-4506-8F47-F8122F91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B775-7695-428C-BCC0-BDFEBD2A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8131-080D-433C-95FD-4617FBE1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995E-B1B3-41DD-9BD8-DBC3FB97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494D-21A1-4B04-9AD8-C248BDD4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B39E-CD69-4197-8A24-0B3691FE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2AF5-DB50-4FA3-AFB1-4A344F0FC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7524-FF8A-45DE-B1DF-DFAE09D95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E4F2-716F-4195-83C0-8CC5AB81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6AD7-D940-46AF-A06E-6385C178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4358-6F50-486A-B403-25A53F9B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BDAF-30E6-4835-B64B-FA8D4609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CC43-97DA-4292-8385-1C7EABEA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8738-D9EA-4262-AE24-57DB25B5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A81E-063A-4CC5-90F7-385386AE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4132-A893-4423-8121-9DBD7BEE2E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D2AE-9303-4C38-970E-DE73B6F7656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32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Monotype Corsiva"/>
              </a:rPr>
              <a:t>Пережогина Юлия Анатольевна</a:t>
            </a:r>
            <a:br>
              <a:rPr sz="5400"/>
            </a:br>
            <a:r>
              <a:rPr b="1" lang="ru-RU" sz="4000" spc="-1" strike="noStrike">
                <a:solidFill>
                  <a:srgbClr val="ff6600"/>
                </a:solidFill>
                <a:latin typeface="Monotype Corsiva"/>
              </a:rPr>
              <a:t>«Развитие творческого воображения и его роль в передаче выразительности образа при создании общих  композиций из природного материала</a:t>
            </a:r>
            <a:r>
              <a:rPr b="1" lang="ru-RU" sz="4400" spc="-1" strike="noStrike">
                <a:solidFill>
                  <a:srgbClr val="ff6600"/>
                </a:solidFill>
                <a:latin typeface="Monotype Corsiva"/>
              </a:rPr>
              <a:t>»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3933360"/>
            <a:ext cx="4038480" cy="21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Monotype Corsiva"/>
              </a:rPr>
              <a:t>Базовая модель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Monotype Corsiva"/>
              </a:rPr>
              <a:t>обобщённого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Monotype Corsiva"/>
              </a:rPr>
              <a:t>педагогического опыт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14" descr="00043671"/>
          <p:cNvPicPr/>
          <p:nvPr/>
        </p:nvPicPr>
        <p:blipFill>
          <a:blip r:embed="rId1"/>
          <a:stretch/>
        </p:blipFill>
        <p:spPr>
          <a:xfrm>
            <a:off x="5148360" y="3573360"/>
            <a:ext cx="2952720" cy="288000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ru-RU" sz="4800" spc="-1" strike="noStrike" u="sng">
                <a:solidFill>
                  <a:srgbClr val="ff9900"/>
                </a:solidFill>
                <a:uFillTx/>
                <a:latin typeface="Monotype Corsiva"/>
              </a:rPr>
              <a:t>Сведения об авторе</a:t>
            </a:r>
            <a:br>
              <a:rPr sz="4000"/>
            </a:br>
            <a:r>
              <a:rPr b="1" lang="ru-RU" sz="40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Picture 5" descr="F:\ФОТО\100_6453-2.jpg"/>
          <p:cNvPicPr/>
          <p:nvPr/>
        </p:nvPicPr>
        <p:blipFill>
          <a:blip r:embed="rId1"/>
          <a:stretch/>
        </p:blipFill>
        <p:spPr>
          <a:xfrm>
            <a:off x="6143760" y="500040"/>
            <a:ext cx="2412720" cy="3011400"/>
          </a:xfrm>
          <a:prstGeom prst="rect">
            <a:avLst/>
          </a:prstGeom>
          <a:ln w="9360">
            <a:solidFill>
              <a:srgbClr val="ff66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32" name=""/>
          <p:cNvSpPr txBox="1"/>
          <p:nvPr/>
        </p:nvSpPr>
        <p:spPr>
          <a:xfrm>
            <a:off x="357120" y="307188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Comic Sans MS"/>
              </a:rPr>
              <a:t>Воспитатель МБОУ ЦО № 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Comic Sans MS"/>
              </a:rPr>
              <a:t>(дошкольное отделение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Comic Sans MS"/>
              </a:rPr>
              <a:t>Образование –</a:t>
            </a:r>
            <a:r>
              <a:rPr b="1" lang="en-US" sz="2000" spc="-1" strike="noStrike">
                <a:solidFill>
                  <a:srgbClr val="ffc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ffc000"/>
                </a:solidFill>
                <a:latin typeface="Comic Sans MS"/>
              </a:rPr>
              <a:t>высшее. Окончила Тульский государственный педагогический университет им. Л.Н.Толстого, 23 октября 2007г., диплом № ВСГ160741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Comic Sans MS"/>
              </a:rPr>
              <a:t>Специальность – дошкольная педагогика и психолог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Comic Sans MS"/>
              </a:rPr>
              <a:t>Высшая квалификационная категор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Comic Sans MS"/>
              </a:rPr>
              <a:t>Последняя дата аттестации  – 28.11.2012 год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Comic Sans MS"/>
              </a:rPr>
              <a:t>Педагогический стаж работы –  18 лет, с 1.11.1999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42680" y="356760"/>
            <a:ext cx="535788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1" lang="ru-RU" sz="4400" spc="-1" strike="noStrike" u="sng">
                <a:solidFill>
                  <a:srgbClr val="ff9900"/>
                </a:solidFill>
                <a:uFillTx/>
                <a:latin typeface="Monotype Corsiva"/>
              </a:rPr>
              <a:t>УСЛОВИЯ </a:t>
            </a:r>
            <a:br>
              <a:rPr sz="4400"/>
            </a:br>
            <a:r>
              <a:rPr b="1" lang="ru-RU" sz="4400" spc="-1" strike="noStrike" u="sng">
                <a:solidFill>
                  <a:srgbClr val="ff9900"/>
                </a:solidFill>
                <a:uFillTx/>
                <a:latin typeface="Monotype Corsiva"/>
              </a:rPr>
              <a:t>ВОЗНИКНОВЕНИЯ</a:t>
            </a:r>
            <a:br>
              <a:rPr sz="4400"/>
            </a:br>
            <a:r>
              <a:rPr b="1" lang="ru-RU" sz="4400" spc="-1" strike="noStrike" u="sng">
                <a:solidFill>
                  <a:srgbClr val="ff9900"/>
                </a:solidFill>
                <a:uFillTx/>
                <a:latin typeface="Monotype Corsiva"/>
              </a:rPr>
              <a:t>ОПЫТА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Прямоугольник 3"/>
          <p:cNvSpPr/>
          <p:nvPr/>
        </p:nvSpPr>
        <p:spPr>
          <a:xfrm>
            <a:off x="5786280" y="3786120"/>
            <a:ext cx="3071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00"/>
                </a:solidFill>
                <a:latin typeface="Times New Roman"/>
              </a:rPr>
              <a:t>Создание условий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00"/>
                </a:solidFill>
                <a:latin typeface="Times New Roman"/>
              </a:rPr>
              <a:t>для развития художественного творчества, активизирующие самостоятельное изобразительное творчество детей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18"/>
          <p:cNvSpPr/>
          <p:nvPr/>
        </p:nvSpPr>
        <p:spPr>
          <a:xfrm flipV="1">
            <a:off x="1428840" y="2785680"/>
            <a:ext cx="1871640" cy="108108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19"/>
          <p:cNvSpPr/>
          <p:nvPr/>
        </p:nvSpPr>
        <p:spPr>
          <a:xfrm>
            <a:off x="5715000" y="2786040"/>
            <a:ext cx="2087640" cy="115272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Прямоугольник 9"/>
          <p:cNvSpPr/>
          <p:nvPr/>
        </p:nvSpPr>
        <p:spPr>
          <a:xfrm>
            <a:off x="142920" y="4071960"/>
            <a:ext cx="32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Ручной труд является важнейшим средством активизации процесса развития художественного творче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214200" y="357120"/>
            <a:ext cx="1714680" cy="2500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7143840" y="357120"/>
            <a:ext cx="1820880" cy="2557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3"/>
          <a:stretch/>
        </p:blipFill>
        <p:spPr>
          <a:xfrm>
            <a:off x="3571920" y="5000760"/>
            <a:ext cx="2286000" cy="152388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2"/>
          <p:cNvSpPr/>
          <p:nvPr/>
        </p:nvSpPr>
        <p:spPr>
          <a:xfrm>
            <a:off x="571680" y="285840"/>
            <a:ext cx="7786440" cy="60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9900"/>
                </a:solidFill>
                <a:uFillTx/>
                <a:latin typeface="Monotype Corsiva"/>
              </a:rPr>
              <a:t>Актуальность темы:</a:t>
            </a:r>
            <a:br>
              <a:rPr sz="3200"/>
            </a:br>
            <a:r>
              <a:rPr b="1" lang="ru-RU" sz="2000" spc="-1" strike="noStrike">
                <a:solidFill>
                  <a:srgbClr val="ff66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Гуманизация образования, как одна из задач современного образования предполагает сосредоточение усилий на развитии каждого ребенка как творческой индивидуальности,  неповторимости личности. Особое значение в этом процессе имеет развитие художественного творчества, определяющее возможность проявления и полноту раскрытия творческих способностей детей в различных видах художественной деятельности.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       Вместе с тем, приходится констатировать, что в педагогической литературе рассматривались лишь отдельные аспекты развития художественного творчества дошкольников в процессе трудовой деятельности. Исследований, посвящённых вопросам создания условий для развития художественного творчества детей дошкольного возраста через трудовое обучение, до настоящего времени не проводилось. Именно поэтому в практике работы дошкольных учреждений организация данного вида деятельности затруднен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1680" y="-357480"/>
            <a:ext cx="8229600" cy="631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Monotype Corsiva"/>
              </a:rPr>
              <a:t>                </a:t>
            </a:r>
            <a:br>
              <a:rPr sz="4800"/>
            </a:br>
            <a:r>
              <a:rPr b="1" lang="ru-RU" sz="2800" spc="-1" strike="noStrike" u="sng">
                <a:solidFill>
                  <a:srgbClr val="ff9900"/>
                </a:solidFill>
                <a:uFillTx/>
                <a:latin typeface="Monotype Corsiva"/>
              </a:rPr>
              <a:t> </a:t>
            </a:r>
            <a:r>
              <a:rPr b="1" lang="ru-RU" sz="4400" spc="-1" strike="noStrike" u="sng">
                <a:solidFill>
                  <a:srgbClr val="ff9900"/>
                </a:solidFill>
                <a:uFillTx/>
                <a:latin typeface="Monotype Corsiva"/>
              </a:rPr>
              <a:t>Цель </a:t>
            </a:r>
            <a:r>
              <a:rPr b="1" lang="ru-RU" sz="4400" spc="-1" strike="noStrike">
                <a:solidFill>
                  <a:srgbClr val="ff9900"/>
                </a:solidFill>
                <a:latin typeface="Monotype Corsiva"/>
              </a:rPr>
              <a:t>–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азвитие творческого воображения у детей в работе при создании поделок и композиций из природного материала. </a:t>
            </a:r>
            <a:br>
              <a:rPr sz="4800"/>
            </a:br>
            <a:r>
              <a:rPr b="1" lang="ru-RU" sz="4400" spc="-1" strike="noStrike" u="sng">
                <a:solidFill>
                  <a:srgbClr val="ff9900"/>
                </a:solidFill>
                <a:uFillTx/>
                <a:latin typeface="Monotype Corsiva"/>
              </a:rPr>
              <a:t>Задачи :</a:t>
            </a:r>
            <a:br>
              <a:rPr sz="4800"/>
            </a:b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1.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Развивать продуктивную (конструктивную) деятельность детей при работе с природным материалом.</a:t>
            </a:r>
            <a:br>
              <a:rPr sz="2400"/>
            </a:b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2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накомить с разновидностями и свойствами природного материала.</a:t>
            </a:r>
            <a:br>
              <a:rPr sz="2400"/>
            </a:b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3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Учить использовать для закрепления частей клей, пластилин.</a:t>
            </a:r>
            <a:br>
              <a:rPr sz="2400"/>
            </a:b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4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иобщать детей к изготовлению поделок из природного материала: коры, веток, листьев, каштанов, желудей, ореховой скорлупы и др.</a:t>
            </a:r>
            <a:br>
              <a:rPr sz="2400"/>
            </a:b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5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азвивать интерес к работе с природным материалом.</a:t>
            </a:r>
            <a:br>
              <a:rPr sz="2400"/>
            </a:b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6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оспитывать любовь к природе.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7429680" y="1214280"/>
            <a:ext cx="1238040" cy="120996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Прямоугольник 2"/>
          <p:cNvSpPr/>
          <p:nvPr/>
        </p:nvSpPr>
        <p:spPr>
          <a:xfrm>
            <a:off x="285840" y="285840"/>
            <a:ext cx="8358120" cy="60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9900"/>
                </a:solidFill>
                <a:uFillTx/>
                <a:latin typeface="Monotype Corsiva"/>
              </a:rPr>
              <a:t>Ведущая педагогическая идея</a:t>
            </a:r>
            <a:br>
              <a:rPr sz="40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Художественный труд  дошкольников позволяет развивать их творчество при следующих условиях: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- в процессе наблюдений за объектами природы стимулируется образное восприятие растительного мира (цвет, пропорции, пластичность форм и др.);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- осуществляется при поэтапном обучении данному виду труда: от эстетического восприятия - через исполнительство - к художественному творчеству;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- создание в уголке изобразительной деятельности развивающей среды, активизирующая самостоятельное изобразительное творчество дет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2"/>
          <p:cNvSpPr/>
          <p:nvPr/>
        </p:nvSpPr>
        <p:spPr>
          <a:xfrm>
            <a:off x="214200" y="642960"/>
            <a:ext cx="850104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9900"/>
                </a:solidFill>
                <a:uFillTx/>
                <a:latin typeface="Monotype Corsiva"/>
              </a:rPr>
              <a:t>Оснащение  по опыту  работы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9900"/>
                </a:solidFill>
                <a:uFillTx/>
                <a:latin typeface="Monotype Corsiva"/>
              </a:rPr>
              <a:t>подобраны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- методическая литератур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- материалы для консультаций родителей и педагог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- конспекты НОД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- иллюстрации и фотографии с изображением поделок из природного материала, творческие поделки взрослых и детей из различного природного материала, природный материал, изобразительные средства и технологические таблицы с поэтапным изображением различных поделок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7:06:11Z</dcterms:created>
  <dc:creator>Аля</dc:creator>
  <dc:description/>
  <dc:language>en-US</dc:language>
  <cp:lastModifiedBy>RuVarez User</cp:lastModifiedBy>
  <dcterms:modified xsi:type="dcterms:W3CDTF">2017-09-06T17:55:01Z</dcterms:modified>
  <cp:revision>152</cp:revision>
  <dc:subject/>
  <dc:title>Дипломная работа на тему: Развитие художественного творчества старших дошкольников посредством ручного труда (на примере конструирования из природного материала)</dc:title>
</cp:coreProperties>
</file>