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E0A-2F89-4F38-BA0F-0AE8FAD0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A7B-48F1-4256-B7E2-1485588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8A6-27E6-4A47-B9C0-757268D4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08E-9E45-4240-B3FD-8FD0CB06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875-4F84-41DA-9164-F7CEB32B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7A9-2328-4768-B2D6-F8B08C43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E67-26B8-4D45-AFE9-671CC172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BB5-1AF5-44E1-A276-47E84FF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E8-F686-4A00-9A8B-1581E15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4F1-4875-4B4C-BB50-287BCFE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C88-52F2-40C3-ADD5-8844C81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C68-7EDC-4216-8F74-ABF4580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99F-2B96-43DD-B537-41C4B4E2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ch-ib.ozersk.ru/mal/lings/reviews/pravo/index.shtml" TargetMode="External"/><Relationship Id="rId3" Type="http://schemas.openxmlformats.org/officeDocument/2006/relationships/hyperlink" Target="http://ch-ib.ozersk.ru/mal/lings/reviews/pravo/index.shtml" TargetMode="External"/><Relationship Id="rId4" Type="http://schemas.openxmlformats.org/officeDocument/2006/relationships/hyperlink" Target="http://ch-ib.ozersk.ru/mal/lings/reviews/pravo/index.shtml" TargetMode="External"/><Relationship Id="rId5" Type="http://schemas.openxmlformats.org/officeDocument/2006/relationships/hyperlink" Target="http://ch-ib.ozersk.ru/mal/lings/reviews/pravo/index.shtml" TargetMode="External"/><Relationship Id="rId6" Type="http://schemas.openxmlformats.org/officeDocument/2006/relationships/hyperlink" Target="http://ch-ib.ozersk.ru/mal/lings/reviews/pravo/index.shtml" TargetMode="External"/><Relationship Id="rId7" Type="http://schemas.openxmlformats.org/officeDocument/2006/relationships/hyperlink" Target="http://ch-ib.ozersk.ru/mal/lings/reviews/pravo/index.shtml" TargetMode="External"/><Relationship Id="rId8" Type="http://schemas.openxmlformats.org/officeDocument/2006/relationships/hyperlink" Target="http://ch-ib.ozersk.ru/mal/lings/reviews/pravo/index.shtml" TargetMode="External"/><Relationship Id="rId9" Type="http://schemas.openxmlformats.org/officeDocument/2006/relationships/hyperlink" Target="http://ch-ib.ozersk.ru/mal/lings/reviews/pravo/index.shtml" TargetMode="External"/><Relationship Id="rId10" Type="http://schemas.openxmlformats.org/officeDocument/2006/relationships/hyperlink" Target="http://ch-ib.ozersk.ru/mal/lings/reviews/pravo/index.shtml" TargetMode="External"/><Relationship Id="rId11" Type="http://schemas.openxmlformats.org/officeDocument/2006/relationships/hyperlink" Target="http://ch-ib.ozersk.ru/mal/lings/reviews/pravo/index.shtml" TargetMode="External"/><Relationship Id="rId12" Type="http://schemas.openxmlformats.org/officeDocument/2006/relationships/hyperlink" Target="http://ch-ib.ozersk.ru/mal/lings/reviews/pravo/index.shtml" TargetMode="External"/><Relationship Id="rId13" Type="http://schemas.openxmlformats.org/officeDocument/2006/relationships/hyperlink" Target="http://ch-ib.ozersk.ru/mal/lings/reviews/pravo/index.shtml" TargetMode="External"/><Relationship Id="rId14" Type="http://schemas.openxmlformats.org/officeDocument/2006/relationships/hyperlink" Target="http://ch-ib.ozersk.ru/mal/lings/reviews/pravo/index.shtml" TargetMode="External"/><Relationship Id="rId15" Type="http://schemas.openxmlformats.org/officeDocument/2006/relationships/hyperlink" Target="http://ch-ib.ozersk.ru/mal/lings/reviews/pravo/index.shtml" TargetMode="External"/><Relationship Id="rId16" Type="http://schemas.openxmlformats.org/officeDocument/2006/relationships/hyperlink" Target="http://ch-ib.ozersk.ru/mal/lings/reviews/pravo/index.shtml" TargetMode="External"/><Relationship Id="rId17" Type="http://schemas.openxmlformats.org/officeDocument/2006/relationships/hyperlink" Target="http://ch-ib.ozersk.ru/mal/lings/reviews/pravo/index.shtml" TargetMode="External"/><Relationship Id="rId18" Type="http://schemas.openxmlformats.org/officeDocument/2006/relationships/hyperlink" Target="http://ch-ib.ozersk.ru/mal/lings/reviews/pravo/index.shtml" TargetMode="External"/><Relationship Id="rId19" Type="http://schemas.openxmlformats.org/officeDocument/2006/relationships/hyperlink" Target="http://ch-ib.ozersk.ru/mal/lings/reviews/pravo/index.shtml" TargetMode="External"/><Relationship Id="rId20" Type="http://schemas.openxmlformats.org/officeDocument/2006/relationships/hyperlink" Target="http://ch-ib.ozersk.ru/mal/lings/reviews/pravo/index.shtml" TargetMode="External"/><Relationship Id="rId21" Type="http://schemas.openxmlformats.org/officeDocument/2006/relationships/hyperlink" Target="http://ch-ib.ozersk.ru/mal/lings/reviews/pravo/index.shtml" TargetMode="External"/><Relationship Id="rId22" Type="http://schemas.openxmlformats.org/officeDocument/2006/relationships/hyperlink" Target="http://ch-ib.ozersk.ru/mal/lings/reviews/pravo/index.shtml" TargetMode="External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1268280"/>
            <a:ext cx="640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Законы, по которым мы живем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3524040" cy="321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328464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99736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яева Любовь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ДОУ №178 «Россиян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63840" y="46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67696625_1291996005_prava1.jpg"/>
          <p:cNvPicPr/>
          <p:nvPr/>
        </p:nvPicPr>
        <p:blipFill>
          <a:blip r:embed="rId2"/>
          <a:stretch/>
        </p:blipFill>
        <p:spPr>
          <a:xfrm>
            <a:off x="5076720" y="404640"/>
            <a:ext cx="3386160" cy="36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474640" cy="388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1052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– эта правила. По которым живут люди. Эти правила определяют отношения людей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365720"/>
            <a:ext cx="583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правила известны дет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, о которых можно договориться со своими друзьями и род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, принятые в обществе – это законы мор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ы принятые государ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4657[1].jpg"/>
          <p:cNvPicPr/>
          <p:nvPr/>
        </p:nvPicPr>
        <p:blipFill>
          <a:blip r:embed="rId2"/>
          <a:stretch/>
        </p:blipFill>
        <p:spPr>
          <a:xfrm>
            <a:off x="1476360" y="333360"/>
            <a:ext cx="671508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705200"/>
            <a:ext cx="727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подошел к стене и старательно нарисовал православный крест. Проходившая мимо верующая женщина сделала Пете замечания. Петя удивился: верующая, а против креста и возразил: мол, в Декларации прав человека записано. «Каждый человек имеет право на свободу убеждений и вероисповеданий и  на свободу их выраж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ив чего выступила женщина? Прав ли Пет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356000" cy="633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197000"/>
            <a:ext cx="381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зка дает возможность детям уяснить, что хорошо, что пло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ся работа вне занят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ушивание музыкальных, художественн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мотр видео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ак итог проводится викторина «права в сказ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gnomik-nn.narod.ru/fairytale/zayushkina_izbushka/06.jpg"/>
          <p:cNvPicPr/>
          <p:nvPr/>
        </p:nvPicPr>
        <p:blipFill>
          <a:blip r:embed="rId2"/>
          <a:stretch/>
        </p:blipFill>
        <p:spPr>
          <a:xfrm>
            <a:off x="5148360" y="1197000"/>
            <a:ext cx="3479760" cy="314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476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ких из этих сказок и кто из героев нарушает право на неприкосновенность жилища, то есть заходит в чужой дом без раз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4076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ttp://www.1001skazka.com/talehtml/rusnar/gleb.jpg"/>
          <p:cNvPicPr/>
          <p:nvPr/>
        </p:nvPicPr>
        <p:blipFill>
          <a:blip r:embed="rId3"/>
          <a:stretch/>
        </p:blipFill>
        <p:spPr>
          <a:xfrm>
            <a:off x="228600" y="15238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уси – леб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giport.ru/img/anons/2009/06/05161243.jpg"/>
          <p:cNvPicPr/>
          <p:nvPr/>
        </p:nvPicPr>
        <p:blipFill>
          <a:blip r:embed="rId4"/>
          <a:stretch/>
        </p:blipFill>
        <p:spPr>
          <a:xfrm>
            <a:off x="2771640" y="3357720"/>
            <a:ext cx="2408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47640" y="54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го из сказочных героев нарушено право на отдых, досуг, развлечения, на иг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img1.liveinternet.ru/images/attach/c/0/36/948/36948326_B.jpg"/>
          <p:cNvPicPr/>
          <p:nvPr/>
        </p:nvPicPr>
        <p:blipFill>
          <a:blip r:embed="rId2"/>
          <a:stretch/>
        </p:blipFill>
        <p:spPr>
          <a:xfrm>
            <a:off x="5003640" y="981000"/>
            <a:ext cx="381024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3645000"/>
            <a:ext cx="223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5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uzkarapuz.ru/uploads/posts/2009-04/thumbs/1238821066_kroshechka-havroshechka.jpg"/>
          <p:cNvPicPr/>
          <p:nvPr/>
        </p:nvPicPr>
        <p:blipFill>
          <a:blip r:embed="rId3"/>
          <a:stretch/>
        </p:blipFill>
        <p:spPr>
          <a:xfrm>
            <a:off x="395280" y="126828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:\ВЕРА\для през.викторина\kr[1].jpg"/>
          <p:cNvPicPr/>
          <p:nvPr/>
        </p:nvPicPr>
        <p:blipFill>
          <a:blip r:embed="rId4"/>
          <a:stretch/>
        </p:blipFill>
        <p:spPr>
          <a:xfrm>
            <a:off x="2987640" y="3284640"/>
            <a:ext cx="213372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8764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расная шап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627280" y="260280"/>
            <a:ext cx="475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с родителям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244760" cy="561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0737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337280" cy="557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40957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476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указа сказочно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1262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421160" cy="5721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43974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6364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ятие законов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48360" cy="626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6134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341360"/>
            <a:ext cx="14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2682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14018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лублять знания детей о правах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2205000"/>
            <a:ext cx="151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27664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349360"/>
            <a:ext cx="5545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ь детям первоначальное представление о морали, правах и законах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комить с Конституцией РФ: основными правами и обязанностями граждан России, записанными в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воображение, речь, умение рассуждать, сопоставлять права и правила, анализировать и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сопереживание, умение согласовывать свои действия с действиями товарищей, умение договари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03280" y="189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овые игры: «Выборы президен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532400" cy="618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3280" y="476280"/>
            <a:ext cx="42148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74600" y="412920"/>
            <a:ext cx="7674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Герасимова. «Каждый имеет право» Ж. «Обруч» №5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А.Ковалева. «Воспитывая маленького гражданина» М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 Пыжьянова. «Права ребенка» Ж. «Ребенок в детском саду» № 3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Ф. Мулько. «Развитие представлений о человеке в истории и культуре» М.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Г. Прохорова. «Защита детства в международном праве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А. Данилина. «Проблема защиты прав ребенка в семье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Н. Чубченко. «Защита прав  и достоинств ребенка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Григорьева. «Защитим права ребенка» Ж. Воспитатель дошкольного образовательного учреждения № 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zers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a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ling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review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rav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s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венция о правах ребёнка: [Принята Генеральной Ассамблеей ООН резолюцией 44/25 от 20 нояб. 1889 г. Вступила в силу 2 сент. 1990 г.]. – М.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cover.gif"/>
          <p:cNvPicPr/>
          <p:nvPr/>
        </p:nvPicPr>
        <p:blipFill>
          <a:blip r:embed="rId2"/>
          <a:stretch/>
        </p:blipFill>
        <p:spPr>
          <a:xfrm>
            <a:off x="684360" y="1844640"/>
            <a:ext cx="3582720" cy="44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855960" cy="500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 права – это щит, прикрывающий детей, их досто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c0cc611df38946356908f252d52_prev.jpg"/>
          <p:cNvPicPr/>
          <p:nvPr/>
        </p:nvPicPr>
        <p:blipFill>
          <a:blip r:embed="rId2"/>
          <a:stretch/>
        </p:blipFill>
        <p:spPr>
          <a:xfrm>
            <a:off x="611280" y="1773360"/>
            <a:ext cx="8215200" cy="4844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76360" y="54936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коны – это правила, которые устанавливает государство. Их должны выполнять все граждане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si8ai"/>
          <p:cNvPicPr/>
          <p:nvPr/>
        </p:nvPicPr>
        <p:blipFill>
          <a:blip r:embed="rId2"/>
          <a:stretch/>
        </p:blipFill>
        <p:spPr>
          <a:xfrm>
            <a:off x="684360" y="1844640"/>
            <a:ext cx="2652480" cy="4286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47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ым – давно в обществе ещё не было законов и люди жили по принципу: «Кто сильнее, тот и пра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700280"/>
            <a:ext cx="5327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человеческого общества люди пришли к выводу, что нужны специальные правила, по которым следует жить в сво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люди могут делать и чего не мог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и обязаны делать и чего не обяз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что они имеют право и на что не име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онст"/>
          <p:cNvPicPr/>
          <p:nvPr/>
        </p:nvPicPr>
        <p:blipFill>
          <a:blip r:embed="rId2"/>
          <a:stretch/>
        </p:blipFill>
        <p:spPr>
          <a:xfrm>
            <a:off x="971640" y="1268280"/>
            <a:ext cx="3265560" cy="51120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476360" y="692280"/>
            <a:ext cx="727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временном обществе основные правила записываются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иту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главном закон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773360"/>
            <a:ext cx="4248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й перечислены основные права граждан Росси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свободу и личную неприкосно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жилищ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браз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тд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храну здоровья и медицинскую помощ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главное, самое важное -  право человека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987640" y="40464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 на жизн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Рисунок 3" descr="00ag78z5[1].jpg"/>
          <p:cNvPicPr/>
          <p:nvPr/>
        </p:nvPicPr>
        <p:blipFill>
          <a:blip r:embed="rId2"/>
          <a:stretch/>
        </p:blipFill>
        <p:spPr>
          <a:xfrm>
            <a:off x="1619280" y="836640"/>
            <a:ext cx="5715000" cy="4064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157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941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о в древности такое государство – Спарта, которое славилось своими непобедимыми воинами: сильными, здоровыми, выносливыми. В этом государстве каждого новорожденного мальчика осматривали и решали его судьбу: если крепкий, здоровый – пусть живет, а если родился слабым, больным – бросали его со скалы. Как вы думаете, правильно, справедливо поступали жители Спар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3222720" cy="420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125360"/>
            <a:ext cx="417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 слабый человек, если будет хорошо питаться и заниматься спортом, может стать очень сильным. Больных необходимо лечить, слабым – помогать. Например: знаменитый русский полководец А.В. Суворов родился слабым и больным ребенком. Но у него была сильная воля6 он занимался физкультурой. Закалялся и победил свои болезни. Из него вырос умный человек. Талантливый военачальник. В военных походах он переносил все тяготы наравне с солдатами. Под руководством Суворова русская армия не проиграла ни одного сражения. Ит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057400" cy="2495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2468520" cy="230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32000" y="620640"/>
            <a:ext cx="4895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титуция –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 и глав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, когда он утвержден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аздник слав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ередине декаб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род свобо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чаем мы не з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 всенарод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328464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2924280"/>
            <a:ext cx="4176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м закон наш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пригод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опишет весь наш ст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м жить в стране род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й расти,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ституции –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ы, дочки,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 про школу есть гл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ро медиц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49:57Z</dcterms:created>
  <dc:creator>м видео</dc:creator>
  <dc:description/>
  <dc:language>en-US</dc:language>
  <cp:lastModifiedBy>м видео</cp:lastModifiedBy>
  <dcterms:modified xsi:type="dcterms:W3CDTF">2017-03-19T16:02:00Z</dcterms:modified>
  <cp:revision>3</cp:revision>
  <dc:subject/>
  <dc:title>Слайд 1</dc:title>
</cp:coreProperties>
</file>