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ED3-5ECF-4B20-B7E8-A9DE4465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723-ADFB-47D2-9584-5F80CD0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3B6-B67B-4817-A0B2-665C7581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9F1-AF77-4DF9-BEAF-166A83BF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E24-CBA7-47EE-9C99-2034B27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7CA-0E66-49F8-BD92-0E2AA425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533-1A5F-4D37-9834-64B14A1D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914-6471-4ABD-AD8D-1599997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FA2-158D-4291-81A5-3C06F91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C91-874F-4424-BA69-2D500E3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660-5A3F-465C-9127-67085515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8DB-9FFE-47E0-A07A-464F1E7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4DBB-ABB1-4B6A-BFD6-BA5B95401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 Обои для рабочего стола · Коллекции · Животные &#10; Captivating Eyes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У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Г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Ш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13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тицы: обои на рабочий стол"/>
          <p:cNvPicPr/>
          <p:nvPr/>
        </p:nvPicPr>
        <p:blipFill>
          <a:blip r:embed="rId1"/>
          <a:stretch/>
        </p:blipFill>
        <p:spPr>
          <a:xfrm>
            <a:off x="1258920" y="1700280"/>
            <a:ext cx="6553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7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Uria aalge (Тонкоклювая кайра)"/>
          <p:cNvPicPr/>
          <p:nvPr/>
        </p:nvPicPr>
        <p:blipFill>
          <a:blip r:embed="rId1"/>
          <a:stretch/>
        </p:blipFill>
        <p:spPr>
          <a:xfrm>
            <a:off x="2771640" y="1557360"/>
            <a:ext cx="38052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Ы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Й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МЕ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Обои для рабочего стола"/>
          <p:cNvPicPr/>
          <p:nvPr/>
        </p:nvPicPr>
        <p:blipFill>
          <a:blip r:embed="rId1"/>
          <a:stretch/>
        </p:blipFill>
        <p:spPr>
          <a:xfrm>
            <a:off x="1476360" y="2060640"/>
            <a:ext cx="6048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Н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Обои для рабочего стола · Коллекции · Животные &#10; Emperor Penguins, Weddell Sea, Antarctica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ТЮ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6500" spc="-1" strike="noStrike">
                <a:solidFill>
                  <a:srgbClr val="339933"/>
                </a:solidFill>
                <a:latin typeface="Arial"/>
              </a:rPr>
              <a:t>НЬ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 Обои для рабочего стола · Коллекции · Животные &#10; Harp Seal Pup, Gulf Of St. Lawrence, Canada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Ы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Й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НЬ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121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561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en-US" sz="7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Ж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3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Ж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А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КУ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69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П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С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22:06:34Z</dcterms:created>
  <dc:creator>Artiom &amp; Ksjuha</dc:creator>
  <dc:description/>
  <dc:language>en-US</dc:language>
  <cp:lastModifiedBy>Artiom &amp; Ksjuha</cp:lastModifiedBy>
  <dcterms:modified xsi:type="dcterms:W3CDTF">2007-04-08T14:09:17Z</dcterms:modified>
  <cp:revision>13</cp:revision>
  <dc:subject/>
  <dc:title>Слайд 1</dc:title>
</cp:coreProperties>
</file>