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44F-DEC7-4F42-9969-E70AAB93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9A0-205A-4FB5-B890-2F8EA9AA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577-E257-410F-B4C1-47B490D4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820-B016-4997-83FD-303F0A93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378-1039-4EEC-BDAF-BB3E852B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6C0-9FF4-49D3-BB39-21B1CE5A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688-7D69-481F-943D-88112AF9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51D-4C3F-4EDB-9852-8BABCD73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4EC-7480-460D-9A52-E52F4A87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BBD-1150-43E4-B585-963662BC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7BD-3E37-4163-A52C-DC45D058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165-A654-44B8-B829-4B123328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109A-3873-4180-87AD-F08CAC6AE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Г</a:t>
            </a:r>
            <a:r>
              <a:rPr b="1" lang="en-US" sz="6500" spc="-1" strike="noStrike">
                <a:solidFill>
                  <a:srgbClr val="008000"/>
                </a:solidFill>
                <a:latin typeface="Arial"/>
              </a:rPr>
              <a:t>Р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 Обои для рабочего стола · Коллекции · Животные &#10; Captivating Eyes"/>
          <p:cNvPicPr/>
          <p:nvPr/>
        </p:nvPicPr>
        <p:blipFill>
          <a:blip r:embed="rId1"/>
          <a:stretch/>
        </p:blipFill>
        <p:spPr>
          <a:xfrm>
            <a:off x="1332000" y="1628640"/>
            <a:ext cx="669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Г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У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Б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Г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Я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Ш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Ь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Б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9134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ПИ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И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Птицы: обои на рабочий стол"/>
          <p:cNvPicPr/>
          <p:nvPr/>
        </p:nvPicPr>
        <p:blipFill>
          <a:blip r:embed="rId1"/>
          <a:stretch/>
        </p:blipFill>
        <p:spPr>
          <a:xfrm>
            <a:off x="1258920" y="1700280"/>
            <a:ext cx="65530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7000" spc="-1" strike="noStrike">
                <a:solidFill>
                  <a:srgbClr val="339933"/>
                </a:solidFill>
                <a:latin typeface="Arial"/>
              </a:rPr>
              <a:t>Й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Р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Uria aalge (Тонкоклювая кайра)"/>
          <p:cNvPicPr/>
          <p:nvPr/>
        </p:nvPicPr>
        <p:blipFill>
          <a:blip r:embed="rId1"/>
          <a:stretch/>
        </p:blipFill>
        <p:spPr>
          <a:xfrm>
            <a:off x="2771640" y="1557360"/>
            <a:ext cx="38052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Ы</a:t>
            </a:r>
            <a:r>
              <a:rPr b="1" lang="en-US" sz="7000" spc="-1" strike="noStrike">
                <a:solidFill>
                  <a:srgbClr val="008000"/>
                </a:solidFill>
                <a:latin typeface="Arial"/>
              </a:rPr>
              <a:t>Й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МЕ</a:t>
            </a:r>
            <a:r>
              <a:rPr b="1" lang="en-US" sz="7000" spc="-1" strike="noStrike">
                <a:solidFill>
                  <a:srgbClr val="008000"/>
                </a:solidFill>
                <a:latin typeface="Arial"/>
              </a:rPr>
              <a:t>Д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Обои для рабочего стола"/>
          <p:cNvPicPr/>
          <p:nvPr/>
        </p:nvPicPr>
        <p:blipFill>
          <a:blip r:embed="rId1"/>
          <a:stretch/>
        </p:blipFill>
        <p:spPr>
          <a:xfrm>
            <a:off x="1476360" y="2060640"/>
            <a:ext cx="6048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ПИ</a:t>
            </a:r>
            <a:r>
              <a:rPr b="1" lang="en-US" sz="7000" spc="-1" strike="noStrike">
                <a:solidFill>
                  <a:srgbClr val="0080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Г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7000" spc="-1" strike="noStrike">
                <a:solidFill>
                  <a:srgbClr val="008000"/>
                </a:solidFill>
                <a:latin typeface="Arial"/>
              </a:rPr>
              <a:t>НЫ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 Обои для рабочего стола · Коллекции · Животные &#10; Emperor Penguins, Weddell Sea, Antarctica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ТЮ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6500" spc="-1" strike="noStrike">
                <a:solidFill>
                  <a:srgbClr val="339933"/>
                </a:solidFill>
                <a:latin typeface="Arial"/>
              </a:rPr>
              <a:t>НЬ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 Обои для рабочего стола · Коллекции · Животные &#10; Harp Seal Pup, Gulf Of St. Lawrence, Canada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ВЕ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НЫ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Й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6500" spc="-1" strike="noStrike">
                <a:solidFill>
                  <a:srgbClr val="006600"/>
                </a:solidFill>
                <a:latin typeface="Arial"/>
              </a:rPr>
              <a:t>НЬ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6121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56136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1" lang="en-US" sz="70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Ж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3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Ж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НА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Я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КУ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РО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696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П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Я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Р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Я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С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В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62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22:06:34Z</dcterms:created>
  <dc:creator>Artiom &amp; Ksjuha</dc:creator>
  <dc:description/>
  <dc:language>en-US</dc:language>
  <cp:lastModifiedBy>Artiom &amp; Ksjuha</cp:lastModifiedBy>
  <dcterms:modified xsi:type="dcterms:W3CDTF">2007-04-08T14:09:17Z</dcterms:modified>
  <cp:revision>13</cp:revision>
  <dc:subject/>
  <dc:title>Слайд 1</dc:title>
</cp:coreProperties>
</file>