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2AB-8FEA-4B97-8C75-34698AE9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E72-C66C-4431-BE20-E077E011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F65-5AE5-4431-9760-750793AD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6C3-9A39-4323-AA55-7F1D0B91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7BB-751B-448A-A132-C6157F63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10F-B01C-41F8-AC09-0F3106B3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8BB-63E1-4A98-A91B-D7D34CF2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E59-3E71-4197-A6CE-15C28370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C19-7A2D-47DA-B1A3-04B7AC5E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F98-CAFD-4DDB-9081-F990FE68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1B4-244F-43D2-BE90-189314FB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34B-14A7-4BE6-B0E4-805DF54A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2CBB-B830-40DF-9CE0-6A8247D92E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обложка.jpg"/>
          <p:cNvPicPr/>
          <p:nvPr/>
        </p:nvPicPr>
        <p:blipFill>
          <a:blip r:embed="rId1"/>
          <a:stretch/>
        </p:blipFill>
        <p:spPr>
          <a:xfrm>
            <a:off x="-154080" y="0"/>
            <a:ext cx="9298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714680" y="3214800"/>
            <a:ext cx="58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Цель: развитие логического мышления,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2143080" y="2309760"/>
            <a:ext cx="414360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677680" y="11430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рыба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рыбак.jpg"/>
          <p:cNvPicPr/>
          <p:nvPr/>
        </p:nvPicPr>
        <p:blipFill>
          <a:blip r:embed="rId2"/>
          <a:stretch/>
        </p:blipFill>
        <p:spPr>
          <a:xfrm>
            <a:off x="6286680" y="4071960"/>
            <a:ext cx="2857320" cy="27860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ыбак.jpg"/>
          <p:cNvPicPr/>
          <p:nvPr/>
        </p:nvPicPr>
        <p:blipFill>
          <a:blip r:embed="rId1"/>
          <a:stretch/>
        </p:blipFill>
        <p:spPr>
          <a:xfrm>
            <a:off x="2786040" y="2540160"/>
            <a:ext cx="4429080" cy="43178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677680" y="10000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смешарик.jpg"/>
          <p:cNvPicPr/>
          <p:nvPr/>
        </p:nvPicPr>
        <p:blipFill>
          <a:blip r:embed="rId2"/>
          <a:stretch/>
        </p:blipFill>
        <p:spPr>
          <a:xfrm>
            <a:off x="6215040" y="3786120"/>
            <a:ext cx="2982960" cy="3071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2714760" y="2314440"/>
            <a:ext cx="4411440" cy="45435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1428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Посмотри на картинки и выбери из четырех  ту, которая не подходит к той, что в се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азбука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36448771ce93.png"/>
          <p:cNvPicPr/>
          <p:nvPr/>
        </p:nvPicPr>
        <p:blipFill>
          <a:blip r:embed="rId2"/>
          <a:stretch/>
        </p:blipFill>
        <p:spPr>
          <a:xfrm>
            <a:off x="6357960" y="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36448771ce93.png"/>
          <p:cNvPicPr/>
          <p:nvPr/>
        </p:nvPicPr>
        <p:blipFill>
          <a:blip r:embed="rId1"/>
          <a:stretch/>
        </p:blipFill>
        <p:spPr>
          <a:xfrm>
            <a:off x="2786040" y="1643040"/>
            <a:ext cx="3286080" cy="4929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534760" y="7858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окто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доктор.jpg"/>
          <p:cNvPicPr/>
          <p:nvPr/>
        </p:nvPicPr>
        <p:blipFill>
          <a:blip r:embed="rId2"/>
          <a:stretch/>
        </p:blipFill>
        <p:spPr>
          <a:xfrm>
            <a:off x="0" y="0"/>
            <a:ext cx="3357720" cy="2143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доктор.jpg"/>
          <p:cNvPicPr/>
          <p:nvPr/>
        </p:nvPicPr>
        <p:blipFill>
          <a:blip r:embed="rId1"/>
          <a:stretch/>
        </p:blipFill>
        <p:spPr>
          <a:xfrm>
            <a:off x="2000160" y="2286000"/>
            <a:ext cx="5035680" cy="3214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606040" y="85716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колобо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колобок.jpg"/>
          <p:cNvPicPr/>
          <p:nvPr/>
        </p:nvPicPr>
        <p:blipFill>
          <a:blip r:embed="rId2"/>
          <a:stretch/>
        </p:blipFill>
        <p:spPr>
          <a:xfrm>
            <a:off x="6500880" y="3500280"/>
            <a:ext cx="269712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колобок.jpg"/>
          <p:cNvPicPr/>
          <p:nvPr/>
        </p:nvPicPr>
        <p:blipFill>
          <a:blip r:embed="rId1"/>
          <a:stretch/>
        </p:blipFill>
        <p:spPr>
          <a:xfrm>
            <a:off x="3143160" y="2214720"/>
            <a:ext cx="3554640" cy="44240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поваренок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оваренок.jpg"/>
          <p:cNvPicPr/>
          <p:nvPr/>
        </p:nvPicPr>
        <p:blipFill>
          <a:blip r:embed="rId3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3:49:54Z</dcterms:created>
  <dc:creator>storm</dc:creator>
  <dc:description/>
  <dc:language>en-US</dc:language>
  <cp:lastModifiedBy>ОЕМ</cp:lastModifiedBy>
  <dcterms:modified xsi:type="dcterms:W3CDTF">2010-01-20T06:48:16Z</dcterms:modified>
  <cp:revision>5</cp:revision>
  <dc:subject/>
  <dc:title>Слайд 1</dc:title>
</cp:coreProperties>
</file>