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3.jpeg" ContentType="image/jpeg"/>
  <Override PartName="/ppt/media/image15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3E3-B6B5-4CDB-93DA-D46E28A0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F57-8604-491A-BB7C-3F0DF6DE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B37-BD8F-4C7D-8402-1ABF498F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1E7-26AC-4B7D-8BC5-D84DC5A6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EED-1FC9-44A9-A6EE-FFB5BF0C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9B5-5A94-4DA1-8210-6E328F8F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D93-66AE-49CC-AC0C-FFC7AD02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C23-C404-49CC-B443-BD8F6737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570-81A3-42B3-AB4E-09C4F02A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D9E-7AE8-43A7-A750-AE8CD3B8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58C-2D78-43C5-9CD5-E3DD3290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980-E929-428F-A9F3-EEEBB2A0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2078-B391-46DC-B685-C57BD47B4B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-500040" y="4687920"/>
            <a:ext cx="8643960" cy="2382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https://im2-tub-ru.yandex.net/i?id=fca40ec797b21940060a17c632617d63-l&amp;n=13"/>
          <p:cNvPicPr/>
          <p:nvPr/>
        </p:nvPicPr>
        <p:blipFill>
          <a:blip r:embed="rId3"/>
          <a:stretch/>
        </p:blipFill>
        <p:spPr>
          <a:xfrm>
            <a:off x="1476360" y="907920"/>
            <a:ext cx="61848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0" y="324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Сколько вы планируете набрать баллов на ЕГЭ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Диаграмма 2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19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0"/>
            <a:ext cx="685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изучила публикации по ЕГЭ на сайте ФИПИ, узнала особенности ЕГ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ла эксперимент  для оценки возможности сдачи ЕГЭ в 8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ьно оценила свою готовность к экзамену. Выявила ошибки, которых не следует допускать на экзамене: например, неверно заполненный бланк, приводит к потере бал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мощь учащимся для подготовки к экзаменам  составила небольшое пособие из 5 заданий, которое поможет преодолеть  минимальный  порог бал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"/>
          <p:cNvPicPr/>
          <p:nvPr/>
        </p:nvPicPr>
        <p:blipFill>
          <a:blip r:embed="rId1"/>
          <a:stretch/>
        </p:blipFill>
        <p:spPr>
          <a:xfrm>
            <a:off x="108000" y="3716280"/>
            <a:ext cx="46036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0" y="0"/>
            <a:ext cx="685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Э может сдать и восьмиклассник, т.к. в заданиях, достаточных для прохождения минимального порога баллов проверяются вычислительные навыки и умения решать задачи прикладного характе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объединить подготовку к ЕГЭ с Интернет-ресурсами, можно добиться успехов и, несмотря на трудности, успех на ЕГЭ обесп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s://dl.dropboxusercontent.com/s/k8o0dehl3tthwhd/1.jpg?dl=0"/>
          <p:cNvPicPr/>
          <p:nvPr/>
        </p:nvPicPr>
        <p:blipFill>
          <a:blip r:embed="rId1"/>
          <a:stretch/>
        </p:blipFill>
        <p:spPr>
          <a:xfrm>
            <a:off x="3429000" y="2924280"/>
            <a:ext cx="47624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285840" y="857160"/>
            <a:ext cx="871524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«Возможно ли сдать егэ в 8 классе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384840" y="428760"/>
            <a:ext cx="876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ема</a:t>
            </a:r>
            <a:r>
              <a:rPr b="1" lang="en-US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сследовательской работ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https://im3-tub-ru.yandex.net/i?id=41446332ceb0ddf247dd1205c04f43eb-l&amp;n=13"/>
          <p:cNvPicPr/>
          <p:nvPr/>
        </p:nvPicPr>
        <p:blipFill>
          <a:blip r:embed="rId1"/>
          <a:stretch/>
        </p:blipFill>
        <p:spPr>
          <a:xfrm>
            <a:off x="2268360" y="3429000"/>
            <a:ext cx="47880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с двумя скругленными противолежащими углами 1"/>
          <p:cNvSpPr/>
          <p:nvPr/>
        </p:nvSpPr>
        <p:spPr>
          <a:xfrm>
            <a:off x="1332000" y="1700280"/>
            <a:ext cx="7000920" cy="35719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учить особенности единого государственного экзамена и сформировать убеждение: успех на ЕГЭ возможе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Прямоугольник 2" descr=""/>
          <p:cNvPicPr/>
          <p:nvPr/>
        </p:nvPicPr>
        <p:blipFill>
          <a:blip r:embed="rId1"/>
          <a:stretch/>
        </p:blipFill>
        <p:spPr>
          <a:xfrm>
            <a:off x="-165240" y="-133200"/>
            <a:ext cx="353700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071720" y="5989320"/>
            <a:ext cx="71769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357120" y="214200"/>
            <a:ext cx="85010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3"/>
          <p:cNvSpPr/>
          <p:nvPr/>
        </p:nvSpPr>
        <p:spPr>
          <a:xfrm>
            <a:off x="1100160" y="2886120"/>
            <a:ext cx="5429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-19080" y="566640"/>
            <a:ext cx="9186840" cy="22194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-15840" y="568440"/>
            <a:ext cx="61196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4" descr=""/>
          <p:cNvPicPr/>
          <p:nvPr/>
        </p:nvPicPr>
        <p:blipFill>
          <a:blip r:embed="rId3"/>
          <a:stretch/>
        </p:blipFill>
        <p:spPr>
          <a:xfrm>
            <a:off x="-96840" y="2346480"/>
            <a:ext cx="54007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42920" y="4457880"/>
            <a:ext cx="5000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285840" y="1819440"/>
            <a:ext cx="5429160" cy="1428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есь мир согласен с тем, что тест – наиболее объективная оценочная система в настоящее время. И результат его – гласный, нужный детям,  родителям, вузам, и работодателям. Впервые эксперимент по введению ЕГЭ был проведен в 2001 году, в республиках Чувашия, Мордовия, Марий Эл, Якутия, в Самарской и Ростовской област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5"/>
          <p:cNvSpPr/>
          <p:nvPr/>
        </p:nvSpPr>
        <p:spPr>
          <a:xfrm>
            <a:off x="285840" y="428760"/>
            <a:ext cx="5429160" cy="1357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се страны мира придумали национальный тест по окончанию школы. Впервые он появился еще в 1968 году во Франции, когда произошла великая французская образовательная революция. Тестирование тут же подхватили в США, Германии, Англии. В Испании ввели национальный тест после падения деспотического режима, в Южной Корее – 10 лет назад. Подключились Австралия, Новая Зеландия, Гонконг, Сингапур, Тайва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https://im2-tub-ru.yandex.net/i?id=0b077dff909e5262c063bde7f6b7981d-l&amp;n=13"/>
          <p:cNvPicPr/>
          <p:nvPr/>
        </p:nvPicPr>
        <p:blipFill>
          <a:blip r:embed="rId2"/>
          <a:stretch/>
        </p:blipFill>
        <p:spPr>
          <a:xfrm>
            <a:off x="5735520" y="181080"/>
            <a:ext cx="3294360" cy="185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http://tvk6.ru/upload/iblock/2b4/2b45d4c47eaf1f26d47e2f330a614329.jpg"/>
          <p:cNvPicPr/>
          <p:nvPr/>
        </p:nvPicPr>
        <p:blipFill>
          <a:blip r:embed="rId3"/>
          <a:stretch/>
        </p:blipFill>
        <p:spPr>
          <a:xfrm>
            <a:off x="4500720" y="3500280"/>
            <a:ext cx="442584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0" y="-20520"/>
            <a:ext cx="4572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34920" y="44280"/>
            <a:ext cx="682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получить ответы на все вопросы, я изучила специфику ЕГЭ, систему оценивания, демонстрационный вариант.  Демонстрационный вариант предназначен для того, чтобы дать представление о структуре будущих контрольных измерительных материалов, количестве заданий, их форме, уровне с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фика и состав заданий, предлагаемых к выполнению при сдаче ЕГЭ по математике, значительно отличается от заданий выпускного экзамена. Главное отличие в том, что ЕГЭ совмещает в себе по сути 2 экзамена. Один выпускной, за курс общеобразовательной школы, другой – вступительный, баллы за который учитываются при поступлении в высшее учебное за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2"/>
          <a:stretch/>
        </p:blipFill>
        <p:spPr>
          <a:xfrm>
            <a:off x="4686480" y="3716280"/>
            <a:ext cx="4457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285840" y="28584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0" y="46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ется по пятибалльной шкале: результаты экзамена выдаются в первичных баллах (0-20) или в процентах от максимального балла (0-100%), переводятся в отметки по пятибалльной шкале, но не переводятся в 100-балльную шкалу тестовых бал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8" descr=""/>
          <p:cNvPicPr/>
          <p:nvPr/>
        </p:nvPicPr>
        <p:blipFill>
          <a:blip r:embed="rId2"/>
          <a:stretch/>
        </p:blipFill>
        <p:spPr>
          <a:xfrm>
            <a:off x="106200" y="1773360"/>
            <a:ext cx="5931000" cy="10573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106200" y="2967120"/>
            <a:ext cx="67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так как в 8  классе мы можем решить только 15 заданий, мы сделали свою табл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6200" y="3613320"/>
          <a:ext cx="6096240" cy="9507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ичный б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0" y="0"/>
            <a:ext cx="70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ция по выполнению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ыполнение заданий варианта КИМ по математике даётся 3 часа (180минут). Ответом к каждому из заданий является целое число или конечная десятичная дроб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бланки ЕГЭ заполняются яркими чёрными черни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лы, полученные за выполненные задания, суммиру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лучения аттестата о среднем (полном) общем образовании  достаточно  верно выполнить 3 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http://krasschool.ucoz.ru/egeh_3.jpeg"/>
          <p:cNvPicPr/>
          <p:nvPr/>
        </p:nvPicPr>
        <p:blipFill>
          <a:blip r:embed="rId2"/>
          <a:stretch/>
        </p:blipFill>
        <p:spPr>
          <a:xfrm>
            <a:off x="4067280" y="2637000"/>
            <a:ext cx="4645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12"/>
          <p:cNvSpPr/>
          <p:nvPr/>
        </p:nvSpPr>
        <p:spPr>
          <a:xfrm>
            <a:off x="0" y="583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1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108000" y="1159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Можно ли списать егэ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Диаграмма 2" descr=""/>
          <p:cNvPicPr/>
          <p:nvPr/>
        </p:nvPicPr>
        <p:blipFill>
          <a:blip r:embed="rId2"/>
          <a:stretch/>
        </p:blipFill>
        <p:spPr>
          <a:xfrm>
            <a:off x="76320" y="712800"/>
            <a:ext cx="6707160" cy="31989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3529080" cy="2737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"/>
          <p:cNvPicPr/>
          <p:nvPr/>
        </p:nvPicPr>
        <p:blipFill>
          <a:blip r:embed="rId4"/>
          <a:stretch/>
        </p:blipFill>
        <p:spPr>
          <a:xfrm>
            <a:off x="4284720" y="4076640"/>
            <a:ext cx="33829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7-03-09T12:37:41Z</dcterms:modified>
  <cp:revision>177</cp:revision>
  <dc:subject/>
  <dc:title>Слайд 1</dc:title>
</cp:coreProperties>
</file>