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CE4-56C2-4036-B7CD-166C48A4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422-D9B2-4D8F-9A10-90E62BB9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85A-108A-4306-8825-9B5D1563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30C-7F1D-445D-BA60-6AB6F952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DEBF-0E53-4DF8-9750-8A2B4695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C9B0-88A6-4138-A734-E77F48F2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A383-9589-47BC-988B-45B2DD7B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863D-F89F-4C07-A7D9-84E1EC1C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7A49-A698-45C5-9587-9897A372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C898-3F40-46E3-9A42-50B89BFE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E266-237E-49B4-84BB-498BB061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B79-87CC-4158-AA44-8209D9E6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5995-3771-4AEE-B5E8-FCEA503E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DBAC-68D9-428D-A692-F83ACEE8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A6E6-C6C3-4399-BF46-D2B2C424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CD15-FCC2-4C5C-AD24-291FE743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209B-22DF-4A83-A0C0-912624A3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0D7-E7FA-490F-9C97-A93A365D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09B-DF75-4D0E-8797-5461FC77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EAB-7ABA-4A3B-92EC-3465C69E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F80-EF7C-4D3D-A880-8E11196A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825-E697-4F6E-9C2C-168D8201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4D5-C9C3-44E3-9EDB-B5D529C6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CFC-EE84-4E9F-B9FB-6B5BBD9D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AB38-570D-4211-9D28-050144F2B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C2E1-281E-4407-87F7-301973DC4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Доклад 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«Использование ИКТ на уроках русского языка и литературы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556000" y="4436640"/>
            <a:ext cx="64008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ила: учитель русского языка и литератур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ойган Даниловна Ирг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.Кызыл-Хая,201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й опыт работы обучения орфографии и пунктуации на уроках русского языка при помощи компьютера говорит об эффективности данной технологии, что, мне кажется, объясняется следующим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еник работает активно и самостоятельно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меняется форма контроля знаний: ученика контролирует компьютер, тщательно проверяя и сразу же оценивая работу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меняется индивидуализация и дифференциация  обучения: парные виды работы сочетаются с групповыми и индивидуальным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ученика вырабатывается умение работать, соблюдая тишину, не мешая другим, развивается его коммуникативная культур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ормируется иная, чем на традиционных уроках,  культура поведения учителя  - он наблюдает за ходом работы, оказывая помощь только в случае необходимости, поощряя самообразование и саморазвитие дет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евизом каждого учителя сегодня  пусть станут  слова Эмиля Золя, касающиеся всех сфер нашей жизни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Единственное счастье в жизни - это постоянное стремление вперёд...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Благодарим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за внимание и участие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.Г. Белинский говорил 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Без стремления к новому нет жизни, нет развития, нет прогресса». Слова эти сказаны очень  давно. Тогда о компьютерных технологиях никто и не помышлял. Но, мне кажется, эти слова о нём, о современном учителе, об учителе, который стремится вперёд,  который готов осваивать всё новое, инновационное и с успехом применять  в практике своей работы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пользование ИКТ при обучении школьников общеобразовательным предметам в школе ведёт к повышению качества образования. Моя практика показывает, что дети на уроках русского языка и литератур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с большим успехом усваивают учебный материал, если в урок включаются ИКТ;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более значимой становится роль ИКТ  в   плане интеллектуального и эстетического развития обучающихс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формируется их информационная культур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расширяется духовный, социальный, культурный кругозор дет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тобы организовать качественное использование ИКТ на уроке необходимо  учителю иметь  достаточную подготовку  в области использования средств ИКТ, а также должную мотивацию  по переводу учебного процесса на  современный уровен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оими целями при обучении русскому языку и литературе я вижу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вышение мотивации обу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звитие познавательной активности учащих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имулирование самостоятельности учащихся при подготовке к урок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спитывать у учащихся познавательную активность через умение работать с дополнительной литературой, используя возможности компьютера и сети Интерне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рабатывать умение самостоятельно анализировать, отбирать главное, а затем использовать на уро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вышать эффективность урока, развивая мотивацию, применяя ИК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3588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нформационные технологии  помогают мне не только облегчить доступ к информации, открывать возможности  вариативной учебной деятельности, её индивидуализации и дифференциации, но и позволяют по-новому, на более современном уровне организовать сам процесс обучения, построить его так, чтобы ученик был бы активным и равноправным его член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 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недрение ИКТ на уроках русского языка и литературы   позволили мне повысить темп урока, сократить потери рабочего времени до минимума, увеличить объем самостоятельной работы, как на уроке, так и при подготовке домашних заданий, сделать урок более ярким и увлекательным.  Именно ИКТ позволили мне вместе с моими учениками  погрузиться в другой мир, увидеть языковые и литературные процессы другими глазами, стать их участниками. Компьютер обладает достаточно широкими возможностями для создания благоприятных условий для работы по осмыслению орфографического и пунктуационного прави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секрет, что в наше время ученики не очень любят читать. Как же познакомить их с содержанием  программных произведений? Здесь приходят на помощь диски с записями фильмов по их мотивам. Конечно, на уроке нет времени посмотреть фильм в полном объёме, но отдельные эпизоды всё же можно использовать  и сопоставить с авторским текстом, тем самым включить в анализ литературного произведения даже слабоуспевающих учеников, а ещё заинтересовать им ребят, предложив фильм для домашнего просмот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едлагаю несколько видов работ, которые могут выполнить ученики с использованием средств  сети Интернет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иск рецензии на какое-либо литературное произведение, творчество поэта или писателя определённого литературного направ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дбор картинок или фотографий по теме с комментариями к ни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дбор тематических  или наиболее понравившихся стихотворений поэтов, творчество которых будет рассматриваться на предстоящем урок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щё  я использую Интернет для подбора музыкального сопровождения к урокам литературы. Не очень часто, но всё же необходимый материал я могу найти. Романсы на стихи Сергея Есенина, Ф. Тютчева, которые редко можно найти на CD дисках, единственной проблемой при использовании этого вида работы с ИКТ может являться низкая скорость Интернета, из-за которой очень трудно бывает скачать фай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0T06:11:14Z</dcterms:created>
  <dc:creator>Пользователь</dc:creator>
  <dc:description/>
  <dc:language>en-US</dc:language>
  <cp:lastModifiedBy>Пользователь</cp:lastModifiedBy>
  <dcterms:modified xsi:type="dcterms:W3CDTF">2015-08-30T08:41:24Z</dcterms:modified>
  <cp:revision>4</cp:revision>
  <dc:subject/>
  <dc:title>Доклад  «Использование ИКТ на уроках русского языка и литературы»</dc:title>
</cp:coreProperties>
</file>