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A3F-C383-462B-B3E3-3E20238D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678-C941-4D97-A3A3-3F294A0A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548-17D1-4798-8FA8-5C4B9842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6F0-8450-405B-B7F3-27188008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2D3F-5F49-419A-91EA-35ADB671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EC9-C750-41A4-A654-F3BA251F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F8D6-5EB4-4A67-98CA-7B1BA9D6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EA21-4387-41A8-958D-809CD7CA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A59-C393-4424-9758-DBE48411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125E-B41A-4B60-AE7F-EB5F2449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3105-CB4E-407F-9616-35E779A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CF5-6689-464E-B586-2A51D08E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7D17-2A65-459E-BF89-D32E1B18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64DE-4990-47FE-9F40-B70F887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21EA-CB9C-439B-BE06-8877DEC0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AF08-D063-4048-96D4-E5507F38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DB08-7684-4E15-AEC9-4D860B96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556-5EF4-4801-BFB2-201FD100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E83-A764-4909-8B57-B74A562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AD7-A713-41FF-BDA7-8021A12F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BC6-9099-4931-ABF9-3BBF381D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806-C174-4599-9451-BA6E516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719-EAE7-4EB1-B2B0-012D6C6B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E5B-2555-414E-9F48-730D3EF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9221-B60F-4599-BCD7-89B5C1F5E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B4CA-7207-4C0D-93C7-9B15CF9F6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Доклад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«Использование ИКТ на уроках русского языка и литературы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6000" y="4436640"/>
            <a:ext cx="6400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ла: учитель русск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ойган Даниловна Ирг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Кызыл-Хая,20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й опыт работы обучения орфографии и пунктуации на уроках русского языка при помощи компьютера говорит об эффективности данной технологии, что, мне кажется, объясняется следующим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еник работает активно и самостоятельн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меняется форма контроля знаний: ученика контролирует компьютер, тщательно проверяя и сразу же оценивая работу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меняется индивидуализация и дифференциация  обучения: парные виды работы сочетаются с групповыми и индивидуальны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ученика вырабатывается умение работать, соблюдая тишину, не мешая другим, развивается его коммуникативная культу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ируется иная, чем на традиционных уроках,  культура поведения учителя  - он наблюдает за ходом работы, оказывая помощь только в случае необходимости, поощряя самообразование и саморазвитие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визом каждого учителя сегодня  пусть станут  слова Эмиля Золя, касающиеся всех сфер нашей жизн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Единственное счастье в жизни - это постоянное стремление вперёд...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Благодарим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за внимание и участ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.Г. Белинский говорил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Без стремления к новому нет жизни, нет развития, нет прогресса». Слова эти сказаны очень  давно. Тогда о компьютерных технологиях никто и не помышлял. Но, мне кажется, эти слова о нём, о современном учителе, об учителе, который стремится вперёд,  который готов осваивать всё новое, инновационное и с успехом применять  в практике своей рабо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ование ИКТ при обучении школьников общеобразовательным предметам в школе ведёт к повышению качества образования. Моя практика показывает, что дети на уроках русского языка и литерату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с большим успехом усваивают учебный материал, если в урок включаются ИКТ;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более значимой становится роль ИКТ  в   плане интеллектуального и эстетического развития обучаю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формируется их информационная культу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расширяется духовный, социальный, культурный кругозор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тобы организовать качественное использование ИКТ на уроке необходимо  учителю иметь  достаточную подготовку  в области использования средств ИКТ, а также должную мотивацию  по переводу учебного процесса на  современный уров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ими целями при обучении русскому языку и литературе я вижу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вышение мотивации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итие познавательной актив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имулирование самостоятельности учащихся при подготовке к уро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спитывать у учащихся познавательную активность через умение работать с дополнительной литературой, используя возможности компьютера и сети Интерне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батывать умение самостоятельно анализировать, отбирать главное, а затем использовать на ур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вышать эффективность урока, развивая мотивацию, применяя И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нформационные технологии  помогают мне не только облегчить доступ к информации, открывать возможности  вариативной учебной деятельности, её индивидуализации и дифференциации, но и позволяют по-новому, на более современном уровне организовать сам процесс обучения, построить его так, чтобы ученик был бы активным и равноправным его чл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едрение ИКТ на уроках русского языка и литературы   позволили мне повысить темп урока, сократить потери рабочего времени до минимума, увеличить объем самостоятельной работы, как на уроке, так и при подготовке домашних заданий, сделать урок более ярким и увлекательным.  Именно ИКТ позволили мне вместе с моими учениками  погрузиться в другой мир, увидеть языковые и литературные процессы другими глазами, стать их участниками. Компьютер обладает достаточно широкими возможностями для создания благоприятных условий для работы по осмыслению орфографического и пунктуационного прави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секрет, что в наше время ученики не очень любят читать. Как же познакомить их с содержанием  программных произведений? Здесь приходят на помощь диски с записями фильмов по их мотивам. Конечно, на уроке нет времени посмотреть фильм в полном объёме, но отдельные эпизоды всё же можно использовать  и сопоставить с авторским текстом, тем самым включить в анализ литературного произведения даже слабоуспевающих учеников, а ещё заинтересовать им ребят, предложив фильм для домашнего просмот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лагаю несколько видов работ, которые могут выполнить ученики с использованием средств  сети Интернет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иск рецензии на какое-либо литературное произведение, творчество поэта или писателя определённого литературного направ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бор картинок или фотографий по теме с комментариями к н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бор тематических  или наиболее понравившихся стихотворений поэтов, творчество которых будет рассматриваться на предстоящем уро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щё  я использую Интернет для подбора музыкального сопровождения к урокам литературы. Не очень часто, но всё же необходимый материал я могу найти. Романсы на стихи Сергея Есенина, Ф. Тютчева, которые редко можно найти на CD дисках, единственной проблемой при использовании этого вида работы с ИКТ может являться низкая скорость Интернета, из-за которой очень трудно бывает скачать фай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06:11:14Z</dcterms:created>
  <dc:creator>Пользователь</dc:creator>
  <dc:description/>
  <dc:language>en-US</dc:language>
  <cp:lastModifiedBy>Пользователь</cp:lastModifiedBy>
  <dcterms:modified xsi:type="dcterms:W3CDTF">2015-08-30T08:41:24Z</dcterms:modified>
  <cp:revision>4</cp:revision>
  <dc:subject/>
  <dc:title>Доклад  «Использование ИКТ на уроках русского языка и литературы»</dc:title>
</cp:coreProperties>
</file>