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53A-66AA-492E-8A77-4EAAFB6B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C1B-7C11-4380-9FA6-09D3114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C1F-54B2-4ED2-8AAE-B71F807A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E00-4E49-4BFF-9D03-FEB7C043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768-8357-4DF6-BA06-86551671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73A-4AB5-4CD7-8CAC-0886097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7CE-F56B-4875-A203-71588B61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AB8-C263-4A48-8592-7FF6637F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FE4-9AE9-460C-A017-026DB1C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AFE-144A-49B4-924B-34BCB4D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07C-A6CF-4368-95C9-0731734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B08-CD57-41F1-9ABF-CD8111C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EB4-5529-4808-B1FD-78B3CF536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360" y="3949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онсультация дл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2410920"/>
            <a:ext cx="4800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1"/>
          <a:stretch/>
        </p:blipFill>
        <p:spPr>
          <a:xfrm>
            <a:off x="360360" y="2803680"/>
            <a:ext cx="637524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 rot="20847000">
            <a:off x="2523960" y="6510240"/>
            <a:ext cx="39913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49360" y="684360"/>
            <a:ext cx="5616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Глинка, Чайковский, Моцарт, Бетховен... Знаменитые, известные каждому имена. Кто избрал им путь гениев? Кто определил славу музыкантов-композиторов? Природа? Родители? Педаго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ожет быть, профессиональные качества передаются с генами? Может быть, сын ученого, повзрослев, станет ученым, а сын писателя — писател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ожно нередко слышать: «Должно быть, мой ребенок пошел в отца, у него совсем нет музыкального слуха». Достаточно распространенная формула определения причины отсутствия способностей сына или доч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днако все в действительности несколько иначе. Если бы происхождение было определяющим фактором в формировании способностей, то тогда дети, поколение за поколением, наследовали бы профессии отцов. Но жизнь гораздо интереснее, и не так уж редки случаи, когда ребенок ученого становится скрипачом, а врача — писателем. И объясняется это окружением, в котором растет малыш, его собственным опы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04640" y="5396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5000" y="684360"/>
            <a:ext cx="554364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ни определяют в будущем и способности, и характер человека. И если сын музыканта выбирает ту же профессию, что его отец, то причина этого прежде всего в том, что воспитывался он в атмосфере музыки, что с первых дней появления на свет был погружен в мир волшеб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дагоги, музыканты пришли к мнению о том, что задатки к музыкальной деятельности (т. е. физиологические особенности строения организма, например, органа слуха или голосового аппарата) имеются у каж­дого. Именно они составляют основу развития музыкальных способностей. Понятие «неразвивающаяся способность», по утверждению ученых, специалистов в области исследования проблем музыкальности, само по себе является абсурдным. Считается доказанным, что если для музыкального развития ребенка с самого рождения созданы необходимые условия, то это дает зна­чительный эффект в формировании его музык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рода щедро наградила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6640" y="826920"/>
            <a:ext cx="5256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на дала ему все для того, чтобы видеть, ощущать, чувствовать окружающий мир. Она позволила ему слышать все многообразие существующих вокруг звуковых крас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слушиваясь к собственному голосу, голосам птиц и животных, таинственным шорохам леса, листьев и завыванию ветра, люди учились различать инто­нацию, высоту, длительность. Из необходимости и умения слушать и слышать рождалась музыкальность — природой данное человеку свойство. Итак, все мы от природы музыкальны. Об этом необходимо знать и помнить каждому взрослому, так как от него зависит, каким станет в дальнейшем его ребенок, как он сможет распорядиться своим природным даром. Как уже говорилось, окружение, среда растит и питает личность. Музыка детства — хороший воспитатель и надежный друг на всю жизнь. Желая подружить с ней малыша, родным и близким нужно помнить следу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МЯТКА ДЛЯ РОДИТЕЛ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763280"/>
            <a:ext cx="6172200" cy="64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ннее проявление музыкальных способностей говорит о необходимости начинать музыкальное развитие ребенка как можно раньше. «Если не заложить с самого начала прочный фундамент, то бесполезно пытаться построить прочное здание: даже если оно будет красиво снаружи, оно все равно развалится на куски от сильного ветра и землетрясения», — считают педагоги. Время, упущенное как возможность формирования интеллекта, творческих, музыкальных способностей ребенка, будет невосполн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Путь развития музыкальности каждого человека неодинаков. Поэтому не следует огорчаться, если у вашего малыша нет настроения что-нибудь спеть или ему не хочется танцевать, а если и возникают подобные желания, то пение, на ваш взгляд, ка­жется далеким от совершенства, а движения смешны и неуклюжи. Не расстраивайтесь! Количественные накопления обязательно перейдут в качественные. Для этого потребуется время и терп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7920" y="1476360"/>
            <a:ext cx="51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сутствие какой-либо из способностей может тормозить развитие остальных. Значит, задачей взрослого является устранение нежелаемого тормо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е «приклеивайте» вашему ребенку «ярлык» — немузыкальный, если вы ничего не сделали для того, чтобы эту музыкальность у него раз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604800" y="5651640"/>
            <a:ext cx="5632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4" descr=""/>
          <p:cNvPicPr/>
          <p:nvPr/>
        </p:nvPicPr>
        <p:blipFill>
          <a:blip r:embed="rId1"/>
          <a:stretch/>
        </p:blipFill>
        <p:spPr>
          <a:xfrm>
            <a:off x="341280" y="365040"/>
            <a:ext cx="640080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9920" y="1763640"/>
            <a:ext cx="6172200" cy="70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ы определяют ее как комплекс способностей, позволяющий человеку активно проявлять себя в различных видах музыкальной деятельности: слушании музыки, пении, движении, музыкальном твор­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, как их принято называть, специальные или основные способности включают в себя: звуковысотный слух, ладовое чувство и чувство ритма. Именно наличие их у каждого наполняет слышимую человеком музыку новым содержанием, именно они позволяют подняться на вершины более глубокого познания тайн музыкаль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главное, по мнению ученых, заключается в том, что эти способности не столько проявляют себя в музыкальной деятельности, сколько сами создаются в процессе ее. Такая уж интересная и обязательная наблюдается закономерность. Поэтому и относят педагоги умение понимать музыку, умение выразительно петь и двигаться, заниматься музыкальным творчеством также к понятию «музыкальнос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65000" y="900000"/>
            <a:ext cx="5543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, постарайтесь запомнить глав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Чем активнее общение вашего ребенка с музыкой, тем более музыкальным он становится, чем более музыкальным становится, тем радостнее и желаннее новые встречи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, а если вам не приходилось никогда раньше читать специальной литературы и разбираться в музыкальной терминологии, не пугайтесь таких слов, как «чувство лада», «звуковысотный слух». Понять их содержание будет значительно легче, если немножко больше узнать о том, что собой представляют самые обычные, окружающие нас постоянно звуки, у которых, оказывается, имеются свои тайны и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663560" y="6526080"/>
            <a:ext cx="38530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81000" y="1619280"/>
            <a:ext cx="54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сточник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ихайлова М.А. Развитие музыкальных способностей детей. Популярное пособие для родителей и педагогов.-Ярославль: Академия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 rot="20563800">
            <a:off x="2075040" y="6519600"/>
            <a:ext cx="46400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6:50:17Z</dcterms:created>
  <dc:creator>Ирина</dc:creator>
  <dc:description/>
  <dc:language>en-US</dc:language>
  <cp:lastModifiedBy>62</cp:lastModifiedBy>
  <dcterms:modified xsi:type="dcterms:W3CDTF">2017-09-07T18:04:30Z</dcterms:modified>
  <cp:revision>6</cp:revision>
  <dc:subject/>
  <dc:title>Консультация для родителей</dc:title>
</cp:coreProperties>
</file>