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5C8-EDA9-45DB-88A0-3DA219C9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C4A-7943-486B-A27F-6190153C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E0D-2F25-4985-BABB-DEDCFD3A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AAF6-FD38-4FCA-9C14-07CE9C13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31A5-88DB-4744-96EF-2D5E61E5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EFBC-0996-4F88-B2B4-A1D30992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0694-F57A-4BE5-8CBC-555AF94E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4F83-6D74-4E8B-B009-D5A2FC7C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1FC7-A851-437E-9C0B-9007CD64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8D6F-7E44-49FC-966B-25BAD085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9E9A-A9FB-4B02-923A-297EEC58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4C2-F1E8-42D2-A061-C6828BCF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12EF-B17C-43D5-9BC2-2969E935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39EE-4E21-4C8D-9F62-D3E93AB3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7FA8-2D6B-4410-8CB9-FA153DD1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7E95-B23B-4989-BD4A-08EAF562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6098-0D1E-4F68-A614-817CD29D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5DB2B-1932-4A8F-B4B4-C09BCACD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A5876-9801-4A6F-A8EC-75313492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48388-FAA2-472F-8FC1-DBD8AF84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5563D-2C2F-43A2-8AA2-38E68B32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5B29-F418-4493-B9FE-E852B4AD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292-E9C8-4440-9FD0-760E5A97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0DF38-8283-4905-A15F-D420B2B9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849DD-A393-43C4-9BC9-E850DDA4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A7C9E-A60C-4D24-8347-BE5070E2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DDFE1-7CA9-4234-BB40-6BECAA17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D30D4-E556-4E8D-8D4B-C221A34F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D887-96C0-4DA4-809F-E0561885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A5CAE-1607-45DB-84F2-2E7EC9B5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8931B-81E4-41F0-9013-AF047E1E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8E208-A818-4241-BB5E-C47BC19C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AA4B5-C0EE-45D6-93AB-C83C4D92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912-742B-437B-A2CA-FF0EAD74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108B1-B048-428A-B57F-DBD4146D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64238-0411-49C7-A3EC-386B1258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351DB-0022-4BA4-803D-E5A07833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C5156-3273-4D04-BAAE-B5DB6393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6677A-83F8-49EC-BDBF-ED9670F5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990B8-4369-43C0-873F-225B9ED5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33726-4E4D-46C9-98DC-D6325DA3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3FCBE-93BB-498F-8014-BBDB5434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DAED6-869A-4240-A8BA-CAF88D8E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440E4-1106-444D-83EA-4330971E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585-03BE-489B-9CD5-62EC643D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67521-9CB4-4BAD-B8C7-E9DECED0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C4B32-FE32-47AE-B3F5-EAC93922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ACDCB-E816-4550-95CC-8663BE27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0877E-26D9-4F1A-8153-274321DD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005C9-0F86-4138-840B-6F26884E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68C27-E6E7-4592-9A67-1D78D52E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2C9CD-0064-48A9-BA32-66CF8B51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B4C41-2C04-403E-B652-4EA33DFA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F3393-E1B9-4316-90DB-55CBD191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E45FE-EE5A-4135-8F27-7FFADE64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42DA-83F4-4844-B15D-CB60B2CA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947F2-925F-4566-8811-339D9379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9E0-405E-4B50-9031-E116373A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160-901B-444E-B537-008981DC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E37A-7241-4607-9064-FC0F3191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91A4-BD07-4590-8AB6-82808006517D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778A-594D-4682-BD38-7C2344BF7236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47B9-F1B7-4F98-A0F8-4065C9DC1266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5017-2DFF-45C3-BE07-08D6EEA9FE1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4D9F-F241-499D-B712-7E88D6C61EB9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63280" y="22320"/>
            <a:ext cx="6946920" cy="348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orbel"/>
              </a:rPr>
              <a:t>Групповые упражнения как средство сплочения команды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240" y="5589360"/>
            <a:ext cx="67294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Учитель физической культуры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ебедева Евгения Валерье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8" name="Рисунок 6" descr=""/>
          <p:cNvPicPr/>
          <p:nvPr/>
        </p:nvPicPr>
        <p:blipFill>
          <a:blip r:embed="rId1"/>
          <a:stretch/>
        </p:blipFill>
        <p:spPr>
          <a:xfrm>
            <a:off x="1994040" y="3521160"/>
            <a:ext cx="714996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Обычному человеку путь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от А до Я абсолютно очевиден, </a:t>
            </a:r>
            <a:br>
              <a:rPr sz="4000"/>
            </a:br>
            <a:r>
              <a:rPr b="0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и они считают, что тут нет места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для объяснений, 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УЧИТЕЛЬ</a:t>
            </a:r>
            <a:r>
              <a:rPr b="0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должен видеть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СТУПЕНЬКИ</a:t>
            </a:r>
            <a:r>
              <a:rPr b="0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этого пути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93760" y="188640"/>
            <a:ext cx="7056720" cy="60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Я – за разграничения физкультуры и спорта в </a:t>
            </a:r>
            <a:br>
              <a:rPr sz="2500"/>
            </a:b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       обучении, предполагая, что физкультура для </a:t>
            </a:r>
            <a:br>
              <a:rPr sz="2500"/>
            </a:b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       всех, а занятия спортом – для желающих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Я – за самое широкое общение учащихся на </a:t>
            </a:r>
            <a:br>
              <a:rPr sz="2500"/>
            </a:b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       уроке; если физкультура для всех, то она </a:t>
            </a:r>
            <a:br>
              <a:rPr sz="2500"/>
            </a:b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       предполагает коллективные взаимодействия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Я – за то, чтобы физическую культуру как предмет </a:t>
            </a:r>
            <a:br>
              <a:rPr sz="2500"/>
            </a:b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       всегда выбирали дети и она была для них </a:t>
            </a:r>
            <a:br>
              <a:rPr sz="2500"/>
            </a:b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       главным предметом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             Я – за три принципа: ученик должен </a:t>
            </a:r>
            <a:br>
              <a:rPr sz="2500"/>
            </a:b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                    хотеть, мочь и уметь!</a:t>
            </a:r>
            <a:r>
              <a:rPr b="1" lang="ru-RU" sz="22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116000" y="6202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«Хотеть»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- это постоянное желание школьника что-то делать на урок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«Мочь»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- это тот реальный индивидуальный показатель здоровья ребёнка, из которого приходится исходить при построении работ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«Уметь»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- этот показатель определяется способностью учителя донести свои профессиональные знания до ученика, чтобы он научился применять их на практик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115640" y="404640"/>
            <a:ext cx="758196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orbel"/>
              </a:rPr>
              <a:t>Научить и душой обогреть – </a:t>
            </a:r>
            <a:r>
              <a:rPr b="1" i="1" lang="ru-RU" sz="2800" spc="-1" strike="noStrike">
                <a:solidFill>
                  <a:srgbClr val="00b05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orbel"/>
              </a:rPr>
              <a:t>В этом весь наш учительский труд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orbel"/>
              </a:rPr>
              <a:t>И счастливее сделать сердц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orbel"/>
              </a:rPr>
              <a:t>Предстоит нам за 40 минут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иктор Шил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5"/>
          <p:cNvSpPr txBox="1"/>
          <p:nvPr/>
        </p:nvSpPr>
        <p:spPr>
          <a:xfrm>
            <a:off x="971640" y="260280"/>
            <a:ext cx="7921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3085ed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3085ed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Спасиб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3085ed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3085ed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за внимание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3085ed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54" name="Рисунок 1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2556000" cy="191628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" descr=""/>
          <p:cNvPicPr/>
          <p:nvPr/>
        </p:nvPicPr>
        <p:blipFill>
          <a:blip r:embed="rId2"/>
          <a:stretch/>
        </p:blipFill>
        <p:spPr>
          <a:xfrm>
            <a:off x="3311640" y="5122800"/>
            <a:ext cx="1882800" cy="17049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3" descr=""/>
          <p:cNvPicPr/>
          <p:nvPr/>
        </p:nvPicPr>
        <p:blipFill>
          <a:blip r:embed="rId3"/>
          <a:stretch/>
        </p:blipFill>
        <p:spPr>
          <a:xfrm>
            <a:off x="5354640" y="415296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"/>
          <p:cNvPicPr/>
          <p:nvPr/>
        </p:nvPicPr>
        <p:blipFill>
          <a:blip r:embed="rId4"/>
          <a:stretch/>
        </p:blipFill>
        <p:spPr>
          <a:xfrm>
            <a:off x="3581280" y="3027240"/>
            <a:ext cx="1471680" cy="19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9:03:38Z</dcterms:created>
  <dc:creator>Customer</dc:creator>
  <dc:description/>
  <dc:language>en-US</dc:language>
  <cp:lastModifiedBy>Евгения Лебедева</cp:lastModifiedBy>
  <dcterms:modified xsi:type="dcterms:W3CDTF">2016-10-18T19:11:06Z</dcterms:modified>
  <cp:revision>12</cp:revision>
  <dc:subject/>
  <dc:title>Я – сторонник разграничения физкультуры и          спорта в преподавании.  Я – за самое широкое общение учащихся на          уроке при выполнении упражнений.  Я – за то, чтобы физическая культура стала          для всех детей главным предметом.  Я – за три принципа: ученик должен хотеть,          мочь и уметь. </dc:title>
</cp:coreProperties>
</file>