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23B-AE10-416E-AE88-69AD55E8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3A8-197B-4423-884E-3A7C5CBE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CDC-2147-4AF8-89AE-8EA21993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420-08A0-47F0-9DE0-02BE02B9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1B3-C054-468B-9D94-8DA0095F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3867-50A2-49CA-BBCE-404E075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278-BE48-4C8B-B8E2-0C4923FB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26C9-9D6B-4110-A78D-28035064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BF4F-D1F8-4D6C-B89F-BE0E376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4D2-127D-4C81-ADF2-A017972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627-4733-403C-8001-54F70CF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6DC-564F-4485-99B8-F3965E49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AE71-CC67-4781-858C-C4553B0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6CF7-CD9C-401C-97F6-9896F13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537-5C33-4A3E-9E95-27A01A8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E35-8DD5-42F4-9512-3919D6E7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E84-6B78-4C25-ACBF-D23ED0F7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29E5-E29F-4A98-9234-DB742072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5A22-77C3-4E13-B8B4-6984BC3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3459-CBC6-4D31-9DFF-BBEBD3A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4CBC-ACF5-407B-8755-F270EC6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7306-DB20-41E3-8A1F-51A0596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7FE-3DEA-47A1-BCB5-B1EF5AD9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16FD-9D79-43A9-AE79-08C7C87A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2244-B033-4770-9DA9-0E72DEB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D08F-CB49-4BE4-B4ED-94B30D6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398F-D478-4986-82DE-B2FEDE59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77E5-A031-48AB-B156-1920804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6EE0-CAC0-4DAC-AEC9-EB017243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C70F-42A6-46A6-91D0-18C1D54D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9012-037C-4D30-8807-6C8E5C8B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C556-489C-4C05-972B-F122D3B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7A11-EC45-4FA3-8587-AD58338A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54D-59FA-4C80-A20B-71FC994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F4E8-C4FC-421D-9B30-AC441C1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5EB8-A489-4B87-BF26-3F8CA22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6683-3AAC-4766-B3EA-AC34D07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AB0E-20EF-4BA8-AC50-F5B01AB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2B2C-B823-4EB8-93DD-0BE9755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D6A8-3EAB-42FE-AC35-C3885FB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8535-C678-4C9B-A2A3-093838EC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C8A7-A94F-4EC5-B851-0D6C2D55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6ECD-98FF-42E4-8B8E-B1A47890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CDC4-0E8E-4D08-B2D9-E2A40A73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98F-A0EA-4572-8296-DBC9CC8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97E0-AB75-4BE5-ABBA-9E525090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F69B-0385-4F12-A702-939EB587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010C-9F65-4B9C-A70D-08473951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C3AE-8DB0-4540-93CF-2B65609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C7A3-D0AD-4BA9-A4C8-0FBA78E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6355-0204-48A6-8343-E7A5B8A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215C-BD13-4EEF-BCE0-E86922DE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A07E-830E-4EBA-BA2F-658B795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D809-075B-4C74-8B2E-196F53E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250B-708F-46C9-9E4A-2B15F10A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28E-E61F-4F0E-9602-8CAF162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A751-BD53-4E95-83F2-359A3897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909-9EFA-4882-B70B-E45DE0D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9D1-A06C-4769-B00C-A329E40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358-E85D-47F4-AE27-AF04CC9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4F0-103E-424C-AFF5-3D9499FCA29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A52-3FEF-4929-9EDC-6A243FAA861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D114-A9C2-486C-B38A-B567AC4A5DE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3F31-AA29-4E8A-80A9-13104EF56C4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76E-0316-4556-93CE-8C8D8C87851C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3280" y="22320"/>
            <a:ext cx="6946920" cy="348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orbel"/>
              </a:rPr>
              <a:t>Групповые упражнения как средство сплочения команды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240" y="5589360"/>
            <a:ext cx="67294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бедева Евгения Валерь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Рисунок 6" descr=""/>
          <p:cNvPicPr/>
          <p:nvPr/>
        </p:nvPicPr>
        <p:blipFill>
          <a:blip r:embed="rId1"/>
          <a:stretch/>
        </p:blipFill>
        <p:spPr>
          <a:xfrm>
            <a:off x="1994040" y="3521160"/>
            <a:ext cx="7149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Обычному человеку пу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от А до Я абсолютно очевиден, </a:t>
            </a:r>
            <a:br>
              <a:rPr sz="4000"/>
            </a:b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и они считают, что тут нет мест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для объяснений, 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УЧИТЕЛЬ</a:t>
            </a: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должен виде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СТУПЕНЬКИ</a:t>
            </a: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этого пут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93760" y="188640"/>
            <a:ext cx="705672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разграничения физкультуры и спорта в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обучении, предполагая, что физкультура для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всех, а занятия спортом – для желающих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самое широкое общение учащихся на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уроке; если физкультура для всех, то она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предполагает коллективные взаимодействия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Я – за то, чтобы физическую культуру как предмет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всегда выбирали дети и она была для них </a:t>
            </a:r>
            <a:br>
              <a:rPr sz="2500"/>
            </a:br>
            <a:r>
              <a:rPr b="0" lang="ru-RU" sz="2500" spc="-1" strike="noStrike">
                <a:solidFill>
                  <a:srgbClr val="212121"/>
                </a:solidFill>
                <a:latin typeface="Times New Roman"/>
              </a:rPr>
              <a:t>       главным предметом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          Я – за три принципа: ученик должен 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                 хотеть, мочь и уметь!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116000" y="620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Хотет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 постоянное желание школьника что-то делать на урок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Моч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 тот реальный индивидуальный показатель здоровья ребёнка, из которого приходится исходить при построении рабо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«Уметь»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- этот показатель определяется способностью учителя донести свои профессиональные знания до ученика, чтобы он научился применять их на практик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15640" y="404640"/>
            <a:ext cx="758196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Научить и душой обогреть – 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В этом весь наш учительский труд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И счастливее сделать сердц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Предстоит нам за 40 минут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ктор Шил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971640" y="260280"/>
            <a:ext cx="7921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пасиб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3085ed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085ed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 внимани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3085ed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"/>
          <p:cNvPicPr/>
          <p:nvPr/>
        </p:nvPicPr>
        <p:blipFill>
          <a:blip r:embed="rId2"/>
          <a:stretch/>
        </p:blipFill>
        <p:spPr>
          <a:xfrm>
            <a:off x="3311640" y="5122800"/>
            <a:ext cx="1882800" cy="17049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"/>
          <p:cNvPicPr/>
          <p:nvPr/>
        </p:nvPicPr>
        <p:blipFill>
          <a:blip r:embed="rId3"/>
          <a:stretch/>
        </p:blipFill>
        <p:spPr>
          <a:xfrm>
            <a:off x="5354640" y="41529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4"/>
          <a:stretch/>
        </p:blipFill>
        <p:spPr>
          <a:xfrm>
            <a:off x="3581280" y="3027240"/>
            <a:ext cx="147168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9:03:38Z</dcterms:created>
  <dc:creator>Customer</dc:creator>
  <dc:description/>
  <dc:language>en-US</dc:language>
  <cp:lastModifiedBy>Евгения Лебедева</cp:lastModifiedBy>
  <dcterms:modified xsi:type="dcterms:W3CDTF">2016-10-18T19:11:06Z</dcterms:modified>
  <cp:revision>12</cp:revision>
  <dc:subject/>
  <dc:title>Я – сторонник разграничения физкультуры и          спорта в преподавании.  Я – за самое широкое общение учащихся на          уроке при выполнении упражнений.  Я – за то, чтобы физическая культура стала          для всех детей главным предметом.  Я – за три принципа: ученик должен хотеть,          мочь и уметь. </dc:title>
</cp:coreProperties>
</file>