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3BB-11CB-4C03-9A4E-6689ACDB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226-BA74-47BF-950B-EF035F91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CA8-E635-46F2-94DB-E7E9E680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4443-68E1-4644-9F88-640F0475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7C9C-5DDD-4584-8651-77A94695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A3E4-2C2C-4288-BAB9-1CE43B56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103D-7554-4DE0-8462-36045F13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A2F6-7BD3-4F49-86BE-82247CD3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EA54-6335-4FC3-A454-4ED0BAE4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69A0-3049-42BC-840C-A7E7743A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26B3-02DB-4049-8EF2-8799F3F9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08CC-3A0E-4051-897D-EF54BC16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0A23-92FE-47E9-AD49-D6B22A16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DD1C-FE0C-4C3F-AE88-346570E2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A586-ED5A-40CC-8D09-221029FE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6D18-B0AE-42AC-A4AF-8C71784A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4FD4-9D49-409E-9A75-EB0023B4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B4227-8BC0-4A40-84EB-121EF3ED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16CD5-EB44-47E1-9F17-DD97E197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454C1-BF8F-45C9-A189-E63C0BDA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2F232-AE2A-423E-85D5-7639DE82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5C9DA-FCF7-4C78-9B6E-E326F5D7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A20-CCC0-4AAD-9BD9-02817D98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80DEE-3BEE-48DA-904F-9F127BB2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A12D0-95B5-4A8F-AD5D-F6B90E3F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D0467-0F61-4ABB-8C14-C8FC259D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298A4-A4B4-4519-89E6-5DB6F46E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2BE91-44AF-4D7F-8F49-DCC517B4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161F0-A9AC-4597-BD0A-42DAB230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D4FB5-F4F6-4A7A-9B4F-A1D7F927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4402F-6250-44BE-AC66-EB3126E2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5C407-F9DD-474C-8622-1951C8C1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AAD5C-E336-44B9-A070-F4790ABC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354-6C84-41F7-B0E7-108D5D68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C8C33-5696-4502-946F-2320A313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894E7-7ACF-44B2-B27B-B15AEE84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C051A-EEE9-4B87-AFF4-AB60B97B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23295-0BB6-4B10-8506-C240A19D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44883-86FC-440D-A56E-97EA3F6A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C85F5-4FDA-4DFF-9450-E61AEA94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38F06-CBBE-4973-B21F-042DE2EA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EA1B9-E93A-4DA4-88E8-C94FE33E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3DEA0-F83B-48BD-86F6-E5A6F879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AE71F-C86C-43B4-B508-96139A67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115-0CF4-4179-8938-2F1DF4EB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75102-20D6-48D8-8327-81F76CA9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94772-66CB-44BD-AB6C-4BA99FED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67DD6-92D7-4262-B970-48E922A7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247B8-D2FB-43B6-B86D-279A22B3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C44C3-9721-42A3-9316-A766F11B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EDCBC-4094-413B-AB37-ED16ECB9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AB0D9-5D13-4970-8528-FF88A354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EE2A4-13B3-493F-A905-01D068A3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CD790-B925-4F6D-ADA3-9D303B2B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AD7A9-A9FF-4726-85A7-7C2B6D8E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1047-8EEA-4148-A7A5-89E9BD09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17F63-AC6E-4F51-A848-C799A430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01750-94EF-4972-B9F5-1F8500A3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8F894-F84B-44A7-AE86-381B7FE3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2593D-9B36-4865-AED5-FA1E969C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AF63A-170F-40A2-8E61-8CD6BB41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C008E-F2C8-4FDD-87A9-FF8D6A28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9C35F-10AE-4C7B-B176-10CED98B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BDFAB-1620-4F7F-9E15-1C82571F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16ABE-744F-44B5-9602-00DA1849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63BBC-49A5-47FA-AB0F-A1B35B64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DF2-E4F8-43BB-99A1-7899D098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5F1F3-8CB3-4F3B-ABD3-93F55073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A67C3-CE42-42BB-ADBF-389E1AFB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F5064-035A-47BD-AB6C-2D352CEB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E917A-7BD0-4B4B-B8C5-A275226B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4CDF1-4D30-49E2-B762-84920C98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26B4B-C1C3-478D-8557-1CC7A84F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D3F1D-8BD3-4C27-B1C6-15B1F71F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C6DA6-D651-45C8-81C3-159A5E50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D464A-28E5-4D43-BB01-917F5366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374C1-2057-4DA0-A1BB-F8D63DE3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591-AB3E-4409-92B9-CF4A1254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64130-4AFA-4164-9642-FB382D49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2B959-4165-4897-9116-31249704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EDD0A-BE99-4E6D-9669-06285240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2EEB6-D97B-4DB7-A97A-910B70CB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A3A44-0DB1-4436-8556-89B81E90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FD5E1-2C90-4946-8B8B-577CD7C4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967CB-0EE4-4702-AC64-78FDB555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845AD-D3FD-476D-8D00-37A94883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CE60B-C853-4A8A-97B1-67026BC7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D602D-4E74-453E-9D27-65CF907D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BD4-352A-4661-A371-72B1FAE4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C4461-FA9B-4205-B5FB-E109FAA7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CA90C-809D-43A3-A158-3C79D0F4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CE8DA-487C-4187-A8D7-41950D6B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A9FCE-0EFA-4AEE-8DE4-D29839D3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8A5FC-1867-46EE-A3A3-F26E2D77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E382B-17E6-421C-A3D2-63EC25C1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F0053-6DE8-4946-A133-479019F6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5DBF-505D-490A-A32A-DD978FA2AC7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C24F-5B28-435B-9D6A-8C24D8AAF56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4F80-3DAC-4687-945A-FC56512EA54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337C-8195-45A1-A33F-77F9C4E3FD9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D2F1-C056-45FD-AD84-1D163250B9F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EBCC-61FE-40F9-B179-04601AFB89F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5103-DE9E-42CE-B81C-45FF04D65A1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AF34-F7F5-41A6-9AAD-359FF2E2946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781200" y="2852640"/>
            <a:ext cx="7783200" cy="25113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42960" y="571680"/>
            <a:ext cx="8215200" cy="364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da0d0"/>
                </a:solidFill>
                <a:latin typeface="Lucida Sans Unicode"/>
              </a:rPr>
              <a:t>Правила дорожного движения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da0d0"/>
                </a:solidFill>
                <a:latin typeface="Lucida Sans Unicode"/>
              </a:rPr>
              <a:t> </a:t>
            </a:r>
            <a:r>
              <a:rPr b="0" lang="ru-RU" sz="6000" spc="-1" strike="noStrike">
                <a:solidFill>
                  <a:srgbClr val="7da0d0"/>
                </a:solidFill>
                <a:latin typeface="Lucida Sans Unicode"/>
              </a:rPr>
              <a:t>для пешехода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Их основной цвет – синий, а форма – квадратная или прямоугольная. Эти знаки указывают, где пешеходный переход и место стоянки, направление к нужному населенному пункту и расстояние до него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Содержимое 3" descr="http://io.nios.ru/foto/Articles/027/619_9.png"/>
          <p:cNvPicPr/>
          <p:nvPr/>
        </p:nvPicPr>
        <p:blipFill>
          <a:blip r:embed="rId1"/>
          <a:stretch/>
        </p:blipFill>
        <p:spPr>
          <a:xfrm>
            <a:off x="642960" y="1928880"/>
            <a:ext cx="3429000" cy="35719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4" name="Рисунок 4" descr="http://io.nios.ru/foto/Articles/027/619_10.png"/>
          <p:cNvPicPr/>
          <p:nvPr/>
        </p:nvPicPr>
        <p:blipFill>
          <a:blip r:embed="rId2"/>
          <a:stretch/>
        </p:blipFill>
        <p:spPr>
          <a:xfrm>
            <a:off x="5429160" y="2143080"/>
            <a:ext cx="2571840" cy="29289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Содержимое 3" descr="http://io.nios.ru/foto/Articles/027/619_11.png"/>
          <p:cNvPicPr/>
          <p:nvPr/>
        </p:nvPicPr>
        <p:blipFill>
          <a:blip r:embed="rId1"/>
          <a:stretch/>
        </p:blipFill>
        <p:spPr>
          <a:xfrm>
            <a:off x="785880" y="1857240"/>
            <a:ext cx="8143920" cy="3571920"/>
          </a:xfrm>
          <a:prstGeom prst="rect">
            <a:avLst/>
          </a:prstGeom>
          <a:ln w="0">
            <a:noFill/>
          </a:ln>
        </p:spPr>
      </p:pic>
      <p:pic>
        <p:nvPicPr>
          <p:cNvPr id="39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1. Что такое тротуар?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2.</a:t>
            </a:r>
            <a:r>
              <a:rPr b="0" i="1" lang="ru-RU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Что такое зебра?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3. Кого называют пешеходом?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4. Как правильно обходить машину?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5. Как правильно обходить автобус и троллейбус?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6. Кого называют водителем?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7. Где следует ходить пешеходам?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8. Где можно играть детям на улице?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9. С какого возраста разрешается езда на велосипеде по дорогам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0. В каком возрасте можно получить удостоверение на право управления мотоциклом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1. Что обязательно должны делать люди, сидящие на передних сиденьях автомобиля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2. По какому краю дороги должны идти пешеходы в тех местах, где нет тротуара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13. Что такое железнодорожный переезд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14. Можно ли детям садиться на переднее сиденье легкового автомобиля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15. В каком возрасте можно получить удостоверение на управление автомобилем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16. Почему опасно пересекать улицу бегом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1. Ходите только по тротуару!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 Переходите улицу в местах, где имеются линии или указатели перехода, а где их нет – на перекрестках по линии тротуаров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3. Переходя улицу, посмотрите налево, а дойдя до середины – направо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4. На улицах и дорогах где движение регулируется, переходите проезжую часть только при зеленом сигнале светофора или разрешающем жесте регулировщика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5. Не перебегайте дорогу перед близко идущим транспортом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6. Не выходите на проезжую часть из-за стоящей машины или другой помехи обзору; в крайнем случае, остановитесь и внимательно посмотрите, что там за…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7. При переходе через улицу не стоит вести оживленную беседу – разговоры отвлекают мысли и взгляд от наблюдения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8. Не устраивайте игры и не катайтесь на коньках, лыжах и санках на проезжей части улицы!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802720" cy="15858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4" descr=""/>
          <p:cNvPicPr/>
          <p:nvPr/>
        </p:nvPicPr>
        <p:blipFill>
          <a:blip r:embed="rId1"/>
          <a:stretch/>
        </p:blipFill>
        <p:spPr>
          <a:xfrm>
            <a:off x="628560" y="781200"/>
            <a:ext cx="8058240" cy="3797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1.Научиться различать дорожные знаки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2.Повторить правила дорожного движения для пешехода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3.Осознанно относиться к проблеме дорожно-транспортного травматизм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Содержимое 3" descr="http://io.nios.ru/foto/Articles/027/619_2.jpg"/>
          <p:cNvPicPr/>
          <p:nvPr/>
        </p:nvPicPr>
        <p:blipFill>
          <a:blip r:embed="rId1"/>
          <a:stretch/>
        </p:blipFill>
        <p:spPr>
          <a:xfrm>
            <a:off x="1000080" y="2214720"/>
            <a:ext cx="3071880" cy="3286080"/>
          </a:xfrm>
          <a:prstGeom prst="rect">
            <a:avLst/>
          </a:prstGeom>
          <a:ln w="0">
            <a:noFill/>
          </a:ln>
        </p:spPr>
      </p:pic>
      <p:pic>
        <p:nvPicPr>
          <p:cNvPr id="37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4" descr="http://io.nios.ru/foto/Articles/027/619_3.jpg"/>
          <p:cNvPicPr/>
          <p:nvPr/>
        </p:nvPicPr>
        <p:blipFill>
          <a:blip r:embed="rId3"/>
          <a:stretch/>
        </p:blipFill>
        <p:spPr>
          <a:xfrm>
            <a:off x="5572080" y="2357280"/>
            <a:ext cx="2571840" cy="2714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реугольные, а периметр треугольника красного цвета. Между собой знаки этой группы различаются рисунками внутри треугольника. Нарисованы бегущие дети – предупреждение водителю – приближается школа, детский сад. Автомобиль с извилистым следом шин в треугольнике предупреждает о том, что впереди скользкая дорог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Содержимое 3" descr="http://io.nios.ru/foto/Articles/027/619_4.png"/>
          <p:cNvPicPr/>
          <p:nvPr/>
        </p:nvPicPr>
        <p:blipFill>
          <a:blip r:embed="rId1"/>
          <a:stretch/>
        </p:blipFill>
        <p:spPr>
          <a:xfrm>
            <a:off x="1285920" y="357120"/>
            <a:ext cx="6348240" cy="20574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1" name="Рисунок 4" descr="http://io.nios.ru/foto/Articles/027/619_5.jpg"/>
          <p:cNvPicPr/>
          <p:nvPr/>
        </p:nvPicPr>
        <p:blipFill>
          <a:blip r:embed="rId2"/>
          <a:stretch/>
        </p:blipFill>
        <p:spPr>
          <a:xfrm>
            <a:off x="2500200" y="2786040"/>
            <a:ext cx="4071960" cy="32148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ображения и цифры, нарисованные внутри красного круга, точно и категорически говорят, что именно данный знак запрещает. Вы должны знать о знаках, запрещающих пешеходное и велосипедное движение. Белая широкая горизонтальная полоса в сплошном красном круге запрещает въезд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Содержимое 3" descr="http://io.nios.ru/foto/Articles/027/619_7.png"/>
          <p:cNvPicPr/>
          <p:nvPr/>
        </p:nvPicPr>
        <p:blipFill>
          <a:blip r:embed="rId1"/>
          <a:stretch/>
        </p:blipFill>
        <p:spPr>
          <a:xfrm>
            <a:off x="1285920" y="2286000"/>
            <a:ext cx="6786360" cy="30002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У этих знаков изображения и цифры расположены в круге синего цвета. Белые стрелки предписывают направление движения. Белые цифры на синем фоне предписывают водителю не максимальную, а минимальную скорость, или ехать медленно опасно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Содержимое 3" descr="http://io.nios.ru/foto/Articles/027/619_8.jpg"/>
          <p:cNvPicPr/>
          <p:nvPr/>
        </p:nvPicPr>
        <p:blipFill>
          <a:blip r:embed="rId1"/>
          <a:stretch/>
        </p:blipFill>
        <p:spPr>
          <a:xfrm>
            <a:off x="2643120" y="2286000"/>
            <a:ext cx="3000600" cy="2928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4:14:10Z</dcterms:created>
  <dc:creator>User</dc:creator>
  <dc:description/>
  <dc:language>en-US</dc:language>
  <cp:lastModifiedBy>Ирина Васильевна</cp:lastModifiedBy>
  <dcterms:modified xsi:type="dcterms:W3CDTF">2016-03-31T09:07:01Z</dcterms:modified>
  <cp:revision>8</cp:revision>
  <dc:subject/>
  <dc:title>Классный час</dc:title>
</cp:coreProperties>
</file>