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9B0-A9C9-48C9-9379-2C2502B0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A2B8-565F-4846-85C5-FF171C5F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B1E-7CBC-4379-8576-D39E85C6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4A31-B1FC-4802-82CB-4A94286C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60E9-A5C4-4B72-ACCF-E199F012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F949-7C38-4E29-A823-2BA68D85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F530-99A0-4D0D-8355-F0B05023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15D7-BD1F-45D8-A03B-8D51B412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2546-D0E3-4EEA-9222-6FAC6B05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9CE5-EA43-4AE4-9F5E-B03315A4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95AE-6F15-4618-B645-3F9F3CEA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113-C7D9-43FE-9681-86691774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D264-D899-48CE-A36A-BFDA7470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B4B3-2B20-4791-8624-C1A1C4C0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160B-39AA-43E0-9E14-4E64B664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293C-EEC0-4133-B4B5-05042633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4DB3-96DC-44C3-98F4-D5AAD5D8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87B0F-548B-4075-A6B9-68C55696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E1905-3F1F-4360-81F8-DFAD35F2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5B918-4AB1-422E-B18B-4C953BC2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57C93-24FA-4EBD-BA4C-DB02107C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238C6-357A-4D4E-AB8B-F9D97CD6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A86-98DE-41EA-B888-00DE3B67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51CE0-AB41-4F23-821E-330B00B6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AD29E-CA95-47B0-80E7-CAB8CFBA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18194-9AD6-4469-A256-1AA03883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D6DBF-099B-4CEB-B83E-8DC5E3FA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46E16-A87E-42FB-846C-1ABC57FD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CBFC1-A8D4-4CB1-8981-60C48A29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336C2-BCAC-458D-B496-190B81DE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3E416-B80E-4698-A385-489E9412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C364A-D155-4E05-9FEE-6691AB5E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344DE-A2AA-40B6-97F9-8D0DDDE4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020-2489-45EF-AF2E-714D17FD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B6D6C-9CDA-4FFE-9C4D-5FAEC4CA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5310A-70B6-436E-9044-ED2AC96C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9C644-D1D3-4044-ACE6-6339CE5B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079B0-17FD-438F-A15C-01A8973B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C179F-7331-4D49-A205-4493F2EC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C6FBF-FAC7-4C71-9A61-A1991437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B4A84-D46D-45C7-85A0-EE82F59F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8A80F-E2A0-48F0-B012-DA32C618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551AC-5A03-4123-818F-D4C46FA9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9A31B-54C4-4061-982D-CCB5CFCD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F64-8B81-44AA-A319-155A6C95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4EF81-1556-4CEB-848C-C257047C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9A57E-CFA8-41ED-ACE6-B0D0D4C7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4AB1F-B363-4835-B163-69CF38DB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AC051-E530-42E9-A04A-BD12A572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3167B-2357-43CD-9CC7-07742BA8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C0BAC-4753-4928-9515-BF9CBB37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4C06F-0AB4-4959-8F37-D8AFC0CD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3E262-0AC2-439E-908F-AC331B27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412CB-7B3F-4B6F-B40B-997067E5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63142-189D-42F9-9674-1859CE97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210-3E3F-40E2-A726-142A3E5E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44D6D-8441-4C08-9A14-E69320A7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FFE73-82A0-4704-995E-2CB0635F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20685-5CA1-459C-B006-5FA633B6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DACE2-2335-4AC4-9BD5-80DDA357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1BBC3-F03B-421E-A5E4-F859C60E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4FF16-0836-4A34-B502-5F97850D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53B7F-9DDD-4E89-A1DD-EFE40935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83390-EE71-4616-B57A-855ED934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BF32E-039A-4621-A515-57DABFA3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29C14-942C-49EF-8B7B-BB889F5F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08C-4C4B-4C07-918F-13694F83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A2D39-09B8-4F85-8985-B653450E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28E7A-8929-42C4-BAD8-C7605707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AE4D8-F2FE-48A9-BC66-DA74239F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AD22C-5048-47F9-A40B-00CE260C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A5CE2-4BEA-4E29-91FD-262407A8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8A451-A88F-42A2-B6C7-BAC51CC5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87501-ADD0-46B4-8708-AE62E8DD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767E4-ABDA-4327-B090-0A803142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A6ED4-C804-4A1D-B999-E71D0BEE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E37E3-4BCE-43ED-905A-698B7DF7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F0E-9DC1-46DD-87A6-9464B2BA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A3FA7-75BE-4D71-98F9-962F267F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093D9-6B4F-488F-9174-734280A7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D6F0B-4F3E-46FE-B425-1DD15E75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D6C50-7BA3-4702-B216-60ACB7E3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AF371-272D-4EE3-908D-EC721932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EB547-0800-417E-9332-B843B35F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3923C-E755-4B11-A184-B6620615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EBBFE-A2AB-41CD-A034-672C5870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B48A9-0D30-4B11-B214-B4C4ED31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66AAB-0ED4-4EF1-BBB1-056A74AC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A28-3F80-4106-AE34-81899912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FC0C5-EA4E-44D6-9ABB-4E5E7455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605D3-2F70-4E52-86CB-DD3C4AE7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B66AC-CEDA-4786-A2EB-B46A5BC4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05147-40EC-4CB3-AF3C-71F0CD65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93BAC-B608-487B-9836-9570053D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B904A-9F1E-4896-9419-F9D5AACE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2BAF1-4A9E-45D3-AE34-F106A5CD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B575-0978-4904-8156-79738EA3C16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D140-1E67-44A3-841F-489072542DD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F712-9F71-4040-A907-1371AB48951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E05C-CAE8-4970-A1EE-CD048738DDA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7335-D046-455A-A2F8-19FA1EF481A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11DF-F52A-4A4D-894F-F3462662979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1E5F-A0BB-4B07-A4EC-AA65B5DCF6B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C677-0AE9-4EA3-86C9-8AA24F44A05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781200" y="2852640"/>
            <a:ext cx="7783200" cy="25113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42960" y="571680"/>
            <a:ext cx="8215200" cy="364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da0d0"/>
                </a:solidFill>
                <a:latin typeface="Lucida Sans Unicode"/>
              </a:rPr>
              <a:t>Правила дорожного движения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da0d0"/>
                </a:solidFill>
                <a:latin typeface="Lucida Sans Unicode"/>
              </a:rPr>
              <a:t> </a:t>
            </a:r>
            <a:r>
              <a:rPr b="0" lang="ru-RU" sz="6000" spc="-1" strike="noStrike">
                <a:solidFill>
                  <a:srgbClr val="7da0d0"/>
                </a:solidFill>
                <a:latin typeface="Lucida Sans Unicode"/>
              </a:rPr>
              <a:t>для пешехода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Их основной цвет – синий, а форма – квадратная или прямоугольная. Эти знаки указывают, где пешеходный переход и место стоянки, направление к нужному населенному пункту и расстояние до него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Содержимое 3" descr="http://io.nios.ru/foto/Articles/027/619_9.png"/>
          <p:cNvPicPr/>
          <p:nvPr/>
        </p:nvPicPr>
        <p:blipFill>
          <a:blip r:embed="rId1"/>
          <a:stretch/>
        </p:blipFill>
        <p:spPr>
          <a:xfrm>
            <a:off x="642960" y="1928880"/>
            <a:ext cx="3429000" cy="35719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4" name="Рисунок 4" descr="http://io.nios.ru/foto/Articles/027/619_10.png"/>
          <p:cNvPicPr/>
          <p:nvPr/>
        </p:nvPicPr>
        <p:blipFill>
          <a:blip r:embed="rId2"/>
          <a:stretch/>
        </p:blipFill>
        <p:spPr>
          <a:xfrm>
            <a:off x="5429160" y="2143080"/>
            <a:ext cx="2571840" cy="29289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Содержимое 3" descr="http://io.nios.ru/foto/Articles/027/619_11.png"/>
          <p:cNvPicPr/>
          <p:nvPr/>
        </p:nvPicPr>
        <p:blipFill>
          <a:blip r:embed="rId1"/>
          <a:stretch/>
        </p:blipFill>
        <p:spPr>
          <a:xfrm>
            <a:off x="785880" y="1857240"/>
            <a:ext cx="8143920" cy="3571920"/>
          </a:xfrm>
          <a:prstGeom prst="rect">
            <a:avLst/>
          </a:prstGeom>
          <a:ln w="0">
            <a:noFill/>
          </a:ln>
        </p:spPr>
      </p:pic>
      <p:pic>
        <p:nvPicPr>
          <p:cNvPr id="39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1. Что такое тротуар?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2.</a:t>
            </a:r>
            <a:r>
              <a:rPr b="0" i="1" lang="ru-RU" sz="4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Что такое зебра?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3. Кого называют пешеходом?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4. Как правильно обходить машину?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5. Как правильно обходить автобус и троллейбус?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6. Кого называют водителем?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7. Где следует ходить пешеходам?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8. Где можно играть детям на улице?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9. С какого возраста разрешается езда на велосипеде по дорогам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0. В каком возрасте можно получить удостоверение на право управления мотоциклом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1. Что обязательно должны делать люди, сидящие на передних сиденьях автомобиля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2. По какому краю дороги должны идти пешеходы в тех местах, где нет тротуара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13. Что такое железнодорожный переезд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14. Можно ли детям садиться на переднее сиденье легкового автомобиля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15. В каком возрасте можно получить удостоверение на управление автомобилем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16. Почему опасно пересекать улицу бегом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1. Ходите только по тротуару!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 Переходите улицу в местах, где имеются линии или указатели перехода, а где их нет – на перекрестках по линии тротуаров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3. Переходя улицу, посмотрите налево, а дойдя до середины – направо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4. На улицах и дорогах где движение регулируется, переходите проезжую часть только при зеленом сигнале светофора или разрешающем жесте регулировщика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5. Не перебегайте дорогу перед близко идущим транспортом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6. Не выходите на проезжую часть из-за стоящей машины или другой помехи обзору; в крайнем случае, остановитесь и внимательно посмотрите, что там за…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7. При переходе через улицу не стоит вести оживленную беседу – разговоры отвлекают мысли и взгляд от наблюдения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8. Не устраивайте игры и не катайтесь на коньках, лыжах и санках на проезжей части улицы!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802720" cy="15858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4" descr=""/>
          <p:cNvPicPr/>
          <p:nvPr/>
        </p:nvPicPr>
        <p:blipFill>
          <a:blip r:embed="rId1"/>
          <a:stretch/>
        </p:blipFill>
        <p:spPr>
          <a:xfrm>
            <a:off x="628560" y="781200"/>
            <a:ext cx="8058240" cy="3797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1.Научиться различать дорожные знаки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2.Повторить правила дорожного движения для пешехода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3.Осознанно относиться к проблеме дорожно-транспортного травматизм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Содержимое 3" descr="http://io.nios.ru/foto/Articles/027/619_2.jpg"/>
          <p:cNvPicPr/>
          <p:nvPr/>
        </p:nvPicPr>
        <p:blipFill>
          <a:blip r:embed="rId1"/>
          <a:stretch/>
        </p:blipFill>
        <p:spPr>
          <a:xfrm>
            <a:off x="1000080" y="2214720"/>
            <a:ext cx="3071880" cy="3286080"/>
          </a:xfrm>
          <a:prstGeom prst="rect">
            <a:avLst/>
          </a:prstGeom>
          <a:ln w="0">
            <a:noFill/>
          </a:ln>
        </p:spPr>
      </p:pic>
      <p:pic>
        <p:nvPicPr>
          <p:cNvPr id="37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4" descr="http://io.nios.ru/foto/Articles/027/619_3.jpg"/>
          <p:cNvPicPr/>
          <p:nvPr/>
        </p:nvPicPr>
        <p:blipFill>
          <a:blip r:embed="rId3"/>
          <a:stretch/>
        </p:blipFill>
        <p:spPr>
          <a:xfrm>
            <a:off x="5572080" y="2357280"/>
            <a:ext cx="2571840" cy="2714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реугольные, а периметр треугольника красного цвета. Между собой знаки этой группы различаются рисунками внутри треугольника. Нарисованы бегущие дети – предупреждение водителю – приближается школа, детский сад. Автомобиль с извилистым следом шин в треугольнике предупреждает о том, что впереди скользкая дорог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Содержимое 3" descr="http://io.nios.ru/foto/Articles/027/619_4.png"/>
          <p:cNvPicPr/>
          <p:nvPr/>
        </p:nvPicPr>
        <p:blipFill>
          <a:blip r:embed="rId1"/>
          <a:stretch/>
        </p:blipFill>
        <p:spPr>
          <a:xfrm>
            <a:off x="1285920" y="357120"/>
            <a:ext cx="6348240" cy="20574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1" name="Рисунок 4" descr="http://io.nios.ru/foto/Articles/027/619_5.jpg"/>
          <p:cNvPicPr/>
          <p:nvPr/>
        </p:nvPicPr>
        <p:blipFill>
          <a:blip r:embed="rId2"/>
          <a:stretch/>
        </p:blipFill>
        <p:spPr>
          <a:xfrm>
            <a:off x="2500200" y="2786040"/>
            <a:ext cx="4071960" cy="32148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ображения и цифры, нарисованные внутри красного круга, точно и категорически говорят, что именно данный знак запрещает. Вы должны знать о знаках, запрещающих пешеходное и велосипедное движение. Белая широкая горизонтальная полоса в сплошном красном круге запрещает въезд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Содержимое 3" descr="http://io.nios.ru/foto/Articles/027/619_7.png"/>
          <p:cNvPicPr/>
          <p:nvPr/>
        </p:nvPicPr>
        <p:blipFill>
          <a:blip r:embed="rId1"/>
          <a:stretch/>
        </p:blipFill>
        <p:spPr>
          <a:xfrm>
            <a:off x="1285920" y="2286000"/>
            <a:ext cx="6786360" cy="30002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У этих знаков изображения и цифры расположены в круге синего цвета. Белые стрелки предписывают направление движения. Белые цифры на синем фоне предписывают водителю не максимальную, а минимальную скорость, или ехать медленно опасно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Содержимое 3" descr="http://io.nios.ru/foto/Articles/027/619_8.jpg"/>
          <p:cNvPicPr/>
          <p:nvPr/>
        </p:nvPicPr>
        <p:blipFill>
          <a:blip r:embed="rId1"/>
          <a:stretch/>
        </p:blipFill>
        <p:spPr>
          <a:xfrm>
            <a:off x="2643120" y="2286000"/>
            <a:ext cx="3000600" cy="2928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4:14:10Z</dcterms:created>
  <dc:creator>User</dc:creator>
  <dc:description/>
  <dc:language>en-US</dc:language>
  <cp:lastModifiedBy>Ирина Васильевна</cp:lastModifiedBy>
  <dcterms:modified xsi:type="dcterms:W3CDTF">2016-03-31T09:07:01Z</dcterms:modified>
  <cp:revision>8</cp:revision>
  <dc:subject/>
  <dc:title>Классный час</dc:title>
</cp:coreProperties>
</file>