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gif" ContentType="image/gif"/>
  <Override PartName="/ppt/media/image24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617-E44E-4E44-AE56-A1AEB763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6F7-EBE8-4C60-83E9-3BA7296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F37-BCB2-4FF9-B58C-542D1C70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709-C75A-463B-9726-57E9C8C3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B85D-F352-4414-8DB8-124BBD6C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681-9FE6-4D6B-8ED8-DB8708C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41E-4C68-4D3B-BD97-838D666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C06-A633-4FBC-BCFE-CE3224FF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468-80C0-4232-B7A6-7910A256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617-B974-4DC9-926D-1DCE076E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C8F-AAEE-43CE-BFE6-85AC504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BA4-3478-4538-B97F-0CB3110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7D66-D7C9-4FFA-9CA5-F2C107D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847-8CF5-4BDE-9954-D58F744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E6E9-9BE4-4349-B8D5-8DD2D01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5FD6-F3EE-48D9-9793-CA16CCDC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827F-E503-4148-8187-9EA2BAAF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456-C3CF-4F23-8C37-651F047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65B-DA93-429A-926D-4A1B0AB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D7E-2FC7-4713-993C-4F07419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C36-B803-4304-ACE7-87864073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439-2EC3-42EB-AE1A-A8F2B37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3DC-313E-4109-BB3A-A486006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A13-E1BB-4A40-9D08-406B445A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F67-3A56-4C1C-A911-5D1801B91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955-DF9E-441B-B7F5-92BC7AA1F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lenm/lenm1008/lenm100800171/7615543-children-playing-with-musical-instruments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shutterstock.com/display_pic_with_logo/437/437,1234276936,17/stock-vector-musical-kids-vector-24855205.jp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tatic4.depositphotos.com/1007989/275/v/950/depositphotos_2755112-Musical.jp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pt-italia.org/images_subpages/conductor.jp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зыкально-дидактиче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ла  Отрешко Л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украси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у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здание условий для определенного эмоционального отк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тей на настроение музыкального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кать внимание детей к богатству и красоте звуков окружающей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эмоциональную отзывчивость на инструментальную классическую музы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звать радость у ребят от выполнения творческого самовыражения   в рисун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е диски с произведениями П.И.Чайковского «Времена г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няя песня» и А.Вивальди «Времена года»Концерт «Осень» 2 ча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готовки листьев разной формы, акварельные кра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im4-tub-ru.yandex.net/i?id=309043633-38-72"/>
          <p:cNvPicPr/>
          <p:nvPr/>
        </p:nvPicPr>
        <p:blipFill>
          <a:blip r:embed="rId1"/>
          <a:stretch/>
        </p:blipFill>
        <p:spPr>
          <a:xfrm rot="19514400">
            <a:off x="7740720" y="27468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im4-tub-ru.yandex.net/i?id=48871284-48-72"/>
          <p:cNvPicPr/>
          <p:nvPr/>
        </p:nvPicPr>
        <p:blipFill>
          <a:blip r:embed="rId2"/>
          <a:stretch/>
        </p:blipFill>
        <p:spPr>
          <a:xfrm rot="1774800">
            <a:off x="539280" y="243000"/>
            <a:ext cx="104796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im2-tub-ru.yandex.net/i?id=52948311-03-72"/>
          <p:cNvPicPr/>
          <p:nvPr/>
        </p:nvPicPr>
        <p:blipFill>
          <a:blip r:embed="rId3"/>
          <a:stretch/>
        </p:blipFill>
        <p:spPr>
          <a:xfrm rot="2008800">
            <a:off x="7548120" y="2176560"/>
            <a:ext cx="1047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Ход игр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сегодня мы с вами поговорим о музыке. Музыка всегда с нами. Она внутри нас, она вокруг на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музыки не проживу и дн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во мне. Она вокруг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пенье птиц, и в шуме гор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лчанье  трав и в радуге цвет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зареве рассвета над земле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везде и вечный спутник мо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 Гаджикаси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егодня у нас путешествие в волшебный л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лон тайн и удивительных чуде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ложить детям прослушать музыкальные произведения: П.И.Чайковский «Времена года». «Осенняя песня»  и  А. Вивальди «Времена года» Концерт «Осень» 2-я ча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тьев целые охап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орожках, на тра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ерем букет крас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забаву детворе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http://www.nanya.ru/beta/i/articles/94e75ab0f22d1911c45fd0e21991b598leaves2.jpg"/>
          <p:cNvPicPr/>
          <p:nvPr/>
        </p:nvPicPr>
        <p:blipFill>
          <a:blip r:embed="rId1"/>
          <a:stretch/>
        </p:blipFill>
        <p:spPr>
          <a:xfrm>
            <a:off x="6156360" y="1628640"/>
            <a:ext cx="2428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01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Ход игр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выбрать  и раскрасить листья, свободно импровизируя цветовой гаммой и отте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-ка, ка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тья разные, рез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ной тонкой кисть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раскрасим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сный, желтый, золотой -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хорош ты, лист цвет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занятия педагог проводит арт-терапевтическую технику направленной  визуализаци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вы возьмите каждый свой листик, закроете глаз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сскажите, какое желание исполнил бы ваш листоч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листочками нам стать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, два, три, четыре, пять,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о всем в ладоши хлопну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том, потом, по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рнуться всем круго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ребенок рассказывает про свой волшебный  листоч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Картинка 47 из 14321"/>
          <p:cNvPicPr/>
          <p:nvPr/>
        </p:nvPicPr>
        <p:blipFill>
          <a:blip r:embed="rId1"/>
          <a:stretch/>
        </p:blipFill>
        <p:spPr>
          <a:xfrm rot="5019000">
            <a:off x="6087600" y="1285920"/>
            <a:ext cx="20862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0" descr="http://im0-tub-ru.yandex.net/i?id=225520748-29-72"/>
          <p:cNvPicPr/>
          <p:nvPr/>
        </p:nvPicPr>
        <p:blipFill>
          <a:blip r:embed="rId1"/>
          <a:stretch/>
        </p:blipFill>
        <p:spPr>
          <a:xfrm>
            <a:off x="5148360" y="1817640"/>
            <a:ext cx="1368360" cy="67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://im0-tub-ru.yandex.net/i?id=225520748-29-72"/>
          <p:cNvPicPr/>
          <p:nvPr/>
        </p:nvPicPr>
        <p:blipFill>
          <a:blip r:embed="rId2"/>
          <a:stretch/>
        </p:blipFill>
        <p:spPr>
          <a:xfrm>
            <a:off x="6732720" y="1413000"/>
            <a:ext cx="1428480" cy="80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зыкальные  подарки для ёлоч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Цель: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здать игровую мотивацию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фантазию, творчество в процессе создания игрового образа, поощрять неповторим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жнять в изображении музыкально-игровых образов с помощью мимики, жестов, интон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 с музыкальными произведениями «Медведь» муз. В.Ребикова, «Лиса крадется» муз. Е.Тиличеевой, «Зайчиха» муз. Е.Тиличеевой, чудесный мешочек с игрушками мишка, зайчик, лисич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Картинка 123 из 60829"/>
          <p:cNvPicPr/>
          <p:nvPr/>
        </p:nvPicPr>
        <p:blipFill>
          <a:blip r:embed="rId3"/>
          <a:stretch/>
        </p:blipFill>
        <p:spPr>
          <a:xfrm>
            <a:off x="6372360" y="0"/>
            <a:ext cx="21636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01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Ход игр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836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ыли бы у елочки ножк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бежала бы она по дорожк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лясала бы она вместе с нам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стучала бы она каблучкам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ружились бы на елочке игрушки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ноцветные фонарики, хлопушк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Дети рассматривают елочк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ейчас мы будем с вами елочку наряжать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лагаю вам одну интересную игр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до будет отгадать и движеньем показа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ого, чья  будет музыка звучать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ети слушают пьесы «Медведь» муз. В.Ребикова, « Лиса крадется» муз. Е.Тиличеевой, «Зайчиха» муз. Е.Тиличеевой.  В соответствии с образным звучанием пьес, выполняют игровые движения, передающие образ мишки, зайчика, лисич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сле верного ответа, ребенок  из чудесного мешочка достают игрушку и вешает на елочк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ак хороша музыкальная елк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ак нарядилась она, погляди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латье у елки зеленого шелк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рко на ветках горят огоньки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ружно встанем в хоров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станцуем вмест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усть сегодня здесь звуча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етский смех и песни.      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оровод вокруг елоч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Группа 3"/>
          <p:cNvGrpSpPr/>
          <p:nvPr/>
        </p:nvGrpSpPr>
        <p:grpSpPr>
          <a:xfrm>
            <a:off x="5364000" y="549360"/>
            <a:ext cx="3133800" cy="2158920"/>
            <a:chOff x="5364000" y="549360"/>
            <a:chExt cx="3133800" cy="2158920"/>
          </a:xfrm>
        </p:grpSpPr>
        <p:pic>
          <p:nvPicPr>
            <p:cNvPr id="132" name="Picture 2" descr="http://im8-tub-ru.yandex.net/i?id=164967636-04-72"/>
            <p:cNvPicPr/>
            <p:nvPr/>
          </p:nvPicPr>
          <p:blipFill>
            <a:blip r:embed="rId1"/>
            <a:stretch/>
          </p:blipFill>
          <p:spPr>
            <a:xfrm>
              <a:off x="6159960" y="549360"/>
              <a:ext cx="162972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Группа 5"/>
            <p:cNvGrpSpPr/>
            <p:nvPr/>
          </p:nvGrpSpPr>
          <p:grpSpPr>
            <a:xfrm>
              <a:off x="5364000" y="1533960"/>
              <a:ext cx="3133800" cy="1174320"/>
              <a:chOff x="5364000" y="1533960"/>
              <a:chExt cx="3133800" cy="1174320"/>
            </a:xfrm>
          </p:grpSpPr>
          <p:pic>
            <p:nvPicPr>
              <p:cNvPr id="134" name="Picture 6" descr="http://im7-tub-ru.yandex.net/i?id=405401092-51-72"/>
              <p:cNvPicPr/>
              <p:nvPr/>
            </p:nvPicPr>
            <p:blipFill>
              <a:blip r:embed="rId2"/>
              <a:stretch/>
            </p:blipFill>
            <p:spPr>
              <a:xfrm flipH="1">
                <a:off x="7512840" y="1533960"/>
                <a:ext cx="984960" cy="117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4" descr="http://im5-tub-ru.yandex.net/i?id=467973713-55-72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1569960"/>
                <a:ext cx="1101600" cy="113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6" name="Picture 2" descr="http://im7-tub-ru.yandex.net/i?id=524650798-37-72"/>
          <p:cNvPicPr/>
          <p:nvPr/>
        </p:nvPicPr>
        <p:blipFill>
          <a:blip r:embed="rId4"/>
          <a:stretch/>
        </p:blipFill>
        <p:spPr>
          <a:xfrm>
            <a:off x="6377040" y="2139840"/>
            <a:ext cx="1197000" cy="1197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im4-tub-ru.yandex.net/i?id=289940726-27-72"/>
          <p:cNvPicPr/>
          <p:nvPr/>
        </p:nvPicPr>
        <p:blipFill>
          <a:blip r:embed="rId5"/>
          <a:stretch/>
        </p:blipFill>
        <p:spPr>
          <a:xfrm>
            <a:off x="7262640" y="333360"/>
            <a:ext cx="15465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им мы игра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ркестр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ить детей самостоятельно объединя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ансамб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зировать интерес детей к различным видам музыкаль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итмического сл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коммуникативные навыки в игре, доброжелательное отношение друг к дру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авить детям радость от совместной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й центр, музыкальные диски, подбор ударных инструментов (треугольники, бубны, палочки, колокольчи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Картинка 13 из 271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89000"/>
            <a:ext cx="25398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age.shutterstock.com/display_pic_with_logo/437/437,1234276936,17/stock-vector-musical-kids-vector-24855205.jpg">
            <a:hlinkClick r:id="rId1"/>
          </p:cNvPr>
          <p:cNvPicPr/>
          <p:nvPr/>
        </p:nvPicPr>
        <p:blipFill>
          <a:blip r:embed="rId2"/>
          <a:srcRect l="0" t="0" r="0" b="7555"/>
          <a:stretch/>
        </p:blipFill>
        <p:spPr>
          <a:xfrm>
            <a:off x="5867280" y="692280"/>
            <a:ext cx="3035520" cy="223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84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сительный би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рю я вам на свой конце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рт немного необычны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ас он тоже непривыч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ходите, не стесняйте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здоровье удивляйтесь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тоят по кругу, перед ними лежат инструменты ( треугольники,  бубны, палочки, колокольчики).  Звучит музыка, дети идут по кругу.  С окончанием музыки дети берут инструменты, кому не досталось инструмента, выходит дирижиро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рижера назначаем – и в оркестре поигр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рукой его следите, вместе музыкальный ритм вед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ти отстукивают ритм по показу дирижер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а 1 из 270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4140360"/>
            <a:ext cx="2050920" cy="26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Картинка 76 из 73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2200" y="1562040"/>
            <a:ext cx="10238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Веселый дожд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креплять у детей чувство рит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ритмический слу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коммуникативные навыки в игре, доброжелательное отношение друг к дру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мение передавать свои впечатления в рису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ограмма звучания дождя, музыкальное сопровождение – «Дождь и радуга» С.Прокофьева,  фланелеграф,  металлофон, карточки  «капельки дождя» и тучки,  альбом для рисования, акварельные краски.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Картинка 108 из 160582"/>
          <p:cNvPicPr/>
          <p:nvPr/>
        </p:nvPicPr>
        <p:blipFill>
          <a:blip r:embed="rId1"/>
          <a:stretch/>
        </p:blipFill>
        <p:spPr>
          <a:xfrm>
            <a:off x="6227640" y="981000"/>
            <a:ext cx="2401920" cy="20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im3-tub-ru.yandex.net/i?id=21616759-45-72"/>
          <p:cNvPicPr/>
          <p:nvPr/>
        </p:nvPicPr>
        <p:blipFill>
          <a:blip r:embed="rId2"/>
          <a:srcRect l="19520" t="0" r="0" b="0"/>
          <a:stretch/>
        </p:blipFill>
        <p:spPr>
          <a:xfrm>
            <a:off x="1042920" y="409680"/>
            <a:ext cx="1150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155736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Звучит фонограмма звучания дожд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Педагог: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Кап-кап-кап, кап-кап-кап 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ждь веселый лье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ы хотим его поймать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 он не дае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п-кап-кап, кап-кап-кап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 зонтам, по крыша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ждик весело стуч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 сильней, то тиш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Картинка 95 из 967"/>
          <p:cNvPicPr/>
          <p:nvPr/>
        </p:nvPicPr>
        <p:blipFill>
          <a:blip r:embed="rId1"/>
          <a:stretch/>
        </p:blipFill>
        <p:spPr>
          <a:xfrm>
            <a:off x="5867280" y="1484280"/>
            <a:ext cx="2727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456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3240" y="980640"/>
            <a:ext cx="86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лушают -  педагог ударяет – тихо или громко – по пластинке металлофона («падают капли дождя», «идет сильный дождь»), показывают руки при громкой музыке, прячут их при тихой, хлопают в ладоши тихо или громко, в соответствии со звуча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тмический рисунок выложен на фланелеграфе - дети отстукивают ритмический рисунок по показу (короткие звуки в ладошки, долгий звук – по коленочк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m2-tub-ru.yandex.net/i?id=238490140-01-72"/>
          <p:cNvPicPr/>
          <p:nvPr/>
        </p:nvPicPr>
        <p:blipFill>
          <a:blip r:embed="rId1"/>
          <a:stretch/>
        </p:blipFill>
        <p:spPr>
          <a:xfrm>
            <a:off x="5580000" y="4451400"/>
            <a:ext cx="197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поочередно импровизируют ритмический рисунок дожд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посчитать сколько капелек упало  из ту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поиграть в пальчиковую иг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альчиков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лько знаю я дождей?      -  прикасаться пальчиками по очереди 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читайте поскорей:               большому, начиная с указатель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ветром,                   -   поочередно загибать пальцы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ь гриб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радугой-дуг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солнце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град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рыжим листопадом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ожить детям самостоятельно решить , какой дождь будут рисо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ое сопровождение – «Дождь и радуга» С.Прокофь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im2-tub-ru.yandex.net/i?id=238490140-01-72"/>
          <p:cNvPicPr/>
          <p:nvPr/>
        </p:nvPicPr>
        <p:blipFill>
          <a:blip r:embed="rId1"/>
          <a:stretch/>
        </p:blipFill>
        <p:spPr>
          <a:xfrm>
            <a:off x="5724360" y="3789360"/>
            <a:ext cx="197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ить детей определять характер музыки, выполнять движения в соответствии с музы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ритмический сл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коммуникативные навыки, моторику рук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зыкальные диски с плясовой музыкой и колыбельной, кукла Оля,  фланелеграф, карточки-ладошки разного размера для выкладывания ритмического рисунка,  для определения характера музыки карточки-ладошки желтого и зеленого цвета.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pictureshack.ru/gthumbs/3818ladosh.jpg"/>
          <p:cNvPicPr/>
          <p:nvPr/>
        </p:nvPicPr>
        <p:blipFill>
          <a:blip r:embed="rId1"/>
          <a:srcRect l="13366" t="17856" r="0" b="15289"/>
          <a:stretch/>
        </p:blipFill>
        <p:spPr>
          <a:xfrm>
            <a:off x="7035840" y="2276640"/>
            <a:ext cx="2108160" cy="1742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елые ладошки у наш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клы-крошки»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 иг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8366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Педагог на занятие приносит кукл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:     Кукла Оля к нам пришла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еселиться начал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лопают, играют Олины ладошк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ле помогают маленькие крошк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 выкладывает ритмический рисунок из ладошек – дети отстукивают  в ладош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:     Ну-ка, все в ладошки хлоп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месте хлоп, дружно хлоп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у-ка, все в ладошки хлоп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лед за мною хлоп, хлоп, хлоп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: Звучит веселая музыка  - дети поднимают ладошки желтого цв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вучит колыбельная – дети поднимают ладошки зеленого цв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Ручки наши тоже пляшут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 желают отставать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месте с нами, малышам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тали весело игра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:   Звучит веселая музыка – дети хлопают весело в ладош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вучит колыбельная -  ладошки устали и легли отдыхать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-два! Раз-два!  Вот и кончилась игра!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http://im4-tub-ru.yandex.net/i?id=108615837-18-72"/>
          <p:cNvPicPr/>
          <p:nvPr/>
        </p:nvPicPr>
        <p:blipFill>
          <a:blip r:embed="rId1"/>
          <a:stretch/>
        </p:blipFill>
        <p:spPr>
          <a:xfrm>
            <a:off x="6516720" y="5105520"/>
            <a:ext cx="1782720" cy="125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0-tub-ru.yandex.net/i?id=113132833-21-72"/>
          <p:cNvPicPr/>
          <p:nvPr/>
        </p:nvPicPr>
        <p:blipFill>
          <a:blip r:embed="rId2"/>
          <a:stretch/>
        </p:blipFill>
        <p:spPr>
          <a:xfrm>
            <a:off x="6870600" y="2846520"/>
            <a:ext cx="1809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ЛЮДА</cp:lastModifiedBy>
  <dcterms:modified xsi:type="dcterms:W3CDTF">2017-09-07T16:38:38Z</dcterms:modified>
  <cp:revision>18</cp:revision>
  <dc:subject/>
  <dc:title>Музыкально-дидактические игры</dc:title>
</cp:coreProperties>
</file>