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A1CE-7220-4935-9647-10B5180B0F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60EB-1F4E-48C0-BD5B-EE8C68DF8F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CC0-C5E3-439E-9C55-F42EC0E9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457-D042-4A4D-8263-BEC88519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E07-480A-4D73-BF7F-D37E5BD3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4C2-6D60-4343-98EA-71CD33CD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5F9-F31D-4CEE-A8A3-706688FF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9D3-08BF-4801-AD85-A2424B0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B03-3C6D-4530-9F8D-637DF1F0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2A7-2A63-424B-9963-5EA389B0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0E5-71A1-4C56-8FE5-474C5C6A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5C1-5CFA-4485-885E-C850CBD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959-89F9-43AF-83A0-E45A69A7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789-B71B-43D8-A046-701BBF86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6AA1-B631-42EB-9E95-4BB60338407C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3"/>
          <p:cNvGraphicFramePr/>
          <p:nvPr/>
        </p:nvGraphicFramePr>
        <p:xfrm>
          <a:off x="-36360" y="-142920"/>
          <a:ext cx="9180360" cy="70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142920"/>
                    <a:ext cx="9180360" cy="70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6"/>
          <p:cNvGraphicFramePr/>
          <p:nvPr/>
        </p:nvGraphicFramePr>
        <p:xfrm>
          <a:off x="1835280" y="1773360"/>
          <a:ext cx="5903640" cy="25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773360"/>
                    <a:ext cx="590364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61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8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Подзаголовок 9"/>
          <p:cNvSpPr/>
          <p:nvPr/>
        </p:nvSpPr>
        <p:spPr>
          <a:xfrm>
            <a:off x="357120" y="2143080"/>
            <a:ext cx="8358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колько экспедиций возглавил и провел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Н.М. Пржевальский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74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9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Подзаголовок 9"/>
          <p:cNvSpPr/>
          <p:nvPr/>
        </p:nvSpPr>
        <p:spPr>
          <a:xfrm>
            <a:off x="285840" y="1643040"/>
            <a:ext cx="85010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Что Н.М.Пржевальский написал красным карандашом на деревянной колонне своего дома в день отъезда в последнее путешествие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6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87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10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Подзаголовок 9"/>
          <p:cNvSpPr/>
          <p:nvPr/>
        </p:nvSpPr>
        <p:spPr>
          <a:xfrm>
            <a:off x="357120" y="2500200"/>
            <a:ext cx="8358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Где похоронен Николай Михайлович Пржевальский?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1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200" name="Подзаголовок 9"/>
          <p:cNvSpPr/>
          <p:nvPr/>
        </p:nvSpPr>
        <p:spPr>
          <a:xfrm>
            <a:off x="2571840" y="214200"/>
            <a:ext cx="5357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пасибо за ответы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1" name="Picture 9" descr="http://www.rabochy-put.ru/upload/iblock/255/posm4.jpg"/>
          <p:cNvPicPr/>
          <p:nvPr/>
        </p:nvPicPr>
        <p:blipFill>
          <a:blip r:embed="rId6"/>
          <a:stretch/>
        </p:blipFill>
        <p:spPr>
          <a:xfrm>
            <a:off x="0" y="109548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57" name="Подзаголовок 9"/>
          <p:cNvSpPr/>
          <p:nvPr/>
        </p:nvSpPr>
        <p:spPr>
          <a:xfrm>
            <a:off x="2357280" y="0"/>
            <a:ext cx="5643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икторина «О зубрах 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Н.М Пржевальском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" name="Picture 15" descr="http://dm-iz.com/2016/2017/11_credit_questions-1360x860.jpg"/>
          <p:cNvPicPr/>
          <p:nvPr/>
        </p:nvPicPr>
        <p:blipFill>
          <a:blip r:embed="rId6"/>
          <a:stretch/>
        </p:blipFill>
        <p:spPr>
          <a:xfrm>
            <a:off x="160200" y="1190520"/>
            <a:ext cx="8804520" cy="5567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70" name="Подзаголовок 9"/>
          <p:cNvSpPr/>
          <p:nvPr/>
        </p:nvSpPr>
        <p:spPr>
          <a:xfrm>
            <a:off x="2638440" y="24912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Подзаголовок 9"/>
          <p:cNvSpPr/>
          <p:nvPr/>
        </p:nvSpPr>
        <p:spPr>
          <a:xfrm>
            <a:off x="428760" y="1643040"/>
            <a:ext cx="8358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 каком году в национальном парке «Орловское Полесье» началась работа по созданию вольноживущей популяции зубров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83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Подзаголовок 9"/>
          <p:cNvSpPr/>
          <p:nvPr/>
        </p:nvSpPr>
        <p:spPr>
          <a:xfrm>
            <a:off x="500040" y="2071800"/>
            <a:ext cx="83581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колько зубров впервые было выпущено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 дикую природу в национальном парке «Орловское Полесье»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96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Подзаголовок 9"/>
          <p:cNvSpPr/>
          <p:nvPr/>
        </p:nvSpPr>
        <p:spPr>
          <a:xfrm>
            <a:off x="428760" y="2500200"/>
            <a:ext cx="8358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У каких племен зубр был тотемным животным?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09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Подзаголовок 9"/>
          <p:cNvSpPr/>
          <p:nvPr/>
        </p:nvSpPr>
        <p:spPr>
          <a:xfrm>
            <a:off x="285840" y="1428840"/>
            <a:ext cx="85010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На территории каких особо охраняемых природных территорий ведется работа по восстановлению вольноживущей популяции зубров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22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Подзаголовок 9"/>
          <p:cNvSpPr/>
          <p:nvPr/>
        </p:nvSpPr>
        <p:spPr>
          <a:xfrm>
            <a:off x="428760" y="1714680"/>
            <a:ext cx="85010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 каком году национальный парк «Смоленское Поозерье» вошел в число участников проекта «Изучение и восстановление зубра европейского в центральной России»?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35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Подзаголовок 9"/>
          <p:cNvSpPr/>
          <p:nvPr/>
        </p:nvSpPr>
        <p:spPr>
          <a:xfrm>
            <a:off x="285840" y="2286000"/>
            <a:ext cx="85010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Какие животные были описаны и открыты Н.М. Пржевальским?  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Documents and Settings\Admin\Рабочий стол\Эмблемы\прозрачныйь.gif"/>
          <p:cNvPicPr/>
          <p:nvPr/>
        </p:nvPicPr>
        <p:blipFill>
          <a:blip r:embed="rId1"/>
          <a:stretch/>
        </p:blipFill>
        <p:spPr>
          <a:xfrm>
            <a:off x="179280" y="189000"/>
            <a:ext cx="21718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Object 11"/>
          <p:cNvGraphicFramePr/>
          <p:nvPr/>
        </p:nvGraphicFramePr>
        <p:xfrm>
          <a:off x="-36360" y="-100080"/>
          <a:ext cx="918036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00080"/>
                    <a:ext cx="918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Picture 5" descr="C:\Documents and Settings\Admin\Рабочий стол\Эмблемы\прозрачныйь.gif"/>
          <p:cNvPicPr/>
          <p:nvPr/>
        </p:nvPicPr>
        <p:blipFill>
          <a:blip r:embed="rId4"/>
          <a:stretch/>
        </p:blipFill>
        <p:spPr>
          <a:xfrm>
            <a:off x="395280" y="189000"/>
            <a:ext cx="217188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эмблема МАБ"/>
          <p:cNvPicPr/>
          <p:nvPr/>
        </p:nvPicPr>
        <p:blipFill>
          <a:blip r:embed="rId5"/>
          <a:stretch/>
        </p:blipFill>
        <p:spPr>
          <a:xfrm>
            <a:off x="8028000" y="18900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148" name="Подзаголовок 9"/>
          <p:cNvSpPr/>
          <p:nvPr/>
        </p:nvSpPr>
        <p:spPr>
          <a:xfrm>
            <a:off x="2643120" y="214200"/>
            <a:ext cx="5357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опрос № 7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31284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46512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61740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770040" y="465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922320" y="617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Подзаголовок 9"/>
          <p:cNvSpPr/>
          <p:nvPr/>
        </p:nvSpPr>
        <p:spPr>
          <a:xfrm>
            <a:off x="357120" y="1643040"/>
            <a:ext cx="8358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огда дом Николая Михайловича, сожженный гитлеровцами в 1941 году, восстановили и торжественно открыли как музей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1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9:58:45Z</dcterms:created>
  <dc:creator>ЗИНАША</dc:creator>
  <dc:description/>
  <dc:language>en-US</dc:language>
  <cp:lastModifiedBy>ЗИНАША</cp:lastModifiedBy>
  <cp:lastPrinted>2017-04-10T08:33:33Z</cp:lastPrinted>
  <dcterms:modified xsi:type="dcterms:W3CDTF">2017-09-07T18:23:06Z</dcterms:modified>
  <cp:revision>137</cp:revision>
  <dc:subject/>
  <dc:title>Презентация PowerPoint</dc:title>
</cp:coreProperties>
</file>