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FE2-6EF6-4C85-8CC4-82E713AF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E21-B59F-4805-AB61-5FD9D1FC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2F6-ECA4-4170-B40F-389A63CF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843-A09D-40DA-AE28-EC53ABC2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2D2F-4639-48EF-A772-390A3BF1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2D6DF-F00D-45A0-9108-8588CA3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2C8B0-2548-4BA0-985C-E1974D4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9525C-D234-4798-9ADB-1B18AE3E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E021-215A-44FF-BDA5-3944707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42920-BEB9-44F0-AD79-D8C5000D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7A2A-B250-4C5B-8A15-5D06FA0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195-A73B-453C-A471-F866C4D9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1E782-A7E6-4A98-8DEB-F3B628C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E5A4-4485-432A-AAB1-DA2805F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5BD5A-2EFF-433A-8287-917CC410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11B4-C27D-4351-9C7F-E97F4563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B7594-D936-4B4E-BC8C-41F22294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87E-2125-4664-9151-CE25338B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15E-6BCD-4E39-AAF9-5CCF088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289-F193-4828-B6CA-309B50A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E46-DDC6-48CF-9238-E3E531B5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676-EB73-46E3-BE92-660C296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C87-8A30-48F9-8007-904430D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23A-2DD7-422D-AC7D-AE401D37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5B3F-4D17-43AD-903B-E957EF4E3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C11-33B8-4C04-A257-1354B98CB2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9720" y="914400"/>
            <a:ext cx="4876560" cy="364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бъёмная игрушка из бумаг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000" spc="-1" strike="noStrike">
                <a:solidFill>
                  <a:srgbClr val="ffffff"/>
                </a:solidFill>
                <a:latin typeface="Tahoma"/>
              </a:rPr>
              <a:t>Львёнок»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228600" y="685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28584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оружаем гриву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лосок бумаги сооружаем гриву. Приклеиваем ее к гол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4" descr="http://www.millionpodarkov.ru/podelki/wp-content/uploads/2010/09/PIC_0068.JPG"/>
          <p:cNvPicPr/>
          <p:nvPr/>
        </p:nvPicPr>
        <p:blipFill>
          <a:blip r:embed="rId1"/>
          <a:stretch/>
        </p:blipFill>
        <p:spPr>
          <a:xfrm>
            <a:off x="1600200" y="2590920"/>
            <a:ext cx="5715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7120" y="285840"/>
            <a:ext cx="8329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лапки и хвост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клеиваем голову к туловищу-конусу. Делаем лапки из бумажных треугольников. Когти рисуем черным фломастером. Из бумажной полоски делаем хвост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3" descr="http://www.millionpodarkov.ru/podelki/wp-content/uploads/2010/09/PIC_0066.JPG"/>
          <p:cNvPicPr/>
          <p:nvPr/>
        </p:nvPicPr>
        <p:blipFill>
          <a:blip r:embed="rId1"/>
          <a:stretch/>
        </p:blipFill>
        <p:spPr>
          <a:xfrm>
            <a:off x="4929120" y="285768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928800" y="2786040"/>
            <a:ext cx="33098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5840" y="3567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Приклеиваем детали к туловищу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се детали приклеиваем к туловищу. Все – наш львенок готов. Сооружая поделки из конуса, можно сделать целый зоопарк, в котором будут жить пингвины, птицы, котят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Рисунок 3" descr="http://www.millionpodarkov.ru/podelki/wp-content/uploads/2010/09/PIC_0072.JPG"/>
          <p:cNvPicPr/>
          <p:nvPr/>
        </p:nvPicPr>
        <p:blipFill>
          <a:blip r:embed="rId1"/>
          <a:stretch/>
        </p:blipFill>
        <p:spPr>
          <a:xfrm>
            <a:off x="2057400" y="3048120"/>
            <a:ext cx="4786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28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ьвёнок готов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400560" cy="30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5"/>
          <p:cNvGrpSpPr/>
          <p:nvPr/>
        </p:nvGrpSpPr>
        <p:grpSpPr>
          <a:xfrm>
            <a:off x="609480" y="228600"/>
            <a:ext cx="8534520" cy="6629400"/>
            <a:chOff x="609480" y="228600"/>
            <a:chExt cx="8534520" cy="6629400"/>
          </a:xfrm>
        </p:grpSpPr>
        <p:pic>
          <p:nvPicPr>
            <p:cNvPr id="129" name="Picture 5" descr=""/>
            <p:cNvPicPr/>
            <p:nvPr/>
          </p:nvPicPr>
          <p:blipFill>
            <a:blip r:embed="rId2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" descr=""/>
            <p:cNvPicPr/>
            <p:nvPr/>
          </p:nvPicPr>
          <p:blipFill>
            <a:blip r:embed="rId3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"/>
            <p:cNvPicPr/>
            <p:nvPr/>
          </p:nvPicPr>
          <p:blipFill>
            <a:blip r:embed="rId4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14"/>
            <p:cNvSpPr/>
            <p:nvPr/>
          </p:nvSpPr>
          <p:spPr>
            <a:xfrm>
              <a:off x="8610480" y="3352680"/>
              <a:ext cx="533520" cy="3505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3" name="Group 21"/>
          <p:cNvGrpSpPr/>
          <p:nvPr/>
        </p:nvGrpSpPr>
        <p:grpSpPr>
          <a:xfrm>
            <a:off x="609480" y="228600"/>
            <a:ext cx="8001000" cy="6378480"/>
            <a:chOff x="609480" y="228600"/>
            <a:chExt cx="8001000" cy="6378480"/>
          </a:xfrm>
        </p:grpSpPr>
        <p:pic>
          <p:nvPicPr>
            <p:cNvPr id="134" name="Picture 17" descr=""/>
            <p:cNvPicPr/>
            <p:nvPr/>
          </p:nvPicPr>
          <p:blipFill>
            <a:blip r:embed="rId5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8" descr="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9" descr=""/>
            <p:cNvPicPr/>
            <p:nvPr/>
          </p:nvPicPr>
          <p:blipFill>
            <a:blip r:embed="rId7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20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2" descr=""/>
          <p:cNvPicPr/>
          <p:nvPr/>
        </p:nvPicPr>
        <p:blipFill>
          <a:blip r:embed="rId8"/>
          <a:stretch/>
        </p:blipFill>
        <p:spPr>
          <a:xfrm rot="219600">
            <a:off x="-9360" y="479268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6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40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457200"/>
              <a:ext cx="3352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0" descr="12sh_10"/>
            <p:cNvPicPr/>
            <p:nvPr/>
          </p:nvPicPr>
          <p:blipFill>
            <a:blip r:embed="rId2"/>
            <a:stretch/>
          </p:blipFill>
          <p:spPr>
            <a:xfrm>
              <a:off x="3886200" y="0"/>
              <a:ext cx="525780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5638680" cy="30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4" descr=""/>
            <p:cNvPicPr/>
            <p:nvPr/>
          </p:nvPicPr>
          <p:blipFill>
            <a:blip r:embed="rId4"/>
            <a:stretch/>
          </p:blipFill>
          <p:spPr>
            <a:xfrm>
              <a:off x="3733920" y="2438280"/>
              <a:ext cx="238104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1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23760" y="103320"/>
            <a:ext cx="4071960" cy="658800"/>
          </a:xfrm>
          <a:prstGeom prst="rect">
            <a:avLst/>
          </a:prstGeom>
          <a:ln w="0">
            <a:noFill/>
          </a:ln>
        </p:spPr>
      </p:pic>
      <p:grpSp>
        <p:nvGrpSpPr>
          <p:cNvPr id="86" name="Прямоугольник 2"/>
          <p:cNvGrpSpPr/>
          <p:nvPr/>
        </p:nvGrpSpPr>
        <p:grpSpPr>
          <a:xfrm>
            <a:off x="182520" y="1170000"/>
            <a:ext cx="3975120" cy="5227920"/>
            <a:chOff x="182520" y="1170000"/>
            <a:chExt cx="3975120" cy="5227920"/>
          </a:xfrm>
        </p:grpSpPr>
        <p:pic>
          <p:nvPicPr>
            <p:cNvPr id="8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2520" y="1170000"/>
              <a:ext cx="3975120" cy="51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28600" y="1219320"/>
              <a:ext cx="3886200" cy="51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ahoma"/>
                </a:rPr>
                <a:t>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 ножниц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держи ножницы концами вверх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оставляй ножницы в открытом виде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ередавай ножницы только в закрытом виде, кольцами в сторону товарища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ри работе следи за пальцами левой рук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5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Клади ножницы на стол так, чтобы они не свешивались за край стола.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Прямоугольник 3"/>
          <p:cNvGrpSpPr/>
          <p:nvPr/>
        </p:nvGrpSpPr>
        <p:grpSpPr>
          <a:xfrm>
            <a:off x="4522680" y="1859040"/>
            <a:ext cx="4127760" cy="5261400"/>
            <a:chOff x="4522680" y="1859040"/>
            <a:chExt cx="4127760" cy="5261400"/>
          </a:xfrm>
        </p:grpSpPr>
        <p:pic>
          <p:nvPicPr>
            <p:cNvPr id="9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22680" y="1859040"/>
              <a:ext cx="4127760" cy="48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72000" y="1905120"/>
              <a:ext cx="4038480" cy="52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     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</a:t>
              </a:r>
              <a:r>
                <a:rPr b="1" lang="en-US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кле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При работе с клеем пользуйся кисточкой, если это требуется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Бери то количество клея, которое требуется для выполнения работы на данном этап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Излишки клея убирай мягкой тряпочкой или салфеткой, осторожно прижимая е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Кисточку и руки после работы хорошо вымой с мылом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2" name="Picture 2" descr="thumbnail"/>
          <p:cNvPicPr/>
          <p:nvPr/>
        </p:nvPicPr>
        <p:blipFill>
          <a:blip r:embed="rId4"/>
          <a:stretch/>
        </p:blipFill>
        <p:spPr>
          <a:xfrm>
            <a:off x="1371600" y="525780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5"/>
          <a:stretch/>
        </p:blipFill>
        <p:spPr>
          <a:xfrm>
            <a:off x="6553080" y="152280"/>
            <a:ext cx="2390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642600"/>
            <a:ext cx="8686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м потребу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ная бума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жниц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ом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фар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Documents and Settings\Admin\Мои документы\Мои рисунки\83333_mini-500x300.jpg"/>
          <p:cNvPicPr/>
          <p:nvPr/>
        </p:nvPicPr>
        <p:blipFill>
          <a:blip r:embed="rId1"/>
          <a:stretch/>
        </p:blipFill>
        <p:spPr>
          <a:xfrm>
            <a:off x="357120" y="357120"/>
            <a:ext cx="404820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Documents and Settings\Admin\Мои документы\Мои рисунки\43532-500x300.jpg"/>
          <p:cNvPicPr/>
          <p:nvPr/>
        </p:nvPicPr>
        <p:blipFill>
          <a:blip r:embed="rId2"/>
          <a:stretch/>
        </p:blipFill>
        <p:spPr>
          <a:xfrm>
            <a:off x="4786200" y="357120"/>
            <a:ext cx="3881520" cy="24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Admin\Мои документы\Мои рисунки\happy-lions_mini-500x300.jpg"/>
          <p:cNvPicPr/>
          <p:nvPr/>
        </p:nvPicPr>
        <p:blipFill>
          <a:blip r:embed="rId3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:\Documents and Settings\Admin\Мои документы\Мои рисунки\Asiatic_Lion_Persica_Indian_15_mini-500x300.jpg"/>
          <p:cNvPicPr/>
          <p:nvPr/>
        </p:nvPicPr>
        <p:blipFill>
          <a:blip r:embed="rId4"/>
          <a:stretch/>
        </p:blipFill>
        <p:spPr>
          <a:xfrm>
            <a:off x="4857840" y="3214800"/>
            <a:ext cx="3833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338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–это хищное животное. Оно питается мя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- царь зверей. Необычно его поведение: лев животное социальное ,всю свою жизнь он проводит в стае; охотятся львы тоже ста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2" descr="i?id=54146899&amp;tov=5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245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i?id=17788155&amp;tov=3"/>
          <p:cNvPicPr/>
          <p:nvPr/>
        </p:nvPicPr>
        <p:blipFill>
          <a:blip r:embed="rId2"/>
          <a:stretch/>
        </p:blipFill>
        <p:spPr>
          <a:xfrm>
            <a:off x="4800600" y="388620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9"/>
          <p:cNvSpPr/>
          <p:nvPr/>
        </p:nvSpPr>
        <p:spPr>
          <a:xfrm>
            <a:off x="762120" y="152280"/>
            <a:ext cx="81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533520" y="14191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фриканский 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52280" y="2307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В - АФРИКАНСКОЕ ЖИВОТНО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отя существуют и его азиатские – индий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29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0" y="3243240"/>
            <a:ext cx="5257800" cy="3614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174720" y="228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ЕЛЫЕ 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410080" y="68580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е львы очень редки. Иногда у родителей, не являющихся носителями гена белой окраски, рождаются белые львята. Они не альбиносы, их относят к подвиду львов из Южной Аф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12 лет их можно встретить только в нев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7339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57120" y="285840"/>
            <a:ext cx="83296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Делаем из бумаги конус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ырезаем из желтой цветной бумаги круг радиусом 7 см. Можно воспользоваться трафаретом. Делим на 4 равные части. Отрезаем от круга одну четверть. Склеиваем его в конус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http://www.millionpodarkov.ru/podelki/wp-content/uploads/2010/09/PIC_0061.JPG"/>
          <p:cNvPicPr/>
          <p:nvPr/>
        </p:nvPicPr>
        <p:blipFill>
          <a:blip r:embed="rId1"/>
          <a:stretch/>
        </p:blipFill>
        <p:spPr>
          <a:xfrm>
            <a:off x="4857840" y="2214720"/>
            <a:ext cx="385740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714240" y="2286000"/>
            <a:ext cx="36673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85840" y="228240"/>
            <a:ext cx="84009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голову львенка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еперь делаем голову львенка. Для этого вырезаем из желтой цветной бумаги еще два круга радиусом 4 см 5 мм. Воспользуйтесь трафаретом. Рисуем или вырезаем из бумаги глаза, нос, рот и усы. Приклеиваем все это к мордочке львен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3" descr="http://www.millionpodarkov.ru/podelki/wp-content/uploads/2010/09/PIC_00641.JPG"/>
          <p:cNvPicPr/>
          <p:nvPr/>
        </p:nvPicPr>
        <p:blipFill>
          <a:blip r:embed="rId1"/>
          <a:stretch/>
        </p:blipFill>
        <p:spPr>
          <a:xfrm>
            <a:off x="2133720" y="3733920"/>
            <a:ext cx="4190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3-28T14:00:0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