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6DF-0646-4221-AC13-1B6DD455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010-F853-408F-A641-2D21805B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C35-2564-48C1-972E-F175ECE4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72C-6A94-4397-BF6B-6FCD8F2C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038F9-790C-490A-BD9A-EE8828E1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B02DC-697C-48E2-AD25-4971804E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CA65C-7924-4C33-89AD-36333B8B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0A03C-446B-442B-9667-8B0C2AE1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8F917-D158-4CBA-826C-1D7A496C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1A5DC-8EC0-43CD-9E00-49F8B0E0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D8C65-B8CA-4803-8B69-ACD7B697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54D-E3AD-46F5-920A-8D6C7805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50944-292D-4A95-AA79-B55A2913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BE0F9-36C3-462A-96C2-50D64ED2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9908C-0961-4AC4-B286-5D861ECB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8B1DE-62B4-4B27-9735-BB255787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9CD66-DFAE-4D43-9368-71AFDC0B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73C-6644-416B-BEA5-46C3AF02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27C4-0999-4D9E-9BEC-19DF6E25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472-CB37-449F-8DFE-79E102EF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6AA-1E6A-42B3-935A-8FEBAB8D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447-393D-42BE-89E5-B2428721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466-15A4-476E-9DBF-71FC8616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782-3283-4EE8-93CA-77B714CD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D3BD-31D3-479E-9208-1C28C3B47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4BB0-CE5D-4065-9F14-EDDF80A7AE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9720" y="914400"/>
            <a:ext cx="4876560" cy="3643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Объёмная игрушка из бумаги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5000" spc="-1" strike="noStrike">
                <a:solidFill>
                  <a:srgbClr val="ffffff"/>
                </a:solidFill>
                <a:latin typeface="Tahoma"/>
              </a:rPr>
              <a:t>Львёнок»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3" descr="D:\Documents and Settings\Admin\Мои документы\Мои рисунки\kuzn24.jpg"/>
          <p:cNvPicPr/>
          <p:nvPr/>
        </p:nvPicPr>
        <p:blipFill>
          <a:blip r:embed="rId1"/>
          <a:stretch/>
        </p:blipFill>
        <p:spPr>
          <a:xfrm>
            <a:off x="228600" y="685800"/>
            <a:ext cx="4572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85840" y="285840"/>
            <a:ext cx="8400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оружаем гриву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лосок бумаги сооружаем гриву. Приклеиваем ее к гол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Рисунок 4" descr="http://www.millionpodarkov.ru/podelki/wp-content/uploads/2010/09/PIC_0068.JPG"/>
          <p:cNvPicPr/>
          <p:nvPr/>
        </p:nvPicPr>
        <p:blipFill>
          <a:blip r:embed="rId1"/>
          <a:stretch/>
        </p:blipFill>
        <p:spPr>
          <a:xfrm>
            <a:off x="1600200" y="2590920"/>
            <a:ext cx="57150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57120" y="285840"/>
            <a:ext cx="83296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Делаем лапки и хвост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Приклеиваем голову к туловищу-конусу. Делаем лапки из бумажных треугольников. Когти рисуем черным фломастером. Из бумажной полоски делаем хвост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Рисунок 3" descr="http://www.millionpodarkov.ru/podelki/wp-content/uploads/2010/09/PIC_0066.JPG"/>
          <p:cNvPicPr/>
          <p:nvPr/>
        </p:nvPicPr>
        <p:blipFill>
          <a:blip r:embed="rId1"/>
          <a:stretch/>
        </p:blipFill>
        <p:spPr>
          <a:xfrm>
            <a:off x="4929120" y="2857680"/>
            <a:ext cx="378612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Documents and Settings\Admin\Мои документы\Мои рисунки\cd171e0d51.jpg"/>
          <p:cNvPicPr/>
          <p:nvPr/>
        </p:nvPicPr>
        <p:blipFill>
          <a:blip r:embed="rId2"/>
          <a:stretch/>
        </p:blipFill>
        <p:spPr>
          <a:xfrm>
            <a:off x="928800" y="2786040"/>
            <a:ext cx="33098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85840" y="356760"/>
            <a:ext cx="84009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Приклеиваем детали к туловищу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Все детали приклеиваем к туловищу. Все – наш львенок готов. Сооружая поделки из конуса, можно сделать целый зоопарк, в котором будут жить пингвины, птицы, котята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Рисунок 3" descr="http://www.millionpodarkov.ru/podelki/wp-content/uploads/2010/09/PIC_0072.JPG"/>
          <p:cNvPicPr/>
          <p:nvPr/>
        </p:nvPicPr>
        <p:blipFill>
          <a:blip r:embed="rId1"/>
          <a:stretch/>
        </p:blipFill>
        <p:spPr>
          <a:xfrm>
            <a:off x="2057400" y="3048120"/>
            <a:ext cx="47862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D:\Documents and Settings\Admin\Мои документы\Мои рисунки\kuzn24.jpg"/>
          <p:cNvPicPr/>
          <p:nvPr/>
        </p:nvPicPr>
        <p:blipFill>
          <a:blip r:embed="rId1"/>
          <a:stretch/>
        </p:blipFill>
        <p:spPr>
          <a:xfrm>
            <a:off x="990720" y="1143000"/>
            <a:ext cx="7238880" cy="5562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8284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ьвёнок готов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1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3400560" cy="309240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15"/>
          <p:cNvGrpSpPr/>
          <p:nvPr/>
        </p:nvGrpSpPr>
        <p:grpSpPr>
          <a:xfrm>
            <a:off x="609480" y="228600"/>
            <a:ext cx="8534520" cy="6629400"/>
            <a:chOff x="609480" y="228600"/>
            <a:chExt cx="8534520" cy="6629400"/>
          </a:xfrm>
        </p:grpSpPr>
        <p:pic>
          <p:nvPicPr>
            <p:cNvPr id="129" name="Picture 5" descr=""/>
            <p:cNvPicPr/>
            <p:nvPr/>
          </p:nvPicPr>
          <p:blipFill>
            <a:blip r:embed="rId2"/>
            <a:stretch/>
          </p:blipFill>
          <p:spPr>
            <a:xfrm>
              <a:off x="609480" y="3505320"/>
              <a:ext cx="4648320" cy="31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0" descr=""/>
            <p:cNvPicPr/>
            <p:nvPr/>
          </p:nvPicPr>
          <p:blipFill>
            <a:blip r:embed="rId3"/>
            <a:stretch/>
          </p:blipFill>
          <p:spPr>
            <a:xfrm>
              <a:off x="609480" y="228600"/>
              <a:ext cx="3353040" cy="31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3" descr=""/>
            <p:cNvPicPr/>
            <p:nvPr/>
          </p:nvPicPr>
          <p:blipFill>
            <a:blip r:embed="rId4"/>
            <a:stretch/>
          </p:blipFill>
          <p:spPr>
            <a:xfrm>
              <a:off x="4191120" y="228600"/>
              <a:ext cx="441936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14"/>
            <p:cNvSpPr/>
            <p:nvPr/>
          </p:nvSpPr>
          <p:spPr>
            <a:xfrm>
              <a:off x="8610480" y="3352680"/>
              <a:ext cx="533520" cy="3505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3" name="Group 21"/>
          <p:cNvGrpSpPr/>
          <p:nvPr/>
        </p:nvGrpSpPr>
        <p:grpSpPr>
          <a:xfrm>
            <a:off x="609480" y="228600"/>
            <a:ext cx="8001000" cy="6378480"/>
            <a:chOff x="609480" y="228600"/>
            <a:chExt cx="8001000" cy="6378480"/>
          </a:xfrm>
        </p:grpSpPr>
        <p:pic>
          <p:nvPicPr>
            <p:cNvPr id="134" name="Picture 17" descr=""/>
            <p:cNvPicPr/>
            <p:nvPr/>
          </p:nvPicPr>
          <p:blipFill>
            <a:blip r:embed="rId5"/>
            <a:stretch/>
          </p:blipFill>
          <p:spPr>
            <a:xfrm>
              <a:off x="609480" y="3505320"/>
              <a:ext cx="4648320" cy="31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8" descr=""/>
            <p:cNvPicPr/>
            <p:nvPr/>
          </p:nvPicPr>
          <p:blipFill>
            <a:blip r:embed="rId6"/>
            <a:stretch/>
          </p:blipFill>
          <p:spPr>
            <a:xfrm>
              <a:off x="609480" y="228600"/>
              <a:ext cx="3353040" cy="31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9" descr=""/>
            <p:cNvPicPr/>
            <p:nvPr/>
          </p:nvPicPr>
          <p:blipFill>
            <a:blip r:embed="rId7"/>
            <a:stretch/>
          </p:blipFill>
          <p:spPr>
            <a:xfrm>
              <a:off x="4191120" y="228600"/>
              <a:ext cx="4419360" cy="311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20"/>
          <p:cNvSpPr/>
          <p:nvPr/>
        </p:nvSpPr>
        <p:spPr>
          <a:xfrm>
            <a:off x="8610480" y="3352680"/>
            <a:ext cx="533520" cy="3505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22" descr=""/>
          <p:cNvPicPr/>
          <p:nvPr/>
        </p:nvPicPr>
        <p:blipFill>
          <a:blip r:embed="rId8"/>
          <a:stretch/>
        </p:blipFill>
        <p:spPr>
          <a:xfrm rot="219600">
            <a:off x="-9360" y="4792680"/>
            <a:ext cx="1706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6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pic>
          <p:nvPicPr>
            <p:cNvPr id="140" name="Picture 6" descr=""/>
            <p:cNvPicPr/>
            <p:nvPr/>
          </p:nvPicPr>
          <p:blipFill>
            <a:blip r:embed="rId1"/>
            <a:stretch/>
          </p:blipFill>
          <p:spPr>
            <a:xfrm>
              <a:off x="228600" y="457200"/>
              <a:ext cx="33526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0" descr="12sh_10"/>
            <p:cNvPicPr/>
            <p:nvPr/>
          </p:nvPicPr>
          <p:blipFill>
            <a:blip r:embed="rId2"/>
            <a:stretch/>
          </p:blipFill>
          <p:spPr>
            <a:xfrm>
              <a:off x="3886200" y="0"/>
              <a:ext cx="525780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3" descr=""/>
            <p:cNvPicPr/>
            <p:nvPr/>
          </p:nvPicPr>
          <p:blipFill>
            <a:blip r:embed="rId3"/>
            <a:stretch/>
          </p:blipFill>
          <p:spPr>
            <a:xfrm>
              <a:off x="0" y="3581280"/>
              <a:ext cx="5638680" cy="30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4" descr=""/>
            <p:cNvPicPr/>
            <p:nvPr/>
          </p:nvPicPr>
          <p:blipFill>
            <a:blip r:embed="rId4"/>
            <a:stretch/>
          </p:blipFill>
          <p:spPr>
            <a:xfrm>
              <a:off x="3733920" y="2438280"/>
              <a:ext cx="2381040" cy="23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1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3276720" cy="2457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1" descr=""/>
          <p:cNvPicPr/>
          <p:nvPr/>
        </p:nvPicPr>
        <p:blipFill>
          <a:blip r:embed="rId1"/>
          <a:stretch/>
        </p:blipFill>
        <p:spPr>
          <a:xfrm>
            <a:off x="23760" y="103320"/>
            <a:ext cx="4071960" cy="658800"/>
          </a:xfrm>
          <a:prstGeom prst="rect">
            <a:avLst/>
          </a:prstGeom>
          <a:ln w="0">
            <a:noFill/>
          </a:ln>
        </p:spPr>
      </p:pic>
      <p:grpSp>
        <p:nvGrpSpPr>
          <p:cNvPr id="86" name="Прямоугольник 2"/>
          <p:cNvGrpSpPr/>
          <p:nvPr/>
        </p:nvGrpSpPr>
        <p:grpSpPr>
          <a:xfrm>
            <a:off x="182520" y="1170000"/>
            <a:ext cx="3975120" cy="5227920"/>
            <a:chOff x="182520" y="1170000"/>
            <a:chExt cx="3975120" cy="5227920"/>
          </a:xfrm>
        </p:grpSpPr>
        <p:pic>
          <p:nvPicPr>
            <p:cNvPr id="87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82520" y="1170000"/>
              <a:ext cx="3975120" cy="51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28600" y="1219320"/>
              <a:ext cx="3886200" cy="51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ahoma"/>
                </a:rPr>
                <a:t>            </a:t>
              </a:r>
              <a:r>
                <a:rPr b="1" lang="ru-RU" sz="1800" spc="-1" strike="noStrike" u="sng">
                  <a:solidFill>
                    <a:srgbClr val="c00000"/>
                  </a:solidFill>
                  <a:uFillTx/>
                  <a:latin typeface="Tahoma"/>
                </a:rPr>
                <a:t>с  ножницам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1. 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Не держи ножницы концами вверх.</a:t>
              </a:r>
              <a:br>
                <a:rPr sz="1800"/>
              </a:b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2.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Не оставляй ножницы в открытом виде.</a:t>
              </a:r>
              <a:br>
                <a:rPr sz="1800"/>
              </a:b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3. 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Передавай ножницы только в закрытом виде, кольцами в сторону товарища.</a:t>
              </a:r>
              <a:br>
                <a:rPr sz="1800"/>
              </a:b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4. 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При работе следи за пальцами левой руки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5.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Клади ножницы на стол так, чтобы они не свешивались за край стола.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" name="Прямоугольник 3"/>
          <p:cNvGrpSpPr/>
          <p:nvPr/>
        </p:nvGrpSpPr>
        <p:grpSpPr>
          <a:xfrm>
            <a:off x="4522680" y="1859040"/>
            <a:ext cx="4127760" cy="5261400"/>
            <a:chOff x="4522680" y="1859040"/>
            <a:chExt cx="4127760" cy="5261400"/>
          </a:xfrm>
        </p:grpSpPr>
        <p:pic>
          <p:nvPicPr>
            <p:cNvPr id="90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522680" y="1859040"/>
              <a:ext cx="4127760" cy="48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72000" y="1905120"/>
              <a:ext cx="4038480" cy="52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                  </a:t>
              </a:r>
              <a:r>
                <a:rPr b="1" lang="ru-RU" sz="1800" spc="-1" strike="noStrike" u="sng">
                  <a:solidFill>
                    <a:srgbClr val="c00000"/>
                  </a:solidFill>
                  <a:uFillTx/>
                  <a:latin typeface="Tahoma"/>
                </a:rPr>
                <a:t>с </a:t>
              </a:r>
              <a:r>
                <a:rPr b="1" lang="en-US" sz="1800" spc="-1" strike="noStrike" u="sng">
                  <a:solidFill>
                    <a:srgbClr val="c00000"/>
                  </a:solidFill>
                  <a:uFillTx/>
                  <a:latin typeface="Tahoma"/>
                </a:rPr>
                <a:t> </a:t>
              </a:r>
              <a:r>
                <a:rPr b="1" lang="ru-RU" sz="1800" spc="-1" strike="noStrike" u="sng">
                  <a:solidFill>
                    <a:srgbClr val="c00000"/>
                  </a:solidFill>
                  <a:uFillTx/>
                  <a:latin typeface="Tahoma"/>
                </a:rPr>
                <a:t>клеем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1.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При работе с клеем пользуйся кисточкой, если это требуется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2.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 Бери то количество клея, которое требуется для выполнения работы на данном этапе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3.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 Излишки клея убирай мягкой тряпочкой или салфеткой, осторожно прижимая ее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4.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Кисточку и руки после работы хорошо вымой с мылом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92" name="Picture 2" descr="thumbnail"/>
          <p:cNvPicPr/>
          <p:nvPr/>
        </p:nvPicPr>
        <p:blipFill>
          <a:blip r:embed="rId4"/>
          <a:stretch/>
        </p:blipFill>
        <p:spPr>
          <a:xfrm>
            <a:off x="1371600" y="5257800"/>
            <a:ext cx="1828800" cy="666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"/>
          <p:cNvPicPr/>
          <p:nvPr/>
        </p:nvPicPr>
        <p:blipFill>
          <a:blip r:embed="rId5"/>
          <a:stretch/>
        </p:blipFill>
        <p:spPr>
          <a:xfrm>
            <a:off x="6553080" y="152280"/>
            <a:ext cx="23907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642600"/>
            <a:ext cx="86868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ля 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ам потребу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ветная бума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жниц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ломаст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фар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3" descr="D:\Documents and Settings\Admin\Мои документы\Мои рисунки\kuzn24.jpg"/>
          <p:cNvPicPr/>
          <p:nvPr/>
        </p:nvPicPr>
        <p:blipFill>
          <a:blip r:embed="rId1"/>
          <a:stretch/>
        </p:blipFill>
        <p:spPr>
          <a:xfrm>
            <a:off x="4114800" y="1295280"/>
            <a:ext cx="5029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Documents and Settings\Admin\Мои документы\Мои рисунки\83333_mini-500x300.jpg"/>
          <p:cNvPicPr/>
          <p:nvPr/>
        </p:nvPicPr>
        <p:blipFill>
          <a:blip r:embed="rId1"/>
          <a:stretch/>
        </p:blipFill>
        <p:spPr>
          <a:xfrm>
            <a:off x="357120" y="357120"/>
            <a:ext cx="4048200" cy="242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:\Documents and Settings\Admin\Мои документы\Мои рисунки\43532-500x300.jpg"/>
          <p:cNvPicPr/>
          <p:nvPr/>
        </p:nvPicPr>
        <p:blipFill>
          <a:blip r:embed="rId2"/>
          <a:stretch/>
        </p:blipFill>
        <p:spPr>
          <a:xfrm>
            <a:off x="4786200" y="357120"/>
            <a:ext cx="3881520" cy="242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:\Documents and Settings\Admin\Мои документы\Мои рисунки\happy-lions_mini-500x300.jpg"/>
          <p:cNvPicPr/>
          <p:nvPr/>
        </p:nvPicPr>
        <p:blipFill>
          <a:blip r:embed="rId3"/>
          <a:stretch/>
        </p:blipFill>
        <p:spPr>
          <a:xfrm>
            <a:off x="285840" y="314316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D:\Documents and Settings\Admin\Мои документы\Мои рисунки\Asiatic_Lion_Persica_Indian_15_mini-500x300.jpg"/>
          <p:cNvPicPr/>
          <p:nvPr/>
        </p:nvPicPr>
        <p:blipFill>
          <a:blip r:embed="rId4"/>
          <a:stretch/>
        </p:blipFill>
        <p:spPr>
          <a:xfrm>
            <a:off x="4857840" y="3214800"/>
            <a:ext cx="3833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43387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ьв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 –это хищное животное. Оно питается мяс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 - царь зверей. Необычно его поведение: лев животное социальное ,всю свою жизнь он проводит в стае; охотятся львы тоже ста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2" descr="i?id=54146899&amp;tov=5"/>
          <p:cNvPicPr/>
          <p:nvPr/>
        </p:nvPicPr>
        <p:blipFill>
          <a:blip r:embed="rId1"/>
          <a:stretch/>
        </p:blipFill>
        <p:spPr>
          <a:xfrm>
            <a:off x="4724280" y="1143000"/>
            <a:ext cx="4038840" cy="2454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i?id=17788155&amp;tov=3"/>
          <p:cNvPicPr/>
          <p:nvPr/>
        </p:nvPicPr>
        <p:blipFill>
          <a:blip r:embed="rId2"/>
          <a:stretch/>
        </p:blipFill>
        <p:spPr>
          <a:xfrm>
            <a:off x="4800600" y="388620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9"/>
          <p:cNvSpPr/>
          <p:nvPr/>
        </p:nvSpPr>
        <p:spPr>
          <a:xfrm>
            <a:off x="762120" y="152280"/>
            <a:ext cx="81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533520" y="1419120"/>
            <a:ext cx="8153280" cy="5438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2120" y="1600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Африканский л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152280" y="23076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ЕВ - АФРИКАНСКОЕ ЖИВОТНОЕ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хотя существуют и его азиатские – индийс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29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0" y="3243240"/>
            <a:ext cx="5257800" cy="36147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6174720" y="2286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БЕЛЫЕ ЛЬ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410080" y="68580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лые львы очень редки. Иногда у родителей, не являющихся носителями гена белой окраски, рождаются белые львята. Они не альбиносы, их относят к подвиду львов из Южной Африк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е 12 лет их можно встретить только в невол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3"/>
          <a:stretch/>
        </p:blipFill>
        <p:spPr>
          <a:xfrm>
            <a:off x="5410080" y="3505320"/>
            <a:ext cx="373392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57120" y="285840"/>
            <a:ext cx="83296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Делаем из бумаги конус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Вырезаем из желтой цветной бумаги круг радиусом 7 см. Можно воспользоваться трафаретом. Делим на 4 равные части. Отрезаем от круга одну четверть. Склеиваем его в конус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3" descr="http://www.millionpodarkov.ru/podelki/wp-content/uploads/2010/09/PIC_0061.JPG"/>
          <p:cNvPicPr/>
          <p:nvPr/>
        </p:nvPicPr>
        <p:blipFill>
          <a:blip r:embed="rId1"/>
          <a:stretch/>
        </p:blipFill>
        <p:spPr>
          <a:xfrm>
            <a:off x="4857840" y="2214720"/>
            <a:ext cx="3857400" cy="4000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D:\Documents and Settings\Admin\Мои документы\Мои рисунки\cd171e0d51.jpg"/>
          <p:cNvPicPr/>
          <p:nvPr/>
        </p:nvPicPr>
        <p:blipFill>
          <a:blip r:embed="rId2"/>
          <a:stretch/>
        </p:blipFill>
        <p:spPr>
          <a:xfrm>
            <a:off x="714240" y="2286000"/>
            <a:ext cx="36673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85840" y="228240"/>
            <a:ext cx="84009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Делаем голову львенка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Теперь делаем голову львенка. Для этого вырезаем из желтой цветной бумаги еще два круга радиусом 4 см 5 мм. Воспользуйтесь трафаретом. Рисуем или вырезаем из бумаги глаза, нос, рот и усы. Приклеиваем все это к мордочке львенк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Рисунок 3" descr="http://www.millionpodarkov.ru/podelki/wp-content/uploads/2010/09/PIC_00641.JPG"/>
          <p:cNvPicPr/>
          <p:nvPr/>
        </p:nvPicPr>
        <p:blipFill>
          <a:blip r:embed="rId1"/>
          <a:stretch/>
        </p:blipFill>
        <p:spPr>
          <a:xfrm>
            <a:off x="2133720" y="3733920"/>
            <a:ext cx="41907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03-28T14:00:04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