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8E9-F270-47E0-A171-4CD48D56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372-7E3E-4717-B386-289B0C2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299-BDCD-46A3-9A75-9D769326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BFA-ECE5-4255-AC2D-11A381EA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07C-E91E-4614-99DA-F5E65B12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EBF-429E-4D33-856F-B4D1228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230F-5346-4CE4-A54D-222D6880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A66C-1765-4A8C-B1F9-7FACFF6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6138-F05B-450B-A6B9-03F92A9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8A2A-757D-4E30-B665-6C66A92A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010-6653-441F-9B25-D1DA429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D7B-5A38-431D-87E6-C331924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8A6-8839-48A7-9FAC-DB6AF860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9EF-CEF5-411C-A7F2-E3E6BFA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5CD-C2FE-40BC-B0C6-B8FB3500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D53-22D0-48AC-838D-13691AEB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AF6-A024-4132-8905-45E232F2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82-1295-49DC-9D0F-EC4C719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9EA-AAA8-4901-B8F7-B345411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23D-31FB-4334-AB06-AA4A292E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6A4-566A-45EE-926D-F624D78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57D-E0FE-4ED5-85EF-FFBC2D9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BFC-4834-4130-B855-74E05B7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092-B1B8-4188-804E-8AEDAEB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776-2C16-40DF-93C7-64380294BB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AA2-0237-4E80-9B15-A9CCD48A710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gradFill rotWithShape="0">
            <a:gsLst>
              <a:gs pos="0">
                <a:srgbClr val="a2f5df"/>
              </a:gs>
              <a:gs pos="50000">
                <a:srgbClr val="00e4a8"/>
              </a:gs>
              <a:gs pos="100000">
                <a:srgbClr val="a2f5d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Пожар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5229000"/>
            <a:ext cx="7772400" cy="4093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ма 2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14400" y="609480"/>
            <a:ext cx="7772400" cy="336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e0e0f7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388360" y="6093000"/>
            <a:ext cx="528480" cy="529920"/>
          </a:xfrm>
          <a:custGeom>
            <a:avLst/>
            <a:gdLst>
              <a:gd name="textAreaLeft" fmla="*/ 34200 w 528480"/>
              <a:gd name="textAreaRight" fmla="*/ 494280 w 528480"/>
              <a:gd name="textAreaTop" fmla="*/ 34200 h 529920"/>
              <a:gd name="textAreaBottom" fmla="*/ 495720 h 52992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3823"/>
                </a:moveTo>
                <a:lnTo>
                  <a:pt x="17806" y="10829"/>
                </a:lnTo>
                <a:lnTo>
                  <a:pt x="3794" y="1783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3428640"/>
            <a:ext cx="7567560" cy="6937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9f8e7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ahoma"/>
              </a:rPr>
              <a:t>ИГРА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1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857240"/>
            <a:ext cx="7343640" cy="47386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1214280" y="1785960"/>
            <a:ext cx="7286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азвать как можно больше технических средств применяемых пожарными при тушении пожар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2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43000" y="2071800"/>
            <a:ext cx="7143840" cy="44053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рисовать пожарную машину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3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43000" y="2357280"/>
            <a:ext cx="7143840" cy="41198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ончить предложение: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жарная безопасность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–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это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…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Из предложенных вариантов ответов выбрать правильный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14200" y="285840"/>
            <a:ext cx="8643960" cy="61912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571680" y="385200"/>
            <a:ext cx="7786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родные опасности (все, связанное с природой: вулканы, болотные газы торфяники или др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обытия, ситуации, явления, связанные с огнем или его производными (угли, головешки, искры и др.), которые могут причинить вред (физические травмы, заболевания и даже гиб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хногенные опасности (все связанное с промышленностью, транспортом, техникой для человека и приро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оциальные опасности, создаваемые самим человеком (войны, конфликты, бытовая неустроенность, неосторожность, низкая температура и др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(потенциальные) опасности: удар молнии, электрозамыкание, предметы, используемые в быту (электробритва, электроутюг,..)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4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00040" y="2214720"/>
            <a:ext cx="8001000" cy="42624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Наложить бинтовую повязку на кисть ру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5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00040" y="2357280"/>
            <a:ext cx="8429760" cy="41198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    </a:t>
            </a:r>
            <a:r>
              <a:rPr b="0" lang="ru-RU" sz="6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Конкурс капитанов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гадать слово, написанное на доске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5400" y="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6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85840" y="2643120"/>
            <a:ext cx="8643960" cy="38340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ончить фраз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бы выжить в пожароопасной ситу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до уметь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…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до знать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…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до действовать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…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до хотеть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6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85840" y="1928880"/>
            <a:ext cx="8643960" cy="45482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Calibri"/>
              </a:rPr>
              <a:t>предвидеть и распознавать пожарную опасность и, по возможности, избегать е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б окружающих нас  пожароопасных ситуациях и собственных возможност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грамотно, решительно, без пан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ствовать свои физические и психические возможности, расширять свои знания, избегать вредных привычек, чтобы противостоять пожарной опас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57120" y="2500200"/>
            <a:ext cx="8643960" cy="39769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оставить пары из фраз и пословиц поговорок, одинаковых по смыслу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143000" y="1523880"/>
            <a:ext cx="7772400" cy="49532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епить знания по теме «Пожарная безопасность», получить навыки правильных действий при возгорании и оказании помощи при спасении людей, научиться быстро и правильно оценивать опасную ситуацию, принимать оптимальное решение для ее преодо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57120" y="1785960"/>
            <a:ext cx="8643960" cy="469116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28760" y="1857240"/>
          <a:ext cx="8715240" cy="5067360"/>
        </p:xfrm>
        <a:graphic>
          <a:graphicData uri="http://schemas.openxmlformats.org/drawingml/2006/table">
            <a:tbl>
              <a:tblPr/>
              <a:tblGrid>
                <a:gridCol w="3740040"/>
                <a:gridCol w="4975200"/>
              </a:tblGrid>
              <a:tr h="4777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ам сможешь сдел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 красный день, как обгорелый п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 нарядные, а ты неря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е боги горшки обжиг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ещи быстро изнашивае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ть горшком назови, только в печку не став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ильно ударил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ысох как спи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 тобой мне надеж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огня да в полы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ильно боле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глаз искры посыпа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ду не скрое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гореть со сты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 тут плохо и там т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 тобой – как за каменной сте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не сты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да в огне не горит и в воде не то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нем все равно, как меня называют, лишь бы относились хорош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ак на огне го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8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57120" y="2143080"/>
            <a:ext cx="8572680" cy="43340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К каждому вопросу, расположенному на отдельной карточке необходимо подобрать карточку с правильным ответо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8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7120" y="2143080"/>
            <a:ext cx="8572680" cy="43340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0040" y="2482920"/>
          <a:ext cx="8072640" cy="3732120"/>
        </p:xfrm>
        <a:graphic>
          <a:graphicData uri="http://schemas.openxmlformats.org/drawingml/2006/table">
            <a:tbl>
              <a:tblPr/>
              <a:tblGrid>
                <a:gridCol w="3917880"/>
                <a:gridCol w="4154760"/>
              </a:tblGrid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.Возник пожар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.Ползи к вых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.В комнате много дыма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.Звони 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.На тебе горит одежда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.Дыши через мокрую тряп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.Задымился телевизор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.Забросай зем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.Горит старая трав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.Открой окно, бал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.Почувствовал запах газ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.Отключи, накрой одеял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Трудно дышать  от едкого дым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Падай на землю, катай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9 КОНКУ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7120" y="2143080"/>
            <a:ext cx="8572680" cy="43340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омандам предлагается из предложенных стихов выбрать слова или фразы относящиеся к ОБЖ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428640"/>
            <a:ext cx="7618320" cy="6937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8388360" y="6093000"/>
            <a:ext cx="528480" cy="529920"/>
          </a:xfrm>
          <a:custGeom>
            <a:avLst/>
            <a:gdLst>
              <a:gd name="textAreaLeft" fmla="*/ 34200 w 528480"/>
              <a:gd name="textAreaRight" fmla="*/ 494280 w 528480"/>
              <a:gd name="textAreaTop" fmla="*/ 34200 h 529920"/>
              <a:gd name="textAreaBottom" fmla="*/ 495720 h 52992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3823"/>
                </a:moveTo>
                <a:lnTo>
                  <a:pt x="17806" y="10829"/>
                </a:lnTo>
                <a:lnTo>
                  <a:pt x="3794" y="1783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642760"/>
            <a:ext cx="7618320" cy="30006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Закончить фразу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 «Сегодня на уроке я понял, что…………………….»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8388360" y="6093000"/>
            <a:ext cx="528480" cy="529920"/>
          </a:xfrm>
          <a:custGeom>
            <a:avLst/>
            <a:gdLst>
              <a:gd name="textAreaLeft" fmla="*/ 34200 w 528480"/>
              <a:gd name="textAreaRight" fmla="*/ 494280 w 528480"/>
              <a:gd name="textAreaTop" fmla="*/ 34200 h 529920"/>
              <a:gd name="textAreaBottom" fmla="*/ 495720 h 52992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3823"/>
                </a:moveTo>
                <a:lnTo>
                  <a:pt x="17806" y="10829"/>
                </a:lnTo>
                <a:lnTo>
                  <a:pt x="3794" y="1783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7792920" cy="6937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9f8e7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 п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459640" y="6165720"/>
            <a:ext cx="505080" cy="53352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815">
                <a:moveTo>
                  <a:pt x="0" y="0"/>
                </a:moveTo>
                <a:lnTo>
                  <a:pt x="21600" y="0"/>
                </a:lnTo>
                <a:lnTo>
                  <a:pt x="21600" y="22815"/>
                </a:lnTo>
                <a:lnTo>
                  <a:pt x="0" y="22815"/>
                </a:lnTo>
                <a:close/>
              </a:path>
              <a:path fill="lightenLess" w="21600" h="228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5">
                <a:moveTo>
                  <a:pt x="21600" y="0"/>
                </a:moveTo>
                <a:lnTo>
                  <a:pt x="21600" y="22815"/>
                </a:lnTo>
                <a:lnTo>
                  <a:pt x="20200" y="21415"/>
                </a:lnTo>
                <a:lnTo>
                  <a:pt x="20200" y="1400"/>
                </a:lnTo>
                <a:close/>
              </a:path>
              <a:path fill="darkenLess" w="21600" h="22815">
                <a:moveTo>
                  <a:pt x="21600" y="22815"/>
                </a:moveTo>
                <a:lnTo>
                  <a:pt x="0" y="22815"/>
                </a:lnTo>
                <a:lnTo>
                  <a:pt x="1400" y="21415"/>
                </a:lnTo>
                <a:lnTo>
                  <a:pt x="20200" y="21415"/>
                </a:lnTo>
                <a:close/>
              </a:path>
              <a:path fill="lighten" w="21600" h="22815">
                <a:moveTo>
                  <a:pt x="0" y="228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5"/>
                </a:lnTo>
                <a:close/>
              </a:path>
              <a:path fill="darken" w="21600" h="22815">
                <a:moveTo>
                  <a:pt x="3794" y="8100"/>
                </a:moveTo>
                <a:lnTo>
                  <a:pt x="7301" y="8100"/>
                </a:lnTo>
                <a:lnTo>
                  <a:pt x="7301" y="13436"/>
                </a:lnTo>
                <a:cubicBezTo>
                  <a:pt x="7301" y="14358"/>
                  <a:pt x="8102" y="15089"/>
                  <a:pt x="9138" y="15089"/>
                </a:cubicBezTo>
                <a:lnTo>
                  <a:pt x="10800" y="15089"/>
                </a:lnTo>
                <a:cubicBezTo>
                  <a:pt x="11836" y="15089"/>
                  <a:pt x="12636" y="14358"/>
                  <a:pt x="12636" y="13436"/>
                </a:cubicBezTo>
                <a:lnTo>
                  <a:pt x="12636" y="8100"/>
                </a:lnTo>
                <a:lnTo>
                  <a:pt x="10800" y="8100"/>
                </a:lnTo>
                <a:lnTo>
                  <a:pt x="14308" y="4593"/>
                </a:lnTo>
                <a:lnTo>
                  <a:pt x="17981" y="8100"/>
                </a:lnTo>
                <a:lnTo>
                  <a:pt x="16144" y="8100"/>
                </a:lnTo>
                <a:lnTo>
                  <a:pt x="16144" y="13436"/>
                </a:lnTo>
                <a:cubicBezTo>
                  <a:pt x="16144" y="16203"/>
                  <a:pt x="13568" y="18762"/>
                  <a:pt x="10800" y="18762"/>
                </a:cubicBezTo>
                <a:lnTo>
                  <a:pt x="9138" y="18762"/>
                </a:lnTo>
                <a:cubicBezTo>
                  <a:pt x="6370" y="18762"/>
                  <a:pt x="3794" y="16203"/>
                  <a:pt x="3794" y="13436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792920" cy="8384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9f8e7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ЭПИГРАФ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9532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00120" y="1785960"/>
          <a:ext cx="6096240" cy="42069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0164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53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каждый гражданин этот номер </a:t>
                      </a: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к вам пришла беда – позвони скорей ту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6002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рение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химическая реакция соединения горючего вещества с кислородом воздуха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3890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словия горения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чие горючего материала (бумага, дерево и т.п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чие окислителя (кислород воздух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чие источника воспламенения (огонь, искра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38836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ire2"/>
          <p:cNvPicPr/>
          <p:nvPr/>
        </p:nvPicPr>
        <p:blipFill>
          <a:blip r:embed="rId1"/>
          <a:stretch/>
        </p:blipFill>
        <p:spPr>
          <a:xfrm>
            <a:off x="4952880" y="1143000"/>
            <a:ext cx="2895840" cy="1971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27"/>
          <p:cNvPicPr/>
          <p:nvPr/>
        </p:nvPicPr>
        <p:blipFill>
          <a:blip r:embed="rId2"/>
          <a:stretch/>
        </p:blipFill>
        <p:spPr>
          <a:xfrm>
            <a:off x="1371600" y="3733920"/>
            <a:ext cx="2857680" cy="213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02-3"/>
          <p:cNvPicPr/>
          <p:nvPr/>
        </p:nvPicPr>
        <p:blipFill>
          <a:blip r:embed="rId3"/>
          <a:stretch/>
        </p:blipFill>
        <p:spPr>
          <a:xfrm>
            <a:off x="4952880" y="373392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l16"/>
          <p:cNvPicPr/>
          <p:nvPr/>
        </p:nvPicPr>
        <p:blipFill>
          <a:blip r:embed="rId4"/>
          <a:stretch/>
        </p:blipFill>
        <p:spPr>
          <a:xfrm>
            <a:off x="1295280" y="1143000"/>
            <a:ext cx="2971800" cy="2022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95280" y="380880"/>
            <a:ext cx="6553440" cy="4597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9f9ed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ллюстр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8388360" y="6093000"/>
            <a:ext cx="528480" cy="529920"/>
          </a:xfrm>
          <a:custGeom>
            <a:avLst/>
            <a:gdLst>
              <a:gd name="textAreaLeft" fmla="*/ 34200 w 528480"/>
              <a:gd name="textAreaRight" fmla="*/ 494280 w 528480"/>
              <a:gd name="textAreaTop" fmla="*/ 34200 h 529920"/>
              <a:gd name="textAreaBottom" fmla="*/ 495720 h 52992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7522"/>
                </a:moveTo>
                <a:lnTo>
                  <a:pt x="7301" y="7522"/>
                </a:lnTo>
                <a:lnTo>
                  <a:pt x="7301" y="12857"/>
                </a:lnTo>
                <a:cubicBezTo>
                  <a:pt x="7301" y="13780"/>
                  <a:pt x="8102" y="14511"/>
                  <a:pt x="9138" y="14511"/>
                </a:cubicBezTo>
                <a:lnTo>
                  <a:pt x="10800" y="14511"/>
                </a:lnTo>
                <a:cubicBezTo>
                  <a:pt x="11836" y="14511"/>
                  <a:pt x="12636" y="13780"/>
                  <a:pt x="12636" y="12857"/>
                </a:cubicBezTo>
                <a:lnTo>
                  <a:pt x="12636" y="7522"/>
                </a:lnTo>
                <a:lnTo>
                  <a:pt x="10800" y="7522"/>
                </a:lnTo>
                <a:lnTo>
                  <a:pt x="14308" y="4014"/>
                </a:lnTo>
                <a:lnTo>
                  <a:pt x="17981" y="7522"/>
                </a:lnTo>
                <a:lnTo>
                  <a:pt x="16144" y="7522"/>
                </a:lnTo>
                <a:lnTo>
                  <a:pt x="16144" y="12857"/>
                </a:lnTo>
                <a:cubicBezTo>
                  <a:pt x="16144" y="15625"/>
                  <a:pt x="13568" y="18184"/>
                  <a:pt x="10800" y="18184"/>
                </a:cubicBezTo>
                <a:lnTo>
                  <a:pt x="9138" y="18184"/>
                </a:lnTo>
                <a:cubicBezTo>
                  <a:pt x="6370" y="18184"/>
                  <a:pt x="3794" y="15625"/>
                  <a:pt x="3794" y="1285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9bf4dd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ещества и материа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 группам возгораем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7772400" cy="346536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9f8e7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горючие – неспособные гор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удногорючие – способные гореть только под воздействием источника зажиг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ючие – способные гореть после удаления источника зажиг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388360" y="6093000"/>
            <a:ext cx="523800" cy="525240"/>
          </a:xfrm>
          <a:custGeom>
            <a:avLst/>
            <a:gdLst>
              <a:gd name="textAreaLeft" fmla="*/ 33840 w 523800"/>
              <a:gd name="textAreaRight" fmla="*/ 489960 w 52380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7522"/>
                </a:moveTo>
                <a:lnTo>
                  <a:pt x="7301" y="7522"/>
                </a:lnTo>
                <a:lnTo>
                  <a:pt x="7301" y="12858"/>
                </a:lnTo>
                <a:cubicBezTo>
                  <a:pt x="7301" y="13780"/>
                  <a:pt x="8102" y="14511"/>
                  <a:pt x="9138" y="14511"/>
                </a:cubicBezTo>
                <a:lnTo>
                  <a:pt x="10800" y="14511"/>
                </a:lnTo>
                <a:cubicBezTo>
                  <a:pt x="11836" y="14511"/>
                  <a:pt x="12636" y="13780"/>
                  <a:pt x="12636" y="12858"/>
                </a:cubicBezTo>
                <a:lnTo>
                  <a:pt x="12636" y="7522"/>
                </a:lnTo>
                <a:lnTo>
                  <a:pt x="10800" y="7522"/>
                </a:lnTo>
                <a:lnTo>
                  <a:pt x="14308" y="4015"/>
                </a:lnTo>
                <a:lnTo>
                  <a:pt x="17981" y="7522"/>
                </a:lnTo>
                <a:lnTo>
                  <a:pt x="16144" y="7522"/>
                </a:lnTo>
                <a:lnTo>
                  <a:pt x="16144" y="12858"/>
                </a:lnTo>
                <a:cubicBezTo>
                  <a:pt x="16144" y="15625"/>
                  <a:pt x="13568" y="18184"/>
                  <a:pt x="10800" y="18184"/>
                </a:cubicBezTo>
                <a:lnTo>
                  <a:pt x="9138" y="18184"/>
                </a:lnTo>
                <a:cubicBezTo>
                  <a:pt x="6370" y="18184"/>
                  <a:pt x="3794" y="15625"/>
                  <a:pt x="3794" y="1285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2f7e5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чины возникновения пожаров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d1faef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исправность электросети и электроприб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течка газ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осторожное обращение и шалости детей с огнё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неисправных отопительных приб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тавленные открытыми двери топок печ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388360" y="6093000"/>
            <a:ext cx="523800" cy="525240"/>
          </a:xfrm>
          <a:custGeom>
            <a:avLst/>
            <a:gdLst>
              <a:gd name="textAreaLeft" fmla="*/ 33840 w 523800"/>
              <a:gd name="textAreaRight" fmla="*/ 489960 w 52380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7522"/>
                </a:moveTo>
                <a:lnTo>
                  <a:pt x="7301" y="7522"/>
                </a:lnTo>
                <a:lnTo>
                  <a:pt x="7301" y="12858"/>
                </a:lnTo>
                <a:cubicBezTo>
                  <a:pt x="7301" y="13780"/>
                  <a:pt x="8102" y="14511"/>
                  <a:pt x="9138" y="14511"/>
                </a:cubicBezTo>
                <a:lnTo>
                  <a:pt x="10800" y="14511"/>
                </a:lnTo>
                <a:cubicBezTo>
                  <a:pt x="11836" y="14511"/>
                  <a:pt x="12636" y="13780"/>
                  <a:pt x="12636" y="12858"/>
                </a:cubicBezTo>
                <a:lnTo>
                  <a:pt x="12636" y="7522"/>
                </a:lnTo>
                <a:lnTo>
                  <a:pt x="10800" y="7522"/>
                </a:lnTo>
                <a:lnTo>
                  <a:pt x="14308" y="4015"/>
                </a:lnTo>
                <a:lnTo>
                  <a:pt x="17981" y="7522"/>
                </a:lnTo>
                <a:lnTo>
                  <a:pt x="16144" y="7522"/>
                </a:lnTo>
                <a:lnTo>
                  <a:pt x="16144" y="12858"/>
                </a:lnTo>
                <a:cubicBezTo>
                  <a:pt x="16144" y="15625"/>
                  <a:pt x="13568" y="18184"/>
                  <a:pt x="10800" y="18184"/>
                </a:cubicBezTo>
                <a:lnTo>
                  <a:pt x="9138" y="18184"/>
                </a:lnTo>
                <a:cubicBezTo>
                  <a:pt x="6370" y="18184"/>
                  <a:pt x="3794" y="15625"/>
                  <a:pt x="3794" y="1285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6174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9f8e7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сновные поражающие факторы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b2f7e5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й огонь (чаще лучистые потоки пламен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кая температура (теплоизлучение пожар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ксичные (ядовитые) продукты горения (газы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еря видимости из-за задым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388360" y="6093000"/>
            <a:ext cx="528480" cy="529920"/>
          </a:xfrm>
          <a:custGeom>
            <a:avLst/>
            <a:gdLst>
              <a:gd name="textAreaLeft" fmla="*/ 34200 w 528480"/>
              <a:gd name="textAreaRight" fmla="*/ 494280 w 528480"/>
              <a:gd name="textAreaTop" fmla="*/ 34200 h 529920"/>
              <a:gd name="textAreaBottom" fmla="*/ 495720 h 529920"/>
            </a:gdLst>
            <a:ahLst/>
            <a:rect l="textAreaLeft" t="textAreaTop" r="textAreaRight" b="textAreaBottom"/>
            <a:pathLst>
              <a:path w="21600" h="21659">
                <a:moveTo>
                  <a:pt x="0" y="0"/>
                </a:moveTo>
                <a:lnTo>
                  <a:pt x="21600" y="0"/>
                </a:lnTo>
                <a:lnTo>
                  <a:pt x="21600" y="21659"/>
                </a:lnTo>
                <a:lnTo>
                  <a:pt x="0" y="21659"/>
                </a:lnTo>
                <a:close/>
              </a:path>
              <a:path fill="lightenLess" w="21600" h="216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9">
                <a:moveTo>
                  <a:pt x="21600" y="0"/>
                </a:moveTo>
                <a:lnTo>
                  <a:pt x="21600" y="21659"/>
                </a:lnTo>
                <a:lnTo>
                  <a:pt x="20200" y="20259"/>
                </a:lnTo>
                <a:lnTo>
                  <a:pt x="20200" y="1400"/>
                </a:lnTo>
                <a:close/>
              </a:path>
              <a:path fill="darkenLess" w="21600" h="21659">
                <a:moveTo>
                  <a:pt x="21600" y="21659"/>
                </a:moveTo>
                <a:lnTo>
                  <a:pt x="0" y="21659"/>
                </a:lnTo>
                <a:lnTo>
                  <a:pt x="1400" y="20259"/>
                </a:lnTo>
                <a:lnTo>
                  <a:pt x="20200" y="20259"/>
                </a:lnTo>
                <a:close/>
              </a:path>
              <a:path fill="lighten" w="21600" h="21659">
                <a:moveTo>
                  <a:pt x="0" y="216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9"/>
                </a:lnTo>
                <a:close/>
              </a:path>
              <a:path fill="darken" w="21600" h="21659">
                <a:moveTo>
                  <a:pt x="3794" y="7522"/>
                </a:moveTo>
                <a:lnTo>
                  <a:pt x="7301" y="7522"/>
                </a:lnTo>
                <a:lnTo>
                  <a:pt x="7301" y="12857"/>
                </a:lnTo>
                <a:cubicBezTo>
                  <a:pt x="7301" y="13780"/>
                  <a:pt x="8102" y="14511"/>
                  <a:pt x="9138" y="14511"/>
                </a:cubicBezTo>
                <a:lnTo>
                  <a:pt x="10800" y="14511"/>
                </a:lnTo>
                <a:cubicBezTo>
                  <a:pt x="11836" y="14511"/>
                  <a:pt x="12636" y="13780"/>
                  <a:pt x="12636" y="12857"/>
                </a:cubicBezTo>
                <a:lnTo>
                  <a:pt x="12636" y="7522"/>
                </a:lnTo>
                <a:lnTo>
                  <a:pt x="10800" y="7522"/>
                </a:lnTo>
                <a:lnTo>
                  <a:pt x="14308" y="4014"/>
                </a:lnTo>
                <a:lnTo>
                  <a:pt x="17981" y="7522"/>
                </a:lnTo>
                <a:lnTo>
                  <a:pt x="16144" y="7522"/>
                </a:lnTo>
                <a:lnTo>
                  <a:pt x="16144" y="12857"/>
                </a:lnTo>
                <a:cubicBezTo>
                  <a:pt x="16144" y="15625"/>
                  <a:pt x="13568" y="18184"/>
                  <a:pt x="10800" y="18184"/>
                </a:cubicBezTo>
                <a:lnTo>
                  <a:pt x="9138" y="18184"/>
                </a:lnTo>
                <a:cubicBezTo>
                  <a:pt x="6370" y="18184"/>
                  <a:pt x="3794" y="15625"/>
                  <a:pt x="3794" y="1285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4651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aaf6e2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а безопасного поведения при пожа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3810240" cy="4303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c1f8ea"/>
              </a:gs>
              <a:gs pos="100000">
                <a:srgbClr val="00e4a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общи о пожаре в в пожарную охрану по т. «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0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овести о пожаре людей в здан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акуируйся (покинь горящее здани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Pojar1"/>
          <p:cNvPicPr/>
          <p:nvPr/>
        </p:nvPicPr>
        <p:blipFill>
          <a:blip r:embed="rId1"/>
          <a:stretch/>
        </p:blipFill>
        <p:spPr>
          <a:xfrm>
            <a:off x="5145120" y="1828800"/>
            <a:ext cx="3809880" cy="426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130" name="AutoShape 6"/>
          <p:cNvSpPr/>
          <p:nvPr/>
        </p:nvSpPr>
        <p:spPr>
          <a:xfrm>
            <a:off x="8388360" y="6093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6:19:22Z</dcterms:created>
  <dc:creator>kurs</dc:creator>
  <dc:description/>
  <dc:language>en-US</dc:language>
  <cp:lastModifiedBy>User</cp:lastModifiedBy>
  <dcterms:modified xsi:type="dcterms:W3CDTF">2011-10-12T16:37:52Z</dcterms:modified>
  <cp:revision>41</cp:revision>
  <dc:subject/>
  <dc:title>Пожары</dc:title>
</cp:coreProperties>
</file>