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0F9-C627-4F34-84E3-50E6A747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6BD-4C0F-4F51-BB54-D7AA7396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38B-EE50-48DF-BA60-F4C5FE09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CD5-9C97-43BC-8404-BE3455EF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810-72F8-4387-A131-490D4B93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9A0C-80B7-4370-AEBC-BF64E0E7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D20-7867-48DD-A199-315FBC0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9BD-2896-43A8-B35F-E217F72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EB43-7E46-4641-BB2F-8277688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6FEC-1AE0-4D20-9377-D00E203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DC00-8831-48F0-97EC-C1031B1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615-BDB4-4F03-A108-7096914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BCB-1730-4812-B48F-9460C19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CD7D-05EE-46BB-897C-F60967F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5DAC-BA5F-470F-84EF-2B32A79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15D-1105-4626-9673-6D3AF8D5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B18-F98B-4D94-84E9-CFAB2311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4434-1C6D-4D1C-BE4C-F7D98696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E0C0-F9A8-4677-BAB1-2F33C48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A84A-CD15-4EC8-B674-A6423B2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D9A2-2B25-4FB4-AD03-CBB83996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47E4-DCB5-4397-A79F-00F74B5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1B6-1653-4FAD-A8C7-AD72844E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EE1A-4E78-4250-8699-70B19AC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25EC-179D-40B1-A9C8-8C2D8E1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DF34-9127-4964-986E-D222BED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D208-BCF9-434B-90FA-3D23AC6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5F6F-CB1C-4C3A-8625-02DD980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1C10-5E45-4F4E-90D7-9E23AF5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D22B-AA4C-41E4-B2DE-3F33AD3D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2F32-ED58-427D-A0A5-2529CBEC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6C55-6947-4AE0-9A97-2CA52CE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A024-50B1-4418-93A5-FBAE72E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4DF-F9DD-45C0-BFF0-5FAA485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680B-77A9-4330-82E2-E22BF67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7A5A-0D8A-4F81-A41F-AF747F45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C7AE-A804-4D06-85B3-987659D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FD58-3ACC-423A-A1F3-60FD2886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B671-0BA6-4FE2-B6C3-706E27E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07D5-7E41-46D5-83A7-C834E91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397A-6C28-4F60-86A1-A6F5462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A3F6-E16B-426E-A76D-2DB3F54F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AEF3-04CA-40C1-964F-BFAB975C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4B50-57F5-4E17-989E-55D8DFA6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3E0-4BFA-4908-A985-C864440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58F4-985B-48C2-A328-9762CF9F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39F7E-C285-4937-9FCC-C56BF6B9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4597-C8AF-40E9-93EA-EC2CCCF3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B388-444E-4F31-82FA-9E35C6C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6B2FC-AA7A-47B5-93D4-CDC7D2C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B746-A7E0-4E7D-99FA-4B3462F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45A17-C730-4C5B-B4A4-E811456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852D-894D-4DB3-B365-2B79C91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0B9B-8786-4B94-857B-1EADF107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13DF-7722-49A5-B8B4-B1C4BA34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802-070F-430D-B289-0142BB0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8C33-DF8F-4248-8464-97CAFCFB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11-5581-4165-B983-CF497BA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610-70B1-42E4-B136-464D9EF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96E-46D0-4D1D-A985-0E3BC14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DDE-A37D-46A7-A33C-7B074FB3EBC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DDC-88E2-4F3B-AD35-1AE98C096F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A4F-E9B2-433D-8669-746CBDC6AA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2DF-E2D7-42D5-941F-ADACA68528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2F9-F07E-483F-94E5-CFB07376B0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mbria"/>
              </a:rPr>
              <a:t>(5-6 классы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0" y="1506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растные особенн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ладших подростков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420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это время интересы еще достаточно неустойчивы, легко меняются. Специфика интересов заключается в потребности подростка в общении со сверстниками: общие увлечения дают повод для общения, определяют его содержание и средства. В значительной части случаев подросток интересуется тем, чем интересуются его друзья. С этим связана и характерная для подростков «мода на интересы», когда какое-либо увлечение как бы внезапно охватывает весь класс, параллель, а иногда и всю школу. Подобная «мода» может причудливо соединять в различные комбинации самые разные интересы - от достаточно возвышенных до простых и даже вредных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воеобразной чертой подростковых интересов является безоглядность увлечения, когда интерес часто случайный и ситуативный, вдруг приобретает сверхценный характер, становится чрезмерны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3840" y="1000080"/>
            <a:ext cx="8472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озраст 10-11 лет - пограничный между детством и отрочеством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11 лет начинается перестройка организма, ребенок становится импульсивным, проявляет негативизм, для него характерны частая смена настроений, ссоры со сверстниками, бунты против родителе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4428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Психологические особенности учащихся 5-6 классов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85480" y="1447560"/>
            <a:ext cx="864396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связи с началом этапа полового созревания происходят следующие изменения: дети чаще отвлекаются, неадекватно реагируют на замечания, иногда ведут себя вызывающе, бывают раздражены, капризны, их настроение часто меняется. Все эти особенности объективны и они быстро пройдут и не окажут отрицательного влияния на учебу, взаимоотношения со взрослыми, если учителя и родители найдут целесообразные, щадящие методы и формы взаимодействия с ребенк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но в этом возрасте проявляется не подкрепленное еще реальной ответственностью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чувство взрослости»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ая форма самосознания, возникающая в переходный период и определяющая основные отношения младших подростков с миром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2643120"/>
            <a:ext cx="8715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Чувство взрослости» проявляется в противоречивом желании «быть взрослым»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дной стороны - стремление утвердить себя как старшего, выросшего; потребность в равноправии, уважении и самостоятельности; требование серьезного, доверительного отношения со стороны взрослых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другой стороны - повышенная зависимость от взрослых, «прилипчивость» к классному руководителю, плач, капризы, желание оказаться в ситуации опеки и зависим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13840" y="356760"/>
            <a:ext cx="8472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енебрежение этими требованиями, неудовлетворенность их потребностей обостряет негативные черты подросткового кризиса. Если взрослые не предлагают детям средств реализации их чувства взрослости, оно все равно проявится, но самым невыгодным образом - уверенностью подростка в несправедливости и необъективности взрослых: учителей, родителе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знак протеста против диктата родителей подростки могут делать все «назло»: пропускать уроки, курить, дружить с теми, с кем запрещают родители. В более острых ситуациях подростки могут убегать из дома, начинают употреблять спиртные напитки, наркотики, токсические вещ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96464"/>
                </a:solidFill>
                <a:latin typeface="Calibri"/>
              </a:rPr>
              <a:t>Склонность к фантазированию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 склонность к некритическому планированию своего будущего. Результат действия становится второстепенным, на первый план выступает свой собственный авторский замыс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Стремление экспериментировать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57120" y="856800"/>
            <a:ext cx="83296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 едва ли не самая яркая характеристика младших подростков. Если взрослые не предоставляют младшим подросткам развивающих культурных форм такого экспериментирования, то оно реализуется лишь в самой поверхностной и примитивной форме - в экспериментах со своей внешностью, в первых пробах курения, употребления спиртных напитков и т.д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5302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4200" y="50004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общество взрослых ожидает от подростков способности понимать других людей и сосуществовать с ними на принципах равноправия и терпимости. Эта способность человека называется децентрацией, именно она создает условия для возможного понимания другой культуры, другой эпохи, другого мировоззрения. У школьников она только начинает формироваться в подростковом возрасте, при умелом построении диалога она может окрепнуть и стать личностным образованием. Но развитие этой способности не терпит суеты, требует осторожности и ненавязчивости. Речь идет о создании ситуаций, которые учат подростков принимать разные точки зр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Младшие подростки характеризуются резким ростом познавательной активности и любознательности, возникновением познавательных интересов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2920" y="17859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этот период подростку становится интересно многое, далеко выходящее за рамки его повседневной жизни - это период «зенита любознательности». Проявления любознательности поверхностны и практически не имеют связи со школьной программой. Эта любознательность отражает увеличившийся интерес школьника к окружающему миру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33:11Z</dcterms:created>
  <dc:creator>SamLab.ws</dc:creator>
  <dc:description/>
  <dc:language>en-US</dc:language>
  <cp:lastModifiedBy>SamLab.ws</cp:lastModifiedBy>
  <dcterms:modified xsi:type="dcterms:W3CDTF">2009-03-03T16:33:38Z</dcterms:modified>
  <cp:revision>7</cp:revision>
  <dc:subject/>
  <dc:title>Слайд 1</dc:title>
</cp:coreProperties>
</file>