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AF07-BBFF-4557-97F7-D8BB37232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7888-D9C6-403C-ABCF-72277DE6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7745-C9C9-4743-9820-9510F234B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73F4-5734-45C3-A4F6-F4EC97042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6681-21B5-4DB9-83CD-75D8E775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499B-4AEE-4C81-81CB-310AC49B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F446-4ECE-4020-844A-17BEC309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2265-F4A6-461C-9519-960409E9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ACB5-7913-4B92-A2D9-B06F3A6F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F7A1-BF4F-4397-9A9E-2071A3C6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0FB4-69F8-4A72-8345-AA28D8F7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CFB9-BCED-4E92-A736-CD1B111E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D1A0-CDE6-48BE-8457-32D90B59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CD84-623A-488F-9193-20437FB3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8A27-90D1-4F9A-80CE-1186D743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1A28-04D3-41AC-A892-B9743381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FE0F-854D-4FB6-9CE0-0A0C7825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8641E-1ABF-4B0E-ACE3-D38FB626A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CA4CF-F992-4266-AE83-437A6754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24265-2CBA-4E4A-BFF9-A4BCE0BF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945AD-44B4-4927-BCE5-D09994DD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C3CB2-6A76-4C3B-A3D0-7A041698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F02B-201D-489D-B23D-4B33FFD4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577C4-F1EA-4360-825F-02D91D9E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CDDA3-07C2-4470-A861-B23DB42F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50C8B-264C-482F-8E45-AE452879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7A6FB-8378-4098-B2EC-4B87A6FA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0BDDF-50F1-4B3B-A478-3B28358A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FC340-282E-4728-ACBB-BA8C25FB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C4531-27FF-468A-8C55-D52C9FA86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E29D9-3C7E-4C19-BA8D-762E97C90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F821D-386B-4934-A1D7-E6BCFE13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B6915-4C50-4A5A-8254-302D3AAA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67B8-5729-4FD3-8D43-C91E794A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F6C6E-158A-4C95-B5DC-82D08502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D2201-DD97-45DD-B1FF-6D1D5AAE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EB02B-90D1-42C1-96EC-6414DF53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2E060-7479-4F7C-ABAA-73E8C355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CD5A9-37C1-4300-B61B-CFE877A8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36666-453C-42F0-ACC2-E039B5BF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CB886-C182-4A3D-865D-14BADFCF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CFF33-E3E3-4105-B0D7-BE8887BCB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41D12-DBCE-4693-9939-47A5E1B0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4122F-2691-4133-B385-B1E183BEA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3CB1-393D-40F1-89FB-F917C747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E6FEB-B0A0-4174-8234-576CD857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A46CD-4201-43F9-B6A5-C732A0F3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4E31F-CF07-4906-A933-CCACFAF5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3CB86-B13E-4773-9734-A755A9F4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9D20B-0752-49C2-93EC-69B6CE9D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1FFA3-F891-41A0-9440-131EC490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2108D-9C85-42A9-9284-EAA0D9D0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2B82E-53A4-48AE-87DC-794566BF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01911-A361-4979-86FD-0B668ACA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3B919-E6BC-4313-BE83-7A19F80DB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01AA-DBB4-4A69-85D1-FEE3C23D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80513-5228-4AA7-BD2F-F4649769F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988F-8A64-432A-B553-AEF392B3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A000-52DC-4924-8587-71C041F3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8B40-E6F8-42EF-BE63-DAC27C97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31F3-0DC7-4073-A329-07476992A03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BFF7-7603-4471-8A4E-EA3AF82D29B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94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97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BDE3-F6BD-4FB3-ABB1-6D5B74FE0B6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9628-5D3C-45A4-A65E-07E075F4636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8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9776-5355-4E23-995C-A1E4F009C8D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mbria"/>
              </a:rPr>
              <a:t>(5-6 классы)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0" y="1506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озрастные особенности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младших подростков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214200" y="285840"/>
            <a:ext cx="850104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 это время интересы еще достаточно неустойчивы, легко меняются. Специфика интересов заключается в потребности подростка в общении со сверстниками: общие увлечения дают повод для общения, определяют его содержание и средства. В значительной части случаев подросток интересуется тем, чем интересуются его друзья. С этим связана и характерная для подростков «мода на интересы», когда какое-либо увлечение как бы внезапно охватывает весь класс, параллель, а иногда и всю школу. Подобная «мода» может причудливо соединять в различные комбинации самые разные интересы - от достаточно возвышенных до простых и даже вредных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28400" y="1447920"/>
            <a:ext cx="8258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Своеобразной чертой подростковых интересов является безоглядность увлечения, когда интерес часто случайный и ситуативный, вдруг приобретает сверхценный характер, становится чрезмерным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213840" y="1000080"/>
            <a:ext cx="8472600" cy="50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Возраст 10-11 лет - пограничный между детством и отрочеством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В 11 лет начинается перестройка организма, ребенок становится импульсивным, проявляет негативизм, для него характерны частая смена настроений, ссоры со сверстниками, бунты против родителей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indent="4428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Психологические особенности учащихся 5-6 классов.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85480" y="1447560"/>
            <a:ext cx="864396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связи с началом этапа полового созревания происходят следующие изменения: дети чаще отвлекаются, неадекватно реагируют на замечания, иногда ведут себя вызывающе, бывают раздражены, капризны, их настроение часто меняется. Все эти особенности объективны и они быстро пройдут и не окажут отрицательного влияния на учебу, взаимоотношения со взрослыми, если учителя и родители найдут целесообразные, щадящие методы и формы взаимодействия с ребенком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715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менно в этом возрасте проявляется не подкрепленное еще реальной ответственностью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«чувство взрослости» 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обая форма самосознания, возникающая в переходный период и определяющая основные отношения младших подростков с миром.</a:t>
            </a: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14200" y="2643120"/>
            <a:ext cx="871560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«Чувство взрослости» проявляется в противоречивом желании «быть взрослым»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 одной стороны - стремление утвердить себя как старшего, выросшего; потребность в равноправии, уважении и самостоятельности; требование серьезного, доверительного отношения со стороны взрослых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 другой стороны - повышенная зависимость от взрослых, «прилипчивость» к классному руководителю, плач, капризы, желание оказаться в ситуации опеки и зависимости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213840" y="356760"/>
            <a:ext cx="8472600" cy="62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Пренебрежение этими требованиями, неудовлетворенность их потребностей обостряет негативные черты подросткового кризиса. Если взрослые не предлагают детям средств реализации их чувства взрослости, оно все равно проявится, но самым невыгодным образом - уверенностью подростка в несправедливости и необъективности взрослых: учителей, родителей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 знак протеста против диктата родителей подростки могут делать все «назло»: пропускать уроки, курить, дружить с теми, с кем запрещают родители. В более острых ситуациях подростки могут убегать из дома, начинают употреблять спиртные напитки, наркотики, токсические вещества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96464"/>
                </a:solidFill>
                <a:latin typeface="Calibri"/>
              </a:rPr>
              <a:t>Склонность к фантазированию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28400" y="1447920"/>
            <a:ext cx="8258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Это склонность к некритическому планированию своего будущего. Результат действия становится второстепенным, на первый план выступает свой собственный авторский замысел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96464"/>
                </a:solidFill>
                <a:latin typeface="Calibri"/>
              </a:rPr>
              <a:t>Стремление экспериментировать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57120" y="856800"/>
            <a:ext cx="832968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Это едва ли не самая яркая характеристика младших подростков. Если взрослые не предоставляют младшим подросткам развивающих культурных форм такого экспериментирования, то оно реализуется лишь в самой поверхностной и примитивной форме - в экспериментах со своей внешностью, в первых пробах курения, употребления спиртных напитков и т.д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indent="5302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214200" y="500040"/>
            <a:ext cx="871560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ообщество взрослых ожидает от подростков способности понимать других людей и сосуществовать с ними на принципах равноправия и терпимости. Эта способность человека называется децентрацией, именно она создает условия для возможного понимания другой культуры, другой эпохи, другого мировоззрения. У школьников она только начинает формироваться в подростковом возрасте, при умелом построении диалога она может окрепнуть и стать личностным образованием. Но развитие этой способности не терпит суеты, требует осторожности и ненавязчивости. Речь идет о создании ситуаций, которые учат подростков принимать разные точки зрен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indent="3430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Младшие подростки характеризуются резким ростом познавательной активности и любознательности, возникновением познавательных интересов.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42920" y="1785960"/>
            <a:ext cx="8786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этот период подростку становится интересно многое, далеко выходящее за рамки его повседневной жизни - это период «зенита любознательности». Проявления любознательности поверхностны и практически не имеют связи со школьной программой. Эта любознательность отражает увеличившийся интерес школьника к окружающему миру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5:33:11Z</dcterms:created>
  <dc:creator>SamLab.ws</dc:creator>
  <dc:description/>
  <dc:language>en-US</dc:language>
  <cp:lastModifiedBy>SamLab.ws</cp:lastModifiedBy>
  <dcterms:modified xsi:type="dcterms:W3CDTF">2009-03-03T16:33:38Z</dcterms:modified>
  <cp:revision>7</cp:revision>
  <dc:subject/>
  <dc:title>Слайд 1</dc:title>
</cp:coreProperties>
</file>