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7D7B-1EF0-4D75-B2CD-B15FD9C6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86C6-671C-43E4-A89F-56B03D2B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4C52-2B7D-4465-80D6-F1168194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241E-3739-45AF-84CF-CA67CB99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507F-E514-4123-8D66-06C8389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F3D-4AA5-46B9-98D6-2ACF97E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46F-33D4-419E-96D0-F16B515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81A-BC1D-477C-B4B0-5185E79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AB4C-9D81-4F77-B02B-FE228D04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BF16-56B7-41A4-B784-4B965B15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150A-7582-4044-9984-C4C81DE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DA63-1B6A-4491-85FE-9FEEFC7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C53-06F0-4273-A8B1-637E115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6E8F-D64F-41CE-95E0-FE9DBA4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ED69-E26B-4C59-96F6-D9FD1A8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7FC-46F8-47F3-A89D-52568C11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F4A1-549B-4BA8-9E51-FA0B5128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C62F-CF9E-4A45-A972-284EA77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7A8C-4F28-4D42-8C3D-72EC5B07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1263-7A4C-4F90-943B-F5D89C0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D3DE-78EF-4345-B330-0420A05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4600-8A17-45A9-9E0D-AB6FF77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BA54-035B-46EC-A23F-39A3F88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614F-2B29-456E-BD79-3638E9F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F941-053B-4294-944F-532D8216C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9B2-ACAF-4757-A6B8-86A4C714FF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908000" y="620640"/>
            <a:ext cx="5616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способо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1773360"/>
            <a:ext cx="358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619280" y="54936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348000" y="189000"/>
            <a:ext cx="57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003640" y="18900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659640" y="404640"/>
            <a:ext cx="5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956720" y="1413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101080" y="4437000"/>
            <a:ext cx="46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300720" y="5589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67280" y="5589720"/>
            <a:ext cx="64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809e5"/>
                </a:solidFill>
                <a:uFillTx/>
                <a:latin typeface="Arial"/>
              </a:rPr>
              <a:t>3. СПОСОБ</a:t>
            </a:r>
            <a:r>
              <a:rPr b="0" lang="ru-RU" sz="2000" spc="-1" strike="noStrike">
                <a:solidFill>
                  <a:srgbClr val="3809e5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Решение квадратных уравнений по форму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ножим обе части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а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 + с = 0, а ≠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4а и последовательно име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4а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+ 4а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 + 4ас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((2ах)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+ 2ах •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) -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4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ac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(2ax + b)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= b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- 4a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2ax + b = ± √ b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- 4a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2ax = - b ± √ b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- 4a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203640" y="5157720"/>
            <a:ext cx="2674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809e5"/>
                </a:solidFill>
                <a:uFillTx/>
                <a:latin typeface="Arial"/>
              </a:rPr>
              <a:t>4. СПОСОБ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Решение уравнений с использованием теоремы Ви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известно, приведенное квадратное уравнение имеет в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x + c = 0.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          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корни удовлетворяют теореме Виета, которая пр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=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меет ви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q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= -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– 3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2 = 0;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2 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1,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так как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2 &gt; 0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3 &lt; 0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8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7 = 0;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7 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1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 так как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7 &gt; 0 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= 8 &gt; 0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4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– 5 = 0;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= - 5 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1,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так как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= - 5 &lt; 0 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4 &gt;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– 8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– 9 = 0;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 = 9  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1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так как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9 &lt; 0  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 8 &lt; 0.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809e5"/>
                </a:solidFill>
                <a:uFillTx/>
                <a:latin typeface="Arial"/>
              </a:rPr>
              <a:t>5. СПОСОБ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Решение уравнений способом «переброск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им 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ах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 +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 + с = 0, </a:t>
            </a:r>
            <a:r>
              <a:rPr b="0" lang="ru-RU" sz="2400" spc="-1" strike="noStrike">
                <a:solidFill>
                  <a:srgbClr val="e84706"/>
                </a:solidFill>
                <a:latin typeface="Arial"/>
              </a:rPr>
              <a:t>где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а ≠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ножая обе его части на а, получае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а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+ а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 + ас =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ах = 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куда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 = у/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тогда приходим к уравн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by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+ ас = 0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осильно данному. Его корни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lang="ru-RU" sz="24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ем с помощью теоремы Ви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нчательно получаем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у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/а  </a:t>
            </a:r>
            <a:r>
              <a:rPr b="0" lang="ru-RU" sz="2400" spc="-1" strike="noStrike">
                <a:solidFill>
                  <a:srgbClr val="e84706"/>
                </a:solidFill>
                <a:latin typeface="Arial"/>
              </a:rPr>
              <a:t>и 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у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/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м уравнение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2х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– 11х + 15 =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еребросим» коэффициент </a:t>
            </a:r>
            <a:r>
              <a:rPr b="0" lang="ru-RU" sz="2400" spc="-1" strike="noStrike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свободному члену, в результате 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ru-RU" sz="24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– 11у + 30 = 0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теореме Ви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5                х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5/2        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2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6               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6/2        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4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2,5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386064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5640" y="386064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96000" y="386064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32000" y="4149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08720" y="4149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809e5"/>
                </a:solidFill>
                <a:uFillTx/>
                <a:latin typeface="Arial"/>
              </a:rPr>
              <a:t>6. СПОСОБ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Свойства коэффициентов квадрат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дано квадратное уравнение 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а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 + с = 0, 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где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а ≠ 0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) Если,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а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с = 0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(т.е. сумма коэффициентов равна нулю), то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1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с/а.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оказательство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делим обе части уравнения на а ≠ 0, получим приведенное квадратное урав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b/a 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 + c/a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гласно теореме Ви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= -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1•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условию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а –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+  с = 0,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уда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а + с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-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b/a= -1 – c/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- 1• ( - c/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е.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-1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и требовалось доказ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торой коэффициент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четное число, то формулу кор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688000" cy="1476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3068640"/>
            <a:ext cx="8569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иведенное урав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рх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падает с уравнением общего вида, в котором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а = 1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р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с =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этому для приведенного квадратного уравнения формула кор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2843280" y="5661000"/>
            <a:ext cx="3166920" cy="10922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8136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6836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809e5"/>
                </a:solidFill>
                <a:uFillTx/>
                <a:latin typeface="Arial"/>
              </a:rPr>
              <a:t>7. СПОСОБ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ческое решение квадратного уравн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уравн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px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нести второй и третий члены в правую часть, то получ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-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px - 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роим графики зависимости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у = х</a:t>
            </a:r>
            <a:r>
              <a:rPr b="0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и у = - </a:t>
            </a:r>
            <a:r>
              <a:rPr b="0" lang="en-US" sz="1800" spc="-1" strike="noStrike">
                <a:solidFill>
                  <a:srgbClr val="e84706"/>
                </a:solidFill>
                <a:latin typeface="Arial"/>
              </a:rPr>
              <a:t>px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3276720" y="3041640"/>
            <a:ext cx="309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504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им графически урав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- 3х - 4 = 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рис. 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пишем уравнение в вид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3х + 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им параболу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у = х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рям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у = 3х + 4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у = 3х + 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можно  построить по двум точк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М (0; 4)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  и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(3; 13)</a:t>
            </a: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: х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= - 1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= 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638680" y="189000"/>
            <a:ext cx="3210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3" dur="2000"/>
                                        <p:tgtEl>
                                          <p:spTgt spid="5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809e5"/>
                </a:solidFill>
                <a:uFillTx/>
                <a:latin typeface="Arial"/>
              </a:rPr>
              <a:t>8. СПОСОБ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Решение квадратных уравнений с помощью циркуля и лине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хождения корней квадратного    уравнения   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ах</a:t>
            </a:r>
            <a:r>
              <a:rPr b="0" i="1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 + с = 0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с помощью циркуля и линейки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(рис. 5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гда по теореме о секущих  име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B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A 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C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ткуда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C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B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•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OA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= 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 1 =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664240" y="1662120"/>
            <a:ext cx="3181320" cy="32796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67344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диус окружности больше ординаты цен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S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SK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, или 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окружность пересекает ось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О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двух точках (6,а рис. )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В(х1; 0)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(х2; 0)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де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e8470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орни квадратного уравнения 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ах2 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х + с = 0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диус окружности равен ординате центр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S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SB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, или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кружность касается оси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Ох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рис. 6,б) в точк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В(х1; 0)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де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корень квадратного урав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диус окружности меньше ординаты центра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ность не имеет общих точек с осью абсцисс (рис.6,в), в этом случае уравнение не имеет реше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1795320" cy="4712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2387520" cy="2952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2057400" cy="2923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969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aca"/>
                </a:solidFill>
                <a:latin typeface="Bernard MT Condensed"/>
              </a:rPr>
              <a:t>История развития квадратных уравнени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Квадратные уравнения в Древнем Вавилон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Х=3/4      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Х=14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7489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809e5"/>
                </a:solidFill>
                <a:uFillTx/>
                <a:latin typeface="Arial"/>
              </a:rPr>
              <a:t>9. СПОСОБ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Решение квадратных уравнений с помощью  ном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pz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 = 0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волинейная шкала номограммы постро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формулам (рис.11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агая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ОС = р,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ED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, ОЕ = а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(все в см.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подобия   треугольников 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САН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 и 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CD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м пропорци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006960" y="1700280"/>
            <a:ext cx="2874960" cy="43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8" name=""/>
          <p:cNvGraphicFramePr/>
          <p:nvPr/>
        </p:nvGraphicFramePr>
        <p:xfrm>
          <a:off x="971640" y="3933720"/>
          <a:ext cx="33130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933720"/>
                    <a:ext cx="3313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4825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уравнения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- 9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+ 8 = 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омограмма дает корни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8,0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 и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1,0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рис.12)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2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им  с  помощь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ограмм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рав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en-US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 - 9z + 2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им  коэффициенты  этого уравнения на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м урав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en-US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 - 4,5z + 1 = 0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ограмма дает корни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4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0,5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урав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en-US" sz="18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- 25z + 66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эффициенты </a:t>
            </a:r>
            <a:r>
              <a:rPr b="0" lang="en-US" sz="1800" spc="-1" strike="noStrike">
                <a:solidFill>
                  <a:srgbClr val="e84706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e84706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ходят за пределы шкалы, выполним подстановку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5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м урав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i="1" lang="en-US" sz="18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 - 5t + 2,64 = 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ое решаем посредством номограммы и получим 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0,6 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= 4,4,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уд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5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3,0 </a:t>
            </a:r>
            <a:r>
              <a:rPr b="0" lang="ru-RU" sz="1800" spc="-1" strike="noStrike">
                <a:solidFill>
                  <a:srgbClr val="e84706"/>
                </a:solidFill>
                <a:latin typeface="Arial"/>
              </a:rPr>
              <a:t> и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z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5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t</a:t>
            </a:r>
            <a:r>
              <a:rPr b="0" i="1" lang="ru-RU" sz="18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e84706"/>
                </a:solidFill>
                <a:latin typeface="Arial"/>
              </a:rPr>
              <a:t> = 22,0</a:t>
            </a:r>
            <a:r>
              <a:rPr b="0" i="1" lang="ru-RU" sz="20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624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42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66ff"/>
                </a:solidFill>
                <a:uFillTx/>
                <a:latin typeface="Arial"/>
              </a:rPr>
              <a:t>10. СПОСОБ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Геометрический способ решения квадратных  урав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имер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) Решим уравнение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18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e84706"/>
                </a:solidFill>
                <a:latin typeface="Arial"/>
              </a:rPr>
              <a:t>+ 10х = 3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 оригинале эта задача формулиру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ледующим образом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Квадрат и десять корней равны 39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рис.15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искомой стороны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ервонач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вадрата получ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1441440" cy="2490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45600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3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825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у - 16 = 0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шен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ставлено на рис. 16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у = 16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и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+ 6у + 9 = 16 + 9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ыражения 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у + 9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16 + 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еометрически представля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ой один и тот же квадрат, а исход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+ 6у - 16 + 9 - 9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одно и то же уравн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уда и получаем, что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 + 3 = ± 5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у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2, у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- 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рис.16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2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20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8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8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Как составлял и решал Диофант квадратные урав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юда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0+х)(10-х) =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ли 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- 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4=0        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4508640"/>
            <a:ext cx="655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Решение  х = -2  для  Диофанта  не существует, так как  греческая  математика  знала  только положительные чис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Квадратные уравнения в Инд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 = с,      а&gt;0.                          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7956720" cy="19285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5235480" y="4005360"/>
            <a:ext cx="3908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Квадратные уравнения у ал – Хорез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) «Квадраты равны корнями», т.е.  ах2 + с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) «Квадраты равны числу», т.е.  ах2 =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) «Корни равны числу», т.е.  ах =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) «Квадраты и числа равны корням», т.е.  ах2 + с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5) «Квадраты и корни равны числу», т.е. ах2 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=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) «Корни и числа равны квадратам», т.е.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+ с = ах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Квадратные уравнения в Европе ХIII - Х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II в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севозможных комбинациях знаков коэффициент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e84706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e8470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улировано в Европе лишь в 1544 г. М. Штиф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О теореме Ви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Если В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множенное на А - А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о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А равно В и равн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4706"/>
                </a:solidFill>
                <a:latin typeface="Arial"/>
              </a:rPr>
              <a:t>На языке современной алгебры вышеприведенная формулировка Виета означает: если имеет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а 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х - х2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b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- (а 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х + 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= а,  х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Способы решения квадратных уравнени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809e5"/>
                </a:solidFill>
                <a:uFillTx/>
                <a:latin typeface="Arial"/>
              </a:rPr>
              <a:t>1. СПОСОБ</a:t>
            </a:r>
            <a:r>
              <a:rPr b="0" lang="en-US" sz="3200" spc="-1" strike="noStrike">
                <a:solidFill>
                  <a:srgbClr val="3809e5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ложение левой части уравнения на множ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им уравнение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2 + 10х - 24 = 0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азложим левую часть на множи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+ 10х - 24 = 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12х - 2х - 24 = х(х + 12) - 2(х + 12) = (х + 12)(х - 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овательно, уравнение можно переписать т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(х + 12)(х - 2)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произведение равно нулю, то, по крайней мере, один из его множителей равен нулю. Поэтому левая часть уравнения обращается нуль пр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 = 2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а также пр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 = - 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Это означает, что число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- 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являются корнями уравнения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10х - 24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809e5"/>
                </a:solidFill>
                <a:uFillTx/>
                <a:latin typeface="Arial"/>
              </a:rPr>
              <a:t>2. СПОСОБ</a:t>
            </a:r>
            <a:r>
              <a:rPr b="0" lang="en-US" sz="2400" spc="-1" strike="noStrike">
                <a:solidFill>
                  <a:srgbClr val="3809e5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тод выделения полного квадр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им уравнение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х - 7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Выделим в левой части полный квад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этого запишем выражение 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 + 6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в следующем ви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+ 6х = 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2• х •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ом выражении первое слагаемое - квадрат числа х, а второе - удвоенное произведение х на 3. По этому чтобы получить полный квадрат, нужно прибавить 32, так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2• х • 3 + 32 = (х + 3)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образуем теперь левую часть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х - 7 = 0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бавляя к ней и вычитая 32. Име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+ 6х - 7 = 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e84706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2• х • 3 + 32 - 32 - 7 = (х + 3)2 - 9 - 7 = (х + 3)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- 16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им образом, данное уравнение можно записать т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(х + 3)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- 16 =0,  (х + 3)</a:t>
            </a:r>
            <a:r>
              <a:rPr b="0" i="1" lang="en-US" sz="2000" spc="-1" strike="noStrike" baseline="30000">
                <a:solidFill>
                  <a:srgbClr val="e84706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= 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х + 3 - 4 = 0, х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или х 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+ 3 = -4, х</a:t>
            </a:r>
            <a:r>
              <a:rPr b="0" i="1" lang="en-US" sz="2000" spc="-1" strike="noStrike" baseline="-25000">
                <a:solidFill>
                  <a:srgbClr val="e84706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e84706"/>
                </a:solidFill>
                <a:latin typeface="Arial"/>
              </a:rPr>
              <a:t> = -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5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5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5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5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5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5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5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1:24:48Z</dcterms:created>
  <dc:creator>User</dc:creator>
  <dc:description/>
  <dc:language>en-US</dc:language>
  <cp:lastModifiedBy>Admin</cp:lastModifiedBy>
  <dcterms:modified xsi:type="dcterms:W3CDTF">2011-02-14T16:42:22Z</dcterms:modified>
  <cp:revision>8</cp:revision>
  <dc:subject/>
  <dc:title>Слайд 1</dc:title>
</cp:coreProperties>
</file>