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7.wmf" ContentType="image/x-wmf"/>
  <Override PartName="/ppt/media/image8.png" ContentType="image/png"/>
  <Override PartName="/ppt/media/image12.wmf" ContentType="image/x-wmf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dt" idx="19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Img"/>
          </p:nvPr>
        </p:nvSpPr>
        <p:spPr>
          <a:xfrm>
            <a:off x="1142640" y="674280"/>
            <a:ext cx="456732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ftr" idx="20"/>
          </p:nvPr>
        </p:nvSpPr>
        <p:spPr>
          <a:xfrm>
            <a:off x="0" y="8685360"/>
            <a:ext cx="296712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B8F8B-D996-4B45-8129-2F0C3CBD6E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2BC33-EE93-4802-9B92-7BEF6F4C22B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0C027-3A40-4BD2-AB96-4032A7DB91B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671F9-53CB-4E4B-AA7B-260DDEABD8E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16004-5270-4CED-A083-D730FC0C00F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23E93-606B-4587-96C3-47B9419EF34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B7C4A-B754-4F6E-88BF-AA015CB1FD5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0C399-3C31-4F7B-8BD6-F35778F7D7B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64280-0624-413B-B9DD-E5AD77BAF03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CDC30-45CB-4E75-AE4B-49950A0B44D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060BC-28DA-4A9B-943B-3A9128BEB7F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1AA04-00B3-4CE2-AFA5-9E41531701E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2231-33DD-4CAC-A33F-A64BFE6C5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16B5-E635-45B9-B468-E0D83734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0234-6980-488C-90F4-36DB5A5A9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82B7-0B1D-4E71-80FC-F1512211C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DCC3-20A9-476B-A681-C4532B59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AACE-8850-48B9-9257-81BC0F89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8E81-6D60-4024-9D59-AD8320A6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7B71-1E4D-416F-A0E7-72A8BD71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7852-F836-48DC-9D56-29F1751A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0E45-E797-46BC-9E98-DDB047E9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7610-8869-4238-81BA-EC2EE97D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49F3-BBAB-4471-8311-2CE46FFA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6F7A-EC26-4B08-8743-0F72F625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1736-5940-44F8-9CE5-3F5DD783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5830-3A5D-4DCE-AE6E-2654A1F6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0356-6AC8-4171-8C1F-4AD8D497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8F64-F7D0-4645-8599-EABF76B4A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0FB3E-CBA3-41F9-8385-9EE925910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28871-8787-44DE-B452-04A659BD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A5AF3-FE1C-49B3-907D-6D2BD6F1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E3910-1E4A-40AE-8588-C0E0CD09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C81BB-299D-4FF0-9712-C6779FA7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2511-5620-4571-918B-0E966351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3BD4A-96BB-475C-B258-338EC035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B3E67-5B2C-4464-8A57-1C7892AB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3FCDC-7FD7-48EB-9EF4-A87FAE5B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9D461-E575-4049-8B36-CCF06378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88378-16A3-44D6-BEDE-D22B4CCF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2CCC4-F33B-456A-BF0A-0B5A324B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0853A-1E52-4FCA-8AD2-22E85281F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48DF1-B68E-499D-AB52-384F9C6C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A59F3-9010-417C-A54B-DB077FE9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9F702-A8C6-4C4B-8CD3-1566B836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475F-0FFF-4132-8CAC-B9B74444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1E98D-DC1A-48FB-9BF7-94800195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99601-AA1D-4D66-AE98-92409CEA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816AC-1CD4-42FE-A965-4319D0E3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F54A6-DD1A-4808-B400-E7F98E54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2A68B-E88B-4811-8E03-D3B44783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5BA30-571B-4616-91D7-93CFFD06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2B5F5-0884-4402-811F-FC364FDF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AD719-5AE7-4C16-BFAF-A2E3E0F2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2248C-7E34-4D6E-BCF0-820D86613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EBA29-44F7-4E76-8E5C-72C15105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065A-1786-43B3-B37E-AB26D481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7D4E5-0411-4F75-9F8C-3742B403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E94EE-389E-4CF3-B3BA-A47D2E77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BD860-1B0C-4B80-B4D6-7C67DD95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7A3F7-7F97-4B20-BC2B-BCE2A006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BC328-8E7C-4B11-92D3-73122234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81867-4318-4C27-A592-EBABA6D3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050C5-05EC-4281-8C92-C3956272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A246E-9DF0-4AD7-A00E-E5782D13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F8D8C-2691-426C-B326-A243F59B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901F8-71A5-407B-B8B0-7C8CC930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896C-B0E6-4F18-B9C6-CCD37034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22821-5EFF-4533-8508-7ABA8B9C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F22FB-A9CA-48A2-80A3-1743AF1D2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BD98E-85B9-4422-ADB6-8B239D54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B8590-1122-4473-82C7-31401A5A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43D04-6D7C-471B-93A3-F2D65DB3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B6E5A-54E1-4207-BF78-769314AD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7C259-56C7-4B01-BEB6-90EA8BEA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FFBD9-E7FB-493C-A424-B6091FAC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D5722-97D9-4A15-A5DB-4ACF5261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B6902-DA57-423A-812A-61397EB8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2E75-3865-4BC6-891E-1569DD37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48BEC-DD7F-452C-B4A2-E4D800B1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8988C-1FCC-4EAC-802A-DD398A20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2B929-2909-49C3-AE10-D8EC08204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AA48-D498-450F-9C2B-662CA1F6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7F1B-8404-48D1-A6E7-31C7C0A2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67A439A-5A57-428C-8E96-792CEFE95804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49ECB17-3E19-4266-B871-45FD25159356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3D4918-91E4-464A-A1A8-8F70318F7C88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673657F-725C-4E4C-9A39-204A697CA825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58623F9-8CA9-4838-88D1-6AD5AB80183C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6ADC9BC-95D0-4764-B5B7-C6DEF91D6A4B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9.png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slide" Target="slide8.xml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WordArt 1"/>
          <p:cNvSpPr txBox="1"/>
          <p:nvPr/>
        </p:nvSpPr>
        <p:spPr>
          <a:xfrm>
            <a:off x="1332000" y="333360"/>
            <a:ext cx="67672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дна из самы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ревних игр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 Земл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3166920" y="2160720"/>
            <a:ext cx="2952720" cy="2344680"/>
          </a:xfrm>
          <a:prstGeom prst="rect">
            <a:avLst/>
          </a:prstGeom>
          <a:ln w="0">
            <a:noFill/>
          </a:ln>
        </p:spPr>
      </p:pic>
      <p:sp>
        <p:nvSpPr>
          <p:cNvPr id="276" name="WordArt 3"/>
          <p:cNvSpPr txBox="1"/>
          <p:nvPr/>
        </p:nvSpPr>
        <p:spPr>
          <a:xfrm>
            <a:off x="2052720" y="4680000"/>
            <a:ext cx="568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админт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1619280" y="5721480"/>
            <a:ext cx="7020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 физической культуры МБОУ «Школа №62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ебедева Евгения Валерь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1"/>
          <p:cNvSpPr/>
          <p:nvPr/>
        </p:nvSpPr>
        <p:spPr>
          <a:xfrm>
            <a:off x="3436920" y="1197000"/>
            <a:ext cx="570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оят из 16-ти перье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 8 из правого и левого гусиного кры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422520" y="4076640"/>
            <a:ext cx="40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уси должны быть годовал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71600" y="5300640"/>
            <a:ext cx="822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ловка сделана из португальской пробки, обтянутой лайк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4789440" y="6093000"/>
            <a:ext cx="37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сит волан 4,8-5,2 грам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Picture 5" descr=""/>
          <p:cNvPicPr/>
          <p:nvPr/>
        </p:nvPicPr>
        <p:blipFill>
          <a:blip r:embed="rId1"/>
          <a:stretch/>
        </p:blipFill>
        <p:spPr>
          <a:xfrm>
            <a:off x="5724360" y="2492280"/>
            <a:ext cx="3024360" cy="20034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6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2935080" cy="3529080"/>
          </a:xfrm>
          <a:prstGeom prst="rect">
            <a:avLst/>
          </a:prstGeom>
          <a:ln w="0">
            <a:noFill/>
          </a:ln>
        </p:spPr>
      </p:pic>
      <p:sp>
        <p:nvSpPr>
          <p:cNvPr id="527" name="WordArt 7"/>
          <p:cNvSpPr txBox="1"/>
          <p:nvPr/>
        </p:nvSpPr>
        <p:spPr>
          <a:xfrm>
            <a:off x="2843280" y="260280"/>
            <a:ext cx="56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ьевые волан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"/>
          <p:cNvSpPr/>
          <p:nvPr/>
        </p:nvSpPr>
        <p:spPr>
          <a:xfrm>
            <a:off x="684360" y="4724280"/>
            <a:ext cx="77295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 Малайзии 2,5 миллиона игроков, в Англии насчитывается 3200 клубов, а в Дании бадминтон уступает по популярности только футболу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 данным мировой статистики, бадминтоном увлекается каждый 50-й человек в мир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WordArt 2"/>
          <p:cNvSpPr txBox="1"/>
          <p:nvPr/>
        </p:nvSpPr>
        <p:spPr>
          <a:xfrm>
            <a:off x="1619280" y="549360"/>
            <a:ext cx="61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нтересные фак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30" name="Rectangle 3"/>
          <p:cNvSpPr/>
          <p:nvPr/>
        </p:nvSpPr>
        <p:spPr>
          <a:xfrm>
            <a:off x="1111320" y="1341360"/>
            <a:ext cx="714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орость полета волана может достигать 327 км/ча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ксимальное количество ударов, зафиксированное в матче — 19725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468360" y="2565360"/>
            <a:ext cx="849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дминтон входит в тройку самых тяжелых по физическим нагрузкам игровых видов спорт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611280" y="328464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мый большой волан можно увидеть в городском музее Канзас Cити 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 более 5 метров в высоту и весом более 2 тонн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 Олимпийских играх в Сиднее приняли участие 172 бадминтонис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 время Игр они использовали 8400 воланов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684360" y="5534280"/>
            <a:ext cx="684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6227640" y="3213000"/>
            <a:ext cx="895320" cy="10051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2"/>
          <a:stretch/>
        </p:blipFill>
        <p:spPr>
          <a:xfrm>
            <a:off x="6588000" y="4653000"/>
            <a:ext cx="1871640" cy="1568520"/>
          </a:xfrm>
          <a:prstGeom prst="rect">
            <a:avLst/>
          </a:prstGeom>
          <a:ln w="0">
            <a:noFill/>
          </a:ln>
        </p:spPr>
      </p:pic>
      <p:sp>
        <p:nvSpPr>
          <p:cNvPr id="281" name="WordArt 4"/>
          <p:cNvSpPr txBox="1"/>
          <p:nvPr/>
        </p:nvSpPr>
        <p:spPr>
          <a:xfrm>
            <a:off x="1042920" y="549360"/>
            <a:ext cx="5688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стория иг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282" name="Group 5"/>
          <p:cNvGrpSpPr/>
          <p:nvPr/>
        </p:nvGrpSpPr>
        <p:grpSpPr>
          <a:xfrm>
            <a:off x="3306960" y="-1321920"/>
            <a:ext cx="6122160" cy="6085440"/>
            <a:chOff x="3306960" y="-1321920"/>
            <a:chExt cx="6122160" cy="6085440"/>
          </a:xfrm>
        </p:grpSpPr>
        <p:sp>
          <p:nvSpPr>
            <p:cNvPr id="283" name="Freeform 6"/>
            <p:cNvSpPr/>
            <p:nvPr/>
          </p:nvSpPr>
          <p:spPr>
            <a:xfrm rot="1020000">
              <a:off x="3909600" y="-709200"/>
              <a:ext cx="4916160" cy="4860360"/>
            </a:xfrm>
            <a:custGeom>
              <a:avLst/>
              <a:gdLst>
                <a:gd name="textAreaLeft" fmla="*/ 0 w 4916160"/>
                <a:gd name="textAreaRight" fmla="*/ 4916520 w 4916160"/>
                <a:gd name="textAreaTop" fmla="*/ 0 h 4860360"/>
                <a:gd name="textAreaBottom" fmla="*/ 4860720 h 4860360"/>
              </a:gdLst>
              <a:ahLst/>
              <a:rect l="textAreaLeft" t="textAreaTop" r="textAreaRight" b="textAreaBottom"/>
              <a:pathLst>
                <a:path w="4126" h="3830">
                  <a:moveTo>
                    <a:pt x="1596" y="216"/>
                  </a:moveTo>
                  <a:lnTo>
                    <a:pt x="104" y="781"/>
                  </a:lnTo>
                  <a:lnTo>
                    <a:pt x="102" y="786"/>
                  </a:lnTo>
                  <a:lnTo>
                    <a:pt x="99" y="793"/>
                  </a:lnTo>
                  <a:lnTo>
                    <a:pt x="97" y="803"/>
                  </a:lnTo>
                  <a:lnTo>
                    <a:pt x="92" y="808"/>
                  </a:lnTo>
                  <a:lnTo>
                    <a:pt x="90" y="815"/>
                  </a:lnTo>
                  <a:lnTo>
                    <a:pt x="87" y="824"/>
                  </a:lnTo>
                  <a:lnTo>
                    <a:pt x="85" y="831"/>
                  </a:lnTo>
                  <a:lnTo>
                    <a:pt x="83" y="841"/>
                  </a:lnTo>
                  <a:lnTo>
                    <a:pt x="80" y="848"/>
                  </a:lnTo>
                  <a:lnTo>
                    <a:pt x="76" y="857"/>
                  </a:lnTo>
                  <a:lnTo>
                    <a:pt x="76" y="869"/>
                  </a:lnTo>
                  <a:lnTo>
                    <a:pt x="71" y="879"/>
                  </a:lnTo>
                  <a:lnTo>
                    <a:pt x="68" y="891"/>
                  </a:lnTo>
                  <a:lnTo>
                    <a:pt x="64" y="903"/>
                  </a:lnTo>
                  <a:lnTo>
                    <a:pt x="59" y="914"/>
                  </a:lnTo>
                  <a:lnTo>
                    <a:pt x="57" y="926"/>
                  </a:lnTo>
                  <a:lnTo>
                    <a:pt x="52" y="938"/>
                  </a:lnTo>
                  <a:lnTo>
                    <a:pt x="49" y="953"/>
                  </a:lnTo>
                  <a:lnTo>
                    <a:pt x="47" y="967"/>
                  </a:lnTo>
                  <a:lnTo>
                    <a:pt x="42" y="979"/>
                  </a:lnTo>
                  <a:lnTo>
                    <a:pt x="40" y="993"/>
                  </a:lnTo>
                  <a:lnTo>
                    <a:pt x="38" y="1007"/>
                  </a:lnTo>
                  <a:lnTo>
                    <a:pt x="35" y="1021"/>
                  </a:lnTo>
                  <a:lnTo>
                    <a:pt x="30" y="1036"/>
                  </a:lnTo>
                  <a:lnTo>
                    <a:pt x="28" y="1050"/>
                  </a:lnTo>
                  <a:lnTo>
                    <a:pt x="23" y="1067"/>
                  </a:lnTo>
                  <a:lnTo>
                    <a:pt x="23" y="1081"/>
                  </a:lnTo>
                  <a:lnTo>
                    <a:pt x="19" y="1095"/>
                  </a:lnTo>
                  <a:lnTo>
                    <a:pt x="16" y="1112"/>
                  </a:lnTo>
                  <a:lnTo>
                    <a:pt x="14" y="1126"/>
                  </a:lnTo>
                  <a:lnTo>
                    <a:pt x="11" y="1143"/>
                  </a:lnTo>
                  <a:lnTo>
                    <a:pt x="9" y="1157"/>
                  </a:lnTo>
                  <a:lnTo>
                    <a:pt x="7" y="1171"/>
                  </a:lnTo>
                  <a:lnTo>
                    <a:pt x="4" y="1185"/>
                  </a:lnTo>
                  <a:lnTo>
                    <a:pt x="4" y="1204"/>
                  </a:lnTo>
                  <a:lnTo>
                    <a:pt x="2" y="1219"/>
                  </a:lnTo>
                  <a:lnTo>
                    <a:pt x="2" y="1233"/>
                  </a:lnTo>
                  <a:lnTo>
                    <a:pt x="2" y="1247"/>
                  </a:lnTo>
                  <a:lnTo>
                    <a:pt x="2" y="1264"/>
                  </a:lnTo>
                  <a:lnTo>
                    <a:pt x="0" y="1278"/>
                  </a:lnTo>
                  <a:lnTo>
                    <a:pt x="0" y="1292"/>
                  </a:lnTo>
                  <a:lnTo>
                    <a:pt x="2" y="1307"/>
                  </a:lnTo>
                  <a:lnTo>
                    <a:pt x="2" y="1321"/>
                  </a:lnTo>
                  <a:lnTo>
                    <a:pt x="2" y="1335"/>
                  </a:lnTo>
                  <a:lnTo>
                    <a:pt x="4" y="1347"/>
                  </a:lnTo>
                  <a:lnTo>
                    <a:pt x="7" y="1361"/>
                  </a:lnTo>
                  <a:lnTo>
                    <a:pt x="9" y="1376"/>
                  </a:lnTo>
                  <a:lnTo>
                    <a:pt x="11" y="1387"/>
                  </a:lnTo>
                  <a:lnTo>
                    <a:pt x="14" y="1399"/>
                  </a:lnTo>
                  <a:lnTo>
                    <a:pt x="19" y="1411"/>
                  </a:lnTo>
                  <a:lnTo>
                    <a:pt x="23" y="1423"/>
                  </a:lnTo>
                  <a:lnTo>
                    <a:pt x="28" y="1435"/>
                  </a:lnTo>
                  <a:lnTo>
                    <a:pt x="30" y="1444"/>
                  </a:lnTo>
                  <a:lnTo>
                    <a:pt x="38" y="1454"/>
                  </a:lnTo>
                  <a:lnTo>
                    <a:pt x="45" y="1466"/>
                  </a:lnTo>
                  <a:lnTo>
                    <a:pt x="49" y="1473"/>
                  </a:lnTo>
                  <a:lnTo>
                    <a:pt x="57" y="1482"/>
                  </a:lnTo>
                  <a:lnTo>
                    <a:pt x="66" y="1492"/>
                  </a:lnTo>
                  <a:lnTo>
                    <a:pt x="76" y="1499"/>
                  </a:lnTo>
                  <a:lnTo>
                    <a:pt x="83" y="1506"/>
                  </a:lnTo>
                  <a:lnTo>
                    <a:pt x="90" y="1513"/>
                  </a:lnTo>
                  <a:lnTo>
                    <a:pt x="97" y="1518"/>
                  </a:lnTo>
                  <a:lnTo>
                    <a:pt x="106" y="1525"/>
                  </a:lnTo>
                  <a:lnTo>
                    <a:pt x="114" y="1532"/>
                  </a:lnTo>
                  <a:lnTo>
                    <a:pt x="123" y="1537"/>
                  </a:lnTo>
                  <a:lnTo>
                    <a:pt x="130" y="1544"/>
                  </a:lnTo>
                  <a:lnTo>
                    <a:pt x="140" y="1551"/>
                  </a:lnTo>
                  <a:lnTo>
                    <a:pt x="154" y="1561"/>
                  </a:lnTo>
                  <a:lnTo>
                    <a:pt x="168" y="1573"/>
                  </a:lnTo>
                  <a:lnTo>
                    <a:pt x="182" y="1585"/>
                  </a:lnTo>
                  <a:lnTo>
                    <a:pt x="199" y="1594"/>
                  </a:lnTo>
                  <a:lnTo>
                    <a:pt x="213" y="1604"/>
                  </a:lnTo>
                  <a:lnTo>
                    <a:pt x="228" y="1613"/>
                  </a:lnTo>
                  <a:lnTo>
                    <a:pt x="239" y="1620"/>
                  </a:lnTo>
                  <a:lnTo>
                    <a:pt x="254" y="1630"/>
                  </a:lnTo>
                  <a:lnTo>
                    <a:pt x="268" y="1639"/>
                  </a:lnTo>
                  <a:lnTo>
                    <a:pt x="280" y="1649"/>
                  </a:lnTo>
                  <a:lnTo>
                    <a:pt x="292" y="1658"/>
                  </a:lnTo>
                  <a:lnTo>
                    <a:pt x="304" y="1668"/>
                  </a:lnTo>
                  <a:lnTo>
                    <a:pt x="313" y="1677"/>
                  </a:lnTo>
                  <a:lnTo>
                    <a:pt x="325" y="1684"/>
                  </a:lnTo>
                  <a:lnTo>
                    <a:pt x="335" y="1694"/>
                  </a:lnTo>
                  <a:lnTo>
                    <a:pt x="344" y="1703"/>
                  </a:lnTo>
                  <a:lnTo>
                    <a:pt x="354" y="1713"/>
                  </a:lnTo>
                  <a:lnTo>
                    <a:pt x="361" y="1723"/>
                  </a:lnTo>
                  <a:lnTo>
                    <a:pt x="370" y="1732"/>
                  </a:lnTo>
                  <a:lnTo>
                    <a:pt x="377" y="1746"/>
                  </a:lnTo>
                  <a:lnTo>
                    <a:pt x="384" y="1756"/>
                  </a:lnTo>
                  <a:lnTo>
                    <a:pt x="389" y="1768"/>
                  </a:lnTo>
                  <a:lnTo>
                    <a:pt x="394" y="1780"/>
                  </a:lnTo>
                  <a:lnTo>
                    <a:pt x="401" y="1794"/>
                  </a:lnTo>
                  <a:lnTo>
                    <a:pt x="403" y="1806"/>
                  </a:lnTo>
                  <a:lnTo>
                    <a:pt x="408" y="1820"/>
                  </a:lnTo>
                  <a:lnTo>
                    <a:pt x="408" y="1827"/>
                  </a:lnTo>
                  <a:lnTo>
                    <a:pt x="411" y="1837"/>
                  </a:lnTo>
                  <a:lnTo>
                    <a:pt x="413" y="1846"/>
                  </a:lnTo>
                  <a:lnTo>
                    <a:pt x="415" y="1853"/>
                  </a:lnTo>
                  <a:lnTo>
                    <a:pt x="415" y="1860"/>
                  </a:lnTo>
                  <a:lnTo>
                    <a:pt x="415" y="1870"/>
                  </a:lnTo>
                  <a:lnTo>
                    <a:pt x="415" y="1879"/>
                  </a:lnTo>
                  <a:lnTo>
                    <a:pt x="415" y="1886"/>
                  </a:lnTo>
                  <a:lnTo>
                    <a:pt x="415" y="1896"/>
                  </a:lnTo>
                  <a:lnTo>
                    <a:pt x="415" y="1903"/>
                  </a:lnTo>
                  <a:lnTo>
                    <a:pt x="415" y="1915"/>
                  </a:lnTo>
                  <a:lnTo>
                    <a:pt x="415" y="1925"/>
                  </a:lnTo>
                  <a:lnTo>
                    <a:pt x="415" y="1934"/>
                  </a:lnTo>
                  <a:lnTo>
                    <a:pt x="415" y="1941"/>
                  </a:lnTo>
                  <a:lnTo>
                    <a:pt x="413" y="1951"/>
                  </a:lnTo>
                  <a:lnTo>
                    <a:pt x="413" y="1963"/>
                  </a:lnTo>
                  <a:lnTo>
                    <a:pt x="413" y="1972"/>
                  </a:lnTo>
                  <a:lnTo>
                    <a:pt x="413" y="1984"/>
                  </a:lnTo>
                  <a:lnTo>
                    <a:pt x="413" y="1993"/>
                  </a:lnTo>
                  <a:lnTo>
                    <a:pt x="413" y="2005"/>
                  </a:lnTo>
                  <a:lnTo>
                    <a:pt x="408" y="2012"/>
                  </a:lnTo>
                  <a:lnTo>
                    <a:pt x="408" y="2024"/>
                  </a:lnTo>
                  <a:lnTo>
                    <a:pt x="406" y="2036"/>
                  </a:lnTo>
                  <a:lnTo>
                    <a:pt x="406" y="2046"/>
                  </a:lnTo>
                  <a:lnTo>
                    <a:pt x="406" y="2058"/>
                  </a:lnTo>
                  <a:lnTo>
                    <a:pt x="403" y="2067"/>
                  </a:lnTo>
                  <a:lnTo>
                    <a:pt x="401" y="2079"/>
                  </a:lnTo>
                  <a:lnTo>
                    <a:pt x="401" y="2091"/>
                  </a:lnTo>
                  <a:lnTo>
                    <a:pt x="401" y="2100"/>
                  </a:lnTo>
                  <a:lnTo>
                    <a:pt x="399" y="2112"/>
                  </a:lnTo>
                  <a:lnTo>
                    <a:pt x="399" y="2122"/>
                  </a:lnTo>
                  <a:lnTo>
                    <a:pt x="399" y="2134"/>
                  </a:lnTo>
                  <a:lnTo>
                    <a:pt x="396" y="2146"/>
                  </a:lnTo>
                  <a:lnTo>
                    <a:pt x="394" y="2155"/>
                  </a:lnTo>
                  <a:lnTo>
                    <a:pt x="394" y="2167"/>
                  </a:lnTo>
                  <a:lnTo>
                    <a:pt x="394" y="2179"/>
                  </a:lnTo>
                  <a:lnTo>
                    <a:pt x="392" y="2188"/>
                  </a:lnTo>
                  <a:lnTo>
                    <a:pt x="392" y="2200"/>
                  </a:lnTo>
                  <a:lnTo>
                    <a:pt x="389" y="2210"/>
                  </a:lnTo>
                  <a:lnTo>
                    <a:pt x="389" y="2222"/>
                  </a:lnTo>
                  <a:lnTo>
                    <a:pt x="387" y="2231"/>
                  </a:lnTo>
                  <a:lnTo>
                    <a:pt x="387" y="2241"/>
                  </a:lnTo>
                  <a:lnTo>
                    <a:pt x="387" y="2250"/>
                  </a:lnTo>
                  <a:lnTo>
                    <a:pt x="387" y="2262"/>
                  </a:lnTo>
                  <a:lnTo>
                    <a:pt x="387" y="2271"/>
                  </a:lnTo>
                  <a:lnTo>
                    <a:pt x="387" y="2283"/>
                  </a:lnTo>
                  <a:lnTo>
                    <a:pt x="387" y="2290"/>
                  </a:lnTo>
                  <a:lnTo>
                    <a:pt x="387" y="2302"/>
                  </a:lnTo>
                  <a:lnTo>
                    <a:pt x="387" y="2312"/>
                  </a:lnTo>
                  <a:lnTo>
                    <a:pt x="387" y="2321"/>
                  </a:lnTo>
                  <a:lnTo>
                    <a:pt x="387" y="2331"/>
                  </a:lnTo>
                  <a:lnTo>
                    <a:pt x="389" y="2340"/>
                  </a:lnTo>
                  <a:lnTo>
                    <a:pt x="389" y="2350"/>
                  </a:lnTo>
                  <a:lnTo>
                    <a:pt x="389" y="2359"/>
                  </a:lnTo>
                  <a:lnTo>
                    <a:pt x="392" y="2367"/>
                  </a:lnTo>
                  <a:lnTo>
                    <a:pt x="392" y="2376"/>
                  </a:lnTo>
                  <a:lnTo>
                    <a:pt x="394" y="2383"/>
                  </a:lnTo>
                  <a:lnTo>
                    <a:pt x="396" y="2393"/>
                  </a:lnTo>
                  <a:lnTo>
                    <a:pt x="399" y="2400"/>
                  </a:lnTo>
                  <a:lnTo>
                    <a:pt x="401" y="2407"/>
                  </a:lnTo>
                  <a:lnTo>
                    <a:pt x="406" y="2421"/>
                  </a:lnTo>
                  <a:lnTo>
                    <a:pt x="413" y="2435"/>
                  </a:lnTo>
                  <a:lnTo>
                    <a:pt x="420" y="2450"/>
                  </a:lnTo>
                  <a:lnTo>
                    <a:pt x="430" y="2462"/>
                  </a:lnTo>
                  <a:lnTo>
                    <a:pt x="439" y="2471"/>
                  </a:lnTo>
                  <a:lnTo>
                    <a:pt x="449" y="2481"/>
                  </a:lnTo>
                  <a:lnTo>
                    <a:pt x="458" y="2488"/>
                  </a:lnTo>
                  <a:lnTo>
                    <a:pt x="470" y="2495"/>
                  </a:lnTo>
                  <a:lnTo>
                    <a:pt x="484" y="2500"/>
                  </a:lnTo>
                  <a:lnTo>
                    <a:pt x="496" y="2507"/>
                  </a:lnTo>
                  <a:lnTo>
                    <a:pt x="503" y="2507"/>
                  </a:lnTo>
                  <a:lnTo>
                    <a:pt x="510" y="2509"/>
                  </a:lnTo>
                  <a:lnTo>
                    <a:pt x="520" y="2512"/>
                  </a:lnTo>
                  <a:lnTo>
                    <a:pt x="529" y="2514"/>
                  </a:lnTo>
                  <a:lnTo>
                    <a:pt x="536" y="2514"/>
                  </a:lnTo>
                  <a:lnTo>
                    <a:pt x="544" y="2516"/>
                  </a:lnTo>
                  <a:lnTo>
                    <a:pt x="551" y="2516"/>
                  </a:lnTo>
                  <a:lnTo>
                    <a:pt x="560" y="2519"/>
                  </a:lnTo>
                  <a:lnTo>
                    <a:pt x="570" y="2519"/>
                  </a:lnTo>
                  <a:lnTo>
                    <a:pt x="577" y="2521"/>
                  </a:lnTo>
                  <a:lnTo>
                    <a:pt x="586" y="2521"/>
                  </a:lnTo>
                  <a:lnTo>
                    <a:pt x="593" y="2523"/>
                  </a:lnTo>
                  <a:lnTo>
                    <a:pt x="603" y="2523"/>
                  </a:lnTo>
                  <a:lnTo>
                    <a:pt x="613" y="2523"/>
                  </a:lnTo>
                  <a:lnTo>
                    <a:pt x="620" y="2523"/>
                  </a:lnTo>
                  <a:lnTo>
                    <a:pt x="629" y="2526"/>
                  </a:lnTo>
                  <a:lnTo>
                    <a:pt x="639" y="2526"/>
                  </a:lnTo>
                  <a:lnTo>
                    <a:pt x="648" y="2528"/>
                  </a:lnTo>
                  <a:lnTo>
                    <a:pt x="655" y="2528"/>
                  </a:lnTo>
                  <a:lnTo>
                    <a:pt x="667" y="2528"/>
                  </a:lnTo>
                  <a:lnTo>
                    <a:pt x="674" y="2528"/>
                  </a:lnTo>
                  <a:lnTo>
                    <a:pt x="684" y="2528"/>
                  </a:lnTo>
                  <a:lnTo>
                    <a:pt x="691" y="2528"/>
                  </a:lnTo>
                  <a:lnTo>
                    <a:pt x="703" y="2528"/>
                  </a:lnTo>
                  <a:lnTo>
                    <a:pt x="710" y="2528"/>
                  </a:lnTo>
                  <a:lnTo>
                    <a:pt x="719" y="2531"/>
                  </a:lnTo>
                  <a:lnTo>
                    <a:pt x="729" y="2531"/>
                  </a:lnTo>
                  <a:lnTo>
                    <a:pt x="738" y="2531"/>
                  </a:lnTo>
                  <a:lnTo>
                    <a:pt x="746" y="2531"/>
                  </a:lnTo>
                  <a:lnTo>
                    <a:pt x="755" y="2531"/>
                  </a:lnTo>
                  <a:lnTo>
                    <a:pt x="765" y="2533"/>
                  </a:lnTo>
                  <a:lnTo>
                    <a:pt x="772" y="2535"/>
                  </a:lnTo>
                  <a:lnTo>
                    <a:pt x="781" y="2535"/>
                  </a:lnTo>
                  <a:lnTo>
                    <a:pt x="791" y="2535"/>
                  </a:lnTo>
                  <a:lnTo>
                    <a:pt x="798" y="2538"/>
                  </a:lnTo>
                  <a:lnTo>
                    <a:pt x="807" y="2540"/>
                  </a:lnTo>
                  <a:lnTo>
                    <a:pt x="817" y="2540"/>
                  </a:lnTo>
                  <a:lnTo>
                    <a:pt x="824" y="2542"/>
                  </a:lnTo>
                  <a:lnTo>
                    <a:pt x="831" y="2545"/>
                  </a:lnTo>
                  <a:lnTo>
                    <a:pt x="841" y="2547"/>
                  </a:lnTo>
                  <a:lnTo>
                    <a:pt x="855" y="2552"/>
                  </a:lnTo>
                  <a:lnTo>
                    <a:pt x="871" y="2557"/>
                  </a:lnTo>
                  <a:lnTo>
                    <a:pt x="883" y="2564"/>
                  </a:lnTo>
                  <a:lnTo>
                    <a:pt x="898" y="2571"/>
                  </a:lnTo>
                  <a:lnTo>
                    <a:pt x="909" y="2578"/>
                  </a:lnTo>
                  <a:lnTo>
                    <a:pt x="924" y="2590"/>
                  </a:lnTo>
                  <a:lnTo>
                    <a:pt x="931" y="2599"/>
                  </a:lnTo>
                  <a:lnTo>
                    <a:pt x="940" y="2611"/>
                  </a:lnTo>
                  <a:lnTo>
                    <a:pt x="948" y="2623"/>
                  </a:lnTo>
                  <a:lnTo>
                    <a:pt x="957" y="2637"/>
                  </a:lnTo>
                  <a:lnTo>
                    <a:pt x="962" y="2649"/>
                  </a:lnTo>
                  <a:lnTo>
                    <a:pt x="969" y="2666"/>
                  </a:lnTo>
                  <a:lnTo>
                    <a:pt x="969" y="2673"/>
                  </a:lnTo>
                  <a:lnTo>
                    <a:pt x="971" y="2680"/>
                  </a:lnTo>
                  <a:lnTo>
                    <a:pt x="976" y="2687"/>
                  </a:lnTo>
                  <a:lnTo>
                    <a:pt x="978" y="2697"/>
                  </a:lnTo>
                  <a:lnTo>
                    <a:pt x="978" y="2704"/>
                  </a:lnTo>
                  <a:lnTo>
                    <a:pt x="981" y="2714"/>
                  </a:lnTo>
                  <a:lnTo>
                    <a:pt x="981" y="2721"/>
                  </a:lnTo>
                  <a:lnTo>
                    <a:pt x="983" y="2728"/>
                  </a:lnTo>
                  <a:lnTo>
                    <a:pt x="983" y="2737"/>
                  </a:lnTo>
                  <a:lnTo>
                    <a:pt x="986" y="2747"/>
                  </a:lnTo>
                  <a:lnTo>
                    <a:pt x="986" y="2754"/>
                  </a:lnTo>
                  <a:lnTo>
                    <a:pt x="988" y="2763"/>
                  </a:lnTo>
                  <a:lnTo>
                    <a:pt x="988" y="2771"/>
                  </a:lnTo>
                  <a:lnTo>
                    <a:pt x="990" y="2780"/>
                  </a:lnTo>
                  <a:lnTo>
                    <a:pt x="990" y="2790"/>
                  </a:lnTo>
                  <a:lnTo>
                    <a:pt x="990" y="2797"/>
                  </a:lnTo>
                  <a:lnTo>
                    <a:pt x="990" y="2806"/>
                  </a:lnTo>
                  <a:lnTo>
                    <a:pt x="990" y="2816"/>
                  </a:lnTo>
                  <a:lnTo>
                    <a:pt x="990" y="2823"/>
                  </a:lnTo>
                  <a:lnTo>
                    <a:pt x="993" y="2832"/>
                  </a:lnTo>
                  <a:lnTo>
                    <a:pt x="990" y="2839"/>
                  </a:lnTo>
                  <a:lnTo>
                    <a:pt x="990" y="2849"/>
                  </a:lnTo>
                  <a:lnTo>
                    <a:pt x="990" y="2856"/>
                  </a:lnTo>
                  <a:lnTo>
                    <a:pt x="990" y="2863"/>
                  </a:lnTo>
                  <a:lnTo>
                    <a:pt x="988" y="2877"/>
                  </a:lnTo>
                  <a:lnTo>
                    <a:pt x="988" y="2894"/>
                  </a:lnTo>
                  <a:lnTo>
                    <a:pt x="986" y="2906"/>
                  </a:lnTo>
                  <a:lnTo>
                    <a:pt x="986" y="2920"/>
                  </a:lnTo>
                  <a:lnTo>
                    <a:pt x="983" y="2935"/>
                  </a:lnTo>
                  <a:lnTo>
                    <a:pt x="983" y="2946"/>
                  </a:lnTo>
                  <a:lnTo>
                    <a:pt x="981" y="2958"/>
                  </a:lnTo>
                  <a:lnTo>
                    <a:pt x="978" y="2968"/>
                  </a:lnTo>
                  <a:lnTo>
                    <a:pt x="978" y="2975"/>
                  </a:lnTo>
                  <a:lnTo>
                    <a:pt x="978" y="2982"/>
                  </a:lnTo>
                  <a:lnTo>
                    <a:pt x="976" y="2994"/>
                  </a:lnTo>
                  <a:lnTo>
                    <a:pt x="976" y="2999"/>
                  </a:lnTo>
                  <a:lnTo>
                    <a:pt x="710" y="3353"/>
                  </a:lnTo>
                  <a:lnTo>
                    <a:pt x="1147" y="3830"/>
                  </a:lnTo>
                  <a:lnTo>
                    <a:pt x="2135" y="3353"/>
                  </a:lnTo>
                  <a:lnTo>
                    <a:pt x="2021" y="3194"/>
                  </a:lnTo>
                  <a:lnTo>
                    <a:pt x="2756" y="2716"/>
                  </a:lnTo>
                  <a:lnTo>
                    <a:pt x="2760" y="2716"/>
                  </a:lnTo>
                  <a:lnTo>
                    <a:pt x="2770" y="2721"/>
                  </a:lnTo>
                  <a:lnTo>
                    <a:pt x="2777" y="2723"/>
                  </a:lnTo>
                  <a:lnTo>
                    <a:pt x="2786" y="2725"/>
                  </a:lnTo>
                  <a:lnTo>
                    <a:pt x="2798" y="2730"/>
                  </a:lnTo>
                  <a:lnTo>
                    <a:pt x="2810" y="2735"/>
                  </a:lnTo>
                  <a:lnTo>
                    <a:pt x="2824" y="2737"/>
                  </a:lnTo>
                  <a:lnTo>
                    <a:pt x="2839" y="2742"/>
                  </a:lnTo>
                  <a:lnTo>
                    <a:pt x="2846" y="2742"/>
                  </a:lnTo>
                  <a:lnTo>
                    <a:pt x="2853" y="2747"/>
                  </a:lnTo>
                  <a:lnTo>
                    <a:pt x="2862" y="2747"/>
                  </a:lnTo>
                  <a:lnTo>
                    <a:pt x="2872" y="2752"/>
                  </a:lnTo>
                  <a:lnTo>
                    <a:pt x="2882" y="2754"/>
                  </a:lnTo>
                  <a:lnTo>
                    <a:pt x="2891" y="2756"/>
                  </a:lnTo>
                  <a:lnTo>
                    <a:pt x="2898" y="2756"/>
                  </a:lnTo>
                  <a:lnTo>
                    <a:pt x="2910" y="2761"/>
                  </a:lnTo>
                  <a:lnTo>
                    <a:pt x="2920" y="2761"/>
                  </a:lnTo>
                  <a:lnTo>
                    <a:pt x="2929" y="2763"/>
                  </a:lnTo>
                  <a:lnTo>
                    <a:pt x="2941" y="2768"/>
                  </a:lnTo>
                  <a:lnTo>
                    <a:pt x="2953" y="2771"/>
                  </a:lnTo>
                  <a:lnTo>
                    <a:pt x="2962" y="2771"/>
                  </a:lnTo>
                  <a:lnTo>
                    <a:pt x="2974" y="2773"/>
                  </a:lnTo>
                  <a:lnTo>
                    <a:pt x="2984" y="2775"/>
                  </a:lnTo>
                  <a:lnTo>
                    <a:pt x="2996" y="2778"/>
                  </a:lnTo>
                  <a:lnTo>
                    <a:pt x="3007" y="2780"/>
                  </a:lnTo>
                  <a:lnTo>
                    <a:pt x="3019" y="2780"/>
                  </a:lnTo>
                  <a:lnTo>
                    <a:pt x="3031" y="2782"/>
                  </a:lnTo>
                  <a:lnTo>
                    <a:pt x="3045" y="2785"/>
                  </a:lnTo>
                  <a:lnTo>
                    <a:pt x="3057" y="2785"/>
                  </a:lnTo>
                  <a:lnTo>
                    <a:pt x="3069" y="2787"/>
                  </a:lnTo>
                  <a:lnTo>
                    <a:pt x="3083" y="2790"/>
                  </a:lnTo>
                  <a:lnTo>
                    <a:pt x="3095" y="2790"/>
                  </a:lnTo>
                  <a:lnTo>
                    <a:pt x="3107" y="2792"/>
                  </a:lnTo>
                  <a:lnTo>
                    <a:pt x="3121" y="2794"/>
                  </a:lnTo>
                  <a:lnTo>
                    <a:pt x="3133" y="2794"/>
                  </a:lnTo>
                  <a:lnTo>
                    <a:pt x="3148" y="2797"/>
                  </a:lnTo>
                  <a:lnTo>
                    <a:pt x="3159" y="2797"/>
                  </a:lnTo>
                  <a:lnTo>
                    <a:pt x="3174" y="2797"/>
                  </a:lnTo>
                  <a:lnTo>
                    <a:pt x="3186" y="2797"/>
                  </a:lnTo>
                  <a:lnTo>
                    <a:pt x="3197" y="2797"/>
                  </a:lnTo>
                  <a:lnTo>
                    <a:pt x="3212" y="2797"/>
                  </a:lnTo>
                  <a:lnTo>
                    <a:pt x="3226" y="2797"/>
                  </a:lnTo>
                  <a:lnTo>
                    <a:pt x="3238" y="2797"/>
                  </a:lnTo>
                  <a:lnTo>
                    <a:pt x="3252" y="2797"/>
                  </a:lnTo>
                  <a:lnTo>
                    <a:pt x="3266" y="2797"/>
                  </a:lnTo>
                  <a:lnTo>
                    <a:pt x="3278" y="2794"/>
                  </a:lnTo>
                  <a:lnTo>
                    <a:pt x="3293" y="2794"/>
                  </a:lnTo>
                  <a:lnTo>
                    <a:pt x="3304" y="2794"/>
                  </a:lnTo>
                  <a:lnTo>
                    <a:pt x="3319" y="2792"/>
                  </a:lnTo>
                  <a:lnTo>
                    <a:pt x="3333" y="2790"/>
                  </a:lnTo>
                  <a:lnTo>
                    <a:pt x="3345" y="2790"/>
                  </a:lnTo>
                  <a:lnTo>
                    <a:pt x="3359" y="2787"/>
                  </a:lnTo>
                  <a:lnTo>
                    <a:pt x="3371" y="2782"/>
                  </a:lnTo>
                  <a:lnTo>
                    <a:pt x="3383" y="2780"/>
                  </a:lnTo>
                  <a:lnTo>
                    <a:pt x="3397" y="2778"/>
                  </a:lnTo>
                  <a:lnTo>
                    <a:pt x="3409" y="2775"/>
                  </a:lnTo>
                  <a:lnTo>
                    <a:pt x="3423" y="2771"/>
                  </a:lnTo>
                  <a:lnTo>
                    <a:pt x="3435" y="2766"/>
                  </a:lnTo>
                  <a:lnTo>
                    <a:pt x="3449" y="2761"/>
                  </a:lnTo>
                  <a:lnTo>
                    <a:pt x="3461" y="2756"/>
                  </a:lnTo>
                  <a:lnTo>
                    <a:pt x="3473" y="2752"/>
                  </a:lnTo>
                  <a:lnTo>
                    <a:pt x="3485" y="2747"/>
                  </a:lnTo>
                  <a:lnTo>
                    <a:pt x="3497" y="2742"/>
                  </a:lnTo>
                  <a:lnTo>
                    <a:pt x="3511" y="2737"/>
                  </a:lnTo>
                  <a:lnTo>
                    <a:pt x="3523" y="2730"/>
                  </a:lnTo>
                  <a:lnTo>
                    <a:pt x="3535" y="2725"/>
                  </a:lnTo>
                  <a:lnTo>
                    <a:pt x="3547" y="2721"/>
                  </a:lnTo>
                  <a:lnTo>
                    <a:pt x="3559" y="2716"/>
                  </a:lnTo>
                  <a:lnTo>
                    <a:pt x="3568" y="2709"/>
                  </a:lnTo>
                  <a:lnTo>
                    <a:pt x="3582" y="2702"/>
                  </a:lnTo>
                  <a:lnTo>
                    <a:pt x="3592" y="2694"/>
                  </a:lnTo>
                  <a:lnTo>
                    <a:pt x="3606" y="2687"/>
                  </a:lnTo>
                  <a:lnTo>
                    <a:pt x="3616" y="2678"/>
                  </a:lnTo>
                  <a:lnTo>
                    <a:pt x="3628" y="2671"/>
                  </a:lnTo>
                  <a:lnTo>
                    <a:pt x="3639" y="2664"/>
                  </a:lnTo>
                  <a:lnTo>
                    <a:pt x="3649" y="2656"/>
                  </a:lnTo>
                  <a:lnTo>
                    <a:pt x="3661" y="2647"/>
                  </a:lnTo>
                  <a:lnTo>
                    <a:pt x="3670" y="2640"/>
                  </a:lnTo>
                  <a:lnTo>
                    <a:pt x="3682" y="2630"/>
                  </a:lnTo>
                  <a:lnTo>
                    <a:pt x="3694" y="2623"/>
                  </a:lnTo>
                  <a:lnTo>
                    <a:pt x="3704" y="2614"/>
                  </a:lnTo>
                  <a:lnTo>
                    <a:pt x="3715" y="2604"/>
                  </a:lnTo>
                  <a:lnTo>
                    <a:pt x="3725" y="2597"/>
                  </a:lnTo>
                  <a:lnTo>
                    <a:pt x="3737" y="2588"/>
                  </a:lnTo>
                  <a:lnTo>
                    <a:pt x="3746" y="2576"/>
                  </a:lnTo>
                  <a:lnTo>
                    <a:pt x="3756" y="2566"/>
                  </a:lnTo>
                  <a:lnTo>
                    <a:pt x="3765" y="2557"/>
                  </a:lnTo>
                  <a:lnTo>
                    <a:pt x="3777" y="2545"/>
                  </a:lnTo>
                  <a:lnTo>
                    <a:pt x="3784" y="2535"/>
                  </a:lnTo>
                  <a:lnTo>
                    <a:pt x="3794" y="2523"/>
                  </a:lnTo>
                  <a:lnTo>
                    <a:pt x="3806" y="2514"/>
                  </a:lnTo>
                  <a:lnTo>
                    <a:pt x="3815" y="2502"/>
                  </a:lnTo>
                  <a:lnTo>
                    <a:pt x="3825" y="2490"/>
                  </a:lnTo>
                  <a:lnTo>
                    <a:pt x="3834" y="2481"/>
                  </a:lnTo>
                  <a:lnTo>
                    <a:pt x="3841" y="2469"/>
                  </a:lnTo>
                  <a:lnTo>
                    <a:pt x="3853" y="2457"/>
                  </a:lnTo>
                  <a:lnTo>
                    <a:pt x="3860" y="2443"/>
                  </a:lnTo>
                  <a:lnTo>
                    <a:pt x="3870" y="2433"/>
                  </a:lnTo>
                  <a:lnTo>
                    <a:pt x="3879" y="2421"/>
                  </a:lnTo>
                  <a:lnTo>
                    <a:pt x="3889" y="2409"/>
                  </a:lnTo>
                  <a:lnTo>
                    <a:pt x="3896" y="2395"/>
                  </a:lnTo>
                  <a:lnTo>
                    <a:pt x="3903" y="2383"/>
                  </a:lnTo>
                  <a:lnTo>
                    <a:pt x="3913" y="2371"/>
                  </a:lnTo>
                  <a:lnTo>
                    <a:pt x="3922" y="2357"/>
                  </a:lnTo>
                  <a:lnTo>
                    <a:pt x="3929" y="2343"/>
                  </a:lnTo>
                  <a:lnTo>
                    <a:pt x="3936" y="2331"/>
                  </a:lnTo>
                  <a:lnTo>
                    <a:pt x="3944" y="2317"/>
                  </a:lnTo>
                  <a:lnTo>
                    <a:pt x="3953" y="2305"/>
                  </a:lnTo>
                  <a:lnTo>
                    <a:pt x="3958" y="2290"/>
                  </a:lnTo>
                  <a:lnTo>
                    <a:pt x="3967" y="2276"/>
                  </a:lnTo>
                  <a:lnTo>
                    <a:pt x="3972" y="2262"/>
                  </a:lnTo>
                  <a:lnTo>
                    <a:pt x="3982" y="2248"/>
                  </a:lnTo>
                  <a:lnTo>
                    <a:pt x="3986" y="2233"/>
                  </a:lnTo>
                  <a:lnTo>
                    <a:pt x="3996" y="2219"/>
                  </a:lnTo>
                  <a:lnTo>
                    <a:pt x="4001" y="2205"/>
                  </a:lnTo>
                  <a:lnTo>
                    <a:pt x="4010" y="2193"/>
                  </a:lnTo>
                  <a:lnTo>
                    <a:pt x="4015" y="2176"/>
                  </a:lnTo>
                  <a:lnTo>
                    <a:pt x="4022" y="2160"/>
                  </a:lnTo>
                  <a:lnTo>
                    <a:pt x="4027" y="2146"/>
                  </a:lnTo>
                  <a:lnTo>
                    <a:pt x="4034" y="2131"/>
                  </a:lnTo>
                  <a:lnTo>
                    <a:pt x="4039" y="2115"/>
                  </a:lnTo>
                  <a:lnTo>
                    <a:pt x="4046" y="2100"/>
                  </a:lnTo>
                  <a:lnTo>
                    <a:pt x="4050" y="2084"/>
                  </a:lnTo>
                  <a:lnTo>
                    <a:pt x="4058" y="2069"/>
                  </a:lnTo>
                  <a:lnTo>
                    <a:pt x="4062" y="2053"/>
                  </a:lnTo>
                  <a:lnTo>
                    <a:pt x="4067" y="2039"/>
                  </a:lnTo>
                  <a:lnTo>
                    <a:pt x="4072" y="2022"/>
                  </a:lnTo>
                  <a:lnTo>
                    <a:pt x="4079" y="2005"/>
                  </a:lnTo>
                  <a:lnTo>
                    <a:pt x="4081" y="1989"/>
                  </a:lnTo>
                  <a:lnTo>
                    <a:pt x="4086" y="1974"/>
                  </a:lnTo>
                  <a:lnTo>
                    <a:pt x="4091" y="1958"/>
                  </a:lnTo>
                  <a:lnTo>
                    <a:pt x="4096" y="1944"/>
                  </a:lnTo>
                  <a:lnTo>
                    <a:pt x="4098" y="1927"/>
                  </a:lnTo>
                  <a:lnTo>
                    <a:pt x="4100" y="1910"/>
                  </a:lnTo>
                  <a:lnTo>
                    <a:pt x="4103" y="1894"/>
                  </a:lnTo>
                  <a:lnTo>
                    <a:pt x="4107" y="1879"/>
                  </a:lnTo>
                  <a:lnTo>
                    <a:pt x="4110" y="1860"/>
                  </a:lnTo>
                  <a:lnTo>
                    <a:pt x="4112" y="1846"/>
                  </a:lnTo>
                  <a:lnTo>
                    <a:pt x="4115" y="1829"/>
                  </a:lnTo>
                  <a:lnTo>
                    <a:pt x="4117" y="1815"/>
                  </a:lnTo>
                  <a:lnTo>
                    <a:pt x="4119" y="1799"/>
                  </a:lnTo>
                  <a:lnTo>
                    <a:pt x="4122" y="1784"/>
                  </a:lnTo>
                  <a:lnTo>
                    <a:pt x="4122" y="1765"/>
                  </a:lnTo>
                  <a:lnTo>
                    <a:pt x="4124" y="1751"/>
                  </a:lnTo>
                  <a:lnTo>
                    <a:pt x="4124" y="1737"/>
                  </a:lnTo>
                  <a:lnTo>
                    <a:pt x="4126" y="1723"/>
                  </a:lnTo>
                  <a:lnTo>
                    <a:pt x="4126" y="1706"/>
                  </a:lnTo>
                  <a:lnTo>
                    <a:pt x="4126" y="1692"/>
                  </a:lnTo>
                  <a:lnTo>
                    <a:pt x="4126" y="1675"/>
                  </a:lnTo>
                  <a:lnTo>
                    <a:pt x="4126" y="1661"/>
                  </a:lnTo>
                  <a:lnTo>
                    <a:pt x="4124" y="1642"/>
                  </a:lnTo>
                  <a:lnTo>
                    <a:pt x="4124" y="1627"/>
                  </a:lnTo>
                  <a:lnTo>
                    <a:pt x="4122" y="1613"/>
                  </a:lnTo>
                  <a:lnTo>
                    <a:pt x="4119" y="1599"/>
                  </a:lnTo>
                  <a:lnTo>
                    <a:pt x="4117" y="1582"/>
                  </a:lnTo>
                  <a:lnTo>
                    <a:pt x="4117" y="1568"/>
                  </a:lnTo>
                  <a:lnTo>
                    <a:pt x="4112" y="1554"/>
                  </a:lnTo>
                  <a:lnTo>
                    <a:pt x="4110" y="1540"/>
                  </a:lnTo>
                  <a:lnTo>
                    <a:pt x="4107" y="1525"/>
                  </a:lnTo>
                  <a:lnTo>
                    <a:pt x="4103" y="1511"/>
                  </a:lnTo>
                  <a:lnTo>
                    <a:pt x="4100" y="1497"/>
                  </a:lnTo>
                  <a:lnTo>
                    <a:pt x="4096" y="1485"/>
                  </a:lnTo>
                  <a:lnTo>
                    <a:pt x="4091" y="1471"/>
                  </a:lnTo>
                  <a:lnTo>
                    <a:pt x="4086" y="1459"/>
                  </a:lnTo>
                  <a:lnTo>
                    <a:pt x="4079" y="1444"/>
                  </a:lnTo>
                  <a:lnTo>
                    <a:pt x="4074" y="1430"/>
                  </a:lnTo>
                  <a:lnTo>
                    <a:pt x="4067" y="1418"/>
                  </a:lnTo>
                  <a:lnTo>
                    <a:pt x="4062" y="1406"/>
                  </a:lnTo>
                  <a:lnTo>
                    <a:pt x="4055" y="1395"/>
                  </a:lnTo>
                  <a:lnTo>
                    <a:pt x="4048" y="1380"/>
                  </a:lnTo>
                  <a:lnTo>
                    <a:pt x="4041" y="1368"/>
                  </a:lnTo>
                  <a:lnTo>
                    <a:pt x="4034" y="1359"/>
                  </a:lnTo>
                  <a:lnTo>
                    <a:pt x="4024" y="1347"/>
                  </a:lnTo>
                  <a:lnTo>
                    <a:pt x="4015" y="1335"/>
                  </a:lnTo>
                  <a:lnTo>
                    <a:pt x="4005" y="1326"/>
                  </a:lnTo>
                  <a:lnTo>
                    <a:pt x="3996" y="1314"/>
                  </a:lnTo>
                  <a:lnTo>
                    <a:pt x="3984" y="1302"/>
                  </a:lnTo>
                  <a:lnTo>
                    <a:pt x="3974" y="1292"/>
                  </a:lnTo>
                  <a:lnTo>
                    <a:pt x="3965" y="1285"/>
                  </a:lnTo>
                  <a:lnTo>
                    <a:pt x="3955" y="1276"/>
                  </a:lnTo>
                  <a:lnTo>
                    <a:pt x="3941" y="1266"/>
                  </a:lnTo>
                  <a:lnTo>
                    <a:pt x="3929" y="1254"/>
                  </a:lnTo>
                  <a:lnTo>
                    <a:pt x="3915" y="1247"/>
                  </a:lnTo>
                  <a:lnTo>
                    <a:pt x="3903" y="1240"/>
                  </a:lnTo>
                  <a:lnTo>
                    <a:pt x="3889" y="1231"/>
                  </a:lnTo>
                  <a:lnTo>
                    <a:pt x="3875" y="1223"/>
                  </a:lnTo>
                  <a:lnTo>
                    <a:pt x="3860" y="1216"/>
                  </a:lnTo>
                  <a:lnTo>
                    <a:pt x="3848" y="1209"/>
                  </a:lnTo>
                  <a:lnTo>
                    <a:pt x="3832" y="1200"/>
                  </a:lnTo>
                  <a:lnTo>
                    <a:pt x="3818" y="1193"/>
                  </a:lnTo>
                  <a:lnTo>
                    <a:pt x="3803" y="1185"/>
                  </a:lnTo>
                  <a:lnTo>
                    <a:pt x="3789" y="1181"/>
                  </a:lnTo>
                  <a:lnTo>
                    <a:pt x="3772" y="1176"/>
                  </a:lnTo>
                  <a:lnTo>
                    <a:pt x="3758" y="1169"/>
                  </a:lnTo>
                  <a:lnTo>
                    <a:pt x="3739" y="1164"/>
                  </a:lnTo>
                  <a:lnTo>
                    <a:pt x="3725" y="1159"/>
                  </a:lnTo>
                  <a:lnTo>
                    <a:pt x="3708" y="1155"/>
                  </a:lnTo>
                  <a:lnTo>
                    <a:pt x="3694" y="1147"/>
                  </a:lnTo>
                  <a:lnTo>
                    <a:pt x="3675" y="1143"/>
                  </a:lnTo>
                  <a:lnTo>
                    <a:pt x="3661" y="1138"/>
                  </a:lnTo>
                  <a:lnTo>
                    <a:pt x="3642" y="1136"/>
                  </a:lnTo>
                  <a:lnTo>
                    <a:pt x="3628" y="1131"/>
                  </a:lnTo>
                  <a:lnTo>
                    <a:pt x="3609" y="1126"/>
                  </a:lnTo>
                  <a:lnTo>
                    <a:pt x="3594" y="1124"/>
                  </a:lnTo>
                  <a:lnTo>
                    <a:pt x="3578" y="1119"/>
                  </a:lnTo>
                  <a:lnTo>
                    <a:pt x="3561" y="1116"/>
                  </a:lnTo>
                  <a:lnTo>
                    <a:pt x="3544" y="1114"/>
                  </a:lnTo>
                  <a:lnTo>
                    <a:pt x="3530" y="1109"/>
                  </a:lnTo>
                  <a:lnTo>
                    <a:pt x="3511" y="1107"/>
                  </a:lnTo>
                  <a:lnTo>
                    <a:pt x="3497" y="1105"/>
                  </a:lnTo>
                  <a:lnTo>
                    <a:pt x="3480" y="1102"/>
                  </a:lnTo>
                  <a:lnTo>
                    <a:pt x="3466" y="1102"/>
                  </a:lnTo>
                  <a:lnTo>
                    <a:pt x="3449" y="1097"/>
                  </a:lnTo>
                  <a:lnTo>
                    <a:pt x="3433" y="1095"/>
                  </a:lnTo>
                  <a:lnTo>
                    <a:pt x="3416" y="1093"/>
                  </a:lnTo>
                  <a:lnTo>
                    <a:pt x="3402" y="1090"/>
                  </a:lnTo>
                  <a:lnTo>
                    <a:pt x="3388" y="1088"/>
                  </a:lnTo>
                  <a:lnTo>
                    <a:pt x="3373" y="1088"/>
                  </a:lnTo>
                  <a:lnTo>
                    <a:pt x="3359" y="1086"/>
                  </a:lnTo>
                  <a:lnTo>
                    <a:pt x="3347" y="1086"/>
                  </a:lnTo>
                  <a:lnTo>
                    <a:pt x="3333" y="1083"/>
                  </a:lnTo>
                  <a:lnTo>
                    <a:pt x="3319" y="1083"/>
                  </a:lnTo>
                  <a:lnTo>
                    <a:pt x="3307" y="1081"/>
                  </a:lnTo>
                  <a:lnTo>
                    <a:pt x="3293" y="1081"/>
                  </a:lnTo>
                  <a:lnTo>
                    <a:pt x="3281" y="1081"/>
                  </a:lnTo>
                  <a:lnTo>
                    <a:pt x="3271" y="1081"/>
                  </a:lnTo>
                  <a:lnTo>
                    <a:pt x="3259" y="1081"/>
                  </a:lnTo>
                  <a:lnTo>
                    <a:pt x="3250" y="1081"/>
                  </a:lnTo>
                  <a:lnTo>
                    <a:pt x="3238" y="1078"/>
                  </a:lnTo>
                  <a:lnTo>
                    <a:pt x="3228" y="1078"/>
                  </a:lnTo>
                  <a:lnTo>
                    <a:pt x="3221" y="1076"/>
                  </a:lnTo>
                  <a:lnTo>
                    <a:pt x="3214" y="1076"/>
                  </a:lnTo>
                  <a:lnTo>
                    <a:pt x="3205" y="1076"/>
                  </a:lnTo>
                  <a:lnTo>
                    <a:pt x="3197" y="1076"/>
                  </a:lnTo>
                  <a:lnTo>
                    <a:pt x="3190" y="1076"/>
                  </a:lnTo>
                  <a:lnTo>
                    <a:pt x="3186" y="1076"/>
                  </a:lnTo>
                  <a:lnTo>
                    <a:pt x="3174" y="1076"/>
                  </a:lnTo>
                  <a:lnTo>
                    <a:pt x="3167" y="1076"/>
                  </a:lnTo>
                  <a:lnTo>
                    <a:pt x="3162" y="1076"/>
                  </a:lnTo>
                  <a:lnTo>
                    <a:pt x="3162" y="1078"/>
                  </a:lnTo>
                  <a:lnTo>
                    <a:pt x="2276" y="102"/>
                  </a:lnTo>
                  <a:lnTo>
                    <a:pt x="2273" y="99"/>
                  </a:lnTo>
                  <a:lnTo>
                    <a:pt x="2269" y="97"/>
                  </a:lnTo>
                  <a:lnTo>
                    <a:pt x="2259" y="90"/>
                  </a:lnTo>
                  <a:lnTo>
                    <a:pt x="2250" y="83"/>
                  </a:lnTo>
                  <a:lnTo>
                    <a:pt x="2235" y="71"/>
                  </a:lnTo>
                  <a:lnTo>
                    <a:pt x="2221" y="61"/>
                  </a:lnTo>
                  <a:lnTo>
                    <a:pt x="2211" y="57"/>
                  </a:lnTo>
                  <a:lnTo>
                    <a:pt x="2202" y="52"/>
                  </a:lnTo>
                  <a:lnTo>
                    <a:pt x="2192" y="45"/>
                  </a:lnTo>
                  <a:lnTo>
                    <a:pt x="2183" y="42"/>
                  </a:lnTo>
                  <a:lnTo>
                    <a:pt x="2171" y="35"/>
                  </a:lnTo>
                  <a:lnTo>
                    <a:pt x="2159" y="30"/>
                  </a:lnTo>
                  <a:lnTo>
                    <a:pt x="2147" y="26"/>
                  </a:lnTo>
                  <a:lnTo>
                    <a:pt x="2135" y="21"/>
                  </a:lnTo>
                  <a:lnTo>
                    <a:pt x="2124" y="16"/>
                  </a:lnTo>
                  <a:lnTo>
                    <a:pt x="2109" y="14"/>
                  </a:lnTo>
                  <a:lnTo>
                    <a:pt x="2097" y="9"/>
                  </a:lnTo>
                  <a:lnTo>
                    <a:pt x="2083" y="7"/>
                  </a:lnTo>
                  <a:lnTo>
                    <a:pt x="2069" y="2"/>
                  </a:lnTo>
                  <a:lnTo>
                    <a:pt x="2055" y="2"/>
                  </a:lnTo>
                  <a:lnTo>
                    <a:pt x="2040" y="0"/>
                  </a:lnTo>
                  <a:lnTo>
                    <a:pt x="2026" y="0"/>
                  </a:lnTo>
                  <a:lnTo>
                    <a:pt x="2010" y="0"/>
                  </a:lnTo>
                  <a:lnTo>
                    <a:pt x="1995" y="0"/>
                  </a:lnTo>
                  <a:lnTo>
                    <a:pt x="1979" y="2"/>
                  </a:lnTo>
                  <a:lnTo>
                    <a:pt x="1964" y="4"/>
                  </a:lnTo>
                  <a:lnTo>
                    <a:pt x="1957" y="4"/>
                  </a:lnTo>
                  <a:lnTo>
                    <a:pt x="1948" y="7"/>
                  </a:lnTo>
                  <a:lnTo>
                    <a:pt x="1938" y="9"/>
                  </a:lnTo>
                  <a:lnTo>
                    <a:pt x="1931" y="11"/>
                  </a:lnTo>
                  <a:lnTo>
                    <a:pt x="1924" y="14"/>
                  </a:lnTo>
                  <a:lnTo>
                    <a:pt x="1915" y="16"/>
                  </a:lnTo>
                  <a:lnTo>
                    <a:pt x="1905" y="16"/>
                  </a:lnTo>
                  <a:lnTo>
                    <a:pt x="1898" y="21"/>
                  </a:lnTo>
                  <a:lnTo>
                    <a:pt x="1891" y="23"/>
                  </a:lnTo>
                  <a:lnTo>
                    <a:pt x="1881" y="26"/>
                  </a:lnTo>
                  <a:lnTo>
                    <a:pt x="1874" y="28"/>
                  </a:lnTo>
                  <a:lnTo>
                    <a:pt x="1865" y="33"/>
                  </a:lnTo>
                  <a:lnTo>
                    <a:pt x="1857" y="35"/>
                  </a:lnTo>
                  <a:lnTo>
                    <a:pt x="1850" y="40"/>
                  </a:lnTo>
                  <a:lnTo>
                    <a:pt x="1841" y="45"/>
                  </a:lnTo>
                  <a:lnTo>
                    <a:pt x="1834" y="49"/>
                  </a:lnTo>
                  <a:lnTo>
                    <a:pt x="1827" y="52"/>
                  </a:lnTo>
                  <a:lnTo>
                    <a:pt x="1817" y="57"/>
                  </a:lnTo>
                  <a:lnTo>
                    <a:pt x="1808" y="59"/>
                  </a:lnTo>
                  <a:lnTo>
                    <a:pt x="1800" y="64"/>
                  </a:lnTo>
                  <a:lnTo>
                    <a:pt x="1786" y="73"/>
                  </a:lnTo>
                  <a:lnTo>
                    <a:pt x="1772" y="83"/>
                  </a:lnTo>
                  <a:lnTo>
                    <a:pt x="1758" y="92"/>
                  </a:lnTo>
                  <a:lnTo>
                    <a:pt x="1741" y="99"/>
                  </a:lnTo>
                  <a:lnTo>
                    <a:pt x="1729" y="111"/>
                  </a:lnTo>
                  <a:lnTo>
                    <a:pt x="1717" y="121"/>
                  </a:lnTo>
                  <a:lnTo>
                    <a:pt x="1703" y="128"/>
                  </a:lnTo>
                  <a:lnTo>
                    <a:pt x="1689" y="137"/>
                  </a:lnTo>
                  <a:lnTo>
                    <a:pt x="1677" y="147"/>
                  </a:lnTo>
                  <a:lnTo>
                    <a:pt x="1665" y="154"/>
                  </a:lnTo>
                  <a:lnTo>
                    <a:pt x="1656" y="161"/>
                  </a:lnTo>
                  <a:lnTo>
                    <a:pt x="1646" y="171"/>
                  </a:lnTo>
                  <a:lnTo>
                    <a:pt x="1637" y="178"/>
                  </a:lnTo>
                  <a:lnTo>
                    <a:pt x="1629" y="185"/>
                  </a:lnTo>
                  <a:lnTo>
                    <a:pt x="1622" y="192"/>
                  </a:lnTo>
                  <a:lnTo>
                    <a:pt x="1615" y="197"/>
                  </a:lnTo>
                  <a:lnTo>
                    <a:pt x="1608" y="202"/>
                  </a:lnTo>
                  <a:lnTo>
                    <a:pt x="1603" y="206"/>
                  </a:lnTo>
                  <a:lnTo>
                    <a:pt x="1599" y="213"/>
                  </a:lnTo>
                  <a:lnTo>
                    <a:pt x="1596" y="21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7"/>
            <p:cNvSpPr/>
            <p:nvPr/>
          </p:nvSpPr>
          <p:spPr>
            <a:xfrm rot="1020000">
              <a:off x="5654880" y="1860120"/>
              <a:ext cx="1187280" cy="1049760"/>
            </a:xfrm>
            <a:custGeom>
              <a:avLst/>
              <a:gdLst>
                <a:gd name="textAreaLeft" fmla="*/ 0 w 1187280"/>
                <a:gd name="textAreaRight" fmla="*/ 1187640 w 1187280"/>
                <a:gd name="textAreaTop" fmla="*/ 0 h 1049760"/>
                <a:gd name="textAreaBottom" fmla="*/ 1050120 h 1049760"/>
              </a:gdLst>
              <a:ahLst/>
              <a:rect l="textAreaLeft" t="textAreaTop" r="textAreaRight" b="textAreaBottom"/>
              <a:pathLst>
                <a:path w="1000" h="832">
                  <a:moveTo>
                    <a:pt x="1000" y="155"/>
                  </a:moveTo>
                  <a:lnTo>
                    <a:pt x="83" y="832"/>
                  </a:lnTo>
                  <a:lnTo>
                    <a:pt x="0" y="723"/>
                  </a:lnTo>
                  <a:lnTo>
                    <a:pt x="955" y="0"/>
                  </a:lnTo>
                  <a:lnTo>
                    <a:pt x="1000" y="155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8"/>
            <p:cNvSpPr/>
            <p:nvPr/>
          </p:nvSpPr>
          <p:spPr>
            <a:xfrm rot="1020000">
              <a:off x="5727960" y="2202120"/>
              <a:ext cx="1315080" cy="990000"/>
            </a:xfrm>
            <a:custGeom>
              <a:avLst/>
              <a:gdLst>
                <a:gd name="textAreaLeft" fmla="*/ 0 w 1315080"/>
                <a:gd name="textAreaRight" fmla="*/ 1315440 w 1315080"/>
                <a:gd name="textAreaTop" fmla="*/ 0 h 990000"/>
                <a:gd name="textAreaBottom" fmla="*/ 990360 h 990000"/>
              </a:gdLst>
              <a:ahLst/>
              <a:rect l="textAreaLeft" t="textAreaTop" r="textAreaRight" b="textAreaBottom"/>
              <a:pathLst>
                <a:path w="1107" h="784">
                  <a:moveTo>
                    <a:pt x="1107" y="95"/>
                  </a:moveTo>
                  <a:lnTo>
                    <a:pt x="98" y="784"/>
                  </a:lnTo>
                  <a:lnTo>
                    <a:pt x="0" y="651"/>
                  </a:lnTo>
                  <a:lnTo>
                    <a:pt x="936" y="0"/>
                  </a:lnTo>
                  <a:lnTo>
                    <a:pt x="1107" y="95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 rot="1020000">
              <a:off x="6818760" y="1099080"/>
              <a:ext cx="1841400" cy="1866240"/>
            </a:xfrm>
            <a:custGeom>
              <a:avLst/>
              <a:gdLst>
                <a:gd name="textAreaLeft" fmla="*/ 0 w 1841400"/>
                <a:gd name="textAreaRight" fmla="*/ 1841760 w 1841400"/>
                <a:gd name="textAreaTop" fmla="*/ 0 h 1866240"/>
                <a:gd name="textAreaBottom" fmla="*/ 1866600 h 1866240"/>
              </a:gdLst>
              <a:ahLst/>
              <a:rect l="textAreaLeft" t="textAreaTop" r="textAreaRight" b="textAreaBottom"/>
              <a:pathLst>
                <a:path w="1549" h="1475">
                  <a:moveTo>
                    <a:pt x="130" y="1157"/>
                  </a:moveTo>
                  <a:lnTo>
                    <a:pt x="133" y="1159"/>
                  </a:lnTo>
                  <a:lnTo>
                    <a:pt x="142" y="1169"/>
                  </a:lnTo>
                  <a:lnTo>
                    <a:pt x="147" y="1176"/>
                  </a:lnTo>
                  <a:lnTo>
                    <a:pt x="154" y="1186"/>
                  </a:lnTo>
                  <a:lnTo>
                    <a:pt x="164" y="1195"/>
                  </a:lnTo>
                  <a:lnTo>
                    <a:pt x="176" y="1207"/>
                  </a:lnTo>
                  <a:lnTo>
                    <a:pt x="185" y="1216"/>
                  </a:lnTo>
                  <a:lnTo>
                    <a:pt x="197" y="1231"/>
                  </a:lnTo>
                  <a:lnTo>
                    <a:pt x="204" y="1235"/>
                  </a:lnTo>
                  <a:lnTo>
                    <a:pt x="211" y="1245"/>
                  </a:lnTo>
                  <a:lnTo>
                    <a:pt x="218" y="1250"/>
                  </a:lnTo>
                  <a:lnTo>
                    <a:pt x="228" y="1259"/>
                  </a:lnTo>
                  <a:lnTo>
                    <a:pt x="235" y="1264"/>
                  </a:lnTo>
                  <a:lnTo>
                    <a:pt x="242" y="1271"/>
                  </a:lnTo>
                  <a:lnTo>
                    <a:pt x="252" y="1278"/>
                  </a:lnTo>
                  <a:lnTo>
                    <a:pt x="261" y="1288"/>
                  </a:lnTo>
                  <a:lnTo>
                    <a:pt x="271" y="1295"/>
                  </a:lnTo>
                  <a:lnTo>
                    <a:pt x="278" y="1304"/>
                  </a:lnTo>
                  <a:lnTo>
                    <a:pt x="287" y="1312"/>
                  </a:lnTo>
                  <a:lnTo>
                    <a:pt x="299" y="1319"/>
                  </a:lnTo>
                  <a:lnTo>
                    <a:pt x="306" y="1326"/>
                  </a:lnTo>
                  <a:lnTo>
                    <a:pt x="318" y="1333"/>
                  </a:lnTo>
                  <a:lnTo>
                    <a:pt x="328" y="1340"/>
                  </a:lnTo>
                  <a:lnTo>
                    <a:pt x="337" y="1350"/>
                  </a:lnTo>
                  <a:lnTo>
                    <a:pt x="347" y="1354"/>
                  </a:lnTo>
                  <a:lnTo>
                    <a:pt x="358" y="1364"/>
                  </a:lnTo>
                  <a:lnTo>
                    <a:pt x="368" y="1369"/>
                  </a:lnTo>
                  <a:lnTo>
                    <a:pt x="382" y="1378"/>
                  </a:lnTo>
                  <a:lnTo>
                    <a:pt x="392" y="1383"/>
                  </a:lnTo>
                  <a:lnTo>
                    <a:pt x="404" y="1390"/>
                  </a:lnTo>
                  <a:lnTo>
                    <a:pt x="415" y="1397"/>
                  </a:lnTo>
                  <a:lnTo>
                    <a:pt x="427" y="1404"/>
                  </a:lnTo>
                  <a:lnTo>
                    <a:pt x="439" y="1409"/>
                  </a:lnTo>
                  <a:lnTo>
                    <a:pt x="451" y="1416"/>
                  </a:lnTo>
                  <a:lnTo>
                    <a:pt x="465" y="1421"/>
                  </a:lnTo>
                  <a:lnTo>
                    <a:pt x="477" y="1428"/>
                  </a:lnTo>
                  <a:lnTo>
                    <a:pt x="492" y="1433"/>
                  </a:lnTo>
                  <a:lnTo>
                    <a:pt x="503" y="1437"/>
                  </a:lnTo>
                  <a:lnTo>
                    <a:pt x="518" y="1442"/>
                  </a:lnTo>
                  <a:lnTo>
                    <a:pt x="530" y="1447"/>
                  </a:lnTo>
                  <a:lnTo>
                    <a:pt x="544" y="1452"/>
                  </a:lnTo>
                  <a:lnTo>
                    <a:pt x="556" y="1454"/>
                  </a:lnTo>
                  <a:lnTo>
                    <a:pt x="570" y="1459"/>
                  </a:lnTo>
                  <a:lnTo>
                    <a:pt x="584" y="1461"/>
                  </a:lnTo>
                  <a:lnTo>
                    <a:pt x="598" y="1464"/>
                  </a:lnTo>
                  <a:lnTo>
                    <a:pt x="610" y="1466"/>
                  </a:lnTo>
                  <a:lnTo>
                    <a:pt x="625" y="1468"/>
                  </a:lnTo>
                  <a:lnTo>
                    <a:pt x="639" y="1471"/>
                  </a:lnTo>
                  <a:lnTo>
                    <a:pt x="653" y="1473"/>
                  </a:lnTo>
                  <a:lnTo>
                    <a:pt x="667" y="1473"/>
                  </a:lnTo>
                  <a:lnTo>
                    <a:pt x="682" y="1473"/>
                  </a:lnTo>
                  <a:lnTo>
                    <a:pt x="698" y="1475"/>
                  </a:lnTo>
                  <a:lnTo>
                    <a:pt x="710" y="1473"/>
                  </a:lnTo>
                  <a:lnTo>
                    <a:pt x="724" y="1473"/>
                  </a:lnTo>
                  <a:lnTo>
                    <a:pt x="739" y="1468"/>
                  </a:lnTo>
                  <a:lnTo>
                    <a:pt x="753" y="1468"/>
                  </a:lnTo>
                  <a:lnTo>
                    <a:pt x="767" y="1466"/>
                  </a:lnTo>
                  <a:lnTo>
                    <a:pt x="781" y="1461"/>
                  </a:lnTo>
                  <a:lnTo>
                    <a:pt x="796" y="1459"/>
                  </a:lnTo>
                  <a:lnTo>
                    <a:pt x="812" y="1454"/>
                  </a:lnTo>
                  <a:lnTo>
                    <a:pt x="824" y="1449"/>
                  </a:lnTo>
                  <a:lnTo>
                    <a:pt x="841" y="1445"/>
                  </a:lnTo>
                  <a:lnTo>
                    <a:pt x="855" y="1440"/>
                  </a:lnTo>
                  <a:lnTo>
                    <a:pt x="869" y="1435"/>
                  </a:lnTo>
                  <a:lnTo>
                    <a:pt x="884" y="1428"/>
                  </a:lnTo>
                  <a:lnTo>
                    <a:pt x="898" y="1421"/>
                  </a:lnTo>
                  <a:lnTo>
                    <a:pt x="914" y="1416"/>
                  </a:lnTo>
                  <a:lnTo>
                    <a:pt x="929" y="1411"/>
                  </a:lnTo>
                  <a:lnTo>
                    <a:pt x="943" y="1402"/>
                  </a:lnTo>
                  <a:lnTo>
                    <a:pt x="957" y="1395"/>
                  </a:lnTo>
                  <a:lnTo>
                    <a:pt x="971" y="1385"/>
                  </a:lnTo>
                  <a:lnTo>
                    <a:pt x="986" y="1378"/>
                  </a:lnTo>
                  <a:lnTo>
                    <a:pt x="1000" y="1371"/>
                  </a:lnTo>
                  <a:lnTo>
                    <a:pt x="1014" y="1361"/>
                  </a:lnTo>
                  <a:lnTo>
                    <a:pt x="1028" y="1352"/>
                  </a:lnTo>
                  <a:lnTo>
                    <a:pt x="1045" y="1345"/>
                  </a:lnTo>
                  <a:lnTo>
                    <a:pt x="1057" y="1333"/>
                  </a:lnTo>
                  <a:lnTo>
                    <a:pt x="1071" y="1323"/>
                  </a:lnTo>
                  <a:lnTo>
                    <a:pt x="1083" y="1312"/>
                  </a:lnTo>
                  <a:lnTo>
                    <a:pt x="1100" y="1304"/>
                  </a:lnTo>
                  <a:lnTo>
                    <a:pt x="1112" y="1293"/>
                  </a:lnTo>
                  <a:lnTo>
                    <a:pt x="1126" y="1283"/>
                  </a:lnTo>
                  <a:lnTo>
                    <a:pt x="1140" y="1271"/>
                  </a:lnTo>
                  <a:lnTo>
                    <a:pt x="1154" y="1262"/>
                  </a:lnTo>
                  <a:lnTo>
                    <a:pt x="1166" y="1247"/>
                  </a:lnTo>
                  <a:lnTo>
                    <a:pt x="1178" y="1235"/>
                  </a:lnTo>
                  <a:lnTo>
                    <a:pt x="1192" y="1224"/>
                  </a:lnTo>
                  <a:lnTo>
                    <a:pt x="1204" y="1214"/>
                  </a:lnTo>
                  <a:lnTo>
                    <a:pt x="1216" y="1200"/>
                  </a:lnTo>
                  <a:lnTo>
                    <a:pt x="1230" y="1188"/>
                  </a:lnTo>
                  <a:lnTo>
                    <a:pt x="1242" y="1176"/>
                  </a:lnTo>
                  <a:lnTo>
                    <a:pt x="1254" y="1164"/>
                  </a:lnTo>
                  <a:lnTo>
                    <a:pt x="1266" y="1152"/>
                  </a:lnTo>
                  <a:lnTo>
                    <a:pt x="1278" y="1138"/>
                  </a:lnTo>
                  <a:lnTo>
                    <a:pt x="1290" y="1126"/>
                  </a:lnTo>
                  <a:lnTo>
                    <a:pt x="1302" y="1112"/>
                  </a:lnTo>
                  <a:lnTo>
                    <a:pt x="1314" y="1100"/>
                  </a:lnTo>
                  <a:lnTo>
                    <a:pt x="1323" y="1086"/>
                  </a:lnTo>
                  <a:lnTo>
                    <a:pt x="1335" y="1074"/>
                  </a:lnTo>
                  <a:lnTo>
                    <a:pt x="1347" y="1062"/>
                  </a:lnTo>
                  <a:lnTo>
                    <a:pt x="1356" y="1048"/>
                  </a:lnTo>
                  <a:lnTo>
                    <a:pt x="1366" y="1036"/>
                  </a:lnTo>
                  <a:lnTo>
                    <a:pt x="1375" y="1022"/>
                  </a:lnTo>
                  <a:lnTo>
                    <a:pt x="1385" y="1007"/>
                  </a:lnTo>
                  <a:lnTo>
                    <a:pt x="1394" y="995"/>
                  </a:lnTo>
                  <a:lnTo>
                    <a:pt x="1404" y="981"/>
                  </a:lnTo>
                  <a:lnTo>
                    <a:pt x="1413" y="969"/>
                  </a:lnTo>
                  <a:lnTo>
                    <a:pt x="1423" y="955"/>
                  </a:lnTo>
                  <a:lnTo>
                    <a:pt x="1430" y="941"/>
                  </a:lnTo>
                  <a:lnTo>
                    <a:pt x="1439" y="929"/>
                  </a:lnTo>
                  <a:lnTo>
                    <a:pt x="1447" y="915"/>
                  </a:lnTo>
                  <a:lnTo>
                    <a:pt x="1456" y="903"/>
                  </a:lnTo>
                  <a:lnTo>
                    <a:pt x="1463" y="888"/>
                  </a:lnTo>
                  <a:lnTo>
                    <a:pt x="1470" y="877"/>
                  </a:lnTo>
                  <a:lnTo>
                    <a:pt x="1478" y="865"/>
                  </a:lnTo>
                  <a:lnTo>
                    <a:pt x="1485" y="853"/>
                  </a:lnTo>
                  <a:lnTo>
                    <a:pt x="1489" y="839"/>
                  </a:lnTo>
                  <a:lnTo>
                    <a:pt x="1494" y="827"/>
                  </a:lnTo>
                  <a:lnTo>
                    <a:pt x="1499" y="812"/>
                  </a:lnTo>
                  <a:lnTo>
                    <a:pt x="1506" y="801"/>
                  </a:lnTo>
                  <a:lnTo>
                    <a:pt x="1508" y="786"/>
                  </a:lnTo>
                  <a:lnTo>
                    <a:pt x="1513" y="777"/>
                  </a:lnTo>
                  <a:lnTo>
                    <a:pt x="1518" y="765"/>
                  </a:lnTo>
                  <a:lnTo>
                    <a:pt x="1523" y="753"/>
                  </a:lnTo>
                  <a:lnTo>
                    <a:pt x="1525" y="739"/>
                  </a:lnTo>
                  <a:lnTo>
                    <a:pt x="1527" y="729"/>
                  </a:lnTo>
                  <a:lnTo>
                    <a:pt x="1530" y="717"/>
                  </a:lnTo>
                  <a:lnTo>
                    <a:pt x="1535" y="706"/>
                  </a:lnTo>
                  <a:lnTo>
                    <a:pt x="1537" y="694"/>
                  </a:lnTo>
                  <a:lnTo>
                    <a:pt x="1539" y="682"/>
                  </a:lnTo>
                  <a:lnTo>
                    <a:pt x="1542" y="670"/>
                  </a:lnTo>
                  <a:lnTo>
                    <a:pt x="1544" y="660"/>
                  </a:lnTo>
                  <a:lnTo>
                    <a:pt x="1544" y="648"/>
                  </a:lnTo>
                  <a:lnTo>
                    <a:pt x="1546" y="639"/>
                  </a:lnTo>
                  <a:lnTo>
                    <a:pt x="1546" y="627"/>
                  </a:lnTo>
                  <a:lnTo>
                    <a:pt x="1549" y="615"/>
                  </a:lnTo>
                  <a:lnTo>
                    <a:pt x="1549" y="606"/>
                  </a:lnTo>
                  <a:lnTo>
                    <a:pt x="1549" y="594"/>
                  </a:lnTo>
                  <a:lnTo>
                    <a:pt x="1549" y="584"/>
                  </a:lnTo>
                  <a:lnTo>
                    <a:pt x="1549" y="575"/>
                  </a:lnTo>
                  <a:lnTo>
                    <a:pt x="1549" y="563"/>
                  </a:lnTo>
                  <a:lnTo>
                    <a:pt x="1549" y="553"/>
                  </a:lnTo>
                  <a:lnTo>
                    <a:pt x="1546" y="544"/>
                  </a:lnTo>
                  <a:lnTo>
                    <a:pt x="1546" y="534"/>
                  </a:lnTo>
                  <a:lnTo>
                    <a:pt x="1546" y="525"/>
                  </a:lnTo>
                  <a:lnTo>
                    <a:pt x="1544" y="513"/>
                  </a:lnTo>
                  <a:lnTo>
                    <a:pt x="1542" y="504"/>
                  </a:lnTo>
                  <a:lnTo>
                    <a:pt x="1542" y="496"/>
                  </a:lnTo>
                  <a:lnTo>
                    <a:pt x="1539" y="484"/>
                  </a:lnTo>
                  <a:lnTo>
                    <a:pt x="1537" y="475"/>
                  </a:lnTo>
                  <a:lnTo>
                    <a:pt x="1535" y="465"/>
                  </a:lnTo>
                  <a:lnTo>
                    <a:pt x="1532" y="456"/>
                  </a:lnTo>
                  <a:lnTo>
                    <a:pt x="1527" y="446"/>
                  </a:lnTo>
                  <a:lnTo>
                    <a:pt x="1527" y="437"/>
                  </a:lnTo>
                  <a:lnTo>
                    <a:pt x="1523" y="430"/>
                  </a:lnTo>
                  <a:lnTo>
                    <a:pt x="1520" y="420"/>
                  </a:lnTo>
                  <a:lnTo>
                    <a:pt x="1516" y="411"/>
                  </a:lnTo>
                  <a:lnTo>
                    <a:pt x="1513" y="401"/>
                  </a:lnTo>
                  <a:lnTo>
                    <a:pt x="1508" y="394"/>
                  </a:lnTo>
                  <a:lnTo>
                    <a:pt x="1506" y="385"/>
                  </a:lnTo>
                  <a:lnTo>
                    <a:pt x="1501" y="375"/>
                  </a:lnTo>
                  <a:lnTo>
                    <a:pt x="1499" y="368"/>
                  </a:lnTo>
                  <a:lnTo>
                    <a:pt x="1494" y="359"/>
                  </a:lnTo>
                  <a:lnTo>
                    <a:pt x="1492" y="351"/>
                  </a:lnTo>
                  <a:lnTo>
                    <a:pt x="1487" y="342"/>
                  </a:lnTo>
                  <a:lnTo>
                    <a:pt x="1482" y="335"/>
                  </a:lnTo>
                  <a:lnTo>
                    <a:pt x="1478" y="325"/>
                  </a:lnTo>
                  <a:lnTo>
                    <a:pt x="1473" y="316"/>
                  </a:lnTo>
                  <a:lnTo>
                    <a:pt x="1463" y="301"/>
                  </a:lnTo>
                  <a:lnTo>
                    <a:pt x="1454" y="287"/>
                  </a:lnTo>
                  <a:lnTo>
                    <a:pt x="1447" y="278"/>
                  </a:lnTo>
                  <a:lnTo>
                    <a:pt x="1442" y="271"/>
                  </a:lnTo>
                  <a:lnTo>
                    <a:pt x="1437" y="261"/>
                  </a:lnTo>
                  <a:lnTo>
                    <a:pt x="1432" y="254"/>
                  </a:lnTo>
                  <a:lnTo>
                    <a:pt x="1420" y="240"/>
                  </a:lnTo>
                  <a:lnTo>
                    <a:pt x="1411" y="228"/>
                  </a:lnTo>
                  <a:lnTo>
                    <a:pt x="1399" y="211"/>
                  </a:lnTo>
                  <a:lnTo>
                    <a:pt x="1387" y="197"/>
                  </a:lnTo>
                  <a:lnTo>
                    <a:pt x="1375" y="185"/>
                  </a:lnTo>
                  <a:lnTo>
                    <a:pt x="1363" y="171"/>
                  </a:lnTo>
                  <a:lnTo>
                    <a:pt x="1352" y="157"/>
                  </a:lnTo>
                  <a:lnTo>
                    <a:pt x="1337" y="145"/>
                  </a:lnTo>
                  <a:lnTo>
                    <a:pt x="1325" y="133"/>
                  </a:lnTo>
                  <a:lnTo>
                    <a:pt x="1314" y="121"/>
                  </a:lnTo>
                  <a:lnTo>
                    <a:pt x="1299" y="109"/>
                  </a:lnTo>
                  <a:lnTo>
                    <a:pt x="1285" y="97"/>
                  </a:lnTo>
                  <a:lnTo>
                    <a:pt x="1268" y="85"/>
                  </a:lnTo>
                  <a:lnTo>
                    <a:pt x="1254" y="76"/>
                  </a:lnTo>
                  <a:lnTo>
                    <a:pt x="1240" y="66"/>
                  </a:lnTo>
                  <a:lnTo>
                    <a:pt x="1226" y="59"/>
                  </a:lnTo>
                  <a:lnTo>
                    <a:pt x="1216" y="54"/>
                  </a:lnTo>
                  <a:lnTo>
                    <a:pt x="1209" y="50"/>
                  </a:lnTo>
                  <a:lnTo>
                    <a:pt x="1200" y="45"/>
                  </a:lnTo>
                  <a:lnTo>
                    <a:pt x="1192" y="42"/>
                  </a:lnTo>
                  <a:lnTo>
                    <a:pt x="1183" y="38"/>
                  </a:lnTo>
                  <a:lnTo>
                    <a:pt x="1176" y="33"/>
                  </a:lnTo>
                  <a:lnTo>
                    <a:pt x="1166" y="31"/>
                  </a:lnTo>
                  <a:lnTo>
                    <a:pt x="1157" y="28"/>
                  </a:lnTo>
                  <a:lnTo>
                    <a:pt x="1150" y="23"/>
                  </a:lnTo>
                  <a:lnTo>
                    <a:pt x="1140" y="21"/>
                  </a:lnTo>
                  <a:lnTo>
                    <a:pt x="1131" y="19"/>
                  </a:lnTo>
                  <a:lnTo>
                    <a:pt x="1124" y="16"/>
                  </a:lnTo>
                  <a:lnTo>
                    <a:pt x="1114" y="12"/>
                  </a:lnTo>
                  <a:lnTo>
                    <a:pt x="1102" y="12"/>
                  </a:lnTo>
                  <a:lnTo>
                    <a:pt x="1093" y="7"/>
                  </a:lnTo>
                  <a:lnTo>
                    <a:pt x="1083" y="7"/>
                  </a:lnTo>
                  <a:lnTo>
                    <a:pt x="1074" y="4"/>
                  </a:lnTo>
                  <a:lnTo>
                    <a:pt x="1062" y="4"/>
                  </a:lnTo>
                  <a:lnTo>
                    <a:pt x="1052" y="4"/>
                  </a:lnTo>
                  <a:lnTo>
                    <a:pt x="1045" y="4"/>
                  </a:lnTo>
                  <a:lnTo>
                    <a:pt x="1033" y="2"/>
                  </a:lnTo>
                  <a:lnTo>
                    <a:pt x="1021" y="0"/>
                  </a:lnTo>
                  <a:lnTo>
                    <a:pt x="1009" y="0"/>
                  </a:lnTo>
                  <a:lnTo>
                    <a:pt x="1000" y="0"/>
                  </a:lnTo>
                  <a:lnTo>
                    <a:pt x="988" y="0"/>
                  </a:lnTo>
                  <a:lnTo>
                    <a:pt x="976" y="0"/>
                  </a:lnTo>
                  <a:lnTo>
                    <a:pt x="964" y="0"/>
                  </a:lnTo>
                  <a:lnTo>
                    <a:pt x="955" y="2"/>
                  </a:lnTo>
                  <a:lnTo>
                    <a:pt x="943" y="2"/>
                  </a:lnTo>
                  <a:lnTo>
                    <a:pt x="931" y="2"/>
                  </a:lnTo>
                  <a:lnTo>
                    <a:pt x="917" y="4"/>
                  </a:lnTo>
                  <a:lnTo>
                    <a:pt x="905" y="7"/>
                  </a:lnTo>
                  <a:lnTo>
                    <a:pt x="893" y="7"/>
                  </a:lnTo>
                  <a:lnTo>
                    <a:pt x="881" y="12"/>
                  </a:lnTo>
                  <a:lnTo>
                    <a:pt x="869" y="12"/>
                  </a:lnTo>
                  <a:lnTo>
                    <a:pt x="857" y="16"/>
                  </a:lnTo>
                  <a:lnTo>
                    <a:pt x="843" y="19"/>
                  </a:lnTo>
                  <a:lnTo>
                    <a:pt x="829" y="21"/>
                  </a:lnTo>
                  <a:lnTo>
                    <a:pt x="815" y="23"/>
                  </a:lnTo>
                  <a:lnTo>
                    <a:pt x="800" y="28"/>
                  </a:lnTo>
                  <a:lnTo>
                    <a:pt x="786" y="31"/>
                  </a:lnTo>
                  <a:lnTo>
                    <a:pt x="772" y="35"/>
                  </a:lnTo>
                  <a:lnTo>
                    <a:pt x="758" y="40"/>
                  </a:lnTo>
                  <a:lnTo>
                    <a:pt x="746" y="45"/>
                  </a:lnTo>
                  <a:lnTo>
                    <a:pt x="729" y="47"/>
                  </a:lnTo>
                  <a:lnTo>
                    <a:pt x="715" y="52"/>
                  </a:lnTo>
                  <a:lnTo>
                    <a:pt x="701" y="57"/>
                  </a:lnTo>
                  <a:lnTo>
                    <a:pt x="686" y="61"/>
                  </a:lnTo>
                  <a:lnTo>
                    <a:pt x="670" y="66"/>
                  </a:lnTo>
                  <a:lnTo>
                    <a:pt x="658" y="73"/>
                  </a:lnTo>
                  <a:lnTo>
                    <a:pt x="641" y="78"/>
                  </a:lnTo>
                  <a:lnTo>
                    <a:pt x="629" y="85"/>
                  </a:lnTo>
                  <a:lnTo>
                    <a:pt x="613" y="90"/>
                  </a:lnTo>
                  <a:lnTo>
                    <a:pt x="598" y="97"/>
                  </a:lnTo>
                  <a:lnTo>
                    <a:pt x="582" y="102"/>
                  </a:lnTo>
                  <a:lnTo>
                    <a:pt x="568" y="109"/>
                  </a:lnTo>
                  <a:lnTo>
                    <a:pt x="553" y="116"/>
                  </a:lnTo>
                  <a:lnTo>
                    <a:pt x="539" y="123"/>
                  </a:lnTo>
                  <a:lnTo>
                    <a:pt x="522" y="130"/>
                  </a:lnTo>
                  <a:lnTo>
                    <a:pt x="508" y="138"/>
                  </a:lnTo>
                  <a:lnTo>
                    <a:pt x="492" y="145"/>
                  </a:lnTo>
                  <a:lnTo>
                    <a:pt x="477" y="154"/>
                  </a:lnTo>
                  <a:lnTo>
                    <a:pt x="463" y="161"/>
                  </a:lnTo>
                  <a:lnTo>
                    <a:pt x="449" y="171"/>
                  </a:lnTo>
                  <a:lnTo>
                    <a:pt x="434" y="178"/>
                  </a:lnTo>
                  <a:lnTo>
                    <a:pt x="420" y="187"/>
                  </a:lnTo>
                  <a:lnTo>
                    <a:pt x="404" y="197"/>
                  </a:lnTo>
                  <a:lnTo>
                    <a:pt x="392" y="206"/>
                  </a:lnTo>
                  <a:lnTo>
                    <a:pt x="375" y="216"/>
                  </a:lnTo>
                  <a:lnTo>
                    <a:pt x="361" y="223"/>
                  </a:lnTo>
                  <a:lnTo>
                    <a:pt x="347" y="233"/>
                  </a:lnTo>
                  <a:lnTo>
                    <a:pt x="335" y="240"/>
                  </a:lnTo>
                  <a:lnTo>
                    <a:pt x="320" y="249"/>
                  </a:lnTo>
                  <a:lnTo>
                    <a:pt x="306" y="259"/>
                  </a:lnTo>
                  <a:lnTo>
                    <a:pt x="294" y="271"/>
                  </a:lnTo>
                  <a:lnTo>
                    <a:pt x="282" y="280"/>
                  </a:lnTo>
                  <a:lnTo>
                    <a:pt x="268" y="287"/>
                  </a:lnTo>
                  <a:lnTo>
                    <a:pt x="256" y="299"/>
                  </a:lnTo>
                  <a:lnTo>
                    <a:pt x="242" y="309"/>
                  </a:lnTo>
                  <a:lnTo>
                    <a:pt x="230" y="321"/>
                  </a:lnTo>
                  <a:lnTo>
                    <a:pt x="216" y="330"/>
                  </a:lnTo>
                  <a:lnTo>
                    <a:pt x="204" y="342"/>
                  </a:lnTo>
                  <a:lnTo>
                    <a:pt x="195" y="351"/>
                  </a:lnTo>
                  <a:lnTo>
                    <a:pt x="183" y="363"/>
                  </a:lnTo>
                  <a:lnTo>
                    <a:pt x="171" y="373"/>
                  </a:lnTo>
                  <a:lnTo>
                    <a:pt x="161" y="385"/>
                  </a:lnTo>
                  <a:lnTo>
                    <a:pt x="149" y="394"/>
                  </a:lnTo>
                  <a:lnTo>
                    <a:pt x="140" y="406"/>
                  </a:lnTo>
                  <a:lnTo>
                    <a:pt x="128" y="416"/>
                  </a:lnTo>
                  <a:lnTo>
                    <a:pt x="121" y="430"/>
                  </a:lnTo>
                  <a:lnTo>
                    <a:pt x="111" y="439"/>
                  </a:lnTo>
                  <a:lnTo>
                    <a:pt x="102" y="451"/>
                  </a:lnTo>
                  <a:lnTo>
                    <a:pt x="95" y="463"/>
                  </a:lnTo>
                  <a:lnTo>
                    <a:pt x="85" y="475"/>
                  </a:lnTo>
                  <a:lnTo>
                    <a:pt x="78" y="487"/>
                  </a:lnTo>
                  <a:lnTo>
                    <a:pt x="71" y="499"/>
                  </a:lnTo>
                  <a:lnTo>
                    <a:pt x="64" y="511"/>
                  </a:lnTo>
                  <a:lnTo>
                    <a:pt x="57" y="523"/>
                  </a:lnTo>
                  <a:lnTo>
                    <a:pt x="50" y="534"/>
                  </a:lnTo>
                  <a:lnTo>
                    <a:pt x="45" y="549"/>
                  </a:lnTo>
                  <a:lnTo>
                    <a:pt x="38" y="561"/>
                  </a:lnTo>
                  <a:lnTo>
                    <a:pt x="35" y="572"/>
                  </a:lnTo>
                  <a:lnTo>
                    <a:pt x="31" y="584"/>
                  </a:lnTo>
                  <a:lnTo>
                    <a:pt x="26" y="596"/>
                  </a:lnTo>
                  <a:lnTo>
                    <a:pt x="21" y="608"/>
                  </a:lnTo>
                  <a:lnTo>
                    <a:pt x="16" y="620"/>
                  </a:lnTo>
                  <a:lnTo>
                    <a:pt x="14" y="629"/>
                  </a:lnTo>
                  <a:lnTo>
                    <a:pt x="12" y="644"/>
                  </a:lnTo>
                  <a:lnTo>
                    <a:pt x="9" y="656"/>
                  </a:lnTo>
                  <a:lnTo>
                    <a:pt x="7" y="667"/>
                  </a:lnTo>
                  <a:lnTo>
                    <a:pt x="4" y="677"/>
                  </a:lnTo>
                  <a:lnTo>
                    <a:pt x="4" y="691"/>
                  </a:lnTo>
                  <a:lnTo>
                    <a:pt x="2" y="703"/>
                  </a:lnTo>
                  <a:lnTo>
                    <a:pt x="2" y="715"/>
                  </a:lnTo>
                  <a:lnTo>
                    <a:pt x="2" y="727"/>
                  </a:lnTo>
                  <a:lnTo>
                    <a:pt x="2" y="739"/>
                  </a:lnTo>
                  <a:lnTo>
                    <a:pt x="0" y="751"/>
                  </a:lnTo>
                  <a:lnTo>
                    <a:pt x="0" y="763"/>
                  </a:lnTo>
                  <a:lnTo>
                    <a:pt x="0" y="772"/>
                  </a:lnTo>
                  <a:lnTo>
                    <a:pt x="2" y="786"/>
                  </a:lnTo>
                  <a:lnTo>
                    <a:pt x="2" y="796"/>
                  </a:lnTo>
                  <a:lnTo>
                    <a:pt x="2" y="808"/>
                  </a:lnTo>
                  <a:lnTo>
                    <a:pt x="4" y="820"/>
                  </a:lnTo>
                  <a:lnTo>
                    <a:pt x="4" y="831"/>
                  </a:lnTo>
                  <a:lnTo>
                    <a:pt x="4" y="841"/>
                  </a:lnTo>
                  <a:lnTo>
                    <a:pt x="9" y="853"/>
                  </a:lnTo>
                  <a:lnTo>
                    <a:pt x="9" y="862"/>
                  </a:lnTo>
                  <a:lnTo>
                    <a:pt x="12" y="874"/>
                  </a:lnTo>
                  <a:lnTo>
                    <a:pt x="14" y="884"/>
                  </a:lnTo>
                  <a:lnTo>
                    <a:pt x="16" y="893"/>
                  </a:lnTo>
                  <a:lnTo>
                    <a:pt x="19" y="903"/>
                  </a:lnTo>
                  <a:lnTo>
                    <a:pt x="23" y="915"/>
                  </a:lnTo>
                  <a:lnTo>
                    <a:pt x="23" y="924"/>
                  </a:lnTo>
                  <a:lnTo>
                    <a:pt x="26" y="934"/>
                  </a:lnTo>
                  <a:lnTo>
                    <a:pt x="28" y="941"/>
                  </a:lnTo>
                  <a:lnTo>
                    <a:pt x="31" y="950"/>
                  </a:lnTo>
                  <a:lnTo>
                    <a:pt x="33" y="960"/>
                  </a:lnTo>
                  <a:lnTo>
                    <a:pt x="38" y="969"/>
                  </a:lnTo>
                  <a:lnTo>
                    <a:pt x="38" y="976"/>
                  </a:lnTo>
                  <a:lnTo>
                    <a:pt x="42" y="986"/>
                  </a:lnTo>
                  <a:lnTo>
                    <a:pt x="47" y="1000"/>
                  </a:lnTo>
                  <a:lnTo>
                    <a:pt x="54" y="1017"/>
                  </a:lnTo>
                  <a:lnTo>
                    <a:pt x="59" y="1029"/>
                  </a:lnTo>
                  <a:lnTo>
                    <a:pt x="66" y="1043"/>
                  </a:lnTo>
                  <a:lnTo>
                    <a:pt x="69" y="1052"/>
                  </a:lnTo>
                  <a:lnTo>
                    <a:pt x="73" y="1064"/>
                  </a:lnTo>
                  <a:lnTo>
                    <a:pt x="78" y="1071"/>
                  </a:lnTo>
                  <a:lnTo>
                    <a:pt x="80" y="1079"/>
                  </a:lnTo>
                  <a:lnTo>
                    <a:pt x="88" y="1091"/>
                  </a:lnTo>
                  <a:lnTo>
                    <a:pt x="90" y="1093"/>
                  </a:lnTo>
                  <a:lnTo>
                    <a:pt x="263" y="967"/>
                  </a:lnTo>
                  <a:lnTo>
                    <a:pt x="259" y="962"/>
                  </a:lnTo>
                  <a:lnTo>
                    <a:pt x="256" y="955"/>
                  </a:lnTo>
                  <a:lnTo>
                    <a:pt x="249" y="943"/>
                  </a:lnTo>
                  <a:lnTo>
                    <a:pt x="244" y="929"/>
                  </a:lnTo>
                  <a:lnTo>
                    <a:pt x="240" y="919"/>
                  </a:lnTo>
                  <a:lnTo>
                    <a:pt x="235" y="910"/>
                  </a:lnTo>
                  <a:lnTo>
                    <a:pt x="230" y="900"/>
                  </a:lnTo>
                  <a:lnTo>
                    <a:pt x="228" y="888"/>
                  </a:lnTo>
                  <a:lnTo>
                    <a:pt x="223" y="877"/>
                  </a:lnTo>
                  <a:lnTo>
                    <a:pt x="218" y="865"/>
                  </a:lnTo>
                  <a:lnTo>
                    <a:pt x="216" y="853"/>
                  </a:lnTo>
                  <a:lnTo>
                    <a:pt x="214" y="841"/>
                  </a:lnTo>
                  <a:lnTo>
                    <a:pt x="209" y="824"/>
                  </a:lnTo>
                  <a:lnTo>
                    <a:pt x="206" y="810"/>
                  </a:lnTo>
                  <a:lnTo>
                    <a:pt x="204" y="796"/>
                  </a:lnTo>
                  <a:lnTo>
                    <a:pt x="204" y="782"/>
                  </a:lnTo>
                  <a:lnTo>
                    <a:pt x="202" y="772"/>
                  </a:lnTo>
                  <a:lnTo>
                    <a:pt x="202" y="765"/>
                  </a:lnTo>
                  <a:lnTo>
                    <a:pt x="202" y="758"/>
                  </a:lnTo>
                  <a:lnTo>
                    <a:pt x="202" y="751"/>
                  </a:lnTo>
                  <a:lnTo>
                    <a:pt x="202" y="734"/>
                  </a:lnTo>
                  <a:lnTo>
                    <a:pt x="204" y="720"/>
                  </a:lnTo>
                  <a:lnTo>
                    <a:pt x="204" y="710"/>
                  </a:lnTo>
                  <a:lnTo>
                    <a:pt x="204" y="703"/>
                  </a:lnTo>
                  <a:lnTo>
                    <a:pt x="206" y="694"/>
                  </a:lnTo>
                  <a:lnTo>
                    <a:pt x="209" y="686"/>
                  </a:lnTo>
                  <a:lnTo>
                    <a:pt x="211" y="670"/>
                  </a:lnTo>
                  <a:lnTo>
                    <a:pt x="218" y="656"/>
                  </a:lnTo>
                  <a:lnTo>
                    <a:pt x="221" y="648"/>
                  </a:lnTo>
                  <a:lnTo>
                    <a:pt x="223" y="639"/>
                  </a:lnTo>
                  <a:lnTo>
                    <a:pt x="228" y="632"/>
                  </a:lnTo>
                  <a:lnTo>
                    <a:pt x="233" y="625"/>
                  </a:lnTo>
                  <a:lnTo>
                    <a:pt x="242" y="608"/>
                  </a:lnTo>
                  <a:lnTo>
                    <a:pt x="254" y="594"/>
                  </a:lnTo>
                  <a:lnTo>
                    <a:pt x="259" y="587"/>
                  </a:lnTo>
                  <a:lnTo>
                    <a:pt x="263" y="580"/>
                  </a:lnTo>
                  <a:lnTo>
                    <a:pt x="271" y="570"/>
                  </a:lnTo>
                  <a:lnTo>
                    <a:pt x="278" y="563"/>
                  </a:lnTo>
                  <a:lnTo>
                    <a:pt x="290" y="546"/>
                  </a:lnTo>
                  <a:lnTo>
                    <a:pt x="306" y="532"/>
                  </a:lnTo>
                  <a:lnTo>
                    <a:pt x="313" y="525"/>
                  </a:lnTo>
                  <a:lnTo>
                    <a:pt x="320" y="515"/>
                  </a:lnTo>
                  <a:lnTo>
                    <a:pt x="330" y="508"/>
                  </a:lnTo>
                  <a:lnTo>
                    <a:pt x="339" y="501"/>
                  </a:lnTo>
                  <a:lnTo>
                    <a:pt x="347" y="492"/>
                  </a:lnTo>
                  <a:lnTo>
                    <a:pt x="356" y="484"/>
                  </a:lnTo>
                  <a:lnTo>
                    <a:pt x="366" y="477"/>
                  </a:lnTo>
                  <a:lnTo>
                    <a:pt x="375" y="470"/>
                  </a:lnTo>
                  <a:lnTo>
                    <a:pt x="385" y="461"/>
                  </a:lnTo>
                  <a:lnTo>
                    <a:pt x="394" y="451"/>
                  </a:lnTo>
                  <a:lnTo>
                    <a:pt x="404" y="444"/>
                  </a:lnTo>
                  <a:lnTo>
                    <a:pt x="415" y="437"/>
                  </a:lnTo>
                  <a:lnTo>
                    <a:pt x="425" y="430"/>
                  </a:lnTo>
                  <a:lnTo>
                    <a:pt x="437" y="420"/>
                  </a:lnTo>
                  <a:lnTo>
                    <a:pt x="446" y="413"/>
                  </a:lnTo>
                  <a:lnTo>
                    <a:pt x="458" y="406"/>
                  </a:lnTo>
                  <a:lnTo>
                    <a:pt x="470" y="397"/>
                  </a:lnTo>
                  <a:lnTo>
                    <a:pt x="482" y="389"/>
                  </a:lnTo>
                  <a:lnTo>
                    <a:pt x="492" y="382"/>
                  </a:lnTo>
                  <a:lnTo>
                    <a:pt x="503" y="375"/>
                  </a:lnTo>
                  <a:lnTo>
                    <a:pt x="515" y="368"/>
                  </a:lnTo>
                  <a:lnTo>
                    <a:pt x="527" y="361"/>
                  </a:lnTo>
                  <a:lnTo>
                    <a:pt x="539" y="354"/>
                  </a:lnTo>
                  <a:lnTo>
                    <a:pt x="551" y="347"/>
                  </a:lnTo>
                  <a:lnTo>
                    <a:pt x="560" y="340"/>
                  </a:lnTo>
                  <a:lnTo>
                    <a:pt x="572" y="332"/>
                  </a:lnTo>
                  <a:lnTo>
                    <a:pt x="584" y="325"/>
                  </a:lnTo>
                  <a:lnTo>
                    <a:pt x="598" y="316"/>
                  </a:lnTo>
                  <a:lnTo>
                    <a:pt x="608" y="309"/>
                  </a:lnTo>
                  <a:lnTo>
                    <a:pt x="620" y="304"/>
                  </a:lnTo>
                  <a:lnTo>
                    <a:pt x="634" y="297"/>
                  </a:lnTo>
                  <a:lnTo>
                    <a:pt x="646" y="292"/>
                  </a:lnTo>
                  <a:lnTo>
                    <a:pt x="658" y="285"/>
                  </a:lnTo>
                  <a:lnTo>
                    <a:pt x="670" y="278"/>
                  </a:lnTo>
                  <a:lnTo>
                    <a:pt x="682" y="271"/>
                  </a:lnTo>
                  <a:lnTo>
                    <a:pt x="693" y="266"/>
                  </a:lnTo>
                  <a:lnTo>
                    <a:pt x="705" y="259"/>
                  </a:lnTo>
                  <a:lnTo>
                    <a:pt x="717" y="254"/>
                  </a:lnTo>
                  <a:lnTo>
                    <a:pt x="729" y="247"/>
                  </a:lnTo>
                  <a:lnTo>
                    <a:pt x="743" y="244"/>
                  </a:lnTo>
                  <a:lnTo>
                    <a:pt x="753" y="237"/>
                  </a:lnTo>
                  <a:lnTo>
                    <a:pt x="765" y="233"/>
                  </a:lnTo>
                  <a:lnTo>
                    <a:pt x="774" y="225"/>
                  </a:lnTo>
                  <a:lnTo>
                    <a:pt x="788" y="223"/>
                  </a:lnTo>
                  <a:lnTo>
                    <a:pt x="798" y="218"/>
                  </a:lnTo>
                  <a:lnTo>
                    <a:pt x="812" y="214"/>
                  </a:lnTo>
                  <a:lnTo>
                    <a:pt x="822" y="209"/>
                  </a:lnTo>
                  <a:lnTo>
                    <a:pt x="834" y="204"/>
                  </a:lnTo>
                  <a:lnTo>
                    <a:pt x="843" y="199"/>
                  </a:lnTo>
                  <a:lnTo>
                    <a:pt x="855" y="197"/>
                  </a:lnTo>
                  <a:lnTo>
                    <a:pt x="865" y="192"/>
                  </a:lnTo>
                  <a:lnTo>
                    <a:pt x="876" y="190"/>
                  </a:lnTo>
                  <a:lnTo>
                    <a:pt x="886" y="185"/>
                  </a:lnTo>
                  <a:lnTo>
                    <a:pt x="895" y="185"/>
                  </a:lnTo>
                  <a:lnTo>
                    <a:pt x="905" y="183"/>
                  </a:lnTo>
                  <a:lnTo>
                    <a:pt x="917" y="180"/>
                  </a:lnTo>
                  <a:lnTo>
                    <a:pt x="926" y="178"/>
                  </a:lnTo>
                  <a:lnTo>
                    <a:pt x="936" y="176"/>
                  </a:lnTo>
                  <a:lnTo>
                    <a:pt x="943" y="173"/>
                  </a:lnTo>
                  <a:lnTo>
                    <a:pt x="952" y="171"/>
                  </a:lnTo>
                  <a:lnTo>
                    <a:pt x="962" y="171"/>
                  </a:lnTo>
                  <a:lnTo>
                    <a:pt x="971" y="168"/>
                  </a:lnTo>
                  <a:lnTo>
                    <a:pt x="979" y="168"/>
                  </a:lnTo>
                  <a:lnTo>
                    <a:pt x="988" y="168"/>
                  </a:lnTo>
                  <a:lnTo>
                    <a:pt x="1002" y="168"/>
                  </a:lnTo>
                  <a:lnTo>
                    <a:pt x="1019" y="168"/>
                  </a:lnTo>
                  <a:lnTo>
                    <a:pt x="1033" y="168"/>
                  </a:lnTo>
                  <a:lnTo>
                    <a:pt x="1047" y="171"/>
                  </a:lnTo>
                  <a:lnTo>
                    <a:pt x="1062" y="173"/>
                  </a:lnTo>
                  <a:lnTo>
                    <a:pt x="1074" y="176"/>
                  </a:lnTo>
                  <a:lnTo>
                    <a:pt x="1085" y="180"/>
                  </a:lnTo>
                  <a:lnTo>
                    <a:pt x="1100" y="185"/>
                  </a:lnTo>
                  <a:lnTo>
                    <a:pt x="1109" y="190"/>
                  </a:lnTo>
                  <a:lnTo>
                    <a:pt x="1121" y="195"/>
                  </a:lnTo>
                  <a:lnTo>
                    <a:pt x="1131" y="199"/>
                  </a:lnTo>
                  <a:lnTo>
                    <a:pt x="1143" y="206"/>
                  </a:lnTo>
                  <a:lnTo>
                    <a:pt x="1152" y="214"/>
                  </a:lnTo>
                  <a:lnTo>
                    <a:pt x="1159" y="221"/>
                  </a:lnTo>
                  <a:lnTo>
                    <a:pt x="1169" y="228"/>
                  </a:lnTo>
                  <a:lnTo>
                    <a:pt x="1178" y="237"/>
                  </a:lnTo>
                  <a:lnTo>
                    <a:pt x="1185" y="244"/>
                  </a:lnTo>
                  <a:lnTo>
                    <a:pt x="1195" y="252"/>
                  </a:lnTo>
                  <a:lnTo>
                    <a:pt x="1204" y="261"/>
                  </a:lnTo>
                  <a:lnTo>
                    <a:pt x="1211" y="271"/>
                  </a:lnTo>
                  <a:lnTo>
                    <a:pt x="1219" y="280"/>
                  </a:lnTo>
                  <a:lnTo>
                    <a:pt x="1226" y="287"/>
                  </a:lnTo>
                  <a:lnTo>
                    <a:pt x="1233" y="297"/>
                  </a:lnTo>
                  <a:lnTo>
                    <a:pt x="1240" y="306"/>
                  </a:lnTo>
                  <a:lnTo>
                    <a:pt x="1247" y="316"/>
                  </a:lnTo>
                  <a:lnTo>
                    <a:pt x="1254" y="328"/>
                  </a:lnTo>
                  <a:lnTo>
                    <a:pt x="1261" y="335"/>
                  </a:lnTo>
                  <a:lnTo>
                    <a:pt x="1271" y="347"/>
                  </a:lnTo>
                  <a:lnTo>
                    <a:pt x="1276" y="356"/>
                  </a:lnTo>
                  <a:lnTo>
                    <a:pt x="1285" y="366"/>
                  </a:lnTo>
                  <a:lnTo>
                    <a:pt x="1290" y="375"/>
                  </a:lnTo>
                  <a:lnTo>
                    <a:pt x="1299" y="387"/>
                  </a:lnTo>
                  <a:lnTo>
                    <a:pt x="1306" y="394"/>
                  </a:lnTo>
                  <a:lnTo>
                    <a:pt x="1314" y="406"/>
                  </a:lnTo>
                  <a:lnTo>
                    <a:pt x="1321" y="416"/>
                  </a:lnTo>
                  <a:lnTo>
                    <a:pt x="1328" y="427"/>
                  </a:lnTo>
                  <a:lnTo>
                    <a:pt x="1333" y="437"/>
                  </a:lnTo>
                  <a:lnTo>
                    <a:pt x="1337" y="449"/>
                  </a:lnTo>
                  <a:lnTo>
                    <a:pt x="1344" y="458"/>
                  </a:lnTo>
                  <a:lnTo>
                    <a:pt x="1349" y="470"/>
                  </a:lnTo>
                  <a:lnTo>
                    <a:pt x="1354" y="480"/>
                  </a:lnTo>
                  <a:lnTo>
                    <a:pt x="1359" y="492"/>
                  </a:lnTo>
                  <a:lnTo>
                    <a:pt x="1363" y="504"/>
                  </a:lnTo>
                  <a:lnTo>
                    <a:pt x="1368" y="518"/>
                  </a:lnTo>
                  <a:lnTo>
                    <a:pt x="1368" y="530"/>
                  </a:lnTo>
                  <a:lnTo>
                    <a:pt x="1371" y="539"/>
                  </a:lnTo>
                  <a:lnTo>
                    <a:pt x="1373" y="553"/>
                  </a:lnTo>
                  <a:lnTo>
                    <a:pt x="1375" y="568"/>
                  </a:lnTo>
                  <a:lnTo>
                    <a:pt x="1375" y="580"/>
                  </a:lnTo>
                  <a:lnTo>
                    <a:pt x="1375" y="594"/>
                  </a:lnTo>
                  <a:lnTo>
                    <a:pt x="1375" y="608"/>
                  </a:lnTo>
                  <a:lnTo>
                    <a:pt x="1375" y="625"/>
                  </a:lnTo>
                  <a:lnTo>
                    <a:pt x="1373" y="639"/>
                  </a:lnTo>
                  <a:lnTo>
                    <a:pt x="1371" y="656"/>
                  </a:lnTo>
                  <a:lnTo>
                    <a:pt x="1368" y="663"/>
                  </a:lnTo>
                  <a:lnTo>
                    <a:pt x="1366" y="672"/>
                  </a:lnTo>
                  <a:lnTo>
                    <a:pt x="1363" y="682"/>
                  </a:lnTo>
                  <a:lnTo>
                    <a:pt x="1361" y="689"/>
                  </a:lnTo>
                  <a:lnTo>
                    <a:pt x="1359" y="698"/>
                  </a:lnTo>
                  <a:lnTo>
                    <a:pt x="1356" y="708"/>
                  </a:lnTo>
                  <a:lnTo>
                    <a:pt x="1354" y="715"/>
                  </a:lnTo>
                  <a:lnTo>
                    <a:pt x="1349" y="725"/>
                  </a:lnTo>
                  <a:lnTo>
                    <a:pt x="1344" y="732"/>
                  </a:lnTo>
                  <a:lnTo>
                    <a:pt x="1342" y="744"/>
                  </a:lnTo>
                  <a:lnTo>
                    <a:pt x="1337" y="753"/>
                  </a:lnTo>
                  <a:lnTo>
                    <a:pt x="1335" y="763"/>
                  </a:lnTo>
                  <a:lnTo>
                    <a:pt x="1330" y="772"/>
                  </a:lnTo>
                  <a:lnTo>
                    <a:pt x="1323" y="782"/>
                  </a:lnTo>
                  <a:lnTo>
                    <a:pt x="1318" y="791"/>
                  </a:lnTo>
                  <a:lnTo>
                    <a:pt x="1314" y="803"/>
                  </a:lnTo>
                  <a:lnTo>
                    <a:pt x="1306" y="810"/>
                  </a:lnTo>
                  <a:lnTo>
                    <a:pt x="1302" y="820"/>
                  </a:lnTo>
                  <a:lnTo>
                    <a:pt x="1295" y="831"/>
                  </a:lnTo>
                  <a:lnTo>
                    <a:pt x="1290" y="841"/>
                  </a:lnTo>
                  <a:lnTo>
                    <a:pt x="1280" y="853"/>
                  </a:lnTo>
                  <a:lnTo>
                    <a:pt x="1276" y="862"/>
                  </a:lnTo>
                  <a:lnTo>
                    <a:pt x="1266" y="872"/>
                  </a:lnTo>
                  <a:lnTo>
                    <a:pt x="1261" y="884"/>
                  </a:lnTo>
                  <a:lnTo>
                    <a:pt x="1252" y="893"/>
                  </a:lnTo>
                  <a:lnTo>
                    <a:pt x="1245" y="905"/>
                  </a:lnTo>
                  <a:lnTo>
                    <a:pt x="1238" y="915"/>
                  </a:lnTo>
                  <a:lnTo>
                    <a:pt x="1230" y="927"/>
                  </a:lnTo>
                  <a:lnTo>
                    <a:pt x="1221" y="936"/>
                  </a:lnTo>
                  <a:lnTo>
                    <a:pt x="1214" y="948"/>
                  </a:lnTo>
                  <a:lnTo>
                    <a:pt x="1204" y="957"/>
                  </a:lnTo>
                  <a:lnTo>
                    <a:pt x="1197" y="969"/>
                  </a:lnTo>
                  <a:lnTo>
                    <a:pt x="1185" y="979"/>
                  </a:lnTo>
                  <a:lnTo>
                    <a:pt x="1178" y="988"/>
                  </a:lnTo>
                  <a:lnTo>
                    <a:pt x="1169" y="998"/>
                  </a:lnTo>
                  <a:lnTo>
                    <a:pt x="1159" y="1010"/>
                  </a:lnTo>
                  <a:lnTo>
                    <a:pt x="1150" y="1022"/>
                  </a:lnTo>
                  <a:lnTo>
                    <a:pt x="1140" y="1031"/>
                  </a:lnTo>
                  <a:lnTo>
                    <a:pt x="1131" y="1041"/>
                  </a:lnTo>
                  <a:lnTo>
                    <a:pt x="1121" y="1050"/>
                  </a:lnTo>
                  <a:lnTo>
                    <a:pt x="1112" y="1060"/>
                  </a:lnTo>
                  <a:lnTo>
                    <a:pt x="1102" y="1071"/>
                  </a:lnTo>
                  <a:lnTo>
                    <a:pt x="1090" y="1081"/>
                  </a:lnTo>
                  <a:lnTo>
                    <a:pt x="1083" y="1091"/>
                  </a:lnTo>
                  <a:lnTo>
                    <a:pt x="1071" y="1100"/>
                  </a:lnTo>
                  <a:lnTo>
                    <a:pt x="1062" y="1107"/>
                  </a:lnTo>
                  <a:lnTo>
                    <a:pt x="1050" y="1117"/>
                  </a:lnTo>
                  <a:lnTo>
                    <a:pt x="1040" y="1126"/>
                  </a:lnTo>
                  <a:lnTo>
                    <a:pt x="1028" y="1136"/>
                  </a:lnTo>
                  <a:lnTo>
                    <a:pt x="1019" y="1145"/>
                  </a:lnTo>
                  <a:lnTo>
                    <a:pt x="1007" y="1152"/>
                  </a:lnTo>
                  <a:lnTo>
                    <a:pt x="998" y="1162"/>
                  </a:lnTo>
                  <a:lnTo>
                    <a:pt x="986" y="1169"/>
                  </a:lnTo>
                  <a:lnTo>
                    <a:pt x="974" y="1176"/>
                  </a:lnTo>
                  <a:lnTo>
                    <a:pt x="964" y="1183"/>
                  </a:lnTo>
                  <a:lnTo>
                    <a:pt x="952" y="1193"/>
                  </a:lnTo>
                  <a:lnTo>
                    <a:pt x="943" y="1200"/>
                  </a:lnTo>
                  <a:lnTo>
                    <a:pt x="931" y="1207"/>
                  </a:lnTo>
                  <a:lnTo>
                    <a:pt x="919" y="1214"/>
                  </a:lnTo>
                  <a:lnTo>
                    <a:pt x="910" y="1221"/>
                  </a:lnTo>
                  <a:lnTo>
                    <a:pt x="898" y="1224"/>
                  </a:lnTo>
                  <a:lnTo>
                    <a:pt x="888" y="1231"/>
                  </a:lnTo>
                  <a:lnTo>
                    <a:pt x="874" y="1235"/>
                  </a:lnTo>
                  <a:lnTo>
                    <a:pt x="865" y="1243"/>
                  </a:lnTo>
                  <a:lnTo>
                    <a:pt x="853" y="1247"/>
                  </a:lnTo>
                  <a:lnTo>
                    <a:pt x="841" y="1250"/>
                  </a:lnTo>
                  <a:lnTo>
                    <a:pt x="829" y="1254"/>
                  </a:lnTo>
                  <a:lnTo>
                    <a:pt x="819" y="1262"/>
                  </a:lnTo>
                  <a:lnTo>
                    <a:pt x="808" y="1264"/>
                  </a:lnTo>
                  <a:lnTo>
                    <a:pt x="798" y="1266"/>
                  </a:lnTo>
                  <a:lnTo>
                    <a:pt x="786" y="1269"/>
                  </a:lnTo>
                  <a:lnTo>
                    <a:pt x="777" y="1271"/>
                  </a:lnTo>
                  <a:lnTo>
                    <a:pt x="765" y="1273"/>
                  </a:lnTo>
                  <a:lnTo>
                    <a:pt x="755" y="1276"/>
                  </a:lnTo>
                  <a:lnTo>
                    <a:pt x="743" y="1278"/>
                  </a:lnTo>
                  <a:lnTo>
                    <a:pt x="734" y="1281"/>
                  </a:lnTo>
                  <a:lnTo>
                    <a:pt x="722" y="1281"/>
                  </a:lnTo>
                  <a:lnTo>
                    <a:pt x="712" y="1281"/>
                  </a:lnTo>
                  <a:lnTo>
                    <a:pt x="701" y="1281"/>
                  </a:lnTo>
                  <a:lnTo>
                    <a:pt x="691" y="1281"/>
                  </a:lnTo>
                  <a:lnTo>
                    <a:pt x="679" y="1278"/>
                  </a:lnTo>
                  <a:lnTo>
                    <a:pt x="670" y="1278"/>
                  </a:lnTo>
                  <a:lnTo>
                    <a:pt x="658" y="1278"/>
                  </a:lnTo>
                  <a:lnTo>
                    <a:pt x="648" y="1276"/>
                  </a:lnTo>
                  <a:lnTo>
                    <a:pt x="636" y="1273"/>
                  </a:lnTo>
                  <a:lnTo>
                    <a:pt x="627" y="1271"/>
                  </a:lnTo>
                  <a:lnTo>
                    <a:pt x="617" y="1269"/>
                  </a:lnTo>
                  <a:lnTo>
                    <a:pt x="608" y="1269"/>
                  </a:lnTo>
                  <a:lnTo>
                    <a:pt x="598" y="1264"/>
                  </a:lnTo>
                  <a:lnTo>
                    <a:pt x="587" y="1262"/>
                  </a:lnTo>
                  <a:lnTo>
                    <a:pt x="579" y="1257"/>
                  </a:lnTo>
                  <a:lnTo>
                    <a:pt x="570" y="1254"/>
                  </a:lnTo>
                  <a:lnTo>
                    <a:pt x="560" y="1250"/>
                  </a:lnTo>
                  <a:lnTo>
                    <a:pt x="551" y="1247"/>
                  </a:lnTo>
                  <a:lnTo>
                    <a:pt x="539" y="1243"/>
                  </a:lnTo>
                  <a:lnTo>
                    <a:pt x="532" y="1238"/>
                  </a:lnTo>
                  <a:lnTo>
                    <a:pt x="522" y="1233"/>
                  </a:lnTo>
                  <a:lnTo>
                    <a:pt x="513" y="1228"/>
                  </a:lnTo>
                  <a:lnTo>
                    <a:pt x="506" y="1224"/>
                  </a:lnTo>
                  <a:lnTo>
                    <a:pt x="499" y="1219"/>
                  </a:lnTo>
                  <a:lnTo>
                    <a:pt x="489" y="1214"/>
                  </a:lnTo>
                  <a:lnTo>
                    <a:pt x="482" y="1207"/>
                  </a:lnTo>
                  <a:lnTo>
                    <a:pt x="473" y="1202"/>
                  </a:lnTo>
                  <a:lnTo>
                    <a:pt x="463" y="1197"/>
                  </a:lnTo>
                  <a:lnTo>
                    <a:pt x="449" y="1188"/>
                  </a:lnTo>
                  <a:lnTo>
                    <a:pt x="434" y="1176"/>
                  </a:lnTo>
                  <a:lnTo>
                    <a:pt x="420" y="1164"/>
                  </a:lnTo>
                  <a:lnTo>
                    <a:pt x="406" y="1155"/>
                  </a:lnTo>
                  <a:lnTo>
                    <a:pt x="394" y="1143"/>
                  </a:lnTo>
                  <a:lnTo>
                    <a:pt x="382" y="1133"/>
                  </a:lnTo>
                  <a:lnTo>
                    <a:pt x="368" y="1121"/>
                  </a:lnTo>
                  <a:lnTo>
                    <a:pt x="361" y="1112"/>
                  </a:lnTo>
                  <a:lnTo>
                    <a:pt x="351" y="1102"/>
                  </a:lnTo>
                  <a:lnTo>
                    <a:pt x="342" y="1093"/>
                  </a:lnTo>
                  <a:lnTo>
                    <a:pt x="335" y="1086"/>
                  </a:lnTo>
                  <a:lnTo>
                    <a:pt x="328" y="1079"/>
                  </a:lnTo>
                  <a:lnTo>
                    <a:pt x="320" y="1071"/>
                  </a:lnTo>
                  <a:lnTo>
                    <a:pt x="318" y="1067"/>
                  </a:lnTo>
                  <a:lnTo>
                    <a:pt x="311" y="1057"/>
                  </a:lnTo>
                  <a:lnTo>
                    <a:pt x="130" y="1157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 rot="1020000">
              <a:off x="6840360" y="2100600"/>
              <a:ext cx="254160" cy="23508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221" h="190">
                  <a:moveTo>
                    <a:pt x="40" y="190"/>
                  </a:moveTo>
                  <a:lnTo>
                    <a:pt x="0" y="126"/>
                  </a:lnTo>
                  <a:lnTo>
                    <a:pt x="36" y="26"/>
                  </a:lnTo>
                  <a:lnTo>
                    <a:pt x="173" y="0"/>
                  </a:lnTo>
                  <a:lnTo>
                    <a:pt x="221" y="90"/>
                  </a:lnTo>
                  <a:lnTo>
                    <a:pt x="181" y="178"/>
                  </a:lnTo>
                  <a:lnTo>
                    <a:pt x="40" y="190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 rot="1020000">
              <a:off x="7206480" y="1800000"/>
              <a:ext cx="1256040" cy="1059480"/>
            </a:xfrm>
            <a:custGeom>
              <a:avLst/>
              <a:gdLst>
                <a:gd name="textAreaLeft" fmla="*/ 0 w 1256040"/>
                <a:gd name="textAreaRight" fmla="*/ 1256400 w 1256040"/>
                <a:gd name="textAreaTop" fmla="*/ 0 h 1059480"/>
                <a:gd name="textAreaBottom" fmla="*/ 1059840 h 1059480"/>
              </a:gdLst>
              <a:ahLst/>
              <a:rect l="textAreaLeft" t="textAreaTop" r="textAreaRight" b="textAreaBottom"/>
              <a:pathLst>
                <a:path w="1060" h="839">
                  <a:moveTo>
                    <a:pt x="95" y="839"/>
                  </a:moveTo>
                  <a:lnTo>
                    <a:pt x="1060" y="166"/>
                  </a:lnTo>
                  <a:lnTo>
                    <a:pt x="1012" y="0"/>
                  </a:lnTo>
                  <a:lnTo>
                    <a:pt x="0" y="744"/>
                  </a:lnTo>
                  <a:lnTo>
                    <a:pt x="95" y="839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 rot="1020000">
              <a:off x="7084800" y="1445760"/>
              <a:ext cx="1358280" cy="1107000"/>
            </a:xfrm>
            <a:custGeom>
              <a:avLst/>
              <a:gdLst>
                <a:gd name="textAreaLeft" fmla="*/ 0 w 1358280"/>
                <a:gd name="textAreaRight" fmla="*/ 1358640 w 1358280"/>
                <a:gd name="textAreaTop" fmla="*/ 0 h 1107000"/>
                <a:gd name="textAreaBottom" fmla="*/ 1107360 h 1107000"/>
              </a:gdLst>
              <a:ahLst/>
              <a:rect l="textAreaLeft" t="textAreaTop" r="textAreaRight" b="textAreaBottom"/>
              <a:pathLst>
                <a:path w="1145" h="877">
                  <a:moveTo>
                    <a:pt x="55" y="877"/>
                  </a:moveTo>
                  <a:lnTo>
                    <a:pt x="1145" y="114"/>
                  </a:lnTo>
                  <a:lnTo>
                    <a:pt x="1060" y="0"/>
                  </a:lnTo>
                  <a:lnTo>
                    <a:pt x="0" y="744"/>
                  </a:lnTo>
                  <a:lnTo>
                    <a:pt x="55" y="877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 rot="1020000">
              <a:off x="7074720" y="1156320"/>
              <a:ext cx="1246320" cy="1014120"/>
            </a:xfrm>
            <a:custGeom>
              <a:avLst/>
              <a:gdLst>
                <a:gd name="textAreaLeft" fmla="*/ 0 w 1246320"/>
                <a:gd name="textAreaRight" fmla="*/ 1246680 w 1246320"/>
                <a:gd name="textAreaTop" fmla="*/ 0 h 1014120"/>
                <a:gd name="textAreaBottom" fmla="*/ 1014480 h 1014120"/>
              </a:gdLst>
              <a:ahLst/>
              <a:rect l="textAreaLeft" t="textAreaTop" r="textAreaRight" b="textAreaBottom"/>
              <a:pathLst>
                <a:path w="1050" h="806">
                  <a:moveTo>
                    <a:pt x="24" y="806"/>
                  </a:moveTo>
                  <a:lnTo>
                    <a:pt x="1050" y="74"/>
                  </a:lnTo>
                  <a:lnTo>
                    <a:pt x="917" y="0"/>
                  </a:lnTo>
                  <a:lnTo>
                    <a:pt x="0" y="689"/>
                  </a:lnTo>
                  <a:lnTo>
                    <a:pt x="24" y="806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4"/>
            <p:cNvSpPr/>
            <p:nvPr/>
          </p:nvSpPr>
          <p:spPr>
            <a:xfrm rot="1020000">
              <a:off x="6958440" y="1553400"/>
              <a:ext cx="825840" cy="1135080"/>
            </a:xfrm>
            <a:custGeom>
              <a:avLst/>
              <a:gdLst>
                <a:gd name="textAreaLeft" fmla="*/ 0 w 825840"/>
                <a:gd name="textAreaRight" fmla="*/ 826200 w 825840"/>
                <a:gd name="textAreaTop" fmla="*/ 0 h 1135080"/>
                <a:gd name="textAreaBottom" fmla="*/ 1135440 h 1135080"/>
              </a:gdLst>
              <a:ahLst/>
              <a:rect l="textAreaLeft" t="textAreaTop" r="textAreaRight" b="textAreaBottom"/>
              <a:pathLst>
                <a:path w="701" h="901">
                  <a:moveTo>
                    <a:pt x="494" y="901"/>
                  </a:moveTo>
                  <a:lnTo>
                    <a:pt x="0" y="150"/>
                  </a:lnTo>
                  <a:lnTo>
                    <a:pt x="90" y="0"/>
                  </a:lnTo>
                  <a:lnTo>
                    <a:pt x="701" y="898"/>
                  </a:lnTo>
                  <a:lnTo>
                    <a:pt x="494" y="901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15"/>
            <p:cNvSpPr/>
            <p:nvPr/>
          </p:nvSpPr>
          <p:spPr>
            <a:xfrm rot="1020000">
              <a:off x="7206480" y="1375920"/>
              <a:ext cx="928800" cy="1336320"/>
            </a:xfrm>
            <a:custGeom>
              <a:avLst/>
              <a:gdLst>
                <a:gd name="textAreaLeft" fmla="*/ 0 w 928800"/>
                <a:gd name="textAreaRight" fmla="*/ 929160 w 928800"/>
                <a:gd name="textAreaTop" fmla="*/ 0 h 1336320"/>
                <a:gd name="textAreaBottom" fmla="*/ 1336680 h 1336320"/>
              </a:gdLst>
              <a:ahLst/>
              <a:rect l="textAreaLeft" t="textAreaTop" r="textAreaRight" b="textAreaBottom"/>
              <a:pathLst>
                <a:path w="784" h="1057">
                  <a:moveTo>
                    <a:pt x="663" y="1057"/>
                  </a:moveTo>
                  <a:lnTo>
                    <a:pt x="0" y="104"/>
                  </a:lnTo>
                  <a:lnTo>
                    <a:pt x="138" y="0"/>
                  </a:lnTo>
                  <a:lnTo>
                    <a:pt x="784" y="969"/>
                  </a:lnTo>
                  <a:lnTo>
                    <a:pt x="663" y="1057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16"/>
            <p:cNvSpPr/>
            <p:nvPr/>
          </p:nvSpPr>
          <p:spPr>
            <a:xfrm rot="1020000">
              <a:off x="7595280" y="1300320"/>
              <a:ext cx="835920" cy="1192680"/>
            </a:xfrm>
            <a:custGeom>
              <a:avLst/>
              <a:gdLst>
                <a:gd name="textAreaLeft" fmla="*/ 0 w 835920"/>
                <a:gd name="textAreaRight" fmla="*/ 836280 w 835920"/>
                <a:gd name="textAreaTop" fmla="*/ 0 h 1192680"/>
                <a:gd name="textAreaBottom" fmla="*/ 1193040 h 1192680"/>
              </a:gdLst>
              <a:ahLst/>
              <a:rect l="textAreaLeft" t="textAreaTop" r="textAreaRight" b="textAreaBottom"/>
              <a:pathLst>
                <a:path w="708" h="946">
                  <a:moveTo>
                    <a:pt x="611" y="946"/>
                  </a:moveTo>
                  <a:lnTo>
                    <a:pt x="0" y="79"/>
                  </a:lnTo>
                  <a:lnTo>
                    <a:pt x="167" y="0"/>
                  </a:lnTo>
                  <a:lnTo>
                    <a:pt x="708" y="854"/>
                  </a:lnTo>
                  <a:lnTo>
                    <a:pt x="611" y="946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17"/>
            <p:cNvSpPr/>
            <p:nvPr/>
          </p:nvSpPr>
          <p:spPr>
            <a:xfrm rot="1020000">
              <a:off x="4641120" y="2400120"/>
              <a:ext cx="1159560" cy="1115280"/>
            </a:xfrm>
            <a:custGeom>
              <a:avLst/>
              <a:gdLst>
                <a:gd name="textAreaLeft" fmla="*/ 0 w 1159560"/>
                <a:gd name="textAreaRight" fmla="*/ 1159920 w 1159560"/>
                <a:gd name="textAreaTop" fmla="*/ 0 h 1115280"/>
                <a:gd name="textAreaBottom" fmla="*/ 1115640 h 1115280"/>
              </a:gdLst>
              <a:ahLst/>
              <a:rect l="textAreaLeft" t="textAreaTop" r="textAreaRight" b="textAreaBottom"/>
              <a:pathLst>
                <a:path w="978" h="886">
                  <a:moveTo>
                    <a:pt x="978" y="413"/>
                  </a:moveTo>
                  <a:lnTo>
                    <a:pt x="665" y="0"/>
                  </a:lnTo>
                  <a:lnTo>
                    <a:pt x="0" y="523"/>
                  </a:lnTo>
                  <a:lnTo>
                    <a:pt x="294" y="886"/>
                  </a:lnTo>
                  <a:lnTo>
                    <a:pt x="434" y="784"/>
                  </a:lnTo>
                  <a:lnTo>
                    <a:pt x="263" y="566"/>
                  </a:lnTo>
                  <a:lnTo>
                    <a:pt x="641" y="280"/>
                  </a:lnTo>
                  <a:lnTo>
                    <a:pt x="822" y="532"/>
                  </a:lnTo>
                  <a:lnTo>
                    <a:pt x="978" y="413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18"/>
            <p:cNvSpPr/>
            <p:nvPr/>
          </p:nvSpPr>
          <p:spPr>
            <a:xfrm rot="1020000">
              <a:off x="4884120" y="2808360"/>
              <a:ext cx="672120" cy="716760"/>
            </a:xfrm>
            <a:custGeom>
              <a:avLst/>
              <a:gdLst>
                <a:gd name="textAreaLeft" fmla="*/ 0 w 672120"/>
                <a:gd name="textAreaRight" fmla="*/ 672480 w 672120"/>
                <a:gd name="textAreaTop" fmla="*/ 0 h 716760"/>
                <a:gd name="textAreaBottom" fmla="*/ 717120 h 716760"/>
              </a:gdLst>
              <a:ahLst/>
              <a:rect l="textAreaLeft" t="textAreaTop" r="textAreaRight" b="textAreaBottom"/>
              <a:pathLst>
                <a:path w="571" h="572">
                  <a:moveTo>
                    <a:pt x="571" y="218"/>
                  </a:moveTo>
                  <a:lnTo>
                    <a:pt x="43" y="572"/>
                  </a:lnTo>
                  <a:lnTo>
                    <a:pt x="0" y="358"/>
                  </a:lnTo>
                  <a:lnTo>
                    <a:pt x="526" y="0"/>
                  </a:lnTo>
                  <a:lnTo>
                    <a:pt x="571" y="218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 rot="1020000">
              <a:off x="6605280" y="-133200"/>
              <a:ext cx="1360800" cy="1455840"/>
            </a:xfrm>
            <a:custGeom>
              <a:avLst/>
              <a:gdLst>
                <a:gd name="textAreaLeft" fmla="*/ 0 w 1360800"/>
                <a:gd name="textAreaRight" fmla="*/ 1361160 w 1360800"/>
                <a:gd name="textAreaTop" fmla="*/ 0 h 1455840"/>
                <a:gd name="textAreaBottom" fmla="*/ 1456200 h 1455840"/>
              </a:gdLst>
              <a:ahLst/>
              <a:rect l="textAreaLeft" t="textAreaTop" r="textAreaRight" b="textAreaBottom"/>
              <a:pathLst>
                <a:path w="1148" h="1152">
                  <a:moveTo>
                    <a:pt x="0" y="270"/>
                  </a:moveTo>
                  <a:lnTo>
                    <a:pt x="318" y="1152"/>
                  </a:lnTo>
                  <a:lnTo>
                    <a:pt x="318" y="1147"/>
                  </a:lnTo>
                  <a:lnTo>
                    <a:pt x="321" y="1140"/>
                  </a:lnTo>
                  <a:lnTo>
                    <a:pt x="323" y="1133"/>
                  </a:lnTo>
                  <a:lnTo>
                    <a:pt x="326" y="1128"/>
                  </a:lnTo>
                  <a:lnTo>
                    <a:pt x="330" y="1121"/>
                  </a:lnTo>
                  <a:lnTo>
                    <a:pt x="335" y="1114"/>
                  </a:lnTo>
                  <a:lnTo>
                    <a:pt x="337" y="1102"/>
                  </a:lnTo>
                  <a:lnTo>
                    <a:pt x="342" y="1095"/>
                  </a:lnTo>
                  <a:lnTo>
                    <a:pt x="347" y="1086"/>
                  </a:lnTo>
                  <a:lnTo>
                    <a:pt x="352" y="1074"/>
                  </a:lnTo>
                  <a:lnTo>
                    <a:pt x="356" y="1062"/>
                  </a:lnTo>
                  <a:lnTo>
                    <a:pt x="364" y="1052"/>
                  </a:lnTo>
                  <a:lnTo>
                    <a:pt x="371" y="1040"/>
                  </a:lnTo>
                  <a:lnTo>
                    <a:pt x="380" y="1029"/>
                  </a:lnTo>
                  <a:lnTo>
                    <a:pt x="385" y="1014"/>
                  </a:lnTo>
                  <a:lnTo>
                    <a:pt x="392" y="1002"/>
                  </a:lnTo>
                  <a:lnTo>
                    <a:pt x="402" y="991"/>
                  </a:lnTo>
                  <a:lnTo>
                    <a:pt x="411" y="979"/>
                  </a:lnTo>
                  <a:lnTo>
                    <a:pt x="418" y="964"/>
                  </a:lnTo>
                  <a:lnTo>
                    <a:pt x="425" y="953"/>
                  </a:lnTo>
                  <a:lnTo>
                    <a:pt x="435" y="941"/>
                  </a:lnTo>
                  <a:lnTo>
                    <a:pt x="444" y="931"/>
                  </a:lnTo>
                  <a:lnTo>
                    <a:pt x="454" y="917"/>
                  </a:lnTo>
                  <a:lnTo>
                    <a:pt x="461" y="907"/>
                  </a:lnTo>
                  <a:lnTo>
                    <a:pt x="473" y="898"/>
                  </a:lnTo>
                  <a:lnTo>
                    <a:pt x="482" y="888"/>
                  </a:lnTo>
                  <a:lnTo>
                    <a:pt x="492" y="881"/>
                  </a:lnTo>
                  <a:lnTo>
                    <a:pt x="504" y="874"/>
                  </a:lnTo>
                  <a:lnTo>
                    <a:pt x="513" y="867"/>
                  </a:lnTo>
                  <a:lnTo>
                    <a:pt x="525" y="862"/>
                  </a:lnTo>
                  <a:lnTo>
                    <a:pt x="535" y="855"/>
                  </a:lnTo>
                  <a:lnTo>
                    <a:pt x="544" y="850"/>
                  </a:lnTo>
                  <a:lnTo>
                    <a:pt x="556" y="848"/>
                  </a:lnTo>
                  <a:lnTo>
                    <a:pt x="565" y="848"/>
                  </a:lnTo>
                  <a:lnTo>
                    <a:pt x="577" y="843"/>
                  </a:lnTo>
                  <a:lnTo>
                    <a:pt x="587" y="843"/>
                  </a:lnTo>
                  <a:lnTo>
                    <a:pt x="599" y="843"/>
                  </a:lnTo>
                  <a:lnTo>
                    <a:pt x="611" y="848"/>
                  </a:lnTo>
                  <a:lnTo>
                    <a:pt x="620" y="848"/>
                  </a:lnTo>
                  <a:lnTo>
                    <a:pt x="630" y="850"/>
                  </a:lnTo>
                  <a:lnTo>
                    <a:pt x="639" y="850"/>
                  </a:lnTo>
                  <a:lnTo>
                    <a:pt x="651" y="855"/>
                  </a:lnTo>
                  <a:lnTo>
                    <a:pt x="661" y="860"/>
                  </a:lnTo>
                  <a:lnTo>
                    <a:pt x="672" y="862"/>
                  </a:lnTo>
                  <a:lnTo>
                    <a:pt x="682" y="867"/>
                  </a:lnTo>
                  <a:lnTo>
                    <a:pt x="694" y="872"/>
                  </a:lnTo>
                  <a:lnTo>
                    <a:pt x="701" y="874"/>
                  </a:lnTo>
                  <a:lnTo>
                    <a:pt x="710" y="879"/>
                  </a:lnTo>
                  <a:lnTo>
                    <a:pt x="720" y="884"/>
                  </a:lnTo>
                  <a:lnTo>
                    <a:pt x="727" y="888"/>
                  </a:lnTo>
                  <a:lnTo>
                    <a:pt x="734" y="891"/>
                  </a:lnTo>
                  <a:lnTo>
                    <a:pt x="744" y="895"/>
                  </a:lnTo>
                  <a:lnTo>
                    <a:pt x="751" y="900"/>
                  </a:lnTo>
                  <a:lnTo>
                    <a:pt x="758" y="905"/>
                  </a:lnTo>
                  <a:lnTo>
                    <a:pt x="770" y="910"/>
                  </a:lnTo>
                  <a:lnTo>
                    <a:pt x="784" y="917"/>
                  </a:lnTo>
                  <a:lnTo>
                    <a:pt x="794" y="919"/>
                  </a:lnTo>
                  <a:lnTo>
                    <a:pt x="803" y="922"/>
                  </a:lnTo>
                  <a:lnTo>
                    <a:pt x="805" y="917"/>
                  </a:lnTo>
                  <a:lnTo>
                    <a:pt x="810" y="914"/>
                  </a:lnTo>
                  <a:lnTo>
                    <a:pt x="813" y="905"/>
                  </a:lnTo>
                  <a:lnTo>
                    <a:pt x="813" y="898"/>
                  </a:lnTo>
                  <a:lnTo>
                    <a:pt x="813" y="886"/>
                  </a:lnTo>
                  <a:lnTo>
                    <a:pt x="813" y="874"/>
                  </a:lnTo>
                  <a:lnTo>
                    <a:pt x="813" y="860"/>
                  </a:lnTo>
                  <a:lnTo>
                    <a:pt x="813" y="848"/>
                  </a:lnTo>
                  <a:lnTo>
                    <a:pt x="813" y="838"/>
                  </a:lnTo>
                  <a:lnTo>
                    <a:pt x="813" y="831"/>
                  </a:lnTo>
                  <a:lnTo>
                    <a:pt x="813" y="822"/>
                  </a:lnTo>
                  <a:lnTo>
                    <a:pt x="813" y="815"/>
                  </a:lnTo>
                  <a:lnTo>
                    <a:pt x="815" y="800"/>
                  </a:lnTo>
                  <a:lnTo>
                    <a:pt x="820" y="786"/>
                  </a:lnTo>
                  <a:lnTo>
                    <a:pt x="824" y="770"/>
                  </a:lnTo>
                  <a:lnTo>
                    <a:pt x="834" y="755"/>
                  </a:lnTo>
                  <a:lnTo>
                    <a:pt x="843" y="741"/>
                  </a:lnTo>
                  <a:lnTo>
                    <a:pt x="858" y="732"/>
                  </a:lnTo>
                  <a:lnTo>
                    <a:pt x="865" y="724"/>
                  </a:lnTo>
                  <a:lnTo>
                    <a:pt x="872" y="720"/>
                  </a:lnTo>
                  <a:lnTo>
                    <a:pt x="881" y="715"/>
                  </a:lnTo>
                  <a:lnTo>
                    <a:pt x="891" y="710"/>
                  </a:lnTo>
                  <a:lnTo>
                    <a:pt x="900" y="705"/>
                  </a:lnTo>
                  <a:lnTo>
                    <a:pt x="912" y="701"/>
                  </a:lnTo>
                  <a:lnTo>
                    <a:pt x="922" y="698"/>
                  </a:lnTo>
                  <a:lnTo>
                    <a:pt x="936" y="698"/>
                  </a:lnTo>
                  <a:lnTo>
                    <a:pt x="946" y="693"/>
                  </a:lnTo>
                  <a:lnTo>
                    <a:pt x="958" y="691"/>
                  </a:lnTo>
                  <a:lnTo>
                    <a:pt x="969" y="686"/>
                  </a:lnTo>
                  <a:lnTo>
                    <a:pt x="984" y="686"/>
                  </a:lnTo>
                  <a:lnTo>
                    <a:pt x="996" y="684"/>
                  </a:lnTo>
                  <a:lnTo>
                    <a:pt x="1007" y="682"/>
                  </a:lnTo>
                  <a:lnTo>
                    <a:pt x="1019" y="679"/>
                  </a:lnTo>
                  <a:lnTo>
                    <a:pt x="1031" y="679"/>
                  </a:lnTo>
                  <a:lnTo>
                    <a:pt x="1043" y="677"/>
                  </a:lnTo>
                  <a:lnTo>
                    <a:pt x="1053" y="677"/>
                  </a:lnTo>
                  <a:lnTo>
                    <a:pt x="1064" y="674"/>
                  </a:lnTo>
                  <a:lnTo>
                    <a:pt x="1076" y="674"/>
                  </a:lnTo>
                  <a:lnTo>
                    <a:pt x="1086" y="674"/>
                  </a:lnTo>
                  <a:lnTo>
                    <a:pt x="1095" y="674"/>
                  </a:lnTo>
                  <a:lnTo>
                    <a:pt x="1105" y="674"/>
                  </a:lnTo>
                  <a:lnTo>
                    <a:pt x="1114" y="674"/>
                  </a:lnTo>
                  <a:lnTo>
                    <a:pt x="1126" y="672"/>
                  </a:lnTo>
                  <a:lnTo>
                    <a:pt x="1138" y="672"/>
                  </a:lnTo>
                  <a:lnTo>
                    <a:pt x="1145" y="672"/>
                  </a:lnTo>
                  <a:lnTo>
                    <a:pt x="1148" y="674"/>
                  </a:lnTo>
                  <a:lnTo>
                    <a:pt x="425" y="0"/>
                  </a:lnTo>
                  <a:lnTo>
                    <a:pt x="304" y="109"/>
                  </a:lnTo>
                  <a:lnTo>
                    <a:pt x="836" y="570"/>
                  </a:lnTo>
                  <a:lnTo>
                    <a:pt x="832" y="570"/>
                  </a:lnTo>
                  <a:lnTo>
                    <a:pt x="820" y="572"/>
                  </a:lnTo>
                  <a:lnTo>
                    <a:pt x="810" y="572"/>
                  </a:lnTo>
                  <a:lnTo>
                    <a:pt x="803" y="575"/>
                  </a:lnTo>
                  <a:lnTo>
                    <a:pt x="796" y="575"/>
                  </a:lnTo>
                  <a:lnTo>
                    <a:pt x="789" y="579"/>
                  </a:lnTo>
                  <a:lnTo>
                    <a:pt x="777" y="582"/>
                  </a:lnTo>
                  <a:lnTo>
                    <a:pt x="767" y="587"/>
                  </a:lnTo>
                  <a:lnTo>
                    <a:pt x="758" y="589"/>
                  </a:lnTo>
                  <a:lnTo>
                    <a:pt x="748" y="594"/>
                  </a:lnTo>
                  <a:lnTo>
                    <a:pt x="739" y="598"/>
                  </a:lnTo>
                  <a:lnTo>
                    <a:pt x="732" y="606"/>
                  </a:lnTo>
                  <a:lnTo>
                    <a:pt x="722" y="613"/>
                  </a:lnTo>
                  <a:lnTo>
                    <a:pt x="720" y="622"/>
                  </a:lnTo>
                  <a:lnTo>
                    <a:pt x="713" y="629"/>
                  </a:lnTo>
                  <a:lnTo>
                    <a:pt x="710" y="636"/>
                  </a:lnTo>
                  <a:lnTo>
                    <a:pt x="706" y="646"/>
                  </a:lnTo>
                  <a:lnTo>
                    <a:pt x="706" y="655"/>
                  </a:lnTo>
                  <a:lnTo>
                    <a:pt x="703" y="665"/>
                  </a:lnTo>
                  <a:lnTo>
                    <a:pt x="703" y="674"/>
                  </a:lnTo>
                  <a:lnTo>
                    <a:pt x="703" y="684"/>
                  </a:lnTo>
                  <a:lnTo>
                    <a:pt x="703" y="693"/>
                  </a:lnTo>
                  <a:lnTo>
                    <a:pt x="703" y="701"/>
                  </a:lnTo>
                  <a:lnTo>
                    <a:pt x="701" y="708"/>
                  </a:lnTo>
                  <a:lnTo>
                    <a:pt x="701" y="712"/>
                  </a:lnTo>
                  <a:lnTo>
                    <a:pt x="699" y="720"/>
                  </a:lnTo>
                  <a:lnTo>
                    <a:pt x="689" y="727"/>
                  </a:lnTo>
                  <a:lnTo>
                    <a:pt x="680" y="727"/>
                  </a:lnTo>
                  <a:lnTo>
                    <a:pt x="668" y="724"/>
                  </a:lnTo>
                  <a:lnTo>
                    <a:pt x="658" y="720"/>
                  </a:lnTo>
                  <a:lnTo>
                    <a:pt x="644" y="712"/>
                  </a:lnTo>
                  <a:lnTo>
                    <a:pt x="632" y="705"/>
                  </a:lnTo>
                  <a:lnTo>
                    <a:pt x="618" y="698"/>
                  </a:lnTo>
                  <a:lnTo>
                    <a:pt x="603" y="691"/>
                  </a:lnTo>
                  <a:lnTo>
                    <a:pt x="587" y="684"/>
                  </a:lnTo>
                  <a:lnTo>
                    <a:pt x="573" y="677"/>
                  </a:lnTo>
                  <a:lnTo>
                    <a:pt x="563" y="672"/>
                  </a:lnTo>
                  <a:lnTo>
                    <a:pt x="556" y="667"/>
                  </a:lnTo>
                  <a:lnTo>
                    <a:pt x="546" y="665"/>
                  </a:lnTo>
                  <a:lnTo>
                    <a:pt x="539" y="663"/>
                  </a:lnTo>
                  <a:lnTo>
                    <a:pt x="530" y="658"/>
                  </a:lnTo>
                  <a:lnTo>
                    <a:pt x="523" y="658"/>
                  </a:lnTo>
                  <a:lnTo>
                    <a:pt x="513" y="655"/>
                  </a:lnTo>
                  <a:lnTo>
                    <a:pt x="506" y="655"/>
                  </a:lnTo>
                  <a:lnTo>
                    <a:pt x="497" y="653"/>
                  </a:lnTo>
                  <a:lnTo>
                    <a:pt x="489" y="653"/>
                  </a:lnTo>
                  <a:lnTo>
                    <a:pt x="482" y="653"/>
                  </a:lnTo>
                  <a:lnTo>
                    <a:pt x="475" y="655"/>
                  </a:lnTo>
                  <a:lnTo>
                    <a:pt x="461" y="658"/>
                  </a:lnTo>
                  <a:lnTo>
                    <a:pt x="447" y="665"/>
                  </a:lnTo>
                  <a:lnTo>
                    <a:pt x="432" y="672"/>
                  </a:lnTo>
                  <a:lnTo>
                    <a:pt x="421" y="684"/>
                  </a:lnTo>
                  <a:lnTo>
                    <a:pt x="416" y="691"/>
                  </a:lnTo>
                  <a:lnTo>
                    <a:pt x="411" y="698"/>
                  </a:lnTo>
                  <a:lnTo>
                    <a:pt x="406" y="705"/>
                  </a:lnTo>
                  <a:lnTo>
                    <a:pt x="402" y="715"/>
                  </a:lnTo>
                  <a:lnTo>
                    <a:pt x="397" y="724"/>
                  </a:lnTo>
                  <a:lnTo>
                    <a:pt x="392" y="732"/>
                  </a:lnTo>
                  <a:lnTo>
                    <a:pt x="387" y="741"/>
                  </a:lnTo>
                  <a:lnTo>
                    <a:pt x="385" y="751"/>
                  </a:lnTo>
                  <a:lnTo>
                    <a:pt x="380" y="760"/>
                  </a:lnTo>
                  <a:lnTo>
                    <a:pt x="378" y="767"/>
                  </a:lnTo>
                  <a:lnTo>
                    <a:pt x="375" y="779"/>
                  </a:lnTo>
                  <a:lnTo>
                    <a:pt x="373" y="789"/>
                  </a:lnTo>
                  <a:lnTo>
                    <a:pt x="371" y="796"/>
                  </a:lnTo>
                  <a:lnTo>
                    <a:pt x="368" y="805"/>
                  </a:lnTo>
                  <a:lnTo>
                    <a:pt x="366" y="815"/>
                  </a:lnTo>
                  <a:lnTo>
                    <a:pt x="364" y="822"/>
                  </a:lnTo>
                  <a:lnTo>
                    <a:pt x="361" y="829"/>
                  </a:lnTo>
                  <a:lnTo>
                    <a:pt x="359" y="838"/>
                  </a:lnTo>
                  <a:lnTo>
                    <a:pt x="359" y="846"/>
                  </a:lnTo>
                  <a:lnTo>
                    <a:pt x="359" y="853"/>
                  </a:lnTo>
                  <a:lnTo>
                    <a:pt x="356" y="865"/>
                  </a:lnTo>
                  <a:lnTo>
                    <a:pt x="354" y="874"/>
                  </a:lnTo>
                  <a:lnTo>
                    <a:pt x="354" y="879"/>
                  </a:lnTo>
                  <a:lnTo>
                    <a:pt x="354" y="881"/>
                  </a:lnTo>
                  <a:lnTo>
                    <a:pt x="131" y="247"/>
                  </a:lnTo>
                  <a:lnTo>
                    <a:pt x="62" y="202"/>
                  </a:lnTo>
                  <a:lnTo>
                    <a:pt x="0" y="2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20"/>
            <p:cNvSpPr/>
            <p:nvPr/>
          </p:nvSpPr>
          <p:spPr>
            <a:xfrm rot="1020000">
              <a:off x="6706080" y="-541440"/>
              <a:ext cx="603360" cy="62136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621360"/>
                <a:gd name="textAreaBottom" fmla="*/ 621720 h 621360"/>
              </a:gdLst>
              <a:ahLst/>
              <a:rect l="textAreaLeft" t="textAreaTop" r="textAreaRight" b="textAreaBottom"/>
              <a:pathLst>
                <a:path w="513" h="494">
                  <a:moveTo>
                    <a:pt x="88" y="494"/>
                  </a:moveTo>
                  <a:lnTo>
                    <a:pt x="88" y="492"/>
                  </a:lnTo>
                  <a:lnTo>
                    <a:pt x="83" y="487"/>
                  </a:lnTo>
                  <a:lnTo>
                    <a:pt x="79" y="480"/>
                  </a:lnTo>
                  <a:lnTo>
                    <a:pt x="74" y="473"/>
                  </a:lnTo>
                  <a:lnTo>
                    <a:pt x="67" y="461"/>
                  </a:lnTo>
                  <a:lnTo>
                    <a:pt x="59" y="449"/>
                  </a:lnTo>
                  <a:lnTo>
                    <a:pt x="55" y="442"/>
                  </a:lnTo>
                  <a:lnTo>
                    <a:pt x="52" y="433"/>
                  </a:lnTo>
                  <a:lnTo>
                    <a:pt x="48" y="426"/>
                  </a:lnTo>
                  <a:lnTo>
                    <a:pt x="45" y="418"/>
                  </a:lnTo>
                  <a:lnTo>
                    <a:pt x="40" y="409"/>
                  </a:lnTo>
                  <a:lnTo>
                    <a:pt x="38" y="399"/>
                  </a:lnTo>
                  <a:lnTo>
                    <a:pt x="33" y="390"/>
                  </a:lnTo>
                  <a:lnTo>
                    <a:pt x="29" y="378"/>
                  </a:lnTo>
                  <a:lnTo>
                    <a:pt x="24" y="369"/>
                  </a:lnTo>
                  <a:lnTo>
                    <a:pt x="21" y="357"/>
                  </a:lnTo>
                  <a:lnTo>
                    <a:pt x="19" y="347"/>
                  </a:lnTo>
                  <a:lnTo>
                    <a:pt x="14" y="338"/>
                  </a:lnTo>
                  <a:lnTo>
                    <a:pt x="12" y="323"/>
                  </a:lnTo>
                  <a:lnTo>
                    <a:pt x="7" y="314"/>
                  </a:lnTo>
                  <a:lnTo>
                    <a:pt x="5" y="302"/>
                  </a:lnTo>
                  <a:lnTo>
                    <a:pt x="5" y="290"/>
                  </a:lnTo>
                  <a:lnTo>
                    <a:pt x="2" y="278"/>
                  </a:lnTo>
                  <a:lnTo>
                    <a:pt x="0" y="264"/>
                  </a:lnTo>
                  <a:lnTo>
                    <a:pt x="0" y="252"/>
                  </a:lnTo>
                  <a:lnTo>
                    <a:pt x="0" y="240"/>
                  </a:lnTo>
                  <a:lnTo>
                    <a:pt x="0" y="226"/>
                  </a:lnTo>
                  <a:lnTo>
                    <a:pt x="0" y="214"/>
                  </a:lnTo>
                  <a:lnTo>
                    <a:pt x="2" y="200"/>
                  </a:lnTo>
                  <a:lnTo>
                    <a:pt x="5" y="188"/>
                  </a:lnTo>
                  <a:lnTo>
                    <a:pt x="7" y="176"/>
                  </a:lnTo>
                  <a:lnTo>
                    <a:pt x="10" y="162"/>
                  </a:lnTo>
                  <a:lnTo>
                    <a:pt x="14" y="150"/>
                  </a:lnTo>
                  <a:lnTo>
                    <a:pt x="19" y="140"/>
                  </a:lnTo>
                  <a:lnTo>
                    <a:pt x="21" y="128"/>
                  </a:lnTo>
                  <a:lnTo>
                    <a:pt x="26" y="117"/>
                  </a:lnTo>
                  <a:lnTo>
                    <a:pt x="31" y="105"/>
                  </a:lnTo>
                  <a:lnTo>
                    <a:pt x="38" y="95"/>
                  </a:lnTo>
                  <a:lnTo>
                    <a:pt x="43" y="86"/>
                  </a:lnTo>
                  <a:lnTo>
                    <a:pt x="50" y="76"/>
                  </a:lnTo>
                  <a:lnTo>
                    <a:pt x="57" y="67"/>
                  </a:lnTo>
                  <a:lnTo>
                    <a:pt x="67" y="60"/>
                  </a:lnTo>
                  <a:lnTo>
                    <a:pt x="74" y="50"/>
                  </a:lnTo>
                  <a:lnTo>
                    <a:pt x="81" y="43"/>
                  </a:lnTo>
                  <a:lnTo>
                    <a:pt x="88" y="36"/>
                  </a:lnTo>
                  <a:lnTo>
                    <a:pt x="98" y="29"/>
                  </a:lnTo>
                  <a:lnTo>
                    <a:pt x="107" y="22"/>
                  </a:lnTo>
                  <a:lnTo>
                    <a:pt x="114" y="17"/>
                  </a:lnTo>
                  <a:lnTo>
                    <a:pt x="124" y="12"/>
                  </a:lnTo>
                  <a:lnTo>
                    <a:pt x="136" y="10"/>
                  </a:lnTo>
                  <a:lnTo>
                    <a:pt x="145" y="5"/>
                  </a:lnTo>
                  <a:lnTo>
                    <a:pt x="157" y="3"/>
                  </a:lnTo>
                  <a:lnTo>
                    <a:pt x="166" y="0"/>
                  </a:lnTo>
                  <a:lnTo>
                    <a:pt x="178" y="0"/>
                  </a:lnTo>
                  <a:lnTo>
                    <a:pt x="190" y="0"/>
                  </a:lnTo>
                  <a:lnTo>
                    <a:pt x="200" y="0"/>
                  </a:lnTo>
                  <a:lnTo>
                    <a:pt x="212" y="3"/>
                  </a:lnTo>
                  <a:lnTo>
                    <a:pt x="226" y="7"/>
                  </a:lnTo>
                  <a:lnTo>
                    <a:pt x="238" y="7"/>
                  </a:lnTo>
                  <a:lnTo>
                    <a:pt x="247" y="12"/>
                  </a:lnTo>
                  <a:lnTo>
                    <a:pt x="261" y="17"/>
                  </a:lnTo>
                  <a:lnTo>
                    <a:pt x="273" y="24"/>
                  </a:lnTo>
                  <a:lnTo>
                    <a:pt x="285" y="29"/>
                  </a:lnTo>
                  <a:lnTo>
                    <a:pt x="299" y="36"/>
                  </a:lnTo>
                  <a:lnTo>
                    <a:pt x="311" y="45"/>
                  </a:lnTo>
                  <a:lnTo>
                    <a:pt x="323" y="55"/>
                  </a:lnTo>
                  <a:lnTo>
                    <a:pt x="335" y="62"/>
                  </a:lnTo>
                  <a:lnTo>
                    <a:pt x="347" y="69"/>
                  </a:lnTo>
                  <a:lnTo>
                    <a:pt x="359" y="79"/>
                  </a:lnTo>
                  <a:lnTo>
                    <a:pt x="371" y="88"/>
                  </a:lnTo>
                  <a:lnTo>
                    <a:pt x="383" y="98"/>
                  </a:lnTo>
                  <a:lnTo>
                    <a:pt x="395" y="107"/>
                  </a:lnTo>
                  <a:lnTo>
                    <a:pt x="406" y="117"/>
                  </a:lnTo>
                  <a:lnTo>
                    <a:pt x="418" y="128"/>
                  </a:lnTo>
                  <a:lnTo>
                    <a:pt x="425" y="136"/>
                  </a:lnTo>
                  <a:lnTo>
                    <a:pt x="437" y="145"/>
                  </a:lnTo>
                  <a:lnTo>
                    <a:pt x="444" y="152"/>
                  </a:lnTo>
                  <a:lnTo>
                    <a:pt x="454" y="162"/>
                  </a:lnTo>
                  <a:lnTo>
                    <a:pt x="461" y="169"/>
                  </a:lnTo>
                  <a:lnTo>
                    <a:pt x="471" y="178"/>
                  </a:lnTo>
                  <a:lnTo>
                    <a:pt x="478" y="186"/>
                  </a:lnTo>
                  <a:lnTo>
                    <a:pt x="485" y="193"/>
                  </a:lnTo>
                  <a:lnTo>
                    <a:pt x="494" y="205"/>
                  </a:lnTo>
                  <a:lnTo>
                    <a:pt x="506" y="214"/>
                  </a:lnTo>
                  <a:lnTo>
                    <a:pt x="509" y="221"/>
                  </a:lnTo>
                  <a:lnTo>
                    <a:pt x="513" y="224"/>
                  </a:lnTo>
                  <a:lnTo>
                    <a:pt x="430" y="333"/>
                  </a:lnTo>
                  <a:lnTo>
                    <a:pt x="425" y="330"/>
                  </a:lnTo>
                  <a:lnTo>
                    <a:pt x="423" y="328"/>
                  </a:lnTo>
                  <a:lnTo>
                    <a:pt x="414" y="321"/>
                  </a:lnTo>
                  <a:lnTo>
                    <a:pt x="406" y="314"/>
                  </a:lnTo>
                  <a:lnTo>
                    <a:pt x="395" y="302"/>
                  </a:lnTo>
                  <a:lnTo>
                    <a:pt x="383" y="292"/>
                  </a:lnTo>
                  <a:lnTo>
                    <a:pt x="368" y="278"/>
                  </a:lnTo>
                  <a:lnTo>
                    <a:pt x="354" y="266"/>
                  </a:lnTo>
                  <a:lnTo>
                    <a:pt x="345" y="259"/>
                  </a:lnTo>
                  <a:lnTo>
                    <a:pt x="337" y="252"/>
                  </a:lnTo>
                  <a:lnTo>
                    <a:pt x="328" y="245"/>
                  </a:lnTo>
                  <a:lnTo>
                    <a:pt x="321" y="238"/>
                  </a:lnTo>
                  <a:lnTo>
                    <a:pt x="311" y="231"/>
                  </a:lnTo>
                  <a:lnTo>
                    <a:pt x="302" y="226"/>
                  </a:lnTo>
                  <a:lnTo>
                    <a:pt x="295" y="219"/>
                  </a:lnTo>
                  <a:lnTo>
                    <a:pt x="288" y="214"/>
                  </a:lnTo>
                  <a:lnTo>
                    <a:pt x="278" y="207"/>
                  </a:lnTo>
                  <a:lnTo>
                    <a:pt x="269" y="200"/>
                  </a:lnTo>
                  <a:lnTo>
                    <a:pt x="261" y="195"/>
                  </a:lnTo>
                  <a:lnTo>
                    <a:pt x="254" y="190"/>
                  </a:lnTo>
                  <a:lnTo>
                    <a:pt x="245" y="186"/>
                  </a:lnTo>
                  <a:lnTo>
                    <a:pt x="238" y="183"/>
                  </a:lnTo>
                  <a:lnTo>
                    <a:pt x="231" y="178"/>
                  </a:lnTo>
                  <a:lnTo>
                    <a:pt x="226" y="176"/>
                  </a:lnTo>
                  <a:lnTo>
                    <a:pt x="209" y="169"/>
                  </a:lnTo>
                  <a:lnTo>
                    <a:pt x="197" y="164"/>
                  </a:lnTo>
                  <a:lnTo>
                    <a:pt x="185" y="164"/>
                  </a:lnTo>
                  <a:lnTo>
                    <a:pt x="178" y="164"/>
                  </a:lnTo>
                  <a:lnTo>
                    <a:pt x="169" y="164"/>
                  </a:lnTo>
                  <a:lnTo>
                    <a:pt x="162" y="169"/>
                  </a:lnTo>
                  <a:lnTo>
                    <a:pt x="157" y="174"/>
                  </a:lnTo>
                  <a:lnTo>
                    <a:pt x="152" y="183"/>
                  </a:lnTo>
                  <a:lnTo>
                    <a:pt x="147" y="190"/>
                  </a:lnTo>
                  <a:lnTo>
                    <a:pt x="145" y="200"/>
                  </a:lnTo>
                  <a:lnTo>
                    <a:pt x="143" y="209"/>
                  </a:lnTo>
                  <a:lnTo>
                    <a:pt x="143" y="224"/>
                  </a:lnTo>
                  <a:lnTo>
                    <a:pt x="143" y="235"/>
                  </a:lnTo>
                  <a:lnTo>
                    <a:pt x="143" y="247"/>
                  </a:lnTo>
                  <a:lnTo>
                    <a:pt x="143" y="254"/>
                  </a:lnTo>
                  <a:lnTo>
                    <a:pt x="145" y="262"/>
                  </a:lnTo>
                  <a:lnTo>
                    <a:pt x="145" y="271"/>
                  </a:lnTo>
                  <a:lnTo>
                    <a:pt x="150" y="281"/>
                  </a:lnTo>
                  <a:lnTo>
                    <a:pt x="150" y="288"/>
                  </a:lnTo>
                  <a:lnTo>
                    <a:pt x="150" y="295"/>
                  </a:lnTo>
                  <a:lnTo>
                    <a:pt x="152" y="302"/>
                  </a:lnTo>
                  <a:lnTo>
                    <a:pt x="155" y="311"/>
                  </a:lnTo>
                  <a:lnTo>
                    <a:pt x="157" y="319"/>
                  </a:lnTo>
                  <a:lnTo>
                    <a:pt x="159" y="328"/>
                  </a:lnTo>
                  <a:lnTo>
                    <a:pt x="159" y="335"/>
                  </a:lnTo>
                  <a:lnTo>
                    <a:pt x="164" y="345"/>
                  </a:lnTo>
                  <a:lnTo>
                    <a:pt x="166" y="352"/>
                  </a:lnTo>
                  <a:lnTo>
                    <a:pt x="169" y="361"/>
                  </a:lnTo>
                  <a:lnTo>
                    <a:pt x="171" y="369"/>
                  </a:lnTo>
                  <a:lnTo>
                    <a:pt x="176" y="376"/>
                  </a:lnTo>
                  <a:lnTo>
                    <a:pt x="183" y="390"/>
                  </a:lnTo>
                  <a:lnTo>
                    <a:pt x="190" y="407"/>
                  </a:lnTo>
                  <a:lnTo>
                    <a:pt x="193" y="418"/>
                  </a:lnTo>
                  <a:lnTo>
                    <a:pt x="200" y="430"/>
                  </a:lnTo>
                  <a:lnTo>
                    <a:pt x="204" y="442"/>
                  </a:lnTo>
                  <a:lnTo>
                    <a:pt x="207" y="452"/>
                  </a:lnTo>
                  <a:lnTo>
                    <a:pt x="212" y="459"/>
                  </a:lnTo>
                  <a:lnTo>
                    <a:pt x="214" y="466"/>
                  </a:lnTo>
                  <a:lnTo>
                    <a:pt x="216" y="468"/>
                  </a:lnTo>
                  <a:lnTo>
                    <a:pt x="219" y="471"/>
                  </a:lnTo>
                  <a:lnTo>
                    <a:pt x="88" y="49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21"/>
            <p:cNvSpPr/>
            <p:nvPr/>
          </p:nvSpPr>
          <p:spPr>
            <a:xfrm rot="1020000">
              <a:off x="6829920" y="-288360"/>
              <a:ext cx="352800" cy="346320"/>
            </a:xfrm>
            <a:custGeom>
              <a:avLst/>
              <a:gdLst>
                <a:gd name="textAreaLeft" fmla="*/ 0 w 352800"/>
                <a:gd name="textAreaRight" fmla="*/ 353160 w 35280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302" h="281">
                  <a:moveTo>
                    <a:pt x="0" y="164"/>
                  </a:moveTo>
                  <a:lnTo>
                    <a:pt x="3" y="164"/>
                  </a:lnTo>
                  <a:lnTo>
                    <a:pt x="15" y="164"/>
                  </a:lnTo>
                  <a:lnTo>
                    <a:pt x="22" y="164"/>
                  </a:lnTo>
                  <a:lnTo>
                    <a:pt x="31" y="164"/>
                  </a:lnTo>
                  <a:lnTo>
                    <a:pt x="41" y="164"/>
                  </a:lnTo>
                  <a:lnTo>
                    <a:pt x="55" y="164"/>
                  </a:lnTo>
                  <a:lnTo>
                    <a:pt x="65" y="162"/>
                  </a:lnTo>
                  <a:lnTo>
                    <a:pt x="76" y="159"/>
                  </a:lnTo>
                  <a:lnTo>
                    <a:pt x="88" y="157"/>
                  </a:lnTo>
                  <a:lnTo>
                    <a:pt x="100" y="155"/>
                  </a:lnTo>
                  <a:lnTo>
                    <a:pt x="112" y="150"/>
                  </a:lnTo>
                  <a:lnTo>
                    <a:pt x="124" y="145"/>
                  </a:lnTo>
                  <a:lnTo>
                    <a:pt x="136" y="138"/>
                  </a:lnTo>
                  <a:lnTo>
                    <a:pt x="148" y="133"/>
                  </a:lnTo>
                  <a:lnTo>
                    <a:pt x="155" y="124"/>
                  </a:lnTo>
                  <a:lnTo>
                    <a:pt x="162" y="114"/>
                  </a:lnTo>
                  <a:lnTo>
                    <a:pt x="171" y="105"/>
                  </a:lnTo>
                  <a:lnTo>
                    <a:pt x="179" y="95"/>
                  </a:lnTo>
                  <a:lnTo>
                    <a:pt x="181" y="83"/>
                  </a:lnTo>
                  <a:lnTo>
                    <a:pt x="188" y="72"/>
                  </a:lnTo>
                  <a:lnTo>
                    <a:pt x="193" y="60"/>
                  </a:lnTo>
                  <a:lnTo>
                    <a:pt x="195" y="50"/>
                  </a:lnTo>
                  <a:lnTo>
                    <a:pt x="198" y="41"/>
                  </a:lnTo>
                  <a:lnTo>
                    <a:pt x="200" y="29"/>
                  </a:lnTo>
                  <a:lnTo>
                    <a:pt x="202" y="22"/>
                  </a:lnTo>
                  <a:lnTo>
                    <a:pt x="205" y="15"/>
                  </a:lnTo>
                  <a:lnTo>
                    <a:pt x="207" y="3"/>
                  </a:lnTo>
                  <a:lnTo>
                    <a:pt x="207" y="0"/>
                  </a:lnTo>
                  <a:lnTo>
                    <a:pt x="302" y="143"/>
                  </a:lnTo>
                  <a:lnTo>
                    <a:pt x="300" y="145"/>
                  </a:lnTo>
                  <a:lnTo>
                    <a:pt x="297" y="152"/>
                  </a:lnTo>
                  <a:lnTo>
                    <a:pt x="293" y="159"/>
                  </a:lnTo>
                  <a:lnTo>
                    <a:pt x="286" y="174"/>
                  </a:lnTo>
                  <a:lnTo>
                    <a:pt x="276" y="186"/>
                  </a:lnTo>
                  <a:lnTo>
                    <a:pt x="267" y="202"/>
                  </a:lnTo>
                  <a:lnTo>
                    <a:pt x="257" y="209"/>
                  </a:lnTo>
                  <a:lnTo>
                    <a:pt x="250" y="217"/>
                  </a:lnTo>
                  <a:lnTo>
                    <a:pt x="243" y="224"/>
                  </a:lnTo>
                  <a:lnTo>
                    <a:pt x="233" y="231"/>
                  </a:lnTo>
                  <a:lnTo>
                    <a:pt x="221" y="236"/>
                  </a:lnTo>
                  <a:lnTo>
                    <a:pt x="209" y="240"/>
                  </a:lnTo>
                  <a:lnTo>
                    <a:pt x="200" y="245"/>
                  </a:lnTo>
                  <a:lnTo>
                    <a:pt x="188" y="252"/>
                  </a:lnTo>
                  <a:lnTo>
                    <a:pt x="174" y="255"/>
                  </a:lnTo>
                  <a:lnTo>
                    <a:pt x="162" y="259"/>
                  </a:lnTo>
                  <a:lnTo>
                    <a:pt x="152" y="264"/>
                  </a:lnTo>
                  <a:lnTo>
                    <a:pt x="141" y="269"/>
                  </a:lnTo>
                  <a:lnTo>
                    <a:pt x="129" y="269"/>
                  </a:lnTo>
                  <a:lnTo>
                    <a:pt x="119" y="274"/>
                  </a:lnTo>
                  <a:lnTo>
                    <a:pt x="110" y="274"/>
                  </a:lnTo>
                  <a:lnTo>
                    <a:pt x="105" y="276"/>
                  </a:lnTo>
                  <a:lnTo>
                    <a:pt x="93" y="281"/>
                  </a:lnTo>
                  <a:lnTo>
                    <a:pt x="91" y="281"/>
                  </a:lnTo>
                  <a:lnTo>
                    <a:pt x="0" y="16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22"/>
            <p:cNvSpPr/>
            <p:nvPr/>
          </p:nvSpPr>
          <p:spPr>
            <a:xfrm rot="1020000">
              <a:off x="4520880" y="-663120"/>
              <a:ext cx="2409840" cy="3760560"/>
            </a:xfrm>
            <a:custGeom>
              <a:avLst/>
              <a:gdLst>
                <a:gd name="textAreaLeft" fmla="*/ 0 w 2409840"/>
                <a:gd name="textAreaRight" fmla="*/ 2410200 w 2409840"/>
                <a:gd name="textAreaTop" fmla="*/ 0 h 3760560"/>
                <a:gd name="textAreaBottom" fmla="*/ 3760920 h 3760560"/>
              </a:gdLst>
              <a:ahLst/>
              <a:rect l="textAreaLeft" t="textAreaTop" r="textAreaRight" b="textAreaBottom"/>
              <a:pathLst>
                <a:path w="2024" h="2966">
                  <a:moveTo>
                    <a:pt x="0" y="438"/>
                  </a:moveTo>
                  <a:lnTo>
                    <a:pt x="1283" y="0"/>
                  </a:lnTo>
                  <a:lnTo>
                    <a:pt x="1280" y="3"/>
                  </a:lnTo>
                  <a:lnTo>
                    <a:pt x="1280" y="12"/>
                  </a:lnTo>
                  <a:lnTo>
                    <a:pt x="1278" y="19"/>
                  </a:lnTo>
                  <a:lnTo>
                    <a:pt x="1278" y="31"/>
                  </a:lnTo>
                  <a:lnTo>
                    <a:pt x="1278" y="41"/>
                  </a:lnTo>
                  <a:lnTo>
                    <a:pt x="1278" y="53"/>
                  </a:lnTo>
                  <a:lnTo>
                    <a:pt x="1275" y="67"/>
                  </a:lnTo>
                  <a:lnTo>
                    <a:pt x="1275" y="81"/>
                  </a:lnTo>
                  <a:lnTo>
                    <a:pt x="1275" y="88"/>
                  </a:lnTo>
                  <a:lnTo>
                    <a:pt x="1273" y="95"/>
                  </a:lnTo>
                  <a:lnTo>
                    <a:pt x="1273" y="105"/>
                  </a:lnTo>
                  <a:lnTo>
                    <a:pt x="1273" y="114"/>
                  </a:lnTo>
                  <a:lnTo>
                    <a:pt x="1271" y="122"/>
                  </a:lnTo>
                  <a:lnTo>
                    <a:pt x="1271" y="131"/>
                  </a:lnTo>
                  <a:lnTo>
                    <a:pt x="1268" y="141"/>
                  </a:lnTo>
                  <a:lnTo>
                    <a:pt x="1268" y="150"/>
                  </a:lnTo>
                  <a:lnTo>
                    <a:pt x="1266" y="160"/>
                  </a:lnTo>
                  <a:lnTo>
                    <a:pt x="1264" y="171"/>
                  </a:lnTo>
                  <a:lnTo>
                    <a:pt x="1264" y="181"/>
                  </a:lnTo>
                  <a:lnTo>
                    <a:pt x="1264" y="193"/>
                  </a:lnTo>
                  <a:lnTo>
                    <a:pt x="1261" y="202"/>
                  </a:lnTo>
                  <a:lnTo>
                    <a:pt x="1259" y="212"/>
                  </a:lnTo>
                  <a:lnTo>
                    <a:pt x="1256" y="224"/>
                  </a:lnTo>
                  <a:lnTo>
                    <a:pt x="1254" y="236"/>
                  </a:lnTo>
                  <a:lnTo>
                    <a:pt x="1252" y="245"/>
                  </a:lnTo>
                  <a:lnTo>
                    <a:pt x="1249" y="257"/>
                  </a:lnTo>
                  <a:lnTo>
                    <a:pt x="1247" y="269"/>
                  </a:lnTo>
                  <a:lnTo>
                    <a:pt x="1245" y="283"/>
                  </a:lnTo>
                  <a:lnTo>
                    <a:pt x="1242" y="293"/>
                  </a:lnTo>
                  <a:lnTo>
                    <a:pt x="1237" y="305"/>
                  </a:lnTo>
                  <a:lnTo>
                    <a:pt x="1235" y="316"/>
                  </a:lnTo>
                  <a:lnTo>
                    <a:pt x="1233" y="328"/>
                  </a:lnTo>
                  <a:lnTo>
                    <a:pt x="1228" y="343"/>
                  </a:lnTo>
                  <a:lnTo>
                    <a:pt x="1226" y="354"/>
                  </a:lnTo>
                  <a:lnTo>
                    <a:pt x="1223" y="369"/>
                  </a:lnTo>
                  <a:lnTo>
                    <a:pt x="1221" y="381"/>
                  </a:lnTo>
                  <a:lnTo>
                    <a:pt x="1214" y="392"/>
                  </a:lnTo>
                  <a:lnTo>
                    <a:pt x="1209" y="407"/>
                  </a:lnTo>
                  <a:lnTo>
                    <a:pt x="1207" y="416"/>
                  </a:lnTo>
                  <a:lnTo>
                    <a:pt x="1202" y="431"/>
                  </a:lnTo>
                  <a:lnTo>
                    <a:pt x="1195" y="442"/>
                  </a:lnTo>
                  <a:lnTo>
                    <a:pt x="1190" y="457"/>
                  </a:lnTo>
                  <a:lnTo>
                    <a:pt x="1187" y="469"/>
                  </a:lnTo>
                  <a:lnTo>
                    <a:pt x="1183" y="483"/>
                  </a:lnTo>
                  <a:lnTo>
                    <a:pt x="1176" y="492"/>
                  </a:lnTo>
                  <a:lnTo>
                    <a:pt x="1171" y="507"/>
                  </a:lnTo>
                  <a:lnTo>
                    <a:pt x="1164" y="518"/>
                  </a:lnTo>
                  <a:lnTo>
                    <a:pt x="1159" y="533"/>
                  </a:lnTo>
                  <a:lnTo>
                    <a:pt x="1152" y="545"/>
                  </a:lnTo>
                  <a:lnTo>
                    <a:pt x="1147" y="556"/>
                  </a:lnTo>
                  <a:lnTo>
                    <a:pt x="1140" y="571"/>
                  </a:lnTo>
                  <a:lnTo>
                    <a:pt x="1133" y="583"/>
                  </a:lnTo>
                  <a:lnTo>
                    <a:pt x="1126" y="595"/>
                  </a:lnTo>
                  <a:lnTo>
                    <a:pt x="1119" y="606"/>
                  </a:lnTo>
                  <a:lnTo>
                    <a:pt x="1111" y="618"/>
                  </a:lnTo>
                  <a:lnTo>
                    <a:pt x="1107" y="628"/>
                  </a:lnTo>
                  <a:lnTo>
                    <a:pt x="1100" y="640"/>
                  </a:lnTo>
                  <a:lnTo>
                    <a:pt x="1092" y="652"/>
                  </a:lnTo>
                  <a:lnTo>
                    <a:pt x="1090" y="663"/>
                  </a:lnTo>
                  <a:lnTo>
                    <a:pt x="1085" y="675"/>
                  </a:lnTo>
                  <a:lnTo>
                    <a:pt x="1078" y="685"/>
                  </a:lnTo>
                  <a:lnTo>
                    <a:pt x="1073" y="697"/>
                  </a:lnTo>
                  <a:lnTo>
                    <a:pt x="1069" y="706"/>
                  </a:lnTo>
                  <a:lnTo>
                    <a:pt x="1066" y="718"/>
                  </a:lnTo>
                  <a:lnTo>
                    <a:pt x="1062" y="728"/>
                  </a:lnTo>
                  <a:lnTo>
                    <a:pt x="1057" y="739"/>
                  </a:lnTo>
                  <a:lnTo>
                    <a:pt x="1054" y="749"/>
                  </a:lnTo>
                  <a:lnTo>
                    <a:pt x="1052" y="761"/>
                  </a:lnTo>
                  <a:lnTo>
                    <a:pt x="1047" y="770"/>
                  </a:lnTo>
                  <a:lnTo>
                    <a:pt x="1045" y="780"/>
                  </a:lnTo>
                  <a:lnTo>
                    <a:pt x="1043" y="789"/>
                  </a:lnTo>
                  <a:lnTo>
                    <a:pt x="1040" y="799"/>
                  </a:lnTo>
                  <a:lnTo>
                    <a:pt x="1035" y="808"/>
                  </a:lnTo>
                  <a:lnTo>
                    <a:pt x="1035" y="818"/>
                  </a:lnTo>
                  <a:lnTo>
                    <a:pt x="1033" y="830"/>
                  </a:lnTo>
                  <a:lnTo>
                    <a:pt x="1033" y="839"/>
                  </a:lnTo>
                  <a:lnTo>
                    <a:pt x="1031" y="846"/>
                  </a:lnTo>
                  <a:lnTo>
                    <a:pt x="1028" y="856"/>
                  </a:lnTo>
                  <a:lnTo>
                    <a:pt x="1028" y="865"/>
                  </a:lnTo>
                  <a:lnTo>
                    <a:pt x="1028" y="873"/>
                  </a:lnTo>
                  <a:lnTo>
                    <a:pt x="1028" y="882"/>
                  </a:lnTo>
                  <a:lnTo>
                    <a:pt x="1028" y="892"/>
                  </a:lnTo>
                  <a:lnTo>
                    <a:pt x="1028" y="899"/>
                  </a:lnTo>
                  <a:lnTo>
                    <a:pt x="1028" y="908"/>
                  </a:lnTo>
                  <a:lnTo>
                    <a:pt x="1028" y="915"/>
                  </a:lnTo>
                  <a:lnTo>
                    <a:pt x="1028" y="925"/>
                  </a:lnTo>
                  <a:lnTo>
                    <a:pt x="1028" y="932"/>
                  </a:lnTo>
                  <a:lnTo>
                    <a:pt x="1031" y="941"/>
                  </a:lnTo>
                  <a:lnTo>
                    <a:pt x="1031" y="956"/>
                  </a:lnTo>
                  <a:lnTo>
                    <a:pt x="1035" y="970"/>
                  </a:lnTo>
                  <a:lnTo>
                    <a:pt x="1038" y="987"/>
                  </a:lnTo>
                  <a:lnTo>
                    <a:pt x="1043" y="1001"/>
                  </a:lnTo>
                  <a:lnTo>
                    <a:pt x="1050" y="1013"/>
                  </a:lnTo>
                  <a:lnTo>
                    <a:pt x="1057" y="1027"/>
                  </a:lnTo>
                  <a:lnTo>
                    <a:pt x="1062" y="1039"/>
                  </a:lnTo>
                  <a:lnTo>
                    <a:pt x="1069" y="1051"/>
                  </a:lnTo>
                  <a:lnTo>
                    <a:pt x="1078" y="1063"/>
                  </a:lnTo>
                  <a:lnTo>
                    <a:pt x="1085" y="1075"/>
                  </a:lnTo>
                  <a:lnTo>
                    <a:pt x="1095" y="1084"/>
                  </a:lnTo>
                  <a:lnTo>
                    <a:pt x="1104" y="1096"/>
                  </a:lnTo>
                  <a:lnTo>
                    <a:pt x="1114" y="1105"/>
                  </a:lnTo>
                  <a:lnTo>
                    <a:pt x="1128" y="1117"/>
                  </a:lnTo>
                  <a:lnTo>
                    <a:pt x="1138" y="1124"/>
                  </a:lnTo>
                  <a:lnTo>
                    <a:pt x="1149" y="1134"/>
                  </a:lnTo>
                  <a:lnTo>
                    <a:pt x="1161" y="1141"/>
                  </a:lnTo>
                  <a:lnTo>
                    <a:pt x="1176" y="1151"/>
                  </a:lnTo>
                  <a:lnTo>
                    <a:pt x="1187" y="1158"/>
                  </a:lnTo>
                  <a:lnTo>
                    <a:pt x="1202" y="1165"/>
                  </a:lnTo>
                  <a:lnTo>
                    <a:pt x="1216" y="1172"/>
                  </a:lnTo>
                  <a:lnTo>
                    <a:pt x="1230" y="1181"/>
                  </a:lnTo>
                  <a:lnTo>
                    <a:pt x="1245" y="1186"/>
                  </a:lnTo>
                  <a:lnTo>
                    <a:pt x="1261" y="1193"/>
                  </a:lnTo>
                  <a:lnTo>
                    <a:pt x="1268" y="1196"/>
                  </a:lnTo>
                  <a:lnTo>
                    <a:pt x="1275" y="1201"/>
                  </a:lnTo>
                  <a:lnTo>
                    <a:pt x="1285" y="1205"/>
                  </a:lnTo>
                  <a:lnTo>
                    <a:pt x="1292" y="1208"/>
                  </a:lnTo>
                  <a:lnTo>
                    <a:pt x="1306" y="1215"/>
                  </a:lnTo>
                  <a:lnTo>
                    <a:pt x="1323" y="1222"/>
                  </a:lnTo>
                  <a:lnTo>
                    <a:pt x="1330" y="1224"/>
                  </a:lnTo>
                  <a:lnTo>
                    <a:pt x="1340" y="1227"/>
                  </a:lnTo>
                  <a:lnTo>
                    <a:pt x="1347" y="1231"/>
                  </a:lnTo>
                  <a:lnTo>
                    <a:pt x="1356" y="1236"/>
                  </a:lnTo>
                  <a:lnTo>
                    <a:pt x="1370" y="1241"/>
                  </a:lnTo>
                  <a:lnTo>
                    <a:pt x="1387" y="1248"/>
                  </a:lnTo>
                  <a:lnTo>
                    <a:pt x="1401" y="1255"/>
                  </a:lnTo>
                  <a:lnTo>
                    <a:pt x="1416" y="1262"/>
                  </a:lnTo>
                  <a:lnTo>
                    <a:pt x="1430" y="1269"/>
                  </a:lnTo>
                  <a:lnTo>
                    <a:pt x="1446" y="1277"/>
                  </a:lnTo>
                  <a:lnTo>
                    <a:pt x="1458" y="1286"/>
                  </a:lnTo>
                  <a:lnTo>
                    <a:pt x="1473" y="1296"/>
                  </a:lnTo>
                  <a:lnTo>
                    <a:pt x="1484" y="1303"/>
                  </a:lnTo>
                  <a:lnTo>
                    <a:pt x="1496" y="1312"/>
                  </a:lnTo>
                  <a:lnTo>
                    <a:pt x="1508" y="1322"/>
                  </a:lnTo>
                  <a:lnTo>
                    <a:pt x="1520" y="1331"/>
                  </a:lnTo>
                  <a:lnTo>
                    <a:pt x="1530" y="1343"/>
                  </a:lnTo>
                  <a:lnTo>
                    <a:pt x="1539" y="1355"/>
                  </a:lnTo>
                  <a:lnTo>
                    <a:pt x="1549" y="1364"/>
                  </a:lnTo>
                  <a:lnTo>
                    <a:pt x="1558" y="1379"/>
                  </a:lnTo>
                  <a:lnTo>
                    <a:pt x="1563" y="1391"/>
                  </a:lnTo>
                  <a:lnTo>
                    <a:pt x="1570" y="1403"/>
                  </a:lnTo>
                  <a:lnTo>
                    <a:pt x="1572" y="1414"/>
                  </a:lnTo>
                  <a:lnTo>
                    <a:pt x="1580" y="1431"/>
                  </a:lnTo>
                  <a:lnTo>
                    <a:pt x="1582" y="1443"/>
                  </a:lnTo>
                  <a:lnTo>
                    <a:pt x="1584" y="1460"/>
                  </a:lnTo>
                  <a:lnTo>
                    <a:pt x="1587" y="1467"/>
                  </a:lnTo>
                  <a:lnTo>
                    <a:pt x="1587" y="1474"/>
                  </a:lnTo>
                  <a:lnTo>
                    <a:pt x="1589" y="1481"/>
                  </a:lnTo>
                  <a:lnTo>
                    <a:pt x="1591" y="1490"/>
                  </a:lnTo>
                  <a:lnTo>
                    <a:pt x="1591" y="1505"/>
                  </a:lnTo>
                  <a:lnTo>
                    <a:pt x="1594" y="1521"/>
                  </a:lnTo>
                  <a:lnTo>
                    <a:pt x="1594" y="1528"/>
                  </a:lnTo>
                  <a:lnTo>
                    <a:pt x="1594" y="1538"/>
                  </a:lnTo>
                  <a:lnTo>
                    <a:pt x="1594" y="1547"/>
                  </a:lnTo>
                  <a:lnTo>
                    <a:pt x="1594" y="1555"/>
                  </a:lnTo>
                  <a:lnTo>
                    <a:pt x="1594" y="1564"/>
                  </a:lnTo>
                  <a:lnTo>
                    <a:pt x="1594" y="1574"/>
                  </a:lnTo>
                  <a:lnTo>
                    <a:pt x="1594" y="1581"/>
                  </a:lnTo>
                  <a:lnTo>
                    <a:pt x="1594" y="1590"/>
                  </a:lnTo>
                  <a:lnTo>
                    <a:pt x="1594" y="1597"/>
                  </a:lnTo>
                  <a:lnTo>
                    <a:pt x="1594" y="1607"/>
                  </a:lnTo>
                  <a:lnTo>
                    <a:pt x="1594" y="1616"/>
                  </a:lnTo>
                  <a:lnTo>
                    <a:pt x="1596" y="1624"/>
                  </a:lnTo>
                  <a:lnTo>
                    <a:pt x="1596" y="1631"/>
                  </a:lnTo>
                  <a:lnTo>
                    <a:pt x="1596" y="1640"/>
                  </a:lnTo>
                  <a:lnTo>
                    <a:pt x="1596" y="1650"/>
                  </a:lnTo>
                  <a:lnTo>
                    <a:pt x="1596" y="1657"/>
                  </a:lnTo>
                  <a:lnTo>
                    <a:pt x="1596" y="1664"/>
                  </a:lnTo>
                  <a:lnTo>
                    <a:pt x="1596" y="1673"/>
                  </a:lnTo>
                  <a:lnTo>
                    <a:pt x="1596" y="1683"/>
                  </a:lnTo>
                  <a:lnTo>
                    <a:pt x="1596" y="1690"/>
                  </a:lnTo>
                  <a:lnTo>
                    <a:pt x="1596" y="1697"/>
                  </a:lnTo>
                  <a:lnTo>
                    <a:pt x="1596" y="1707"/>
                  </a:lnTo>
                  <a:lnTo>
                    <a:pt x="1596" y="1714"/>
                  </a:lnTo>
                  <a:lnTo>
                    <a:pt x="1596" y="1723"/>
                  </a:lnTo>
                  <a:lnTo>
                    <a:pt x="1596" y="1733"/>
                  </a:lnTo>
                  <a:lnTo>
                    <a:pt x="1599" y="1740"/>
                  </a:lnTo>
                  <a:lnTo>
                    <a:pt x="1599" y="1749"/>
                  </a:lnTo>
                  <a:lnTo>
                    <a:pt x="1601" y="1759"/>
                  </a:lnTo>
                  <a:lnTo>
                    <a:pt x="1601" y="1766"/>
                  </a:lnTo>
                  <a:lnTo>
                    <a:pt x="1601" y="1773"/>
                  </a:lnTo>
                  <a:lnTo>
                    <a:pt x="1601" y="1780"/>
                  </a:lnTo>
                  <a:lnTo>
                    <a:pt x="1603" y="1790"/>
                  </a:lnTo>
                  <a:lnTo>
                    <a:pt x="1606" y="1797"/>
                  </a:lnTo>
                  <a:lnTo>
                    <a:pt x="1606" y="1807"/>
                  </a:lnTo>
                  <a:lnTo>
                    <a:pt x="1608" y="1814"/>
                  </a:lnTo>
                  <a:lnTo>
                    <a:pt x="1610" y="1821"/>
                  </a:lnTo>
                  <a:lnTo>
                    <a:pt x="1615" y="1835"/>
                  </a:lnTo>
                  <a:lnTo>
                    <a:pt x="1620" y="1852"/>
                  </a:lnTo>
                  <a:lnTo>
                    <a:pt x="1627" y="1866"/>
                  </a:lnTo>
                  <a:lnTo>
                    <a:pt x="1634" y="1880"/>
                  </a:lnTo>
                  <a:lnTo>
                    <a:pt x="1641" y="1892"/>
                  </a:lnTo>
                  <a:lnTo>
                    <a:pt x="1648" y="1904"/>
                  </a:lnTo>
                  <a:lnTo>
                    <a:pt x="1658" y="1916"/>
                  </a:lnTo>
                  <a:lnTo>
                    <a:pt x="1670" y="1930"/>
                  </a:lnTo>
                  <a:lnTo>
                    <a:pt x="1677" y="1940"/>
                  </a:lnTo>
                  <a:lnTo>
                    <a:pt x="1689" y="1951"/>
                  </a:lnTo>
                  <a:lnTo>
                    <a:pt x="1703" y="1961"/>
                  </a:lnTo>
                  <a:lnTo>
                    <a:pt x="1715" y="1971"/>
                  </a:lnTo>
                  <a:lnTo>
                    <a:pt x="1729" y="1980"/>
                  </a:lnTo>
                  <a:lnTo>
                    <a:pt x="1741" y="1987"/>
                  </a:lnTo>
                  <a:lnTo>
                    <a:pt x="1753" y="1997"/>
                  </a:lnTo>
                  <a:lnTo>
                    <a:pt x="1770" y="2006"/>
                  </a:lnTo>
                  <a:lnTo>
                    <a:pt x="1784" y="2013"/>
                  </a:lnTo>
                  <a:lnTo>
                    <a:pt x="1798" y="2020"/>
                  </a:lnTo>
                  <a:lnTo>
                    <a:pt x="1812" y="2028"/>
                  </a:lnTo>
                  <a:lnTo>
                    <a:pt x="1827" y="2035"/>
                  </a:lnTo>
                  <a:lnTo>
                    <a:pt x="1841" y="2042"/>
                  </a:lnTo>
                  <a:lnTo>
                    <a:pt x="1855" y="2047"/>
                  </a:lnTo>
                  <a:lnTo>
                    <a:pt x="1869" y="2051"/>
                  </a:lnTo>
                  <a:lnTo>
                    <a:pt x="1886" y="2056"/>
                  </a:lnTo>
                  <a:lnTo>
                    <a:pt x="1898" y="2061"/>
                  </a:lnTo>
                  <a:lnTo>
                    <a:pt x="1912" y="2066"/>
                  </a:lnTo>
                  <a:lnTo>
                    <a:pt x="1924" y="2070"/>
                  </a:lnTo>
                  <a:lnTo>
                    <a:pt x="1938" y="2075"/>
                  </a:lnTo>
                  <a:lnTo>
                    <a:pt x="1950" y="2080"/>
                  </a:lnTo>
                  <a:lnTo>
                    <a:pt x="1964" y="2082"/>
                  </a:lnTo>
                  <a:lnTo>
                    <a:pt x="1974" y="2087"/>
                  </a:lnTo>
                  <a:lnTo>
                    <a:pt x="1986" y="2089"/>
                  </a:lnTo>
                  <a:lnTo>
                    <a:pt x="1995" y="2092"/>
                  </a:lnTo>
                  <a:lnTo>
                    <a:pt x="2005" y="2094"/>
                  </a:lnTo>
                  <a:lnTo>
                    <a:pt x="2014" y="2096"/>
                  </a:lnTo>
                  <a:lnTo>
                    <a:pt x="2024" y="2101"/>
                  </a:lnTo>
                  <a:lnTo>
                    <a:pt x="2019" y="2101"/>
                  </a:lnTo>
                  <a:lnTo>
                    <a:pt x="2017" y="2101"/>
                  </a:lnTo>
                  <a:lnTo>
                    <a:pt x="2007" y="2104"/>
                  </a:lnTo>
                  <a:lnTo>
                    <a:pt x="2000" y="2108"/>
                  </a:lnTo>
                  <a:lnTo>
                    <a:pt x="1986" y="2111"/>
                  </a:lnTo>
                  <a:lnTo>
                    <a:pt x="1974" y="2115"/>
                  </a:lnTo>
                  <a:lnTo>
                    <a:pt x="1964" y="2118"/>
                  </a:lnTo>
                  <a:lnTo>
                    <a:pt x="1957" y="2120"/>
                  </a:lnTo>
                  <a:lnTo>
                    <a:pt x="1948" y="2123"/>
                  </a:lnTo>
                  <a:lnTo>
                    <a:pt x="1938" y="2127"/>
                  </a:lnTo>
                  <a:lnTo>
                    <a:pt x="1929" y="2130"/>
                  </a:lnTo>
                  <a:lnTo>
                    <a:pt x="1917" y="2134"/>
                  </a:lnTo>
                  <a:lnTo>
                    <a:pt x="1907" y="2137"/>
                  </a:lnTo>
                  <a:lnTo>
                    <a:pt x="1896" y="2142"/>
                  </a:lnTo>
                  <a:lnTo>
                    <a:pt x="1886" y="2146"/>
                  </a:lnTo>
                  <a:lnTo>
                    <a:pt x="1874" y="2151"/>
                  </a:lnTo>
                  <a:lnTo>
                    <a:pt x="1862" y="2156"/>
                  </a:lnTo>
                  <a:lnTo>
                    <a:pt x="1850" y="2161"/>
                  </a:lnTo>
                  <a:lnTo>
                    <a:pt x="1836" y="2165"/>
                  </a:lnTo>
                  <a:lnTo>
                    <a:pt x="1822" y="2170"/>
                  </a:lnTo>
                  <a:lnTo>
                    <a:pt x="1808" y="2177"/>
                  </a:lnTo>
                  <a:lnTo>
                    <a:pt x="1796" y="2182"/>
                  </a:lnTo>
                  <a:lnTo>
                    <a:pt x="1781" y="2189"/>
                  </a:lnTo>
                  <a:lnTo>
                    <a:pt x="1767" y="2196"/>
                  </a:lnTo>
                  <a:lnTo>
                    <a:pt x="1753" y="2201"/>
                  </a:lnTo>
                  <a:lnTo>
                    <a:pt x="1739" y="2208"/>
                  </a:lnTo>
                  <a:lnTo>
                    <a:pt x="1724" y="2213"/>
                  </a:lnTo>
                  <a:lnTo>
                    <a:pt x="1708" y="2222"/>
                  </a:lnTo>
                  <a:lnTo>
                    <a:pt x="1691" y="2227"/>
                  </a:lnTo>
                  <a:lnTo>
                    <a:pt x="1677" y="2234"/>
                  </a:lnTo>
                  <a:lnTo>
                    <a:pt x="1660" y="2241"/>
                  </a:lnTo>
                  <a:lnTo>
                    <a:pt x="1646" y="2249"/>
                  </a:lnTo>
                  <a:lnTo>
                    <a:pt x="1629" y="2256"/>
                  </a:lnTo>
                  <a:lnTo>
                    <a:pt x="1615" y="2265"/>
                  </a:lnTo>
                  <a:lnTo>
                    <a:pt x="1599" y="2272"/>
                  </a:lnTo>
                  <a:lnTo>
                    <a:pt x="1582" y="2279"/>
                  </a:lnTo>
                  <a:lnTo>
                    <a:pt x="1565" y="2287"/>
                  </a:lnTo>
                  <a:lnTo>
                    <a:pt x="1551" y="2294"/>
                  </a:lnTo>
                  <a:lnTo>
                    <a:pt x="1532" y="2303"/>
                  </a:lnTo>
                  <a:lnTo>
                    <a:pt x="1518" y="2313"/>
                  </a:lnTo>
                  <a:lnTo>
                    <a:pt x="1501" y="2320"/>
                  </a:lnTo>
                  <a:lnTo>
                    <a:pt x="1487" y="2329"/>
                  </a:lnTo>
                  <a:lnTo>
                    <a:pt x="1470" y="2339"/>
                  </a:lnTo>
                  <a:lnTo>
                    <a:pt x="1454" y="2346"/>
                  </a:lnTo>
                  <a:lnTo>
                    <a:pt x="1437" y="2355"/>
                  </a:lnTo>
                  <a:lnTo>
                    <a:pt x="1423" y="2363"/>
                  </a:lnTo>
                  <a:lnTo>
                    <a:pt x="1406" y="2372"/>
                  </a:lnTo>
                  <a:lnTo>
                    <a:pt x="1392" y="2382"/>
                  </a:lnTo>
                  <a:lnTo>
                    <a:pt x="1375" y="2391"/>
                  </a:lnTo>
                  <a:lnTo>
                    <a:pt x="1363" y="2401"/>
                  </a:lnTo>
                  <a:lnTo>
                    <a:pt x="1347" y="2410"/>
                  </a:lnTo>
                  <a:lnTo>
                    <a:pt x="1332" y="2420"/>
                  </a:lnTo>
                  <a:lnTo>
                    <a:pt x="1318" y="2429"/>
                  </a:lnTo>
                  <a:lnTo>
                    <a:pt x="1306" y="2441"/>
                  </a:lnTo>
                  <a:lnTo>
                    <a:pt x="1292" y="2451"/>
                  </a:lnTo>
                  <a:lnTo>
                    <a:pt x="1278" y="2460"/>
                  </a:lnTo>
                  <a:lnTo>
                    <a:pt x="1266" y="2470"/>
                  </a:lnTo>
                  <a:lnTo>
                    <a:pt x="1254" y="2481"/>
                  </a:lnTo>
                  <a:lnTo>
                    <a:pt x="1242" y="2491"/>
                  </a:lnTo>
                  <a:lnTo>
                    <a:pt x="1228" y="2500"/>
                  </a:lnTo>
                  <a:lnTo>
                    <a:pt x="1216" y="2510"/>
                  </a:lnTo>
                  <a:lnTo>
                    <a:pt x="1204" y="2519"/>
                  </a:lnTo>
                  <a:lnTo>
                    <a:pt x="1190" y="2531"/>
                  </a:lnTo>
                  <a:lnTo>
                    <a:pt x="1180" y="2541"/>
                  </a:lnTo>
                  <a:lnTo>
                    <a:pt x="1168" y="2553"/>
                  </a:lnTo>
                  <a:lnTo>
                    <a:pt x="1161" y="2565"/>
                  </a:lnTo>
                  <a:lnTo>
                    <a:pt x="1149" y="2572"/>
                  </a:lnTo>
                  <a:lnTo>
                    <a:pt x="1140" y="2584"/>
                  </a:lnTo>
                  <a:lnTo>
                    <a:pt x="1130" y="2593"/>
                  </a:lnTo>
                  <a:lnTo>
                    <a:pt x="1121" y="2605"/>
                  </a:lnTo>
                  <a:lnTo>
                    <a:pt x="1111" y="2615"/>
                  </a:lnTo>
                  <a:lnTo>
                    <a:pt x="1104" y="2626"/>
                  </a:lnTo>
                  <a:lnTo>
                    <a:pt x="1095" y="2636"/>
                  </a:lnTo>
                  <a:lnTo>
                    <a:pt x="1088" y="2648"/>
                  </a:lnTo>
                  <a:lnTo>
                    <a:pt x="1078" y="2655"/>
                  </a:lnTo>
                  <a:lnTo>
                    <a:pt x="1071" y="2667"/>
                  </a:lnTo>
                  <a:lnTo>
                    <a:pt x="1064" y="2676"/>
                  </a:lnTo>
                  <a:lnTo>
                    <a:pt x="1057" y="2688"/>
                  </a:lnTo>
                  <a:lnTo>
                    <a:pt x="1050" y="2698"/>
                  </a:lnTo>
                  <a:lnTo>
                    <a:pt x="1043" y="2707"/>
                  </a:lnTo>
                  <a:lnTo>
                    <a:pt x="1035" y="2717"/>
                  </a:lnTo>
                  <a:lnTo>
                    <a:pt x="1031" y="2729"/>
                  </a:lnTo>
                  <a:lnTo>
                    <a:pt x="1024" y="2738"/>
                  </a:lnTo>
                  <a:lnTo>
                    <a:pt x="1019" y="2748"/>
                  </a:lnTo>
                  <a:lnTo>
                    <a:pt x="1014" y="2757"/>
                  </a:lnTo>
                  <a:lnTo>
                    <a:pt x="1009" y="2767"/>
                  </a:lnTo>
                  <a:lnTo>
                    <a:pt x="1005" y="2776"/>
                  </a:lnTo>
                  <a:lnTo>
                    <a:pt x="1000" y="2786"/>
                  </a:lnTo>
                  <a:lnTo>
                    <a:pt x="995" y="2795"/>
                  </a:lnTo>
                  <a:lnTo>
                    <a:pt x="990" y="2805"/>
                  </a:lnTo>
                  <a:lnTo>
                    <a:pt x="988" y="2812"/>
                  </a:lnTo>
                  <a:lnTo>
                    <a:pt x="983" y="2821"/>
                  </a:lnTo>
                  <a:lnTo>
                    <a:pt x="978" y="2831"/>
                  </a:lnTo>
                  <a:lnTo>
                    <a:pt x="974" y="2838"/>
                  </a:lnTo>
                  <a:lnTo>
                    <a:pt x="967" y="2852"/>
                  </a:lnTo>
                  <a:lnTo>
                    <a:pt x="962" y="2869"/>
                  </a:lnTo>
                  <a:lnTo>
                    <a:pt x="957" y="2881"/>
                  </a:lnTo>
                  <a:lnTo>
                    <a:pt x="952" y="2895"/>
                  </a:lnTo>
                  <a:lnTo>
                    <a:pt x="950" y="2907"/>
                  </a:lnTo>
                  <a:lnTo>
                    <a:pt x="948" y="2921"/>
                  </a:lnTo>
                  <a:lnTo>
                    <a:pt x="943" y="2928"/>
                  </a:lnTo>
                  <a:lnTo>
                    <a:pt x="940" y="2940"/>
                  </a:lnTo>
                  <a:lnTo>
                    <a:pt x="938" y="2947"/>
                  </a:lnTo>
                  <a:lnTo>
                    <a:pt x="938" y="2954"/>
                  </a:lnTo>
                  <a:lnTo>
                    <a:pt x="936" y="2962"/>
                  </a:lnTo>
                  <a:lnTo>
                    <a:pt x="936" y="2966"/>
                  </a:lnTo>
                  <a:lnTo>
                    <a:pt x="817" y="2850"/>
                  </a:lnTo>
                  <a:lnTo>
                    <a:pt x="817" y="2845"/>
                  </a:lnTo>
                  <a:lnTo>
                    <a:pt x="822" y="2836"/>
                  </a:lnTo>
                  <a:lnTo>
                    <a:pt x="824" y="2828"/>
                  </a:lnTo>
                  <a:lnTo>
                    <a:pt x="826" y="2819"/>
                  </a:lnTo>
                  <a:lnTo>
                    <a:pt x="831" y="2809"/>
                  </a:lnTo>
                  <a:lnTo>
                    <a:pt x="836" y="2800"/>
                  </a:lnTo>
                  <a:lnTo>
                    <a:pt x="841" y="2788"/>
                  </a:lnTo>
                  <a:lnTo>
                    <a:pt x="845" y="2776"/>
                  </a:lnTo>
                  <a:lnTo>
                    <a:pt x="852" y="2762"/>
                  </a:lnTo>
                  <a:lnTo>
                    <a:pt x="860" y="2750"/>
                  </a:lnTo>
                  <a:lnTo>
                    <a:pt x="864" y="2740"/>
                  </a:lnTo>
                  <a:lnTo>
                    <a:pt x="869" y="2733"/>
                  </a:lnTo>
                  <a:lnTo>
                    <a:pt x="871" y="2724"/>
                  </a:lnTo>
                  <a:lnTo>
                    <a:pt x="876" y="2717"/>
                  </a:lnTo>
                  <a:lnTo>
                    <a:pt x="881" y="2710"/>
                  </a:lnTo>
                  <a:lnTo>
                    <a:pt x="886" y="2700"/>
                  </a:lnTo>
                  <a:lnTo>
                    <a:pt x="891" y="2691"/>
                  </a:lnTo>
                  <a:lnTo>
                    <a:pt x="898" y="2683"/>
                  </a:lnTo>
                  <a:lnTo>
                    <a:pt x="900" y="2674"/>
                  </a:lnTo>
                  <a:lnTo>
                    <a:pt x="905" y="2667"/>
                  </a:lnTo>
                  <a:lnTo>
                    <a:pt x="912" y="2655"/>
                  </a:lnTo>
                  <a:lnTo>
                    <a:pt x="917" y="2648"/>
                  </a:lnTo>
                  <a:lnTo>
                    <a:pt x="921" y="2636"/>
                  </a:lnTo>
                  <a:lnTo>
                    <a:pt x="926" y="2629"/>
                  </a:lnTo>
                  <a:lnTo>
                    <a:pt x="933" y="2619"/>
                  </a:lnTo>
                  <a:lnTo>
                    <a:pt x="940" y="2610"/>
                  </a:lnTo>
                  <a:lnTo>
                    <a:pt x="945" y="2598"/>
                  </a:lnTo>
                  <a:lnTo>
                    <a:pt x="952" y="2588"/>
                  </a:lnTo>
                  <a:lnTo>
                    <a:pt x="959" y="2579"/>
                  </a:lnTo>
                  <a:lnTo>
                    <a:pt x="967" y="2569"/>
                  </a:lnTo>
                  <a:lnTo>
                    <a:pt x="974" y="2560"/>
                  </a:lnTo>
                  <a:lnTo>
                    <a:pt x="981" y="2550"/>
                  </a:lnTo>
                  <a:lnTo>
                    <a:pt x="988" y="2538"/>
                  </a:lnTo>
                  <a:lnTo>
                    <a:pt x="995" y="2531"/>
                  </a:lnTo>
                  <a:lnTo>
                    <a:pt x="1002" y="2519"/>
                  </a:lnTo>
                  <a:lnTo>
                    <a:pt x="1009" y="2510"/>
                  </a:lnTo>
                  <a:lnTo>
                    <a:pt x="1016" y="2500"/>
                  </a:lnTo>
                  <a:lnTo>
                    <a:pt x="1024" y="2491"/>
                  </a:lnTo>
                  <a:lnTo>
                    <a:pt x="1033" y="2481"/>
                  </a:lnTo>
                  <a:lnTo>
                    <a:pt x="1043" y="2472"/>
                  </a:lnTo>
                  <a:lnTo>
                    <a:pt x="1050" y="2462"/>
                  </a:lnTo>
                  <a:lnTo>
                    <a:pt x="1059" y="2453"/>
                  </a:lnTo>
                  <a:lnTo>
                    <a:pt x="1069" y="2443"/>
                  </a:lnTo>
                  <a:lnTo>
                    <a:pt x="1076" y="2434"/>
                  </a:lnTo>
                  <a:lnTo>
                    <a:pt x="1085" y="2424"/>
                  </a:lnTo>
                  <a:lnTo>
                    <a:pt x="1092" y="2415"/>
                  </a:lnTo>
                  <a:lnTo>
                    <a:pt x="1102" y="2408"/>
                  </a:lnTo>
                  <a:lnTo>
                    <a:pt x="1111" y="2398"/>
                  </a:lnTo>
                  <a:lnTo>
                    <a:pt x="1121" y="2389"/>
                  </a:lnTo>
                  <a:lnTo>
                    <a:pt x="1133" y="2382"/>
                  </a:lnTo>
                  <a:lnTo>
                    <a:pt x="1142" y="2372"/>
                  </a:lnTo>
                  <a:lnTo>
                    <a:pt x="1152" y="2363"/>
                  </a:lnTo>
                  <a:lnTo>
                    <a:pt x="1161" y="2355"/>
                  </a:lnTo>
                  <a:lnTo>
                    <a:pt x="1173" y="2346"/>
                  </a:lnTo>
                  <a:lnTo>
                    <a:pt x="1183" y="2339"/>
                  </a:lnTo>
                  <a:lnTo>
                    <a:pt x="1195" y="2332"/>
                  </a:lnTo>
                  <a:lnTo>
                    <a:pt x="1204" y="2322"/>
                  </a:lnTo>
                  <a:lnTo>
                    <a:pt x="1216" y="2315"/>
                  </a:lnTo>
                  <a:lnTo>
                    <a:pt x="1226" y="2308"/>
                  </a:lnTo>
                  <a:lnTo>
                    <a:pt x="1237" y="2301"/>
                  </a:lnTo>
                  <a:lnTo>
                    <a:pt x="1247" y="2294"/>
                  </a:lnTo>
                  <a:lnTo>
                    <a:pt x="1259" y="2287"/>
                  </a:lnTo>
                  <a:lnTo>
                    <a:pt x="1268" y="2279"/>
                  </a:lnTo>
                  <a:lnTo>
                    <a:pt x="1280" y="2275"/>
                  </a:lnTo>
                  <a:lnTo>
                    <a:pt x="1290" y="2268"/>
                  </a:lnTo>
                  <a:lnTo>
                    <a:pt x="1304" y="2263"/>
                  </a:lnTo>
                  <a:lnTo>
                    <a:pt x="1313" y="2256"/>
                  </a:lnTo>
                  <a:lnTo>
                    <a:pt x="1325" y="2251"/>
                  </a:lnTo>
                  <a:lnTo>
                    <a:pt x="1335" y="2244"/>
                  </a:lnTo>
                  <a:lnTo>
                    <a:pt x="1347" y="2239"/>
                  </a:lnTo>
                  <a:lnTo>
                    <a:pt x="1356" y="2232"/>
                  </a:lnTo>
                  <a:lnTo>
                    <a:pt x="1368" y="2227"/>
                  </a:lnTo>
                  <a:lnTo>
                    <a:pt x="1378" y="2222"/>
                  </a:lnTo>
                  <a:lnTo>
                    <a:pt x="1389" y="2218"/>
                  </a:lnTo>
                  <a:lnTo>
                    <a:pt x="1399" y="2213"/>
                  </a:lnTo>
                  <a:lnTo>
                    <a:pt x="1408" y="2206"/>
                  </a:lnTo>
                  <a:lnTo>
                    <a:pt x="1420" y="2203"/>
                  </a:lnTo>
                  <a:lnTo>
                    <a:pt x="1430" y="2199"/>
                  </a:lnTo>
                  <a:lnTo>
                    <a:pt x="1442" y="2194"/>
                  </a:lnTo>
                  <a:lnTo>
                    <a:pt x="1451" y="2189"/>
                  </a:lnTo>
                  <a:lnTo>
                    <a:pt x="1461" y="2184"/>
                  </a:lnTo>
                  <a:lnTo>
                    <a:pt x="1473" y="2182"/>
                  </a:lnTo>
                  <a:lnTo>
                    <a:pt x="1482" y="2177"/>
                  </a:lnTo>
                  <a:lnTo>
                    <a:pt x="1492" y="2175"/>
                  </a:lnTo>
                  <a:lnTo>
                    <a:pt x="1501" y="2170"/>
                  </a:lnTo>
                  <a:lnTo>
                    <a:pt x="1511" y="2168"/>
                  </a:lnTo>
                  <a:lnTo>
                    <a:pt x="1518" y="2163"/>
                  </a:lnTo>
                  <a:lnTo>
                    <a:pt x="1527" y="2158"/>
                  </a:lnTo>
                  <a:lnTo>
                    <a:pt x="1537" y="2156"/>
                  </a:lnTo>
                  <a:lnTo>
                    <a:pt x="1544" y="2153"/>
                  </a:lnTo>
                  <a:lnTo>
                    <a:pt x="1558" y="2149"/>
                  </a:lnTo>
                  <a:lnTo>
                    <a:pt x="1575" y="2142"/>
                  </a:lnTo>
                  <a:lnTo>
                    <a:pt x="1587" y="2137"/>
                  </a:lnTo>
                  <a:lnTo>
                    <a:pt x="1601" y="2134"/>
                  </a:lnTo>
                  <a:lnTo>
                    <a:pt x="1613" y="2130"/>
                  </a:lnTo>
                  <a:lnTo>
                    <a:pt x="1622" y="2127"/>
                  </a:lnTo>
                  <a:lnTo>
                    <a:pt x="1632" y="2125"/>
                  </a:lnTo>
                  <a:lnTo>
                    <a:pt x="1641" y="2123"/>
                  </a:lnTo>
                  <a:lnTo>
                    <a:pt x="1651" y="2120"/>
                  </a:lnTo>
                  <a:lnTo>
                    <a:pt x="1656" y="2120"/>
                  </a:lnTo>
                  <a:lnTo>
                    <a:pt x="1653" y="2120"/>
                  </a:lnTo>
                  <a:lnTo>
                    <a:pt x="1648" y="2120"/>
                  </a:lnTo>
                  <a:lnTo>
                    <a:pt x="1639" y="2118"/>
                  </a:lnTo>
                  <a:lnTo>
                    <a:pt x="1632" y="2115"/>
                  </a:lnTo>
                  <a:lnTo>
                    <a:pt x="1618" y="2113"/>
                  </a:lnTo>
                  <a:lnTo>
                    <a:pt x="1606" y="2108"/>
                  </a:lnTo>
                  <a:lnTo>
                    <a:pt x="1589" y="2104"/>
                  </a:lnTo>
                  <a:lnTo>
                    <a:pt x="1575" y="2101"/>
                  </a:lnTo>
                  <a:lnTo>
                    <a:pt x="1565" y="2096"/>
                  </a:lnTo>
                  <a:lnTo>
                    <a:pt x="1558" y="2092"/>
                  </a:lnTo>
                  <a:lnTo>
                    <a:pt x="1549" y="2087"/>
                  </a:lnTo>
                  <a:lnTo>
                    <a:pt x="1542" y="2082"/>
                  </a:lnTo>
                  <a:lnTo>
                    <a:pt x="1532" y="2077"/>
                  </a:lnTo>
                  <a:lnTo>
                    <a:pt x="1525" y="2073"/>
                  </a:lnTo>
                  <a:lnTo>
                    <a:pt x="1515" y="2068"/>
                  </a:lnTo>
                  <a:lnTo>
                    <a:pt x="1508" y="2063"/>
                  </a:lnTo>
                  <a:lnTo>
                    <a:pt x="1501" y="2056"/>
                  </a:lnTo>
                  <a:lnTo>
                    <a:pt x="1492" y="2049"/>
                  </a:lnTo>
                  <a:lnTo>
                    <a:pt x="1484" y="2042"/>
                  </a:lnTo>
                  <a:lnTo>
                    <a:pt x="1480" y="2035"/>
                  </a:lnTo>
                  <a:lnTo>
                    <a:pt x="1473" y="2025"/>
                  </a:lnTo>
                  <a:lnTo>
                    <a:pt x="1468" y="2018"/>
                  </a:lnTo>
                  <a:lnTo>
                    <a:pt x="1463" y="2009"/>
                  </a:lnTo>
                  <a:lnTo>
                    <a:pt x="1458" y="1999"/>
                  </a:lnTo>
                  <a:lnTo>
                    <a:pt x="1454" y="1987"/>
                  </a:lnTo>
                  <a:lnTo>
                    <a:pt x="1449" y="1978"/>
                  </a:lnTo>
                  <a:lnTo>
                    <a:pt x="1446" y="1966"/>
                  </a:lnTo>
                  <a:lnTo>
                    <a:pt x="1444" y="1954"/>
                  </a:lnTo>
                  <a:lnTo>
                    <a:pt x="1442" y="1940"/>
                  </a:lnTo>
                  <a:lnTo>
                    <a:pt x="1442" y="1925"/>
                  </a:lnTo>
                  <a:lnTo>
                    <a:pt x="1442" y="1911"/>
                  </a:lnTo>
                  <a:lnTo>
                    <a:pt x="1442" y="1899"/>
                  </a:lnTo>
                  <a:lnTo>
                    <a:pt x="1442" y="1890"/>
                  </a:lnTo>
                  <a:lnTo>
                    <a:pt x="1442" y="1883"/>
                  </a:lnTo>
                  <a:lnTo>
                    <a:pt x="1442" y="1875"/>
                  </a:lnTo>
                  <a:lnTo>
                    <a:pt x="1442" y="1868"/>
                  </a:lnTo>
                  <a:lnTo>
                    <a:pt x="1442" y="1852"/>
                  </a:lnTo>
                  <a:lnTo>
                    <a:pt x="1442" y="1837"/>
                  </a:lnTo>
                  <a:lnTo>
                    <a:pt x="1442" y="1828"/>
                  </a:lnTo>
                  <a:lnTo>
                    <a:pt x="1442" y="1821"/>
                  </a:lnTo>
                  <a:lnTo>
                    <a:pt x="1444" y="1814"/>
                  </a:lnTo>
                  <a:lnTo>
                    <a:pt x="1446" y="1807"/>
                  </a:lnTo>
                  <a:lnTo>
                    <a:pt x="1446" y="1797"/>
                  </a:lnTo>
                  <a:lnTo>
                    <a:pt x="1446" y="1790"/>
                  </a:lnTo>
                  <a:lnTo>
                    <a:pt x="1446" y="1780"/>
                  </a:lnTo>
                  <a:lnTo>
                    <a:pt x="1449" y="1773"/>
                  </a:lnTo>
                  <a:lnTo>
                    <a:pt x="1449" y="1766"/>
                  </a:lnTo>
                  <a:lnTo>
                    <a:pt x="1449" y="1757"/>
                  </a:lnTo>
                  <a:lnTo>
                    <a:pt x="1449" y="1747"/>
                  </a:lnTo>
                  <a:lnTo>
                    <a:pt x="1449" y="1740"/>
                  </a:lnTo>
                  <a:lnTo>
                    <a:pt x="1449" y="1730"/>
                  </a:lnTo>
                  <a:lnTo>
                    <a:pt x="1449" y="1721"/>
                  </a:lnTo>
                  <a:lnTo>
                    <a:pt x="1449" y="1714"/>
                  </a:lnTo>
                  <a:lnTo>
                    <a:pt x="1449" y="1707"/>
                  </a:lnTo>
                  <a:lnTo>
                    <a:pt x="1449" y="1697"/>
                  </a:lnTo>
                  <a:lnTo>
                    <a:pt x="1449" y="1688"/>
                  </a:lnTo>
                  <a:lnTo>
                    <a:pt x="1449" y="1683"/>
                  </a:lnTo>
                  <a:lnTo>
                    <a:pt x="1449" y="1673"/>
                  </a:lnTo>
                  <a:lnTo>
                    <a:pt x="1449" y="1659"/>
                  </a:lnTo>
                  <a:lnTo>
                    <a:pt x="1449" y="1645"/>
                  </a:lnTo>
                  <a:lnTo>
                    <a:pt x="1446" y="1635"/>
                  </a:lnTo>
                  <a:lnTo>
                    <a:pt x="1446" y="1628"/>
                  </a:lnTo>
                  <a:lnTo>
                    <a:pt x="1444" y="1619"/>
                  </a:lnTo>
                  <a:lnTo>
                    <a:pt x="1444" y="1612"/>
                  </a:lnTo>
                  <a:lnTo>
                    <a:pt x="1442" y="1597"/>
                  </a:lnTo>
                  <a:lnTo>
                    <a:pt x="1437" y="1586"/>
                  </a:lnTo>
                  <a:lnTo>
                    <a:pt x="1432" y="1571"/>
                  </a:lnTo>
                  <a:lnTo>
                    <a:pt x="1427" y="1557"/>
                  </a:lnTo>
                  <a:lnTo>
                    <a:pt x="1420" y="1545"/>
                  </a:lnTo>
                  <a:lnTo>
                    <a:pt x="1416" y="1536"/>
                  </a:lnTo>
                  <a:lnTo>
                    <a:pt x="1406" y="1521"/>
                  </a:lnTo>
                  <a:lnTo>
                    <a:pt x="1397" y="1512"/>
                  </a:lnTo>
                  <a:lnTo>
                    <a:pt x="1385" y="1500"/>
                  </a:lnTo>
                  <a:lnTo>
                    <a:pt x="1375" y="1490"/>
                  </a:lnTo>
                  <a:lnTo>
                    <a:pt x="1361" y="1481"/>
                  </a:lnTo>
                  <a:lnTo>
                    <a:pt x="1349" y="1471"/>
                  </a:lnTo>
                  <a:lnTo>
                    <a:pt x="1337" y="1464"/>
                  </a:lnTo>
                  <a:lnTo>
                    <a:pt x="1323" y="1455"/>
                  </a:lnTo>
                  <a:lnTo>
                    <a:pt x="1306" y="1448"/>
                  </a:lnTo>
                  <a:lnTo>
                    <a:pt x="1292" y="1438"/>
                  </a:lnTo>
                  <a:lnTo>
                    <a:pt x="1278" y="1431"/>
                  </a:lnTo>
                  <a:lnTo>
                    <a:pt x="1264" y="1424"/>
                  </a:lnTo>
                  <a:lnTo>
                    <a:pt x="1254" y="1419"/>
                  </a:lnTo>
                  <a:lnTo>
                    <a:pt x="1245" y="1414"/>
                  </a:lnTo>
                  <a:lnTo>
                    <a:pt x="1237" y="1412"/>
                  </a:lnTo>
                  <a:lnTo>
                    <a:pt x="1230" y="1410"/>
                  </a:lnTo>
                  <a:lnTo>
                    <a:pt x="1221" y="1405"/>
                  </a:lnTo>
                  <a:lnTo>
                    <a:pt x="1214" y="1400"/>
                  </a:lnTo>
                  <a:lnTo>
                    <a:pt x="1207" y="1398"/>
                  </a:lnTo>
                  <a:lnTo>
                    <a:pt x="1199" y="1393"/>
                  </a:lnTo>
                  <a:lnTo>
                    <a:pt x="1190" y="1391"/>
                  </a:lnTo>
                  <a:lnTo>
                    <a:pt x="1180" y="1386"/>
                  </a:lnTo>
                  <a:lnTo>
                    <a:pt x="1173" y="1381"/>
                  </a:lnTo>
                  <a:lnTo>
                    <a:pt x="1164" y="1379"/>
                  </a:lnTo>
                  <a:lnTo>
                    <a:pt x="1154" y="1374"/>
                  </a:lnTo>
                  <a:lnTo>
                    <a:pt x="1147" y="1369"/>
                  </a:lnTo>
                  <a:lnTo>
                    <a:pt x="1138" y="1364"/>
                  </a:lnTo>
                  <a:lnTo>
                    <a:pt x="1130" y="1362"/>
                  </a:lnTo>
                  <a:lnTo>
                    <a:pt x="1121" y="1357"/>
                  </a:lnTo>
                  <a:lnTo>
                    <a:pt x="1114" y="1353"/>
                  </a:lnTo>
                  <a:lnTo>
                    <a:pt x="1104" y="1348"/>
                  </a:lnTo>
                  <a:lnTo>
                    <a:pt x="1097" y="1343"/>
                  </a:lnTo>
                  <a:lnTo>
                    <a:pt x="1083" y="1336"/>
                  </a:lnTo>
                  <a:lnTo>
                    <a:pt x="1069" y="1326"/>
                  </a:lnTo>
                  <a:lnTo>
                    <a:pt x="1052" y="1315"/>
                  </a:lnTo>
                  <a:lnTo>
                    <a:pt x="1038" y="1305"/>
                  </a:lnTo>
                  <a:lnTo>
                    <a:pt x="1024" y="1293"/>
                  </a:lnTo>
                  <a:lnTo>
                    <a:pt x="1009" y="1284"/>
                  </a:lnTo>
                  <a:lnTo>
                    <a:pt x="997" y="1269"/>
                  </a:lnTo>
                  <a:lnTo>
                    <a:pt x="983" y="1258"/>
                  </a:lnTo>
                  <a:lnTo>
                    <a:pt x="974" y="1246"/>
                  </a:lnTo>
                  <a:lnTo>
                    <a:pt x="964" y="1231"/>
                  </a:lnTo>
                  <a:lnTo>
                    <a:pt x="959" y="1222"/>
                  </a:lnTo>
                  <a:lnTo>
                    <a:pt x="952" y="1215"/>
                  </a:lnTo>
                  <a:lnTo>
                    <a:pt x="948" y="1208"/>
                  </a:lnTo>
                  <a:lnTo>
                    <a:pt x="943" y="1201"/>
                  </a:lnTo>
                  <a:lnTo>
                    <a:pt x="933" y="1184"/>
                  </a:lnTo>
                  <a:lnTo>
                    <a:pt x="926" y="1170"/>
                  </a:lnTo>
                  <a:lnTo>
                    <a:pt x="921" y="1160"/>
                  </a:lnTo>
                  <a:lnTo>
                    <a:pt x="917" y="1153"/>
                  </a:lnTo>
                  <a:lnTo>
                    <a:pt x="914" y="1143"/>
                  </a:lnTo>
                  <a:lnTo>
                    <a:pt x="912" y="1136"/>
                  </a:lnTo>
                  <a:lnTo>
                    <a:pt x="907" y="1127"/>
                  </a:lnTo>
                  <a:lnTo>
                    <a:pt x="905" y="1120"/>
                  </a:lnTo>
                  <a:lnTo>
                    <a:pt x="900" y="1110"/>
                  </a:lnTo>
                  <a:lnTo>
                    <a:pt x="900" y="1103"/>
                  </a:lnTo>
                  <a:lnTo>
                    <a:pt x="895" y="1096"/>
                  </a:lnTo>
                  <a:lnTo>
                    <a:pt x="893" y="1086"/>
                  </a:lnTo>
                  <a:lnTo>
                    <a:pt x="891" y="1077"/>
                  </a:lnTo>
                  <a:lnTo>
                    <a:pt x="891" y="1070"/>
                  </a:lnTo>
                  <a:lnTo>
                    <a:pt x="886" y="1060"/>
                  </a:lnTo>
                  <a:lnTo>
                    <a:pt x="886" y="1051"/>
                  </a:lnTo>
                  <a:lnTo>
                    <a:pt x="883" y="1044"/>
                  </a:lnTo>
                  <a:lnTo>
                    <a:pt x="883" y="1034"/>
                  </a:lnTo>
                  <a:lnTo>
                    <a:pt x="879" y="1025"/>
                  </a:lnTo>
                  <a:lnTo>
                    <a:pt x="879" y="1015"/>
                  </a:lnTo>
                  <a:lnTo>
                    <a:pt x="876" y="1008"/>
                  </a:lnTo>
                  <a:lnTo>
                    <a:pt x="876" y="999"/>
                  </a:lnTo>
                  <a:lnTo>
                    <a:pt x="874" y="989"/>
                  </a:lnTo>
                  <a:lnTo>
                    <a:pt x="874" y="979"/>
                  </a:lnTo>
                  <a:lnTo>
                    <a:pt x="874" y="970"/>
                  </a:lnTo>
                  <a:lnTo>
                    <a:pt x="874" y="963"/>
                  </a:lnTo>
                  <a:lnTo>
                    <a:pt x="871" y="953"/>
                  </a:lnTo>
                  <a:lnTo>
                    <a:pt x="871" y="941"/>
                  </a:lnTo>
                  <a:lnTo>
                    <a:pt x="871" y="932"/>
                  </a:lnTo>
                  <a:lnTo>
                    <a:pt x="871" y="925"/>
                  </a:lnTo>
                  <a:lnTo>
                    <a:pt x="871" y="913"/>
                  </a:lnTo>
                  <a:lnTo>
                    <a:pt x="871" y="906"/>
                  </a:lnTo>
                  <a:lnTo>
                    <a:pt x="871" y="894"/>
                  </a:lnTo>
                  <a:lnTo>
                    <a:pt x="871" y="887"/>
                  </a:lnTo>
                  <a:lnTo>
                    <a:pt x="871" y="877"/>
                  </a:lnTo>
                  <a:lnTo>
                    <a:pt x="871" y="865"/>
                  </a:lnTo>
                  <a:lnTo>
                    <a:pt x="871" y="856"/>
                  </a:lnTo>
                  <a:lnTo>
                    <a:pt x="874" y="846"/>
                  </a:lnTo>
                  <a:lnTo>
                    <a:pt x="874" y="837"/>
                  </a:lnTo>
                  <a:lnTo>
                    <a:pt x="874" y="830"/>
                  </a:lnTo>
                  <a:lnTo>
                    <a:pt x="876" y="818"/>
                  </a:lnTo>
                  <a:lnTo>
                    <a:pt x="879" y="811"/>
                  </a:lnTo>
                  <a:lnTo>
                    <a:pt x="879" y="799"/>
                  </a:lnTo>
                  <a:lnTo>
                    <a:pt x="879" y="789"/>
                  </a:lnTo>
                  <a:lnTo>
                    <a:pt x="881" y="780"/>
                  </a:lnTo>
                  <a:lnTo>
                    <a:pt x="883" y="770"/>
                  </a:lnTo>
                  <a:lnTo>
                    <a:pt x="886" y="761"/>
                  </a:lnTo>
                  <a:lnTo>
                    <a:pt x="888" y="749"/>
                  </a:lnTo>
                  <a:lnTo>
                    <a:pt x="891" y="739"/>
                  </a:lnTo>
                  <a:lnTo>
                    <a:pt x="893" y="730"/>
                  </a:lnTo>
                  <a:lnTo>
                    <a:pt x="893" y="720"/>
                  </a:lnTo>
                  <a:lnTo>
                    <a:pt x="898" y="711"/>
                  </a:lnTo>
                  <a:lnTo>
                    <a:pt x="898" y="701"/>
                  </a:lnTo>
                  <a:lnTo>
                    <a:pt x="900" y="692"/>
                  </a:lnTo>
                  <a:lnTo>
                    <a:pt x="905" y="682"/>
                  </a:lnTo>
                  <a:lnTo>
                    <a:pt x="907" y="673"/>
                  </a:lnTo>
                  <a:lnTo>
                    <a:pt x="910" y="661"/>
                  </a:lnTo>
                  <a:lnTo>
                    <a:pt x="914" y="654"/>
                  </a:lnTo>
                  <a:lnTo>
                    <a:pt x="914" y="642"/>
                  </a:lnTo>
                  <a:lnTo>
                    <a:pt x="919" y="633"/>
                  </a:lnTo>
                  <a:lnTo>
                    <a:pt x="921" y="621"/>
                  </a:lnTo>
                  <a:lnTo>
                    <a:pt x="926" y="611"/>
                  </a:lnTo>
                  <a:lnTo>
                    <a:pt x="926" y="599"/>
                  </a:lnTo>
                  <a:lnTo>
                    <a:pt x="929" y="590"/>
                  </a:lnTo>
                  <a:lnTo>
                    <a:pt x="933" y="578"/>
                  </a:lnTo>
                  <a:lnTo>
                    <a:pt x="936" y="571"/>
                  </a:lnTo>
                  <a:lnTo>
                    <a:pt x="938" y="559"/>
                  </a:lnTo>
                  <a:lnTo>
                    <a:pt x="940" y="547"/>
                  </a:lnTo>
                  <a:lnTo>
                    <a:pt x="945" y="537"/>
                  </a:lnTo>
                  <a:lnTo>
                    <a:pt x="948" y="530"/>
                  </a:lnTo>
                  <a:lnTo>
                    <a:pt x="950" y="518"/>
                  </a:lnTo>
                  <a:lnTo>
                    <a:pt x="952" y="509"/>
                  </a:lnTo>
                  <a:lnTo>
                    <a:pt x="955" y="499"/>
                  </a:lnTo>
                  <a:lnTo>
                    <a:pt x="959" y="490"/>
                  </a:lnTo>
                  <a:lnTo>
                    <a:pt x="962" y="480"/>
                  </a:lnTo>
                  <a:lnTo>
                    <a:pt x="964" y="471"/>
                  </a:lnTo>
                  <a:lnTo>
                    <a:pt x="967" y="461"/>
                  </a:lnTo>
                  <a:lnTo>
                    <a:pt x="969" y="452"/>
                  </a:lnTo>
                  <a:lnTo>
                    <a:pt x="971" y="442"/>
                  </a:lnTo>
                  <a:lnTo>
                    <a:pt x="974" y="433"/>
                  </a:lnTo>
                  <a:lnTo>
                    <a:pt x="976" y="423"/>
                  </a:lnTo>
                  <a:lnTo>
                    <a:pt x="981" y="414"/>
                  </a:lnTo>
                  <a:lnTo>
                    <a:pt x="981" y="407"/>
                  </a:lnTo>
                  <a:lnTo>
                    <a:pt x="983" y="397"/>
                  </a:lnTo>
                  <a:lnTo>
                    <a:pt x="986" y="388"/>
                  </a:lnTo>
                  <a:lnTo>
                    <a:pt x="988" y="381"/>
                  </a:lnTo>
                  <a:lnTo>
                    <a:pt x="990" y="371"/>
                  </a:lnTo>
                  <a:lnTo>
                    <a:pt x="993" y="362"/>
                  </a:lnTo>
                  <a:lnTo>
                    <a:pt x="995" y="354"/>
                  </a:lnTo>
                  <a:lnTo>
                    <a:pt x="1000" y="347"/>
                  </a:lnTo>
                  <a:lnTo>
                    <a:pt x="1000" y="340"/>
                  </a:lnTo>
                  <a:lnTo>
                    <a:pt x="1002" y="331"/>
                  </a:lnTo>
                  <a:lnTo>
                    <a:pt x="1002" y="324"/>
                  </a:lnTo>
                  <a:lnTo>
                    <a:pt x="1005" y="316"/>
                  </a:lnTo>
                  <a:lnTo>
                    <a:pt x="1007" y="305"/>
                  </a:lnTo>
                  <a:lnTo>
                    <a:pt x="1012" y="290"/>
                  </a:lnTo>
                  <a:lnTo>
                    <a:pt x="1014" y="278"/>
                  </a:lnTo>
                  <a:lnTo>
                    <a:pt x="1016" y="267"/>
                  </a:lnTo>
                  <a:lnTo>
                    <a:pt x="1021" y="255"/>
                  </a:lnTo>
                  <a:lnTo>
                    <a:pt x="1024" y="245"/>
                  </a:lnTo>
                  <a:lnTo>
                    <a:pt x="1026" y="236"/>
                  </a:lnTo>
                  <a:lnTo>
                    <a:pt x="1028" y="229"/>
                  </a:lnTo>
                  <a:lnTo>
                    <a:pt x="1028" y="221"/>
                  </a:lnTo>
                  <a:lnTo>
                    <a:pt x="1031" y="217"/>
                  </a:lnTo>
                  <a:lnTo>
                    <a:pt x="1033" y="210"/>
                  </a:lnTo>
                  <a:lnTo>
                    <a:pt x="1035" y="210"/>
                  </a:lnTo>
                  <a:lnTo>
                    <a:pt x="57" y="573"/>
                  </a:lnTo>
                  <a:lnTo>
                    <a:pt x="0" y="43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23"/>
            <p:cNvSpPr/>
            <p:nvPr/>
          </p:nvSpPr>
          <p:spPr>
            <a:xfrm rot="1020000">
              <a:off x="4366800" y="-326880"/>
              <a:ext cx="1254240" cy="3059280"/>
            </a:xfrm>
            <a:custGeom>
              <a:avLst/>
              <a:gdLst>
                <a:gd name="textAreaLeft" fmla="*/ 0 w 1254240"/>
                <a:gd name="textAreaRight" fmla="*/ 1254600 w 1254240"/>
                <a:gd name="textAreaTop" fmla="*/ 0 h 3059280"/>
                <a:gd name="textAreaBottom" fmla="*/ 3059640 h 3059280"/>
              </a:gdLst>
              <a:ahLst/>
              <a:rect l="textAreaLeft" t="textAreaTop" r="textAreaRight" b="textAreaBottom"/>
              <a:pathLst>
                <a:path w="1057" h="2412">
                  <a:moveTo>
                    <a:pt x="107" y="0"/>
                  </a:moveTo>
                  <a:lnTo>
                    <a:pt x="104" y="0"/>
                  </a:lnTo>
                  <a:lnTo>
                    <a:pt x="104" y="4"/>
                  </a:lnTo>
                  <a:lnTo>
                    <a:pt x="99" y="12"/>
                  </a:lnTo>
                  <a:lnTo>
                    <a:pt x="99" y="23"/>
                  </a:lnTo>
                  <a:lnTo>
                    <a:pt x="95" y="35"/>
                  </a:lnTo>
                  <a:lnTo>
                    <a:pt x="90" y="50"/>
                  </a:lnTo>
                  <a:lnTo>
                    <a:pt x="88" y="59"/>
                  </a:lnTo>
                  <a:lnTo>
                    <a:pt x="85" y="66"/>
                  </a:lnTo>
                  <a:lnTo>
                    <a:pt x="85" y="76"/>
                  </a:lnTo>
                  <a:lnTo>
                    <a:pt x="83" y="88"/>
                  </a:lnTo>
                  <a:lnTo>
                    <a:pt x="80" y="95"/>
                  </a:lnTo>
                  <a:lnTo>
                    <a:pt x="78" y="107"/>
                  </a:lnTo>
                  <a:lnTo>
                    <a:pt x="73" y="118"/>
                  </a:lnTo>
                  <a:lnTo>
                    <a:pt x="73" y="128"/>
                  </a:lnTo>
                  <a:lnTo>
                    <a:pt x="69" y="140"/>
                  </a:lnTo>
                  <a:lnTo>
                    <a:pt x="66" y="154"/>
                  </a:lnTo>
                  <a:lnTo>
                    <a:pt x="64" y="166"/>
                  </a:lnTo>
                  <a:lnTo>
                    <a:pt x="61" y="180"/>
                  </a:lnTo>
                  <a:lnTo>
                    <a:pt x="57" y="192"/>
                  </a:lnTo>
                  <a:lnTo>
                    <a:pt x="57" y="204"/>
                  </a:lnTo>
                  <a:lnTo>
                    <a:pt x="52" y="218"/>
                  </a:lnTo>
                  <a:lnTo>
                    <a:pt x="50" y="233"/>
                  </a:lnTo>
                  <a:lnTo>
                    <a:pt x="47" y="244"/>
                  </a:lnTo>
                  <a:lnTo>
                    <a:pt x="45" y="261"/>
                  </a:lnTo>
                  <a:lnTo>
                    <a:pt x="40" y="275"/>
                  </a:lnTo>
                  <a:lnTo>
                    <a:pt x="40" y="292"/>
                  </a:lnTo>
                  <a:lnTo>
                    <a:pt x="35" y="304"/>
                  </a:lnTo>
                  <a:lnTo>
                    <a:pt x="33" y="320"/>
                  </a:lnTo>
                  <a:lnTo>
                    <a:pt x="31" y="335"/>
                  </a:lnTo>
                  <a:lnTo>
                    <a:pt x="26" y="351"/>
                  </a:lnTo>
                  <a:lnTo>
                    <a:pt x="23" y="366"/>
                  </a:lnTo>
                  <a:lnTo>
                    <a:pt x="23" y="380"/>
                  </a:lnTo>
                  <a:lnTo>
                    <a:pt x="19" y="394"/>
                  </a:lnTo>
                  <a:lnTo>
                    <a:pt x="19" y="411"/>
                  </a:lnTo>
                  <a:lnTo>
                    <a:pt x="16" y="425"/>
                  </a:lnTo>
                  <a:lnTo>
                    <a:pt x="14" y="439"/>
                  </a:lnTo>
                  <a:lnTo>
                    <a:pt x="12" y="454"/>
                  </a:lnTo>
                  <a:lnTo>
                    <a:pt x="9" y="470"/>
                  </a:lnTo>
                  <a:lnTo>
                    <a:pt x="7" y="484"/>
                  </a:lnTo>
                  <a:lnTo>
                    <a:pt x="4" y="501"/>
                  </a:lnTo>
                  <a:lnTo>
                    <a:pt x="4" y="515"/>
                  </a:lnTo>
                  <a:lnTo>
                    <a:pt x="4" y="530"/>
                  </a:lnTo>
                  <a:lnTo>
                    <a:pt x="2" y="544"/>
                  </a:lnTo>
                  <a:lnTo>
                    <a:pt x="2" y="558"/>
                  </a:lnTo>
                  <a:lnTo>
                    <a:pt x="0" y="570"/>
                  </a:lnTo>
                  <a:lnTo>
                    <a:pt x="0" y="584"/>
                  </a:lnTo>
                  <a:lnTo>
                    <a:pt x="0" y="599"/>
                  </a:lnTo>
                  <a:lnTo>
                    <a:pt x="0" y="610"/>
                  </a:lnTo>
                  <a:lnTo>
                    <a:pt x="0" y="625"/>
                  </a:lnTo>
                  <a:lnTo>
                    <a:pt x="2" y="637"/>
                  </a:lnTo>
                  <a:lnTo>
                    <a:pt x="2" y="648"/>
                  </a:lnTo>
                  <a:lnTo>
                    <a:pt x="2" y="660"/>
                  </a:lnTo>
                  <a:lnTo>
                    <a:pt x="2" y="672"/>
                  </a:lnTo>
                  <a:lnTo>
                    <a:pt x="4" y="682"/>
                  </a:lnTo>
                  <a:lnTo>
                    <a:pt x="4" y="694"/>
                  </a:lnTo>
                  <a:lnTo>
                    <a:pt x="7" y="703"/>
                  </a:lnTo>
                  <a:lnTo>
                    <a:pt x="9" y="713"/>
                  </a:lnTo>
                  <a:lnTo>
                    <a:pt x="12" y="722"/>
                  </a:lnTo>
                  <a:lnTo>
                    <a:pt x="14" y="729"/>
                  </a:lnTo>
                  <a:lnTo>
                    <a:pt x="16" y="739"/>
                  </a:lnTo>
                  <a:lnTo>
                    <a:pt x="19" y="746"/>
                  </a:lnTo>
                  <a:lnTo>
                    <a:pt x="23" y="753"/>
                  </a:lnTo>
                  <a:lnTo>
                    <a:pt x="31" y="765"/>
                  </a:lnTo>
                  <a:lnTo>
                    <a:pt x="40" y="777"/>
                  </a:lnTo>
                  <a:lnTo>
                    <a:pt x="47" y="784"/>
                  </a:lnTo>
                  <a:lnTo>
                    <a:pt x="59" y="793"/>
                  </a:lnTo>
                  <a:lnTo>
                    <a:pt x="69" y="798"/>
                  </a:lnTo>
                  <a:lnTo>
                    <a:pt x="80" y="808"/>
                  </a:lnTo>
                  <a:lnTo>
                    <a:pt x="92" y="810"/>
                  </a:lnTo>
                  <a:lnTo>
                    <a:pt x="107" y="812"/>
                  </a:lnTo>
                  <a:lnTo>
                    <a:pt x="118" y="817"/>
                  </a:lnTo>
                  <a:lnTo>
                    <a:pt x="133" y="820"/>
                  </a:lnTo>
                  <a:lnTo>
                    <a:pt x="145" y="820"/>
                  </a:lnTo>
                  <a:lnTo>
                    <a:pt x="159" y="822"/>
                  </a:lnTo>
                  <a:lnTo>
                    <a:pt x="173" y="822"/>
                  </a:lnTo>
                  <a:lnTo>
                    <a:pt x="190" y="822"/>
                  </a:lnTo>
                  <a:lnTo>
                    <a:pt x="202" y="822"/>
                  </a:lnTo>
                  <a:lnTo>
                    <a:pt x="216" y="822"/>
                  </a:lnTo>
                  <a:lnTo>
                    <a:pt x="230" y="822"/>
                  </a:lnTo>
                  <a:lnTo>
                    <a:pt x="244" y="822"/>
                  </a:lnTo>
                  <a:lnTo>
                    <a:pt x="259" y="822"/>
                  </a:lnTo>
                  <a:lnTo>
                    <a:pt x="273" y="822"/>
                  </a:lnTo>
                  <a:lnTo>
                    <a:pt x="285" y="822"/>
                  </a:lnTo>
                  <a:lnTo>
                    <a:pt x="299" y="824"/>
                  </a:lnTo>
                  <a:lnTo>
                    <a:pt x="311" y="827"/>
                  </a:lnTo>
                  <a:lnTo>
                    <a:pt x="323" y="831"/>
                  </a:lnTo>
                  <a:lnTo>
                    <a:pt x="332" y="834"/>
                  </a:lnTo>
                  <a:lnTo>
                    <a:pt x="344" y="841"/>
                  </a:lnTo>
                  <a:lnTo>
                    <a:pt x="354" y="846"/>
                  </a:lnTo>
                  <a:lnTo>
                    <a:pt x="363" y="855"/>
                  </a:lnTo>
                  <a:lnTo>
                    <a:pt x="373" y="865"/>
                  </a:lnTo>
                  <a:lnTo>
                    <a:pt x="380" y="877"/>
                  </a:lnTo>
                  <a:lnTo>
                    <a:pt x="385" y="888"/>
                  </a:lnTo>
                  <a:lnTo>
                    <a:pt x="389" y="903"/>
                  </a:lnTo>
                  <a:lnTo>
                    <a:pt x="392" y="910"/>
                  </a:lnTo>
                  <a:lnTo>
                    <a:pt x="394" y="919"/>
                  </a:lnTo>
                  <a:lnTo>
                    <a:pt x="396" y="926"/>
                  </a:lnTo>
                  <a:lnTo>
                    <a:pt x="399" y="936"/>
                  </a:lnTo>
                  <a:lnTo>
                    <a:pt x="399" y="946"/>
                  </a:lnTo>
                  <a:lnTo>
                    <a:pt x="401" y="953"/>
                  </a:lnTo>
                  <a:lnTo>
                    <a:pt x="401" y="962"/>
                  </a:lnTo>
                  <a:lnTo>
                    <a:pt x="404" y="974"/>
                  </a:lnTo>
                  <a:lnTo>
                    <a:pt x="404" y="981"/>
                  </a:lnTo>
                  <a:lnTo>
                    <a:pt x="404" y="993"/>
                  </a:lnTo>
                  <a:lnTo>
                    <a:pt x="404" y="1003"/>
                  </a:lnTo>
                  <a:lnTo>
                    <a:pt x="406" y="1017"/>
                  </a:lnTo>
                  <a:lnTo>
                    <a:pt x="404" y="1026"/>
                  </a:lnTo>
                  <a:lnTo>
                    <a:pt x="404" y="1038"/>
                  </a:lnTo>
                  <a:lnTo>
                    <a:pt x="404" y="1048"/>
                  </a:lnTo>
                  <a:lnTo>
                    <a:pt x="404" y="1060"/>
                  </a:lnTo>
                  <a:lnTo>
                    <a:pt x="404" y="1071"/>
                  </a:lnTo>
                  <a:lnTo>
                    <a:pt x="404" y="1083"/>
                  </a:lnTo>
                  <a:lnTo>
                    <a:pt x="404" y="1095"/>
                  </a:lnTo>
                  <a:lnTo>
                    <a:pt x="404" y="1109"/>
                  </a:lnTo>
                  <a:lnTo>
                    <a:pt x="404" y="1119"/>
                  </a:lnTo>
                  <a:lnTo>
                    <a:pt x="404" y="1133"/>
                  </a:lnTo>
                  <a:lnTo>
                    <a:pt x="401" y="1145"/>
                  </a:lnTo>
                  <a:lnTo>
                    <a:pt x="401" y="1157"/>
                  </a:lnTo>
                  <a:lnTo>
                    <a:pt x="401" y="1171"/>
                  </a:lnTo>
                  <a:lnTo>
                    <a:pt x="401" y="1183"/>
                  </a:lnTo>
                  <a:lnTo>
                    <a:pt x="401" y="1195"/>
                  </a:lnTo>
                  <a:lnTo>
                    <a:pt x="401" y="1209"/>
                  </a:lnTo>
                  <a:lnTo>
                    <a:pt x="399" y="1221"/>
                  </a:lnTo>
                  <a:lnTo>
                    <a:pt x="396" y="1233"/>
                  </a:lnTo>
                  <a:lnTo>
                    <a:pt x="396" y="1245"/>
                  </a:lnTo>
                  <a:lnTo>
                    <a:pt x="396" y="1259"/>
                  </a:lnTo>
                  <a:lnTo>
                    <a:pt x="394" y="1269"/>
                  </a:lnTo>
                  <a:lnTo>
                    <a:pt x="394" y="1283"/>
                  </a:lnTo>
                  <a:lnTo>
                    <a:pt x="392" y="1295"/>
                  </a:lnTo>
                  <a:lnTo>
                    <a:pt x="392" y="1307"/>
                  </a:lnTo>
                  <a:lnTo>
                    <a:pt x="389" y="1319"/>
                  </a:lnTo>
                  <a:lnTo>
                    <a:pt x="389" y="1330"/>
                  </a:lnTo>
                  <a:lnTo>
                    <a:pt x="387" y="1342"/>
                  </a:lnTo>
                  <a:lnTo>
                    <a:pt x="387" y="1354"/>
                  </a:lnTo>
                  <a:lnTo>
                    <a:pt x="387" y="1366"/>
                  </a:lnTo>
                  <a:lnTo>
                    <a:pt x="387" y="1378"/>
                  </a:lnTo>
                  <a:lnTo>
                    <a:pt x="387" y="1390"/>
                  </a:lnTo>
                  <a:lnTo>
                    <a:pt x="387" y="1399"/>
                  </a:lnTo>
                  <a:lnTo>
                    <a:pt x="387" y="1411"/>
                  </a:lnTo>
                  <a:lnTo>
                    <a:pt x="387" y="1421"/>
                  </a:lnTo>
                  <a:lnTo>
                    <a:pt x="387" y="1430"/>
                  </a:lnTo>
                  <a:lnTo>
                    <a:pt x="387" y="1440"/>
                  </a:lnTo>
                  <a:lnTo>
                    <a:pt x="387" y="1449"/>
                  </a:lnTo>
                  <a:lnTo>
                    <a:pt x="387" y="1459"/>
                  </a:lnTo>
                  <a:lnTo>
                    <a:pt x="387" y="1468"/>
                  </a:lnTo>
                  <a:lnTo>
                    <a:pt x="389" y="1478"/>
                  </a:lnTo>
                  <a:lnTo>
                    <a:pt x="389" y="1485"/>
                  </a:lnTo>
                  <a:lnTo>
                    <a:pt x="389" y="1494"/>
                  </a:lnTo>
                  <a:lnTo>
                    <a:pt x="392" y="1502"/>
                  </a:lnTo>
                  <a:lnTo>
                    <a:pt x="394" y="1509"/>
                  </a:lnTo>
                  <a:lnTo>
                    <a:pt x="396" y="1521"/>
                  </a:lnTo>
                  <a:lnTo>
                    <a:pt x="404" y="1535"/>
                  </a:lnTo>
                  <a:lnTo>
                    <a:pt x="408" y="1542"/>
                  </a:lnTo>
                  <a:lnTo>
                    <a:pt x="411" y="1552"/>
                  </a:lnTo>
                  <a:lnTo>
                    <a:pt x="418" y="1559"/>
                  </a:lnTo>
                  <a:lnTo>
                    <a:pt x="425" y="1563"/>
                  </a:lnTo>
                  <a:lnTo>
                    <a:pt x="434" y="1568"/>
                  </a:lnTo>
                  <a:lnTo>
                    <a:pt x="442" y="1571"/>
                  </a:lnTo>
                  <a:lnTo>
                    <a:pt x="451" y="1573"/>
                  </a:lnTo>
                  <a:lnTo>
                    <a:pt x="463" y="1575"/>
                  </a:lnTo>
                  <a:lnTo>
                    <a:pt x="470" y="1573"/>
                  </a:lnTo>
                  <a:lnTo>
                    <a:pt x="482" y="1573"/>
                  </a:lnTo>
                  <a:lnTo>
                    <a:pt x="494" y="1573"/>
                  </a:lnTo>
                  <a:lnTo>
                    <a:pt x="506" y="1573"/>
                  </a:lnTo>
                  <a:lnTo>
                    <a:pt x="518" y="1568"/>
                  </a:lnTo>
                  <a:lnTo>
                    <a:pt x="532" y="1568"/>
                  </a:lnTo>
                  <a:lnTo>
                    <a:pt x="544" y="1566"/>
                  </a:lnTo>
                  <a:lnTo>
                    <a:pt x="558" y="1566"/>
                  </a:lnTo>
                  <a:lnTo>
                    <a:pt x="572" y="1563"/>
                  </a:lnTo>
                  <a:lnTo>
                    <a:pt x="584" y="1561"/>
                  </a:lnTo>
                  <a:lnTo>
                    <a:pt x="596" y="1561"/>
                  </a:lnTo>
                  <a:lnTo>
                    <a:pt x="610" y="1561"/>
                  </a:lnTo>
                  <a:lnTo>
                    <a:pt x="624" y="1561"/>
                  </a:lnTo>
                  <a:lnTo>
                    <a:pt x="636" y="1563"/>
                  </a:lnTo>
                  <a:lnTo>
                    <a:pt x="651" y="1568"/>
                  </a:lnTo>
                  <a:lnTo>
                    <a:pt x="665" y="1573"/>
                  </a:lnTo>
                  <a:lnTo>
                    <a:pt x="679" y="1575"/>
                  </a:lnTo>
                  <a:lnTo>
                    <a:pt x="691" y="1582"/>
                  </a:lnTo>
                  <a:lnTo>
                    <a:pt x="705" y="1590"/>
                  </a:lnTo>
                  <a:lnTo>
                    <a:pt x="717" y="1599"/>
                  </a:lnTo>
                  <a:lnTo>
                    <a:pt x="729" y="1609"/>
                  </a:lnTo>
                  <a:lnTo>
                    <a:pt x="743" y="1623"/>
                  </a:lnTo>
                  <a:lnTo>
                    <a:pt x="748" y="1630"/>
                  </a:lnTo>
                  <a:lnTo>
                    <a:pt x="753" y="1637"/>
                  </a:lnTo>
                  <a:lnTo>
                    <a:pt x="760" y="1644"/>
                  </a:lnTo>
                  <a:lnTo>
                    <a:pt x="767" y="1656"/>
                  </a:lnTo>
                  <a:lnTo>
                    <a:pt x="772" y="1663"/>
                  </a:lnTo>
                  <a:lnTo>
                    <a:pt x="777" y="1673"/>
                  </a:lnTo>
                  <a:lnTo>
                    <a:pt x="781" y="1682"/>
                  </a:lnTo>
                  <a:lnTo>
                    <a:pt x="786" y="1692"/>
                  </a:lnTo>
                  <a:lnTo>
                    <a:pt x="791" y="1704"/>
                  </a:lnTo>
                  <a:lnTo>
                    <a:pt x="796" y="1713"/>
                  </a:lnTo>
                  <a:lnTo>
                    <a:pt x="800" y="1727"/>
                  </a:lnTo>
                  <a:lnTo>
                    <a:pt x="807" y="1739"/>
                  </a:lnTo>
                  <a:lnTo>
                    <a:pt x="810" y="1751"/>
                  </a:lnTo>
                  <a:lnTo>
                    <a:pt x="815" y="1765"/>
                  </a:lnTo>
                  <a:lnTo>
                    <a:pt x="819" y="1780"/>
                  </a:lnTo>
                  <a:lnTo>
                    <a:pt x="824" y="1794"/>
                  </a:lnTo>
                  <a:lnTo>
                    <a:pt x="829" y="1806"/>
                  </a:lnTo>
                  <a:lnTo>
                    <a:pt x="834" y="1822"/>
                  </a:lnTo>
                  <a:lnTo>
                    <a:pt x="836" y="1837"/>
                  </a:lnTo>
                  <a:lnTo>
                    <a:pt x="841" y="1853"/>
                  </a:lnTo>
                  <a:lnTo>
                    <a:pt x="843" y="1865"/>
                  </a:lnTo>
                  <a:lnTo>
                    <a:pt x="848" y="1882"/>
                  </a:lnTo>
                  <a:lnTo>
                    <a:pt x="850" y="1896"/>
                  </a:lnTo>
                  <a:lnTo>
                    <a:pt x="855" y="1910"/>
                  </a:lnTo>
                  <a:lnTo>
                    <a:pt x="857" y="1927"/>
                  </a:lnTo>
                  <a:lnTo>
                    <a:pt x="860" y="1944"/>
                  </a:lnTo>
                  <a:lnTo>
                    <a:pt x="862" y="1958"/>
                  </a:lnTo>
                  <a:lnTo>
                    <a:pt x="867" y="1977"/>
                  </a:lnTo>
                  <a:lnTo>
                    <a:pt x="869" y="1991"/>
                  </a:lnTo>
                  <a:lnTo>
                    <a:pt x="874" y="2008"/>
                  </a:lnTo>
                  <a:lnTo>
                    <a:pt x="874" y="2024"/>
                  </a:lnTo>
                  <a:lnTo>
                    <a:pt x="879" y="2039"/>
                  </a:lnTo>
                  <a:lnTo>
                    <a:pt x="881" y="2055"/>
                  </a:lnTo>
                  <a:lnTo>
                    <a:pt x="883" y="2072"/>
                  </a:lnTo>
                  <a:lnTo>
                    <a:pt x="886" y="2086"/>
                  </a:lnTo>
                  <a:lnTo>
                    <a:pt x="891" y="2103"/>
                  </a:lnTo>
                  <a:lnTo>
                    <a:pt x="891" y="2117"/>
                  </a:lnTo>
                  <a:lnTo>
                    <a:pt x="893" y="2134"/>
                  </a:lnTo>
                  <a:lnTo>
                    <a:pt x="895" y="2148"/>
                  </a:lnTo>
                  <a:lnTo>
                    <a:pt x="898" y="2162"/>
                  </a:lnTo>
                  <a:lnTo>
                    <a:pt x="898" y="2177"/>
                  </a:lnTo>
                  <a:lnTo>
                    <a:pt x="900" y="2191"/>
                  </a:lnTo>
                  <a:lnTo>
                    <a:pt x="902" y="2205"/>
                  </a:lnTo>
                  <a:lnTo>
                    <a:pt x="905" y="2222"/>
                  </a:lnTo>
                  <a:lnTo>
                    <a:pt x="905" y="2234"/>
                  </a:lnTo>
                  <a:lnTo>
                    <a:pt x="907" y="2245"/>
                  </a:lnTo>
                  <a:lnTo>
                    <a:pt x="907" y="2260"/>
                  </a:lnTo>
                  <a:lnTo>
                    <a:pt x="910" y="2272"/>
                  </a:lnTo>
                  <a:lnTo>
                    <a:pt x="910" y="2283"/>
                  </a:lnTo>
                  <a:lnTo>
                    <a:pt x="912" y="2298"/>
                  </a:lnTo>
                  <a:lnTo>
                    <a:pt x="912" y="2307"/>
                  </a:lnTo>
                  <a:lnTo>
                    <a:pt x="917" y="2319"/>
                  </a:lnTo>
                  <a:lnTo>
                    <a:pt x="917" y="2329"/>
                  </a:lnTo>
                  <a:lnTo>
                    <a:pt x="917" y="2338"/>
                  </a:lnTo>
                  <a:lnTo>
                    <a:pt x="917" y="2348"/>
                  </a:lnTo>
                  <a:lnTo>
                    <a:pt x="919" y="2357"/>
                  </a:lnTo>
                  <a:lnTo>
                    <a:pt x="921" y="2371"/>
                  </a:lnTo>
                  <a:lnTo>
                    <a:pt x="921" y="2386"/>
                  </a:lnTo>
                  <a:lnTo>
                    <a:pt x="921" y="2395"/>
                  </a:lnTo>
                  <a:lnTo>
                    <a:pt x="924" y="2405"/>
                  </a:lnTo>
                  <a:lnTo>
                    <a:pt x="924" y="2409"/>
                  </a:lnTo>
                  <a:lnTo>
                    <a:pt x="924" y="2412"/>
                  </a:lnTo>
                  <a:lnTo>
                    <a:pt x="1057" y="2253"/>
                  </a:lnTo>
                  <a:lnTo>
                    <a:pt x="1055" y="2250"/>
                  </a:lnTo>
                  <a:lnTo>
                    <a:pt x="1055" y="2245"/>
                  </a:lnTo>
                  <a:lnTo>
                    <a:pt x="1055" y="2238"/>
                  </a:lnTo>
                  <a:lnTo>
                    <a:pt x="1055" y="2229"/>
                  </a:lnTo>
                  <a:lnTo>
                    <a:pt x="1055" y="2222"/>
                  </a:lnTo>
                  <a:lnTo>
                    <a:pt x="1055" y="2212"/>
                  </a:lnTo>
                  <a:lnTo>
                    <a:pt x="1055" y="2205"/>
                  </a:lnTo>
                  <a:lnTo>
                    <a:pt x="1055" y="2198"/>
                  </a:lnTo>
                  <a:lnTo>
                    <a:pt x="1055" y="2188"/>
                  </a:lnTo>
                  <a:lnTo>
                    <a:pt x="1055" y="2179"/>
                  </a:lnTo>
                  <a:lnTo>
                    <a:pt x="1055" y="2169"/>
                  </a:lnTo>
                  <a:lnTo>
                    <a:pt x="1055" y="2160"/>
                  </a:lnTo>
                  <a:lnTo>
                    <a:pt x="1052" y="2148"/>
                  </a:lnTo>
                  <a:lnTo>
                    <a:pt x="1052" y="2136"/>
                  </a:lnTo>
                  <a:lnTo>
                    <a:pt x="1052" y="2124"/>
                  </a:lnTo>
                  <a:lnTo>
                    <a:pt x="1052" y="2112"/>
                  </a:lnTo>
                  <a:lnTo>
                    <a:pt x="1050" y="2100"/>
                  </a:lnTo>
                  <a:lnTo>
                    <a:pt x="1050" y="2086"/>
                  </a:lnTo>
                  <a:lnTo>
                    <a:pt x="1050" y="2074"/>
                  </a:lnTo>
                  <a:lnTo>
                    <a:pt x="1050" y="2060"/>
                  </a:lnTo>
                  <a:lnTo>
                    <a:pt x="1047" y="2046"/>
                  </a:lnTo>
                  <a:lnTo>
                    <a:pt x="1047" y="2032"/>
                  </a:lnTo>
                  <a:lnTo>
                    <a:pt x="1047" y="2017"/>
                  </a:lnTo>
                  <a:lnTo>
                    <a:pt x="1047" y="2005"/>
                  </a:lnTo>
                  <a:lnTo>
                    <a:pt x="1045" y="1989"/>
                  </a:lnTo>
                  <a:lnTo>
                    <a:pt x="1045" y="1977"/>
                  </a:lnTo>
                  <a:lnTo>
                    <a:pt x="1043" y="1960"/>
                  </a:lnTo>
                  <a:lnTo>
                    <a:pt x="1043" y="1948"/>
                  </a:lnTo>
                  <a:lnTo>
                    <a:pt x="1040" y="1932"/>
                  </a:lnTo>
                  <a:lnTo>
                    <a:pt x="1040" y="1915"/>
                  </a:lnTo>
                  <a:lnTo>
                    <a:pt x="1038" y="1901"/>
                  </a:lnTo>
                  <a:lnTo>
                    <a:pt x="1038" y="1884"/>
                  </a:lnTo>
                  <a:lnTo>
                    <a:pt x="1036" y="1870"/>
                  </a:lnTo>
                  <a:lnTo>
                    <a:pt x="1033" y="1856"/>
                  </a:lnTo>
                  <a:lnTo>
                    <a:pt x="1033" y="1839"/>
                  </a:lnTo>
                  <a:lnTo>
                    <a:pt x="1031" y="1825"/>
                  </a:lnTo>
                  <a:lnTo>
                    <a:pt x="1028" y="1808"/>
                  </a:lnTo>
                  <a:lnTo>
                    <a:pt x="1026" y="1794"/>
                  </a:lnTo>
                  <a:lnTo>
                    <a:pt x="1024" y="1780"/>
                  </a:lnTo>
                  <a:lnTo>
                    <a:pt x="1021" y="1765"/>
                  </a:lnTo>
                  <a:lnTo>
                    <a:pt x="1019" y="1751"/>
                  </a:lnTo>
                  <a:lnTo>
                    <a:pt x="1017" y="1737"/>
                  </a:lnTo>
                  <a:lnTo>
                    <a:pt x="1014" y="1725"/>
                  </a:lnTo>
                  <a:lnTo>
                    <a:pt x="1012" y="1711"/>
                  </a:lnTo>
                  <a:lnTo>
                    <a:pt x="1007" y="1696"/>
                  </a:lnTo>
                  <a:lnTo>
                    <a:pt x="1005" y="1685"/>
                  </a:lnTo>
                  <a:lnTo>
                    <a:pt x="1002" y="1670"/>
                  </a:lnTo>
                  <a:lnTo>
                    <a:pt x="1000" y="1658"/>
                  </a:lnTo>
                  <a:lnTo>
                    <a:pt x="995" y="1647"/>
                  </a:lnTo>
                  <a:lnTo>
                    <a:pt x="993" y="1637"/>
                  </a:lnTo>
                  <a:lnTo>
                    <a:pt x="988" y="1625"/>
                  </a:lnTo>
                  <a:lnTo>
                    <a:pt x="986" y="1616"/>
                  </a:lnTo>
                  <a:lnTo>
                    <a:pt x="981" y="1606"/>
                  </a:lnTo>
                  <a:lnTo>
                    <a:pt x="976" y="1597"/>
                  </a:lnTo>
                  <a:lnTo>
                    <a:pt x="971" y="1587"/>
                  </a:lnTo>
                  <a:lnTo>
                    <a:pt x="967" y="1580"/>
                  </a:lnTo>
                  <a:lnTo>
                    <a:pt x="959" y="1566"/>
                  </a:lnTo>
                  <a:lnTo>
                    <a:pt x="950" y="1556"/>
                  </a:lnTo>
                  <a:lnTo>
                    <a:pt x="938" y="1544"/>
                  </a:lnTo>
                  <a:lnTo>
                    <a:pt x="926" y="1535"/>
                  </a:lnTo>
                  <a:lnTo>
                    <a:pt x="917" y="1528"/>
                  </a:lnTo>
                  <a:lnTo>
                    <a:pt x="905" y="1521"/>
                  </a:lnTo>
                  <a:lnTo>
                    <a:pt x="893" y="1516"/>
                  </a:lnTo>
                  <a:lnTo>
                    <a:pt x="881" y="1511"/>
                  </a:lnTo>
                  <a:lnTo>
                    <a:pt x="869" y="1506"/>
                  </a:lnTo>
                  <a:lnTo>
                    <a:pt x="857" y="1506"/>
                  </a:lnTo>
                  <a:lnTo>
                    <a:pt x="843" y="1502"/>
                  </a:lnTo>
                  <a:lnTo>
                    <a:pt x="829" y="1502"/>
                  </a:lnTo>
                  <a:lnTo>
                    <a:pt x="817" y="1499"/>
                  </a:lnTo>
                  <a:lnTo>
                    <a:pt x="805" y="1499"/>
                  </a:lnTo>
                  <a:lnTo>
                    <a:pt x="791" y="1499"/>
                  </a:lnTo>
                  <a:lnTo>
                    <a:pt x="779" y="1499"/>
                  </a:lnTo>
                  <a:lnTo>
                    <a:pt x="765" y="1499"/>
                  </a:lnTo>
                  <a:lnTo>
                    <a:pt x="753" y="1499"/>
                  </a:lnTo>
                  <a:lnTo>
                    <a:pt x="739" y="1499"/>
                  </a:lnTo>
                  <a:lnTo>
                    <a:pt x="724" y="1499"/>
                  </a:lnTo>
                  <a:lnTo>
                    <a:pt x="712" y="1497"/>
                  </a:lnTo>
                  <a:lnTo>
                    <a:pt x="701" y="1497"/>
                  </a:lnTo>
                  <a:lnTo>
                    <a:pt x="689" y="1494"/>
                  </a:lnTo>
                  <a:lnTo>
                    <a:pt x="677" y="1494"/>
                  </a:lnTo>
                  <a:lnTo>
                    <a:pt x="665" y="1492"/>
                  </a:lnTo>
                  <a:lnTo>
                    <a:pt x="655" y="1490"/>
                  </a:lnTo>
                  <a:lnTo>
                    <a:pt x="643" y="1485"/>
                  </a:lnTo>
                  <a:lnTo>
                    <a:pt x="634" y="1480"/>
                  </a:lnTo>
                  <a:lnTo>
                    <a:pt x="627" y="1473"/>
                  </a:lnTo>
                  <a:lnTo>
                    <a:pt x="620" y="1466"/>
                  </a:lnTo>
                  <a:lnTo>
                    <a:pt x="610" y="1459"/>
                  </a:lnTo>
                  <a:lnTo>
                    <a:pt x="603" y="1449"/>
                  </a:lnTo>
                  <a:lnTo>
                    <a:pt x="596" y="1440"/>
                  </a:lnTo>
                  <a:lnTo>
                    <a:pt x="594" y="1428"/>
                  </a:lnTo>
                  <a:lnTo>
                    <a:pt x="586" y="1411"/>
                  </a:lnTo>
                  <a:lnTo>
                    <a:pt x="582" y="1397"/>
                  </a:lnTo>
                  <a:lnTo>
                    <a:pt x="579" y="1390"/>
                  </a:lnTo>
                  <a:lnTo>
                    <a:pt x="579" y="1380"/>
                  </a:lnTo>
                  <a:lnTo>
                    <a:pt x="577" y="1371"/>
                  </a:lnTo>
                  <a:lnTo>
                    <a:pt x="577" y="1364"/>
                  </a:lnTo>
                  <a:lnTo>
                    <a:pt x="575" y="1352"/>
                  </a:lnTo>
                  <a:lnTo>
                    <a:pt x="572" y="1342"/>
                  </a:lnTo>
                  <a:lnTo>
                    <a:pt x="572" y="1330"/>
                  </a:lnTo>
                  <a:lnTo>
                    <a:pt x="572" y="1323"/>
                  </a:lnTo>
                  <a:lnTo>
                    <a:pt x="572" y="1311"/>
                  </a:lnTo>
                  <a:lnTo>
                    <a:pt x="572" y="1302"/>
                  </a:lnTo>
                  <a:lnTo>
                    <a:pt x="572" y="1290"/>
                  </a:lnTo>
                  <a:lnTo>
                    <a:pt x="572" y="1281"/>
                  </a:lnTo>
                  <a:lnTo>
                    <a:pt x="570" y="1269"/>
                  </a:lnTo>
                  <a:lnTo>
                    <a:pt x="570" y="1257"/>
                  </a:lnTo>
                  <a:lnTo>
                    <a:pt x="570" y="1245"/>
                  </a:lnTo>
                  <a:lnTo>
                    <a:pt x="570" y="1233"/>
                  </a:lnTo>
                  <a:lnTo>
                    <a:pt x="570" y="1221"/>
                  </a:lnTo>
                  <a:lnTo>
                    <a:pt x="570" y="1209"/>
                  </a:lnTo>
                  <a:lnTo>
                    <a:pt x="570" y="1197"/>
                  </a:lnTo>
                  <a:lnTo>
                    <a:pt x="572" y="1186"/>
                  </a:lnTo>
                  <a:lnTo>
                    <a:pt x="572" y="1174"/>
                  </a:lnTo>
                  <a:lnTo>
                    <a:pt x="572" y="1162"/>
                  </a:lnTo>
                  <a:lnTo>
                    <a:pt x="572" y="1150"/>
                  </a:lnTo>
                  <a:lnTo>
                    <a:pt x="572" y="1138"/>
                  </a:lnTo>
                  <a:lnTo>
                    <a:pt x="572" y="1124"/>
                  </a:lnTo>
                  <a:lnTo>
                    <a:pt x="575" y="1112"/>
                  </a:lnTo>
                  <a:lnTo>
                    <a:pt x="575" y="1100"/>
                  </a:lnTo>
                  <a:lnTo>
                    <a:pt x="575" y="1088"/>
                  </a:lnTo>
                  <a:lnTo>
                    <a:pt x="575" y="1076"/>
                  </a:lnTo>
                  <a:lnTo>
                    <a:pt x="575" y="1062"/>
                  </a:lnTo>
                  <a:lnTo>
                    <a:pt x="575" y="1050"/>
                  </a:lnTo>
                  <a:lnTo>
                    <a:pt x="575" y="1036"/>
                  </a:lnTo>
                  <a:lnTo>
                    <a:pt x="575" y="1024"/>
                  </a:lnTo>
                  <a:lnTo>
                    <a:pt x="575" y="1012"/>
                  </a:lnTo>
                  <a:lnTo>
                    <a:pt x="575" y="1000"/>
                  </a:lnTo>
                  <a:lnTo>
                    <a:pt x="577" y="988"/>
                  </a:lnTo>
                  <a:lnTo>
                    <a:pt x="575" y="974"/>
                  </a:lnTo>
                  <a:lnTo>
                    <a:pt x="575" y="962"/>
                  </a:lnTo>
                  <a:lnTo>
                    <a:pt x="575" y="953"/>
                  </a:lnTo>
                  <a:lnTo>
                    <a:pt x="575" y="941"/>
                  </a:lnTo>
                  <a:lnTo>
                    <a:pt x="575" y="929"/>
                  </a:lnTo>
                  <a:lnTo>
                    <a:pt x="575" y="919"/>
                  </a:lnTo>
                  <a:lnTo>
                    <a:pt x="575" y="907"/>
                  </a:lnTo>
                  <a:lnTo>
                    <a:pt x="575" y="898"/>
                  </a:lnTo>
                  <a:lnTo>
                    <a:pt x="572" y="886"/>
                  </a:lnTo>
                  <a:lnTo>
                    <a:pt x="572" y="877"/>
                  </a:lnTo>
                  <a:lnTo>
                    <a:pt x="570" y="865"/>
                  </a:lnTo>
                  <a:lnTo>
                    <a:pt x="570" y="855"/>
                  </a:lnTo>
                  <a:lnTo>
                    <a:pt x="567" y="846"/>
                  </a:lnTo>
                  <a:lnTo>
                    <a:pt x="567" y="836"/>
                  </a:lnTo>
                  <a:lnTo>
                    <a:pt x="565" y="829"/>
                  </a:lnTo>
                  <a:lnTo>
                    <a:pt x="565" y="820"/>
                  </a:lnTo>
                  <a:lnTo>
                    <a:pt x="560" y="810"/>
                  </a:lnTo>
                  <a:lnTo>
                    <a:pt x="560" y="803"/>
                  </a:lnTo>
                  <a:lnTo>
                    <a:pt x="558" y="796"/>
                  </a:lnTo>
                  <a:lnTo>
                    <a:pt x="556" y="789"/>
                  </a:lnTo>
                  <a:lnTo>
                    <a:pt x="551" y="774"/>
                  </a:lnTo>
                  <a:lnTo>
                    <a:pt x="544" y="763"/>
                  </a:lnTo>
                  <a:lnTo>
                    <a:pt x="534" y="751"/>
                  </a:lnTo>
                  <a:lnTo>
                    <a:pt x="527" y="743"/>
                  </a:lnTo>
                  <a:lnTo>
                    <a:pt x="518" y="734"/>
                  </a:lnTo>
                  <a:lnTo>
                    <a:pt x="506" y="729"/>
                  </a:lnTo>
                  <a:lnTo>
                    <a:pt x="494" y="724"/>
                  </a:lnTo>
                  <a:lnTo>
                    <a:pt x="482" y="722"/>
                  </a:lnTo>
                  <a:lnTo>
                    <a:pt x="470" y="717"/>
                  </a:lnTo>
                  <a:lnTo>
                    <a:pt x="458" y="717"/>
                  </a:lnTo>
                  <a:lnTo>
                    <a:pt x="444" y="715"/>
                  </a:lnTo>
                  <a:lnTo>
                    <a:pt x="430" y="715"/>
                  </a:lnTo>
                  <a:lnTo>
                    <a:pt x="415" y="715"/>
                  </a:lnTo>
                  <a:lnTo>
                    <a:pt x="404" y="717"/>
                  </a:lnTo>
                  <a:lnTo>
                    <a:pt x="387" y="717"/>
                  </a:lnTo>
                  <a:lnTo>
                    <a:pt x="375" y="720"/>
                  </a:lnTo>
                  <a:lnTo>
                    <a:pt x="358" y="720"/>
                  </a:lnTo>
                  <a:lnTo>
                    <a:pt x="347" y="722"/>
                  </a:lnTo>
                  <a:lnTo>
                    <a:pt x="330" y="722"/>
                  </a:lnTo>
                  <a:lnTo>
                    <a:pt x="316" y="724"/>
                  </a:lnTo>
                  <a:lnTo>
                    <a:pt x="301" y="724"/>
                  </a:lnTo>
                  <a:lnTo>
                    <a:pt x="289" y="727"/>
                  </a:lnTo>
                  <a:lnTo>
                    <a:pt x="273" y="724"/>
                  </a:lnTo>
                  <a:lnTo>
                    <a:pt x="261" y="724"/>
                  </a:lnTo>
                  <a:lnTo>
                    <a:pt x="249" y="722"/>
                  </a:lnTo>
                  <a:lnTo>
                    <a:pt x="237" y="722"/>
                  </a:lnTo>
                  <a:lnTo>
                    <a:pt x="225" y="717"/>
                  </a:lnTo>
                  <a:lnTo>
                    <a:pt x="216" y="713"/>
                  </a:lnTo>
                  <a:lnTo>
                    <a:pt x="204" y="708"/>
                  </a:lnTo>
                  <a:lnTo>
                    <a:pt x="197" y="701"/>
                  </a:lnTo>
                  <a:lnTo>
                    <a:pt x="187" y="691"/>
                  </a:lnTo>
                  <a:lnTo>
                    <a:pt x="180" y="682"/>
                  </a:lnTo>
                  <a:lnTo>
                    <a:pt x="173" y="672"/>
                  </a:lnTo>
                  <a:lnTo>
                    <a:pt x="168" y="660"/>
                  </a:lnTo>
                  <a:lnTo>
                    <a:pt x="164" y="651"/>
                  </a:lnTo>
                  <a:lnTo>
                    <a:pt x="164" y="641"/>
                  </a:lnTo>
                  <a:lnTo>
                    <a:pt x="161" y="634"/>
                  </a:lnTo>
                  <a:lnTo>
                    <a:pt x="161" y="625"/>
                  </a:lnTo>
                  <a:lnTo>
                    <a:pt x="156" y="615"/>
                  </a:lnTo>
                  <a:lnTo>
                    <a:pt x="156" y="606"/>
                  </a:lnTo>
                  <a:lnTo>
                    <a:pt x="156" y="596"/>
                  </a:lnTo>
                  <a:lnTo>
                    <a:pt x="156" y="587"/>
                  </a:lnTo>
                  <a:lnTo>
                    <a:pt x="154" y="577"/>
                  </a:lnTo>
                  <a:lnTo>
                    <a:pt x="154" y="565"/>
                  </a:lnTo>
                  <a:lnTo>
                    <a:pt x="154" y="556"/>
                  </a:lnTo>
                  <a:lnTo>
                    <a:pt x="154" y="544"/>
                  </a:lnTo>
                  <a:lnTo>
                    <a:pt x="154" y="532"/>
                  </a:lnTo>
                  <a:lnTo>
                    <a:pt x="154" y="522"/>
                  </a:lnTo>
                  <a:lnTo>
                    <a:pt x="156" y="508"/>
                  </a:lnTo>
                  <a:lnTo>
                    <a:pt x="156" y="499"/>
                  </a:lnTo>
                  <a:lnTo>
                    <a:pt x="156" y="487"/>
                  </a:lnTo>
                  <a:lnTo>
                    <a:pt x="159" y="473"/>
                  </a:lnTo>
                  <a:lnTo>
                    <a:pt x="161" y="461"/>
                  </a:lnTo>
                  <a:lnTo>
                    <a:pt x="161" y="446"/>
                  </a:lnTo>
                  <a:lnTo>
                    <a:pt x="164" y="435"/>
                  </a:lnTo>
                  <a:lnTo>
                    <a:pt x="164" y="420"/>
                  </a:lnTo>
                  <a:lnTo>
                    <a:pt x="166" y="408"/>
                  </a:lnTo>
                  <a:lnTo>
                    <a:pt x="168" y="397"/>
                  </a:lnTo>
                  <a:lnTo>
                    <a:pt x="171" y="382"/>
                  </a:lnTo>
                  <a:lnTo>
                    <a:pt x="173" y="370"/>
                  </a:lnTo>
                  <a:lnTo>
                    <a:pt x="175" y="359"/>
                  </a:lnTo>
                  <a:lnTo>
                    <a:pt x="178" y="344"/>
                  </a:lnTo>
                  <a:lnTo>
                    <a:pt x="178" y="332"/>
                  </a:lnTo>
                  <a:lnTo>
                    <a:pt x="183" y="318"/>
                  </a:lnTo>
                  <a:lnTo>
                    <a:pt x="183" y="306"/>
                  </a:lnTo>
                  <a:lnTo>
                    <a:pt x="187" y="294"/>
                  </a:lnTo>
                  <a:lnTo>
                    <a:pt x="190" y="282"/>
                  </a:lnTo>
                  <a:lnTo>
                    <a:pt x="192" y="268"/>
                  </a:lnTo>
                  <a:lnTo>
                    <a:pt x="194" y="256"/>
                  </a:lnTo>
                  <a:lnTo>
                    <a:pt x="197" y="242"/>
                  </a:lnTo>
                  <a:lnTo>
                    <a:pt x="197" y="230"/>
                  </a:lnTo>
                  <a:lnTo>
                    <a:pt x="202" y="218"/>
                  </a:lnTo>
                  <a:lnTo>
                    <a:pt x="204" y="206"/>
                  </a:lnTo>
                  <a:lnTo>
                    <a:pt x="206" y="197"/>
                  </a:lnTo>
                  <a:lnTo>
                    <a:pt x="209" y="185"/>
                  </a:lnTo>
                  <a:lnTo>
                    <a:pt x="211" y="176"/>
                  </a:lnTo>
                  <a:lnTo>
                    <a:pt x="213" y="164"/>
                  </a:lnTo>
                  <a:lnTo>
                    <a:pt x="216" y="154"/>
                  </a:lnTo>
                  <a:lnTo>
                    <a:pt x="218" y="142"/>
                  </a:lnTo>
                  <a:lnTo>
                    <a:pt x="221" y="135"/>
                  </a:lnTo>
                  <a:lnTo>
                    <a:pt x="223" y="126"/>
                  </a:lnTo>
                  <a:lnTo>
                    <a:pt x="225" y="118"/>
                  </a:lnTo>
                  <a:lnTo>
                    <a:pt x="228" y="109"/>
                  </a:lnTo>
                  <a:lnTo>
                    <a:pt x="230" y="99"/>
                  </a:lnTo>
                  <a:lnTo>
                    <a:pt x="230" y="92"/>
                  </a:lnTo>
                  <a:lnTo>
                    <a:pt x="232" y="85"/>
                  </a:lnTo>
                  <a:lnTo>
                    <a:pt x="237" y="73"/>
                  </a:lnTo>
                  <a:lnTo>
                    <a:pt x="242" y="64"/>
                  </a:lnTo>
                  <a:lnTo>
                    <a:pt x="242" y="54"/>
                  </a:lnTo>
                  <a:lnTo>
                    <a:pt x="244" y="50"/>
                  </a:lnTo>
                  <a:lnTo>
                    <a:pt x="244" y="45"/>
                  </a:lnTo>
                  <a:lnTo>
                    <a:pt x="247" y="45"/>
                  </a:lnTo>
                  <a:lnTo>
                    <a:pt x="107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24"/>
            <p:cNvSpPr/>
            <p:nvPr/>
          </p:nvSpPr>
          <p:spPr>
            <a:xfrm rot="1020000">
              <a:off x="4885560" y="-350280"/>
              <a:ext cx="1230480" cy="565560"/>
            </a:xfrm>
            <a:custGeom>
              <a:avLst/>
              <a:gdLst>
                <a:gd name="textAreaLeft" fmla="*/ 0 w 1230480"/>
                <a:gd name="textAreaRight" fmla="*/ 1230840 w 1230480"/>
                <a:gd name="textAreaTop" fmla="*/ 0 h 565560"/>
                <a:gd name="textAreaBottom" fmla="*/ 565920 h 565560"/>
              </a:gdLst>
              <a:ahLst/>
              <a:rect l="textAreaLeft" t="textAreaTop" r="textAreaRight" b="textAreaBottom"/>
              <a:pathLst>
                <a:path w="1038" h="452">
                  <a:moveTo>
                    <a:pt x="23" y="364"/>
                  </a:moveTo>
                  <a:lnTo>
                    <a:pt x="1038" y="0"/>
                  </a:lnTo>
                  <a:lnTo>
                    <a:pt x="1002" y="91"/>
                  </a:lnTo>
                  <a:lnTo>
                    <a:pt x="0" y="452"/>
                  </a:lnTo>
                  <a:lnTo>
                    <a:pt x="23" y="36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25"/>
            <p:cNvSpPr/>
            <p:nvPr/>
          </p:nvSpPr>
          <p:spPr>
            <a:xfrm rot="1020000">
              <a:off x="4708440" y="75240"/>
              <a:ext cx="1182960" cy="561240"/>
            </a:xfrm>
            <a:custGeom>
              <a:avLst/>
              <a:gdLst>
                <a:gd name="textAreaLeft" fmla="*/ 0 w 1182960"/>
                <a:gd name="textAreaRight" fmla="*/ 1183320 w 1182960"/>
                <a:gd name="textAreaTop" fmla="*/ 0 h 561240"/>
                <a:gd name="textAreaBottom" fmla="*/ 561600 h 561240"/>
              </a:gdLst>
              <a:ahLst/>
              <a:rect l="textAreaLeft" t="textAreaTop" r="textAreaRight" b="textAreaBottom"/>
              <a:pathLst>
                <a:path w="998" h="451">
                  <a:moveTo>
                    <a:pt x="0" y="339"/>
                  </a:moveTo>
                  <a:lnTo>
                    <a:pt x="998" y="0"/>
                  </a:lnTo>
                  <a:lnTo>
                    <a:pt x="991" y="168"/>
                  </a:lnTo>
                  <a:lnTo>
                    <a:pt x="79" y="451"/>
                  </a:lnTo>
                  <a:lnTo>
                    <a:pt x="0" y="33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26"/>
            <p:cNvSpPr/>
            <p:nvPr/>
          </p:nvSpPr>
          <p:spPr>
            <a:xfrm rot="1020000">
              <a:off x="5031360" y="726840"/>
              <a:ext cx="899280" cy="477720"/>
            </a:xfrm>
            <a:custGeom>
              <a:avLst/>
              <a:gdLst>
                <a:gd name="textAreaLeft" fmla="*/ 0 w 899280"/>
                <a:gd name="textAreaRight" fmla="*/ 899640 w 89928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760" h="383">
                  <a:moveTo>
                    <a:pt x="0" y="240"/>
                  </a:moveTo>
                  <a:lnTo>
                    <a:pt x="641" y="0"/>
                  </a:lnTo>
                  <a:lnTo>
                    <a:pt x="760" y="105"/>
                  </a:lnTo>
                  <a:lnTo>
                    <a:pt x="19" y="383"/>
                  </a:lnTo>
                  <a:lnTo>
                    <a:pt x="0" y="24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27"/>
            <p:cNvSpPr/>
            <p:nvPr/>
          </p:nvSpPr>
          <p:spPr>
            <a:xfrm rot="1020000">
              <a:off x="4891320" y="1102680"/>
              <a:ext cx="1344960" cy="713160"/>
            </a:xfrm>
            <a:custGeom>
              <a:avLst/>
              <a:gdLst>
                <a:gd name="textAreaLeft" fmla="*/ 0 w 1344960"/>
                <a:gd name="textAreaRight" fmla="*/ 1344960 w 1344960"/>
                <a:gd name="textAreaTop" fmla="*/ 0 h 713160"/>
                <a:gd name="textAreaBottom" fmla="*/ 713520 h 713160"/>
              </a:gdLst>
              <a:ahLst/>
              <a:rect l="textAreaLeft" t="textAreaTop" r="textAreaRight" b="textAreaBottom"/>
              <a:pathLst>
                <a:path w="1133" h="569">
                  <a:moveTo>
                    <a:pt x="0" y="425"/>
                  </a:moveTo>
                  <a:lnTo>
                    <a:pt x="1062" y="0"/>
                  </a:lnTo>
                  <a:lnTo>
                    <a:pt x="1133" y="161"/>
                  </a:lnTo>
                  <a:lnTo>
                    <a:pt x="102" y="527"/>
                  </a:lnTo>
                  <a:lnTo>
                    <a:pt x="0" y="425"/>
                  </a:lnTo>
                  <a:lnTo>
                    <a:pt x="144" y="56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28"/>
            <p:cNvSpPr/>
            <p:nvPr/>
          </p:nvSpPr>
          <p:spPr>
            <a:xfrm rot="1020000">
              <a:off x="5302080" y="1650960"/>
              <a:ext cx="842040" cy="589320"/>
            </a:xfrm>
            <a:custGeom>
              <a:avLst/>
              <a:gdLst>
                <a:gd name="textAreaLeft" fmla="*/ 0 w 842040"/>
                <a:gd name="textAreaRight" fmla="*/ 842400 w 842040"/>
                <a:gd name="textAreaTop" fmla="*/ 0 h 589320"/>
                <a:gd name="textAreaBottom" fmla="*/ 589680 h 589320"/>
              </a:gdLst>
              <a:ahLst/>
              <a:rect l="textAreaLeft" t="textAreaTop" r="textAreaRight" b="textAreaBottom"/>
              <a:pathLst>
                <a:path w="713" h="471">
                  <a:moveTo>
                    <a:pt x="0" y="345"/>
                  </a:moveTo>
                  <a:lnTo>
                    <a:pt x="2" y="337"/>
                  </a:lnTo>
                  <a:lnTo>
                    <a:pt x="9" y="330"/>
                  </a:lnTo>
                  <a:lnTo>
                    <a:pt x="19" y="323"/>
                  </a:lnTo>
                  <a:lnTo>
                    <a:pt x="33" y="314"/>
                  </a:lnTo>
                  <a:lnTo>
                    <a:pt x="38" y="307"/>
                  </a:lnTo>
                  <a:lnTo>
                    <a:pt x="47" y="302"/>
                  </a:lnTo>
                  <a:lnTo>
                    <a:pt x="54" y="297"/>
                  </a:lnTo>
                  <a:lnTo>
                    <a:pt x="66" y="292"/>
                  </a:lnTo>
                  <a:lnTo>
                    <a:pt x="76" y="285"/>
                  </a:lnTo>
                  <a:lnTo>
                    <a:pt x="88" y="280"/>
                  </a:lnTo>
                  <a:lnTo>
                    <a:pt x="97" y="276"/>
                  </a:lnTo>
                  <a:lnTo>
                    <a:pt x="112" y="269"/>
                  </a:lnTo>
                  <a:lnTo>
                    <a:pt x="123" y="261"/>
                  </a:lnTo>
                  <a:lnTo>
                    <a:pt x="135" y="254"/>
                  </a:lnTo>
                  <a:lnTo>
                    <a:pt x="147" y="247"/>
                  </a:lnTo>
                  <a:lnTo>
                    <a:pt x="161" y="240"/>
                  </a:lnTo>
                  <a:lnTo>
                    <a:pt x="173" y="233"/>
                  </a:lnTo>
                  <a:lnTo>
                    <a:pt x="188" y="226"/>
                  </a:lnTo>
                  <a:lnTo>
                    <a:pt x="204" y="219"/>
                  </a:lnTo>
                  <a:lnTo>
                    <a:pt x="218" y="214"/>
                  </a:lnTo>
                  <a:lnTo>
                    <a:pt x="233" y="204"/>
                  </a:lnTo>
                  <a:lnTo>
                    <a:pt x="247" y="197"/>
                  </a:lnTo>
                  <a:lnTo>
                    <a:pt x="261" y="190"/>
                  </a:lnTo>
                  <a:lnTo>
                    <a:pt x="280" y="183"/>
                  </a:lnTo>
                  <a:lnTo>
                    <a:pt x="294" y="174"/>
                  </a:lnTo>
                  <a:lnTo>
                    <a:pt x="309" y="166"/>
                  </a:lnTo>
                  <a:lnTo>
                    <a:pt x="325" y="159"/>
                  </a:lnTo>
                  <a:lnTo>
                    <a:pt x="342" y="154"/>
                  </a:lnTo>
                  <a:lnTo>
                    <a:pt x="356" y="145"/>
                  </a:lnTo>
                  <a:lnTo>
                    <a:pt x="373" y="138"/>
                  </a:lnTo>
                  <a:lnTo>
                    <a:pt x="390" y="131"/>
                  </a:lnTo>
                  <a:lnTo>
                    <a:pt x="404" y="124"/>
                  </a:lnTo>
                  <a:lnTo>
                    <a:pt x="418" y="114"/>
                  </a:lnTo>
                  <a:lnTo>
                    <a:pt x="435" y="107"/>
                  </a:lnTo>
                  <a:lnTo>
                    <a:pt x="449" y="100"/>
                  </a:lnTo>
                  <a:lnTo>
                    <a:pt x="466" y="95"/>
                  </a:lnTo>
                  <a:lnTo>
                    <a:pt x="477" y="86"/>
                  </a:lnTo>
                  <a:lnTo>
                    <a:pt x="492" y="81"/>
                  </a:lnTo>
                  <a:lnTo>
                    <a:pt x="506" y="74"/>
                  </a:lnTo>
                  <a:lnTo>
                    <a:pt x="520" y="67"/>
                  </a:lnTo>
                  <a:lnTo>
                    <a:pt x="534" y="62"/>
                  </a:lnTo>
                  <a:lnTo>
                    <a:pt x="546" y="57"/>
                  </a:lnTo>
                  <a:lnTo>
                    <a:pt x="558" y="50"/>
                  </a:lnTo>
                  <a:lnTo>
                    <a:pt x="572" y="45"/>
                  </a:lnTo>
                  <a:lnTo>
                    <a:pt x="582" y="40"/>
                  </a:lnTo>
                  <a:lnTo>
                    <a:pt x="594" y="33"/>
                  </a:lnTo>
                  <a:lnTo>
                    <a:pt x="603" y="31"/>
                  </a:lnTo>
                  <a:lnTo>
                    <a:pt x="613" y="26"/>
                  </a:lnTo>
                  <a:lnTo>
                    <a:pt x="622" y="21"/>
                  </a:lnTo>
                  <a:lnTo>
                    <a:pt x="632" y="17"/>
                  </a:lnTo>
                  <a:lnTo>
                    <a:pt x="639" y="14"/>
                  </a:lnTo>
                  <a:lnTo>
                    <a:pt x="648" y="12"/>
                  </a:lnTo>
                  <a:lnTo>
                    <a:pt x="660" y="5"/>
                  </a:lnTo>
                  <a:lnTo>
                    <a:pt x="667" y="2"/>
                  </a:lnTo>
                  <a:lnTo>
                    <a:pt x="675" y="0"/>
                  </a:lnTo>
                  <a:lnTo>
                    <a:pt x="677" y="0"/>
                  </a:lnTo>
                  <a:lnTo>
                    <a:pt x="713" y="140"/>
                  </a:lnTo>
                  <a:lnTo>
                    <a:pt x="26" y="471"/>
                  </a:lnTo>
                  <a:lnTo>
                    <a:pt x="0" y="34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29"/>
            <p:cNvSpPr/>
            <p:nvPr/>
          </p:nvSpPr>
          <p:spPr>
            <a:xfrm rot="1020000">
              <a:off x="5128920" y="-382320"/>
              <a:ext cx="1364040" cy="2575440"/>
            </a:xfrm>
            <a:custGeom>
              <a:avLst/>
              <a:gdLst>
                <a:gd name="textAreaLeft" fmla="*/ 0 w 1364040"/>
                <a:gd name="textAreaRight" fmla="*/ 1364400 w 1364040"/>
                <a:gd name="textAreaTop" fmla="*/ 0 h 2575440"/>
                <a:gd name="textAreaBottom" fmla="*/ 2575800 h 2575440"/>
              </a:gdLst>
              <a:ahLst/>
              <a:rect l="textAreaLeft" t="textAreaTop" r="textAreaRight" b="textAreaBottom"/>
              <a:pathLst>
                <a:path w="1150" h="2031">
                  <a:moveTo>
                    <a:pt x="1024" y="2031"/>
                  </a:moveTo>
                  <a:lnTo>
                    <a:pt x="1022" y="2029"/>
                  </a:lnTo>
                  <a:lnTo>
                    <a:pt x="1015" y="2024"/>
                  </a:lnTo>
                  <a:lnTo>
                    <a:pt x="1001" y="2015"/>
                  </a:lnTo>
                  <a:lnTo>
                    <a:pt x="989" y="2008"/>
                  </a:lnTo>
                  <a:lnTo>
                    <a:pt x="979" y="2001"/>
                  </a:lnTo>
                  <a:lnTo>
                    <a:pt x="967" y="1993"/>
                  </a:lnTo>
                  <a:lnTo>
                    <a:pt x="958" y="1986"/>
                  </a:lnTo>
                  <a:lnTo>
                    <a:pt x="948" y="1979"/>
                  </a:lnTo>
                  <a:lnTo>
                    <a:pt x="936" y="1972"/>
                  </a:lnTo>
                  <a:lnTo>
                    <a:pt x="925" y="1963"/>
                  </a:lnTo>
                  <a:lnTo>
                    <a:pt x="913" y="1953"/>
                  </a:lnTo>
                  <a:lnTo>
                    <a:pt x="903" y="1946"/>
                  </a:lnTo>
                  <a:lnTo>
                    <a:pt x="887" y="1934"/>
                  </a:lnTo>
                  <a:lnTo>
                    <a:pt x="875" y="1924"/>
                  </a:lnTo>
                  <a:lnTo>
                    <a:pt x="860" y="1915"/>
                  </a:lnTo>
                  <a:lnTo>
                    <a:pt x="849" y="1905"/>
                  </a:lnTo>
                  <a:lnTo>
                    <a:pt x="834" y="1894"/>
                  </a:lnTo>
                  <a:lnTo>
                    <a:pt x="820" y="1884"/>
                  </a:lnTo>
                  <a:lnTo>
                    <a:pt x="808" y="1872"/>
                  </a:lnTo>
                  <a:lnTo>
                    <a:pt x="794" y="1863"/>
                  </a:lnTo>
                  <a:lnTo>
                    <a:pt x="782" y="1848"/>
                  </a:lnTo>
                  <a:lnTo>
                    <a:pt x="768" y="1837"/>
                  </a:lnTo>
                  <a:lnTo>
                    <a:pt x="756" y="1825"/>
                  </a:lnTo>
                  <a:lnTo>
                    <a:pt x="742" y="1815"/>
                  </a:lnTo>
                  <a:lnTo>
                    <a:pt x="730" y="1803"/>
                  </a:lnTo>
                  <a:lnTo>
                    <a:pt x="720" y="1791"/>
                  </a:lnTo>
                  <a:lnTo>
                    <a:pt x="708" y="1780"/>
                  </a:lnTo>
                  <a:lnTo>
                    <a:pt x="699" y="1770"/>
                  </a:lnTo>
                  <a:lnTo>
                    <a:pt x="687" y="1756"/>
                  </a:lnTo>
                  <a:lnTo>
                    <a:pt x="680" y="1746"/>
                  </a:lnTo>
                  <a:lnTo>
                    <a:pt x="670" y="1734"/>
                  </a:lnTo>
                  <a:lnTo>
                    <a:pt x="663" y="1722"/>
                  </a:lnTo>
                  <a:lnTo>
                    <a:pt x="656" y="1711"/>
                  </a:lnTo>
                  <a:lnTo>
                    <a:pt x="649" y="1699"/>
                  </a:lnTo>
                  <a:lnTo>
                    <a:pt x="642" y="1687"/>
                  </a:lnTo>
                  <a:lnTo>
                    <a:pt x="637" y="1677"/>
                  </a:lnTo>
                  <a:lnTo>
                    <a:pt x="630" y="1665"/>
                  </a:lnTo>
                  <a:lnTo>
                    <a:pt x="623" y="1654"/>
                  </a:lnTo>
                  <a:lnTo>
                    <a:pt x="618" y="1644"/>
                  </a:lnTo>
                  <a:lnTo>
                    <a:pt x="616" y="1632"/>
                  </a:lnTo>
                  <a:lnTo>
                    <a:pt x="611" y="1620"/>
                  </a:lnTo>
                  <a:lnTo>
                    <a:pt x="606" y="1611"/>
                  </a:lnTo>
                  <a:lnTo>
                    <a:pt x="601" y="1599"/>
                  </a:lnTo>
                  <a:lnTo>
                    <a:pt x="599" y="1589"/>
                  </a:lnTo>
                  <a:lnTo>
                    <a:pt x="594" y="1578"/>
                  </a:lnTo>
                  <a:lnTo>
                    <a:pt x="590" y="1566"/>
                  </a:lnTo>
                  <a:lnTo>
                    <a:pt x="587" y="1556"/>
                  </a:lnTo>
                  <a:lnTo>
                    <a:pt x="585" y="1544"/>
                  </a:lnTo>
                  <a:lnTo>
                    <a:pt x="580" y="1535"/>
                  </a:lnTo>
                  <a:lnTo>
                    <a:pt x="575" y="1523"/>
                  </a:lnTo>
                  <a:lnTo>
                    <a:pt x="573" y="1511"/>
                  </a:lnTo>
                  <a:lnTo>
                    <a:pt x="571" y="1501"/>
                  </a:lnTo>
                  <a:lnTo>
                    <a:pt x="566" y="1490"/>
                  </a:lnTo>
                  <a:lnTo>
                    <a:pt x="561" y="1480"/>
                  </a:lnTo>
                  <a:lnTo>
                    <a:pt x="556" y="1468"/>
                  </a:lnTo>
                  <a:lnTo>
                    <a:pt x="554" y="1459"/>
                  </a:lnTo>
                  <a:lnTo>
                    <a:pt x="549" y="1447"/>
                  </a:lnTo>
                  <a:lnTo>
                    <a:pt x="544" y="1437"/>
                  </a:lnTo>
                  <a:lnTo>
                    <a:pt x="540" y="1425"/>
                  </a:lnTo>
                  <a:lnTo>
                    <a:pt x="535" y="1416"/>
                  </a:lnTo>
                  <a:lnTo>
                    <a:pt x="528" y="1402"/>
                  </a:lnTo>
                  <a:lnTo>
                    <a:pt x="523" y="1392"/>
                  </a:lnTo>
                  <a:lnTo>
                    <a:pt x="518" y="1380"/>
                  </a:lnTo>
                  <a:lnTo>
                    <a:pt x="511" y="1368"/>
                  </a:lnTo>
                  <a:lnTo>
                    <a:pt x="502" y="1359"/>
                  </a:lnTo>
                  <a:lnTo>
                    <a:pt x="497" y="1347"/>
                  </a:lnTo>
                  <a:lnTo>
                    <a:pt x="487" y="1337"/>
                  </a:lnTo>
                  <a:lnTo>
                    <a:pt x="483" y="1326"/>
                  </a:lnTo>
                  <a:lnTo>
                    <a:pt x="473" y="1314"/>
                  </a:lnTo>
                  <a:lnTo>
                    <a:pt x="466" y="1304"/>
                  </a:lnTo>
                  <a:lnTo>
                    <a:pt x="457" y="1292"/>
                  </a:lnTo>
                  <a:lnTo>
                    <a:pt x="449" y="1283"/>
                  </a:lnTo>
                  <a:lnTo>
                    <a:pt x="440" y="1271"/>
                  </a:lnTo>
                  <a:lnTo>
                    <a:pt x="430" y="1259"/>
                  </a:lnTo>
                  <a:lnTo>
                    <a:pt x="423" y="1250"/>
                  </a:lnTo>
                  <a:lnTo>
                    <a:pt x="414" y="1238"/>
                  </a:lnTo>
                  <a:lnTo>
                    <a:pt x="402" y="1228"/>
                  </a:lnTo>
                  <a:lnTo>
                    <a:pt x="392" y="1216"/>
                  </a:lnTo>
                  <a:lnTo>
                    <a:pt x="383" y="1204"/>
                  </a:lnTo>
                  <a:lnTo>
                    <a:pt x="371" y="1195"/>
                  </a:lnTo>
                  <a:lnTo>
                    <a:pt x="361" y="1183"/>
                  </a:lnTo>
                  <a:lnTo>
                    <a:pt x="350" y="1174"/>
                  </a:lnTo>
                  <a:lnTo>
                    <a:pt x="340" y="1162"/>
                  </a:lnTo>
                  <a:lnTo>
                    <a:pt x="328" y="1154"/>
                  </a:lnTo>
                  <a:lnTo>
                    <a:pt x="316" y="1145"/>
                  </a:lnTo>
                  <a:lnTo>
                    <a:pt x="304" y="1133"/>
                  </a:lnTo>
                  <a:lnTo>
                    <a:pt x="293" y="1124"/>
                  </a:lnTo>
                  <a:lnTo>
                    <a:pt x="281" y="1114"/>
                  </a:lnTo>
                  <a:lnTo>
                    <a:pt x="269" y="1105"/>
                  </a:lnTo>
                  <a:lnTo>
                    <a:pt x="259" y="1095"/>
                  </a:lnTo>
                  <a:lnTo>
                    <a:pt x="247" y="1086"/>
                  </a:lnTo>
                  <a:lnTo>
                    <a:pt x="236" y="1078"/>
                  </a:lnTo>
                  <a:lnTo>
                    <a:pt x="224" y="1067"/>
                  </a:lnTo>
                  <a:lnTo>
                    <a:pt x="209" y="1059"/>
                  </a:lnTo>
                  <a:lnTo>
                    <a:pt x="198" y="1050"/>
                  </a:lnTo>
                  <a:lnTo>
                    <a:pt x="183" y="1040"/>
                  </a:lnTo>
                  <a:lnTo>
                    <a:pt x="171" y="1031"/>
                  </a:lnTo>
                  <a:lnTo>
                    <a:pt x="157" y="1024"/>
                  </a:lnTo>
                  <a:lnTo>
                    <a:pt x="148" y="1014"/>
                  </a:lnTo>
                  <a:lnTo>
                    <a:pt x="136" y="1005"/>
                  </a:lnTo>
                  <a:lnTo>
                    <a:pt x="122" y="995"/>
                  </a:lnTo>
                  <a:lnTo>
                    <a:pt x="112" y="986"/>
                  </a:lnTo>
                  <a:lnTo>
                    <a:pt x="100" y="976"/>
                  </a:lnTo>
                  <a:lnTo>
                    <a:pt x="91" y="969"/>
                  </a:lnTo>
                  <a:lnTo>
                    <a:pt x="81" y="957"/>
                  </a:lnTo>
                  <a:lnTo>
                    <a:pt x="69" y="948"/>
                  </a:lnTo>
                  <a:lnTo>
                    <a:pt x="62" y="938"/>
                  </a:lnTo>
                  <a:lnTo>
                    <a:pt x="53" y="929"/>
                  </a:lnTo>
                  <a:lnTo>
                    <a:pt x="45" y="914"/>
                  </a:lnTo>
                  <a:lnTo>
                    <a:pt x="36" y="903"/>
                  </a:lnTo>
                  <a:lnTo>
                    <a:pt x="29" y="891"/>
                  </a:lnTo>
                  <a:lnTo>
                    <a:pt x="24" y="879"/>
                  </a:lnTo>
                  <a:lnTo>
                    <a:pt x="17" y="865"/>
                  </a:lnTo>
                  <a:lnTo>
                    <a:pt x="12" y="850"/>
                  </a:lnTo>
                  <a:lnTo>
                    <a:pt x="10" y="836"/>
                  </a:lnTo>
                  <a:lnTo>
                    <a:pt x="5" y="822"/>
                  </a:lnTo>
                  <a:lnTo>
                    <a:pt x="3" y="812"/>
                  </a:lnTo>
                  <a:lnTo>
                    <a:pt x="0" y="805"/>
                  </a:lnTo>
                  <a:lnTo>
                    <a:pt x="0" y="796"/>
                  </a:lnTo>
                  <a:lnTo>
                    <a:pt x="0" y="789"/>
                  </a:lnTo>
                  <a:lnTo>
                    <a:pt x="0" y="779"/>
                  </a:lnTo>
                  <a:lnTo>
                    <a:pt x="0" y="772"/>
                  </a:lnTo>
                  <a:lnTo>
                    <a:pt x="0" y="762"/>
                  </a:lnTo>
                  <a:lnTo>
                    <a:pt x="0" y="753"/>
                  </a:lnTo>
                  <a:lnTo>
                    <a:pt x="0" y="743"/>
                  </a:lnTo>
                  <a:lnTo>
                    <a:pt x="3" y="734"/>
                  </a:lnTo>
                  <a:lnTo>
                    <a:pt x="5" y="724"/>
                  </a:lnTo>
                  <a:lnTo>
                    <a:pt x="5" y="715"/>
                  </a:lnTo>
                  <a:lnTo>
                    <a:pt x="7" y="703"/>
                  </a:lnTo>
                  <a:lnTo>
                    <a:pt x="10" y="693"/>
                  </a:lnTo>
                  <a:lnTo>
                    <a:pt x="12" y="684"/>
                  </a:lnTo>
                  <a:lnTo>
                    <a:pt x="17" y="674"/>
                  </a:lnTo>
                  <a:lnTo>
                    <a:pt x="17" y="660"/>
                  </a:lnTo>
                  <a:lnTo>
                    <a:pt x="19" y="648"/>
                  </a:lnTo>
                  <a:lnTo>
                    <a:pt x="24" y="636"/>
                  </a:lnTo>
                  <a:lnTo>
                    <a:pt x="26" y="627"/>
                  </a:lnTo>
                  <a:lnTo>
                    <a:pt x="31" y="613"/>
                  </a:lnTo>
                  <a:lnTo>
                    <a:pt x="34" y="601"/>
                  </a:lnTo>
                  <a:lnTo>
                    <a:pt x="38" y="589"/>
                  </a:lnTo>
                  <a:lnTo>
                    <a:pt x="45" y="577"/>
                  </a:lnTo>
                  <a:lnTo>
                    <a:pt x="48" y="565"/>
                  </a:lnTo>
                  <a:lnTo>
                    <a:pt x="53" y="551"/>
                  </a:lnTo>
                  <a:lnTo>
                    <a:pt x="57" y="539"/>
                  </a:lnTo>
                  <a:lnTo>
                    <a:pt x="64" y="525"/>
                  </a:lnTo>
                  <a:lnTo>
                    <a:pt x="69" y="513"/>
                  </a:lnTo>
                  <a:lnTo>
                    <a:pt x="74" y="499"/>
                  </a:lnTo>
                  <a:lnTo>
                    <a:pt x="81" y="487"/>
                  </a:lnTo>
                  <a:lnTo>
                    <a:pt x="88" y="472"/>
                  </a:lnTo>
                  <a:lnTo>
                    <a:pt x="93" y="458"/>
                  </a:lnTo>
                  <a:lnTo>
                    <a:pt x="100" y="446"/>
                  </a:lnTo>
                  <a:lnTo>
                    <a:pt x="105" y="432"/>
                  </a:lnTo>
                  <a:lnTo>
                    <a:pt x="112" y="418"/>
                  </a:lnTo>
                  <a:lnTo>
                    <a:pt x="117" y="406"/>
                  </a:lnTo>
                  <a:lnTo>
                    <a:pt x="124" y="392"/>
                  </a:lnTo>
                  <a:lnTo>
                    <a:pt x="131" y="380"/>
                  </a:lnTo>
                  <a:lnTo>
                    <a:pt x="138" y="368"/>
                  </a:lnTo>
                  <a:lnTo>
                    <a:pt x="145" y="354"/>
                  </a:lnTo>
                  <a:lnTo>
                    <a:pt x="152" y="342"/>
                  </a:lnTo>
                  <a:lnTo>
                    <a:pt x="160" y="327"/>
                  </a:lnTo>
                  <a:lnTo>
                    <a:pt x="167" y="316"/>
                  </a:lnTo>
                  <a:lnTo>
                    <a:pt x="171" y="301"/>
                  </a:lnTo>
                  <a:lnTo>
                    <a:pt x="181" y="289"/>
                  </a:lnTo>
                  <a:lnTo>
                    <a:pt x="186" y="278"/>
                  </a:lnTo>
                  <a:lnTo>
                    <a:pt x="195" y="266"/>
                  </a:lnTo>
                  <a:lnTo>
                    <a:pt x="202" y="254"/>
                  </a:lnTo>
                  <a:lnTo>
                    <a:pt x="209" y="240"/>
                  </a:lnTo>
                  <a:lnTo>
                    <a:pt x="214" y="228"/>
                  </a:lnTo>
                  <a:lnTo>
                    <a:pt x="221" y="218"/>
                  </a:lnTo>
                  <a:lnTo>
                    <a:pt x="226" y="206"/>
                  </a:lnTo>
                  <a:lnTo>
                    <a:pt x="233" y="197"/>
                  </a:lnTo>
                  <a:lnTo>
                    <a:pt x="240" y="185"/>
                  </a:lnTo>
                  <a:lnTo>
                    <a:pt x="247" y="175"/>
                  </a:lnTo>
                  <a:lnTo>
                    <a:pt x="252" y="163"/>
                  </a:lnTo>
                  <a:lnTo>
                    <a:pt x="257" y="154"/>
                  </a:lnTo>
                  <a:lnTo>
                    <a:pt x="264" y="144"/>
                  </a:lnTo>
                  <a:lnTo>
                    <a:pt x="269" y="135"/>
                  </a:lnTo>
                  <a:lnTo>
                    <a:pt x="274" y="125"/>
                  </a:lnTo>
                  <a:lnTo>
                    <a:pt x="278" y="116"/>
                  </a:lnTo>
                  <a:lnTo>
                    <a:pt x="285" y="109"/>
                  </a:lnTo>
                  <a:lnTo>
                    <a:pt x="290" y="102"/>
                  </a:lnTo>
                  <a:lnTo>
                    <a:pt x="300" y="87"/>
                  </a:lnTo>
                  <a:lnTo>
                    <a:pt x="307" y="73"/>
                  </a:lnTo>
                  <a:lnTo>
                    <a:pt x="314" y="61"/>
                  </a:lnTo>
                  <a:lnTo>
                    <a:pt x="321" y="54"/>
                  </a:lnTo>
                  <a:lnTo>
                    <a:pt x="326" y="47"/>
                  </a:lnTo>
                  <a:lnTo>
                    <a:pt x="328" y="42"/>
                  </a:lnTo>
                  <a:lnTo>
                    <a:pt x="333" y="38"/>
                  </a:lnTo>
                  <a:lnTo>
                    <a:pt x="471" y="0"/>
                  </a:lnTo>
                  <a:lnTo>
                    <a:pt x="464" y="7"/>
                  </a:lnTo>
                  <a:lnTo>
                    <a:pt x="459" y="16"/>
                  </a:lnTo>
                  <a:lnTo>
                    <a:pt x="452" y="23"/>
                  </a:lnTo>
                  <a:lnTo>
                    <a:pt x="447" y="35"/>
                  </a:lnTo>
                  <a:lnTo>
                    <a:pt x="437" y="47"/>
                  </a:lnTo>
                  <a:lnTo>
                    <a:pt x="430" y="64"/>
                  </a:lnTo>
                  <a:lnTo>
                    <a:pt x="423" y="71"/>
                  </a:lnTo>
                  <a:lnTo>
                    <a:pt x="418" y="78"/>
                  </a:lnTo>
                  <a:lnTo>
                    <a:pt x="411" y="87"/>
                  </a:lnTo>
                  <a:lnTo>
                    <a:pt x="409" y="95"/>
                  </a:lnTo>
                  <a:lnTo>
                    <a:pt x="402" y="104"/>
                  </a:lnTo>
                  <a:lnTo>
                    <a:pt x="395" y="111"/>
                  </a:lnTo>
                  <a:lnTo>
                    <a:pt x="390" y="123"/>
                  </a:lnTo>
                  <a:lnTo>
                    <a:pt x="383" y="135"/>
                  </a:lnTo>
                  <a:lnTo>
                    <a:pt x="376" y="142"/>
                  </a:lnTo>
                  <a:lnTo>
                    <a:pt x="371" y="154"/>
                  </a:lnTo>
                  <a:lnTo>
                    <a:pt x="364" y="163"/>
                  </a:lnTo>
                  <a:lnTo>
                    <a:pt x="357" y="175"/>
                  </a:lnTo>
                  <a:lnTo>
                    <a:pt x="350" y="187"/>
                  </a:lnTo>
                  <a:lnTo>
                    <a:pt x="345" y="199"/>
                  </a:lnTo>
                  <a:lnTo>
                    <a:pt x="338" y="211"/>
                  </a:lnTo>
                  <a:lnTo>
                    <a:pt x="333" y="223"/>
                  </a:lnTo>
                  <a:lnTo>
                    <a:pt x="323" y="232"/>
                  </a:lnTo>
                  <a:lnTo>
                    <a:pt x="319" y="244"/>
                  </a:lnTo>
                  <a:lnTo>
                    <a:pt x="309" y="256"/>
                  </a:lnTo>
                  <a:lnTo>
                    <a:pt x="302" y="268"/>
                  </a:lnTo>
                  <a:lnTo>
                    <a:pt x="295" y="280"/>
                  </a:lnTo>
                  <a:lnTo>
                    <a:pt x="288" y="294"/>
                  </a:lnTo>
                  <a:lnTo>
                    <a:pt x="281" y="306"/>
                  </a:lnTo>
                  <a:lnTo>
                    <a:pt x="276" y="320"/>
                  </a:lnTo>
                  <a:lnTo>
                    <a:pt x="266" y="332"/>
                  </a:lnTo>
                  <a:lnTo>
                    <a:pt x="262" y="344"/>
                  </a:lnTo>
                  <a:lnTo>
                    <a:pt x="255" y="356"/>
                  </a:lnTo>
                  <a:lnTo>
                    <a:pt x="250" y="368"/>
                  </a:lnTo>
                  <a:lnTo>
                    <a:pt x="240" y="380"/>
                  </a:lnTo>
                  <a:lnTo>
                    <a:pt x="236" y="392"/>
                  </a:lnTo>
                  <a:lnTo>
                    <a:pt x="228" y="406"/>
                  </a:lnTo>
                  <a:lnTo>
                    <a:pt x="224" y="418"/>
                  </a:lnTo>
                  <a:lnTo>
                    <a:pt x="217" y="430"/>
                  </a:lnTo>
                  <a:lnTo>
                    <a:pt x="212" y="442"/>
                  </a:lnTo>
                  <a:lnTo>
                    <a:pt x="205" y="453"/>
                  </a:lnTo>
                  <a:lnTo>
                    <a:pt x="202" y="465"/>
                  </a:lnTo>
                  <a:lnTo>
                    <a:pt x="195" y="477"/>
                  </a:lnTo>
                  <a:lnTo>
                    <a:pt x="190" y="489"/>
                  </a:lnTo>
                  <a:lnTo>
                    <a:pt x="186" y="501"/>
                  </a:lnTo>
                  <a:lnTo>
                    <a:pt x="181" y="513"/>
                  </a:lnTo>
                  <a:lnTo>
                    <a:pt x="176" y="525"/>
                  </a:lnTo>
                  <a:lnTo>
                    <a:pt x="171" y="534"/>
                  </a:lnTo>
                  <a:lnTo>
                    <a:pt x="169" y="546"/>
                  </a:lnTo>
                  <a:lnTo>
                    <a:pt x="164" y="556"/>
                  </a:lnTo>
                  <a:lnTo>
                    <a:pt x="162" y="565"/>
                  </a:lnTo>
                  <a:lnTo>
                    <a:pt x="160" y="577"/>
                  </a:lnTo>
                  <a:lnTo>
                    <a:pt x="157" y="587"/>
                  </a:lnTo>
                  <a:lnTo>
                    <a:pt x="155" y="596"/>
                  </a:lnTo>
                  <a:lnTo>
                    <a:pt x="152" y="606"/>
                  </a:lnTo>
                  <a:lnTo>
                    <a:pt x="150" y="615"/>
                  </a:lnTo>
                  <a:lnTo>
                    <a:pt x="148" y="622"/>
                  </a:lnTo>
                  <a:lnTo>
                    <a:pt x="148" y="632"/>
                  </a:lnTo>
                  <a:lnTo>
                    <a:pt x="145" y="641"/>
                  </a:lnTo>
                  <a:lnTo>
                    <a:pt x="143" y="648"/>
                  </a:lnTo>
                  <a:lnTo>
                    <a:pt x="143" y="658"/>
                  </a:lnTo>
                  <a:lnTo>
                    <a:pt x="143" y="667"/>
                  </a:lnTo>
                  <a:lnTo>
                    <a:pt x="143" y="674"/>
                  </a:lnTo>
                  <a:lnTo>
                    <a:pt x="143" y="682"/>
                  </a:lnTo>
                  <a:lnTo>
                    <a:pt x="143" y="691"/>
                  </a:lnTo>
                  <a:lnTo>
                    <a:pt x="143" y="698"/>
                  </a:lnTo>
                  <a:lnTo>
                    <a:pt x="143" y="705"/>
                  </a:lnTo>
                  <a:lnTo>
                    <a:pt x="143" y="715"/>
                  </a:lnTo>
                  <a:lnTo>
                    <a:pt x="145" y="724"/>
                  </a:lnTo>
                  <a:lnTo>
                    <a:pt x="148" y="731"/>
                  </a:lnTo>
                  <a:lnTo>
                    <a:pt x="148" y="746"/>
                  </a:lnTo>
                  <a:lnTo>
                    <a:pt x="150" y="760"/>
                  </a:lnTo>
                  <a:lnTo>
                    <a:pt x="155" y="777"/>
                  </a:lnTo>
                  <a:lnTo>
                    <a:pt x="162" y="791"/>
                  </a:lnTo>
                  <a:lnTo>
                    <a:pt x="164" y="805"/>
                  </a:lnTo>
                  <a:lnTo>
                    <a:pt x="171" y="819"/>
                  </a:lnTo>
                  <a:lnTo>
                    <a:pt x="176" y="834"/>
                  </a:lnTo>
                  <a:lnTo>
                    <a:pt x="186" y="848"/>
                  </a:lnTo>
                  <a:lnTo>
                    <a:pt x="190" y="860"/>
                  </a:lnTo>
                  <a:lnTo>
                    <a:pt x="200" y="872"/>
                  </a:lnTo>
                  <a:lnTo>
                    <a:pt x="209" y="886"/>
                  </a:lnTo>
                  <a:lnTo>
                    <a:pt x="217" y="898"/>
                  </a:lnTo>
                  <a:lnTo>
                    <a:pt x="226" y="910"/>
                  </a:lnTo>
                  <a:lnTo>
                    <a:pt x="233" y="922"/>
                  </a:lnTo>
                  <a:lnTo>
                    <a:pt x="245" y="931"/>
                  </a:lnTo>
                  <a:lnTo>
                    <a:pt x="255" y="945"/>
                  </a:lnTo>
                  <a:lnTo>
                    <a:pt x="264" y="955"/>
                  </a:lnTo>
                  <a:lnTo>
                    <a:pt x="276" y="967"/>
                  </a:lnTo>
                  <a:lnTo>
                    <a:pt x="285" y="979"/>
                  </a:lnTo>
                  <a:lnTo>
                    <a:pt x="300" y="991"/>
                  </a:lnTo>
                  <a:lnTo>
                    <a:pt x="309" y="1000"/>
                  </a:lnTo>
                  <a:lnTo>
                    <a:pt x="321" y="1012"/>
                  </a:lnTo>
                  <a:lnTo>
                    <a:pt x="333" y="1024"/>
                  </a:lnTo>
                  <a:lnTo>
                    <a:pt x="347" y="1036"/>
                  </a:lnTo>
                  <a:lnTo>
                    <a:pt x="357" y="1043"/>
                  </a:lnTo>
                  <a:lnTo>
                    <a:pt x="369" y="1055"/>
                  </a:lnTo>
                  <a:lnTo>
                    <a:pt x="380" y="1064"/>
                  </a:lnTo>
                  <a:lnTo>
                    <a:pt x="395" y="1074"/>
                  </a:lnTo>
                  <a:lnTo>
                    <a:pt x="404" y="1086"/>
                  </a:lnTo>
                  <a:lnTo>
                    <a:pt x="416" y="1095"/>
                  </a:lnTo>
                  <a:lnTo>
                    <a:pt x="430" y="1105"/>
                  </a:lnTo>
                  <a:lnTo>
                    <a:pt x="442" y="1116"/>
                  </a:lnTo>
                  <a:lnTo>
                    <a:pt x="454" y="1126"/>
                  </a:lnTo>
                  <a:lnTo>
                    <a:pt x="466" y="1135"/>
                  </a:lnTo>
                  <a:lnTo>
                    <a:pt x="478" y="1147"/>
                  </a:lnTo>
                  <a:lnTo>
                    <a:pt x="490" y="1159"/>
                  </a:lnTo>
                  <a:lnTo>
                    <a:pt x="502" y="1169"/>
                  </a:lnTo>
                  <a:lnTo>
                    <a:pt x="514" y="1178"/>
                  </a:lnTo>
                  <a:lnTo>
                    <a:pt x="525" y="1188"/>
                  </a:lnTo>
                  <a:lnTo>
                    <a:pt x="540" y="1200"/>
                  </a:lnTo>
                  <a:lnTo>
                    <a:pt x="549" y="1209"/>
                  </a:lnTo>
                  <a:lnTo>
                    <a:pt x="561" y="1221"/>
                  </a:lnTo>
                  <a:lnTo>
                    <a:pt x="571" y="1231"/>
                  </a:lnTo>
                  <a:lnTo>
                    <a:pt x="582" y="1242"/>
                  </a:lnTo>
                  <a:lnTo>
                    <a:pt x="592" y="1250"/>
                  </a:lnTo>
                  <a:lnTo>
                    <a:pt x="601" y="1261"/>
                  </a:lnTo>
                  <a:lnTo>
                    <a:pt x="611" y="1271"/>
                  </a:lnTo>
                  <a:lnTo>
                    <a:pt x="623" y="1283"/>
                  </a:lnTo>
                  <a:lnTo>
                    <a:pt x="630" y="1292"/>
                  </a:lnTo>
                  <a:lnTo>
                    <a:pt x="639" y="1304"/>
                  </a:lnTo>
                  <a:lnTo>
                    <a:pt x="649" y="1314"/>
                  </a:lnTo>
                  <a:lnTo>
                    <a:pt x="656" y="1326"/>
                  </a:lnTo>
                  <a:lnTo>
                    <a:pt x="663" y="1337"/>
                  </a:lnTo>
                  <a:lnTo>
                    <a:pt x="673" y="1349"/>
                  </a:lnTo>
                  <a:lnTo>
                    <a:pt x="680" y="1359"/>
                  </a:lnTo>
                  <a:lnTo>
                    <a:pt x="687" y="1373"/>
                  </a:lnTo>
                  <a:lnTo>
                    <a:pt x="692" y="1383"/>
                  </a:lnTo>
                  <a:lnTo>
                    <a:pt x="696" y="1395"/>
                  </a:lnTo>
                  <a:lnTo>
                    <a:pt x="701" y="1406"/>
                  </a:lnTo>
                  <a:lnTo>
                    <a:pt x="706" y="1418"/>
                  </a:lnTo>
                  <a:lnTo>
                    <a:pt x="711" y="1430"/>
                  </a:lnTo>
                  <a:lnTo>
                    <a:pt x="715" y="1442"/>
                  </a:lnTo>
                  <a:lnTo>
                    <a:pt x="720" y="1454"/>
                  </a:lnTo>
                  <a:lnTo>
                    <a:pt x="725" y="1466"/>
                  </a:lnTo>
                  <a:lnTo>
                    <a:pt x="727" y="1478"/>
                  </a:lnTo>
                  <a:lnTo>
                    <a:pt x="730" y="1490"/>
                  </a:lnTo>
                  <a:lnTo>
                    <a:pt x="732" y="1501"/>
                  </a:lnTo>
                  <a:lnTo>
                    <a:pt x="737" y="1513"/>
                  </a:lnTo>
                  <a:lnTo>
                    <a:pt x="739" y="1525"/>
                  </a:lnTo>
                  <a:lnTo>
                    <a:pt x="742" y="1537"/>
                  </a:lnTo>
                  <a:lnTo>
                    <a:pt x="746" y="1549"/>
                  </a:lnTo>
                  <a:lnTo>
                    <a:pt x="751" y="1563"/>
                  </a:lnTo>
                  <a:lnTo>
                    <a:pt x="753" y="1573"/>
                  </a:lnTo>
                  <a:lnTo>
                    <a:pt x="756" y="1585"/>
                  </a:lnTo>
                  <a:lnTo>
                    <a:pt x="761" y="1597"/>
                  </a:lnTo>
                  <a:lnTo>
                    <a:pt x="765" y="1608"/>
                  </a:lnTo>
                  <a:lnTo>
                    <a:pt x="768" y="1620"/>
                  </a:lnTo>
                  <a:lnTo>
                    <a:pt x="773" y="1632"/>
                  </a:lnTo>
                  <a:lnTo>
                    <a:pt x="777" y="1644"/>
                  </a:lnTo>
                  <a:lnTo>
                    <a:pt x="782" y="1656"/>
                  </a:lnTo>
                  <a:lnTo>
                    <a:pt x="787" y="1665"/>
                  </a:lnTo>
                  <a:lnTo>
                    <a:pt x="794" y="1680"/>
                  </a:lnTo>
                  <a:lnTo>
                    <a:pt x="799" y="1689"/>
                  </a:lnTo>
                  <a:lnTo>
                    <a:pt x="808" y="1701"/>
                  </a:lnTo>
                  <a:lnTo>
                    <a:pt x="813" y="1713"/>
                  </a:lnTo>
                  <a:lnTo>
                    <a:pt x="822" y="1722"/>
                  </a:lnTo>
                  <a:lnTo>
                    <a:pt x="830" y="1734"/>
                  </a:lnTo>
                  <a:lnTo>
                    <a:pt x="841" y="1746"/>
                  </a:lnTo>
                  <a:lnTo>
                    <a:pt x="849" y="1756"/>
                  </a:lnTo>
                  <a:lnTo>
                    <a:pt x="858" y="1768"/>
                  </a:lnTo>
                  <a:lnTo>
                    <a:pt x="870" y="1777"/>
                  </a:lnTo>
                  <a:lnTo>
                    <a:pt x="882" y="1789"/>
                  </a:lnTo>
                  <a:lnTo>
                    <a:pt x="891" y="1796"/>
                  </a:lnTo>
                  <a:lnTo>
                    <a:pt x="906" y="1808"/>
                  </a:lnTo>
                  <a:lnTo>
                    <a:pt x="917" y="1818"/>
                  </a:lnTo>
                  <a:lnTo>
                    <a:pt x="932" y="1827"/>
                  </a:lnTo>
                  <a:lnTo>
                    <a:pt x="941" y="1837"/>
                  </a:lnTo>
                  <a:lnTo>
                    <a:pt x="955" y="1844"/>
                  </a:lnTo>
                  <a:lnTo>
                    <a:pt x="967" y="1853"/>
                  </a:lnTo>
                  <a:lnTo>
                    <a:pt x="982" y="1863"/>
                  </a:lnTo>
                  <a:lnTo>
                    <a:pt x="993" y="1870"/>
                  </a:lnTo>
                  <a:lnTo>
                    <a:pt x="1008" y="1879"/>
                  </a:lnTo>
                  <a:lnTo>
                    <a:pt x="1020" y="1886"/>
                  </a:lnTo>
                  <a:lnTo>
                    <a:pt x="1034" y="1896"/>
                  </a:lnTo>
                  <a:lnTo>
                    <a:pt x="1043" y="1903"/>
                  </a:lnTo>
                  <a:lnTo>
                    <a:pt x="1055" y="1910"/>
                  </a:lnTo>
                  <a:lnTo>
                    <a:pt x="1067" y="1915"/>
                  </a:lnTo>
                  <a:lnTo>
                    <a:pt x="1077" y="1922"/>
                  </a:lnTo>
                  <a:lnTo>
                    <a:pt x="1088" y="1927"/>
                  </a:lnTo>
                  <a:lnTo>
                    <a:pt x="1098" y="1934"/>
                  </a:lnTo>
                  <a:lnTo>
                    <a:pt x="1105" y="1939"/>
                  </a:lnTo>
                  <a:lnTo>
                    <a:pt x="1115" y="1943"/>
                  </a:lnTo>
                  <a:lnTo>
                    <a:pt x="1127" y="1948"/>
                  </a:lnTo>
                  <a:lnTo>
                    <a:pt x="1141" y="1955"/>
                  </a:lnTo>
                  <a:lnTo>
                    <a:pt x="1148" y="1958"/>
                  </a:lnTo>
                  <a:lnTo>
                    <a:pt x="1150" y="1960"/>
                  </a:lnTo>
                  <a:lnTo>
                    <a:pt x="1024" y="203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30"/>
            <p:cNvSpPr/>
            <p:nvPr/>
          </p:nvSpPr>
          <p:spPr>
            <a:xfrm rot="1020000">
              <a:off x="4767840" y="-312840"/>
              <a:ext cx="1210320" cy="2810520"/>
            </a:xfrm>
            <a:custGeom>
              <a:avLst/>
              <a:gdLst>
                <a:gd name="textAreaLeft" fmla="*/ 0 w 1210320"/>
                <a:gd name="textAreaRight" fmla="*/ 1210680 w 1210320"/>
                <a:gd name="textAreaTop" fmla="*/ 0 h 2810520"/>
                <a:gd name="textAreaBottom" fmla="*/ 2810880 h 2810520"/>
              </a:gdLst>
              <a:ahLst/>
              <a:rect l="textAreaLeft" t="textAreaTop" r="textAreaRight" b="textAreaBottom"/>
              <a:pathLst>
                <a:path w="1019" h="2217">
                  <a:moveTo>
                    <a:pt x="850" y="2217"/>
                  </a:moveTo>
                  <a:lnTo>
                    <a:pt x="850" y="2212"/>
                  </a:lnTo>
                  <a:lnTo>
                    <a:pt x="850" y="2200"/>
                  </a:lnTo>
                  <a:lnTo>
                    <a:pt x="850" y="2191"/>
                  </a:lnTo>
                  <a:lnTo>
                    <a:pt x="853" y="2184"/>
                  </a:lnTo>
                  <a:lnTo>
                    <a:pt x="853" y="2172"/>
                  </a:lnTo>
                  <a:lnTo>
                    <a:pt x="855" y="2162"/>
                  </a:lnTo>
                  <a:lnTo>
                    <a:pt x="855" y="2148"/>
                  </a:lnTo>
                  <a:lnTo>
                    <a:pt x="855" y="2134"/>
                  </a:lnTo>
                  <a:lnTo>
                    <a:pt x="855" y="2117"/>
                  </a:lnTo>
                  <a:lnTo>
                    <a:pt x="857" y="2103"/>
                  </a:lnTo>
                  <a:lnTo>
                    <a:pt x="857" y="2093"/>
                  </a:lnTo>
                  <a:lnTo>
                    <a:pt x="857" y="2084"/>
                  </a:lnTo>
                  <a:lnTo>
                    <a:pt x="857" y="2077"/>
                  </a:lnTo>
                  <a:lnTo>
                    <a:pt x="860" y="2067"/>
                  </a:lnTo>
                  <a:lnTo>
                    <a:pt x="860" y="2058"/>
                  </a:lnTo>
                  <a:lnTo>
                    <a:pt x="860" y="2048"/>
                  </a:lnTo>
                  <a:lnTo>
                    <a:pt x="860" y="2041"/>
                  </a:lnTo>
                  <a:lnTo>
                    <a:pt x="860" y="2032"/>
                  </a:lnTo>
                  <a:lnTo>
                    <a:pt x="860" y="2022"/>
                  </a:lnTo>
                  <a:lnTo>
                    <a:pt x="860" y="2013"/>
                  </a:lnTo>
                  <a:lnTo>
                    <a:pt x="860" y="2001"/>
                  </a:lnTo>
                  <a:lnTo>
                    <a:pt x="860" y="1991"/>
                  </a:lnTo>
                  <a:lnTo>
                    <a:pt x="857" y="1982"/>
                  </a:lnTo>
                  <a:lnTo>
                    <a:pt x="857" y="1972"/>
                  </a:lnTo>
                  <a:lnTo>
                    <a:pt x="857" y="1960"/>
                  </a:lnTo>
                  <a:lnTo>
                    <a:pt x="857" y="1953"/>
                  </a:lnTo>
                  <a:lnTo>
                    <a:pt x="855" y="1941"/>
                  </a:lnTo>
                  <a:lnTo>
                    <a:pt x="855" y="1932"/>
                  </a:lnTo>
                  <a:lnTo>
                    <a:pt x="855" y="1922"/>
                  </a:lnTo>
                  <a:lnTo>
                    <a:pt x="855" y="1913"/>
                  </a:lnTo>
                  <a:lnTo>
                    <a:pt x="853" y="1903"/>
                  </a:lnTo>
                  <a:lnTo>
                    <a:pt x="853" y="1891"/>
                  </a:lnTo>
                  <a:lnTo>
                    <a:pt x="853" y="1882"/>
                  </a:lnTo>
                  <a:lnTo>
                    <a:pt x="853" y="1875"/>
                  </a:lnTo>
                  <a:lnTo>
                    <a:pt x="848" y="1863"/>
                  </a:lnTo>
                  <a:lnTo>
                    <a:pt x="848" y="1853"/>
                  </a:lnTo>
                  <a:lnTo>
                    <a:pt x="845" y="1844"/>
                  </a:lnTo>
                  <a:lnTo>
                    <a:pt x="845" y="1834"/>
                  </a:lnTo>
                  <a:lnTo>
                    <a:pt x="843" y="1827"/>
                  </a:lnTo>
                  <a:lnTo>
                    <a:pt x="841" y="1818"/>
                  </a:lnTo>
                  <a:lnTo>
                    <a:pt x="841" y="1808"/>
                  </a:lnTo>
                  <a:lnTo>
                    <a:pt x="838" y="1801"/>
                  </a:lnTo>
                  <a:lnTo>
                    <a:pt x="836" y="1791"/>
                  </a:lnTo>
                  <a:lnTo>
                    <a:pt x="834" y="1782"/>
                  </a:lnTo>
                  <a:lnTo>
                    <a:pt x="831" y="1775"/>
                  </a:lnTo>
                  <a:lnTo>
                    <a:pt x="829" y="1768"/>
                  </a:lnTo>
                  <a:lnTo>
                    <a:pt x="824" y="1758"/>
                  </a:lnTo>
                  <a:lnTo>
                    <a:pt x="824" y="1751"/>
                  </a:lnTo>
                  <a:lnTo>
                    <a:pt x="819" y="1744"/>
                  </a:lnTo>
                  <a:lnTo>
                    <a:pt x="817" y="1739"/>
                  </a:lnTo>
                  <a:lnTo>
                    <a:pt x="810" y="1725"/>
                  </a:lnTo>
                  <a:lnTo>
                    <a:pt x="800" y="1711"/>
                  </a:lnTo>
                  <a:lnTo>
                    <a:pt x="791" y="1699"/>
                  </a:lnTo>
                  <a:lnTo>
                    <a:pt x="779" y="1687"/>
                  </a:lnTo>
                  <a:lnTo>
                    <a:pt x="769" y="1673"/>
                  </a:lnTo>
                  <a:lnTo>
                    <a:pt x="758" y="1663"/>
                  </a:lnTo>
                  <a:lnTo>
                    <a:pt x="746" y="1651"/>
                  </a:lnTo>
                  <a:lnTo>
                    <a:pt x="734" y="1644"/>
                  </a:lnTo>
                  <a:lnTo>
                    <a:pt x="720" y="1632"/>
                  </a:lnTo>
                  <a:lnTo>
                    <a:pt x="708" y="1623"/>
                  </a:lnTo>
                  <a:lnTo>
                    <a:pt x="693" y="1613"/>
                  </a:lnTo>
                  <a:lnTo>
                    <a:pt x="679" y="1604"/>
                  </a:lnTo>
                  <a:lnTo>
                    <a:pt x="665" y="1597"/>
                  </a:lnTo>
                  <a:lnTo>
                    <a:pt x="651" y="1587"/>
                  </a:lnTo>
                  <a:lnTo>
                    <a:pt x="636" y="1578"/>
                  </a:lnTo>
                  <a:lnTo>
                    <a:pt x="622" y="1570"/>
                  </a:lnTo>
                  <a:lnTo>
                    <a:pt x="605" y="1563"/>
                  </a:lnTo>
                  <a:lnTo>
                    <a:pt x="591" y="1554"/>
                  </a:lnTo>
                  <a:lnTo>
                    <a:pt x="577" y="1547"/>
                  </a:lnTo>
                  <a:lnTo>
                    <a:pt x="563" y="1537"/>
                  </a:lnTo>
                  <a:lnTo>
                    <a:pt x="546" y="1528"/>
                  </a:lnTo>
                  <a:lnTo>
                    <a:pt x="532" y="1521"/>
                  </a:lnTo>
                  <a:lnTo>
                    <a:pt x="518" y="1511"/>
                  </a:lnTo>
                  <a:lnTo>
                    <a:pt x="506" y="1504"/>
                  </a:lnTo>
                  <a:lnTo>
                    <a:pt x="491" y="1494"/>
                  </a:lnTo>
                  <a:lnTo>
                    <a:pt x="477" y="1485"/>
                  </a:lnTo>
                  <a:lnTo>
                    <a:pt x="465" y="1475"/>
                  </a:lnTo>
                  <a:lnTo>
                    <a:pt x="453" y="1468"/>
                  </a:lnTo>
                  <a:lnTo>
                    <a:pt x="442" y="1459"/>
                  </a:lnTo>
                  <a:lnTo>
                    <a:pt x="430" y="1447"/>
                  </a:lnTo>
                  <a:lnTo>
                    <a:pt x="423" y="1437"/>
                  </a:lnTo>
                  <a:lnTo>
                    <a:pt x="413" y="1428"/>
                  </a:lnTo>
                  <a:lnTo>
                    <a:pt x="404" y="1414"/>
                  </a:lnTo>
                  <a:lnTo>
                    <a:pt x="396" y="1404"/>
                  </a:lnTo>
                  <a:lnTo>
                    <a:pt x="389" y="1392"/>
                  </a:lnTo>
                  <a:lnTo>
                    <a:pt x="385" y="1380"/>
                  </a:lnTo>
                  <a:lnTo>
                    <a:pt x="380" y="1366"/>
                  </a:lnTo>
                  <a:lnTo>
                    <a:pt x="377" y="1354"/>
                  </a:lnTo>
                  <a:lnTo>
                    <a:pt x="373" y="1342"/>
                  </a:lnTo>
                  <a:lnTo>
                    <a:pt x="373" y="1328"/>
                  </a:lnTo>
                  <a:lnTo>
                    <a:pt x="370" y="1314"/>
                  </a:lnTo>
                  <a:lnTo>
                    <a:pt x="370" y="1300"/>
                  </a:lnTo>
                  <a:lnTo>
                    <a:pt x="370" y="1285"/>
                  </a:lnTo>
                  <a:lnTo>
                    <a:pt x="370" y="1271"/>
                  </a:lnTo>
                  <a:lnTo>
                    <a:pt x="370" y="1257"/>
                  </a:lnTo>
                  <a:lnTo>
                    <a:pt x="370" y="1243"/>
                  </a:lnTo>
                  <a:lnTo>
                    <a:pt x="373" y="1228"/>
                  </a:lnTo>
                  <a:lnTo>
                    <a:pt x="373" y="1216"/>
                  </a:lnTo>
                  <a:lnTo>
                    <a:pt x="373" y="1200"/>
                  </a:lnTo>
                  <a:lnTo>
                    <a:pt x="375" y="1185"/>
                  </a:lnTo>
                  <a:lnTo>
                    <a:pt x="375" y="1171"/>
                  </a:lnTo>
                  <a:lnTo>
                    <a:pt x="377" y="1157"/>
                  </a:lnTo>
                  <a:lnTo>
                    <a:pt x="377" y="1140"/>
                  </a:lnTo>
                  <a:lnTo>
                    <a:pt x="377" y="1126"/>
                  </a:lnTo>
                  <a:lnTo>
                    <a:pt x="377" y="1112"/>
                  </a:lnTo>
                  <a:lnTo>
                    <a:pt x="377" y="1098"/>
                  </a:lnTo>
                  <a:lnTo>
                    <a:pt x="375" y="1081"/>
                  </a:lnTo>
                  <a:lnTo>
                    <a:pt x="373" y="1067"/>
                  </a:lnTo>
                  <a:lnTo>
                    <a:pt x="370" y="1052"/>
                  </a:lnTo>
                  <a:lnTo>
                    <a:pt x="368" y="1038"/>
                  </a:lnTo>
                  <a:lnTo>
                    <a:pt x="366" y="1024"/>
                  </a:lnTo>
                  <a:lnTo>
                    <a:pt x="361" y="1010"/>
                  </a:lnTo>
                  <a:lnTo>
                    <a:pt x="354" y="995"/>
                  </a:lnTo>
                  <a:lnTo>
                    <a:pt x="351" y="983"/>
                  </a:lnTo>
                  <a:lnTo>
                    <a:pt x="342" y="967"/>
                  </a:lnTo>
                  <a:lnTo>
                    <a:pt x="335" y="953"/>
                  </a:lnTo>
                  <a:lnTo>
                    <a:pt x="325" y="941"/>
                  </a:lnTo>
                  <a:lnTo>
                    <a:pt x="318" y="926"/>
                  </a:lnTo>
                  <a:lnTo>
                    <a:pt x="311" y="915"/>
                  </a:lnTo>
                  <a:lnTo>
                    <a:pt x="301" y="900"/>
                  </a:lnTo>
                  <a:lnTo>
                    <a:pt x="292" y="888"/>
                  </a:lnTo>
                  <a:lnTo>
                    <a:pt x="285" y="879"/>
                  </a:lnTo>
                  <a:lnTo>
                    <a:pt x="275" y="865"/>
                  </a:lnTo>
                  <a:lnTo>
                    <a:pt x="263" y="855"/>
                  </a:lnTo>
                  <a:lnTo>
                    <a:pt x="254" y="843"/>
                  </a:lnTo>
                  <a:lnTo>
                    <a:pt x="244" y="834"/>
                  </a:lnTo>
                  <a:lnTo>
                    <a:pt x="235" y="822"/>
                  </a:lnTo>
                  <a:lnTo>
                    <a:pt x="225" y="812"/>
                  </a:lnTo>
                  <a:lnTo>
                    <a:pt x="216" y="800"/>
                  </a:lnTo>
                  <a:lnTo>
                    <a:pt x="206" y="791"/>
                  </a:lnTo>
                  <a:lnTo>
                    <a:pt x="194" y="779"/>
                  </a:lnTo>
                  <a:lnTo>
                    <a:pt x="185" y="770"/>
                  </a:lnTo>
                  <a:lnTo>
                    <a:pt x="175" y="760"/>
                  </a:lnTo>
                  <a:lnTo>
                    <a:pt x="166" y="751"/>
                  </a:lnTo>
                  <a:lnTo>
                    <a:pt x="154" y="741"/>
                  </a:lnTo>
                  <a:lnTo>
                    <a:pt x="145" y="732"/>
                  </a:lnTo>
                  <a:lnTo>
                    <a:pt x="137" y="722"/>
                  </a:lnTo>
                  <a:lnTo>
                    <a:pt x="128" y="715"/>
                  </a:lnTo>
                  <a:lnTo>
                    <a:pt x="118" y="703"/>
                  </a:lnTo>
                  <a:lnTo>
                    <a:pt x="109" y="696"/>
                  </a:lnTo>
                  <a:lnTo>
                    <a:pt x="99" y="686"/>
                  </a:lnTo>
                  <a:lnTo>
                    <a:pt x="92" y="677"/>
                  </a:lnTo>
                  <a:lnTo>
                    <a:pt x="83" y="667"/>
                  </a:lnTo>
                  <a:lnTo>
                    <a:pt x="76" y="660"/>
                  </a:lnTo>
                  <a:lnTo>
                    <a:pt x="69" y="651"/>
                  </a:lnTo>
                  <a:lnTo>
                    <a:pt x="64" y="641"/>
                  </a:lnTo>
                  <a:lnTo>
                    <a:pt x="54" y="632"/>
                  </a:lnTo>
                  <a:lnTo>
                    <a:pt x="50" y="622"/>
                  </a:lnTo>
                  <a:lnTo>
                    <a:pt x="42" y="613"/>
                  </a:lnTo>
                  <a:lnTo>
                    <a:pt x="38" y="606"/>
                  </a:lnTo>
                  <a:lnTo>
                    <a:pt x="30" y="594"/>
                  </a:lnTo>
                  <a:lnTo>
                    <a:pt x="28" y="584"/>
                  </a:lnTo>
                  <a:lnTo>
                    <a:pt x="23" y="577"/>
                  </a:lnTo>
                  <a:lnTo>
                    <a:pt x="21" y="568"/>
                  </a:lnTo>
                  <a:lnTo>
                    <a:pt x="16" y="558"/>
                  </a:lnTo>
                  <a:lnTo>
                    <a:pt x="11" y="546"/>
                  </a:lnTo>
                  <a:lnTo>
                    <a:pt x="9" y="537"/>
                  </a:lnTo>
                  <a:lnTo>
                    <a:pt x="7" y="530"/>
                  </a:lnTo>
                  <a:lnTo>
                    <a:pt x="4" y="518"/>
                  </a:lnTo>
                  <a:lnTo>
                    <a:pt x="2" y="508"/>
                  </a:lnTo>
                  <a:lnTo>
                    <a:pt x="2" y="499"/>
                  </a:lnTo>
                  <a:lnTo>
                    <a:pt x="2" y="489"/>
                  </a:lnTo>
                  <a:lnTo>
                    <a:pt x="2" y="477"/>
                  </a:lnTo>
                  <a:lnTo>
                    <a:pt x="0" y="470"/>
                  </a:lnTo>
                  <a:lnTo>
                    <a:pt x="0" y="458"/>
                  </a:lnTo>
                  <a:lnTo>
                    <a:pt x="0" y="449"/>
                  </a:lnTo>
                  <a:lnTo>
                    <a:pt x="0" y="437"/>
                  </a:lnTo>
                  <a:lnTo>
                    <a:pt x="0" y="427"/>
                  </a:lnTo>
                  <a:lnTo>
                    <a:pt x="2" y="418"/>
                  </a:lnTo>
                  <a:lnTo>
                    <a:pt x="2" y="408"/>
                  </a:lnTo>
                  <a:lnTo>
                    <a:pt x="2" y="396"/>
                  </a:lnTo>
                  <a:lnTo>
                    <a:pt x="4" y="385"/>
                  </a:lnTo>
                  <a:lnTo>
                    <a:pt x="7" y="373"/>
                  </a:lnTo>
                  <a:lnTo>
                    <a:pt x="9" y="363"/>
                  </a:lnTo>
                  <a:lnTo>
                    <a:pt x="9" y="349"/>
                  </a:lnTo>
                  <a:lnTo>
                    <a:pt x="11" y="339"/>
                  </a:lnTo>
                  <a:lnTo>
                    <a:pt x="16" y="328"/>
                  </a:lnTo>
                  <a:lnTo>
                    <a:pt x="21" y="318"/>
                  </a:lnTo>
                  <a:lnTo>
                    <a:pt x="21" y="304"/>
                  </a:lnTo>
                  <a:lnTo>
                    <a:pt x="23" y="292"/>
                  </a:lnTo>
                  <a:lnTo>
                    <a:pt x="28" y="280"/>
                  </a:lnTo>
                  <a:lnTo>
                    <a:pt x="30" y="268"/>
                  </a:lnTo>
                  <a:lnTo>
                    <a:pt x="35" y="256"/>
                  </a:lnTo>
                  <a:lnTo>
                    <a:pt x="40" y="242"/>
                  </a:lnTo>
                  <a:lnTo>
                    <a:pt x="45" y="230"/>
                  </a:lnTo>
                  <a:lnTo>
                    <a:pt x="50" y="218"/>
                  </a:lnTo>
                  <a:lnTo>
                    <a:pt x="52" y="206"/>
                  </a:lnTo>
                  <a:lnTo>
                    <a:pt x="57" y="194"/>
                  </a:lnTo>
                  <a:lnTo>
                    <a:pt x="61" y="183"/>
                  </a:lnTo>
                  <a:lnTo>
                    <a:pt x="64" y="171"/>
                  </a:lnTo>
                  <a:lnTo>
                    <a:pt x="69" y="159"/>
                  </a:lnTo>
                  <a:lnTo>
                    <a:pt x="73" y="149"/>
                  </a:lnTo>
                  <a:lnTo>
                    <a:pt x="78" y="137"/>
                  </a:lnTo>
                  <a:lnTo>
                    <a:pt x="83" y="128"/>
                  </a:lnTo>
                  <a:lnTo>
                    <a:pt x="85" y="116"/>
                  </a:lnTo>
                  <a:lnTo>
                    <a:pt x="88" y="107"/>
                  </a:lnTo>
                  <a:lnTo>
                    <a:pt x="90" y="99"/>
                  </a:lnTo>
                  <a:lnTo>
                    <a:pt x="95" y="90"/>
                  </a:lnTo>
                  <a:lnTo>
                    <a:pt x="99" y="73"/>
                  </a:lnTo>
                  <a:lnTo>
                    <a:pt x="118" y="38"/>
                  </a:lnTo>
                  <a:lnTo>
                    <a:pt x="270" y="0"/>
                  </a:lnTo>
                  <a:lnTo>
                    <a:pt x="268" y="14"/>
                  </a:lnTo>
                  <a:lnTo>
                    <a:pt x="263" y="26"/>
                  </a:lnTo>
                  <a:lnTo>
                    <a:pt x="259" y="38"/>
                  </a:lnTo>
                  <a:lnTo>
                    <a:pt x="254" y="54"/>
                  </a:lnTo>
                  <a:lnTo>
                    <a:pt x="249" y="61"/>
                  </a:lnTo>
                  <a:lnTo>
                    <a:pt x="249" y="71"/>
                  </a:lnTo>
                  <a:lnTo>
                    <a:pt x="244" y="80"/>
                  </a:lnTo>
                  <a:lnTo>
                    <a:pt x="242" y="92"/>
                  </a:lnTo>
                  <a:lnTo>
                    <a:pt x="237" y="102"/>
                  </a:lnTo>
                  <a:lnTo>
                    <a:pt x="235" y="111"/>
                  </a:lnTo>
                  <a:lnTo>
                    <a:pt x="230" y="121"/>
                  </a:lnTo>
                  <a:lnTo>
                    <a:pt x="228" y="133"/>
                  </a:lnTo>
                  <a:lnTo>
                    <a:pt x="223" y="142"/>
                  </a:lnTo>
                  <a:lnTo>
                    <a:pt x="221" y="156"/>
                  </a:lnTo>
                  <a:lnTo>
                    <a:pt x="216" y="166"/>
                  </a:lnTo>
                  <a:lnTo>
                    <a:pt x="213" y="180"/>
                  </a:lnTo>
                  <a:lnTo>
                    <a:pt x="209" y="190"/>
                  </a:lnTo>
                  <a:lnTo>
                    <a:pt x="204" y="202"/>
                  </a:lnTo>
                  <a:lnTo>
                    <a:pt x="199" y="211"/>
                  </a:lnTo>
                  <a:lnTo>
                    <a:pt x="197" y="223"/>
                  </a:lnTo>
                  <a:lnTo>
                    <a:pt x="192" y="235"/>
                  </a:lnTo>
                  <a:lnTo>
                    <a:pt x="190" y="244"/>
                  </a:lnTo>
                  <a:lnTo>
                    <a:pt x="185" y="256"/>
                  </a:lnTo>
                  <a:lnTo>
                    <a:pt x="183" y="266"/>
                  </a:lnTo>
                  <a:lnTo>
                    <a:pt x="178" y="275"/>
                  </a:lnTo>
                  <a:lnTo>
                    <a:pt x="173" y="287"/>
                  </a:lnTo>
                  <a:lnTo>
                    <a:pt x="171" y="294"/>
                  </a:lnTo>
                  <a:lnTo>
                    <a:pt x="168" y="306"/>
                  </a:lnTo>
                  <a:lnTo>
                    <a:pt x="164" y="318"/>
                  </a:lnTo>
                  <a:lnTo>
                    <a:pt x="161" y="328"/>
                  </a:lnTo>
                  <a:lnTo>
                    <a:pt x="159" y="337"/>
                  </a:lnTo>
                  <a:lnTo>
                    <a:pt x="156" y="349"/>
                  </a:lnTo>
                  <a:lnTo>
                    <a:pt x="154" y="358"/>
                  </a:lnTo>
                  <a:lnTo>
                    <a:pt x="152" y="368"/>
                  </a:lnTo>
                  <a:lnTo>
                    <a:pt x="149" y="380"/>
                  </a:lnTo>
                  <a:lnTo>
                    <a:pt x="149" y="389"/>
                  </a:lnTo>
                  <a:lnTo>
                    <a:pt x="147" y="401"/>
                  </a:lnTo>
                  <a:lnTo>
                    <a:pt x="147" y="413"/>
                  </a:lnTo>
                  <a:lnTo>
                    <a:pt x="147" y="423"/>
                  </a:lnTo>
                  <a:lnTo>
                    <a:pt x="147" y="435"/>
                  </a:lnTo>
                  <a:lnTo>
                    <a:pt x="147" y="444"/>
                  </a:lnTo>
                  <a:lnTo>
                    <a:pt x="147" y="456"/>
                  </a:lnTo>
                  <a:lnTo>
                    <a:pt x="147" y="465"/>
                  </a:lnTo>
                  <a:lnTo>
                    <a:pt x="147" y="477"/>
                  </a:lnTo>
                  <a:lnTo>
                    <a:pt x="147" y="487"/>
                  </a:lnTo>
                  <a:lnTo>
                    <a:pt x="152" y="499"/>
                  </a:lnTo>
                  <a:lnTo>
                    <a:pt x="152" y="508"/>
                  </a:lnTo>
                  <a:lnTo>
                    <a:pt x="154" y="522"/>
                  </a:lnTo>
                  <a:lnTo>
                    <a:pt x="156" y="532"/>
                  </a:lnTo>
                  <a:lnTo>
                    <a:pt x="159" y="544"/>
                  </a:lnTo>
                  <a:lnTo>
                    <a:pt x="164" y="553"/>
                  </a:lnTo>
                  <a:lnTo>
                    <a:pt x="168" y="568"/>
                  </a:lnTo>
                  <a:lnTo>
                    <a:pt x="173" y="579"/>
                  </a:lnTo>
                  <a:lnTo>
                    <a:pt x="178" y="591"/>
                  </a:lnTo>
                  <a:lnTo>
                    <a:pt x="183" y="601"/>
                  </a:lnTo>
                  <a:lnTo>
                    <a:pt x="190" y="615"/>
                  </a:lnTo>
                  <a:lnTo>
                    <a:pt x="194" y="625"/>
                  </a:lnTo>
                  <a:lnTo>
                    <a:pt x="202" y="637"/>
                  </a:lnTo>
                  <a:lnTo>
                    <a:pt x="206" y="648"/>
                  </a:lnTo>
                  <a:lnTo>
                    <a:pt x="216" y="660"/>
                  </a:lnTo>
                  <a:lnTo>
                    <a:pt x="223" y="672"/>
                  </a:lnTo>
                  <a:lnTo>
                    <a:pt x="230" y="684"/>
                  </a:lnTo>
                  <a:lnTo>
                    <a:pt x="240" y="696"/>
                  </a:lnTo>
                  <a:lnTo>
                    <a:pt x="249" y="710"/>
                  </a:lnTo>
                  <a:lnTo>
                    <a:pt x="256" y="722"/>
                  </a:lnTo>
                  <a:lnTo>
                    <a:pt x="266" y="734"/>
                  </a:lnTo>
                  <a:lnTo>
                    <a:pt x="275" y="746"/>
                  </a:lnTo>
                  <a:lnTo>
                    <a:pt x="282" y="758"/>
                  </a:lnTo>
                  <a:lnTo>
                    <a:pt x="292" y="772"/>
                  </a:lnTo>
                  <a:lnTo>
                    <a:pt x="301" y="784"/>
                  </a:lnTo>
                  <a:lnTo>
                    <a:pt x="311" y="798"/>
                  </a:lnTo>
                  <a:lnTo>
                    <a:pt x="323" y="810"/>
                  </a:lnTo>
                  <a:lnTo>
                    <a:pt x="330" y="822"/>
                  </a:lnTo>
                  <a:lnTo>
                    <a:pt x="339" y="834"/>
                  </a:lnTo>
                  <a:lnTo>
                    <a:pt x="346" y="848"/>
                  </a:lnTo>
                  <a:lnTo>
                    <a:pt x="358" y="860"/>
                  </a:lnTo>
                  <a:lnTo>
                    <a:pt x="366" y="874"/>
                  </a:lnTo>
                  <a:lnTo>
                    <a:pt x="375" y="886"/>
                  </a:lnTo>
                  <a:lnTo>
                    <a:pt x="382" y="900"/>
                  </a:lnTo>
                  <a:lnTo>
                    <a:pt x="394" y="912"/>
                  </a:lnTo>
                  <a:lnTo>
                    <a:pt x="401" y="926"/>
                  </a:lnTo>
                  <a:lnTo>
                    <a:pt x="408" y="938"/>
                  </a:lnTo>
                  <a:lnTo>
                    <a:pt x="415" y="953"/>
                  </a:lnTo>
                  <a:lnTo>
                    <a:pt x="423" y="964"/>
                  </a:lnTo>
                  <a:lnTo>
                    <a:pt x="430" y="976"/>
                  </a:lnTo>
                  <a:lnTo>
                    <a:pt x="437" y="991"/>
                  </a:lnTo>
                  <a:lnTo>
                    <a:pt x="442" y="1002"/>
                  </a:lnTo>
                  <a:lnTo>
                    <a:pt x="449" y="1017"/>
                  </a:lnTo>
                  <a:lnTo>
                    <a:pt x="453" y="1029"/>
                  </a:lnTo>
                  <a:lnTo>
                    <a:pt x="458" y="1038"/>
                  </a:lnTo>
                  <a:lnTo>
                    <a:pt x="461" y="1050"/>
                  </a:lnTo>
                  <a:lnTo>
                    <a:pt x="465" y="1064"/>
                  </a:lnTo>
                  <a:lnTo>
                    <a:pt x="468" y="1076"/>
                  </a:lnTo>
                  <a:lnTo>
                    <a:pt x="468" y="1086"/>
                  </a:lnTo>
                  <a:lnTo>
                    <a:pt x="470" y="1098"/>
                  </a:lnTo>
                  <a:lnTo>
                    <a:pt x="472" y="1112"/>
                  </a:lnTo>
                  <a:lnTo>
                    <a:pt x="472" y="1121"/>
                  </a:lnTo>
                  <a:lnTo>
                    <a:pt x="472" y="1131"/>
                  </a:lnTo>
                  <a:lnTo>
                    <a:pt x="472" y="1140"/>
                  </a:lnTo>
                  <a:lnTo>
                    <a:pt x="475" y="1152"/>
                  </a:lnTo>
                  <a:lnTo>
                    <a:pt x="475" y="1162"/>
                  </a:lnTo>
                  <a:lnTo>
                    <a:pt x="475" y="1174"/>
                  </a:lnTo>
                  <a:lnTo>
                    <a:pt x="475" y="1183"/>
                  </a:lnTo>
                  <a:lnTo>
                    <a:pt x="475" y="1195"/>
                  </a:lnTo>
                  <a:lnTo>
                    <a:pt x="475" y="1202"/>
                  </a:lnTo>
                  <a:lnTo>
                    <a:pt x="475" y="1214"/>
                  </a:lnTo>
                  <a:lnTo>
                    <a:pt x="475" y="1221"/>
                  </a:lnTo>
                  <a:lnTo>
                    <a:pt x="477" y="1233"/>
                  </a:lnTo>
                  <a:lnTo>
                    <a:pt x="477" y="1240"/>
                  </a:lnTo>
                  <a:lnTo>
                    <a:pt x="477" y="1250"/>
                  </a:lnTo>
                  <a:lnTo>
                    <a:pt x="480" y="1259"/>
                  </a:lnTo>
                  <a:lnTo>
                    <a:pt x="484" y="1269"/>
                  </a:lnTo>
                  <a:lnTo>
                    <a:pt x="484" y="1278"/>
                  </a:lnTo>
                  <a:lnTo>
                    <a:pt x="489" y="1288"/>
                  </a:lnTo>
                  <a:lnTo>
                    <a:pt x="494" y="1295"/>
                  </a:lnTo>
                  <a:lnTo>
                    <a:pt x="499" y="1304"/>
                  </a:lnTo>
                  <a:lnTo>
                    <a:pt x="503" y="1311"/>
                  </a:lnTo>
                  <a:lnTo>
                    <a:pt x="510" y="1321"/>
                  </a:lnTo>
                  <a:lnTo>
                    <a:pt x="518" y="1330"/>
                  </a:lnTo>
                  <a:lnTo>
                    <a:pt x="527" y="1340"/>
                  </a:lnTo>
                  <a:lnTo>
                    <a:pt x="534" y="1347"/>
                  </a:lnTo>
                  <a:lnTo>
                    <a:pt x="544" y="1357"/>
                  </a:lnTo>
                  <a:lnTo>
                    <a:pt x="553" y="1364"/>
                  </a:lnTo>
                  <a:lnTo>
                    <a:pt x="565" y="1373"/>
                  </a:lnTo>
                  <a:lnTo>
                    <a:pt x="577" y="1383"/>
                  </a:lnTo>
                  <a:lnTo>
                    <a:pt x="591" y="1390"/>
                  </a:lnTo>
                  <a:lnTo>
                    <a:pt x="605" y="1399"/>
                  </a:lnTo>
                  <a:lnTo>
                    <a:pt x="620" y="1406"/>
                  </a:lnTo>
                  <a:lnTo>
                    <a:pt x="632" y="1416"/>
                  </a:lnTo>
                  <a:lnTo>
                    <a:pt x="648" y="1426"/>
                  </a:lnTo>
                  <a:lnTo>
                    <a:pt x="662" y="1433"/>
                  </a:lnTo>
                  <a:lnTo>
                    <a:pt x="679" y="1442"/>
                  </a:lnTo>
                  <a:lnTo>
                    <a:pt x="684" y="1447"/>
                  </a:lnTo>
                  <a:lnTo>
                    <a:pt x="693" y="1452"/>
                  </a:lnTo>
                  <a:lnTo>
                    <a:pt x="701" y="1454"/>
                  </a:lnTo>
                  <a:lnTo>
                    <a:pt x="710" y="1461"/>
                  </a:lnTo>
                  <a:lnTo>
                    <a:pt x="717" y="1466"/>
                  </a:lnTo>
                  <a:lnTo>
                    <a:pt x="724" y="1471"/>
                  </a:lnTo>
                  <a:lnTo>
                    <a:pt x="734" y="1475"/>
                  </a:lnTo>
                  <a:lnTo>
                    <a:pt x="743" y="1480"/>
                  </a:lnTo>
                  <a:lnTo>
                    <a:pt x="750" y="1485"/>
                  </a:lnTo>
                  <a:lnTo>
                    <a:pt x="758" y="1490"/>
                  </a:lnTo>
                  <a:lnTo>
                    <a:pt x="765" y="1494"/>
                  </a:lnTo>
                  <a:lnTo>
                    <a:pt x="774" y="1499"/>
                  </a:lnTo>
                  <a:lnTo>
                    <a:pt x="781" y="1504"/>
                  </a:lnTo>
                  <a:lnTo>
                    <a:pt x="788" y="1509"/>
                  </a:lnTo>
                  <a:lnTo>
                    <a:pt x="798" y="1516"/>
                  </a:lnTo>
                  <a:lnTo>
                    <a:pt x="805" y="1521"/>
                  </a:lnTo>
                  <a:lnTo>
                    <a:pt x="819" y="1530"/>
                  </a:lnTo>
                  <a:lnTo>
                    <a:pt x="834" y="1542"/>
                  </a:lnTo>
                  <a:lnTo>
                    <a:pt x="848" y="1554"/>
                  </a:lnTo>
                  <a:lnTo>
                    <a:pt x="864" y="1566"/>
                  </a:lnTo>
                  <a:lnTo>
                    <a:pt x="879" y="1575"/>
                  </a:lnTo>
                  <a:lnTo>
                    <a:pt x="891" y="1587"/>
                  </a:lnTo>
                  <a:lnTo>
                    <a:pt x="902" y="1601"/>
                  </a:lnTo>
                  <a:lnTo>
                    <a:pt x="917" y="1613"/>
                  </a:lnTo>
                  <a:lnTo>
                    <a:pt x="926" y="1625"/>
                  </a:lnTo>
                  <a:lnTo>
                    <a:pt x="938" y="1639"/>
                  </a:lnTo>
                  <a:lnTo>
                    <a:pt x="948" y="1654"/>
                  </a:lnTo>
                  <a:lnTo>
                    <a:pt x="957" y="1668"/>
                  </a:lnTo>
                  <a:lnTo>
                    <a:pt x="964" y="1680"/>
                  </a:lnTo>
                  <a:lnTo>
                    <a:pt x="971" y="1694"/>
                  </a:lnTo>
                  <a:lnTo>
                    <a:pt x="976" y="1711"/>
                  </a:lnTo>
                  <a:lnTo>
                    <a:pt x="983" y="1725"/>
                  </a:lnTo>
                  <a:lnTo>
                    <a:pt x="986" y="1732"/>
                  </a:lnTo>
                  <a:lnTo>
                    <a:pt x="988" y="1742"/>
                  </a:lnTo>
                  <a:lnTo>
                    <a:pt x="990" y="1749"/>
                  </a:lnTo>
                  <a:lnTo>
                    <a:pt x="995" y="1758"/>
                  </a:lnTo>
                  <a:lnTo>
                    <a:pt x="995" y="1765"/>
                  </a:lnTo>
                  <a:lnTo>
                    <a:pt x="997" y="1775"/>
                  </a:lnTo>
                  <a:lnTo>
                    <a:pt x="1000" y="1782"/>
                  </a:lnTo>
                  <a:lnTo>
                    <a:pt x="1002" y="1791"/>
                  </a:lnTo>
                  <a:lnTo>
                    <a:pt x="1002" y="1799"/>
                  </a:lnTo>
                  <a:lnTo>
                    <a:pt x="1005" y="1808"/>
                  </a:lnTo>
                  <a:lnTo>
                    <a:pt x="1005" y="1815"/>
                  </a:lnTo>
                  <a:lnTo>
                    <a:pt x="1009" y="1825"/>
                  </a:lnTo>
                  <a:lnTo>
                    <a:pt x="1009" y="1832"/>
                  </a:lnTo>
                  <a:lnTo>
                    <a:pt x="1009" y="1841"/>
                  </a:lnTo>
                  <a:lnTo>
                    <a:pt x="1012" y="1849"/>
                  </a:lnTo>
                  <a:lnTo>
                    <a:pt x="1012" y="1858"/>
                  </a:lnTo>
                  <a:lnTo>
                    <a:pt x="1012" y="1865"/>
                  </a:lnTo>
                  <a:lnTo>
                    <a:pt x="1014" y="1875"/>
                  </a:lnTo>
                  <a:lnTo>
                    <a:pt x="1014" y="1882"/>
                  </a:lnTo>
                  <a:lnTo>
                    <a:pt x="1017" y="1891"/>
                  </a:lnTo>
                  <a:lnTo>
                    <a:pt x="1017" y="1898"/>
                  </a:lnTo>
                  <a:lnTo>
                    <a:pt x="1017" y="1906"/>
                  </a:lnTo>
                  <a:lnTo>
                    <a:pt x="1017" y="1915"/>
                  </a:lnTo>
                  <a:lnTo>
                    <a:pt x="1019" y="1925"/>
                  </a:lnTo>
                  <a:lnTo>
                    <a:pt x="1019" y="1939"/>
                  </a:lnTo>
                  <a:lnTo>
                    <a:pt x="1019" y="1953"/>
                  </a:lnTo>
                  <a:lnTo>
                    <a:pt x="1019" y="1965"/>
                  </a:lnTo>
                  <a:lnTo>
                    <a:pt x="1019" y="1979"/>
                  </a:lnTo>
                  <a:lnTo>
                    <a:pt x="1017" y="1991"/>
                  </a:lnTo>
                  <a:lnTo>
                    <a:pt x="1017" y="2005"/>
                  </a:lnTo>
                  <a:lnTo>
                    <a:pt x="1017" y="2015"/>
                  </a:lnTo>
                  <a:lnTo>
                    <a:pt x="1017" y="2027"/>
                  </a:lnTo>
                  <a:lnTo>
                    <a:pt x="1017" y="2034"/>
                  </a:lnTo>
                  <a:lnTo>
                    <a:pt x="1017" y="2043"/>
                  </a:lnTo>
                  <a:lnTo>
                    <a:pt x="1014" y="2051"/>
                  </a:lnTo>
                  <a:lnTo>
                    <a:pt x="1014" y="2058"/>
                  </a:lnTo>
                  <a:lnTo>
                    <a:pt x="1014" y="2065"/>
                  </a:lnTo>
                  <a:lnTo>
                    <a:pt x="1014" y="2070"/>
                  </a:lnTo>
                  <a:lnTo>
                    <a:pt x="850" y="221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31"/>
            <p:cNvSpPr/>
            <p:nvPr/>
          </p:nvSpPr>
          <p:spPr>
            <a:xfrm rot="1020000">
              <a:off x="5074920" y="2411640"/>
              <a:ext cx="471240" cy="57744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401" h="461">
                  <a:moveTo>
                    <a:pt x="0" y="280"/>
                  </a:moveTo>
                  <a:lnTo>
                    <a:pt x="4" y="380"/>
                  </a:lnTo>
                  <a:lnTo>
                    <a:pt x="90" y="461"/>
                  </a:lnTo>
                  <a:lnTo>
                    <a:pt x="147" y="423"/>
                  </a:lnTo>
                  <a:lnTo>
                    <a:pt x="147" y="421"/>
                  </a:lnTo>
                  <a:lnTo>
                    <a:pt x="152" y="409"/>
                  </a:lnTo>
                  <a:lnTo>
                    <a:pt x="154" y="402"/>
                  </a:lnTo>
                  <a:lnTo>
                    <a:pt x="157" y="394"/>
                  </a:lnTo>
                  <a:lnTo>
                    <a:pt x="161" y="383"/>
                  </a:lnTo>
                  <a:lnTo>
                    <a:pt x="166" y="373"/>
                  </a:lnTo>
                  <a:lnTo>
                    <a:pt x="171" y="361"/>
                  </a:lnTo>
                  <a:lnTo>
                    <a:pt x="178" y="347"/>
                  </a:lnTo>
                  <a:lnTo>
                    <a:pt x="183" y="335"/>
                  </a:lnTo>
                  <a:lnTo>
                    <a:pt x="190" y="321"/>
                  </a:lnTo>
                  <a:lnTo>
                    <a:pt x="195" y="307"/>
                  </a:lnTo>
                  <a:lnTo>
                    <a:pt x="204" y="295"/>
                  </a:lnTo>
                  <a:lnTo>
                    <a:pt x="211" y="280"/>
                  </a:lnTo>
                  <a:lnTo>
                    <a:pt x="221" y="266"/>
                  </a:lnTo>
                  <a:lnTo>
                    <a:pt x="228" y="252"/>
                  </a:lnTo>
                  <a:lnTo>
                    <a:pt x="235" y="240"/>
                  </a:lnTo>
                  <a:lnTo>
                    <a:pt x="242" y="226"/>
                  </a:lnTo>
                  <a:lnTo>
                    <a:pt x="252" y="216"/>
                  </a:lnTo>
                  <a:lnTo>
                    <a:pt x="259" y="202"/>
                  </a:lnTo>
                  <a:lnTo>
                    <a:pt x="268" y="192"/>
                  </a:lnTo>
                  <a:lnTo>
                    <a:pt x="275" y="181"/>
                  </a:lnTo>
                  <a:lnTo>
                    <a:pt x="282" y="171"/>
                  </a:lnTo>
                  <a:lnTo>
                    <a:pt x="290" y="162"/>
                  </a:lnTo>
                  <a:lnTo>
                    <a:pt x="297" y="152"/>
                  </a:lnTo>
                  <a:lnTo>
                    <a:pt x="304" y="143"/>
                  </a:lnTo>
                  <a:lnTo>
                    <a:pt x="313" y="135"/>
                  </a:lnTo>
                  <a:lnTo>
                    <a:pt x="320" y="128"/>
                  </a:lnTo>
                  <a:lnTo>
                    <a:pt x="328" y="119"/>
                  </a:lnTo>
                  <a:lnTo>
                    <a:pt x="335" y="112"/>
                  </a:lnTo>
                  <a:lnTo>
                    <a:pt x="342" y="107"/>
                  </a:lnTo>
                  <a:lnTo>
                    <a:pt x="351" y="93"/>
                  </a:lnTo>
                  <a:lnTo>
                    <a:pt x="363" y="81"/>
                  </a:lnTo>
                  <a:lnTo>
                    <a:pt x="373" y="71"/>
                  </a:lnTo>
                  <a:lnTo>
                    <a:pt x="382" y="64"/>
                  </a:lnTo>
                  <a:lnTo>
                    <a:pt x="389" y="55"/>
                  </a:lnTo>
                  <a:lnTo>
                    <a:pt x="397" y="50"/>
                  </a:lnTo>
                  <a:lnTo>
                    <a:pt x="399" y="47"/>
                  </a:lnTo>
                  <a:lnTo>
                    <a:pt x="401" y="47"/>
                  </a:lnTo>
                  <a:lnTo>
                    <a:pt x="358" y="0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f7d4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32"/>
            <p:cNvSpPr/>
            <p:nvPr/>
          </p:nvSpPr>
          <p:spPr>
            <a:xfrm rot="1020000">
              <a:off x="5988240" y="2168280"/>
              <a:ext cx="654480" cy="362520"/>
            </a:xfrm>
            <a:custGeom>
              <a:avLst/>
              <a:gdLst>
                <a:gd name="textAreaLeft" fmla="*/ 0 w 654480"/>
                <a:gd name="textAreaRight" fmla="*/ 654840 w 654480"/>
                <a:gd name="textAreaTop" fmla="*/ 0 h 362520"/>
                <a:gd name="textAreaBottom" fmla="*/ 362880 h 362520"/>
              </a:gdLst>
              <a:ahLst/>
              <a:rect l="textAreaLeft" t="textAreaTop" r="textAreaRight" b="textAreaBottom"/>
              <a:pathLst>
                <a:path w="554" h="292">
                  <a:moveTo>
                    <a:pt x="0" y="292"/>
                  </a:moveTo>
                  <a:lnTo>
                    <a:pt x="38" y="273"/>
                  </a:lnTo>
                  <a:lnTo>
                    <a:pt x="50" y="266"/>
                  </a:lnTo>
                  <a:lnTo>
                    <a:pt x="64" y="261"/>
                  </a:lnTo>
                  <a:lnTo>
                    <a:pt x="76" y="254"/>
                  </a:lnTo>
                  <a:lnTo>
                    <a:pt x="93" y="247"/>
                  </a:lnTo>
                  <a:lnTo>
                    <a:pt x="100" y="242"/>
                  </a:lnTo>
                  <a:lnTo>
                    <a:pt x="107" y="240"/>
                  </a:lnTo>
                  <a:lnTo>
                    <a:pt x="117" y="235"/>
                  </a:lnTo>
                  <a:lnTo>
                    <a:pt x="124" y="232"/>
                  </a:lnTo>
                  <a:lnTo>
                    <a:pt x="138" y="223"/>
                  </a:lnTo>
                  <a:lnTo>
                    <a:pt x="155" y="216"/>
                  </a:lnTo>
                  <a:lnTo>
                    <a:pt x="169" y="209"/>
                  </a:lnTo>
                  <a:lnTo>
                    <a:pt x="185" y="204"/>
                  </a:lnTo>
                  <a:lnTo>
                    <a:pt x="197" y="197"/>
                  </a:lnTo>
                  <a:lnTo>
                    <a:pt x="207" y="192"/>
                  </a:lnTo>
                  <a:lnTo>
                    <a:pt x="219" y="185"/>
                  </a:lnTo>
                  <a:lnTo>
                    <a:pt x="231" y="183"/>
                  </a:lnTo>
                  <a:lnTo>
                    <a:pt x="240" y="175"/>
                  </a:lnTo>
                  <a:lnTo>
                    <a:pt x="252" y="171"/>
                  </a:lnTo>
                  <a:lnTo>
                    <a:pt x="261" y="166"/>
                  </a:lnTo>
                  <a:lnTo>
                    <a:pt x="271" y="164"/>
                  </a:lnTo>
                  <a:lnTo>
                    <a:pt x="280" y="159"/>
                  </a:lnTo>
                  <a:lnTo>
                    <a:pt x="290" y="154"/>
                  </a:lnTo>
                  <a:lnTo>
                    <a:pt x="299" y="149"/>
                  </a:lnTo>
                  <a:lnTo>
                    <a:pt x="311" y="145"/>
                  </a:lnTo>
                  <a:lnTo>
                    <a:pt x="321" y="140"/>
                  </a:lnTo>
                  <a:lnTo>
                    <a:pt x="335" y="135"/>
                  </a:lnTo>
                  <a:lnTo>
                    <a:pt x="345" y="130"/>
                  </a:lnTo>
                  <a:lnTo>
                    <a:pt x="361" y="128"/>
                  </a:lnTo>
                  <a:lnTo>
                    <a:pt x="375" y="121"/>
                  </a:lnTo>
                  <a:lnTo>
                    <a:pt x="390" y="116"/>
                  </a:lnTo>
                  <a:lnTo>
                    <a:pt x="397" y="111"/>
                  </a:lnTo>
                  <a:lnTo>
                    <a:pt x="404" y="109"/>
                  </a:lnTo>
                  <a:lnTo>
                    <a:pt x="414" y="104"/>
                  </a:lnTo>
                  <a:lnTo>
                    <a:pt x="423" y="104"/>
                  </a:lnTo>
                  <a:lnTo>
                    <a:pt x="430" y="99"/>
                  </a:lnTo>
                  <a:lnTo>
                    <a:pt x="437" y="97"/>
                  </a:lnTo>
                  <a:lnTo>
                    <a:pt x="444" y="95"/>
                  </a:lnTo>
                  <a:lnTo>
                    <a:pt x="454" y="90"/>
                  </a:lnTo>
                  <a:lnTo>
                    <a:pt x="461" y="87"/>
                  </a:lnTo>
                  <a:lnTo>
                    <a:pt x="468" y="83"/>
                  </a:lnTo>
                  <a:lnTo>
                    <a:pt x="475" y="80"/>
                  </a:lnTo>
                  <a:lnTo>
                    <a:pt x="485" y="80"/>
                  </a:lnTo>
                  <a:lnTo>
                    <a:pt x="499" y="73"/>
                  </a:lnTo>
                  <a:lnTo>
                    <a:pt x="511" y="68"/>
                  </a:lnTo>
                  <a:lnTo>
                    <a:pt x="520" y="64"/>
                  </a:lnTo>
                  <a:lnTo>
                    <a:pt x="532" y="61"/>
                  </a:lnTo>
                  <a:lnTo>
                    <a:pt x="539" y="57"/>
                  </a:lnTo>
                  <a:lnTo>
                    <a:pt x="547" y="54"/>
                  </a:lnTo>
                  <a:lnTo>
                    <a:pt x="549" y="54"/>
                  </a:lnTo>
                  <a:lnTo>
                    <a:pt x="554" y="54"/>
                  </a:lnTo>
                  <a:lnTo>
                    <a:pt x="549" y="52"/>
                  </a:lnTo>
                  <a:lnTo>
                    <a:pt x="539" y="49"/>
                  </a:lnTo>
                  <a:lnTo>
                    <a:pt x="532" y="47"/>
                  </a:lnTo>
                  <a:lnTo>
                    <a:pt x="528" y="42"/>
                  </a:lnTo>
                  <a:lnTo>
                    <a:pt x="518" y="40"/>
                  </a:lnTo>
                  <a:lnTo>
                    <a:pt x="511" y="40"/>
                  </a:lnTo>
                  <a:lnTo>
                    <a:pt x="501" y="35"/>
                  </a:lnTo>
                  <a:lnTo>
                    <a:pt x="492" y="33"/>
                  </a:lnTo>
                  <a:lnTo>
                    <a:pt x="480" y="28"/>
                  </a:lnTo>
                  <a:lnTo>
                    <a:pt x="473" y="28"/>
                  </a:lnTo>
                  <a:lnTo>
                    <a:pt x="463" y="23"/>
                  </a:lnTo>
                  <a:lnTo>
                    <a:pt x="454" y="21"/>
                  </a:lnTo>
                  <a:lnTo>
                    <a:pt x="447" y="19"/>
                  </a:lnTo>
                  <a:lnTo>
                    <a:pt x="440" y="16"/>
                  </a:lnTo>
                  <a:lnTo>
                    <a:pt x="430" y="11"/>
                  </a:lnTo>
                  <a:lnTo>
                    <a:pt x="423" y="9"/>
                  </a:lnTo>
                  <a:lnTo>
                    <a:pt x="416" y="7"/>
                  </a:lnTo>
                  <a:lnTo>
                    <a:pt x="411" y="7"/>
                  </a:lnTo>
                  <a:lnTo>
                    <a:pt x="390" y="0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f7d4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Rectangle 33"/>
          <p:cNvSpPr/>
          <p:nvPr/>
        </p:nvSpPr>
        <p:spPr>
          <a:xfrm>
            <a:off x="539640" y="1341360"/>
            <a:ext cx="5688000" cy="14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 14 веке японц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грали деревянными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акетками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34"/>
          <p:cNvSpPr/>
          <p:nvPr/>
        </p:nvSpPr>
        <p:spPr>
          <a:xfrm>
            <a:off x="395280" y="2565360"/>
            <a:ext cx="619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 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олано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деланным из… «оперенного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плод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вишн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35"/>
          <p:cNvSpPr/>
          <p:nvPr/>
        </p:nvSpPr>
        <p:spPr>
          <a:xfrm>
            <a:off x="4065840" y="3549600"/>
            <a:ext cx="21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рали вишенку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36"/>
          <p:cNvSpPr/>
          <p:nvPr/>
        </p:nvSpPr>
        <p:spPr>
          <a:xfrm>
            <a:off x="1763640" y="4724280"/>
            <a:ext cx="583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тавляли в нее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пять-шесть гусиных перье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37"/>
          <p:cNvSpPr/>
          <p:nvPr/>
        </p:nvSpPr>
        <p:spPr>
          <a:xfrm>
            <a:off x="2120760" y="5637240"/>
            <a:ext cx="30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 засушивали на 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солнц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38"/>
          <p:cNvSpPr/>
          <p:nvPr/>
        </p:nvSpPr>
        <p:spPr>
          <a:xfrm>
            <a:off x="324000" y="4941720"/>
            <a:ext cx="1657080" cy="1438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2771640" y="1616040"/>
            <a:ext cx="583272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чалу современного бадминто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ожил 1872 год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 этом году герцог Бофорт привез из Инд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кетки и мяч с перьям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 свое поместье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Бадминто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 Глостершир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WordArt 2"/>
          <p:cNvSpPr txBox="1"/>
          <p:nvPr/>
        </p:nvSpPr>
        <p:spPr>
          <a:xfrm>
            <a:off x="1042920" y="549360"/>
            <a:ext cx="5688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стория иг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318" name="Group 3"/>
          <p:cNvGrpSpPr/>
          <p:nvPr/>
        </p:nvGrpSpPr>
        <p:grpSpPr>
          <a:xfrm>
            <a:off x="5940360" y="3587760"/>
            <a:ext cx="2648160" cy="2550960"/>
            <a:chOff x="5940360" y="3587760"/>
            <a:chExt cx="2648160" cy="2550960"/>
          </a:xfrm>
        </p:grpSpPr>
        <p:sp>
          <p:nvSpPr>
            <p:cNvPr id="319" name="Freeform 4"/>
            <p:cNvSpPr/>
            <p:nvPr/>
          </p:nvSpPr>
          <p:spPr>
            <a:xfrm>
              <a:off x="6159600" y="3900600"/>
              <a:ext cx="2428920" cy="2238120"/>
            </a:xfrm>
            <a:custGeom>
              <a:avLst/>
              <a:gdLst>
                <a:gd name="textAreaLeft" fmla="*/ 0 w 2428920"/>
                <a:gd name="textAreaRight" fmla="*/ 2429280 w 2428920"/>
                <a:gd name="textAreaTop" fmla="*/ 0 h 2238120"/>
                <a:gd name="textAreaBottom" fmla="*/ 2238480 h 2238120"/>
              </a:gdLst>
              <a:ahLst/>
              <a:rect l="textAreaLeft" t="textAreaTop" r="textAreaRight" b="textAreaBottom"/>
              <a:pathLst>
                <a:path w="3068" h="2841">
                  <a:moveTo>
                    <a:pt x="1092" y="0"/>
                  </a:moveTo>
                  <a:lnTo>
                    <a:pt x="838" y="452"/>
                  </a:lnTo>
                  <a:lnTo>
                    <a:pt x="565" y="458"/>
                  </a:lnTo>
                  <a:lnTo>
                    <a:pt x="617" y="865"/>
                  </a:lnTo>
                  <a:lnTo>
                    <a:pt x="0" y="1848"/>
                  </a:lnTo>
                  <a:lnTo>
                    <a:pt x="28" y="2066"/>
                  </a:lnTo>
                  <a:lnTo>
                    <a:pt x="601" y="2179"/>
                  </a:lnTo>
                  <a:lnTo>
                    <a:pt x="638" y="2563"/>
                  </a:lnTo>
                  <a:lnTo>
                    <a:pt x="833" y="2627"/>
                  </a:lnTo>
                  <a:lnTo>
                    <a:pt x="959" y="2558"/>
                  </a:lnTo>
                  <a:lnTo>
                    <a:pt x="959" y="2342"/>
                  </a:lnTo>
                  <a:lnTo>
                    <a:pt x="2149" y="2563"/>
                  </a:lnTo>
                  <a:lnTo>
                    <a:pt x="2160" y="2771"/>
                  </a:lnTo>
                  <a:lnTo>
                    <a:pt x="2399" y="2841"/>
                  </a:lnTo>
                  <a:lnTo>
                    <a:pt x="2515" y="2763"/>
                  </a:lnTo>
                  <a:lnTo>
                    <a:pt x="2510" y="2517"/>
                  </a:lnTo>
                  <a:lnTo>
                    <a:pt x="2956" y="2601"/>
                  </a:lnTo>
                  <a:lnTo>
                    <a:pt x="2982" y="1307"/>
                  </a:lnTo>
                  <a:lnTo>
                    <a:pt x="3068" y="1285"/>
                  </a:lnTo>
                  <a:lnTo>
                    <a:pt x="3068" y="748"/>
                  </a:lnTo>
                  <a:lnTo>
                    <a:pt x="3019" y="735"/>
                  </a:lnTo>
                  <a:lnTo>
                    <a:pt x="3047" y="172"/>
                  </a:lnTo>
                  <a:lnTo>
                    <a:pt x="2963" y="163"/>
                  </a:lnTo>
                  <a:lnTo>
                    <a:pt x="2743" y="142"/>
                  </a:lnTo>
                  <a:lnTo>
                    <a:pt x="2430" y="112"/>
                  </a:lnTo>
                  <a:lnTo>
                    <a:pt x="2073" y="78"/>
                  </a:lnTo>
                  <a:lnTo>
                    <a:pt x="1714" y="45"/>
                  </a:lnTo>
                  <a:lnTo>
                    <a:pt x="1401" y="18"/>
                  </a:lnTo>
                  <a:lnTo>
                    <a:pt x="1178" y="1"/>
                  </a:lnTo>
                  <a:lnTo>
                    <a:pt x="1092" y="0"/>
                  </a:lnTo>
                  <a:close/>
                </a:path>
              </a:pathLst>
            </a:custGeom>
            <a:solidFill>
              <a:srgbClr val="f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5"/>
            <p:cNvSpPr/>
            <p:nvPr/>
          </p:nvSpPr>
          <p:spPr>
            <a:xfrm>
              <a:off x="6222960" y="3952800"/>
              <a:ext cx="2287800" cy="1916280"/>
            </a:xfrm>
            <a:custGeom>
              <a:avLst/>
              <a:gdLst>
                <a:gd name="textAreaLeft" fmla="*/ 0 w 2287800"/>
                <a:gd name="textAreaRight" fmla="*/ 2288160 w 2287800"/>
                <a:gd name="textAreaTop" fmla="*/ 0 h 1916280"/>
                <a:gd name="textAreaBottom" fmla="*/ 1916640 h 1916280"/>
              </a:gdLst>
              <a:ahLst/>
              <a:rect l="textAreaLeft" t="textAreaTop" r="textAreaRight" b="textAreaBottom"/>
              <a:pathLst>
                <a:path w="2890" h="2432">
                  <a:moveTo>
                    <a:pt x="0" y="1796"/>
                  </a:moveTo>
                  <a:lnTo>
                    <a:pt x="1050" y="0"/>
                  </a:lnTo>
                  <a:lnTo>
                    <a:pt x="2890" y="164"/>
                  </a:lnTo>
                  <a:lnTo>
                    <a:pt x="2790" y="2432"/>
                  </a:lnTo>
                  <a:lnTo>
                    <a:pt x="17" y="1946"/>
                  </a:lnTo>
                  <a:lnTo>
                    <a:pt x="0" y="179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6"/>
            <p:cNvSpPr/>
            <p:nvPr/>
          </p:nvSpPr>
          <p:spPr>
            <a:xfrm>
              <a:off x="6673680" y="5467320"/>
              <a:ext cx="196920" cy="4208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254" h="539">
                  <a:moveTo>
                    <a:pt x="0" y="7"/>
                  </a:moveTo>
                  <a:lnTo>
                    <a:pt x="44" y="514"/>
                  </a:lnTo>
                  <a:lnTo>
                    <a:pt x="186" y="539"/>
                  </a:lnTo>
                  <a:lnTo>
                    <a:pt x="254" y="507"/>
                  </a:lnTo>
                  <a:lnTo>
                    <a:pt x="235" y="0"/>
                  </a:lnTo>
                  <a:lnTo>
                    <a:pt x="225" y="0"/>
                  </a:lnTo>
                  <a:lnTo>
                    <a:pt x="199" y="1"/>
                  </a:lnTo>
                  <a:lnTo>
                    <a:pt x="161" y="4"/>
                  </a:lnTo>
                  <a:lnTo>
                    <a:pt x="120" y="6"/>
                  </a:lnTo>
                  <a:lnTo>
                    <a:pt x="76" y="7"/>
                  </a:lnTo>
                  <a:lnTo>
                    <a:pt x="39" y="8"/>
                  </a:lnTo>
                  <a:lnTo>
                    <a:pt x="11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7"/>
            <p:cNvSpPr/>
            <p:nvPr/>
          </p:nvSpPr>
          <p:spPr>
            <a:xfrm>
              <a:off x="7900920" y="5643720"/>
              <a:ext cx="195480" cy="41904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51" h="537">
                  <a:moveTo>
                    <a:pt x="0" y="6"/>
                  </a:moveTo>
                  <a:lnTo>
                    <a:pt x="42" y="511"/>
                  </a:lnTo>
                  <a:lnTo>
                    <a:pt x="183" y="537"/>
                  </a:lnTo>
                  <a:lnTo>
                    <a:pt x="251" y="507"/>
                  </a:lnTo>
                  <a:lnTo>
                    <a:pt x="235" y="0"/>
                  </a:lnTo>
                  <a:lnTo>
                    <a:pt x="225" y="0"/>
                  </a:lnTo>
                  <a:lnTo>
                    <a:pt x="198" y="1"/>
                  </a:lnTo>
                  <a:lnTo>
                    <a:pt x="161" y="2"/>
                  </a:lnTo>
                  <a:lnTo>
                    <a:pt x="118" y="4"/>
                  </a:lnTo>
                  <a:lnTo>
                    <a:pt x="75" y="5"/>
                  </a:lnTo>
                  <a:lnTo>
                    <a:pt x="38" y="6"/>
                  </a:lnTo>
                  <a:lnTo>
                    <a:pt x="1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8"/>
            <p:cNvSpPr/>
            <p:nvPr/>
          </p:nvSpPr>
          <p:spPr>
            <a:xfrm>
              <a:off x="6823080" y="5502240"/>
              <a:ext cx="1146240" cy="379440"/>
            </a:xfrm>
            <a:custGeom>
              <a:avLst/>
              <a:gdLst>
                <a:gd name="textAreaLeft" fmla="*/ 0 w 1146240"/>
                <a:gd name="textAreaRight" fmla="*/ 1146600 w 114624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1452" h="488">
                  <a:moveTo>
                    <a:pt x="18" y="228"/>
                  </a:moveTo>
                  <a:lnTo>
                    <a:pt x="1452" y="488"/>
                  </a:lnTo>
                  <a:lnTo>
                    <a:pt x="1421" y="215"/>
                  </a:lnTo>
                  <a:lnTo>
                    <a:pt x="0" y="0"/>
                  </a:lnTo>
                  <a:lnTo>
                    <a:pt x="18" y="22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9"/>
            <p:cNvSpPr/>
            <p:nvPr/>
          </p:nvSpPr>
          <p:spPr>
            <a:xfrm>
              <a:off x="6264360" y="3983040"/>
              <a:ext cx="2211480" cy="1781280"/>
            </a:xfrm>
            <a:custGeom>
              <a:avLst/>
              <a:gdLst>
                <a:gd name="textAreaLeft" fmla="*/ 0 w 2211480"/>
                <a:gd name="textAreaRight" fmla="*/ 2211840 w 221148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2794" h="2263">
                  <a:moveTo>
                    <a:pt x="1022" y="0"/>
                  </a:moveTo>
                  <a:lnTo>
                    <a:pt x="0" y="1758"/>
                  </a:lnTo>
                  <a:lnTo>
                    <a:pt x="2695" y="2263"/>
                  </a:lnTo>
                  <a:lnTo>
                    <a:pt x="2794" y="172"/>
                  </a:lnTo>
                  <a:lnTo>
                    <a:pt x="1022" y="0"/>
                  </a:lnTo>
                  <a:close/>
                </a:path>
              </a:pathLst>
            </a:custGeom>
            <a:solidFill>
              <a:srgbClr val="b3c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10"/>
            <p:cNvSpPr/>
            <p:nvPr/>
          </p:nvSpPr>
          <p:spPr>
            <a:xfrm>
              <a:off x="7562880" y="4965840"/>
              <a:ext cx="582480" cy="37944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740" h="486">
                  <a:moveTo>
                    <a:pt x="725" y="383"/>
                  </a:moveTo>
                  <a:lnTo>
                    <a:pt x="731" y="355"/>
                  </a:lnTo>
                  <a:lnTo>
                    <a:pt x="737" y="327"/>
                  </a:lnTo>
                  <a:lnTo>
                    <a:pt x="739" y="300"/>
                  </a:lnTo>
                  <a:lnTo>
                    <a:pt x="740" y="273"/>
                  </a:lnTo>
                  <a:lnTo>
                    <a:pt x="737" y="246"/>
                  </a:lnTo>
                  <a:lnTo>
                    <a:pt x="730" y="221"/>
                  </a:lnTo>
                  <a:lnTo>
                    <a:pt x="719" y="197"/>
                  </a:lnTo>
                  <a:lnTo>
                    <a:pt x="705" y="176"/>
                  </a:lnTo>
                  <a:lnTo>
                    <a:pt x="684" y="153"/>
                  </a:lnTo>
                  <a:lnTo>
                    <a:pt x="657" y="133"/>
                  </a:lnTo>
                  <a:lnTo>
                    <a:pt x="625" y="113"/>
                  </a:lnTo>
                  <a:lnTo>
                    <a:pt x="591" y="98"/>
                  </a:lnTo>
                  <a:lnTo>
                    <a:pt x="556" y="83"/>
                  </a:lnTo>
                  <a:lnTo>
                    <a:pt x="521" y="73"/>
                  </a:lnTo>
                  <a:lnTo>
                    <a:pt x="490" y="66"/>
                  </a:lnTo>
                  <a:lnTo>
                    <a:pt x="465" y="66"/>
                  </a:lnTo>
                  <a:lnTo>
                    <a:pt x="439" y="69"/>
                  </a:lnTo>
                  <a:lnTo>
                    <a:pt x="414" y="74"/>
                  </a:lnTo>
                  <a:lnTo>
                    <a:pt x="386" y="81"/>
                  </a:lnTo>
                  <a:lnTo>
                    <a:pt x="360" y="90"/>
                  </a:lnTo>
                  <a:lnTo>
                    <a:pt x="334" y="97"/>
                  </a:lnTo>
                  <a:lnTo>
                    <a:pt x="314" y="104"/>
                  </a:lnTo>
                  <a:lnTo>
                    <a:pt x="300" y="109"/>
                  </a:lnTo>
                  <a:lnTo>
                    <a:pt x="292" y="112"/>
                  </a:lnTo>
                  <a:lnTo>
                    <a:pt x="271" y="107"/>
                  </a:lnTo>
                  <a:lnTo>
                    <a:pt x="237" y="94"/>
                  </a:lnTo>
                  <a:lnTo>
                    <a:pt x="195" y="76"/>
                  </a:lnTo>
                  <a:lnTo>
                    <a:pt x="150" y="55"/>
                  </a:lnTo>
                  <a:lnTo>
                    <a:pt x="105" y="33"/>
                  </a:lnTo>
                  <a:lnTo>
                    <a:pt x="67" y="15"/>
                  </a:lnTo>
                  <a:lnTo>
                    <a:pt x="40" y="3"/>
                  </a:lnTo>
                  <a:lnTo>
                    <a:pt x="30" y="0"/>
                  </a:lnTo>
                  <a:lnTo>
                    <a:pt x="0" y="51"/>
                  </a:lnTo>
                  <a:lnTo>
                    <a:pt x="2" y="90"/>
                  </a:lnTo>
                  <a:lnTo>
                    <a:pt x="230" y="200"/>
                  </a:lnTo>
                  <a:lnTo>
                    <a:pt x="246" y="221"/>
                  </a:lnTo>
                  <a:lnTo>
                    <a:pt x="264" y="245"/>
                  </a:lnTo>
                  <a:lnTo>
                    <a:pt x="284" y="272"/>
                  </a:lnTo>
                  <a:lnTo>
                    <a:pt x="304" y="301"/>
                  </a:lnTo>
                  <a:lnTo>
                    <a:pt x="323" y="329"/>
                  </a:lnTo>
                  <a:lnTo>
                    <a:pt x="342" y="356"/>
                  </a:lnTo>
                  <a:lnTo>
                    <a:pt x="359" y="380"/>
                  </a:lnTo>
                  <a:lnTo>
                    <a:pt x="375" y="402"/>
                  </a:lnTo>
                  <a:lnTo>
                    <a:pt x="390" y="419"/>
                  </a:lnTo>
                  <a:lnTo>
                    <a:pt x="409" y="436"/>
                  </a:lnTo>
                  <a:lnTo>
                    <a:pt x="430" y="451"/>
                  </a:lnTo>
                  <a:lnTo>
                    <a:pt x="456" y="464"/>
                  </a:lnTo>
                  <a:lnTo>
                    <a:pt x="483" y="473"/>
                  </a:lnTo>
                  <a:lnTo>
                    <a:pt x="514" y="481"/>
                  </a:lnTo>
                  <a:lnTo>
                    <a:pt x="547" y="484"/>
                  </a:lnTo>
                  <a:lnTo>
                    <a:pt x="581" y="486"/>
                  </a:lnTo>
                  <a:lnTo>
                    <a:pt x="613" y="482"/>
                  </a:lnTo>
                  <a:lnTo>
                    <a:pt x="641" y="474"/>
                  </a:lnTo>
                  <a:lnTo>
                    <a:pt x="664" y="462"/>
                  </a:lnTo>
                  <a:lnTo>
                    <a:pt x="684" y="447"/>
                  </a:lnTo>
                  <a:lnTo>
                    <a:pt x="699" y="429"/>
                  </a:lnTo>
                  <a:lnTo>
                    <a:pt x="711" y="413"/>
                  </a:lnTo>
                  <a:lnTo>
                    <a:pt x="720" y="396"/>
                  </a:lnTo>
                  <a:lnTo>
                    <a:pt x="725" y="38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11"/>
            <p:cNvSpPr/>
            <p:nvPr/>
          </p:nvSpPr>
          <p:spPr>
            <a:xfrm>
              <a:off x="7785000" y="5121360"/>
              <a:ext cx="320760" cy="20952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411" h="272">
                  <a:moveTo>
                    <a:pt x="404" y="228"/>
                  </a:moveTo>
                  <a:lnTo>
                    <a:pt x="403" y="228"/>
                  </a:lnTo>
                  <a:lnTo>
                    <a:pt x="400" y="231"/>
                  </a:lnTo>
                  <a:lnTo>
                    <a:pt x="395" y="236"/>
                  </a:lnTo>
                  <a:lnTo>
                    <a:pt x="388" y="243"/>
                  </a:lnTo>
                  <a:lnTo>
                    <a:pt x="378" y="249"/>
                  </a:lnTo>
                  <a:lnTo>
                    <a:pt x="367" y="256"/>
                  </a:lnTo>
                  <a:lnTo>
                    <a:pt x="352" y="262"/>
                  </a:lnTo>
                  <a:lnTo>
                    <a:pt x="335" y="267"/>
                  </a:lnTo>
                  <a:lnTo>
                    <a:pt x="315" y="270"/>
                  </a:lnTo>
                  <a:lnTo>
                    <a:pt x="296" y="272"/>
                  </a:lnTo>
                  <a:lnTo>
                    <a:pt x="277" y="272"/>
                  </a:lnTo>
                  <a:lnTo>
                    <a:pt x="260" y="270"/>
                  </a:lnTo>
                  <a:lnTo>
                    <a:pt x="242" y="267"/>
                  </a:lnTo>
                  <a:lnTo>
                    <a:pt x="228" y="264"/>
                  </a:lnTo>
                  <a:lnTo>
                    <a:pt x="213" y="260"/>
                  </a:lnTo>
                  <a:lnTo>
                    <a:pt x="202" y="257"/>
                  </a:lnTo>
                  <a:lnTo>
                    <a:pt x="188" y="251"/>
                  </a:lnTo>
                  <a:lnTo>
                    <a:pt x="176" y="246"/>
                  </a:lnTo>
                  <a:lnTo>
                    <a:pt x="162" y="238"/>
                  </a:lnTo>
                  <a:lnTo>
                    <a:pt x="148" y="230"/>
                  </a:lnTo>
                  <a:lnTo>
                    <a:pt x="134" y="220"/>
                  </a:lnTo>
                  <a:lnTo>
                    <a:pt x="120" y="211"/>
                  </a:lnTo>
                  <a:lnTo>
                    <a:pt x="109" y="201"/>
                  </a:lnTo>
                  <a:lnTo>
                    <a:pt x="100" y="191"/>
                  </a:lnTo>
                  <a:lnTo>
                    <a:pt x="88" y="177"/>
                  </a:lnTo>
                  <a:lnTo>
                    <a:pt x="72" y="155"/>
                  </a:lnTo>
                  <a:lnTo>
                    <a:pt x="55" y="129"/>
                  </a:lnTo>
                  <a:lnTo>
                    <a:pt x="39" y="103"/>
                  </a:lnTo>
                  <a:lnTo>
                    <a:pt x="22" y="76"/>
                  </a:lnTo>
                  <a:lnTo>
                    <a:pt x="10" y="54"/>
                  </a:lnTo>
                  <a:lnTo>
                    <a:pt x="1" y="37"/>
                  </a:lnTo>
                  <a:lnTo>
                    <a:pt x="0" y="31"/>
                  </a:lnTo>
                  <a:lnTo>
                    <a:pt x="12" y="0"/>
                  </a:lnTo>
                  <a:lnTo>
                    <a:pt x="14" y="6"/>
                  </a:lnTo>
                  <a:lnTo>
                    <a:pt x="23" y="22"/>
                  </a:lnTo>
                  <a:lnTo>
                    <a:pt x="35" y="46"/>
                  </a:lnTo>
                  <a:lnTo>
                    <a:pt x="52" y="74"/>
                  </a:lnTo>
                  <a:lnTo>
                    <a:pt x="69" y="102"/>
                  </a:lnTo>
                  <a:lnTo>
                    <a:pt x="86" y="127"/>
                  </a:lnTo>
                  <a:lnTo>
                    <a:pt x="101" y="149"/>
                  </a:lnTo>
                  <a:lnTo>
                    <a:pt x="114" y="161"/>
                  </a:lnTo>
                  <a:lnTo>
                    <a:pt x="125" y="170"/>
                  </a:lnTo>
                  <a:lnTo>
                    <a:pt x="144" y="184"/>
                  </a:lnTo>
                  <a:lnTo>
                    <a:pt x="166" y="200"/>
                  </a:lnTo>
                  <a:lnTo>
                    <a:pt x="195" y="217"/>
                  </a:lnTo>
                  <a:lnTo>
                    <a:pt x="225" y="229"/>
                  </a:lnTo>
                  <a:lnTo>
                    <a:pt x="259" y="239"/>
                  </a:lnTo>
                  <a:lnTo>
                    <a:pt x="293" y="243"/>
                  </a:lnTo>
                  <a:lnTo>
                    <a:pt x="329" y="239"/>
                  </a:lnTo>
                  <a:lnTo>
                    <a:pt x="359" y="229"/>
                  </a:lnTo>
                  <a:lnTo>
                    <a:pt x="382" y="224"/>
                  </a:lnTo>
                  <a:lnTo>
                    <a:pt x="396" y="219"/>
                  </a:lnTo>
                  <a:lnTo>
                    <a:pt x="406" y="218"/>
                  </a:lnTo>
                  <a:lnTo>
                    <a:pt x="410" y="217"/>
                  </a:lnTo>
                  <a:lnTo>
                    <a:pt x="411" y="219"/>
                  </a:lnTo>
                  <a:lnTo>
                    <a:pt x="407" y="222"/>
                  </a:lnTo>
                  <a:lnTo>
                    <a:pt x="404" y="228"/>
                  </a:lnTo>
                  <a:close/>
                </a:path>
              </a:pathLst>
            </a:custGeom>
            <a:solidFill>
              <a:srgbClr val="1f1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12"/>
            <p:cNvSpPr/>
            <p:nvPr/>
          </p:nvSpPr>
          <p:spPr>
            <a:xfrm>
              <a:off x="7792920" y="5027760"/>
              <a:ext cx="339840" cy="28728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432" h="368">
                  <a:moveTo>
                    <a:pt x="431" y="256"/>
                  </a:moveTo>
                  <a:lnTo>
                    <a:pt x="430" y="258"/>
                  </a:lnTo>
                  <a:lnTo>
                    <a:pt x="429" y="266"/>
                  </a:lnTo>
                  <a:lnTo>
                    <a:pt x="427" y="276"/>
                  </a:lnTo>
                  <a:lnTo>
                    <a:pt x="424" y="289"/>
                  </a:lnTo>
                  <a:lnTo>
                    <a:pt x="420" y="303"/>
                  </a:lnTo>
                  <a:lnTo>
                    <a:pt x="413" y="317"/>
                  </a:lnTo>
                  <a:lnTo>
                    <a:pt x="405" y="329"/>
                  </a:lnTo>
                  <a:lnTo>
                    <a:pt x="395" y="341"/>
                  </a:lnTo>
                  <a:lnTo>
                    <a:pt x="380" y="348"/>
                  </a:lnTo>
                  <a:lnTo>
                    <a:pt x="361" y="356"/>
                  </a:lnTo>
                  <a:lnTo>
                    <a:pt x="338" y="363"/>
                  </a:lnTo>
                  <a:lnTo>
                    <a:pt x="314" y="367"/>
                  </a:lnTo>
                  <a:lnTo>
                    <a:pt x="285" y="368"/>
                  </a:lnTo>
                  <a:lnTo>
                    <a:pt x="256" y="366"/>
                  </a:lnTo>
                  <a:lnTo>
                    <a:pt x="224" y="358"/>
                  </a:lnTo>
                  <a:lnTo>
                    <a:pt x="193" y="345"/>
                  </a:lnTo>
                  <a:lnTo>
                    <a:pt x="163" y="328"/>
                  </a:lnTo>
                  <a:lnTo>
                    <a:pt x="139" y="315"/>
                  </a:lnTo>
                  <a:lnTo>
                    <a:pt x="120" y="301"/>
                  </a:lnTo>
                  <a:lnTo>
                    <a:pt x="107" y="291"/>
                  </a:lnTo>
                  <a:lnTo>
                    <a:pt x="96" y="281"/>
                  </a:lnTo>
                  <a:lnTo>
                    <a:pt x="88" y="275"/>
                  </a:lnTo>
                  <a:lnTo>
                    <a:pt x="82" y="268"/>
                  </a:lnTo>
                  <a:lnTo>
                    <a:pt x="79" y="266"/>
                  </a:lnTo>
                  <a:lnTo>
                    <a:pt x="71" y="257"/>
                  </a:lnTo>
                  <a:lnTo>
                    <a:pt x="61" y="241"/>
                  </a:lnTo>
                  <a:lnTo>
                    <a:pt x="48" y="220"/>
                  </a:lnTo>
                  <a:lnTo>
                    <a:pt x="35" y="198"/>
                  </a:lnTo>
                  <a:lnTo>
                    <a:pt x="22" y="173"/>
                  </a:lnTo>
                  <a:lnTo>
                    <a:pt x="11" y="153"/>
                  </a:lnTo>
                  <a:lnTo>
                    <a:pt x="3" y="135"/>
                  </a:lnTo>
                  <a:lnTo>
                    <a:pt x="1" y="126"/>
                  </a:lnTo>
                  <a:lnTo>
                    <a:pt x="0" y="116"/>
                  </a:lnTo>
                  <a:lnTo>
                    <a:pt x="3" y="106"/>
                  </a:lnTo>
                  <a:lnTo>
                    <a:pt x="8" y="95"/>
                  </a:lnTo>
                  <a:lnTo>
                    <a:pt x="13" y="84"/>
                  </a:lnTo>
                  <a:lnTo>
                    <a:pt x="18" y="72"/>
                  </a:lnTo>
                  <a:lnTo>
                    <a:pt x="23" y="63"/>
                  </a:lnTo>
                  <a:lnTo>
                    <a:pt x="28" y="57"/>
                  </a:lnTo>
                  <a:lnTo>
                    <a:pt x="31" y="54"/>
                  </a:lnTo>
                  <a:lnTo>
                    <a:pt x="37" y="50"/>
                  </a:lnTo>
                  <a:lnTo>
                    <a:pt x="49" y="43"/>
                  </a:lnTo>
                  <a:lnTo>
                    <a:pt x="68" y="33"/>
                  </a:lnTo>
                  <a:lnTo>
                    <a:pt x="90" y="24"/>
                  </a:lnTo>
                  <a:lnTo>
                    <a:pt x="115" y="14"/>
                  </a:lnTo>
                  <a:lnTo>
                    <a:pt x="142" y="5"/>
                  </a:lnTo>
                  <a:lnTo>
                    <a:pt x="168" y="0"/>
                  </a:lnTo>
                  <a:lnTo>
                    <a:pt x="194" y="0"/>
                  </a:lnTo>
                  <a:lnTo>
                    <a:pt x="220" y="2"/>
                  </a:lnTo>
                  <a:lnTo>
                    <a:pt x="251" y="11"/>
                  </a:lnTo>
                  <a:lnTo>
                    <a:pt x="282" y="22"/>
                  </a:lnTo>
                  <a:lnTo>
                    <a:pt x="315" y="38"/>
                  </a:lnTo>
                  <a:lnTo>
                    <a:pt x="344" y="53"/>
                  </a:lnTo>
                  <a:lnTo>
                    <a:pt x="370" y="71"/>
                  </a:lnTo>
                  <a:lnTo>
                    <a:pt x="389" y="88"/>
                  </a:lnTo>
                  <a:lnTo>
                    <a:pt x="402" y="106"/>
                  </a:lnTo>
                  <a:lnTo>
                    <a:pt x="409" y="119"/>
                  </a:lnTo>
                  <a:lnTo>
                    <a:pt x="415" y="133"/>
                  </a:lnTo>
                  <a:lnTo>
                    <a:pt x="421" y="146"/>
                  </a:lnTo>
                  <a:lnTo>
                    <a:pt x="427" y="162"/>
                  </a:lnTo>
                  <a:lnTo>
                    <a:pt x="429" y="179"/>
                  </a:lnTo>
                  <a:lnTo>
                    <a:pt x="432" y="199"/>
                  </a:lnTo>
                  <a:lnTo>
                    <a:pt x="432" y="223"/>
                  </a:lnTo>
                  <a:lnTo>
                    <a:pt x="431" y="256"/>
                  </a:lnTo>
                  <a:close/>
                </a:path>
              </a:pathLst>
            </a:custGeom>
            <a:solidFill>
              <a:srgbClr val="9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13"/>
            <p:cNvSpPr/>
            <p:nvPr/>
          </p:nvSpPr>
          <p:spPr>
            <a:xfrm>
              <a:off x="7572240" y="4973760"/>
              <a:ext cx="231840" cy="1458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298" h="191">
                  <a:moveTo>
                    <a:pt x="24" y="0"/>
                  </a:moveTo>
                  <a:lnTo>
                    <a:pt x="0" y="41"/>
                  </a:lnTo>
                  <a:lnTo>
                    <a:pt x="247" y="168"/>
                  </a:lnTo>
                  <a:lnTo>
                    <a:pt x="264" y="191"/>
                  </a:lnTo>
                  <a:lnTo>
                    <a:pt x="298" y="112"/>
                  </a:lnTo>
                  <a:lnTo>
                    <a:pt x="269" y="12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4"/>
            <p:cNvSpPr/>
            <p:nvPr/>
          </p:nvSpPr>
          <p:spPr>
            <a:xfrm>
              <a:off x="7570800" y="5006880"/>
              <a:ext cx="206280" cy="1285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66" h="170">
                  <a:moveTo>
                    <a:pt x="0" y="0"/>
                  </a:moveTo>
                  <a:lnTo>
                    <a:pt x="0" y="30"/>
                  </a:lnTo>
                  <a:lnTo>
                    <a:pt x="9" y="35"/>
                  </a:lnTo>
                  <a:lnTo>
                    <a:pt x="35" y="47"/>
                  </a:lnTo>
                  <a:lnTo>
                    <a:pt x="72" y="64"/>
                  </a:lnTo>
                  <a:lnTo>
                    <a:pt x="114" y="85"/>
                  </a:lnTo>
                  <a:lnTo>
                    <a:pt x="156" y="104"/>
                  </a:lnTo>
                  <a:lnTo>
                    <a:pt x="192" y="122"/>
                  </a:lnTo>
                  <a:lnTo>
                    <a:pt x="219" y="134"/>
                  </a:lnTo>
                  <a:lnTo>
                    <a:pt x="230" y="141"/>
                  </a:lnTo>
                  <a:lnTo>
                    <a:pt x="233" y="146"/>
                  </a:lnTo>
                  <a:lnTo>
                    <a:pt x="240" y="157"/>
                  </a:lnTo>
                  <a:lnTo>
                    <a:pt x="246" y="166"/>
                  </a:lnTo>
                  <a:lnTo>
                    <a:pt x="251" y="170"/>
                  </a:lnTo>
                  <a:lnTo>
                    <a:pt x="253" y="164"/>
                  </a:lnTo>
                  <a:lnTo>
                    <a:pt x="258" y="157"/>
                  </a:lnTo>
                  <a:lnTo>
                    <a:pt x="264" y="152"/>
                  </a:lnTo>
                  <a:lnTo>
                    <a:pt x="266" y="150"/>
                  </a:lnTo>
                  <a:lnTo>
                    <a:pt x="249" y="1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15"/>
            <p:cNvSpPr/>
            <p:nvPr/>
          </p:nvSpPr>
          <p:spPr>
            <a:xfrm>
              <a:off x="6257880" y="5388120"/>
              <a:ext cx="2149560" cy="466560"/>
            </a:xfrm>
            <a:custGeom>
              <a:avLst/>
              <a:gdLst>
                <a:gd name="textAreaLeft" fmla="*/ 0 w 2149560"/>
                <a:gd name="textAreaRight" fmla="*/ 2149920 w 214956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2717" h="597">
                  <a:moveTo>
                    <a:pt x="0" y="0"/>
                  </a:moveTo>
                  <a:lnTo>
                    <a:pt x="0" y="90"/>
                  </a:lnTo>
                  <a:lnTo>
                    <a:pt x="2717" y="597"/>
                  </a:lnTo>
                  <a:lnTo>
                    <a:pt x="2707" y="5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b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16"/>
            <p:cNvSpPr/>
            <p:nvPr/>
          </p:nvSpPr>
          <p:spPr>
            <a:xfrm>
              <a:off x="6707160" y="5572080"/>
              <a:ext cx="96840" cy="2905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127" h="373">
                  <a:moveTo>
                    <a:pt x="0" y="0"/>
                  </a:moveTo>
                  <a:lnTo>
                    <a:pt x="25" y="354"/>
                  </a:lnTo>
                  <a:lnTo>
                    <a:pt x="127" y="373"/>
                  </a:lnTo>
                  <a:lnTo>
                    <a:pt x="1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b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7"/>
            <p:cNvSpPr/>
            <p:nvPr/>
          </p:nvSpPr>
          <p:spPr>
            <a:xfrm>
              <a:off x="7932600" y="5788080"/>
              <a:ext cx="92160" cy="255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123" h="331">
                  <a:moveTo>
                    <a:pt x="0" y="0"/>
                  </a:moveTo>
                  <a:lnTo>
                    <a:pt x="26" y="310"/>
                  </a:lnTo>
                  <a:lnTo>
                    <a:pt x="123" y="331"/>
                  </a:lnTo>
                  <a:lnTo>
                    <a:pt x="111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b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18"/>
            <p:cNvSpPr/>
            <p:nvPr/>
          </p:nvSpPr>
          <p:spPr>
            <a:xfrm>
              <a:off x="6842160" y="5597640"/>
              <a:ext cx="1063440" cy="252360"/>
            </a:xfrm>
            <a:custGeom>
              <a:avLst/>
              <a:gdLst>
                <a:gd name="textAreaLeft" fmla="*/ 0 w 1063440"/>
                <a:gd name="textAreaRight" fmla="*/ 1063800 w 106344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346" h="325">
                  <a:moveTo>
                    <a:pt x="0" y="0"/>
                  </a:moveTo>
                  <a:lnTo>
                    <a:pt x="4" y="83"/>
                  </a:lnTo>
                  <a:lnTo>
                    <a:pt x="1346" y="325"/>
                  </a:lnTo>
                  <a:lnTo>
                    <a:pt x="1346" y="2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b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19"/>
            <p:cNvSpPr/>
            <p:nvPr/>
          </p:nvSpPr>
          <p:spPr>
            <a:xfrm>
              <a:off x="6804000" y="5594400"/>
              <a:ext cx="52560" cy="2714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71" h="350">
                  <a:moveTo>
                    <a:pt x="0" y="0"/>
                  </a:moveTo>
                  <a:lnTo>
                    <a:pt x="21" y="350"/>
                  </a:lnTo>
                  <a:lnTo>
                    <a:pt x="71" y="332"/>
                  </a:lnTo>
                  <a:lnTo>
                    <a:pt x="71" y="132"/>
                  </a:lnTo>
                  <a:lnTo>
                    <a:pt x="39" y="115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20"/>
            <p:cNvSpPr/>
            <p:nvPr/>
          </p:nvSpPr>
          <p:spPr>
            <a:xfrm>
              <a:off x="8032680" y="5810400"/>
              <a:ext cx="54000" cy="2314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75" h="299">
                  <a:moveTo>
                    <a:pt x="0" y="0"/>
                  </a:moveTo>
                  <a:lnTo>
                    <a:pt x="15" y="299"/>
                  </a:lnTo>
                  <a:lnTo>
                    <a:pt x="75" y="279"/>
                  </a:lnTo>
                  <a:lnTo>
                    <a:pt x="6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21"/>
            <p:cNvSpPr/>
            <p:nvPr/>
          </p:nvSpPr>
          <p:spPr>
            <a:xfrm>
              <a:off x="8412120" y="4510080"/>
              <a:ext cx="111240" cy="34776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145" h="448">
                  <a:moveTo>
                    <a:pt x="36" y="442"/>
                  </a:moveTo>
                  <a:lnTo>
                    <a:pt x="0" y="12"/>
                  </a:lnTo>
                  <a:lnTo>
                    <a:pt x="4" y="10"/>
                  </a:lnTo>
                  <a:lnTo>
                    <a:pt x="19" y="8"/>
                  </a:lnTo>
                  <a:lnTo>
                    <a:pt x="38" y="4"/>
                  </a:lnTo>
                  <a:lnTo>
                    <a:pt x="61" y="2"/>
                  </a:lnTo>
                  <a:lnTo>
                    <a:pt x="84" y="0"/>
                  </a:lnTo>
                  <a:lnTo>
                    <a:pt x="104" y="2"/>
                  </a:lnTo>
                  <a:lnTo>
                    <a:pt x="118" y="6"/>
                  </a:lnTo>
                  <a:lnTo>
                    <a:pt x="124" y="15"/>
                  </a:lnTo>
                  <a:lnTo>
                    <a:pt x="124" y="41"/>
                  </a:lnTo>
                  <a:lnTo>
                    <a:pt x="126" y="94"/>
                  </a:lnTo>
                  <a:lnTo>
                    <a:pt x="129" y="162"/>
                  </a:lnTo>
                  <a:lnTo>
                    <a:pt x="134" y="239"/>
                  </a:lnTo>
                  <a:lnTo>
                    <a:pt x="137" y="314"/>
                  </a:lnTo>
                  <a:lnTo>
                    <a:pt x="141" y="379"/>
                  </a:lnTo>
                  <a:lnTo>
                    <a:pt x="143" y="424"/>
                  </a:lnTo>
                  <a:lnTo>
                    <a:pt x="145" y="442"/>
                  </a:lnTo>
                  <a:lnTo>
                    <a:pt x="141" y="442"/>
                  </a:lnTo>
                  <a:lnTo>
                    <a:pt x="131" y="443"/>
                  </a:lnTo>
                  <a:lnTo>
                    <a:pt x="115" y="446"/>
                  </a:lnTo>
                  <a:lnTo>
                    <a:pt x="98" y="448"/>
                  </a:lnTo>
                  <a:lnTo>
                    <a:pt x="79" y="448"/>
                  </a:lnTo>
                  <a:lnTo>
                    <a:pt x="61" y="448"/>
                  </a:lnTo>
                  <a:lnTo>
                    <a:pt x="46" y="446"/>
                  </a:lnTo>
                  <a:lnTo>
                    <a:pt x="36" y="4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22"/>
            <p:cNvSpPr/>
            <p:nvPr/>
          </p:nvSpPr>
          <p:spPr>
            <a:xfrm>
              <a:off x="6669000" y="4305240"/>
              <a:ext cx="1787760" cy="258840"/>
            </a:xfrm>
            <a:custGeom>
              <a:avLst/>
              <a:gdLst>
                <a:gd name="textAreaLeft" fmla="*/ 0 w 1787760"/>
                <a:gd name="textAreaRight" fmla="*/ 1788120 w 17877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260" h="336">
                  <a:moveTo>
                    <a:pt x="3" y="0"/>
                  </a:moveTo>
                  <a:lnTo>
                    <a:pt x="2260" y="260"/>
                  </a:lnTo>
                  <a:lnTo>
                    <a:pt x="2254" y="336"/>
                  </a:lnTo>
                  <a:lnTo>
                    <a:pt x="19" y="75"/>
                  </a:lnTo>
                  <a:lnTo>
                    <a:pt x="16" y="72"/>
                  </a:lnTo>
                  <a:lnTo>
                    <a:pt x="14" y="64"/>
                  </a:lnTo>
                  <a:lnTo>
                    <a:pt x="11" y="53"/>
                  </a:lnTo>
                  <a:lnTo>
                    <a:pt x="8" y="41"/>
                  </a:lnTo>
                  <a:lnTo>
                    <a:pt x="3" y="2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23"/>
            <p:cNvSpPr/>
            <p:nvPr/>
          </p:nvSpPr>
          <p:spPr>
            <a:xfrm>
              <a:off x="6676920" y="4307040"/>
              <a:ext cx="71640" cy="322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95" h="413">
                  <a:moveTo>
                    <a:pt x="0" y="2"/>
                  </a:moveTo>
                  <a:lnTo>
                    <a:pt x="23" y="413"/>
                  </a:lnTo>
                  <a:lnTo>
                    <a:pt x="95" y="312"/>
                  </a:lnTo>
                  <a:lnTo>
                    <a:pt x="85" y="7"/>
                  </a:lnTo>
                  <a:lnTo>
                    <a:pt x="80" y="5"/>
                  </a:lnTo>
                  <a:lnTo>
                    <a:pt x="71" y="4"/>
                  </a:lnTo>
                  <a:lnTo>
                    <a:pt x="58" y="2"/>
                  </a:lnTo>
                  <a:lnTo>
                    <a:pt x="43" y="2"/>
                  </a:lnTo>
                  <a:lnTo>
                    <a:pt x="28" y="0"/>
                  </a:lnTo>
                  <a:lnTo>
                    <a:pt x="14" y="0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4"/>
            <p:cNvSpPr/>
            <p:nvPr/>
          </p:nvSpPr>
          <p:spPr>
            <a:xfrm>
              <a:off x="6691320" y="4322880"/>
              <a:ext cx="36360" cy="2570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53" h="331">
                  <a:moveTo>
                    <a:pt x="0" y="0"/>
                  </a:moveTo>
                  <a:lnTo>
                    <a:pt x="19" y="331"/>
                  </a:lnTo>
                  <a:lnTo>
                    <a:pt x="53" y="265"/>
                  </a:lnTo>
                  <a:lnTo>
                    <a:pt x="53" y="252"/>
                  </a:lnTo>
                  <a:lnTo>
                    <a:pt x="53" y="224"/>
                  </a:lnTo>
                  <a:lnTo>
                    <a:pt x="52" y="184"/>
                  </a:lnTo>
                  <a:lnTo>
                    <a:pt x="52" y="140"/>
                  </a:lnTo>
                  <a:lnTo>
                    <a:pt x="50" y="93"/>
                  </a:lnTo>
                  <a:lnTo>
                    <a:pt x="47" y="51"/>
                  </a:lnTo>
                  <a:lnTo>
                    <a:pt x="45" y="19"/>
                  </a:lnTo>
                  <a:lnTo>
                    <a:pt x="43" y="3"/>
                  </a:lnTo>
                  <a:lnTo>
                    <a:pt x="36" y="2"/>
                  </a:lnTo>
                  <a:lnTo>
                    <a:pt x="31" y="2"/>
                  </a:lnTo>
                  <a:lnTo>
                    <a:pt x="24" y="1"/>
                  </a:lnTo>
                  <a:lnTo>
                    <a:pt x="17" y="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25"/>
            <p:cNvSpPr/>
            <p:nvPr/>
          </p:nvSpPr>
          <p:spPr>
            <a:xfrm>
              <a:off x="6742080" y="4319640"/>
              <a:ext cx="1676520" cy="22536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2121" h="292">
                  <a:moveTo>
                    <a:pt x="0" y="0"/>
                  </a:moveTo>
                  <a:lnTo>
                    <a:pt x="4" y="41"/>
                  </a:lnTo>
                  <a:lnTo>
                    <a:pt x="2121" y="292"/>
                  </a:lnTo>
                  <a:lnTo>
                    <a:pt x="2121" y="2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6"/>
            <p:cNvSpPr/>
            <p:nvPr/>
          </p:nvSpPr>
          <p:spPr>
            <a:xfrm>
              <a:off x="8458200" y="4524480"/>
              <a:ext cx="38160" cy="3204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55" h="411">
                  <a:moveTo>
                    <a:pt x="0" y="15"/>
                  </a:moveTo>
                  <a:lnTo>
                    <a:pt x="20" y="410"/>
                  </a:lnTo>
                  <a:lnTo>
                    <a:pt x="22" y="410"/>
                  </a:lnTo>
                  <a:lnTo>
                    <a:pt x="31" y="411"/>
                  </a:lnTo>
                  <a:lnTo>
                    <a:pt x="41" y="411"/>
                  </a:lnTo>
                  <a:lnTo>
                    <a:pt x="52" y="410"/>
                  </a:lnTo>
                  <a:lnTo>
                    <a:pt x="53" y="390"/>
                  </a:lnTo>
                  <a:lnTo>
                    <a:pt x="55" y="344"/>
                  </a:lnTo>
                  <a:lnTo>
                    <a:pt x="52" y="278"/>
                  </a:lnTo>
                  <a:lnTo>
                    <a:pt x="50" y="203"/>
                  </a:lnTo>
                  <a:lnTo>
                    <a:pt x="47" y="128"/>
                  </a:lnTo>
                  <a:lnTo>
                    <a:pt x="45" y="63"/>
                  </a:lnTo>
                  <a:lnTo>
                    <a:pt x="42" y="18"/>
                  </a:lnTo>
                  <a:lnTo>
                    <a:pt x="42" y="1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1" y="1"/>
                  </a:lnTo>
                  <a:lnTo>
                    <a:pt x="12" y="1"/>
                  </a:lnTo>
                  <a:lnTo>
                    <a:pt x="7" y="4"/>
                  </a:lnTo>
                  <a:lnTo>
                    <a:pt x="1" y="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0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27"/>
            <p:cNvSpPr/>
            <p:nvPr/>
          </p:nvSpPr>
          <p:spPr>
            <a:xfrm>
              <a:off x="6711840" y="4376880"/>
              <a:ext cx="1725840" cy="476280"/>
            </a:xfrm>
            <a:custGeom>
              <a:avLst/>
              <a:gdLst>
                <a:gd name="textAreaLeft" fmla="*/ 0 w 1725840"/>
                <a:gd name="textAreaRight" fmla="*/ 1726200 w 172584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2183" h="611">
                  <a:moveTo>
                    <a:pt x="0" y="296"/>
                  </a:moveTo>
                  <a:lnTo>
                    <a:pt x="147" y="0"/>
                  </a:lnTo>
                  <a:lnTo>
                    <a:pt x="2170" y="240"/>
                  </a:lnTo>
                  <a:lnTo>
                    <a:pt x="2183" y="611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b3c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28"/>
            <p:cNvSpPr/>
            <p:nvPr/>
          </p:nvSpPr>
          <p:spPr>
            <a:xfrm>
              <a:off x="6824520" y="4376880"/>
              <a:ext cx="36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5" y="0"/>
                  </a:moveTo>
                  <a:lnTo>
                    <a:pt x="0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9"/>
            <p:cNvSpPr/>
            <p:nvPr/>
          </p:nvSpPr>
          <p:spPr>
            <a:xfrm>
              <a:off x="6746760" y="4384800"/>
              <a:ext cx="158760" cy="2286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06" h="297">
                  <a:moveTo>
                    <a:pt x="206" y="5"/>
                  </a:moveTo>
                  <a:lnTo>
                    <a:pt x="182" y="40"/>
                  </a:lnTo>
                  <a:lnTo>
                    <a:pt x="159" y="76"/>
                  </a:lnTo>
                  <a:lnTo>
                    <a:pt x="136" y="112"/>
                  </a:lnTo>
                  <a:lnTo>
                    <a:pt x="114" y="149"/>
                  </a:lnTo>
                  <a:lnTo>
                    <a:pt x="90" y="186"/>
                  </a:lnTo>
                  <a:lnTo>
                    <a:pt x="68" y="222"/>
                  </a:lnTo>
                  <a:lnTo>
                    <a:pt x="46" y="259"/>
                  </a:lnTo>
                  <a:lnTo>
                    <a:pt x="23" y="297"/>
                  </a:lnTo>
                  <a:lnTo>
                    <a:pt x="0" y="294"/>
                  </a:lnTo>
                  <a:lnTo>
                    <a:pt x="21" y="256"/>
                  </a:lnTo>
                  <a:lnTo>
                    <a:pt x="44" y="219"/>
                  </a:lnTo>
                  <a:lnTo>
                    <a:pt x="66" y="182"/>
                  </a:lnTo>
                  <a:lnTo>
                    <a:pt x="89" y="145"/>
                  </a:lnTo>
                  <a:lnTo>
                    <a:pt x="112" y="109"/>
                  </a:lnTo>
                  <a:lnTo>
                    <a:pt x="134" y="73"/>
                  </a:lnTo>
                  <a:lnTo>
                    <a:pt x="156" y="36"/>
                  </a:lnTo>
                  <a:lnTo>
                    <a:pt x="180" y="0"/>
                  </a:lnTo>
                  <a:lnTo>
                    <a:pt x="206" y="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30"/>
            <p:cNvSpPr/>
            <p:nvPr/>
          </p:nvSpPr>
          <p:spPr>
            <a:xfrm>
              <a:off x="6827760" y="4394160"/>
              <a:ext cx="158760" cy="2304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206" h="300">
                  <a:moveTo>
                    <a:pt x="206" y="3"/>
                  </a:moveTo>
                  <a:lnTo>
                    <a:pt x="183" y="40"/>
                  </a:lnTo>
                  <a:lnTo>
                    <a:pt x="159" y="76"/>
                  </a:lnTo>
                  <a:lnTo>
                    <a:pt x="136" y="113"/>
                  </a:lnTo>
                  <a:lnTo>
                    <a:pt x="114" y="151"/>
                  </a:lnTo>
                  <a:lnTo>
                    <a:pt x="90" y="188"/>
                  </a:lnTo>
                  <a:lnTo>
                    <a:pt x="68" y="225"/>
                  </a:lnTo>
                  <a:lnTo>
                    <a:pt x="45" y="262"/>
                  </a:lnTo>
                  <a:lnTo>
                    <a:pt x="24" y="300"/>
                  </a:lnTo>
                  <a:lnTo>
                    <a:pt x="0" y="295"/>
                  </a:lnTo>
                  <a:lnTo>
                    <a:pt x="22" y="257"/>
                  </a:lnTo>
                  <a:lnTo>
                    <a:pt x="44" y="221"/>
                  </a:lnTo>
                  <a:lnTo>
                    <a:pt x="67" y="184"/>
                  </a:lnTo>
                  <a:lnTo>
                    <a:pt x="90" y="147"/>
                  </a:lnTo>
                  <a:lnTo>
                    <a:pt x="113" y="110"/>
                  </a:lnTo>
                  <a:lnTo>
                    <a:pt x="135" y="73"/>
                  </a:lnTo>
                  <a:lnTo>
                    <a:pt x="157" y="36"/>
                  </a:lnTo>
                  <a:lnTo>
                    <a:pt x="181" y="0"/>
                  </a:lnTo>
                  <a:lnTo>
                    <a:pt x="206" y="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31"/>
            <p:cNvSpPr/>
            <p:nvPr/>
          </p:nvSpPr>
          <p:spPr>
            <a:xfrm>
              <a:off x="6908760" y="4403880"/>
              <a:ext cx="160200" cy="2314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208" h="300">
                  <a:moveTo>
                    <a:pt x="208" y="3"/>
                  </a:moveTo>
                  <a:lnTo>
                    <a:pt x="185" y="40"/>
                  </a:lnTo>
                  <a:lnTo>
                    <a:pt x="161" y="77"/>
                  </a:lnTo>
                  <a:lnTo>
                    <a:pt x="138" y="114"/>
                  </a:lnTo>
                  <a:lnTo>
                    <a:pt x="115" y="152"/>
                  </a:lnTo>
                  <a:lnTo>
                    <a:pt x="92" y="189"/>
                  </a:lnTo>
                  <a:lnTo>
                    <a:pt x="70" y="225"/>
                  </a:lnTo>
                  <a:lnTo>
                    <a:pt x="46" y="262"/>
                  </a:lnTo>
                  <a:lnTo>
                    <a:pt x="24" y="300"/>
                  </a:lnTo>
                  <a:lnTo>
                    <a:pt x="0" y="297"/>
                  </a:lnTo>
                  <a:lnTo>
                    <a:pt x="23" y="259"/>
                  </a:lnTo>
                  <a:lnTo>
                    <a:pt x="46" y="222"/>
                  </a:lnTo>
                  <a:lnTo>
                    <a:pt x="68" y="185"/>
                  </a:lnTo>
                  <a:lnTo>
                    <a:pt x="92" y="148"/>
                  </a:lnTo>
                  <a:lnTo>
                    <a:pt x="114" y="110"/>
                  </a:lnTo>
                  <a:lnTo>
                    <a:pt x="138" y="73"/>
                  </a:lnTo>
                  <a:lnTo>
                    <a:pt x="161" y="37"/>
                  </a:lnTo>
                  <a:lnTo>
                    <a:pt x="185" y="0"/>
                  </a:lnTo>
                  <a:lnTo>
                    <a:pt x="208" y="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32"/>
            <p:cNvSpPr/>
            <p:nvPr/>
          </p:nvSpPr>
          <p:spPr>
            <a:xfrm>
              <a:off x="6986520" y="4411800"/>
              <a:ext cx="162000" cy="2365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209" h="305">
                  <a:moveTo>
                    <a:pt x="209" y="4"/>
                  </a:moveTo>
                  <a:lnTo>
                    <a:pt x="185" y="41"/>
                  </a:lnTo>
                  <a:lnTo>
                    <a:pt x="163" y="78"/>
                  </a:lnTo>
                  <a:lnTo>
                    <a:pt x="140" y="116"/>
                  </a:lnTo>
                  <a:lnTo>
                    <a:pt x="117" y="154"/>
                  </a:lnTo>
                  <a:lnTo>
                    <a:pt x="94" y="191"/>
                  </a:lnTo>
                  <a:lnTo>
                    <a:pt x="71" y="229"/>
                  </a:lnTo>
                  <a:lnTo>
                    <a:pt x="48" y="267"/>
                  </a:lnTo>
                  <a:lnTo>
                    <a:pt x="26" y="305"/>
                  </a:lnTo>
                  <a:lnTo>
                    <a:pt x="0" y="302"/>
                  </a:lnTo>
                  <a:lnTo>
                    <a:pt x="22" y="264"/>
                  </a:lnTo>
                  <a:lnTo>
                    <a:pt x="46" y="226"/>
                  </a:lnTo>
                  <a:lnTo>
                    <a:pt x="69" y="188"/>
                  </a:lnTo>
                  <a:lnTo>
                    <a:pt x="93" y="151"/>
                  </a:lnTo>
                  <a:lnTo>
                    <a:pt x="115" y="113"/>
                  </a:lnTo>
                  <a:lnTo>
                    <a:pt x="138" y="75"/>
                  </a:lnTo>
                  <a:lnTo>
                    <a:pt x="162" y="37"/>
                  </a:lnTo>
                  <a:lnTo>
                    <a:pt x="185" y="0"/>
                  </a:lnTo>
                  <a:lnTo>
                    <a:pt x="209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33"/>
            <p:cNvSpPr/>
            <p:nvPr/>
          </p:nvSpPr>
          <p:spPr>
            <a:xfrm>
              <a:off x="7067520" y="4422600"/>
              <a:ext cx="162000" cy="2368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10" h="306">
                  <a:moveTo>
                    <a:pt x="210" y="4"/>
                  </a:moveTo>
                  <a:lnTo>
                    <a:pt x="186" y="40"/>
                  </a:lnTo>
                  <a:lnTo>
                    <a:pt x="163" y="78"/>
                  </a:lnTo>
                  <a:lnTo>
                    <a:pt x="139" y="116"/>
                  </a:lnTo>
                  <a:lnTo>
                    <a:pt x="117" y="154"/>
                  </a:lnTo>
                  <a:lnTo>
                    <a:pt x="93" y="191"/>
                  </a:lnTo>
                  <a:lnTo>
                    <a:pt x="70" y="230"/>
                  </a:lnTo>
                  <a:lnTo>
                    <a:pt x="46" y="267"/>
                  </a:lnTo>
                  <a:lnTo>
                    <a:pt x="24" y="306"/>
                  </a:lnTo>
                  <a:lnTo>
                    <a:pt x="0" y="303"/>
                  </a:lnTo>
                  <a:lnTo>
                    <a:pt x="22" y="265"/>
                  </a:lnTo>
                  <a:lnTo>
                    <a:pt x="45" y="227"/>
                  </a:lnTo>
                  <a:lnTo>
                    <a:pt x="68" y="189"/>
                  </a:lnTo>
                  <a:lnTo>
                    <a:pt x="91" y="152"/>
                  </a:lnTo>
                  <a:lnTo>
                    <a:pt x="115" y="114"/>
                  </a:lnTo>
                  <a:lnTo>
                    <a:pt x="138" y="76"/>
                  </a:lnTo>
                  <a:lnTo>
                    <a:pt x="162" y="38"/>
                  </a:lnTo>
                  <a:lnTo>
                    <a:pt x="185" y="0"/>
                  </a:lnTo>
                  <a:lnTo>
                    <a:pt x="210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34"/>
            <p:cNvSpPr/>
            <p:nvPr/>
          </p:nvSpPr>
          <p:spPr>
            <a:xfrm>
              <a:off x="7148520" y="4432320"/>
              <a:ext cx="163440" cy="23796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237960"/>
                <a:gd name="textAreaBottom" fmla="*/ 237960 h 237960"/>
              </a:gdLst>
              <a:ahLst/>
              <a:rect l="textAreaLeft" t="textAreaTop" r="textAreaRight" b="textAreaBottom"/>
              <a:pathLst>
                <a:path w="214" h="310">
                  <a:moveTo>
                    <a:pt x="214" y="4"/>
                  </a:moveTo>
                  <a:lnTo>
                    <a:pt x="189" y="41"/>
                  </a:lnTo>
                  <a:lnTo>
                    <a:pt x="166" y="80"/>
                  </a:lnTo>
                  <a:lnTo>
                    <a:pt x="142" y="118"/>
                  </a:lnTo>
                  <a:lnTo>
                    <a:pt x="119" y="157"/>
                  </a:lnTo>
                  <a:lnTo>
                    <a:pt x="95" y="194"/>
                  </a:lnTo>
                  <a:lnTo>
                    <a:pt x="72" y="233"/>
                  </a:lnTo>
                  <a:lnTo>
                    <a:pt x="48" y="271"/>
                  </a:lnTo>
                  <a:lnTo>
                    <a:pt x="25" y="310"/>
                  </a:lnTo>
                  <a:lnTo>
                    <a:pt x="0" y="307"/>
                  </a:lnTo>
                  <a:lnTo>
                    <a:pt x="22" y="267"/>
                  </a:lnTo>
                  <a:lnTo>
                    <a:pt x="46" y="230"/>
                  </a:lnTo>
                  <a:lnTo>
                    <a:pt x="69" y="190"/>
                  </a:lnTo>
                  <a:lnTo>
                    <a:pt x="93" y="154"/>
                  </a:lnTo>
                  <a:lnTo>
                    <a:pt x="116" y="114"/>
                  </a:lnTo>
                  <a:lnTo>
                    <a:pt x="140" y="76"/>
                  </a:lnTo>
                  <a:lnTo>
                    <a:pt x="163" y="37"/>
                  </a:lnTo>
                  <a:lnTo>
                    <a:pt x="188" y="0"/>
                  </a:lnTo>
                  <a:lnTo>
                    <a:pt x="214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35"/>
            <p:cNvSpPr/>
            <p:nvPr/>
          </p:nvSpPr>
          <p:spPr>
            <a:xfrm>
              <a:off x="7227720" y="4440240"/>
              <a:ext cx="165240" cy="2412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214" h="311">
                  <a:moveTo>
                    <a:pt x="214" y="4"/>
                  </a:moveTo>
                  <a:lnTo>
                    <a:pt x="190" y="42"/>
                  </a:lnTo>
                  <a:lnTo>
                    <a:pt x="166" y="80"/>
                  </a:lnTo>
                  <a:lnTo>
                    <a:pt x="143" y="118"/>
                  </a:lnTo>
                  <a:lnTo>
                    <a:pt x="119" y="157"/>
                  </a:lnTo>
                  <a:lnTo>
                    <a:pt x="95" y="195"/>
                  </a:lnTo>
                  <a:lnTo>
                    <a:pt x="71" y="234"/>
                  </a:lnTo>
                  <a:lnTo>
                    <a:pt x="48" y="272"/>
                  </a:lnTo>
                  <a:lnTo>
                    <a:pt x="25" y="311"/>
                  </a:lnTo>
                  <a:lnTo>
                    <a:pt x="0" y="308"/>
                  </a:lnTo>
                  <a:lnTo>
                    <a:pt x="23" y="269"/>
                  </a:lnTo>
                  <a:lnTo>
                    <a:pt x="47" y="231"/>
                  </a:lnTo>
                  <a:lnTo>
                    <a:pt x="70" y="192"/>
                  </a:lnTo>
                  <a:lnTo>
                    <a:pt x="94" y="154"/>
                  </a:lnTo>
                  <a:lnTo>
                    <a:pt x="117" y="115"/>
                  </a:lnTo>
                  <a:lnTo>
                    <a:pt x="140" y="77"/>
                  </a:lnTo>
                  <a:lnTo>
                    <a:pt x="164" y="38"/>
                  </a:lnTo>
                  <a:lnTo>
                    <a:pt x="189" y="0"/>
                  </a:lnTo>
                  <a:lnTo>
                    <a:pt x="214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36"/>
            <p:cNvSpPr/>
            <p:nvPr/>
          </p:nvSpPr>
          <p:spPr>
            <a:xfrm>
              <a:off x="7308720" y="4452840"/>
              <a:ext cx="166680" cy="2415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215" h="313">
                  <a:moveTo>
                    <a:pt x="215" y="1"/>
                  </a:moveTo>
                  <a:lnTo>
                    <a:pt x="190" y="39"/>
                  </a:lnTo>
                  <a:lnTo>
                    <a:pt x="166" y="78"/>
                  </a:lnTo>
                  <a:lnTo>
                    <a:pt x="142" y="117"/>
                  </a:lnTo>
                  <a:lnTo>
                    <a:pt x="119" y="157"/>
                  </a:lnTo>
                  <a:lnTo>
                    <a:pt x="94" y="195"/>
                  </a:lnTo>
                  <a:lnTo>
                    <a:pt x="71" y="235"/>
                  </a:lnTo>
                  <a:lnTo>
                    <a:pt x="47" y="273"/>
                  </a:lnTo>
                  <a:lnTo>
                    <a:pt x="24" y="313"/>
                  </a:lnTo>
                  <a:lnTo>
                    <a:pt x="0" y="310"/>
                  </a:lnTo>
                  <a:lnTo>
                    <a:pt x="24" y="269"/>
                  </a:lnTo>
                  <a:lnTo>
                    <a:pt x="47" y="231"/>
                  </a:lnTo>
                  <a:lnTo>
                    <a:pt x="71" y="191"/>
                  </a:lnTo>
                  <a:lnTo>
                    <a:pt x="94" y="153"/>
                  </a:lnTo>
                  <a:lnTo>
                    <a:pt x="118" y="114"/>
                  </a:lnTo>
                  <a:lnTo>
                    <a:pt x="141" y="76"/>
                  </a:lnTo>
                  <a:lnTo>
                    <a:pt x="166" y="37"/>
                  </a:lnTo>
                  <a:lnTo>
                    <a:pt x="190" y="0"/>
                  </a:lnTo>
                  <a:lnTo>
                    <a:pt x="215" y="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37"/>
            <p:cNvSpPr/>
            <p:nvPr/>
          </p:nvSpPr>
          <p:spPr>
            <a:xfrm>
              <a:off x="7388280" y="4460760"/>
              <a:ext cx="166680" cy="24444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217" h="315">
                  <a:moveTo>
                    <a:pt x="217" y="4"/>
                  </a:moveTo>
                  <a:lnTo>
                    <a:pt x="192" y="42"/>
                  </a:lnTo>
                  <a:lnTo>
                    <a:pt x="168" y="81"/>
                  </a:lnTo>
                  <a:lnTo>
                    <a:pt x="144" y="120"/>
                  </a:lnTo>
                  <a:lnTo>
                    <a:pt x="121" y="159"/>
                  </a:lnTo>
                  <a:lnTo>
                    <a:pt x="96" y="197"/>
                  </a:lnTo>
                  <a:lnTo>
                    <a:pt x="73" y="237"/>
                  </a:lnTo>
                  <a:lnTo>
                    <a:pt x="48" y="275"/>
                  </a:lnTo>
                  <a:lnTo>
                    <a:pt x="25" y="315"/>
                  </a:lnTo>
                  <a:lnTo>
                    <a:pt x="0" y="312"/>
                  </a:lnTo>
                  <a:lnTo>
                    <a:pt x="23" y="272"/>
                  </a:lnTo>
                  <a:lnTo>
                    <a:pt x="48" y="234"/>
                  </a:lnTo>
                  <a:lnTo>
                    <a:pt x="71" y="194"/>
                  </a:lnTo>
                  <a:lnTo>
                    <a:pt x="96" y="156"/>
                  </a:lnTo>
                  <a:lnTo>
                    <a:pt x="120" y="117"/>
                  </a:lnTo>
                  <a:lnTo>
                    <a:pt x="143" y="77"/>
                  </a:lnTo>
                  <a:lnTo>
                    <a:pt x="166" y="38"/>
                  </a:lnTo>
                  <a:lnTo>
                    <a:pt x="191" y="0"/>
                  </a:lnTo>
                  <a:lnTo>
                    <a:pt x="217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38"/>
            <p:cNvSpPr/>
            <p:nvPr/>
          </p:nvSpPr>
          <p:spPr>
            <a:xfrm>
              <a:off x="7467480" y="4470480"/>
              <a:ext cx="168480" cy="247680"/>
            </a:xfrm>
            <a:custGeom>
              <a:avLst/>
              <a:gdLst>
                <a:gd name="textAreaLeft" fmla="*/ 0 w 168480"/>
                <a:gd name="textAreaRight" fmla="*/ 168480 w 16848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217" h="318">
                  <a:moveTo>
                    <a:pt x="217" y="1"/>
                  </a:moveTo>
                  <a:lnTo>
                    <a:pt x="193" y="40"/>
                  </a:lnTo>
                  <a:lnTo>
                    <a:pt x="168" y="79"/>
                  </a:lnTo>
                  <a:lnTo>
                    <a:pt x="144" y="119"/>
                  </a:lnTo>
                  <a:lnTo>
                    <a:pt x="120" y="159"/>
                  </a:lnTo>
                  <a:lnTo>
                    <a:pt x="96" y="199"/>
                  </a:lnTo>
                  <a:lnTo>
                    <a:pt x="72" y="238"/>
                  </a:lnTo>
                  <a:lnTo>
                    <a:pt x="49" y="278"/>
                  </a:lnTo>
                  <a:lnTo>
                    <a:pt x="25" y="318"/>
                  </a:lnTo>
                  <a:lnTo>
                    <a:pt x="0" y="315"/>
                  </a:lnTo>
                  <a:lnTo>
                    <a:pt x="23" y="274"/>
                  </a:lnTo>
                  <a:lnTo>
                    <a:pt x="48" y="234"/>
                  </a:lnTo>
                  <a:lnTo>
                    <a:pt x="72" y="195"/>
                  </a:lnTo>
                  <a:lnTo>
                    <a:pt x="97" y="156"/>
                  </a:lnTo>
                  <a:lnTo>
                    <a:pt x="120" y="116"/>
                  </a:lnTo>
                  <a:lnTo>
                    <a:pt x="145" y="77"/>
                  </a:lnTo>
                  <a:lnTo>
                    <a:pt x="169" y="38"/>
                  </a:lnTo>
                  <a:lnTo>
                    <a:pt x="194" y="0"/>
                  </a:lnTo>
                  <a:lnTo>
                    <a:pt x="217" y="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39"/>
            <p:cNvSpPr/>
            <p:nvPr/>
          </p:nvSpPr>
          <p:spPr>
            <a:xfrm>
              <a:off x="7550280" y="4479840"/>
              <a:ext cx="168120" cy="24768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218" h="319">
                  <a:moveTo>
                    <a:pt x="218" y="3"/>
                  </a:moveTo>
                  <a:lnTo>
                    <a:pt x="194" y="42"/>
                  </a:lnTo>
                  <a:lnTo>
                    <a:pt x="169" y="81"/>
                  </a:lnTo>
                  <a:lnTo>
                    <a:pt x="145" y="121"/>
                  </a:lnTo>
                  <a:lnTo>
                    <a:pt x="121" y="161"/>
                  </a:lnTo>
                  <a:lnTo>
                    <a:pt x="96" y="200"/>
                  </a:lnTo>
                  <a:lnTo>
                    <a:pt x="72" y="240"/>
                  </a:lnTo>
                  <a:lnTo>
                    <a:pt x="47" y="279"/>
                  </a:lnTo>
                  <a:lnTo>
                    <a:pt x="24" y="319"/>
                  </a:lnTo>
                  <a:lnTo>
                    <a:pt x="0" y="316"/>
                  </a:lnTo>
                  <a:lnTo>
                    <a:pt x="24" y="276"/>
                  </a:lnTo>
                  <a:lnTo>
                    <a:pt x="48" y="237"/>
                  </a:lnTo>
                  <a:lnTo>
                    <a:pt x="72" y="197"/>
                  </a:lnTo>
                  <a:lnTo>
                    <a:pt x="96" y="157"/>
                  </a:lnTo>
                  <a:lnTo>
                    <a:pt x="120" y="117"/>
                  </a:lnTo>
                  <a:lnTo>
                    <a:pt x="145" y="78"/>
                  </a:lnTo>
                  <a:lnTo>
                    <a:pt x="169" y="39"/>
                  </a:lnTo>
                  <a:lnTo>
                    <a:pt x="194" y="0"/>
                  </a:lnTo>
                  <a:lnTo>
                    <a:pt x="218" y="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40"/>
            <p:cNvSpPr/>
            <p:nvPr/>
          </p:nvSpPr>
          <p:spPr>
            <a:xfrm>
              <a:off x="7629480" y="4489560"/>
              <a:ext cx="169920" cy="2505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219" h="324">
                  <a:moveTo>
                    <a:pt x="219" y="3"/>
                  </a:moveTo>
                  <a:lnTo>
                    <a:pt x="193" y="43"/>
                  </a:lnTo>
                  <a:lnTo>
                    <a:pt x="170" y="83"/>
                  </a:lnTo>
                  <a:lnTo>
                    <a:pt x="144" y="123"/>
                  </a:lnTo>
                  <a:lnTo>
                    <a:pt x="121" y="163"/>
                  </a:lnTo>
                  <a:lnTo>
                    <a:pt x="96" y="203"/>
                  </a:lnTo>
                  <a:lnTo>
                    <a:pt x="71" y="244"/>
                  </a:lnTo>
                  <a:lnTo>
                    <a:pt x="47" y="284"/>
                  </a:lnTo>
                  <a:lnTo>
                    <a:pt x="23" y="324"/>
                  </a:lnTo>
                  <a:lnTo>
                    <a:pt x="0" y="321"/>
                  </a:lnTo>
                  <a:lnTo>
                    <a:pt x="23" y="281"/>
                  </a:lnTo>
                  <a:lnTo>
                    <a:pt x="48" y="240"/>
                  </a:lnTo>
                  <a:lnTo>
                    <a:pt x="71" y="200"/>
                  </a:lnTo>
                  <a:lnTo>
                    <a:pt x="96" y="160"/>
                  </a:lnTo>
                  <a:lnTo>
                    <a:pt x="120" y="120"/>
                  </a:lnTo>
                  <a:lnTo>
                    <a:pt x="145" y="79"/>
                  </a:lnTo>
                  <a:lnTo>
                    <a:pt x="170" y="39"/>
                  </a:lnTo>
                  <a:lnTo>
                    <a:pt x="196" y="0"/>
                  </a:lnTo>
                  <a:lnTo>
                    <a:pt x="219" y="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41"/>
            <p:cNvSpPr/>
            <p:nvPr/>
          </p:nvSpPr>
          <p:spPr>
            <a:xfrm>
              <a:off x="7709040" y="4498920"/>
              <a:ext cx="171360" cy="2523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22" h="327">
                  <a:moveTo>
                    <a:pt x="222" y="4"/>
                  </a:moveTo>
                  <a:lnTo>
                    <a:pt x="196" y="44"/>
                  </a:lnTo>
                  <a:lnTo>
                    <a:pt x="172" y="84"/>
                  </a:lnTo>
                  <a:lnTo>
                    <a:pt x="146" y="124"/>
                  </a:lnTo>
                  <a:lnTo>
                    <a:pt x="122" y="165"/>
                  </a:lnTo>
                  <a:lnTo>
                    <a:pt x="97" y="205"/>
                  </a:lnTo>
                  <a:lnTo>
                    <a:pt x="72" y="245"/>
                  </a:lnTo>
                  <a:lnTo>
                    <a:pt x="46" y="285"/>
                  </a:lnTo>
                  <a:lnTo>
                    <a:pt x="23" y="327"/>
                  </a:lnTo>
                  <a:lnTo>
                    <a:pt x="0" y="323"/>
                  </a:lnTo>
                  <a:lnTo>
                    <a:pt x="23" y="282"/>
                  </a:lnTo>
                  <a:lnTo>
                    <a:pt x="48" y="242"/>
                  </a:lnTo>
                  <a:lnTo>
                    <a:pt x="72" y="201"/>
                  </a:lnTo>
                  <a:lnTo>
                    <a:pt x="98" y="161"/>
                  </a:lnTo>
                  <a:lnTo>
                    <a:pt x="121" y="121"/>
                  </a:lnTo>
                  <a:lnTo>
                    <a:pt x="146" y="81"/>
                  </a:lnTo>
                  <a:lnTo>
                    <a:pt x="171" y="41"/>
                  </a:lnTo>
                  <a:lnTo>
                    <a:pt x="196" y="0"/>
                  </a:lnTo>
                  <a:lnTo>
                    <a:pt x="222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42"/>
            <p:cNvSpPr/>
            <p:nvPr/>
          </p:nvSpPr>
          <p:spPr>
            <a:xfrm>
              <a:off x="7788240" y="4508640"/>
              <a:ext cx="174600" cy="2556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226" h="328">
                  <a:moveTo>
                    <a:pt x="226" y="3"/>
                  </a:moveTo>
                  <a:lnTo>
                    <a:pt x="200" y="43"/>
                  </a:lnTo>
                  <a:lnTo>
                    <a:pt x="174" y="83"/>
                  </a:lnTo>
                  <a:lnTo>
                    <a:pt x="149" y="124"/>
                  </a:lnTo>
                  <a:lnTo>
                    <a:pt x="124" y="165"/>
                  </a:lnTo>
                  <a:lnTo>
                    <a:pt x="98" y="205"/>
                  </a:lnTo>
                  <a:lnTo>
                    <a:pt x="74" y="245"/>
                  </a:lnTo>
                  <a:lnTo>
                    <a:pt x="49" y="287"/>
                  </a:lnTo>
                  <a:lnTo>
                    <a:pt x="26" y="328"/>
                  </a:lnTo>
                  <a:lnTo>
                    <a:pt x="0" y="325"/>
                  </a:lnTo>
                  <a:lnTo>
                    <a:pt x="25" y="283"/>
                  </a:lnTo>
                  <a:lnTo>
                    <a:pt x="49" y="243"/>
                  </a:lnTo>
                  <a:lnTo>
                    <a:pt x="74" y="202"/>
                  </a:lnTo>
                  <a:lnTo>
                    <a:pt x="99" y="162"/>
                  </a:lnTo>
                  <a:lnTo>
                    <a:pt x="124" y="120"/>
                  </a:lnTo>
                  <a:lnTo>
                    <a:pt x="150" y="80"/>
                  </a:lnTo>
                  <a:lnTo>
                    <a:pt x="174" y="40"/>
                  </a:lnTo>
                  <a:lnTo>
                    <a:pt x="200" y="0"/>
                  </a:lnTo>
                  <a:lnTo>
                    <a:pt x="226" y="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43"/>
            <p:cNvSpPr/>
            <p:nvPr/>
          </p:nvSpPr>
          <p:spPr>
            <a:xfrm>
              <a:off x="7869240" y="4518000"/>
              <a:ext cx="174600" cy="2570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224" h="332">
                  <a:moveTo>
                    <a:pt x="224" y="3"/>
                  </a:moveTo>
                  <a:lnTo>
                    <a:pt x="199" y="43"/>
                  </a:lnTo>
                  <a:lnTo>
                    <a:pt x="174" y="85"/>
                  </a:lnTo>
                  <a:lnTo>
                    <a:pt x="148" y="125"/>
                  </a:lnTo>
                  <a:lnTo>
                    <a:pt x="124" y="166"/>
                  </a:lnTo>
                  <a:lnTo>
                    <a:pt x="98" y="207"/>
                  </a:lnTo>
                  <a:lnTo>
                    <a:pt x="74" y="248"/>
                  </a:lnTo>
                  <a:lnTo>
                    <a:pt x="48" y="289"/>
                  </a:lnTo>
                  <a:lnTo>
                    <a:pt x="23" y="332"/>
                  </a:lnTo>
                  <a:lnTo>
                    <a:pt x="0" y="328"/>
                  </a:lnTo>
                  <a:lnTo>
                    <a:pt x="23" y="287"/>
                  </a:lnTo>
                  <a:lnTo>
                    <a:pt x="49" y="246"/>
                  </a:lnTo>
                  <a:lnTo>
                    <a:pt x="74" y="204"/>
                  </a:lnTo>
                  <a:lnTo>
                    <a:pt x="99" y="164"/>
                  </a:lnTo>
                  <a:lnTo>
                    <a:pt x="123" y="123"/>
                  </a:lnTo>
                  <a:lnTo>
                    <a:pt x="148" y="81"/>
                  </a:lnTo>
                  <a:lnTo>
                    <a:pt x="173" y="40"/>
                  </a:lnTo>
                  <a:lnTo>
                    <a:pt x="199" y="0"/>
                  </a:lnTo>
                  <a:lnTo>
                    <a:pt x="224" y="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44"/>
            <p:cNvSpPr/>
            <p:nvPr/>
          </p:nvSpPr>
          <p:spPr>
            <a:xfrm>
              <a:off x="7950240" y="4529160"/>
              <a:ext cx="174600" cy="2570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226" h="333">
                  <a:moveTo>
                    <a:pt x="226" y="2"/>
                  </a:moveTo>
                  <a:lnTo>
                    <a:pt x="199" y="43"/>
                  </a:lnTo>
                  <a:lnTo>
                    <a:pt x="175" y="84"/>
                  </a:lnTo>
                  <a:lnTo>
                    <a:pt x="149" y="125"/>
                  </a:lnTo>
                  <a:lnTo>
                    <a:pt x="124" y="168"/>
                  </a:lnTo>
                  <a:lnTo>
                    <a:pt x="99" y="208"/>
                  </a:lnTo>
                  <a:lnTo>
                    <a:pt x="74" y="249"/>
                  </a:lnTo>
                  <a:lnTo>
                    <a:pt x="48" y="291"/>
                  </a:lnTo>
                  <a:lnTo>
                    <a:pt x="24" y="333"/>
                  </a:lnTo>
                  <a:lnTo>
                    <a:pt x="0" y="330"/>
                  </a:lnTo>
                  <a:lnTo>
                    <a:pt x="25" y="287"/>
                  </a:lnTo>
                  <a:lnTo>
                    <a:pt x="51" y="247"/>
                  </a:lnTo>
                  <a:lnTo>
                    <a:pt x="75" y="205"/>
                  </a:lnTo>
                  <a:lnTo>
                    <a:pt x="101" y="164"/>
                  </a:lnTo>
                  <a:lnTo>
                    <a:pt x="126" y="123"/>
                  </a:lnTo>
                  <a:lnTo>
                    <a:pt x="151" y="82"/>
                  </a:lnTo>
                  <a:lnTo>
                    <a:pt x="176" y="40"/>
                  </a:lnTo>
                  <a:lnTo>
                    <a:pt x="203" y="0"/>
                  </a:lnTo>
                  <a:lnTo>
                    <a:pt x="226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45"/>
            <p:cNvSpPr/>
            <p:nvPr/>
          </p:nvSpPr>
          <p:spPr>
            <a:xfrm>
              <a:off x="8029440" y="4538520"/>
              <a:ext cx="176400" cy="258840"/>
            </a:xfrm>
            <a:custGeom>
              <a:avLst/>
              <a:gdLst>
                <a:gd name="textAreaLeft" fmla="*/ 0 w 176400"/>
                <a:gd name="textAreaRight" fmla="*/ 176760 w 17640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28" h="335">
                  <a:moveTo>
                    <a:pt x="228" y="2"/>
                  </a:moveTo>
                  <a:lnTo>
                    <a:pt x="201" y="42"/>
                  </a:lnTo>
                  <a:lnTo>
                    <a:pt x="177" y="84"/>
                  </a:lnTo>
                  <a:lnTo>
                    <a:pt x="150" y="125"/>
                  </a:lnTo>
                  <a:lnTo>
                    <a:pt x="125" y="167"/>
                  </a:lnTo>
                  <a:lnTo>
                    <a:pt x="99" y="208"/>
                  </a:lnTo>
                  <a:lnTo>
                    <a:pt x="75" y="251"/>
                  </a:lnTo>
                  <a:lnTo>
                    <a:pt x="49" y="292"/>
                  </a:lnTo>
                  <a:lnTo>
                    <a:pt x="25" y="335"/>
                  </a:lnTo>
                  <a:lnTo>
                    <a:pt x="0" y="331"/>
                  </a:lnTo>
                  <a:lnTo>
                    <a:pt x="25" y="289"/>
                  </a:lnTo>
                  <a:lnTo>
                    <a:pt x="50" y="248"/>
                  </a:lnTo>
                  <a:lnTo>
                    <a:pt x="75" y="206"/>
                  </a:lnTo>
                  <a:lnTo>
                    <a:pt x="102" y="165"/>
                  </a:lnTo>
                  <a:lnTo>
                    <a:pt x="126" y="122"/>
                  </a:lnTo>
                  <a:lnTo>
                    <a:pt x="152" y="82"/>
                  </a:lnTo>
                  <a:lnTo>
                    <a:pt x="177" y="40"/>
                  </a:lnTo>
                  <a:lnTo>
                    <a:pt x="203" y="0"/>
                  </a:lnTo>
                  <a:lnTo>
                    <a:pt x="228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46"/>
            <p:cNvSpPr/>
            <p:nvPr/>
          </p:nvSpPr>
          <p:spPr>
            <a:xfrm>
              <a:off x="8110440" y="4548240"/>
              <a:ext cx="176400" cy="260280"/>
            </a:xfrm>
            <a:custGeom>
              <a:avLst/>
              <a:gdLst>
                <a:gd name="textAreaLeft" fmla="*/ 0 w 176400"/>
                <a:gd name="textAreaRight" fmla="*/ 176760 w 1764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228" h="336">
                  <a:moveTo>
                    <a:pt x="228" y="1"/>
                  </a:moveTo>
                  <a:lnTo>
                    <a:pt x="201" y="42"/>
                  </a:lnTo>
                  <a:lnTo>
                    <a:pt x="176" y="85"/>
                  </a:lnTo>
                  <a:lnTo>
                    <a:pt x="149" y="126"/>
                  </a:lnTo>
                  <a:lnTo>
                    <a:pt x="125" y="169"/>
                  </a:lnTo>
                  <a:lnTo>
                    <a:pt x="99" y="210"/>
                  </a:lnTo>
                  <a:lnTo>
                    <a:pt x="73" y="252"/>
                  </a:lnTo>
                  <a:lnTo>
                    <a:pt x="48" y="294"/>
                  </a:lnTo>
                  <a:lnTo>
                    <a:pt x="23" y="336"/>
                  </a:lnTo>
                  <a:lnTo>
                    <a:pt x="0" y="333"/>
                  </a:lnTo>
                  <a:lnTo>
                    <a:pt x="24" y="290"/>
                  </a:lnTo>
                  <a:lnTo>
                    <a:pt x="50" y="249"/>
                  </a:lnTo>
                  <a:lnTo>
                    <a:pt x="76" y="207"/>
                  </a:lnTo>
                  <a:lnTo>
                    <a:pt x="101" y="166"/>
                  </a:lnTo>
                  <a:lnTo>
                    <a:pt x="126" y="124"/>
                  </a:lnTo>
                  <a:lnTo>
                    <a:pt x="153" y="83"/>
                  </a:lnTo>
                  <a:lnTo>
                    <a:pt x="177" y="40"/>
                  </a:lnTo>
                  <a:lnTo>
                    <a:pt x="204" y="0"/>
                  </a:lnTo>
                  <a:lnTo>
                    <a:pt x="228" y="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47"/>
            <p:cNvSpPr/>
            <p:nvPr/>
          </p:nvSpPr>
          <p:spPr>
            <a:xfrm>
              <a:off x="8190000" y="4557600"/>
              <a:ext cx="179280" cy="2635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32" h="341">
                  <a:moveTo>
                    <a:pt x="232" y="4"/>
                  </a:moveTo>
                  <a:lnTo>
                    <a:pt x="205" y="46"/>
                  </a:lnTo>
                  <a:lnTo>
                    <a:pt x="179" y="88"/>
                  </a:lnTo>
                  <a:lnTo>
                    <a:pt x="153" y="130"/>
                  </a:lnTo>
                  <a:lnTo>
                    <a:pt x="128" y="172"/>
                  </a:lnTo>
                  <a:lnTo>
                    <a:pt x="101" y="213"/>
                  </a:lnTo>
                  <a:lnTo>
                    <a:pt x="75" y="256"/>
                  </a:lnTo>
                  <a:lnTo>
                    <a:pt x="49" y="298"/>
                  </a:lnTo>
                  <a:lnTo>
                    <a:pt x="24" y="341"/>
                  </a:lnTo>
                  <a:lnTo>
                    <a:pt x="0" y="337"/>
                  </a:lnTo>
                  <a:lnTo>
                    <a:pt x="25" y="295"/>
                  </a:lnTo>
                  <a:lnTo>
                    <a:pt x="51" y="253"/>
                  </a:lnTo>
                  <a:lnTo>
                    <a:pt x="76" y="210"/>
                  </a:lnTo>
                  <a:lnTo>
                    <a:pt x="103" y="169"/>
                  </a:lnTo>
                  <a:lnTo>
                    <a:pt x="128" y="126"/>
                  </a:lnTo>
                  <a:lnTo>
                    <a:pt x="153" y="84"/>
                  </a:lnTo>
                  <a:lnTo>
                    <a:pt x="179" y="41"/>
                  </a:lnTo>
                  <a:lnTo>
                    <a:pt x="206" y="0"/>
                  </a:lnTo>
                  <a:lnTo>
                    <a:pt x="232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Freeform 48"/>
            <p:cNvSpPr/>
            <p:nvPr/>
          </p:nvSpPr>
          <p:spPr>
            <a:xfrm>
              <a:off x="8269200" y="4568760"/>
              <a:ext cx="160560" cy="26352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08" h="338">
                  <a:moveTo>
                    <a:pt x="208" y="41"/>
                  </a:moveTo>
                  <a:lnTo>
                    <a:pt x="184" y="78"/>
                  </a:lnTo>
                  <a:lnTo>
                    <a:pt x="161" y="115"/>
                  </a:lnTo>
                  <a:lnTo>
                    <a:pt x="137" y="152"/>
                  </a:lnTo>
                  <a:lnTo>
                    <a:pt x="115" y="190"/>
                  </a:lnTo>
                  <a:lnTo>
                    <a:pt x="92" y="226"/>
                  </a:lnTo>
                  <a:lnTo>
                    <a:pt x="69" y="263"/>
                  </a:lnTo>
                  <a:lnTo>
                    <a:pt x="47" y="300"/>
                  </a:lnTo>
                  <a:lnTo>
                    <a:pt x="26" y="338"/>
                  </a:lnTo>
                  <a:lnTo>
                    <a:pt x="0" y="335"/>
                  </a:lnTo>
                  <a:lnTo>
                    <a:pt x="24" y="292"/>
                  </a:lnTo>
                  <a:lnTo>
                    <a:pt x="51" y="251"/>
                  </a:lnTo>
                  <a:lnTo>
                    <a:pt x="76" y="209"/>
                  </a:lnTo>
                  <a:lnTo>
                    <a:pt x="103" y="167"/>
                  </a:lnTo>
                  <a:lnTo>
                    <a:pt x="127" y="125"/>
                  </a:lnTo>
                  <a:lnTo>
                    <a:pt x="154" y="83"/>
                  </a:lnTo>
                  <a:lnTo>
                    <a:pt x="179" y="41"/>
                  </a:lnTo>
                  <a:lnTo>
                    <a:pt x="206" y="0"/>
                  </a:lnTo>
                  <a:lnTo>
                    <a:pt x="208" y="4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Freeform 49"/>
            <p:cNvSpPr/>
            <p:nvPr/>
          </p:nvSpPr>
          <p:spPr>
            <a:xfrm>
              <a:off x="8350200" y="4703760"/>
              <a:ext cx="84240" cy="1382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110" h="183">
                  <a:moveTo>
                    <a:pt x="110" y="39"/>
                  </a:moveTo>
                  <a:lnTo>
                    <a:pt x="24" y="183"/>
                  </a:lnTo>
                  <a:lnTo>
                    <a:pt x="0" y="179"/>
                  </a:lnTo>
                  <a:lnTo>
                    <a:pt x="110" y="0"/>
                  </a:lnTo>
                  <a:lnTo>
                    <a:pt x="110" y="3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50"/>
            <p:cNvSpPr/>
            <p:nvPr/>
          </p:nvSpPr>
          <p:spPr>
            <a:xfrm>
              <a:off x="8402760" y="4562640"/>
              <a:ext cx="28440" cy="93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43" h="124">
                  <a:moveTo>
                    <a:pt x="0" y="0"/>
                  </a:moveTo>
                  <a:lnTo>
                    <a:pt x="43" y="124"/>
                  </a:lnTo>
                  <a:lnTo>
                    <a:pt x="42" y="43"/>
                  </a:lnTo>
                  <a:lnTo>
                    <a:pt x="2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51"/>
            <p:cNvSpPr/>
            <p:nvPr/>
          </p:nvSpPr>
          <p:spPr>
            <a:xfrm>
              <a:off x="8317080" y="4552920"/>
              <a:ext cx="122040" cy="301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161" h="387">
                  <a:moveTo>
                    <a:pt x="0" y="0"/>
                  </a:moveTo>
                  <a:lnTo>
                    <a:pt x="16" y="46"/>
                  </a:lnTo>
                  <a:lnTo>
                    <a:pt x="32" y="95"/>
                  </a:lnTo>
                  <a:lnTo>
                    <a:pt x="49" y="143"/>
                  </a:lnTo>
                  <a:lnTo>
                    <a:pt x="66" y="191"/>
                  </a:lnTo>
                  <a:lnTo>
                    <a:pt x="83" y="238"/>
                  </a:lnTo>
                  <a:lnTo>
                    <a:pt x="101" y="287"/>
                  </a:lnTo>
                  <a:lnTo>
                    <a:pt x="117" y="335"/>
                  </a:lnTo>
                  <a:lnTo>
                    <a:pt x="135" y="384"/>
                  </a:lnTo>
                  <a:lnTo>
                    <a:pt x="161" y="387"/>
                  </a:lnTo>
                  <a:lnTo>
                    <a:pt x="161" y="384"/>
                  </a:lnTo>
                  <a:lnTo>
                    <a:pt x="143" y="336"/>
                  </a:lnTo>
                  <a:lnTo>
                    <a:pt x="126" y="288"/>
                  </a:lnTo>
                  <a:lnTo>
                    <a:pt x="110" y="240"/>
                  </a:lnTo>
                  <a:lnTo>
                    <a:pt x="93" y="193"/>
                  </a:lnTo>
                  <a:lnTo>
                    <a:pt x="75" y="145"/>
                  </a:lnTo>
                  <a:lnTo>
                    <a:pt x="58" y="97"/>
                  </a:lnTo>
                  <a:lnTo>
                    <a:pt x="41" y="50"/>
                  </a:lnTo>
                  <a:lnTo>
                    <a:pt x="2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52"/>
            <p:cNvSpPr/>
            <p:nvPr/>
          </p:nvSpPr>
          <p:spPr>
            <a:xfrm>
              <a:off x="8228160" y="4543560"/>
              <a:ext cx="125280" cy="29844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64" h="384">
                  <a:moveTo>
                    <a:pt x="0" y="0"/>
                  </a:moveTo>
                  <a:lnTo>
                    <a:pt x="17" y="47"/>
                  </a:lnTo>
                  <a:lnTo>
                    <a:pt x="34" y="95"/>
                  </a:lnTo>
                  <a:lnTo>
                    <a:pt x="51" y="142"/>
                  </a:lnTo>
                  <a:lnTo>
                    <a:pt x="67" y="190"/>
                  </a:lnTo>
                  <a:lnTo>
                    <a:pt x="84" y="237"/>
                  </a:lnTo>
                  <a:lnTo>
                    <a:pt x="101" y="285"/>
                  </a:lnTo>
                  <a:lnTo>
                    <a:pt x="118" y="333"/>
                  </a:lnTo>
                  <a:lnTo>
                    <a:pt x="136" y="381"/>
                  </a:lnTo>
                  <a:lnTo>
                    <a:pt x="164" y="384"/>
                  </a:lnTo>
                  <a:lnTo>
                    <a:pt x="146" y="336"/>
                  </a:lnTo>
                  <a:lnTo>
                    <a:pt x="129" y="288"/>
                  </a:lnTo>
                  <a:lnTo>
                    <a:pt x="111" y="240"/>
                  </a:lnTo>
                  <a:lnTo>
                    <a:pt x="94" y="193"/>
                  </a:lnTo>
                  <a:lnTo>
                    <a:pt x="77" y="145"/>
                  </a:lnTo>
                  <a:lnTo>
                    <a:pt x="61" y="98"/>
                  </a:lnTo>
                  <a:lnTo>
                    <a:pt x="44" y="50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Freeform 53"/>
            <p:cNvSpPr/>
            <p:nvPr/>
          </p:nvSpPr>
          <p:spPr>
            <a:xfrm>
              <a:off x="8140680" y="4532400"/>
              <a:ext cx="123840" cy="2966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162" h="382">
                  <a:moveTo>
                    <a:pt x="0" y="0"/>
                  </a:moveTo>
                  <a:lnTo>
                    <a:pt x="17" y="47"/>
                  </a:lnTo>
                  <a:lnTo>
                    <a:pt x="33" y="95"/>
                  </a:lnTo>
                  <a:lnTo>
                    <a:pt x="50" y="142"/>
                  </a:lnTo>
                  <a:lnTo>
                    <a:pt x="67" y="190"/>
                  </a:lnTo>
                  <a:lnTo>
                    <a:pt x="84" y="237"/>
                  </a:lnTo>
                  <a:lnTo>
                    <a:pt x="100" y="284"/>
                  </a:lnTo>
                  <a:lnTo>
                    <a:pt x="117" y="330"/>
                  </a:lnTo>
                  <a:lnTo>
                    <a:pt x="134" y="378"/>
                  </a:lnTo>
                  <a:lnTo>
                    <a:pt x="162" y="382"/>
                  </a:lnTo>
                  <a:lnTo>
                    <a:pt x="144" y="334"/>
                  </a:lnTo>
                  <a:lnTo>
                    <a:pt x="127" y="287"/>
                  </a:lnTo>
                  <a:lnTo>
                    <a:pt x="110" y="240"/>
                  </a:lnTo>
                  <a:lnTo>
                    <a:pt x="94" y="193"/>
                  </a:lnTo>
                  <a:lnTo>
                    <a:pt x="76" y="145"/>
                  </a:lnTo>
                  <a:lnTo>
                    <a:pt x="59" y="98"/>
                  </a:lnTo>
                  <a:lnTo>
                    <a:pt x="42" y="50"/>
                  </a:lnTo>
                  <a:lnTo>
                    <a:pt x="2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54"/>
            <p:cNvSpPr/>
            <p:nvPr/>
          </p:nvSpPr>
          <p:spPr>
            <a:xfrm>
              <a:off x="8055000" y="4522680"/>
              <a:ext cx="122040" cy="2955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5560"/>
                <a:gd name="textAreaBottom" fmla="*/ 295560 h 295560"/>
              </a:gdLst>
              <a:ahLst/>
              <a:rect l="textAreaLeft" t="textAreaTop" r="textAreaRight" b="textAreaBottom"/>
              <a:pathLst>
                <a:path w="160" h="380">
                  <a:moveTo>
                    <a:pt x="0" y="0"/>
                  </a:moveTo>
                  <a:lnTo>
                    <a:pt x="16" y="46"/>
                  </a:lnTo>
                  <a:lnTo>
                    <a:pt x="33" y="93"/>
                  </a:lnTo>
                  <a:lnTo>
                    <a:pt x="50" y="140"/>
                  </a:lnTo>
                  <a:lnTo>
                    <a:pt x="66" y="187"/>
                  </a:lnTo>
                  <a:lnTo>
                    <a:pt x="82" y="234"/>
                  </a:lnTo>
                  <a:lnTo>
                    <a:pt x="99" y="281"/>
                  </a:lnTo>
                  <a:lnTo>
                    <a:pt x="116" y="328"/>
                  </a:lnTo>
                  <a:lnTo>
                    <a:pt x="132" y="375"/>
                  </a:lnTo>
                  <a:lnTo>
                    <a:pt x="160" y="380"/>
                  </a:lnTo>
                  <a:lnTo>
                    <a:pt x="142" y="332"/>
                  </a:lnTo>
                  <a:lnTo>
                    <a:pt x="126" y="285"/>
                  </a:lnTo>
                  <a:lnTo>
                    <a:pt x="109" y="237"/>
                  </a:lnTo>
                  <a:lnTo>
                    <a:pt x="92" y="190"/>
                  </a:lnTo>
                  <a:lnTo>
                    <a:pt x="75" y="142"/>
                  </a:lnTo>
                  <a:lnTo>
                    <a:pt x="59" y="95"/>
                  </a:lnTo>
                  <a:lnTo>
                    <a:pt x="42" y="48"/>
                  </a:lnTo>
                  <a:lnTo>
                    <a:pt x="2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55"/>
            <p:cNvSpPr/>
            <p:nvPr/>
          </p:nvSpPr>
          <p:spPr>
            <a:xfrm>
              <a:off x="7967520" y="4511520"/>
              <a:ext cx="122400" cy="29232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160" h="375">
                  <a:moveTo>
                    <a:pt x="0" y="0"/>
                  </a:moveTo>
                  <a:lnTo>
                    <a:pt x="15" y="46"/>
                  </a:lnTo>
                  <a:lnTo>
                    <a:pt x="32" y="93"/>
                  </a:lnTo>
                  <a:lnTo>
                    <a:pt x="49" y="139"/>
                  </a:lnTo>
                  <a:lnTo>
                    <a:pt x="66" y="185"/>
                  </a:lnTo>
                  <a:lnTo>
                    <a:pt x="81" y="231"/>
                  </a:lnTo>
                  <a:lnTo>
                    <a:pt x="98" y="278"/>
                  </a:lnTo>
                  <a:lnTo>
                    <a:pt x="115" y="325"/>
                  </a:lnTo>
                  <a:lnTo>
                    <a:pt x="132" y="372"/>
                  </a:lnTo>
                  <a:lnTo>
                    <a:pt x="160" y="375"/>
                  </a:lnTo>
                  <a:lnTo>
                    <a:pt x="143" y="329"/>
                  </a:lnTo>
                  <a:lnTo>
                    <a:pt x="126" y="282"/>
                  </a:lnTo>
                  <a:lnTo>
                    <a:pt x="109" y="235"/>
                  </a:lnTo>
                  <a:lnTo>
                    <a:pt x="93" y="189"/>
                  </a:lnTo>
                  <a:lnTo>
                    <a:pt x="76" y="142"/>
                  </a:lnTo>
                  <a:lnTo>
                    <a:pt x="59" y="96"/>
                  </a:lnTo>
                  <a:lnTo>
                    <a:pt x="42" y="49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56"/>
            <p:cNvSpPr/>
            <p:nvPr/>
          </p:nvSpPr>
          <p:spPr>
            <a:xfrm>
              <a:off x="7880400" y="4500720"/>
              <a:ext cx="120600" cy="2905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159" h="376">
                  <a:moveTo>
                    <a:pt x="0" y="0"/>
                  </a:moveTo>
                  <a:lnTo>
                    <a:pt x="16" y="46"/>
                  </a:lnTo>
                  <a:lnTo>
                    <a:pt x="33" y="93"/>
                  </a:lnTo>
                  <a:lnTo>
                    <a:pt x="48" y="139"/>
                  </a:lnTo>
                  <a:lnTo>
                    <a:pt x="65" y="186"/>
                  </a:lnTo>
                  <a:lnTo>
                    <a:pt x="81" y="232"/>
                  </a:lnTo>
                  <a:lnTo>
                    <a:pt x="97" y="279"/>
                  </a:lnTo>
                  <a:lnTo>
                    <a:pt x="114" y="326"/>
                  </a:lnTo>
                  <a:lnTo>
                    <a:pt x="131" y="373"/>
                  </a:lnTo>
                  <a:lnTo>
                    <a:pt x="159" y="376"/>
                  </a:lnTo>
                  <a:lnTo>
                    <a:pt x="142" y="329"/>
                  </a:lnTo>
                  <a:lnTo>
                    <a:pt x="125" y="282"/>
                  </a:lnTo>
                  <a:lnTo>
                    <a:pt x="109" y="235"/>
                  </a:lnTo>
                  <a:lnTo>
                    <a:pt x="92" y="189"/>
                  </a:lnTo>
                  <a:lnTo>
                    <a:pt x="75" y="142"/>
                  </a:lnTo>
                  <a:lnTo>
                    <a:pt x="58" y="97"/>
                  </a:lnTo>
                  <a:lnTo>
                    <a:pt x="42" y="51"/>
                  </a:lnTo>
                  <a:lnTo>
                    <a:pt x="26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Freeform 57"/>
            <p:cNvSpPr/>
            <p:nvPr/>
          </p:nvSpPr>
          <p:spPr>
            <a:xfrm>
              <a:off x="7794720" y="4491000"/>
              <a:ext cx="118800" cy="2890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56" h="371">
                  <a:moveTo>
                    <a:pt x="0" y="0"/>
                  </a:moveTo>
                  <a:lnTo>
                    <a:pt x="15" y="45"/>
                  </a:lnTo>
                  <a:lnTo>
                    <a:pt x="31" y="92"/>
                  </a:lnTo>
                  <a:lnTo>
                    <a:pt x="47" y="137"/>
                  </a:lnTo>
                  <a:lnTo>
                    <a:pt x="64" y="184"/>
                  </a:lnTo>
                  <a:lnTo>
                    <a:pt x="79" y="228"/>
                  </a:lnTo>
                  <a:lnTo>
                    <a:pt x="96" y="274"/>
                  </a:lnTo>
                  <a:lnTo>
                    <a:pt x="112" y="320"/>
                  </a:lnTo>
                  <a:lnTo>
                    <a:pt x="128" y="366"/>
                  </a:lnTo>
                  <a:lnTo>
                    <a:pt x="156" y="371"/>
                  </a:lnTo>
                  <a:lnTo>
                    <a:pt x="140" y="324"/>
                  </a:lnTo>
                  <a:lnTo>
                    <a:pt x="123" y="279"/>
                  </a:lnTo>
                  <a:lnTo>
                    <a:pt x="106" y="233"/>
                  </a:lnTo>
                  <a:lnTo>
                    <a:pt x="90" y="187"/>
                  </a:lnTo>
                  <a:lnTo>
                    <a:pt x="74" y="140"/>
                  </a:lnTo>
                  <a:lnTo>
                    <a:pt x="57" y="95"/>
                  </a:lnTo>
                  <a:lnTo>
                    <a:pt x="40" y="48"/>
                  </a:lnTo>
                  <a:lnTo>
                    <a:pt x="24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58"/>
            <p:cNvSpPr/>
            <p:nvPr/>
          </p:nvSpPr>
          <p:spPr>
            <a:xfrm>
              <a:off x="7707240" y="4479840"/>
              <a:ext cx="119160" cy="2858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157" h="368">
                  <a:moveTo>
                    <a:pt x="0" y="0"/>
                  </a:moveTo>
                  <a:lnTo>
                    <a:pt x="16" y="45"/>
                  </a:lnTo>
                  <a:lnTo>
                    <a:pt x="31" y="90"/>
                  </a:lnTo>
                  <a:lnTo>
                    <a:pt x="47" y="135"/>
                  </a:lnTo>
                  <a:lnTo>
                    <a:pt x="64" y="182"/>
                  </a:lnTo>
                  <a:lnTo>
                    <a:pt x="80" y="227"/>
                  </a:lnTo>
                  <a:lnTo>
                    <a:pt x="96" y="273"/>
                  </a:lnTo>
                  <a:lnTo>
                    <a:pt x="112" y="317"/>
                  </a:lnTo>
                  <a:lnTo>
                    <a:pt x="129" y="364"/>
                  </a:lnTo>
                  <a:lnTo>
                    <a:pt x="157" y="368"/>
                  </a:lnTo>
                  <a:lnTo>
                    <a:pt x="140" y="322"/>
                  </a:lnTo>
                  <a:lnTo>
                    <a:pt x="124" y="276"/>
                  </a:lnTo>
                  <a:lnTo>
                    <a:pt x="107" y="230"/>
                  </a:lnTo>
                  <a:lnTo>
                    <a:pt x="92" y="185"/>
                  </a:lnTo>
                  <a:lnTo>
                    <a:pt x="75" y="140"/>
                  </a:lnTo>
                  <a:lnTo>
                    <a:pt x="58" y="94"/>
                  </a:lnTo>
                  <a:lnTo>
                    <a:pt x="43" y="48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59"/>
            <p:cNvSpPr/>
            <p:nvPr/>
          </p:nvSpPr>
          <p:spPr>
            <a:xfrm>
              <a:off x="7621560" y="4470480"/>
              <a:ext cx="117360" cy="282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53" h="364">
                  <a:moveTo>
                    <a:pt x="0" y="0"/>
                  </a:moveTo>
                  <a:lnTo>
                    <a:pt x="14" y="43"/>
                  </a:lnTo>
                  <a:lnTo>
                    <a:pt x="30" y="89"/>
                  </a:lnTo>
                  <a:lnTo>
                    <a:pt x="45" y="134"/>
                  </a:lnTo>
                  <a:lnTo>
                    <a:pt x="61" y="180"/>
                  </a:lnTo>
                  <a:lnTo>
                    <a:pt x="77" y="224"/>
                  </a:lnTo>
                  <a:lnTo>
                    <a:pt x="93" y="270"/>
                  </a:lnTo>
                  <a:lnTo>
                    <a:pt x="108" y="315"/>
                  </a:lnTo>
                  <a:lnTo>
                    <a:pt x="125" y="361"/>
                  </a:lnTo>
                  <a:lnTo>
                    <a:pt x="153" y="364"/>
                  </a:lnTo>
                  <a:lnTo>
                    <a:pt x="136" y="318"/>
                  </a:lnTo>
                  <a:lnTo>
                    <a:pt x="121" y="272"/>
                  </a:lnTo>
                  <a:lnTo>
                    <a:pt x="104" y="226"/>
                  </a:lnTo>
                  <a:lnTo>
                    <a:pt x="88" y="182"/>
                  </a:lnTo>
                  <a:lnTo>
                    <a:pt x="71" y="136"/>
                  </a:lnTo>
                  <a:lnTo>
                    <a:pt x="56" y="91"/>
                  </a:lnTo>
                  <a:lnTo>
                    <a:pt x="40" y="45"/>
                  </a:lnTo>
                  <a:lnTo>
                    <a:pt x="2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Freeform 60"/>
            <p:cNvSpPr/>
            <p:nvPr/>
          </p:nvSpPr>
          <p:spPr>
            <a:xfrm>
              <a:off x="7534440" y="4460760"/>
              <a:ext cx="115560" cy="2811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153" h="362">
                  <a:moveTo>
                    <a:pt x="0" y="0"/>
                  </a:moveTo>
                  <a:lnTo>
                    <a:pt x="16" y="44"/>
                  </a:lnTo>
                  <a:lnTo>
                    <a:pt x="32" y="88"/>
                  </a:lnTo>
                  <a:lnTo>
                    <a:pt x="47" y="133"/>
                  </a:lnTo>
                  <a:lnTo>
                    <a:pt x="63" y="178"/>
                  </a:lnTo>
                  <a:lnTo>
                    <a:pt x="78" y="223"/>
                  </a:lnTo>
                  <a:lnTo>
                    <a:pt x="94" y="267"/>
                  </a:lnTo>
                  <a:lnTo>
                    <a:pt x="110" y="312"/>
                  </a:lnTo>
                  <a:lnTo>
                    <a:pt x="125" y="358"/>
                  </a:lnTo>
                  <a:lnTo>
                    <a:pt x="153" y="362"/>
                  </a:lnTo>
                  <a:lnTo>
                    <a:pt x="137" y="316"/>
                  </a:lnTo>
                  <a:lnTo>
                    <a:pt x="121" y="272"/>
                  </a:lnTo>
                  <a:lnTo>
                    <a:pt x="105" y="227"/>
                  </a:lnTo>
                  <a:lnTo>
                    <a:pt x="90" y="182"/>
                  </a:lnTo>
                  <a:lnTo>
                    <a:pt x="73" y="137"/>
                  </a:lnTo>
                  <a:lnTo>
                    <a:pt x="58" y="92"/>
                  </a:lnTo>
                  <a:lnTo>
                    <a:pt x="42" y="47"/>
                  </a:lnTo>
                  <a:lnTo>
                    <a:pt x="27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61"/>
            <p:cNvSpPr/>
            <p:nvPr/>
          </p:nvSpPr>
          <p:spPr>
            <a:xfrm>
              <a:off x="7446960" y="4449600"/>
              <a:ext cx="115920" cy="2779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152" h="358">
                  <a:moveTo>
                    <a:pt x="0" y="0"/>
                  </a:moveTo>
                  <a:lnTo>
                    <a:pt x="14" y="43"/>
                  </a:lnTo>
                  <a:lnTo>
                    <a:pt x="31" y="88"/>
                  </a:lnTo>
                  <a:lnTo>
                    <a:pt x="46" y="133"/>
                  </a:lnTo>
                  <a:lnTo>
                    <a:pt x="62" y="177"/>
                  </a:lnTo>
                  <a:lnTo>
                    <a:pt x="78" y="221"/>
                  </a:lnTo>
                  <a:lnTo>
                    <a:pt x="94" y="266"/>
                  </a:lnTo>
                  <a:lnTo>
                    <a:pt x="109" y="310"/>
                  </a:lnTo>
                  <a:lnTo>
                    <a:pt x="126" y="355"/>
                  </a:lnTo>
                  <a:lnTo>
                    <a:pt x="152" y="358"/>
                  </a:lnTo>
                  <a:lnTo>
                    <a:pt x="135" y="314"/>
                  </a:lnTo>
                  <a:lnTo>
                    <a:pt x="119" y="269"/>
                  </a:lnTo>
                  <a:lnTo>
                    <a:pt x="104" y="224"/>
                  </a:lnTo>
                  <a:lnTo>
                    <a:pt x="88" y="181"/>
                  </a:lnTo>
                  <a:lnTo>
                    <a:pt x="72" y="136"/>
                  </a:lnTo>
                  <a:lnTo>
                    <a:pt x="57" y="91"/>
                  </a:lnTo>
                  <a:lnTo>
                    <a:pt x="41" y="47"/>
                  </a:lnTo>
                  <a:lnTo>
                    <a:pt x="2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62"/>
            <p:cNvSpPr/>
            <p:nvPr/>
          </p:nvSpPr>
          <p:spPr>
            <a:xfrm>
              <a:off x="7361280" y="4440240"/>
              <a:ext cx="114120" cy="274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4680"/>
                <a:gd name="textAreaBottom" fmla="*/ 274680 h 274680"/>
              </a:gdLst>
              <a:ahLst/>
              <a:rect l="textAreaLeft" t="textAreaTop" r="textAreaRight" b="textAreaBottom"/>
              <a:pathLst>
                <a:path w="151" h="355">
                  <a:moveTo>
                    <a:pt x="0" y="0"/>
                  </a:moveTo>
                  <a:lnTo>
                    <a:pt x="15" y="43"/>
                  </a:lnTo>
                  <a:lnTo>
                    <a:pt x="30" y="87"/>
                  </a:lnTo>
                  <a:lnTo>
                    <a:pt x="45" y="130"/>
                  </a:lnTo>
                  <a:lnTo>
                    <a:pt x="62" y="175"/>
                  </a:lnTo>
                  <a:lnTo>
                    <a:pt x="76" y="219"/>
                  </a:lnTo>
                  <a:lnTo>
                    <a:pt x="92" y="263"/>
                  </a:lnTo>
                  <a:lnTo>
                    <a:pt x="108" y="307"/>
                  </a:lnTo>
                  <a:lnTo>
                    <a:pt x="124" y="351"/>
                  </a:lnTo>
                  <a:lnTo>
                    <a:pt x="151" y="355"/>
                  </a:lnTo>
                  <a:lnTo>
                    <a:pt x="134" y="310"/>
                  </a:lnTo>
                  <a:lnTo>
                    <a:pt x="119" y="267"/>
                  </a:lnTo>
                  <a:lnTo>
                    <a:pt x="103" y="222"/>
                  </a:lnTo>
                  <a:lnTo>
                    <a:pt x="87" y="178"/>
                  </a:lnTo>
                  <a:lnTo>
                    <a:pt x="71" y="134"/>
                  </a:lnTo>
                  <a:lnTo>
                    <a:pt x="56" y="90"/>
                  </a:lnTo>
                  <a:lnTo>
                    <a:pt x="39" y="46"/>
                  </a:lnTo>
                  <a:lnTo>
                    <a:pt x="2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63"/>
            <p:cNvSpPr/>
            <p:nvPr/>
          </p:nvSpPr>
          <p:spPr>
            <a:xfrm>
              <a:off x="7272360" y="4429080"/>
              <a:ext cx="114120" cy="274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150" h="354">
                  <a:moveTo>
                    <a:pt x="0" y="0"/>
                  </a:moveTo>
                  <a:lnTo>
                    <a:pt x="15" y="43"/>
                  </a:lnTo>
                  <a:lnTo>
                    <a:pt x="31" y="86"/>
                  </a:lnTo>
                  <a:lnTo>
                    <a:pt x="46" y="130"/>
                  </a:lnTo>
                  <a:lnTo>
                    <a:pt x="62" y="173"/>
                  </a:lnTo>
                  <a:lnTo>
                    <a:pt x="77" y="217"/>
                  </a:lnTo>
                  <a:lnTo>
                    <a:pt x="93" y="260"/>
                  </a:lnTo>
                  <a:lnTo>
                    <a:pt x="108" y="304"/>
                  </a:lnTo>
                  <a:lnTo>
                    <a:pt x="125" y="349"/>
                  </a:lnTo>
                  <a:lnTo>
                    <a:pt x="150" y="354"/>
                  </a:lnTo>
                  <a:lnTo>
                    <a:pt x="134" y="310"/>
                  </a:lnTo>
                  <a:lnTo>
                    <a:pt x="119" y="265"/>
                  </a:lnTo>
                  <a:lnTo>
                    <a:pt x="102" y="221"/>
                  </a:lnTo>
                  <a:lnTo>
                    <a:pt x="88" y="178"/>
                  </a:lnTo>
                  <a:lnTo>
                    <a:pt x="72" y="133"/>
                  </a:lnTo>
                  <a:lnTo>
                    <a:pt x="58" y="89"/>
                  </a:lnTo>
                  <a:lnTo>
                    <a:pt x="42" y="46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64"/>
            <p:cNvSpPr/>
            <p:nvPr/>
          </p:nvSpPr>
          <p:spPr>
            <a:xfrm>
              <a:off x="7186680" y="4419720"/>
              <a:ext cx="112680" cy="2696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50" h="348">
                  <a:moveTo>
                    <a:pt x="0" y="0"/>
                  </a:moveTo>
                  <a:lnTo>
                    <a:pt x="15" y="42"/>
                  </a:lnTo>
                  <a:lnTo>
                    <a:pt x="30" y="85"/>
                  </a:lnTo>
                  <a:lnTo>
                    <a:pt x="45" y="128"/>
                  </a:lnTo>
                  <a:lnTo>
                    <a:pt x="62" y="172"/>
                  </a:lnTo>
                  <a:lnTo>
                    <a:pt x="76" y="214"/>
                  </a:lnTo>
                  <a:lnTo>
                    <a:pt x="92" y="258"/>
                  </a:lnTo>
                  <a:lnTo>
                    <a:pt x="106" y="301"/>
                  </a:lnTo>
                  <a:lnTo>
                    <a:pt x="123" y="345"/>
                  </a:lnTo>
                  <a:lnTo>
                    <a:pt x="150" y="348"/>
                  </a:lnTo>
                  <a:lnTo>
                    <a:pt x="133" y="305"/>
                  </a:lnTo>
                  <a:lnTo>
                    <a:pt x="118" y="261"/>
                  </a:lnTo>
                  <a:lnTo>
                    <a:pt x="102" y="218"/>
                  </a:lnTo>
                  <a:lnTo>
                    <a:pt x="87" y="175"/>
                  </a:lnTo>
                  <a:lnTo>
                    <a:pt x="72" y="132"/>
                  </a:lnTo>
                  <a:lnTo>
                    <a:pt x="56" y="88"/>
                  </a:lnTo>
                  <a:lnTo>
                    <a:pt x="40" y="45"/>
                  </a:lnTo>
                  <a:lnTo>
                    <a:pt x="2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65"/>
            <p:cNvSpPr/>
            <p:nvPr/>
          </p:nvSpPr>
          <p:spPr>
            <a:xfrm>
              <a:off x="7099200" y="4408560"/>
              <a:ext cx="112680" cy="2696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48" h="348">
                  <a:moveTo>
                    <a:pt x="0" y="0"/>
                  </a:moveTo>
                  <a:lnTo>
                    <a:pt x="14" y="43"/>
                  </a:lnTo>
                  <a:lnTo>
                    <a:pt x="30" y="85"/>
                  </a:lnTo>
                  <a:lnTo>
                    <a:pt x="44" y="128"/>
                  </a:lnTo>
                  <a:lnTo>
                    <a:pt x="60" y="171"/>
                  </a:lnTo>
                  <a:lnTo>
                    <a:pt x="75" y="214"/>
                  </a:lnTo>
                  <a:lnTo>
                    <a:pt x="90" y="257"/>
                  </a:lnTo>
                  <a:lnTo>
                    <a:pt x="105" y="301"/>
                  </a:lnTo>
                  <a:lnTo>
                    <a:pt x="121" y="345"/>
                  </a:lnTo>
                  <a:lnTo>
                    <a:pt x="148" y="348"/>
                  </a:lnTo>
                  <a:lnTo>
                    <a:pt x="132" y="304"/>
                  </a:lnTo>
                  <a:lnTo>
                    <a:pt x="117" y="261"/>
                  </a:lnTo>
                  <a:lnTo>
                    <a:pt x="101" y="217"/>
                  </a:lnTo>
                  <a:lnTo>
                    <a:pt x="87" y="175"/>
                  </a:lnTo>
                  <a:lnTo>
                    <a:pt x="70" y="131"/>
                  </a:lnTo>
                  <a:lnTo>
                    <a:pt x="56" y="89"/>
                  </a:lnTo>
                  <a:lnTo>
                    <a:pt x="40" y="46"/>
                  </a:lnTo>
                  <a:lnTo>
                    <a:pt x="25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Freeform 66"/>
            <p:cNvSpPr/>
            <p:nvPr/>
          </p:nvSpPr>
          <p:spPr>
            <a:xfrm>
              <a:off x="7010280" y="4398840"/>
              <a:ext cx="114480" cy="26676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149" h="345">
                  <a:moveTo>
                    <a:pt x="0" y="0"/>
                  </a:moveTo>
                  <a:lnTo>
                    <a:pt x="15" y="42"/>
                  </a:lnTo>
                  <a:lnTo>
                    <a:pt x="30" y="85"/>
                  </a:lnTo>
                  <a:lnTo>
                    <a:pt x="46" y="127"/>
                  </a:lnTo>
                  <a:lnTo>
                    <a:pt x="61" y="170"/>
                  </a:lnTo>
                  <a:lnTo>
                    <a:pt x="76" y="212"/>
                  </a:lnTo>
                  <a:lnTo>
                    <a:pt x="92" y="255"/>
                  </a:lnTo>
                  <a:lnTo>
                    <a:pt x="106" y="297"/>
                  </a:lnTo>
                  <a:lnTo>
                    <a:pt x="122" y="340"/>
                  </a:lnTo>
                  <a:lnTo>
                    <a:pt x="149" y="345"/>
                  </a:lnTo>
                  <a:lnTo>
                    <a:pt x="132" y="302"/>
                  </a:lnTo>
                  <a:lnTo>
                    <a:pt x="117" y="259"/>
                  </a:lnTo>
                  <a:lnTo>
                    <a:pt x="102" y="217"/>
                  </a:lnTo>
                  <a:lnTo>
                    <a:pt x="87" y="174"/>
                  </a:lnTo>
                  <a:lnTo>
                    <a:pt x="72" y="131"/>
                  </a:lnTo>
                  <a:lnTo>
                    <a:pt x="57" y="88"/>
                  </a:lnTo>
                  <a:lnTo>
                    <a:pt x="42" y="46"/>
                  </a:lnTo>
                  <a:lnTo>
                    <a:pt x="28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67"/>
            <p:cNvSpPr/>
            <p:nvPr/>
          </p:nvSpPr>
          <p:spPr>
            <a:xfrm>
              <a:off x="6924600" y="4387680"/>
              <a:ext cx="111240" cy="26532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146" h="340">
                  <a:moveTo>
                    <a:pt x="0" y="0"/>
                  </a:moveTo>
                  <a:lnTo>
                    <a:pt x="13" y="41"/>
                  </a:lnTo>
                  <a:lnTo>
                    <a:pt x="29" y="84"/>
                  </a:lnTo>
                  <a:lnTo>
                    <a:pt x="43" y="125"/>
                  </a:lnTo>
                  <a:lnTo>
                    <a:pt x="59" y="168"/>
                  </a:lnTo>
                  <a:lnTo>
                    <a:pt x="73" y="210"/>
                  </a:lnTo>
                  <a:lnTo>
                    <a:pt x="89" y="252"/>
                  </a:lnTo>
                  <a:lnTo>
                    <a:pt x="104" y="294"/>
                  </a:lnTo>
                  <a:lnTo>
                    <a:pt x="119" y="337"/>
                  </a:lnTo>
                  <a:lnTo>
                    <a:pt x="146" y="340"/>
                  </a:lnTo>
                  <a:lnTo>
                    <a:pt x="129" y="297"/>
                  </a:lnTo>
                  <a:lnTo>
                    <a:pt x="115" y="256"/>
                  </a:lnTo>
                  <a:lnTo>
                    <a:pt x="99" y="213"/>
                  </a:lnTo>
                  <a:lnTo>
                    <a:pt x="85" y="172"/>
                  </a:lnTo>
                  <a:lnTo>
                    <a:pt x="69" y="128"/>
                  </a:lnTo>
                  <a:lnTo>
                    <a:pt x="54" y="87"/>
                  </a:lnTo>
                  <a:lnTo>
                    <a:pt x="40" y="44"/>
                  </a:lnTo>
                  <a:lnTo>
                    <a:pt x="2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Freeform 68"/>
            <p:cNvSpPr/>
            <p:nvPr/>
          </p:nvSpPr>
          <p:spPr>
            <a:xfrm>
              <a:off x="6838920" y="4378320"/>
              <a:ext cx="109440" cy="2620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145" h="339">
                  <a:moveTo>
                    <a:pt x="0" y="0"/>
                  </a:moveTo>
                  <a:lnTo>
                    <a:pt x="13" y="42"/>
                  </a:lnTo>
                  <a:lnTo>
                    <a:pt x="29" y="83"/>
                  </a:lnTo>
                  <a:lnTo>
                    <a:pt x="44" y="124"/>
                  </a:lnTo>
                  <a:lnTo>
                    <a:pt x="59" y="167"/>
                  </a:lnTo>
                  <a:lnTo>
                    <a:pt x="73" y="208"/>
                  </a:lnTo>
                  <a:lnTo>
                    <a:pt x="88" y="251"/>
                  </a:lnTo>
                  <a:lnTo>
                    <a:pt x="103" y="292"/>
                  </a:lnTo>
                  <a:lnTo>
                    <a:pt x="119" y="335"/>
                  </a:lnTo>
                  <a:lnTo>
                    <a:pt x="145" y="339"/>
                  </a:lnTo>
                  <a:lnTo>
                    <a:pt x="130" y="295"/>
                  </a:lnTo>
                  <a:lnTo>
                    <a:pt x="115" y="254"/>
                  </a:lnTo>
                  <a:lnTo>
                    <a:pt x="101" y="211"/>
                  </a:lnTo>
                  <a:lnTo>
                    <a:pt x="86" y="170"/>
                  </a:lnTo>
                  <a:lnTo>
                    <a:pt x="70" y="128"/>
                  </a:lnTo>
                  <a:lnTo>
                    <a:pt x="56" y="86"/>
                  </a:lnTo>
                  <a:lnTo>
                    <a:pt x="40" y="45"/>
                  </a:lnTo>
                  <a:lnTo>
                    <a:pt x="26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Freeform 69"/>
            <p:cNvSpPr/>
            <p:nvPr/>
          </p:nvSpPr>
          <p:spPr>
            <a:xfrm>
              <a:off x="6784920" y="4438800"/>
              <a:ext cx="76320" cy="1886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102" h="247">
                  <a:moveTo>
                    <a:pt x="0" y="32"/>
                  </a:moveTo>
                  <a:lnTo>
                    <a:pt x="9" y="57"/>
                  </a:lnTo>
                  <a:lnTo>
                    <a:pt x="18" y="83"/>
                  </a:lnTo>
                  <a:lnTo>
                    <a:pt x="27" y="110"/>
                  </a:lnTo>
                  <a:lnTo>
                    <a:pt x="37" y="137"/>
                  </a:lnTo>
                  <a:lnTo>
                    <a:pt x="46" y="162"/>
                  </a:lnTo>
                  <a:lnTo>
                    <a:pt x="56" y="189"/>
                  </a:lnTo>
                  <a:lnTo>
                    <a:pt x="65" y="216"/>
                  </a:lnTo>
                  <a:lnTo>
                    <a:pt x="75" y="243"/>
                  </a:lnTo>
                  <a:lnTo>
                    <a:pt x="102" y="247"/>
                  </a:lnTo>
                  <a:lnTo>
                    <a:pt x="91" y="216"/>
                  </a:lnTo>
                  <a:lnTo>
                    <a:pt x="79" y="186"/>
                  </a:lnTo>
                  <a:lnTo>
                    <a:pt x="68" y="154"/>
                  </a:lnTo>
                  <a:lnTo>
                    <a:pt x="58" y="124"/>
                  </a:lnTo>
                  <a:lnTo>
                    <a:pt x="47" y="93"/>
                  </a:lnTo>
                  <a:lnTo>
                    <a:pt x="36" y="62"/>
                  </a:lnTo>
                  <a:lnTo>
                    <a:pt x="25" y="30"/>
                  </a:lnTo>
                  <a:lnTo>
                    <a:pt x="15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70"/>
            <p:cNvSpPr/>
            <p:nvPr/>
          </p:nvSpPr>
          <p:spPr>
            <a:xfrm>
              <a:off x="6735600" y="4537080"/>
              <a:ext cx="38160" cy="77760"/>
            </a:xfrm>
            <a:custGeom>
              <a:avLst/>
              <a:gdLst>
                <a:gd name="textAreaLeft" fmla="*/ 0 w 38160"/>
                <a:gd name="textAreaRight" fmla="*/ 38160 w 381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52" h="105">
                  <a:moveTo>
                    <a:pt x="0" y="31"/>
                  </a:moveTo>
                  <a:lnTo>
                    <a:pt x="2" y="38"/>
                  </a:lnTo>
                  <a:lnTo>
                    <a:pt x="5" y="47"/>
                  </a:lnTo>
                  <a:lnTo>
                    <a:pt x="8" y="56"/>
                  </a:lnTo>
                  <a:lnTo>
                    <a:pt x="12" y="66"/>
                  </a:lnTo>
                  <a:lnTo>
                    <a:pt x="15" y="74"/>
                  </a:lnTo>
                  <a:lnTo>
                    <a:pt x="19" y="83"/>
                  </a:lnTo>
                  <a:lnTo>
                    <a:pt x="22" y="92"/>
                  </a:lnTo>
                  <a:lnTo>
                    <a:pt x="25" y="102"/>
                  </a:lnTo>
                  <a:lnTo>
                    <a:pt x="52" y="105"/>
                  </a:lnTo>
                  <a:lnTo>
                    <a:pt x="46" y="92"/>
                  </a:lnTo>
                  <a:lnTo>
                    <a:pt x="42" y="79"/>
                  </a:lnTo>
                  <a:lnTo>
                    <a:pt x="36" y="65"/>
                  </a:lnTo>
                  <a:lnTo>
                    <a:pt x="33" y="53"/>
                  </a:lnTo>
                  <a:lnTo>
                    <a:pt x="27" y="40"/>
                  </a:lnTo>
                  <a:lnTo>
                    <a:pt x="23" y="26"/>
                  </a:lnTo>
                  <a:lnTo>
                    <a:pt x="17" y="13"/>
                  </a:lnTo>
                  <a:lnTo>
                    <a:pt x="14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Freeform 71"/>
            <p:cNvSpPr/>
            <p:nvPr/>
          </p:nvSpPr>
          <p:spPr>
            <a:xfrm>
              <a:off x="6742080" y="4370400"/>
              <a:ext cx="69840" cy="158760"/>
            </a:xfrm>
            <a:custGeom>
              <a:avLst/>
              <a:gdLst>
                <a:gd name="textAreaLeft" fmla="*/ 0 w 69840"/>
                <a:gd name="textAreaRight" fmla="*/ 69840 w 698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94" h="209">
                  <a:moveTo>
                    <a:pt x="0" y="0"/>
                  </a:moveTo>
                  <a:lnTo>
                    <a:pt x="72" y="209"/>
                  </a:lnTo>
                  <a:lnTo>
                    <a:pt x="94" y="196"/>
                  </a:lnTo>
                  <a:lnTo>
                    <a:pt x="29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Freeform 72"/>
            <p:cNvSpPr/>
            <p:nvPr/>
          </p:nvSpPr>
          <p:spPr>
            <a:xfrm>
              <a:off x="7566120" y="5148360"/>
              <a:ext cx="147600" cy="14436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92" h="190">
                  <a:moveTo>
                    <a:pt x="69" y="4"/>
                  </a:moveTo>
                  <a:lnTo>
                    <a:pt x="87" y="0"/>
                  </a:lnTo>
                  <a:lnTo>
                    <a:pt x="106" y="0"/>
                  </a:lnTo>
                  <a:lnTo>
                    <a:pt x="124" y="3"/>
                  </a:lnTo>
                  <a:lnTo>
                    <a:pt x="142" y="11"/>
                  </a:lnTo>
                  <a:lnTo>
                    <a:pt x="157" y="20"/>
                  </a:lnTo>
                  <a:lnTo>
                    <a:pt x="171" y="33"/>
                  </a:lnTo>
                  <a:lnTo>
                    <a:pt x="181" y="49"/>
                  </a:lnTo>
                  <a:lnTo>
                    <a:pt x="190" y="67"/>
                  </a:lnTo>
                  <a:lnTo>
                    <a:pt x="192" y="86"/>
                  </a:lnTo>
                  <a:lnTo>
                    <a:pt x="192" y="105"/>
                  </a:lnTo>
                  <a:lnTo>
                    <a:pt x="188" y="121"/>
                  </a:lnTo>
                  <a:lnTo>
                    <a:pt x="182" y="139"/>
                  </a:lnTo>
                  <a:lnTo>
                    <a:pt x="171" y="154"/>
                  </a:lnTo>
                  <a:lnTo>
                    <a:pt x="158" y="167"/>
                  </a:lnTo>
                  <a:lnTo>
                    <a:pt x="142" y="177"/>
                  </a:lnTo>
                  <a:lnTo>
                    <a:pt x="125" y="186"/>
                  </a:lnTo>
                  <a:lnTo>
                    <a:pt x="105" y="190"/>
                  </a:lnTo>
                  <a:lnTo>
                    <a:pt x="86" y="190"/>
                  </a:lnTo>
                  <a:lnTo>
                    <a:pt x="67" y="186"/>
                  </a:lnTo>
                  <a:lnTo>
                    <a:pt x="51" y="179"/>
                  </a:lnTo>
                  <a:lnTo>
                    <a:pt x="34" y="168"/>
                  </a:lnTo>
                  <a:lnTo>
                    <a:pt x="22" y="156"/>
                  </a:lnTo>
                  <a:lnTo>
                    <a:pt x="11" y="139"/>
                  </a:lnTo>
                  <a:lnTo>
                    <a:pt x="4" y="122"/>
                  </a:lnTo>
                  <a:lnTo>
                    <a:pt x="0" y="103"/>
                  </a:lnTo>
                  <a:lnTo>
                    <a:pt x="0" y="84"/>
                  </a:lnTo>
                  <a:lnTo>
                    <a:pt x="3" y="67"/>
                  </a:lnTo>
                  <a:lnTo>
                    <a:pt x="11" y="51"/>
                  </a:lnTo>
                  <a:lnTo>
                    <a:pt x="21" y="34"/>
                  </a:lnTo>
                  <a:lnTo>
                    <a:pt x="34" y="22"/>
                  </a:lnTo>
                  <a:lnTo>
                    <a:pt x="50" y="11"/>
                  </a:lnTo>
                  <a:lnTo>
                    <a:pt x="69" y="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Freeform 73"/>
            <p:cNvSpPr/>
            <p:nvPr/>
          </p:nvSpPr>
          <p:spPr>
            <a:xfrm>
              <a:off x="7578720" y="5159520"/>
              <a:ext cx="123840" cy="1188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62" h="160">
                  <a:moveTo>
                    <a:pt x="59" y="5"/>
                  </a:moveTo>
                  <a:lnTo>
                    <a:pt x="75" y="0"/>
                  </a:lnTo>
                  <a:lnTo>
                    <a:pt x="91" y="0"/>
                  </a:lnTo>
                  <a:lnTo>
                    <a:pt x="105" y="2"/>
                  </a:lnTo>
                  <a:lnTo>
                    <a:pt x="121" y="9"/>
                  </a:lnTo>
                  <a:lnTo>
                    <a:pt x="133" y="17"/>
                  </a:lnTo>
                  <a:lnTo>
                    <a:pt x="144" y="28"/>
                  </a:lnTo>
                  <a:lnTo>
                    <a:pt x="153" y="42"/>
                  </a:lnTo>
                  <a:lnTo>
                    <a:pt x="160" y="57"/>
                  </a:lnTo>
                  <a:lnTo>
                    <a:pt x="162" y="73"/>
                  </a:lnTo>
                  <a:lnTo>
                    <a:pt x="162" y="88"/>
                  </a:lnTo>
                  <a:lnTo>
                    <a:pt x="159" y="103"/>
                  </a:lnTo>
                  <a:lnTo>
                    <a:pt x="154" y="118"/>
                  </a:lnTo>
                  <a:lnTo>
                    <a:pt x="144" y="130"/>
                  </a:lnTo>
                  <a:lnTo>
                    <a:pt x="134" y="141"/>
                  </a:lnTo>
                  <a:lnTo>
                    <a:pt x="120" y="150"/>
                  </a:lnTo>
                  <a:lnTo>
                    <a:pt x="105" y="158"/>
                  </a:lnTo>
                  <a:lnTo>
                    <a:pt x="88" y="160"/>
                  </a:lnTo>
                  <a:lnTo>
                    <a:pt x="73" y="160"/>
                  </a:lnTo>
                  <a:lnTo>
                    <a:pt x="56" y="157"/>
                  </a:lnTo>
                  <a:lnTo>
                    <a:pt x="43" y="151"/>
                  </a:lnTo>
                  <a:lnTo>
                    <a:pt x="29" y="141"/>
                  </a:lnTo>
                  <a:lnTo>
                    <a:pt x="18" y="131"/>
                  </a:lnTo>
                  <a:lnTo>
                    <a:pt x="9" y="118"/>
                  </a:lnTo>
                  <a:lnTo>
                    <a:pt x="5" y="104"/>
                  </a:lnTo>
                  <a:lnTo>
                    <a:pt x="0" y="87"/>
                  </a:lnTo>
                  <a:lnTo>
                    <a:pt x="0" y="72"/>
                  </a:lnTo>
                  <a:lnTo>
                    <a:pt x="3" y="56"/>
                  </a:lnTo>
                  <a:lnTo>
                    <a:pt x="10" y="43"/>
                  </a:lnTo>
                  <a:lnTo>
                    <a:pt x="18" y="28"/>
                  </a:lnTo>
                  <a:lnTo>
                    <a:pt x="30" y="18"/>
                  </a:lnTo>
                  <a:lnTo>
                    <a:pt x="43" y="9"/>
                  </a:lnTo>
                  <a:lnTo>
                    <a:pt x="59" y="5"/>
                  </a:lnTo>
                  <a:close/>
                </a:path>
              </a:pathLst>
            </a:custGeom>
            <a:solidFill>
              <a:srgbClr val="f0f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74"/>
            <p:cNvSpPr/>
            <p:nvPr/>
          </p:nvSpPr>
          <p:spPr>
            <a:xfrm>
              <a:off x="7612200" y="5172120"/>
              <a:ext cx="66600" cy="651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88" h="87">
                  <a:moveTo>
                    <a:pt x="31" y="2"/>
                  </a:moveTo>
                  <a:lnTo>
                    <a:pt x="39" y="0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65" y="4"/>
                  </a:lnTo>
                  <a:lnTo>
                    <a:pt x="71" y="8"/>
                  </a:lnTo>
                  <a:lnTo>
                    <a:pt x="78" y="15"/>
                  </a:lnTo>
                  <a:lnTo>
                    <a:pt x="82" y="21"/>
                  </a:lnTo>
                  <a:lnTo>
                    <a:pt x="87" y="31"/>
                  </a:lnTo>
                  <a:lnTo>
                    <a:pt x="87" y="39"/>
                  </a:lnTo>
                  <a:lnTo>
                    <a:pt x="88" y="47"/>
                  </a:lnTo>
                  <a:lnTo>
                    <a:pt x="85" y="55"/>
                  </a:lnTo>
                  <a:lnTo>
                    <a:pt x="82" y="64"/>
                  </a:lnTo>
                  <a:lnTo>
                    <a:pt x="77" y="70"/>
                  </a:lnTo>
                  <a:lnTo>
                    <a:pt x="71" y="77"/>
                  </a:lnTo>
                  <a:lnTo>
                    <a:pt x="63" y="82"/>
                  </a:lnTo>
                  <a:lnTo>
                    <a:pt x="57" y="86"/>
                  </a:lnTo>
                  <a:lnTo>
                    <a:pt x="48" y="86"/>
                  </a:lnTo>
                  <a:lnTo>
                    <a:pt x="39" y="87"/>
                  </a:lnTo>
                  <a:lnTo>
                    <a:pt x="30" y="85"/>
                  </a:lnTo>
                  <a:lnTo>
                    <a:pt x="23" y="83"/>
                  </a:lnTo>
                  <a:lnTo>
                    <a:pt x="15" y="77"/>
                  </a:lnTo>
                  <a:lnTo>
                    <a:pt x="10" y="71"/>
                  </a:lnTo>
                  <a:lnTo>
                    <a:pt x="4" y="64"/>
                  </a:lnTo>
                  <a:lnTo>
                    <a:pt x="2" y="57"/>
                  </a:lnTo>
                  <a:lnTo>
                    <a:pt x="0" y="48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5" y="23"/>
                  </a:lnTo>
                  <a:lnTo>
                    <a:pt x="9" y="16"/>
                  </a:lnTo>
                  <a:lnTo>
                    <a:pt x="15" y="10"/>
                  </a:lnTo>
                  <a:lnTo>
                    <a:pt x="22" y="4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Freeform 75"/>
            <p:cNvSpPr/>
            <p:nvPr/>
          </p:nvSpPr>
          <p:spPr>
            <a:xfrm>
              <a:off x="7586640" y="5214960"/>
              <a:ext cx="95400" cy="5544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25" h="75">
                  <a:moveTo>
                    <a:pt x="3" y="8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4" y="4"/>
                  </a:lnTo>
                  <a:lnTo>
                    <a:pt x="20" y="12"/>
                  </a:lnTo>
                  <a:lnTo>
                    <a:pt x="27" y="21"/>
                  </a:lnTo>
                  <a:lnTo>
                    <a:pt x="36" y="31"/>
                  </a:lnTo>
                  <a:lnTo>
                    <a:pt x="46" y="39"/>
                  </a:lnTo>
                  <a:lnTo>
                    <a:pt x="61" y="44"/>
                  </a:lnTo>
                  <a:lnTo>
                    <a:pt x="73" y="46"/>
                  </a:lnTo>
                  <a:lnTo>
                    <a:pt x="85" y="46"/>
                  </a:lnTo>
                  <a:lnTo>
                    <a:pt x="95" y="44"/>
                  </a:lnTo>
                  <a:lnTo>
                    <a:pt x="106" y="43"/>
                  </a:lnTo>
                  <a:lnTo>
                    <a:pt x="113" y="41"/>
                  </a:lnTo>
                  <a:lnTo>
                    <a:pt x="120" y="41"/>
                  </a:lnTo>
                  <a:lnTo>
                    <a:pt x="123" y="42"/>
                  </a:lnTo>
                  <a:lnTo>
                    <a:pt x="125" y="47"/>
                  </a:lnTo>
                  <a:lnTo>
                    <a:pt x="123" y="51"/>
                  </a:lnTo>
                  <a:lnTo>
                    <a:pt x="120" y="57"/>
                  </a:lnTo>
                  <a:lnTo>
                    <a:pt x="113" y="62"/>
                  </a:lnTo>
                  <a:lnTo>
                    <a:pt x="105" y="68"/>
                  </a:lnTo>
                  <a:lnTo>
                    <a:pt x="95" y="71"/>
                  </a:lnTo>
                  <a:lnTo>
                    <a:pt x="84" y="75"/>
                  </a:lnTo>
                  <a:lnTo>
                    <a:pt x="71" y="75"/>
                  </a:lnTo>
                  <a:lnTo>
                    <a:pt x="58" y="73"/>
                  </a:lnTo>
                  <a:lnTo>
                    <a:pt x="45" y="68"/>
                  </a:lnTo>
                  <a:lnTo>
                    <a:pt x="33" y="62"/>
                  </a:lnTo>
                  <a:lnTo>
                    <a:pt x="23" y="53"/>
                  </a:lnTo>
                  <a:lnTo>
                    <a:pt x="14" y="46"/>
                  </a:lnTo>
                  <a:lnTo>
                    <a:pt x="6" y="35"/>
                  </a:lnTo>
                  <a:lnTo>
                    <a:pt x="3" y="27"/>
                  </a:lnTo>
                  <a:lnTo>
                    <a:pt x="0" y="16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b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Freeform 76"/>
            <p:cNvSpPr/>
            <p:nvPr/>
          </p:nvSpPr>
          <p:spPr>
            <a:xfrm>
              <a:off x="7615080" y="5157720"/>
              <a:ext cx="668520" cy="320760"/>
            </a:xfrm>
            <a:custGeom>
              <a:avLst/>
              <a:gdLst>
                <a:gd name="textAreaLeft" fmla="*/ 0 w 668520"/>
                <a:gd name="textAreaRight" fmla="*/ 668520 w 6685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847" h="411">
                  <a:moveTo>
                    <a:pt x="845" y="201"/>
                  </a:moveTo>
                  <a:lnTo>
                    <a:pt x="837" y="171"/>
                  </a:lnTo>
                  <a:lnTo>
                    <a:pt x="827" y="143"/>
                  </a:lnTo>
                  <a:lnTo>
                    <a:pt x="816" y="116"/>
                  </a:lnTo>
                  <a:lnTo>
                    <a:pt x="804" y="92"/>
                  </a:lnTo>
                  <a:lnTo>
                    <a:pt x="787" y="67"/>
                  </a:lnTo>
                  <a:lnTo>
                    <a:pt x="768" y="47"/>
                  </a:lnTo>
                  <a:lnTo>
                    <a:pt x="746" y="30"/>
                  </a:lnTo>
                  <a:lnTo>
                    <a:pt x="722" y="17"/>
                  </a:lnTo>
                  <a:lnTo>
                    <a:pt x="691" y="7"/>
                  </a:lnTo>
                  <a:lnTo>
                    <a:pt x="655" y="1"/>
                  </a:lnTo>
                  <a:lnTo>
                    <a:pt x="615" y="0"/>
                  </a:lnTo>
                  <a:lnTo>
                    <a:pt x="576" y="2"/>
                  </a:lnTo>
                  <a:lnTo>
                    <a:pt x="535" y="6"/>
                  </a:lnTo>
                  <a:lnTo>
                    <a:pt x="500" y="14"/>
                  </a:lnTo>
                  <a:lnTo>
                    <a:pt x="467" y="24"/>
                  </a:lnTo>
                  <a:lnTo>
                    <a:pt x="444" y="36"/>
                  </a:lnTo>
                  <a:lnTo>
                    <a:pt x="421" y="50"/>
                  </a:lnTo>
                  <a:lnTo>
                    <a:pt x="399" y="68"/>
                  </a:lnTo>
                  <a:lnTo>
                    <a:pt x="377" y="88"/>
                  </a:lnTo>
                  <a:lnTo>
                    <a:pt x="357" y="111"/>
                  </a:lnTo>
                  <a:lnTo>
                    <a:pt x="338" y="130"/>
                  </a:lnTo>
                  <a:lnTo>
                    <a:pt x="322" y="146"/>
                  </a:lnTo>
                  <a:lnTo>
                    <a:pt x="310" y="159"/>
                  </a:lnTo>
                  <a:lnTo>
                    <a:pt x="304" y="165"/>
                  </a:lnTo>
                  <a:lnTo>
                    <a:pt x="282" y="171"/>
                  </a:lnTo>
                  <a:lnTo>
                    <a:pt x="244" y="177"/>
                  </a:lnTo>
                  <a:lnTo>
                    <a:pt x="195" y="180"/>
                  </a:lnTo>
                  <a:lnTo>
                    <a:pt x="142" y="183"/>
                  </a:lnTo>
                  <a:lnTo>
                    <a:pt x="89" y="184"/>
                  </a:lnTo>
                  <a:lnTo>
                    <a:pt x="46" y="187"/>
                  </a:lnTo>
                  <a:lnTo>
                    <a:pt x="15" y="188"/>
                  </a:lnTo>
                  <a:lnTo>
                    <a:pt x="3" y="191"/>
                  </a:lnTo>
                  <a:lnTo>
                    <a:pt x="0" y="254"/>
                  </a:lnTo>
                  <a:lnTo>
                    <a:pt x="21" y="291"/>
                  </a:lnTo>
                  <a:lnTo>
                    <a:pt x="290" y="279"/>
                  </a:lnTo>
                  <a:lnTo>
                    <a:pt x="315" y="289"/>
                  </a:lnTo>
                  <a:lnTo>
                    <a:pt x="344" y="304"/>
                  </a:lnTo>
                  <a:lnTo>
                    <a:pt x="376" y="320"/>
                  </a:lnTo>
                  <a:lnTo>
                    <a:pt x="409" y="336"/>
                  </a:lnTo>
                  <a:lnTo>
                    <a:pt x="442" y="352"/>
                  </a:lnTo>
                  <a:lnTo>
                    <a:pt x="473" y="369"/>
                  </a:lnTo>
                  <a:lnTo>
                    <a:pt x="501" y="382"/>
                  </a:lnTo>
                  <a:lnTo>
                    <a:pt x="526" y="395"/>
                  </a:lnTo>
                  <a:lnTo>
                    <a:pt x="549" y="402"/>
                  </a:lnTo>
                  <a:lnTo>
                    <a:pt x="575" y="409"/>
                  </a:lnTo>
                  <a:lnTo>
                    <a:pt x="602" y="411"/>
                  </a:lnTo>
                  <a:lnTo>
                    <a:pt x="633" y="411"/>
                  </a:lnTo>
                  <a:lnTo>
                    <a:pt x="663" y="406"/>
                  </a:lnTo>
                  <a:lnTo>
                    <a:pt x="695" y="398"/>
                  </a:lnTo>
                  <a:lnTo>
                    <a:pt x="728" y="386"/>
                  </a:lnTo>
                  <a:lnTo>
                    <a:pt x="760" y="371"/>
                  </a:lnTo>
                  <a:lnTo>
                    <a:pt x="788" y="351"/>
                  </a:lnTo>
                  <a:lnTo>
                    <a:pt x="810" y="329"/>
                  </a:lnTo>
                  <a:lnTo>
                    <a:pt x="827" y="305"/>
                  </a:lnTo>
                  <a:lnTo>
                    <a:pt x="838" y="283"/>
                  </a:lnTo>
                  <a:lnTo>
                    <a:pt x="844" y="258"/>
                  </a:lnTo>
                  <a:lnTo>
                    <a:pt x="847" y="237"/>
                  </a:lnTo>
                  <a:lnTo>
                    <a:pt x="847" y="217"/>
                  </a:lnTo>
                  <a:lnTo>
                    <a:pt x="845" y="20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Freeform 77"/>
            <p:cNvSpPr/>
            <p:nvPr/>
          </p:nvSpPr>
          <p:spPr>
            <a:xfrm>
              <a:off x="7889760" y="5351400"/>
              <a:ext cx="379440" cy="11448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482" h="148">
                  <a:moveTo>
                    <a:pt x="481" y="18"/>
                  </a:moveTo>
                  <a:lnTo>
                    <a:pt x="480" y="19"/>
                  </a:lnTo>
                  <a:lnTo>
                    <a:pt x="479" y="23"/>
                  </a:lnTo>
                  <a:lnTo>
                    <a:pt x="477" y="29"/>
                  </a:lnTo>
                  <a:lnTo>
                    <a:pt x="473" y="39"/>
                  </a:lnTo>
                  <a:lnTo>
                    <a:pt x="467" y="49"/>
                  </a:lnTo>
                  <a:lnTo>
                    <a:pt x="460" y="61"/>
                  </a:lnTo>
                  <a:lnTo>
                    <a:pt x="450" y="75"/>
                  </a:lnTo>
                  <a:lnTo>
                    <a:pt x="437" y="89"/>
                  </a:lnTo>
                  <a:lnTo>
                    <a:pt x="419" y="100"/>
                  </a:lnTo>
                  <a:lnTo>
                    <a:pt x="402" y="112"/>
                  </a:lnTo>
                  <a:lnTo>
                    <a:pt x="384" y="120"/>
                  </a:lnTo>
                  <a:lnTo>
                    <a:pt x="367" y="128"/>
                  </a:lnTo>
                  <a:lnTo>
                    <a:pt x="349" y="134"/>
                  </a:lnTo>
                  <a:lnTo>
                    <a:pt x="334" y="138"/>
                  </a:lnTo>
                  <a:lnTo>
                    <a:pt x="319" y="142"/>
                  </a:lnTo>
                  <a:lnTo>
                    <a:pt x="307" y="146"/>
                  </a:lnTo>
                  <a:lnTo>
                    <a:pt x="292" y="147"/>
                  </a:lnTo>
                  <a:lnTo>
                    <a:pt x="277" y="148"/>
                  </a:lnTo>
                  <a:lnTo>
                    <a:pt x="260" y="147"/>
                  </a:lnTo>
                  <a:lnTo>
                    <a:pt x="243" y="147"/>
                  </a:lnTo>
                  <a:lnTo>
                    <a:pt x="225" y="145"/>
                  </a:lnTo>
                  <a:lnTo>
                    <a:pt x="209" y="143"/>
                  </a:lnTo>
                  <a:lnTo>
                    <a:pt x="192" y="138"/>
                  </a:lnTo>
                  <a:lnTo>
                    <a:pt x="178" y="135"/>
                  </a:lnTo>
                  <a:lnTo>
                    <a:pt x="159" y="126"/>
                  </a:lnTo>
                  <a:lnTo>
                    <a:pt x="135" y="114"/>
                  </a:lnTo>
                  <a:lnTo>
                    <a:pt x="106" y="98"/>
                  </a:lnTo>
                  <a:lnTo>
                    <a:pt x="77" y="81"/>
                  </a:lnTo>
                  <a:lnTo>
                    <a:pt x="48" y="63"/>
                  </a:lnTo>
                  <a:lnTo>
                    <a:pt x="24" y="49"/>
                  </a:lnTo>
                  <a:lnTo>
                    <a:pt x="8" y="39"/>
                  </a:lnTo>
                  <a:lnTo>
                    <a:pt x="3" y="34"/>
                  </a:lnTo>
                  <a:lnTo>
                    <a:pt x="0" y="0"/>
                  </a:lnTo>
                  <a:lnTo>
                    <a:pt x="5" y="2"/>
                  </a:lnTo>
                  <a:lnTo>
                    <a:pt x="22" y="13"/>
                  </a:lnTo>
                  <a:lnTo>
                    <a:pt x="45" y="28"/>
                  </a:lnTo>
                  <a:lnTo>
                    <a:pt x="74" y="47"/>
                  </a:lnTo>
                  <a:lnTo>
                    <a:pt x="103" y="65"/>
                  </a:lnTo>
                  <a:lnTo>
                    <a:pt x="133" y="81"/>
                  </a:lnTo>
                  <a:lnTo>
                    <a:pt x="157" y="94"/>
                  </a:lnTo>
                  <a:lnTo>
                    <a:pt x="175" y="100"/>
                  </a:lnTo>
                  <a:lnTo>
                    <a:pt x="191" y="103"/>
                  </a:lnTo>
                  <a:lnTo>
                    <a:pt x="215" y="106"/>
                  </a:lnTo>
                  <a:lnTo>
                    <a:pt x="244" y="108"/>
                  </a:lnTo>
                  <a:lnTo>
                    <a:pt x="279" y="109"/>
                  </a:lnTo>
                  <a:lnTo>
                    <a:pt x="315" y="106"/>
                  </a:lnTo>
                  <a:lnTo>
                    <a:pt x="350" y="98"/>
                  </a:lnTo>
                  <a:lnTo>
                    <a:pt x="385" y="84"/>
                  </a:lnTo>
                  <a:lnTo>
                    <a:pt x="416" y="63"/>
                  </a:lnTo>
                  <a:lnTo>
                    <a:pt x="440" y="39"/>
                  </a:lnTo>
                  <a:lnTo>
                    <a:pt x="457" y="22"/>
                  </a:lnTo>
                  <a:lnTo>
                    <a:pt x="469" y="11"/>
                  </a:lnTo>
                  <a:lnTo>
                    <a:pt x="477" y="5"/>
                  </a:lnTo>
                  <a:lnTo>
                    <a:pt x="480" y="2"/>
                  </a:lnTo>
                  <a:lnTo>
                    <a:pt x="482" y="4"/>
                  </a:lnTo>
                  <a:lnTo>
                    <a:pt x="481" y="10"/>
                  </a:lnTo>
                  <a:lnTo>
                    <a:pt x="481" y="18"/>
                  </a:lnTo>
                  <a:close/>
                </a:path>
              </a:pathLst>
            </a:custGeom>
            <a:solidFill>
              <a:srgbClr val="e6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78"/>
            <p:cNvSpPr/>
            <p:nvPr/>
          </p:nvSpPr>
          <p:spPr>
            <a:xfrm>
              <a:off x="7885080" y="5168880"/>
              <a:ext cx="385920" cy="27000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492" h="348">
                  <a:moveTo>
                    <a:pt x="477" y="145"/>
                  </a:moveTo>
                  <a:lnTo>
                    <a:pt x="477" y="147"/>
                  </a:lnTo>
                  <a:lnTo>
                    <a:pt x="481" y="154"/>
                  </a:lnTo>
                  <a:lnTo>
                    <a:pt x="484" y="165"/>
                  </a:lnTo>
                  <a:lnTo>
                    <a:pt x="488" y="179"/>
                  </a:lnTo>
                  <a:lnTo>
                    <a:pt x="491" y="195"/>
                  </a:lnTo>
                  <a:lnTo>
                    <a:pt x="492" y="211"/>
                  </a:lnTo>
                  <a:lnTo>
                    <a:pt x="489" y="226"/>
                  </a:lnTo>
                  <a:lnTo>
                    <a:pt x="485" y="243"/>
                  </a:lnTo>
                  <a:lnTo>
                    <a:pt x="475" y="256"/>
                  </a:lnTo>
                  <a:lnTo>
                    <a:pt x="463" y="273"/>
                  </a:lnTo>
                  <a:lnTo>
                    <a:pt x="445" y="290"/>
                  </a:lnTo>
                  <a:lnTo>
                    <a:pt x="424" y="307"/>
                  </a:lnTo>
                  <a:lnTo>
                    <a:pt x="398" y="321"/>
                  </a:lnTo>
                  <a:lnTo>
                    <a:pt x="369" y="335"/>
                  </a:lnTo>
                  <a:lnTo>
                    <a:pt x="335" y="343"/>
                  </a:lnTo>
                  <a:lnTo>
                    <a:pt x="299" y="348"/>
                  </a:lnTo>
                  <a:lnTo>
                    <a:pt x="264" y="348"/>
                  </a:lnTo>
                  <a:lnTo>
                    <a:pt x="235" y="347"/>
                  </a:lnTo>
                  <a:lnTo>
                    <a:pt x="210" y="345"/>
                  </a:lnTo>
                  <a:lnTo>
                    <a:pt x="192" y="343"/>
                  </a:lnTo>
                  <a:lnTo>
                    <a:pt x="177" y="338"/>
                  </a:lnTo>
                  <a:lnTo>
                    <a:pt x="165" y="335"/>
                  </a:lnTo>
                  <a:lnTo>
                    <a:pt x="158" y="331"/>
                  </a:lnTo>
                  <a:lnTo>
                    <a:pt x="152" y="330"/>
                  </a:lnTo>
                  <a:lnTo>
                    <a:pt x="142" y="324"/>
                  </a:lnTo>
                  <a:lnTo>
                    <a:pt x="125" y="315"/>
                  </a:lnTo>
                  <a:lnTo>
                    <a:pt x="103" y="301"/>
                  </a:lnTo>
                  <a:lnTo>
                    <a:pt x="78" y="288"/>
                  </a:lnTo>
                  <a:lnTo>
                    <a:pt x="54" y="272"/>
                  </a:lnTo>
                  <a:lnTo>
                    <a:pt x="32" y="258"/>
                  </a:lnTo>
                  <a:lnTo>
                    <a:pt x="17" y="245"/>
                  </a:lnTo>
                  <a:lnTo>
                    <a:pt x="9" y="237"/>
                  </a:lnTo>
                  <a:lnTo>
                    <a:pt x="4" y="229"/>
                  </a:lnTo>
                  <a:lnTo>
                    <a:pt x="2" y="219"/>
                  </a:lnTo>
                  <a:lnTo>
                    <a:pt x="0" y="205"/>
                  </a:lnTo>
                  <a:lnTo>
                    <a:pt x="0" y="193"/>
                  </a:lnTo>
                  <a:lnTo>
                    <a:pt x="0" y="179"/>
                  </a:lnTo>
                  <a:lnTo>
                    <a:pt x="0" y="168"/>
                  </a:lnTo>
                  <a:lnTo>
                    <a:pt x="1" y="159"/>
                  </a:lnTo>
                  <a:lnTo>
                    <a:pt x="2" y="156"/>
                  </a:lnTo>
                  <a:lnTo>
                    <a:pt x="4" y="149"/>
                  </a:lnTo>
                  <a:lnTo>
                    <a:pt x="13" y="137"/>
                  </a:lnTo>
                  <a:lnTo>
                    <a:pt x="26" y="119"/>
                  </a:lnTo>
                  <a:lnTo>
                    <a:pt x="42" y="99"/>
                  </a:lnTo>
                  <a:lnTo>
                    <a:pt x="60" y="77"/>
                  </a:lnTo>
                  <a:lnTo>
                    <a:pt x="82" y="55"/>
                  </a:lnTo>
                  <a:lnTo>
                    <a:pt x="104" y="36"/>
                  </a:lnTo>
                  <a:lnTo>
                    <a:pt x="127" y="23"/>
                  </a:lnTo>
                  <a:lnTo>
                    <a:pt x="153" y="13"/>
                  </a:lnTo>
                  <a:lnTo>
                    <a:pt x="185" y="6"/>
                  </a:lnTo>
                  <a:lnTo>
                    <a:pt x="221" y="1"/>
                  </a:lnTo>
                  <a:lnTo>
                    <a:pt x="258" y="0"/>
                  </a:lnTo>
                  <a:lnTo>
                    <a:pt x="294" y="0"/>
                  </a:lnTo>
                  <a:lnTo>
                    <a:pt x="326" y="4"/>
                  </a:lnTo>
                  <a:lnTo>
                    <a:pt x="353" y="10"/>
                  </a:lnTo>
                  <a:lnTo>
                    <a:pt x="373" y="20"/>
                  </a:lnTo>
                  <a:lnTo>
                    <a:pt x="387" y="29"/>
                  </a:lnTo>
                  <a:lnTo>
                    <a:pt x="400" y="38"/>
                  </a:lnTo>
                  <a:lnTo>
                    <a:pt x="412" y="46"/>
                  </a:lnTo>
                  <a:lnTo>
                    <a:pt x="425" y="59"/>
                  </a:lnTo>
                  <a:lnTo>
                    <a:pt x="436" y="72"/>
                  </a:lnTo>
                  <a:lnTo>
                    <a:pt x="449" y="91"/>
                  </a:lnTo>
                  <a:lnTo>
                    <a:pt x="463" y="115"/>
                  </a:lnTo>
                  <a:lnTo>
                    <a:pt x="477" y="145"/>
                  </a:lnTo>
                  <a:close/>
                </a:path>
              </a:pathLst>
            </a:cu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79"/>
            <p:cNvSpPr/>
            <p:nvPr/>
          </p:nvSpPr>
          <p:spPr>
            <a:xfrm>
              <a:off x="7926480" y="5207040"/>
              <a:ext cx="320760" cy="21096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411" h="273">
                  <a:moveTo>
                    <a:pt x="1" y="115"/>
                  </a:moveTo>
                  <a:lnTo>
                    <a:pt x="0" y="118"/>
                  </a:lnTo>
                  <a:lnTo>
                    <a:pt x="0" y="129"/>
                  </a:lnTo>
                  <a:lnTo>
                    <a:pt x="1" y="145"/>
                  </a:lnTo>
                  <a:lnTo>
                    <a:pt x="8" y="165"/>
                  </a:lnTo>
                  <a:lnTo>
                    <a:pt x="19" y="187"/>
                  </a:lnTo>
                  <a:lnTo>
                    <a:pt x="38" y="211"/>
                  </a:lnTo>
                  <a:lnTo>
                    <a:pt x="67" y="232"/>
                  </a:lnTo>
                  <a:lnTo>
                    <a:pt x="109" y="253"/>
                  </a:lnTo>
                  <a:lnTo>
                    <a:pt x="156" y="267"/>
                  </a:lnTo>
                  <a:lnTo>
                    <a:pt x="205" y="273"/>
                  </a:lnTo>
                  <a:lnTo>
                    <a:pt x="253" y="271"/>
                  </a:lnTo>
                  <a:lnTo>
                    <a:pt x="299" y="263"/>
                  </a:lnTo>
                  <a:lnTo>
                    <a:pt x="338" y="248"/>
                  </a:lnTo>
                  <a:lnTo>
                    <a:pt x="371" y="230"/>
                  </a:lnTo>
                  <a:lnTo>
                    <a:pt x="395" y="206"/>
                  </a:lnTo>
                  <a:lnTo>
                    <a:pt x="408" y="182"/>
                  </a:lnTo>
                  <a:lnTo>
                    <a:pt x="411" y="153"/>
                  </a:lnTo>
                  <a:lnTo>
                    <a:pt x="406" y="125"/>
                  </a:lnTo>
                  <a:lnTo>
                    <a:pt x="395" y="96"/>
                  </a:lnTo>
                  <a:lnTo>
                    <a:pt x="383" y="70"/>
                  </a:lnTo>
                  <a:lnTo>
                    <a:pt x="367" y="46"/>
                  </a:lnTo>
                  <a:lnTo>
                    <a:pt x="355" y="29"/>
                  </a:lnTo>
                  <a:lnTo>
                    <a:pt x="345" y="16"/>
                  </a:lnTo>
                  <a:lnTo>
                    <a:pt x="342" y="13"/>
                  </a:lnTo>
                  <a:lnTo>
                    <a:pt x="336" y="129"/>
                  </a:lnTo>
                  <a:lnTo>
                    <a:pt x="264" y="0"/>
                  </a:lnTo>
                  <a:lnTo>
                    <a:pt x="271" y="146"/>
                  </a:lnTo>
                  <a:lnTo>
                    <a:pt x="193" y="6"/>
                  </a:lnTo>
                  <a:lnTo>
                    <a:pt x="205" y="154"/>
                  </a:lnTo>
                  <a:lnTo>
                    <a:pt x="127" y="23"/>
                  </a:lnTo>
                  <a:lnTo>
                    <a:pt x="128" y="150"/>
                  </a:lnTo>
                  <a:lnTo>
                    <a:pt x="56" y="49"/>
                  </a:lnTo>
                  <a:lnTo>
                    <a:pt x="66" y="144"/>
                  </a:lnTo>
                  <a:lnTo>
                    <a:pt x="1" y="11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80"/>
            <p:cNvSpPr/>
            <p:nvPr/>
          </p:nvSpPr>
          <p:spPr>
            <a:xfrm>
              <a:off x="7985160" y="5335560"/>
              <a:ext cx="244440" cy="651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14" h="88">
                  <a:moveTo>
                    <a:pt x="0" y="39"/>
                  </a:moveTo>
                  <a:lnTo>
                    <a:pt x="0" y="40"/>
                  </a:lnTo>
                  <a:lnTo>
                    <a:pt x="2" y="44"/>
                  </a:lnTo>
                  <a:lnTo>
                    <a:pt x="8" y="51"/>
                  </a:lnTo>
                  <a:lnTo>
                    <a:pt x="19" y="61"/>
                  </a:lnTo>
                  <a:lnTo>
                    <a:pt x="34" y="69"/>
                  </a:lnTo>
                  <a:lnTo>
                    <a:pt x="56" y="77"/>
                  </a:lnTo>
                  <a:lnTo>
                    <a:pt x="84" y="83"/>
                  </a:lnTo>
                  <a:lnTo>
                    <a:pt x="123" y="88"/>
                  </a:lnTo>
                  <a:lnTo>
                    <a:pt x="163" y="86"/>
                  </a:lnTo>
                  <a:lnTo>
                    <a:pt x="200" y="80"/>
                  </a:lnTo>
                  <a:lnTo>
                    <a:pt x="231" y="69"/>
                  </a:lnTo>
                  <a:lnTo>
                    <a:pt x="260" y="57"/>
                  </a:lnTo>
                  <a:lnTo>
                    <a:pt x="283" y="42"/>
                  </a:lnTo>
                  <a:lnTo>
                    <a:pt x="300" y="29"/>
                  </a:lnTo>
                  <a:lnTo>
                    <a:pt x="310" y="15"/>
                  </a:lnTo>
                  <a:lnTo>
                    <a:pt x="314" y="6"/>
                  </a:lnTo>
                  <a:lnTo>
                    <a:pt x="311" y="0"/>
                  </a:lnTo>
                  <a:lnTo>
                    <a:pt x="302" y="1"/>
                  </a:lnTo>
                  <a:lnTo>
                    <a:pt x="287" y="6"/>
                  </a:lnTo>
                  <a:lnTo>
                    <a:pt x="268" y="15"/>
                  </a:lnTo>
                  <a:lnTo>
                    <a:pt x="245" y="24"/>
                  </a:lnTo>
                  <a:lnTo>
                    <a:pt x="218" y="34"/>
                  </a:lnTo>
                  <a:lnTo>
                    <a:pt x="188" y="41"/>
                  </a:lnTo>
                  <a:lnTo>
                    <a:pt x="156" y="45"/>
                  </a:lnTo>
                  <a:lnTo>
                    <a:pt x="123" y="43"/>
                  </a:lnTo>
                  <a:lnTo>
                    <a:pt x="93" y="42"/>
                  </a:lnTo>
                  <a:lnTo>
                    <a:pt x="66" y="39"/>
                  </a:lnTo>
                  <a:lnTo>
                    <a:pt x="44" y="36"/>
                  </a:lnTo>
                  <a:lnTo>
                    <a:pt x="23" y="34"/>
                  </a:lnTo>
                  <a:lnTo>
                    <a:pt x="10" y="34"/>
                  </a:lnTo>
                  <a:lnTo>
                    <a:pt x="1" y="34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81"/>
            <p:cNvSpPr/>
            <p:nvPr/>
          </p:nvSpPr>
          <p:spPr>
            <a:xfrm>
              <a:off x="7624800" y="5289480"/>
              <a:ext cx="250920" cy="684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22" h="90">
                  <a:moveTo>
                    <a:pt x="3" y="32"/>
                  </a:moveTo>
                  <a:lnTo>
                    <a:pt x="0" y="84"/>
                  </a:lnTo>
                  <a:lnTo>
                    <a:pt x="293" y="78"/>
                  </a:lnTo>
                  <a:lnTo>
                    <a:pt x="322" y="90"/>
                  </a:lnTo>
                  <a:lnTo>
                    <a:pt x="316" y="0"/>
                  </a:lnTo>
                  <a:lnTo>
                    <a:pt x="292" y="24"/>
                  </a:lnTo>
                  <a:lnTo>
                    <a:pt x="3" y="32"/>
                  </a:lnTo>
                  <a:close/>
                </a:path>
              </a:pathLst>
            </a:custGeom>
            <a:solidFill>
              <a:srgbClr val="4f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Freeform 82"/>
            <p:cNvSpPr/>
            <p:nvPr/>
          </p:nvSpPr>
          <p:spPr>
            <a:xfrm>
              <a:off x="7624800" y="5349960"/>
              <a:ext cx="250920" cy="284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23" h="43">
                  <a:moveTo>
                    <a:pt x="0" y="9"/>
                  </a:moveTo>
                  <a:lnTo>
                    <a:pt x="15" y="38"/>
                  </a:lnTo>
                  <a:lnTo>
                    <a:pt x="25" y="37"/>
                  </a:lnTo>
                  <a:lnTo>
                    <a:pt x="56" y="36"/>
                  </a:lnTo>
                  <a:lnTo>
                    <a:pt x="99" y="34"/>
                  </a:lnTo>
                  <a:lnTo>
                    <a:pt x="149" y="32"/>
                  </a:lnTo>
                  <a:lnTo>
                    <a:pt x="198" y="28"/>
                  </a:lnTo>
                  <a:lnTo>
                    <a:pt x="242" y="27"/>
                  </a:lnTo>
                  <a:lnTo>
                    <a:pt x="273" y="27"/>
                  </a:lnTo>
                  <a:lnTo>
                    <a:pt x="286" y="28"/>
                  </a:lnTo>
                  <a:lnTo>
                    <a:pt x="287" y="28"/>
                  </a:lnTo>
                  <a:lnTo>
                    <a:pt x="291" y="31"/>
                  </a:lnTo>
                  <a:lnTo>
                    <a:pt x="296" y="34"/>
                  </a:lnTo>
                  <a:lnTo>
                    <a:pt x="303" y="37"/>
                  </a:lnTo>
                  <a:lnTo>
                    <a:pt x="309" y="40"/>
                  </a:lnTo>
                  <a:lnTo>
                    <a:pt x="314" y="42"/>
                  </a:lnTo>
                  <a:lnTo>
                    <a:pt x="318" y="42"/>
                  </a:lnTo>
                  <a:lnTo>
                    <a:pt x="320" y="43"/>
                  </a:lnTo>
                  <a:lnTo>
                    <a:pt x="320" y="36"/>
                  </a:lnTo>
                  <a:lnTo>
                    <a:pt x="321" y="27"/>
                  </a:lnTo>
                  <a:lnTo>
                    <a:pt x="322" y="19"/>
                  </a:lnTo>
                  <a:lnTo>
                    <a:pt x="323" y="16"/>
                  </a:lnTo>
                  <a:lnTo>
                    <a:pt x="294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83"/>
            <p:cNvSpPr/>
            <p:nvPr/>
          </p:nvSpPr>
          <p:spPr>
            <a:xfrm>
              <a:off x="7831080" y="5049720"/>
              <a:ext cx="262080" cy="17316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36" h="225">
                  <a:moveTo>
                    <a:pt x="7" y="59"/>
                  </a:moveTo>
                  <a:lnTo>
                    <a:pt x="5" y="60"/>
                  </a:lnTo>
                  <a:lnTo>
                    <a:pt x="4" y="67"/>
                  </a:lnTo>
                  <a:lnTo>
                    <a:pt x="2" y="76"/>
                  </a:lnTo>
                  <a:lnTo>
                    <a:pt x="1" y="88"/>
                  </a:lnTo>
                  <a:lnTo>
                    <a:pt x="0" y="100"/>
                  </a:lnTo>
                  <a:lnTo>
                    <a:pt x="1" y="117"/>
                  </a:lnTo>
                  <a:lnTo>
                    <a:pt x="5" y="133"/>
                  </a:lnTo>
                  <a:lnTo>
                    <a:pt x="14" y="149"/>
                  </a:lnTo>
                  <a:lnTo>
                    <a:pt x="23" y="164"/>
                  </a:lnTo>
                  <a:lnTo>
                    <a:pt x="33" y="178"/>
                  </a:lnTo>
                  <a:lnTo>
                    <a:pt x="42" y="191"/>
                  </a:lnTo>
                  <a:lnTo>
                    <a:pt x="51" y="203"/>
                  </a:lnTo>
                  <a:lnTo>
                    <a:pt x="57" y="212"/>
                  </a:lnTo>
                  <a:lnTo>
                    <a:pt x="62" y="219"/>
                  </a:lnTo>
                  <a:lnTo>
                    <a:pt x="66" y="223"/>
                  </a:lnTo>
                  <a:lnTo>
                    <a:pt x="68" y="225"/>
                  </a:lnTo>
                  <a:lnTo>
                    <a:pt x="70" y="221"/>
                  </a:lnTo>
                  <a:lnTo>
                    <a:pt x="78" y="210"/>
                  </a:lnTo>
                  <a:lnTo>
                    <a:pt x="89" y="194"/>
                  </a:lnTo>
                  <a:lnTo>
                    <a:pt x="105" y="176"/>
                  </a:lnTo>
                  <a:lnTo>
                    <a:pt x="120" y="157"/>
                  </a:lnTo>
                  <a:lnTo>
                    <a:pt x="136" y="142"/>
                  </a:lnTo>
                  <a:lnTo>
                    <a:pt x="151" y="130"/>
                  </a:lnTo>
                  <a:lnTo>
                    <a:pt x="164" y="127"/>
                  </a:lnTo>
                  <a:lnTo>
                    <a:pt x="180" y="125"/>
                  </a:lnTo>
                  <a:lnTo>
                    <a:pt x="204" y="125"/>
                  </a:lnTo>
                  <a:lnTo>
                    <a:pt x="232" y="124"/>
                  </a:lnTo>
                  <a:lnTo>
                    <a:pt x="262" y="124"/>
                  </a:lnTo>
                  <a:lnTo>
                    <a:pt x="290" y="121"/>
                  </a:lnTo>
                  <a:lnTo>
                    <a:pt x="314" y="119"/>
                  </a:lnTo>
                  <a:lnTo>
                    <a:pt x="329" y="115"/>
                  </a:lnTo>
                  <a:lnTo>
                    <a:pt x="336" y="111"/>
                  </a:lnTo>
                  <a:lnTo>
                    <a:pt x="330" y="101"/>
                  </a:lnTo>
                  <a:lnTo>
                    <a:pt x="318" y="87"/>
                  </a:lnTo>
                  <a:lnTo>
                    <a:pt x="299" y="68"/>
                  </a:lnTo>
                  <a:lnTo>
                    <a:pt x="278" y="50"/>
                  </a:lnTo>
                  <a:lnTo>
                    <a:pt x="251" y="31"/>
                  </a:lnTo>
                  <a:lnTo>
                    <a:pt x="224" y="15"/>
                  </a:lnTo>
                  <a:lnTo>
                    <a:pt x="197" y="4"/>
                  </a:lnTo>
                  <a:lnTo>
                    <a:pt x="172" y="0"/>
                  </a:lnTo>
                  <a:lnTo>
                    <a:pt x="145" y="0"/>
                  </a:lnTo>
                  <a:lnTo>
                    <a:pt x="118" y="5"/>
                  </a:lnTo>
                  <a:lnTo>
                    <a:pt x="91" y="13"/>
                  </a:lnTo>
                  <a:lnTo>
                    <a:pt x="67" y="23"/>
                  </a:lnTo>
                  <a:lnTo>
                    <a:pt x="43" y="33"/>
                  </a:lnTo>
                  <a:lnTo>
                    <a:pt x="25" y="43"/>
                  </a:lnTo>
                  <a:lnTo>
                    <a:pt x="13" y="52"/>
                  </a:lnTo>
                  <a:lnTo>
                    <a:pt x="7" y="59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Freeform 84"/>
            <p:cNvSpPr/>
            <p:nvPr/>
          </p:nvSpPr>
          <p:spPr>
            <a:xfrm>
              <a:off x="6450120" y="4697280"/>
              <a:ext cx="1936800" cy="776520"/>
            </a:xfrm>
            <a:custGeom>
              <a:avLst/>
              <a:gdLst>
                <a:gd name="textAreaLeft" fmla="*/ 0 w 1936800"/>
                <a:gd name="textAreaRight" fmla="*/ 1937160 w 1936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2448" h="990">
                  <a:moveTo>
                    <a:pt x="380" y="0"/>
                  </a:moveTo>
                  <a:lnTo>
                    <a:pt x="361" y="31"/>
                  </a:lnTo>
                  <a:lnTo>
                    <a:pt x="312" y="115"/>
                  </a:lnTo>
                  <a:lnTo>
                    <a:pt x="244" y="233"/>
                  </a:lnTo>
                  <a:lnTo>
                    <a:pt x="169" y="372"/>
                  </a:lnTo>
                  <a:lnTo>
                    <a:pt x="95" y="508"/>
                  </a:lnTo>
                  <a:lnTo>
                    <a:pt x="35" y="630"/>
                  </a:lnTo>
                  <a:lnTo>
                    <a:pt x="0" y="717"/>
                  </a:lnTo>
                  <a:lnTo>
                    <a:pt x="2" y="754"/>
                  </a:lnTo>
                  <a:lnTo>
                    <a:pt x="72" y="767"/>
                  </a:lnTo>
                  <a:lnTo>
                    <a:pt x="223" y="796"/>
                  </a:lnTo>
                  <a:lnTo>
                    <a:pt x="425" y="833"/>
                  </a:lnTo>
                  <a:lnTo>
                    <a:pt x="652" y="877"/>
                  </a:lnTo>
                  <a:lnTo>
                    <a:pt x="876" y="917"/>
                  </a:lnTo>
                  <a:lnTo>
                    <a:pt x="1071" y="954"/>
                  </a:lnTo>
                  <a:lnTo>
                    <a:pt x="1207" y="980"/>
                  </a:lnTo>
                  <a:lnTo>
                    <a:pt x="1260" y="990"/>
                  </a:lnTo>
                  <a:lnTo>
                    <a:pt x="1394" y="839"/>
                  </a:lnTo>
                  <a:lnTo>
                    <a:pt x="1390" y="834"/>
                  </a:lnTo>
                  <a:lnTo>
                    <a:pt x="1378" y="825"/>
                  </a:lnTo>
                  <a:lnTo>
                    <a:pt x="1364" y="809"/>
                  </a:lnTo>
                  <a:lnTo>
                    <a:pt x="1347" y="789"/>
                  </a:lnTo>
                  <a:lnTo>
                    <a:pt x="1329" y="763"/>
                  </a:lnTo>
                  <a:lnTo>
                    <a:pt x="1315" y="735"/>
                  </a:lnTo>
                  <a:lnTo>
                    <a:pt x="1304" y="703"/>
                  </a:lnTo>
                  <a:lnTo>
                    <a:pt x="1300" y="669"/>
                  </a:lnTo>
                  <a:lnTo>
                    <a:pt x="1304" y="636"/>
                  </a:lnTo>
                  <a:lnTo>
                    <a:pt x="1315" y="609"/>
                  </a:lnTo>
                  <a:lnTo>
                    <a:pt x="1330" y="587"/>
                  </a:lnTo>
                  <a:lnTo>
                    <a:pt x="1349" y="572"/>
                  </a:lnTo>
                  <a:lnTo>
                    <a:pt x="1367" y="558"/>
                  </a:lnTo>
                  <a:lnTo>
                    <a:pt x="1383" y="552"/>
                  </a:lnTo>
                  <a:lnTo>
                    <a:pt x="1394" y="547"/>
                  </a:lnTo>
                  <a:lnTo>
                    <a:pt x="1399" y="546"/>
                  </a:lnTo>
                  <a:lnTo>
                    <a:pt x="1393" y="541"/>
                  </a:lnTo>
                  <a:lnTo>
                    <a:pt x="1378" y="526"/>
                  </a:lnTo>
                  <a:lnTo>
                    <a:pt x="1358" y="504"/>
                  </a:lnTo>
                  <a:lnTo>
                    <a:pt x="1337" y="479"/>
                  </a:lnTo>
                  <a:lnTo>
                    <a:pt x="1314" y="451"/>
                  </a:lnTo>
                  <a:lnTo>
                    <a:pt x="1295" y="424"/>
                  </a:lnTo>
                  <a:lnTo>
                    <a:pt x="1281" y="399"/>
                  </a:lnTo>
                  <a:lnTo>
                    <a:pt x="1277" y="380"/>
                  </a:lnTo>
                  <a:lnTo>
                    <a:pt x="1280" y="360"/>
                  </a:lnTo>
                  <a:lnTo>
                    <a:pt x="1291" y="339"/>
                  </a:lnTo>
                  <a:lnTo>
                    <a:pt x="1307" y="317"/>
                  </a:lnTo>
                  <a:lnTo>
                    <a:pt x="1327" y="297"/>
                  </a:lnTo>
                  <a:lnTo>
                    <a:pt x="1345" y="278"/>
                  </a:lnTo>
                  <a:lnTo>
                    <a:pt x="1361" y="262"/>
                  </a:lnTo>
                  <a:lnTo>
                    <a:pt x="1372" y="252"/>
                  </a:lnTo>
                  <a:lnTo>
                    <a:pt x="1377" y="249"/>
                  </a:lnTo>
                  <a:lnTo>
                    <a:pt x="1691" y="375"/>
                  </a:lnTo>
                  <a:lnTo>
                    <a:pt x="1699" y="371"/>
                  </a:lnTo>
                  <a:lnTo>
                    <a:pt x="1725" y="363"/>
                  </a:lnTo>
                  <a:lnTo>
                    <a:pt x="1761" y="352"/>
                  </a:lnTo>
                  <a:lnTo>
                    <a:pt x="1804" y="341"/>
                  </a:lnTo>
                  <a:lnTo>
                    <a:pt x="1849" y="328"/>
                  </a:lnTo>
                  <a:lnTo>
                    <a:pt x="1895" y="320"/>
                  </a:lnTo>
                  <a:lnTo>
                    <a:pt x="1934" y="316"/>
                  </a:lnTo>
                  <a:lnTo>
                    <a:pt x="1964" y="320"/>
                  </a:lnTo>
                  <a:lnTo>
                    <a:pt x="1991" y="329"/>
                  </a:lnTo>
                  <a:lnTo>
                    <a:pt x="2024" y="344"/>
                  </a:lnTo>
                  <a:lnTo>
                    <a:pt x="2060" y="360"/>
                  </a:lnTo>
                  <a:lnTo>
                    <a:pt x="2096" y="379"/>
                  </a:lnTo>
                  <a:lnTo>
                    <a:pt x="2127" y="395"/>
                  </a:lnTo>
                  <a:lnTo>
                    <a:pt x="2155" y="410"/>
                  </a:lnTo>
                  <a:lnTo>
                    <a:pt x="2173" y="420"/>
                  </a:lnTo>
                  <a:lnTo>
                    <a:pt x="2181" y="424"/>
                  </a:lnTo>
                  <a:lnTo>
                    <a:pt x="2185" y="552"/>
                  </a:lnTo>
                  <a:lnTo>
                    <a:pt x="2191" y="553"/>
                  </a:lnTo>
                  <a:lnTo>
                    <a:pt x="2209" y="561"/>
                  </a:lnTo>
                  <a:lnTo>
                    <a:pt x="2233" y="571"/>
                  </a:lnTo>
                  <a:lnTo>
                    <a:pt x="2265" y="587"/>
                  </a:lnTo>
                  <a:lnTo>
                    <a:pt x="2296" y="606"/>
                  </a:lnTo>
                  <a:lnTo>
                    <a:pt x="2327" y="631"/>
                  </a:lnTo>
                  <a:lnTo>
                    <a:pt x="2354" y="658"/>
                  </a:lnTo>
                  <a:lnTo>
                    <a:pt x="2374" y="691"/>
                  </a:lnTo>
                  <a:lnTo>
                    <a:pt x="2388" y="699"/>
                  </a:lnTo>
                  <a:lnTo>
                    <a:pt x="2402" y="665"/>
                  </a:lnTo>
                  <a:lnTo>
                    <a:pt x="2414" y="600"/>
                  </a:lnTo>
                  <a:lnTo>
                    <a:pt x="2426" y="518"/>
                  </a:lnTo>
                  <a:lnTo>
                    <a:pt x="2435" y="432"/>
                  </a:lnTo>
                  <a:lnTo>
                    <a:pt x="2441" y="355"/>
                  </a:lnTo>
                  <a:lnTo>
                    <a:pt x="2446" y="300"/>
                  </a:lnTo>
                  <a:lnTo>
                    <a:pt x="2448" y="279"/>
                  </a:lnTo>
                  <a:lnTo>
                    <a:pt x="2359" y="266"/>
                  </a:lnTo>
                  <a:lnTo>
                    <a:pt x="2124" y="232"/>
                  </a:lnTo>
                  <a:lnTo>
                    <a:pt x="1793" y="185"/>
                  </a:lnTo>
                  <a:lnTo>
                    <a:pt x="1414" y="133"/>
                  </a:lnTo>
                  <a:lnTo>
                    <a:pt x="1033" y="79"/>
                  </a:lnTo>
                  <a:lnTo>
                    <a:pt x="702" y="36"/>
                  </a:lnTo>
                  <a:lnTo>
                    <a:pt x="469" y="5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85"/>
            <p:cNvSpPr/>
            <p:nvPr/>
          </p:nvSpPr>
          <p:spPr>
            <a:xfrm>
              <a:off x="7596360" y="5405400"/>
              <a:ext cx="771480" cy="303120"/>
            </a:xfrm>
            <a:custGeom>
              <a:avLst/>
              <a:gdLst>
                <a:gd name="textAreaLeft" fmla="*/ 0 w 771480"/>
                <a:gd name="textAreaRight" fmla="*/ 771840 w 77148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981" h="390">
                  <a:moveTo>
                    <a:pt x="17" y="74"/>
                  </a:moveTo>
                  <a:lnTo>
                    <a:pt x="339" y="46"/>
                  </a:lnTo>
                  <a:lnTo>
                    <a:pt x="345" y="50"/>
                  </a:lnTo>
                  <a:lnTo>
                    <a:pt x="363" y="65"/>
                  </a:lnTo>
                  <a:lnTo>
                    <a:pt x="388" y="84"/>
                  </a:lnTo>
                  <a:lnTo>
                    <a:pt x="424" y="108"/>
                  </a:lnTo>
                  <a:lnTo>
                    <a:pt x="463" y="132"/>
                  </a:lnTo>
                  <a:lnTo>
                    <a:pt x="509" y="154"/>
                  </a:lnTo>
                  <a:lnTo>
                    <a:pt x="556" y="171"/>
                  </a:lnTo>
                  <a:lnTo>
                    <a:pt x="604" y="182"/>
                  </a:lnTo>
                  <a:lnTo>
                    <a:pt x="651" y="181"/>
                  </a:lnTo>
                  <a:lnTo>
                    <a:pt x="698" y="172"/>
                  </a:lnTo>
                  <a:lnTo>
                    <a:pt x="743" y="156"/>
                  </a:lnTo>
                  <a:lnTo>
                    <a:pt x="785" y="135"/>
                  </a:lnTo>
                  <a:lnTo>
                    <a:pt x="821" y="111"/>
                  </a:lnTo>
                  <a:lnTo>
                    <a:pt x="850" y="86"/>
                  </a:lnTo>
                  <a:lnTo>
                    <a:pt x="872" y="63"/>
                  </a:lnTo>
                  <a:lnTo>
                    <a:pt x="886" y="42"/>
                  </a:lnTo>
                  <a:lnTo>
                    <a:pt x="893" y="25"/>
                  </a:lnTo>
                  <a:lnTo>
                    <a:pt x="907" y="14"/>
                  </a:lnTo>
                  <a:lnTo>
                    <a:pt x="921" y="7"/>
                  </a:lnTo>
                  <a:lnTo>
                    <a:pt x="939" y="3"/>
                  </a:lnTo>
                  <a:lnTo>
                    <a:pt x="954" y="0"/>
                  </a:lnTo>
                  <a:lnTo>
                    <a:pt x="967" y="1"/>
                  </a:lnTo>
                  <a:lnTo>
                    <a:pt x="976" y="1"/>
                  </a:lnTo>
                  <a:lnTo>
                    <a:pt x="981" y="2"/>
                  </a:lnTo>
                  <a:lnTo>
                    <a:pt x="957" y="390"/>
                  </a:lnTo>
                  <a:lnTo>
                    <a:pt x="0" y="150"/>
                  </a:lnTo>
                  <a:lnTo>
                    <a:pt x="17" y="74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86"/>
            <p:cNvSpPr/>
            <p:nvPr/>
          </p:nvSpPr>
          <p:spPr>
            <a:xfrm>
              <a:off x="6559560" y="4780080"/>
              <a:ext cx="600120" cy="59220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762" h="756">
                  <a:moveTo>
                    <a:pt x="225" y="165"/>
                  </a:moveTo>
                  <a:lnTo>
                    <a:pt x="213" y="182"/>
                  </a:lnTo>
                  <a:lnTo>
                    <a:pt x="185" y="229"/>
                  </a:lnTo>
                  <a:lnTo>
                    <a:pt x="146" y="294"/>
                  </a:lnTo>
                  <a:lnTo>
                    <a:pt x="104" y="371"/>
                  </a:lnTo>
                  <a:lnTo>
                    <a:pt x="60" y="447"/>
                  </a:lnTo>
                  <a:lnTo>
                    <a:pt x="24" y="514"/>
                  </a:lnTo>
                  <a:lnTo>
                    <a:pt x="2" y="563"/>
                  </a:lnTo>
                  <a:lnTo>
                    <a:pt x="0" y="584"/>
                  </a:lnTo>
                  <a:lnTo>
                    <a:pt x="38" y="593"/>
                  </a:lnTo>
                  <a:lnTo>
                    <a:pt x="126" y="614"/>
                  </a:lnTo>
                  <a:lnTo>
                    <a:pt x="248" y="642"/>
                  </a:lnTo>
                  <a:lnTo>
                    <a:pt x="388" y="673"/>
                  </a:lnTo>
                  <a:lnTo>
                    <a:pt x="525" y="702"/>
                  </a:lnTo>
                  <a:lnTo>
                    <a:pt x="645" y="729"/>
                  </a:lnTo>
                  <a:lnTo>
                    <a:pt x="730" y="748"/>
                  </a:lnTo>
                  <a:lnTo>
                    <a:pt x="762" y="756"/>
                  </a:lnTo>
                  <a:lnTo>
                    <a:pt x="750" y="747"/>
                  </a:lnTo>
                  <a:lnTo>
                    <a:pt x="719" y="726"/>
                  </a:lnTo>
                  <a:lnTo>
                    <a:pt x="674" y="692"/>
                  </a:lnTo>
                  <a:lnTo>
                    <a:pt x="624" y="649"/>
                  </a:lnTo>
                  <a:lnTo>
                    <a:pt x="571" y="596"/>
                  </a:lnTo>
                  <a:lnTo>
                    <a:pt x="525" y="538"/>
                  </a:lnTo>
                  <a:lnTo>
                    <a:pt x="491" y="475"/>
                  </a:lnTo>
                  <a:lnTo>
                    <a:pt x="475" y="409"/>
                  </a:lnTo>
                  <a:lnTo>
                    <a:pt x="474" y="340"/>
                  </a:lnTo>
                  <a:lnTo>
                    <a:pt x="485" y="276"/>
                  </a:lnTo>
                  <a:lnTo>
                    <a:pt x="501" y="215"/>
                  </a:lnTo>
                  <a:lnTo>
                    <a:pt x="522" y="162"/>
                  </a:lnTo>
                  <a:lnTo>
                    <a:pt x="542" y="116"/>
                  </a:lnTo>
                  <a:lnTo>
                    <a:pt x="561" y="80"/>
                  </a:lnTo>
                  <a:lnTo>
                    <a:pt x="574" y="58"/>
                  </a:lnTo>
                  <a:lnTo>
                    <a:pt x="580" y="50"/>
                  </a:lnTo>
                  <a:lnTo>
                    <a:pt x="336" y="0"/>
                  </a:lnTo>
                  <a:lnTo>
                    <a:pt x="225" y="165"/>
                  </a:lnTo>
                  <a:close/>
                </a:path>
              </a:pathLst>
            </a:custGeom>
            <a:solidFill>
              <a:srgbClr val="def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87"/>
            <p:cNvSpPr/>
            <p:nvPr/>
          </p:nvSpPr>
          <p:spPr>
            <a:xfrm>
              <a:off x="7005600" y="4060800"/>
              <a:ext cx="835200" cy="227160"/>
            </a:xfrm>
            <a:custGeom>
              <a:avLst/>
              <a:gdLst>
                <a:gd name="textAreaLeft" fmla="*/ 0 w 835200"/>
                <a:gd name="textAreaRight" fmla="*/ 835560 w 83520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1058" h="295">
                  <a:moveTo>
                    <a:pt x="153" y="6"/>
                  </a:moveTo>
                  <a:lnTo>
                    <a:pt x="0" y="278"/>
                  </a:lnTo>
                  <a:lnTo>
                    <a:pt x="304" y="295"/>
                  </a:lnTo>
                  <a:lnTo>
                    <a:pt x="309" y="288"/>
                  </a:lnTo>
                  <a:lnTo>
                    <a:pt x="324" y="274"/>
                  </a:lnTo>
                  <a:lnTo>
                    <a:pt x="349" y="253"/>
                  </a:lnTo>
                  <a:lnTo>
                    <a:pt x="381" y="228"/>
                  </a:lnTo>
                  <a:lnTo>
                    <a:pt x="418" y="202"/>
                  </a:lnTo>
                  <a:lnTo>
                    <a:pt x="462" y="180"/>
                  </a:lnTo>
                  <a:lnTo>
                    <a:pt x="508" y="163"/>
                  </a:lnTo>
                  <a:lnTo>
                    <a:pt x="558" y="155"/>
                  </a:lnTo>
                  <a:lnTo>
                    <a:pt x="616" y="150"/>
                  </a:lnTo>
                  <a:lnTo>
                    <a:pt x="690" y="144"/>
                  </a:lnTo>
                  <a:lnTo>
                    <a:pt x="773" y="136"/>
                  </a:lnTo>
                  <a:lnTo>
                    <a:pt x="856" y="130"/>
                  </a:lnTo>
                  <a:lnTo>
                    <a:pt x="932" y="122"/>
                  </a:lnTo>
                  <a:lnTo>
                    <a:pt x="997" y="116"/>
                  </a:lnTo>
                  <a:lnTo>
                    <a:pt x="1041" y="112"/>
                  </a:lnTo>
                  <a:lnTo>
                    <a:pt x="1058" y="111"/>
                  </a:lnTo>
                  <a:lnTo>
                    <a:pt x="1018" y="104"/>
                  </a:lnTo>
                  <a:lnTo>
                    <a:pt x="917" y="89"/>
                  </a:lnTo>
                  <a:lnTo>
                    <a:pt x="773" y="68"/>
                  </a:lnTo>
                  <a:lnTo>
                    <a:pt x="609" y="46"/>
                  </a:lnTo>
                  <a:lnTo>
                    <a:pt x="443" y="24"/>
                  </a:lnTo>
                  <a:lnTo>
                    <a:pt x="299" y="8"/>
                  </a:lnTo>
                  <a:lnTo>
                    <a:pt x="195" y="0"/>
                  </a:lnTo>
                  <a:lnTo>
                    <a:pt x="153" y="6"/>
                  </a:lnTo>
                  <a:close/>
                </a:path>
              </a:pathLst>
            </a:custGeom>
            <a:solidFill>
              <a:srgbClr val="de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88"/>
            <p:cNvSpPr/>
            <p:nvPr/>
          </p:nvSpPr>
          <p:spPr>
            <a:xfrm>
              <a:off x="6334200" y="3687840"/>
              <a:ext cx="1284120" cy="1241280"/>
            </a:xfrm>
            <a:custGeom>
              <a:avLst/>
              <a:gdLst>
                <a:gd name="textAreaLeft" fmla="*/ 0 w 1284120"/>
                <a:gd name="textAreaRight" fmla="*/ 1284480 w 1284120"/>
                <a:gd name="textAreaTop" fmla="*/ 0 h 1241280"/>
                <a:gd name="textAreaBottom" fmla="*/ 1241640 h 1241280"/>
              </a:gdLst>
              <a:ahLst/>
              <a:rect l="textAreaLeft" t="textAreaTop" r="textAreaRight" b="textAreaBottom"/>
              <a:pathLst>
                <a:path w="1624" h="1580">
                  <a:moveTo>
                    <a:pt x="18" y="1580"/>
                  </a:moveTo>
                  <a:lnTo>
                    <a:pt x="12" y="1537"/>
                  </a:lnTo>
                  <a:lnTo>
                    <a:pt x="4" y="1419"/>
                  </a:lnTo>
                  <a:lnTo>
                    <a:pt x="0" y="1246"/>
                  </a:lnTo>
                  <a:lnTo>
                    <a:pt x="8" y="1035"/>
                  </a:lnTo>
                  <a:lnTo>
                    <a:pt x="32" y="803"/>
                  </a:lnTo>
                  <a:lnTo>
                    <a:pt x="85" y="570"/>
                  </a:lnTo>
                  <a:lnTo>
                    <a:pt x="171" y="352"/>
                  </a:lnTo>
                  <a:lnTo>
                    <a:pt x="298" y="169"/>
                  </a:lnTo>
                  <a:lnTo>
                    <a:pt x="471" y="49"/>
                  </a:lnTo>
                  <a:lnTo>
                    <a:pt x="678" y="0"/>
                  </a:lnTo>
                  <a:lnTo>
                    <a:pt x="901" y="5"/>
                  </a:lnTo>
                  <a:lnTo>
                    <a:pt x="1122" y="47"/>
                  </a:lnTo>
                  <a:lnTo>
                    <a:pt x="1322" y="109"/>
                  </a:lnTo>
                  <a:lnTo>
                    <a:pt x="1485" y="175"/>
                  </a:lnTo>
                  <a:lnTo>
                    <a:pt x="1591" y="226"/>
                  </a:lnTo>
                  <a:lnTo>
                    <a:pt x="1624" y="247"/>
                  </a:lnTo>
                  <a:lnTo>
                    <a:pt x="845" y="218"/>
                  </a:lnTo>
                  <a:lnTo>
                    <a:pt x="588" y="671"/>
                  </a:lnTo>
                  <a:lnTo>
                    <a:pt x="287" y="667"/>
                  </a:lnTo>
                  <a:lnTo>
                    <a:pt x="321" y="1149"/>
                  </a:lnTo>
                  <a:lnTo>
                    <a:pt x="18" y="158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89"/>
            <p:cNvSpPr/>
            <p:nvPr/>
          </p:nvSpPr>
          <p:spPr>
            <a:xfrm>
              <a:off x="5940360" y="4067280"/>
              <a:ext cx="523800" cy="2268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65" h="295">
                  <a:moveTo>
                    <a:pt x="0" y="0"/>
                  </a:moveTo>
                  <a:lnTo>
                    <a:pt x="618" y="295"/>
                  </a:lnTo>
                  <a:lnTo>
                    <a:pt x="665" y="15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Freeform 90"/>
            <p:cNvSpPr/>
            <p:nvPr/>
          </p:nvSpPr>
          <p:spPr>
            <a:xfrm>
              <a:off x="5945040" y="3728880"/>
              <a:ext cx="628920" cy="36684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366840"/>
                <a:gd name="textAreaBottom" fmla="*/ 366840 h 366840"/>
              </a:gdLst>
              <a:ahLst/>
              <a:rect l="textAreaLeft" t="textAreaTop" r="textAreaRight" b="textAreaBottom"/>
              <a:pathLst>
                <a:path w="797" h="470">
                  <a:moveTo>
                    <a:pt x="0" y="0"/>
                  </a:moveTo>
                  <a:lnTo>
                    <a:pt x="717" y="470"/>
                  </a:lnTo>
                  <a:lnTo>
                    <a:pt x="797" y="347"/>
                  </a:lnTo>
                  <a:lnTo>
                    <a:pt x="763" y="333"/>
                  </a:lnTo>
                  <a:lnTo>
                    <a:pt x="673" y="295"/>
                  </a:lnTo>
                  <a:lnTo>
                    <a:pt x="547" y="240"/>
                  </a:lnTo>
                  <a:lnTo>
                    <a:pt x="402" y="179"/>
                  </a:lnTo>
                  <a:lnTo>
                    <a:pt x="255" y="115"/>
                  </a:lnTo>
                  <a:lnTo>
                    <a:pt x="128" y="60"/>
                  </a:lnTo>
                  <a:lnTo>
                    <a:pt x="36" y="1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Freeform 91"/>
            <p:cNvSpPr/>
            <p:nvPr/>
          </p:nvSpPr>
          <p:spPr>
            <a:xfrm>
              <a:off x="6392880" y="3587760"/>
              <a:ext cx="309600" cy="33336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397" h="428">
                  <a:moveTo>
                    <a:pt x="0" y="0"/>
                  </a:moveTo>
                  <a:lnTo>
                    <a:pt x="291" y="428"/>
                  </a:lnTo>
                  <a:lnTo>
                    <a:pt x="397" y="339"/>
                  </a:lnTo>
                  <a:lnTo>
                    <a:pt x="379" y="324"/>
                  </a:lnTo>
                  <a:lnTo>
                    <a:pt x="333" y="286"/>
                  </a:lnTo>
                  <a:lnTo>
                    <a:pt x="269" y="231"/>
                  </a:lnTo>
                  <a:lnTo>
                    <a:pt x="196" y="171"/>
                  </a:lnTo>
                  <a:lnTo>
                    <a:pt x="123" y="108"/>
                  </a:lnTo>
                  <a:lnTo>
                    <a:pt x="59" y="54"/>
                  </a:lnTo>
                  <a:lnTo>
                    <a:pt x="14" y="1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Rectangle 92"/>
          <p:cNvSpPr/>
          <p:nvPr/>
        </p:nvSpPr>
        <p:spPr>
          <a:xfrm>
            <a:off x="1841400" y="4268880"/>
            <a:ext cx="431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д спуст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 основе идеи и правил бадминто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никла новая игра — теннис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8" name="Group 93"/>
          <p:cNvGrpSpPr/>
          <p:nvPr/>
        </p:nvGrpSpPr>
        <p:grpSpPr>
          <a:xfrm>
            <a:off x="419040" y="1535040"/>
            <a:ext cx="2079720" cy="1898640"/>
            <a:chOff x="419040" y="1535040"/>
            <a:chExt cx="2079720" cy="1898640"/>
          </a:xfrm>
        </p:grpSpPr>
        <p:sp>
          <p:nvSpPr>
            <p:cNvPr id="409" name="Freeform 94"/>
            <p:cNvSpPr/>
            <p:nvPr/>
          </p:nvSpPr>
          <p:spPr>
            <a:xfrm>
              <a:off x="663480" y="1535040"/>
              <a:ext cx="795600" cy="870120"/>
            </a:xfrm>
            <a:custGeom>
              <a:avLst/>
              <a:gdLst>
                <a:gd name="textAreaLeft" fmla="*/ 0 w 795600"/>
                <a:gd name="textAreaRight" fmla="*/ 795960 w 795600"/>
                <a:gd name="textAreaTop" fmla="*/ 0 h 870120"/>
                <a:gd name="textAreaBottom" fmla="*/ 870480 h 870120"/>
              </a:gdLst>
              <a:ahLst/>
              <a:rect l="textAreaLeft" t="textAreaTop" r="textAreaRight" b="textAreaBottom"/>
              <a:pathLst>
                <a:path w="1511" h="1653">
                  <a:moveTo>
                    <a:pt x="1091" y="531"/>
                  </a:moveTo>
                  <a:lnTo>
                    <a:pt x="1182" y="655"/>
                  </a:lnTo>
                  <a:lnTo>
                    <a:pt x="1255" y="783"/>
                  </a:lnTo>
                  <a:lnTo>
                    <a:pt x="1308" y="909"/>
                  </a:lnTo>
                  <a:lnTo>
                    <a:pt x="1342" y="1030"/>
                  </a:lnTo>
                  <a:lnTo>
                    <a:pt x="1353" y="1141"/>
                  </a:lnTo>
                  <a:lnTo>
                    <a:pt x="1345" y="1241"/>
                  </a:lnTo>
                  <a:lnTo>
                    <a:pt x="1313" y="1326"/>
                  </a:lnTo>
                  <a:lnTo>
                    <a:pt x="1260" y="1393"/>
                  </a:lnTo>
                  <a:lnTo>
                    <a:pt x="1184" y="1434"/>
                  </a:lnTo>
                  <a:lnTo>
                    <a:pt x="1091" y="1451"/>
                  </a:lnTo>
                  <a:lnTo>
                    <a:pt x="988" y="1445"/>
                  </a:lnTo>
                  <a:lnTo>
                    <a:pt x="877" y="1416"/>
                  </a:lnTo>
                  <a:lnTo>
                    <a:pt x="761" y="1363"/>
                  </a:lnTo>
                  <a:lnTo>
                    <a:pt x="645" y="1290"/>
                  </a:lnTo>
                  <a:lnTo>
                    <a:pt x="531" y="1197"/>
                  </a:lnTo>
                  <a:lnTo>
                    <a:pt x="427" y="1083"/>
                  </a:lnTo>
                  <a:lnTo>
                    <a:pt x="335" y="955"/>
                  </a:lnTo>
                  <a:lnTo>
                    <a:pt x="265" y="825"/>
                  </a:lnTo>
                  <a:lnTo>
                    <a:pt x="213" y="695"/>
                  </a:lnTo>
                  <a:lnTo>
                    <a:pt x="185" y="571"/>
                  </a:lnTo>
                  <a:lnTo>
                    <a:pt x="176" y="454"/>
                  </a:lnTo>
                  <a:lnTo>
                    <a:pt x="189" y="350"/>
                  </a:lnTo>
                  <a:lnTo>
                    <a:pt x="222" y="263"/>
                  </a:lnTo>
                  <a:lnTo>
                    <a:pt x="279" y="198"/>
                  </a:lnTo>
                  <a:lnTo>
                    <a:pt x="353" y="156"/>
                  </a:lnTo>
                  <a:lnTo>
                    <a:pt x="443" y="143"/>
                  </a:lnTo>
                  <a:lnTo>
                    <a:pt x="542" y="152"/>
                  </a:lnTo>
                  <a:lnTo>
                    <a:pt x="650" y="186"/>
                  </a:lnTo>
                  <a:lnTo>
                    <a:pt x="762" y="242"/>
                  </a:lnTo>
                  <a:lnTo>
                    <a:pt x="875" y="318"/>
                  </a:lnTo>
                  <a:lnTo>
                    <a:pt x="986" y="415"/>
                  </a:lnTo>
                  <a:lnTo>
                    <a:pt x="1091" y="531"/>
                  </a:lnTo>
                  <a:close/>
                  <a:moveTo>
                    <a:pt x="261" y="26"/>
                  </a:moveTo>
                  <a:lnTo>
                    <a:pt x="249" y="32"/>
                  </a:lnTo>
                  <a:lnTo>
                    <a:pt x="220" y="52"/>
                  </a:lnTo>
                  <a:lnTo>
                    <a:pt x="179" y="81"/>
                  </a:lnTo>
                  <a:lnTo>
                    <a:pt x="132" y="122"/>
                  </a:lnTo>
                  <a:lnTo>
                    <a:pt x="84" y="169"/>
                  </a:lnTo>
                  <a:lnTo>
                    <a:pt x="44" y="225"/>
                  </a:lnTo>
                  <a:lnTo>
                    <a:pt x="14" y="287"/>
                  </a:lnTo>
                  <a:lnTo>
                    <a:pt x="3" y="353"/>
                  </a:lnTo>
                  <a:lnTo>
                    <a:pt x="0" y="424"/>
                  </a:lnTo>
                  <a:lnTo>
                    <a:pt x="3" y="507"/>
                  </a:lnTo>
                  <a:lnTo>
                    <a:pt x="12" y="600"/>
                  </a:lnTo>
                  <a:lnTo>
                    <a:pt x="35" y="704"/>
                  </a:lnTo>
                  <a:lnTo>
                    <a:pt x="68" y="815"/>
                  </a:lnTo>
                  <a:lnTo>
                    <a:pt x="119" y="938"/>
                  </a:lnTo>
                  <a:lnTo>
                    <a:pt x="191" y="1067"/>
                  </a:lnTo>
                  <a:lnTo>
                    <a:pt x="286" y="1206"/>
                  </a:lnTo>
                  <a:lnTo>
                    <a:pt x="399" y="1333"/>
                  </a:lnTo>
                  <a:lnTo>
                    <a:pt x="525" y="1433"/>
                  </a:lnTo>
                  <a:lnTo>
                    <a:pt x="653" y="1510"/>
                  </a:lnTo>
                  <a:lnTo>
                    <a:pt x="781" y="1568"/>
                  </a:lnTo>
                  <a:lnTo>
                    <a:pt x="900" y="1606"/>
                  </a:lnTo>
                  <a:lnTo>
                    <a:pt x="1004" y="1632"/>
                  </a:lnTo>
                  <a:lnTo>
                    <a:pt x="1086" y="1646"/>
                  </a:lnTo>
                  <a:lnTo>
                    <a:pt x="1141" y="1653"/>
                  </a:lnTo>
                  <a:lnTo>
                    <a:pt x="1185" y="1651"/>
                  </a:lnTo>
                  <a:lnTo>
                    <a:pt x="1239" y="1635"/>
                  </a:lnTo>
                  <a:lnTo>
                    <a:pt x="1297" y="1606"/>
                  </a:lnTo>
                  <a:lnTo>
                    <a:pt x="1358" y="1565"/>
                  </a:lnTo>
                  <a:lnTo>
                    <a:pt x="1412" y="1510"/>
                  </a:lnTo>
                  <a:lnTo>
                    <a:pt x="1460" y="1443"/>
                  </a:lnTo>
                  <a:lnTo>
                    <a:pt x="1494" y="1364"/>
                  </a:lnTo>
                  <a:lnTo>
                    <a:pt x="1511" y="1274"/>
                  </a:lnTo>
                  <a:lnTo>
                    <a:pt x="1511" y="1175"/>
                  </a:lnTo>
                  <a:lnTo>
                    <a:pt x="1505" y="1072"/>
                  </a:lnTo>
                  <a:lnTo>
                    <a:pt x="1487" y="965"/>
                  </a:lnTo>
                  <a:lnTo>
                    <a:pt x="1458" y="854"/>
                  </a:lnTo>
                  <a:lnTo>
                    <a:pt x="1415" y="740"/>
                  </a:lnTo>
                  <a:lnTo>
                    <a:pt x="1357" y="623"/>
                  </a:lnTo>
                  <a:lnTo>
                    <a:pt x="1280" y="506"/>
                  </a:lnTo>
                  <a:lnTo>
                    <a:pt x="1185" y="390"/>
                  </a:lnTo>
                  <a:lnTo>
                    <a:pt x="1074" y="279"/>
                  </a:lnTo>
                  <a:lnTo>
                    <a:pt x="959" y="186"/>
                  </a:lnTo>
                  <a:lnTo>
                    <a:pt x="839" y="111"/>
                  </a:lnTo>
                  <a:lnTo>
                    <a:pt x="719" y="56"/>
                  </a:lnTo>
                  <a:lnTo>
                    <a:pt x="597" y="17"/>
                  </a:lnTo>
                  <a:lnTo>
                    <a:pt x="480" y="0"/>
                  </a:lnTo>
                  <a:lnTo>
                    <a:pt x="366" y="1"/>
                  </a:lnTo>
                  <a:lnTo>
                    <a:pt x="26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95"/>
            <p:cNvSpPr/>
            <p:nvPr/>
          </p:nvSpPr>
          <p:spPr>
            <a:xfrm>
              <a:off x="441360" y="2833560"/>
              <a:ext cx="1692360" cy="600120"/>
            </a:xfrm>
            <a:custGeom>
              <a:avLst/>
              <a:gdLst>
                <a:gd name="textAreaLeft" fmla="*/ 0 w 1692360"/>
                <a:gd name="textAreaRight" fmla="*/ 1692720 w 16923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3207" h="1145">
                  <a:moveTo>
                    <a:pt x="0" y="47"/>
                  </a:moveTo>
                  <a:lnTo>
                    <a:pt x="17" y="64"/>
                  </a:lnTo>
                  <a:lnTo>
                    <a:pt x="66" y="113"/>
                  </a:lnTo>
                  <a:lnTo>
                    <a:pt x="144" y="181"/>
                  </a:lnTo>
                  <a:lnTo>
                    <a:pt x="246" y="259"/>
                  </a:lnTo>
                  <a:lnTo>
                    <a:pt x="366" y="334"/>
                  </a:lnTo>
                  <a:lnTo>
                    <a:pt x="503" y="399"/>
                  </a:lnTo>
                  <a:lnTo>
                    <a:pt x="653" y="442"/>
                  </a:lnTo>
                  <a:lnTo>
                    <a:pt x="810" y="454"/>
                  </a:lnTo>
                  <a:lnTo>
                    <a:pt x="964" y="432"/>
                  </a:lnTo>
                  <a:lnTo>
                    <a:pt x="1111" y="392"/>
                  </a:lnTo>
                  <a:lnTo>
                    <a:pt x="1243" y="339"/>
                  </a:lnTo>
                  <a:lnTo>
                    <a:pt x="1360" y="282"/>
                  </a:lnTo>
                  <a:lnTo>
                    <a:pt x="1457" y="226"/>
                  </a:lnTo>
                  <a:lnTo>
                    <a:pt x="1531" y="178"/>
                  </a:lnTo>
                  <a:lnTo>
                    <a:pt x="1577" y="144"/>
                  </a:lnTo>
                  <a:lnTo>
                    <a:pt x="1594" y="132"/>
                  </a:lnTo>
                  <a:lnTo>
                    <a:pt x="1952" y="0"/>
                  </a:lnTo>
                  <a:lnTo>
                    <a:pt x="2315" y="34"/>
                  </a:lnTo>
                  <a:lnTo>
                    <a:pt x="2513" y="219"/>
                  </a:lnTo>
                  <a:lnTo>
                    <a:pt x="2541" y="401"/>
                  </a:lnTo>
                  <a:lnTo>
                    <a:pt x="2958" y="991"/>
                  </a:lnTo>
                  <a:lnTo>
                    <a:pt x="3207" y="1094"/>
                  </a:lnTo>
                  <a:lnTo>
                    <a:pt x="3131" y="1101"/>
                  </a:lnTo>
                  <a:lnTo>
                    <a:pt x="2928" y="1118"/>
                  </a:lnTo>
                  <a:lnTo>
                    <a:pt x="2628" y="1135"/>
                  </a:lnTo>
                  <a:lnTo>
                    <a:pt x="2266" y="1145"/>
                  </a:lnTo>
                  <a:lnTo>
                    <a:pt x="1869" y="1134"/>
                  </a:lnTo>
                  <a:lnTo>
                    <a:pt x="1471" y="1100"/>
                  </a:lnTo>
                  <a:lnTo>
                    <a:pt x="1103" y="1030"/>
                  </a:lnTo>
                  <a:lnTo>
                    <a:pt x="798" y="916"/>
                  </a:lnTo>
                  <a:lnTo>
                    <a:pt x="560" y="771"/>
                  </a:lnTo>
                  <a:lnTo>
                    <a:pt x="374" y="623"/>
                  </a:lnTo>
                  <a:lnTo>
                    <a:pt x="234" y="476"/>
                  </a:lnTo>
                  <a:lnTo>
                    <a:pt x="134" y="342"/>
                  </a:lnTo>
                  <a:lnTo>
                    <a:pt x="65" y="223"/>
                  </a:lnTo>
                  <a:lnTo>
                    <a:pt x="25" y="130"/>
                  </a:lnTo>
                  <a:lnTo>
                    <a:pt x="4" y="68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b3c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96"/>
            <p:cNvSpPr/>
            <p:nvPr/>
          </p:nvSpPr>
          <p:spPr>
            <a:xfrm>
              <a:off x="1244520" y="2585880"/>
              <a:ext cx="1230480" cy="379440"/>
            </a:xfrm>
            <a:custGeom>
              <a:avLst/>
              <a:gdLst>
                <a:gd name="textAreaLeft" fmla="*/ 0 w 1230480"/>
                <a:gd name="textAreaRight" fmla="*/ 1230840 w 123048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2333" h="728">
                  <a:moveTo>
                    <a:pt x="0" y="509"/>
                  </a:moveTo>
                  <a:lnTo>
                    <a:pt x="5" y="515"/>
                  </a:lnTo>
                  <a:lnTo>
                    <a:pt x="29" y="510"/>
                  </a:lnTo>
                  <a:lnTo>
                    <a:pt x="63" y="493"/>
                  </a:lnTo>
                  <a:lnTo>
                    <a:pt x="109" y="472"/>
                  </a:lnTo>
                  <a:lnTo>
                    <a:pt x="160" y="445"/>
                  </a:lnTo>
                  <a:lnTo>
                    <a:pt x="214" y="420"/>
                  </a:lnTo>
                  <a:lnTo>
                    <a:pt x="268" y="396"/>
                  </a:lnTo>
                  <a:lnTo>
                    <a:pt x="319" y="381"/>
                  </a:lnTo>
                  <a:lnTo>
                    <a:pt x="397" y="377"/>
                  </a:lnTo>
                  <a:lnTo>
                    <a:pt x="531" y="387"/>
                  </a:lnTo>
                  <a:lnTo>
                    <a:pt x="696" y="408"/>
                  </a:lnTo>
                  <a:lnTo>
                    <a:pt x="875" y="436"/>
                  </a:lnTo>
                  <a:lnTo>
                    <a:pt x="1047" y="464"/>
                  </a:lnTo>
                  <a:lnTo>
                    <a:pt x="1196" y="490"/>
                  </a:lnTo>
                  <a:lnTo>
                    <a:pt x="1301" y="509"/>
                  </a:lnTo>
                  <a:lnTo>
                    <a:pt x="1342" y="518"/>
                  </a:lnTo>
                  <a:lnTo>
                    <a:pt x="1464" y="600"/>
                  </a:lnTo>
                  <a:lnTo>
                    <a:pt x="2158" y="728"/>
                  </a:lnTo>
                  <a:lnTo>
                    <a:pt x="2333" y="593"/>
                  </a:lnTo>
                  <a:lnTo>
                    <a:pt x="2233" y="399"/>
                  </a:lnTo>
                  <a:lnTo>
                    <a:pt x="1476" y="299"/>
                  </a:lnTo>
                  <a:lnTo>
                    <a:pt x="1367" y="358"/>
                  </a:lnTo>
                  <a:lnTo>
                    <a:pt x="372" y="189"/>
                  </a:lnTo>
                  <a:lnTo>
                    <a:pt x="78" y="0"/>
                  </a:lnTo>
                  <a:lnTo>
                    <a:pt x="0" y="50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97"/>
            <p:cNvSpPr/>
            <p:nvPr/>
          </p:nvSpPr>
          <p:spPr>
            <a:xfrm>
              <a:off x="419040" y="2349360"/>
              <a:ext cx="898560" cy="663840"/>
            </a:xfrm>
            <a:custGeom>
              <a:avLst/>
              <a:gdLst>
                <a:gd name="textAreaLeft" fmla="*/ 0 w 898560"/>
                <a:gd name="textAreaRight" fmla="*/ 898920 w 898560"/>
                <a:gd name="textAreaTop" fmla="*/ 0 h 663840"/>
                <a:gd name="textAreaBottom" fmla="*/ 664200 h 663840"/>
              </a:gdLst>
              <a:ahLst/>
              <a:rect l="textAreaLeft" t="textAreaTop" r="textAreaRight" b="textAreaBottom"/>
              <a:pathLst>
                <a:path w="1706" h="1262">
                  <a:moveTo>
                    <a:pt x="883" y="174"/>
                  </a:moveTo>
                  <a:lnTo>
                    <a:pt x="1021" y="198"/>
                  </a:lnTo>
                  <a:lnTo>
                    <a:pt x="1149" y="238"/>
                  </a:lnTo>
                  <a:lnTo>
                    <a:pt x="1262" y="290"/>
                  </a:lnTo>
                  <a:lnTo>
                    <a:pt x="1360" y="355"/>
                  </a:lnTo>
                  <a:lnTo>
                    <a:pt x="1437" y="428"/>
                  </a:lnTo>
                  <a:lnTo>
                    <a:pt x="1493" y="508"/>
                  </a:lnTo>
                  <a:lnTo>
                    <a:pt x="1525" y="593"/>
                  </a:lnTo>
                  <a:lnTo>
                    <a:pt x="1532" y="681"/>
                  </a:lnTo>
                  <a:lnTo>
                    <a:pt x="1507" y="766"/>
                  </a:lnTo>
                  <a:lnTo>
                    <a:pt x="1459" y="845"/>
                  </a:lnTo>
                  <a:lnTo>
                    <a:pt x="1387" y="915"/>
                  </a:lnTo>
                  <a:lnTo>
                    <a:pt x="1295" y="976"/>
                  </a:lnTo>
                  <a:lnTo>
                    <a:pt x="1186" y="1022"/>
                  </a:lnTo>
                  <a:lnTo>
                    <a:pt x="1066" y="1052"/>
                  </a:lnTo>
                  <a:lnTo>
                    <a:pt x="932" y="1067"/>
                  </a:lnTo>
                  <a:lnTo>
                    <a:pt x="792" y="1062"/>
                  </a:lnTo>
                  <a:lnTo>
                    <a:pt x="654" y="1033"/>
                  </a:lnTo>
                  <a:lnTo>
                    <a:pt x="527" y="989"/>
                  </a:lnTo>
                  <a:lnTo>
                    <a:pt x="413" y="930"/>
                  </a:lnTo>
                  <a:lnTo>
                    <a:pt x="317" y="860"/>
                  </a:lnTo>
                  <a:lnTo>
                    <a:pt x="239" y="779"/>
                  </a:lnTo>
                  <a:lnTo>
                    <a:pt x="182" y="695"/>
                  </a:lnTo>
                  <a:lnTo>
                    <a:pt x="150" y="606"/>
                  </a:lnTo>
                  <a:lnTo>
                    <a:pt x="146" y="519"/>
                  </a:lnTo>
                  <a:lnTo>
                    <a:pt x="168" y="433"/>
                  </a:lnTo>
                  <a:lnTo>
                    <a:pt x="218" y="359"/>
                  </a:lnTo>
                  <a:lnTo>
                    <a:pt x="289" y="293"/>
                  </a:lnTo>
                  <a:lnTo>
                    <a:pt x="382" y="242"/>
                  </a:lnTo>
                  <a:lnTo>
                    <a:pt x="489" y="201"/>
                  </a:lnTo>
                  <a:lnTo>
                    <a:pt x="610" y="176"/>
                  </a:lnTo>
                  <a:lnTo>
                    <a:pt x="742" y="165"/>
                  </a:lnTo>
                  <a:lnTo>
                    <a:pt x="883" y="174"/>
                  </a:lnTo>
                  <a:close/>
                  <a:moveTo>
                    <a:pt x="24" y="405"/>
                  </a:moveTo>
                  <a:lnTo>
                    <a:pt x="20" y="417"/>
                  </a:lnTo>
                  <a:lnTo>
                    <a:pt x="13" y="453"/>
                  </a:lnTo>
                  <a:lnTo>
                    <a:pt x="5" y="504"/>
                  </a:lnTo>
                  <a:lnTo>
                    <a:pt x="1" y="568"/>
                  </a:lnTo>
                  <a:lnTo>
                    <a:pt x="0" y="636"/>
                  </a:lnTo>
                  <a:lnTo>
                    <a:pt x="8" y="708"/>
                  </a:lnTo>
                  <a:lnTo>
                    <a:pt x="28" y="774"/>
                  </a:lnTo>
                  <a:lnTo>
                    <a:pt x="62" y="832"/>
                  </a:lnTo>
                  <a:lnTo>
                    <a:pt x="104" y="885"/>
                  </a:lnTo>
                  <a:lnTo>
                    <a:pt x="158" y="944"/>
                  </a:lnTo>
                  <a:lnTo>
                    <a:pt x="222" y="1005"/>
                  </a:lnTo>
                  <a:lnTo>
                    <a:pt x="301" y="1066"/>
                  </a:lnTo>
                  <a:lnTo>
                    <a:pt x="393" y="1122"/>
                  </a:lnTo>
                  <a:lnTo>
                    <a:pt x="503" y="1175"/>
                  </a:lnTo>
                  <a:lnTo>
                    <a:pt x="631" y="1219"/>
                  </a:lnTo>
                  <a:lnTo>
                    <a:pt x="779" y="1253"/>
                  </a:lnTo>
                  <a:lnTo>
                    <a:pt x="932" y="1262"/>
                  </a:lnTo>
                  <a:lnTo>
                    <a:pt x="1078" y="1245"/>
                  </a:lnTo>
                  <a:lnTo>
                    <a:pt x="1210" y="1207"/>
                  </a:lnTo>
                  <a:lnTo>
                    <a:pt x="1330" y="1157"/>
                  </a:lnTo>
                  <a:lnTo>
                    <a:pt x="1431" y="1099"/>
                  </a:lnTo>
                  <a:lnTo>
                    <a:pt x="1515" y="1043"/>
                  </a:lnTo>
                  <a:lnTo>
                    <a:pt x="1577" y="994"/>
                  </a:lnTo>
                  <a:lnTo>
                    <a:pt x="1618" y="961"/>
                  </a:lnTo>
                  <a:lnTo>
                    <a:pt x="1644" y="926"/>
                  </a:lnTo>
                  <a:lnTo>
                    <a:pt x="1670" y="874"/>
                  </a:lnTo>
                  <a:lnTo>
                    <a:pt x="1692" y="809"/>
                  </a:lnTo>
                  <a:lnTo>
                    <a:pt x="1705" y="735"/>
                  </a:lnTo>
                  <a:lnTo>
                    <a:pt x="1706" y="654"/>
                  </a:lnTo>
                  <a:lnTo>
                    <a:pt x="1696" y="572"/>
                  </a:lnTo>
                  <a:lnTo>
                    <a:pt x="1668" y="488"/>
                  </a:lnTo>
                  <a:lnTo>
                    <a:pt x="1623" y="412"/>
                  </a:lnTo>
                  <a:lnTo>
                    <a:pt x="1561" y="338"/>
                  </a:lnTo>
                  <a:lnTo>
                    <a:pt x="1492" y="268"/>
                  </a:lnTo>
                  <a:lnTo>
                    <a:pt x="1414" y="202"/>
                  </a:lnTo>
                  <a:lnTo>
                    <a:pt x="1327" y="142"/>
                  </a:lnTo>
                  <a:lnTo>
                    <a:pt x="1228" y="90"/>
                  </a:lnTo>
                  <a:lnTo>
                    <a:pt x="1117" y="47"/>
                  </a:lnTo>
                  <a:lnTo>
                    <a:pt x="993" y="17"/>
                  </a:lnTo>
                  <a:lnTo>
                    <a:pt x="858" y="1"/>
                  </a:lnTo>
                  <a:lnTo>
                    <a:pt x="716" y="0"/>
                  </a:lnTo>
                  <a:lnTo>
                    <a:pt x="582" y="16"/>
                  </a:lnTo>
                  <a:lnTo>
                    <a:pt x="457" y="47"/>
                  </a:lnTo>
                  <a:lnTo>
                    <a:pt x="343" y="95"/>
                  </a:lnTo>
                  <a:lnTo>
                    <a:pt x="240" y="154"/>
                  </a:lnTo>
                  <a:lnTo>
                    <a:pt x="152" y="227"/>
                  </a:lnTo>
                  <a:lnTo>
                    <a:pt x="78" y="310"/>
                  </a:lnTo>
                  <a:lnTo>
                    <a:pt x="24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98"/>
            <p:cNvSpPr/>
            <p:nvPr/>
          </p:nvSpPr>
          <p:spPr>
            <a:xfrm>
              <a:off x="434880" y="2370240"/>
              <a:ext cx="1565280" cy="617400"/>
            </a:xfrm>
            <a:custGeom>
              <a:avLst/>
              <a:gdLst>
                <a:gd name="textAreaLeft" fmla="*/ 0 w 1565280"/>
                <a:gd name="textAreaRight" fmla="*/ 1565640 w 1565280"/>
                <a:gd name="textAreaTop" fmla="*/ 0 h 617400"/>
                <a:gd name="textAreaBottom" fmla="*/ 617760 h 617400"/>
              </a:gdLst>
              <a:ahLst/>
              <a:rect l="textAreaLeft" t="textAreaTop" r="textAreaRight" b="textAreaBottom"/>
              <a:pathLst>
                <a:path w="2966" h="1176">
                  <a:moveTo>
                    <a:pt x="37" y="370"/>
                  </a:moveTo>
                  <a:lnTo>
                    <a:pt x="32" y="380"/>
                  </a:lnTo>
                  <a:lnTo>
                    <a:pt x="24" y="410"/>
                  </a:lnTo>
                  <a:lnTo>
                    <a:pt x="13" y="453"/>
                  </a:lnTo>
                  <a:lnTo>
                    <a:pt x="6" y="510"/>
                  </a:lnTo>
                  <a:lnTo>
                    <a:pt x="0" y="571"/>
                  </a:lnTo>
                  <a:lnTo>
                    <a:pt x="6" y="636"/>
                  </a:lnTo>
                  <a:lnTo>
                    <a:pt x="20" y="699"/>
                  </a:lnTo>
                  <a:lnTo>
                    <a:pt x="50" y="759"/>
                  </a:lnTo>
                  <a:lnTo>
                    <a:pt x="93" y="815"/>
                  </a:lnTo>
                  <a:lnTo>
                    <a:pt x="147" y="875"/>
                  </a:lnTo>
                  <a:lnTo>
                    <a:pt x="213" y="933"/>
                  </a:lnTo>
                  <a:lnTo>
                    <a:pt x="293" y="992"/>
                  </a:lnTo>
                  <a:lnTo>
                    <a:pt x="385" y="1045"/>
                  </a:lnTo>
                  <a:lnTo>
                    <a:pt x="493" y="1095"/>
                  </a:lnTo>
                  <a:lnTo>
                    <a:pt x="616" y="1135"/>
                  </a:lnTo>
                  <a:lnTo>
                    <a:pt x="756" y="1167"/>
                  </a:lnTo>
                  <a:lnTo>
                    <a:pt x="898" y="1176"/>
                  </a:lnTo>
                  <a:lnTo>
                    <a:pt x="1034" y="1161"/>
                  </a:lnTo>
                  <a:lnTo>
                    <a:pt x="1160" y="1127"/>
                  </a:lnTo>
                  <a:lnTo>
                    <a:pt x="1273" y="1082"/>
                  </a:lnTo>
                  <a:lnTo>
                    <a:pt x="1370" y="1028"/>
                  </a:lnTo>
                  <a:lnTo>
                    <a:pt x="1450" y="974"/>
                  </a:lnTo>
                  <a:lnTo>
                    <a:pt x="1511" y="925"/>
                  </a:lnTo>
                  <a:lnTo>
                    <a:pt x="1549" y="888"/>
                  </a:lnTo>
                  <a:lnTo>
                    <a:pt x="1580" y="855"/>
                  </a:lnTo>
                  <a:lnTo>
                    <a:pt x="1618" y="827"/>
                  </a:lnTo>
                  <a:lnTo>
                    <a:pt x="1660" y="801"/>
                  </a:lnTo>
                  <a:lnTo>
                    <a:pt x="1708" y="780"/>
                  </a:lnTo>
                  <a:lnTo>
                    <a:pt x="1755" y="760"/>
                  </a:lnTo>
                  <a:lnTo>
                    <a:pt x="1803" y="747"/>
                  </a:lnTo>
                  <a:lnTo>
                    <a:pt x="1848" y="736"/>
                  </a:lnTo>
                  <a:lnTo>
                    <a:pt x="1889" y="733"/>
                  </a:lnTo>
                  <a:lnTo>
                    <a:pt x="1944" y="739"/>
                  </a:lnTo>
                  <a:lnTo>
                    <a:pt x="2066" y="759"/>
                  </a:lnTo>
                  <a:lnTo>
                    <a:pt x="2229" y="785"/>
                  </a:lnTo>
                  <a:lnTo>
                    <a:pt x="2417" y="817"/>
                  </a:lnTo>
                  <a:lnTo>
                    <a:pt x="2602" y="846"/>
                  </a:lnTo>
                  <a:lnTo>
                    <a:pt x="2766" y="872"/>
                  </a:lnTo>
                  <a:lnTo>
                    <a:pt x="2886" y="889"/>
                  </a:lnTo>
                  <a:lnTo>
                    <a:pt x="2943" y="893"/>
                  </a:lnTo>
                  <a:lnTo>
                    <a:pt x="2954" y="885"/>
                  </a:lnTo>
                  <a:lnTo>
                    <a:pt x="2962" y="873"/>
                  </a:lnTo>
                  <a:lnTo>
                    <a:pt x="2966" y="858"/>
                  </a:lnTo>
                  <a:lnTo>
                    <a:pt x="2966" y="843"/>
                  </a:lnTo>
                  <a:lnTo>
                    <a:pt x="2962" y="827"/>
                  </a:lnTo>
                  <a:lnTo>
                    <a:pt x="2956" y="814"/>
                  </a:lnTo>
                  <a:lnTo>
                    <a:pt x="2947" y="806"/>
                  </a:lnTo>
                  <a:lnTo>
                    <a:pt x="2936" y="806"/>
                  </a:lnTo>
                  <a:lnTo>
                    <a:pt x="2882" y="799"/>
                  </a:lnTo>
                  <a:lnTo>
                    <a:pt x="2764" y="784"/>
                  </a:lnTo>
                  <a:lnTo>
                    <a:pt x="2602" y="759"/>
                  </a:lnTo>
                  <a:lnTo>
                    <a:pt x="2420" y="731"/>
                  </a:lnTo>
                  <a:lnTo>
                    <a:pt x="2235" y="700"/>
                  </a:lnTo>
                  <a:lnTo>
                    <a:pt x="2072" y="673"/>
                  </a:lnTo>
                  <a:lnTo>
                    <a:pt x="1953" y="652"/>
                  </a:lnTo>
                  <a:lnTo>
                    <a:pt x="1901" y="640"/>
                  </a:lnTo>
                  <a:lnTo>
                    <a:pt x="1846" y="615"/>
                  </a:lnTo>
                  <a:lnTo>
                    <a:pt x="1799" y="591"/>
                  </a:lnTo>
                  <a:lnTo>
                    <a:pt x="1754" y="567"/>
                  </a:lnTo>
                  <a:lnTo>
                    <a:pt x="1714" y="543"/>
                  </a:lnTo>
                  <a:lnTo>
                    <a:pt x="1676" y="516"/>
                  </a:lnTo>
                  <a:lnTo>
                    <a:pt x="1639" y="484"/>
                  </a:lnTo>
                  <a:lnTo>
                    <a:pt x="1602" y="447"/>
                  </a:lnTo>
                  <a:lnTo>
                    <a:pt x="1565" y="405"/>
                  </a:lnTo>
                  <a:lnTo>
                    <a:pt x="1504" y="336"/>
                  </a:lnTo>
                  <a:lnTo>
                    <a:pt x="1437" y="269"/>
                  </a:lnTo>
                  <a:lnTo>
                    <a:pt x="1359" y="203"/>
                  </a:lnTo>
                  <a:lnTo>
                    <a:pt x="1273" y="144"/>
                  </a:lnTo>
                  <a:lnTo>
                    <a:pt x="1176" y="90"/>
                  </a:lnTo>
                  <a:lnTo>
                    <a:pt x="1069" y="49"/>
                  </a:lnTo>
                  <a:lnTo>
                    <a:pt x="951" y="18"/>
                  </a:lnTo>
                  <a:lnTo>
                    <a:pt x="824" y="3"/>
                  </a:lnTo>
                  <a:lnTo>
                    <a:pt x="692" y="0"/>
                  </a:lnTo>
                  <a:lnTo>
                    <a:pt x="568" y="15"/>
                  </a:lnTo>
                  <a:lnTo>
                    <a:pt x="449" y="43"/>
                  </a:lnTo>
                  <a:lnTo>
                    <a:pt x="341" y="85"/>
                  </a:lnTo>
                  <a:lnTo>
                    <a:pt x="243" y="138"/>
                  </a:lnTo>
                  <a:lnTo>
                    <a:pt x="159" y="204"/>
                  </a:lnTo>
                  <a:lnTo>
                    <a:pt x="89" y="282"/>
                  </a:lnTo>
                  <a:lnTo>
                    <a:pt x="37" y="370"/>
                  </a:lnTo>
                  <a:close/>
                  <a:moveTo>
                    <a:pt x="847" y="103"/>
                  </a:moveTo>
                  <a:lnTo>
                    <a:pt x="987" y="127"/>
                  </a:lnTo>
                  <a:lnTo>
                    <a:pt x="1120" y="168"/>
                  </a:lnTo>
                  <a:lnTo>
                    <a:pt x="1239" y="221"/>
                  </a:lnTo>
                  <a:lnTo>
                    <a:pt x="1343" y="287"/>
                  </a:lnTo>
                  <a:lnTo>
                    <a:pt x="1425" y="362"/>
                  </a:lnTo>
                  <a:lnTo>
                    <a:pt x="1486" y="446"/>
                  </a:lnTo>
                  <a:lnTo>
                    <a:pt x="1519" y="537"/>
                  </a:lnTo>
                  <a:lnTo>
                    <a:pt x="1524" y="633"/>
                  </a:lnTo>
                  <a:lnTo>
                    <a:pt x="1498" y="728"/>
                  </a:lnTo>
                  <a:lnTo>
                    <a:pt x="1446" y="815"/>
                  </a:lnTo>
                  <a:lnTo>
                    <a:pt x="1370" y="892"/>
                  </a:lnTo>
                  <a:lnTo>
                    <a:pt x="1276" y="958"/>
                  </a:lnTo>
                  <a:lnTo>
                    <a:pt x="1162" y="1007"/>
                  </a:lnTo>
                  <a:lnTo>
                    <a:pt x="1037" y="1041"/>
                  </a:lnTo>
                  <a:lnTo>
                    <a:pt x="901" y="1056"/>
                  </a:lnTo>
                  <a:lnTo>
                    <a:pt x="760" y="1050"/>
                  </a:lnTo>
                  <a:lnTo>
                    <a:pt x="617" y="1021"/>
                  </a:lnTo>
                  <a:lnTo>
                    <a:pt x="486" y="976"/>
                  </a:lnTo>
                  <a:lnTo>
                    <a:pt x="369" y="916"/>
                  </a:lnTo>
                  <a:lnTo>
                    <a:pt x="268" y="843"/>
                  </a:lnTo>
                  <a:lnTo>
                    <a:pt x="186" y="759"/>
                  </a:lnTo>
                  <a:lnTo>
                    <a:pt x="130" y="669"/>
                  </a:lnTo>
                  <a:lnTo>
                    <a:pt x="97" y="572"/>
                  </a:lnTo>
                  <a:lnTo>
                    <a:pt x="94" y="476"/>
                  </a:lnTo>
                  <a:lnTo>
                    <a:pt x="118" y="381"/>
                  </a:lnTo>
                  <a:lnTo>
                    <a:pt x="168" y="299"/>
                  </a:lnTo>
                  <a:lnTo>
                    <a:pt x="242" y="229"/>
                  </a:lnTo>
                  <a:lnTo>
                    <a:pt x="336" y="172"/>
                  </a:lnTo>
                  <a:lnTo>
                    <a:pt x="444" y="130"/>
                  </a:lnTo>
                  <a:lnTo>
                    <a:pt x="569" y="103"/>
                  </a:lnTo>
                  <a:lnTo>
                    <a:pt x="704" y="94"/>
                  </a:lnTo>
                  <a:lnTo>
                    <a:pt x="847" y="103"/>
                  </a:lnTo>
                  <a:close/>
                </a:path>
              </a:pathLst>
            </a:custGeom>
            <a:solidFill>
              <a:srgbClr val="5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99"/>
            <p:cNvSpPr/>
            <p:nvPr/>
          </p:nvSpPr>
          <p:spPr>
            <a:xfrm>
              <a:off x="1098720" y="2511360"/>
              <a:ext cx="106200" cy="26820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10" h="518">
                  <a:moveTo>
                    <a:pt x="194" y="518"/>
                  </a:moveTo>
                  <a:lnTo>
                    <a:pt x="0" y="0"/>
                  </a:lnTo>
                  <a:lnTo>
                    <a:pt x="8" y="4"/>
                  </a:lnTo>
                  <a:lnTo>
                    <a:pt x="17" y="9"/>
                  </a:lnTo>
                  <a:lnTo>
                    <a:pt x="25" y="14"/>
                  </a:lnTo>
                  <a:lnTo>
                    <a:pt x="34" y="22"/>
                  </a:lnTo>
                  <a:lnTo>
                    <a:pt x="210" y="490"/>
                  </a:lnTo>
                  <a:lnTo>
                    <a:pt x="199" y="503"/>
                  </a:lnTo>
                  <a:lnTo>
                    <a:pt x="194" y="518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100"/>
            <p:cNvSpPr/>
            <p:nvPr/>
          </p:nvSpPr>
          <p:spPr>
            <a:xfrm>
              <a:off x="1017720" y="2473200"/>
              <a:ext cx="141120" cy="3556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276" h="682">
                  <a:moveTo>
                    <a:pt x="258" y="682"/>
                  </a:moveTo>
                  <a:lnTo>
                    <a:pt x="225" y="595"/>
                  </a:lnTo>
                  <a:lnTo>
                    <a:pt x="193" y="511"/>
                  </a:lnTo>
                  <a:lnTo>
                    <a:pt x="160" y="425"/>
                  </a:lnTo>
                  <a:lnTo>
                    <a:pt x="128" y="340"/>
                  </a:lnTo>
                  <a:lnTo>
                    <a:pt x="95" y="254"/>
                  </a:lnTo>
                  <a:lnTo>
                    <a:pt x="64" y="170"/>
                  </a:lnTo>
                  <a:lnTo>
                    <a:pt x="32" y="84"/>
                  </a:lnTo>
                  <a:lnTo>
                    <a:pt x="0" y="0"/>
                  </a:lnTo>
                  <a:lnTo>
                    <a:pt x="8" y="1"/>
                  </a:lnTo>
                  <a:lnTo>
                    <a:pt x="17" y="4"/>
                  </a:lnTo>
                  <a:lnTo>
                    <a:pt x="24" y="5"/>
                  </a:lnTo>
                  <a:lnTo>
                    <a:pt x="32" y="9"/>
                  </a:lnTo>
                  <a:lnTo>
                    <a:pt x="62" y="91"/>
                  </a:lnTo>
                  <a:lnTo>
                    <a:pt x="93" y="173"/>
                  </a:lnTo>
                  <a:lnTo>
                    <a:pt x="123" y="254"/>
                  </a:lnTo>
                  <a:lnTo>
                    <a:pt x="154" y="338"/>
                  </a:lnTo>
                  <a:lnTo>
                    <a:pt x="184" y="420"/>
                  </a:lnTo>
                  <a:lnTo>
                    <a:pt x="214" y="501"/>
                  </a:lnTo>
                  <a:lnTo>
                    <a:pt x="245" y="585"/>
                  </a:lnTo>
                  <a:lnTo>
                    <a:pt x="276" y="668"/>
                  </a:lnTo>
                  <a:lnTo>
                    <a:pt x="267" y="676"/>
                  </a:lnTo>
                  <a:lnTo>
                    <a:pt x="258" y="682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101"/>
            <p:cNvSpPr/>
            <p:nvPr/>
          </p:nvSpPr>
          <p:spPr>
            <a:xfrm>
              <a:off x="942840" y="2449440"/>
              <a:ext cx="162000" cy="41436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316" h="793">
                  <a:moveTo>
                    <a:pt x="295" y="793"/>
                  </a:moveTo>
                  <a:lnTo>
                    <a:pt x="257" y="694"/>
                  </a:lnTo>
                  <a:lnTo>
                    <a:pt x="221" y="595"/>
                  </a:lnTo>
                  <a:lnTo>
                    <a:pt x="183" y="496"/>
                  </a:lnTo>
                  <a:lnTo>
                    <a:pt x="147" y="397"/>
                  </a:lnTo>
                  <a:lnTo>
                    <a:pt x="109" y="297"/>
                  </a:lnTo>
                  <a:lnTo>
                    <a:pt x="72" y="198"/>
                  </a:lnTo>
                  <a:lnTo>
                    <a:pt x="36" y="99"/>
                  </a:lnTo>
                  <a:lnTo>
                    <a:pt x="0" y="0"/>
                  </a:lnTo>
                  <a:lnTo>
                    <a:pt x="14" y="5"/>
                  </a:lnTo>
                  <a:lnTo>
                    <a:pt x="28" y="10"/>
                  </a:lnTo>
                  <a:lnTo>
                    <a:pt x="64" y="105"/>
                  </a:lnTo>
                  <a:lnTo>
                    <a:pt x="99" y="202"/>
                  </a:lnTo>
                  <a:lnTo>
                    <a:pt x="135" y="298"/>
                  </a:lnTo>
                  <a:lnTo>
                    <a:pt x="172" y="395"/>
                  </a:lnTo>
                  <a:lnTo>
                    <a:pt x="208" y="491"/>
                  </a:lnTo>
                  <a:lnTo>
                    <a:pt x="243" y="587"/>
                  </a:lnTo>
                  <a:lnTo>
                    <a:pt x="279" y="684"/>
                  </a:lnTo>
                  <a:lnTo>
                    <a:pt x="316" y="782"/>
                  </a:lnTo>
                  <a:lnTo>
                    <a:pt x="305" y="788"/>
                  </a:lnTo>
                  <a:lnTo>
                    <a:pt x="295" y="793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102"/>
            <p:cNvSpPr/>
            <p:nvPr/>
          </p:nvSpPr>
          <p:spPr>
            <a:xfrm>
              <a:off x="871560" y="2440080"/>
              <a:ext cx="176040" cy="4474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342" h="857">
                  <a:moveTo>
                    <a:pt x="321" y="857"/>
                  </a:moveTo>
                  <a:lnTo>
                    <a:pt x="280" y="749"/>
                  </a:lnTo>
                  <a:lnTo>
                    <a:pt x="241" y="642"/>
                  </a:lnTo>
                  <a:lnTo>
                    <a:pt x="200" y="535"/>
                  </a:lnTo>
                  <a:lnTo>
                    <a:pt x="160" y="428"/>
                  </a:lnTo>
                  <a:lnTo>
                    <a:pt x="119" y="321"/>
                  </a:lnTo>
                  <a:lnTo>
                    <a:pt x="80" y="214"/>
                  </a:lnTo>
                  <a:lnTo>
                    <a:pt x="40" y="107"/>
                  </a:lnTo>
                  <a:lnTo>
                    <a:pt x="0" y="0"/>
                  </a:lnTo>
                  <a:lnTo>
                    <a:pt x="7" y="0"/>
                  </a:lnTo>
                  <a:lnTo>
                    <a:pt x="15" y="2"/>
                  </a:lnTo>
                  <a:lnTo>
                    <a:pt x="21" y="3"/>
                  </a:lnTo>
                  <a:lnTo>
                    <a:pt x="29" y="4"/>
                  </a:lnTo>
                  <a:lnTo>
                    <a:pt x="68" y="109"/>
                  </a:lnTo>
                  <a:lnTo>
                    <a:pt x="106" y="214"/>
                  </a:lnTo>
                  <a:lnTo>
                    <a:pt x="146" y="320"/>
                  </a:lnTo>
                  <a:lnTo>
                    <a:pt x="185" y="427"/>
                  </a:lnTo>
                  <a:lnTo>
                    <a:pt x="224" y="532"/>
                  </a:lnTo>
                  <a:lnTo>
                    <a:pt x="263" y="638"/>
                  </a:lnTo>
                  <a:lnTo>
                    <a:pt x="303" y="744"/>
                  </a:lnTo>
                  <a:lnTo>
                    <a:pt x="342" y="851"/>
                  </a:lnTo>
                  <a:lnTo>
                    <a:pt x="337" y="851"/>
                  </a:lnTo>
                  <a:lnTo>
                    <a:pt x="332" y="852"/>
                  </a:lnTo>
                  <a:lnTo>
                    <a:pt x="325" y="853"/>
                  </a:lnTo>
                  <a:lnTo>
                    <a:pt x="321" y="857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103"/>
            <p:cNvSpPr/>
            <p:nvPr/>
          </p:nvSpPr>
          <p:spPr>
            <a:xfrm>
              <a:off x="803160" y="2438280"/>
              <a:ext cx="184320" cy="4651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358" h="887">
                  <a:moveTo>
                    <a:pt x="333" y="887"/>
                  </a:moveTo>
                  <a:lnTo>
                    <a:pt x="291" y="775"/>
                  </a:lnTo>
                  <a:lnTo>
                    <a:pt x="250" y="663"/>
                  </a:lnTo>
                  <a:lnTo>
                    <a:pt x="208" y="552"/>
                  </a:lnTo>
                  <a:lnTo>
                    <a:pt x="167" y="441"/>
                  </a:lnTo>
                  <a:lnTo>
                    <a:pt x="123" y="330"/>
                  </a:lnTo>
                  <a:lnTo>
                    <a:pt x="82" y="220"/>
                  </a:lnTo>
                  <a:lnTo>
                    <a:pt x="40" y="109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8" y="0"/>
                  </a:lnTo>
                  <a:lnTo>
                    <a:pt x="69" y="109"/>
                  </a:lnTo>
                  <a:lnTo>
                    <a:pt x="110" y="219"/>
                  </a:lnTo>
                  <a:lnTo>
                    <a:pt x="151" y="328"/>
                  </a:lnTo>
                  <a:lnTo>
                    <a:pt x="193" y="439"/>
                  </a:lnTo>
                  <a:lnTo>
                    <a:pt x="234" y="550"/>
                  </a:lnTo>
                  <a:lnTo>
                    <a:pt x="275" y="661"/>
                  </a:lnTo>
                  <a:lnTo>
                    <a:pt x="316" y="772"/>
                  </a:lnTo>
                  <a:lnTo>
                    <a:pt x="358" y="884"/>
                  </a:lnTo>
                  <a:lnTo>
                    <a:pt x="344" y="884"/>
                  </a:lnTo>
                  <a:lnTo>
                    <a:pt x="333" y="887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104"/>
            <p:cNvSpPr/>
            <p:nvPr/>
          </p:nvSpPr>
          <p:spPr>
            <a:xfrm>
              <a:off x="738360" y="2441520"/>
              <a:ext cx="183960" cy="468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358" h="893">
                  <a:moveTo>
                    <a:pt x="333" y="893"/>
                  </a:moveTo>
                  <a:lnTo>
                    <a:pt x="290" y="781"/>
                  </a:lnTo>
                  <a:lnTo>
                    <a:pt x="249" y="670"/>
                  </a:lnTo>
                  <a:lnTo>
                    <a:pt x="206" y="559"/>
                  </a:lnTo>
                  <a:lnTo>
                    <a:pt x="165" y="448"/>
                  </a:lnTo>
                  <a:lnTo>
                    <a:pt x="123" y="336"/>
                  </a:lnTo>
                  <a:lnTo>
                    <a:pt x="82" y="225"/>
                  </a:lnTo>
                  <a:lnTo>
                    <a:pt x="41" y="114"/>
                  </a:lnTo>
                  <a:lnTo>
                    <a:pt x="0" y="3"/>
                  </a:lnTo>
                  <a:lnTo>
                    <a:pt x="7" y="2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66" y="111"/>
                  </a:lnTo>
                  <a:lnTo>
                    <a:pt x="109" y="222"/>
                  </a:lnTo>
                  <a:lnTo>
                    <a:pt x="150" y="333"/>
                  </a:lnTo>
                  <a:lnTo>
                    <a:pt x="192" y="444"/>
                  </a:lnTo>
                  <a:lnTo>
                    <a:pt x="233" y="555"/>
                  </a:lnTo>
                  <a:lnTo>
                    <a:pt x="275" y="666"/>
                  </a:lnTo>
                  <a:lnTo>
                    <a:pt x="316" y="778"/>
                  </a:lnTo>
                  <a:lnTo>
                    <a:pt x="358" y="890"/>
                  </a:lnTo>
                  <a:lnTo>
                    <a:pt x="344" y="892"/>
                  </a:lnTo>
                  <a:lnTo>
                    <a:pt x="333" y="893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105"/>
            <p:cNvSpPr/>
            <p:nvPr/>
          </p:nvSpPr>
          <p:spPr>
            <a:xfrm>
              <a:off x="677880" y="2452680"/>
              <a:ext cx="177840" cy="45576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344" h="869">
                  <a:moveTo>
                    <a:pt x="319" y="867"/>
                  </a:moveTo>
                  <a:lnTo>
                    <a:pt x="278" y="757"/>
                  </a:lnTo>
                  <a:lnTo>
                    <a:pt x="239" y="649"/>
                  </a:lnTo>
                  <a:lnTo>
                    <a:pt x="198" y="542"/>
                  </a:lnTo>
                  <a:lnTo>
                    <a:pt x="158" y="435"/>
                  </a:lnTo>
                  <a:lnTo>
                    <a:pt x="118" y="328"/>
                  </a:lnTo>
                  <a:lnTo>
                    <a:pt x="79" y="221"/>
                  </a:lnTo>
                  <a:lnTo>
                    <a:pt x="39" y="114"/>
                  </a:lnTo>
                  <a:lnTo>
                    <a:pt x="0" y="7"/>
                  </a:lnTo>
                  <a:lnTo>
                    <a:pt x="3" y="4"/>
                  </a:lnTo>
                  <a:lnTo>
                    <a:pt x="10" y="3"/>
                  </a:lnTo>
                  <a:lnTo>
                    <a:pt x="17" y="2"/>
                  </a:lnTo>
                  <a:lnTo>
                    <a:pt x="25" y="0"/>
                  </a:lnTo>
                  <a:lnTo>
                    <a:pt x="64" y="107"/>
                  </a:lnTo>
                  <a:lnTo>
                    <a:pt x="104" y="216"/>
                  </a:lnTo>
                  <a:lnTo>
                    <a:pt x="143" y="324"/>
                  </a:lnTo>
                  <a:lnTo>
                    <a:pt x="183" y="433"/>
                  </a:lnTo>
                  <a:lnTo>
                    <a:pt x="223" y="540"/>
                  </a:lnTo>
                  <a:lnTo>
                    <a:pt x="264" y="650"/>
                  </a:lnTo>
                  <a:lnTo>
                    <a:pt x="303" y="758"/>
                  </a:lnTo>
                  <a:lnTo>
                    <a:pt x="344" y="869"/>
                  </a:lnTo>
                  <a:lnTo>
                    <a:pt x="331" y="868"/>
                  </a:lnTo>
                  <a:lnTo>
                    <a:pt x="319" y="867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106"/>
            <p:cNvSpPr/>
            <p:nvPr/>
          </p:nvSpPr>
          <p:spPr>
            <a:xfrm>
              <a:off x="617400" y="2473200"/>
              <a:ext cx="168480" cy="425520"/>
            </a:xfrm>
            <a:custGeom>
              <a:avLst/>
              <a:gdLst>
                <a:gd name="textAreaLeft" fmla="*/ 0 w 168480"/>
                <a:gd name="textAreaRight" fmla="*/ 168480 w 16848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326" h="812">
                  <a:moveTo>
                    <a:pt x="294" y="805"/>
                  </a:moveTo>
                  <a:lnTo>
                    <a:pt x="257" y="705"/>
                  </a:lnTo>
                  <a:lnTo>
                    <a:pt x="220" y="604"/>
                  </a:lnTo>
                  <a:lnTo>
                    <a:pt x="184" y="505"/>
                  </a:lnTo>
                  <a:lnTo>
                    <a:pt x="148" y="406"/>
                  </a:lnTo>
                  <a:lnTo>
                    <a:pt x="111" y="306"/>
                  </a:lnTo>
                  <a:lnTo>
                    <a:pt x="74" y="207"/>
                  </a:lnTo>
                  <a:lnTo>
                    <a:pt x="37" y="108"/>
                  </a:lnTo>
                  <a:lnTo>
                    <a:pt x="0" y="9"/>
                  </a:lnTo>
                  <a:lnTo>
                    <a:pt x="12" y="4"/>
                  </a:lnTo>
                  <a:lnTo>
                    <a:pt x="25" y="0"/>
                  </a:lnTo>
                  <a:lnTo>
                    <a:pt x="62" y="100"/>
                  </a:lnTo>
                  <a:lnTo>
                    <a:pt x="100" y="202"/>
                  </a:lnTo>
                  <a:lnTo>
                    <a:pt x="137" y="302"/>
                  </a:lnTo>
                  <a:lnTo>
                    <a:pt x="176" y="404"/>
                  </a:lnTo>
                  <a:lnTo>
                    <a:pt x="213" y="504"/>
                  </a:lnTo>
                  <a:lnTo>
                    <a:pt x="251" y="606"/>
                  </a:lnTo>
                  <a:lnTo>
                    <a:pt x="288" y="709"/>
                  </a:lnTo>
                  <a:lnTo>
                    <a:pt x="326" y="812"/>
                  </a:lnTo>
                  <a:lnTo>
                    <a:pt x="318" y="808"/>
                  </a:lnTo>
                  <a:lnTo>
                    <a:pt x="312" y="806"/>
                  </a:lnTo>
                  <a:lnTo>
                    <a:pt x="302" y="805"/>
                  </a:lnTo>
                  <a:lnTo>
                    <a:pt x="294" y="805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107"/>
            <p:cNvSpPr/>
            <p:nvPr/>
          </p:nvSpPr>
          <p:spPr>
            <a:xfrm>
              <a:off x="563400" y="2505240"/>
              <a:ext cx="146160" cy="3697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285" h="709">
                  <a:moveTo>
                    <a:pt x="253" y="696"/>
                  </a:moveTo>
                  <a:lnTo>
                    <a:pt x="222" y="609"/>
                  </a:lnTo>
                  <a:lnTo>
                    <a:pt x="190" y="524"/>
                  </a:lnTo>
                  <a:lnTo>
                    <a:pt x="158" y="438"/>
                  </a:lnTo>
                  <a:lnTo>
                    <a:pt x="128" y="354"/>
                  </a:lnTo>
                  <a:lnTo>
                    <a:pt x="95" y="268"/>
                  </a:lnTo>
                  <a:lnTo>
                    <a:pt x="63" y="185"/>
                  </a:lnTo>
                  <a:lnTo>
                    <a:pt x="32" y="99"/>
                  </a:lnTo>
                  <a:lnTo>
                    <a:pt x="0" y="16"/>
                  </a:lnTo>
                  <a:lnTo>
                    <a:pt x="12" y="5"/>
                  </a:lnTo>
                  <a:lnTo>
                    <a:pt x="21" y="0"/>
                  </a:lnTo>
                  <a:lnTo>
                    <a:pt x="53" y="87"/>
                  </a:lnTo>
                  <a:lnTo>
                    <a:pt x="86" y="176"/>
                  </a:lnTo>
                  <a:lnTo>
                    <a:pt x="119" y="264"/>
                  </a:lnTo>
                  <a:lnTo>
                    <a:pt x="153" y="354"/>
                  </a:lnTo>
                  <a:lnTo>
                    <a:pt x="185" y="441"/>
                  </a:lnTo>
                  <a:lnTo>
                    <a:pt x="218" y="531"/>
                  </a:lnTo>
                  <a:lnTo>
                    <a:pt x="251" y="619"/>
                  </a:lnTo>
                  <a:lnTo>
                    <a:pt x="285" y="709"/>
                  </a:lnTo>
                  <a:lnTo>
                    <a:pt x="277" y="705"/>
                  </a:lnTo>
                  <a:lnTo>
                    <a:pt x="271" y="701"/>
                  </a:lnTo>
                  <a:lnTo>
                    <a:pt x="261" y="697"/>
                  </a:lnTo>
                  <a:lnTo>
                    <a:pt x="253" y="696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Freeform 108"/>
            <p:cNvSpPr/>
            <p:nvPr/>
          </p:nvSpPr>
          <p:spPr>
            <a:xfrm>
              <a:off x="515880" y="2550960"/>
              <a:ext cx="111240" cy="2826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220" h="543">
                  <a:moveTo>
                    <a:pt x="183" y="522"/>
                  </a:moveTo>
                  <a:lnTo>
                    <a:pt x="0" y="25"/>
                  </a:lnTo>
                  <a:lnTo>
                    <a:pt x="4" y="20"/>
                  </a:lnTo>
                  <a:lnTo>
                    <a:pt x="8" y="13"/>
                  </a:lnTo>
                  <a:lnTo>
                    <a:pt x="11" y="7"/>
                  </a:lnTo>
                  <a:lnTo>
                    <a:pt x="16" y="0"/>
                  </a:lnTo>
                  <a:lnTo>
                    <a:pt x="220" y="543"/>
                  </a:lnTo>
                  <a:lnTo>
                    <a:pt x="209" y="536"/>
                  </a:lnTo>
                  <a:lnTo>
                    <a:pt x="201" y="531"/>
                  </a:lnTo>
                  <a:lnTo>
                    <a:pt x="191" y="526"/>
                  </a:lnTo>
                  <a:lnTo>
                    <a:pt x="183" y="522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109"/>
            <p:cNvSpPr/>
            <p:nvPr/>
          </p:nvSpPr>
          <p:spPr>
            <a:xfrm>
              <a:off x="741240" y="2784600"/>
              <a:ext cx="454320" cy="10944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866" h="214">
                  <a:moveTo>
                    <a:pt x="0" y="198"/>
                  </a:moveTo>
                  <a:lnTo>
                    <a:pt x="866" y="0"/>
                  </a:lnTo>
                  <a:lnTo>
                    <a:pt x="860" y="9"/>
                  </a:lnTo>
                  <a:lnTo>
                    <a:pt x="854" y="18"/>
                  </a:lnTo>
                  <a:lnTo>
                    <a:pt x="848" y="26"/>
                  </a:lnTo>
                  <a:lnTo>
                    <a:pt x="841" y="34"/>
                  </a:lnTo>
                  <a:lnTo>
                    <a:pt x="57" y="214"/>
                  </a:lnTo>
                  <a:lnTo>
                    <a:pt x="49" y="211"/>
                  </a:lnTo>
                  <a:lnTo>
                    <a:pt x="42" y="210"/>
                  </a:lnTo>
                  <a:lnTo>
                    <a:pt x="34" y="207"/>
                  </a:lnTo>
                  <a:lnTo>
                    <a:pt x="28" y="206"/>
                  </a:lnTo>
                  <a:lnTo>
                    <a:pt x="13" y="202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Freeform 110"/>
            <p:cNvSpPr/>
            <p:nvPr/>
          </p:nvSpPr>
          <p:spPr>
            <a:xfrm>
              <a:off x="655560" y="2722680"/>
              <a:ext cx="568440" cy="13644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081" h="267">
                  <a:moveTo>
                    <a:pt x="0" y="248"/>
                  </a:moveTo>
                  <a:lnTo>
                    <a:pt x="134" y="216"/>
                  </a:lnTo>
                  <a:lnTo>
                    <a:pt x="269" y="186"/>
                  </a:lnTo>
                  <a:lnTo>
                    <a:pt x="404" y="154"/>
                  </a:lnTo>
                  <a:lnTo>
                    <a:pt x="540" y="124"/>
                  </a:lnTo>
                  <a:lnTo>
                    <a:pt x="674" y="92"/>
                  </a:lnTo>
                  <a:lnTo>
                    <a:pt x="810" y="62"/>
                  </a:lnTo>
                  <a:lnTo>
                    <a:pt x="945" y="30"/>
                  </a:lnTo>
                  <a:lnTo>
                    <a:pt x="1081" y="0"/>
                  </a:lnTo>
                  <a:lnTo>
                    <a:pt x="1079" y="6"/>
                  </a:lnTo>
                  <a:lnTo>
                    <a:pt x="1076" y="16"/>
                  </a:lnTo>
                  <a:lnTo>
                    <a:pt x="1075" y="24"/>
                  </a:lnTo>
                  <a:lnTo>
                    <a:pt x="1075" y="31"/>
                  </a:lnTo>
                  <a:lnTo>
                    <a:pt x="944" y="59"/>
                  </a:lnTo>
                  <a:lnTo>
                    <a:pt x="813" y="90"/>
                  </a:lnTo>
                  <a:lnTo>
                    <a:pt x="684" y="117"/>
                  </a:lnTo>
                  <a:lnTo>
                    <a:pt x="554" y="148"/>
                  </a:lnTo>
                  <a:lnTo>
                    <a:pt x="423" y="177"/>
                  </a:lnTo>
                  <a:lnTo>
                    <a:pt x="294" y="207"/>
                  </a:lnTo>
                  <a:lnTo>
                    <a:pt x="165" y="236"/>
                  </a:lnTo>
                  <a:lnTo>
                    <a:pt x="37" y="267"/>
                  </a:lnTo>
                  <a:lnTo>
                    <a:pt x="26" y="261"/>
                  </a:lnTo>
                  <a:lnTo>
                    <a:pt x="18" y="256"/>
                  </a:lnTo>
                  <a:lnTo>
                    <a:pt x="8" y="252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111"/>
            <p:cNvSpPr/>
            <p:nvPr/>
          </p:nvSpPr>
          <p:spPr>
            <a:xfrm>
              <a:off x="593640" y="2666880"/>
              <a:ext cx="631800" cy="150840"/>
            </a:xfrm>
            <a:custGeom>
              <a:avLst/>
              <a:gdLst>
                <a:gd name="textAreaLeft" fmla="*/ 0 w 631800"/>
                <a:gd name="textAreaRight" fmla="*/ 631800 w 631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201" h="294">
                  <a:moveTo>
                    <a:pt x="0" y="272"/>
                  </a:moveTo>
                  <a:lnTo>
                    <a:pt x="148" y="236"/>
                  </a:lnTo>
                  <a:lnTo>
                    <a:pt x="298" y="202"/>
                  </a:lnTo>
                  <a:lnTo>
                    <a:pt x="447" y="167"/>
                  </a:lnTo>
                  <a:lnTo>
                    <a:pt x="597" y="133"/>
                  </a:lnTo>
                  <a:lnTo>
                    <a:pt x="747" y="99"/>
                  </a:lnTo>
                  <a:lnTo>
                    <a:pt x="897" y="66"/>
                  </a:lnTo>
                  <a:lnTo>
                    <a:pt x="1048" y="31"/>
                  </a:lnTo>
                  <a:lnTo>
                    <a:pt x="1198" y="0"/>
                  </a:lnTo>
                  <a:lnTo>
                    <a:pt x="1198" y="4"/>
                  </a:lnTo>
                  <a:lnTo>
                    <a:pt x="1199" y="10"/>
                  </a:lnTo>
                  <a:lnTo>
                    <a:pt x="1199" y="17"/>
                  </a:lnTo>
                  <a:lnTo>
                    <a:pt x="1201" y="25"/>
                  </a:lnTo>
                  <a:lnTo>
                    <a:pt x="1053" y="57"/>
                  </a:lnTo>
                  <a:lnTo>
                    <a:pt x="906" y="90"/>
                  </a:lnTo>
                  <a:lnTo>
                    <a:pt x="760" y="123"/>
                  </a:lnTo>
                  <a:lnTo>
                    <a:pt x="613" y="157"/>
                  </a:lnTo>
                  <a:lnTo>
                    <a:pt x="467" y="190"/>
                  </a:lnTo>
                  <a:lnTo>
                    <a:pt x="320" y="226"/>
                  </a:lnTo>
                  <a:lnTo>
                    <a:pt x="173" y="259"/>
                  </a:lnTo>
                  <a:lnTo>
                    <a:pt x="28" y="294"/>
                  </a:lnTo>
                  <a:lnTo>
                    <a:pt x="19" y="286"/>
                  </a:lnTo>
                  <a:lnTo>
                    <a:pt x="12" y="281"/>
                  </a:lnTo>
                  <a:lnTo>
                    <a:pt x="6" y="276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112"/>
            <p:cNvSpPr/>
            <p:nvPr/>
          </p:nvSpPr>
          <p:spPr>
            <a:xfrm>
              <a:off x="546120" y="2616120"/>
              <a:ext cx="663480" cy="15552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64" h="304">
                  <a:moveTo>
                    <a:pt x="0" y="283"/>
                  </a:moveTo>
                  <a:lnTo>
                    <a:pt x="156" y="247"/>
                  </a:lnTo>
                  <a:lnTo>
                    <a:pt x="312" y="211"/>
                  </a:lnTo>
                  <a:lnTo>
                    <a:pt x="468" y="176"/>
                  </a:lnTo>
                  <a:lnTo>
                    <a:pt x="625" y="140"/>
                  </a:lnTo>
                  <a:lnTo>
                    <a:pt x="781" y="104"/>
                  </a:lnTo>
                  <a:lnTo>
                    <a:pt x="937" y="70"/>
                  </a:lnTo>
                  <a:lnTo>
                    <a:pt x="1092" y="34"/>
                  </a:lnTo>
                  <a:lnTo>
                    <a:pt x="1248" y="0"/>
                  </a:lnTo>
                  <a:lnTo>
                    <a:pt x="1256" y="11"/>
                  </a:lnTo>
                  <a:lnTo>
                    <a:pt x="1264" y="25"/>
                  </a:lnTo>
                  <a:lnTo>
                    <a:pt x="1108" y="59"/>
                  </a:lnTo>
                  <a:lnTo>
                    <a:pt x="952" y="94"/>
                  </a:lnTo>
                  <a:lnTo>
                    <a:pt x="798" y="128"/>
                  </a:lnTo>
                  <a:lnTo>
                    <a:pt x="643" y="164"/>
                  </a:lnTo>
                  <a:lnTo>
                    <a:pt x="488" y="198"/>
                  </a:lnTo>
                  <a:lnTo>
                    <a:pt x="332" y="232"/>
                  </a:lnTo>
                  <a:lnTo>
                    <a:pt x="177" y="268"/>
                  </a:lnTo>
                  <a:lnTo>
                    <a:pt x="23" y="304"/>
                  </a:lnTo>
                  <a:lnTo>
                    <a:pt x="12" y="295"/>
                  </a:lnTo>
                  <a:lnTo>
                    <a:pt x="0" y="283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113"/>
            <p:cNvSpPr/>
            <p:nvPr/>
          </p:nvSpPr>
          <p:spPr>
            <a:xfrm>
              <a:off x="514440" y="2565360"/>
              <a:ext cx="663480" cy="15876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61" h="307">
                  <a:moveTo>
                    <a:pt x="0" y="286"/>
                  </a:moveTo>
                  <a:lnTo>
                    <a:pt x="154" y="250"/>
                  </a:lnTo>
                  <a:lnTo>
                    <a:pt x="309" y="214"/>
                  </a:lnTo>
                  <a:lnTo>
                    <a:pt x="465" y="179"/>
                  </a:lnTo>
                  <a:lnTo>
                    <a:pt x="621" y="143"/>
                  </a:lnTo>
                  <a:lnTo>
                    <a:pt x="775" y="107"/>
                  </a:lnTo>
                  <a:lnTo>
                    <a:pt x="930" y="72"/>
                  </a:lnTo>
                  <a:lnTo>
                    <a:pt x="1085" y="36"/>
                  </a:lnTo>
                  <a:lnTo>
                    <a:pt x="1241" y="0"/>
                  </a:lnTo>
                  <a:lnTo>
                    <a:pt x="1250" y="12"/>
                  </a:lnTo>
                  <a:lnTo>
                    <a:pt x="1261" y="25"/>
                  </a:lnTo>
                  <a:lnTo>
                    <a:pt x="1104" y="60"/>
                  </a:lnTo>
                  <a:lnTo>
                    <a:pt x="948" y="95"/>
                  </a:lnTo>
                  <a:lnTo>
                    <a:pt x="792" y="130"/>
                  </a:lnTo>
                  <a:lnTo>
                    <a:pt x="636" y="165"/>
                  </a:lnTo>
                  <a:lnTo>
                    <a:pt x="479" y="200"/>
                  </a:lnTo>
                  <a:lnTo>
                    <a:pt x="323" y="235"/>
                  </a:lnTo>
                  <a:lnTo>
                    <a:pt x="168" y="271"/>
                  </a:lnTo>
                  <a:lnTo>
                    <a:pt x="12" y="307"/>
                  </a:lnTo>
                  <a:lnTo>
                    <a:pt x="5" y="29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114"/>
            <p:cNvSpPr/>
            <p:nvPr/>
          </p:nvSpPr>
          <p:spPr>
            <a:xfrm>
              <a:off x="498600" y="2522520"/>
              <a:ext cx="630000" cy="150840"/>
            </a:xfrm>
            <a:custGeom>
              <a:avLst/>
              <a:gdLst>
                <a:gd name="textAreaLeft" fmla="*/ 0 w 630000"/>
                <a:gd name="textAreaRight" fmla="*/ 630360 w 6300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202" h="295">
                  <a:moveTo>
                    <a:pt x="0" y="267"/>
                  </a:moveTo>
                  <a:lnTo>
                    <a:pt x="145" y="233"/>
                  </a:lnTo>
                  <a:lnTo>
                    <a:pt x="292" y="200"/>
                  </a:lnTo>
                  <a:lnTo>
                    <a:pt x="439" y="165"/>
                  </a:lnTo>
                  <a:lnTo>
                    <a:pt x="585" y="132"/>
                  </a:lnTo>
                  <a:lnTo>
                    <a:pt x="730" y="98"/>
                  </a:lnTo>
                  <a:lnTo>
                    <a:pt x="877" y="65"/>
                  </a:lnTo>
                  <a:lnTo>
                    <a:pt x="1024" y="32"/>
                  </a:lnTo>
                  <a:lnTo>
                    <a:pt x="1170" y="0"/>
                  </a:lnTo>
                  <a:lnTo>
                    <a:pt x="1178" y="4"/>
                  </a:lnTo>
                  <a:lnTo>
                    <a:pt x="1186" y="10"/>
                  </a:lnTo>
                  <a:lnTo>
                    <a:pt x="1194" y="15"/>
                  </a:lnTo>
                  <a:lnTo>
                    <a:pt x="1202" y="23"/>
                  </a:lnTo>
                  <a:lnTo>
                    <a:pt x="1051" y="56"/>
                  </a:lnTo>
                  <a:lnTo>
                    <a:pt x="902" y="90"/>
                  </a:lnTo>
                  <a:lnTo>
                    <a:pt x="752" y="123"/>
                  </a:lnTo>
                  <a:lnTo>
                    <a:pt x="602" y="158"/>
                  </a:lnTo>
                  <a:lnTo>
                    <a:pt x="452" y="191"/>
                  </a:lnTo>
                  <a:lnTo>
                    <a:pt x="301" y="226"/>
                  </a:lnTo>
                  <a:lnTo>
                    <a:pt x="152" y="259"/>
                  </a:lnTo>
                  <a:lnTo>
                    <a:pt x="3" y="295"/>
                  </a:lnTo>
                  <a:lnTo>
                    <a:pt x="1" y="280"/>
                  </a:lnTo>
                  <a:lnTo>
                    <a:pt x="0" y="267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115"/>
            <p:cNvSpPr/>
            <p:nvPr/>
          </p:nvSpPr>
          <p:spPr>
            <a:xfrm>
              <a:off x="496800" y="2482920"/>
              <a:ext cx="563760" cy="135000"/>
            </a:xfrm>
            <a:custGeom>
              <a:avLst/>
              <a:gdLst>
                <a:gd name="textAreaLeft" fmla="*/ 0 w 563760"/>
                <a:gd name="textAreaRight" fmla="*/ 564120 w 56376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075" h="263">
                  <a:moveTo>
                    <a:pt x="6" y="235"/>
                  </a:moveTo>
                  <a:lnTo>
                    <a:pt x="133" y="205"/>
                  </a:lnTo>
                  <a:lnTo>
                    <a:pt x="262" y="176"/>
                  </a:lnTo>
                  <a:lnTo>
                    <a:pt x="390" y="145"/>
                  </a:lnTo>
                  <a:lnTo>
                    <a:pt x="521" y="118"/>
                  </a:lnTo>
                  <a:lnTo>
                    <a:pt x="649" y="87"/>
                  </a:lnTo>
                  <a:lnTo>
                    <a:pt x="778" y="58"/>
                  </a:lnTo>
                  <a:lnTo>
                    <a:pt x="908" y="28"/>
                  </a:lnTo>
                  <a:lnTo>
                    <a:pt x="1038" y="0"/>
                  </a:lnTo>
                  <a:lnTo>
                    <a:pt x="1046" y="4"/>
                  </a:lnTo>
                  <a:lnTo>
                    <a:pt x="1057" y="9"/>
                  </a:lnTo>
                  <a:lnTo>
                    <a:pt x="1065" y="13"/>
                  </a:lnTo>
                  <a:lnTo>
                    <a:pt x="1075" y="19"/>
                  </a:lnTo>
                  <a:lnTo>
                    <a:pt x="941" y="49"/>
                  </a:lnTo>
                  <a:lnTo>
                    <a:pt x="807" y="79"/>
                  </a:lnTo>
                  <a:lnTo>
                    <a:pt x="673" y="110"/>
                  </a:lnTo>
                  <a:lnTo>
                    <a:pt x="539" y="140"/>
                  </a:lnTo>
                  <a:lnTo>
                    <a:pt x="405" y="170"/>
                  </a:lnTo>
                  <a:lnTo>
                    <a:pt x="270" y="201"/>
                  </a:lnTo>
                  <a:lnTo>
                    <a:pt x="135" y="231"/>
                  </a:lnTo>
                  <a:lnTo>
                    <a:pt x="0" y="263"/>
                  </a:lnTo>
                  <a:lnTo>
                    <a:pt x="2" y="248"/>
                  </a:lnTo>
                  <a:lnTo>
                    <a:pt x="6" y="235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116"/>
            <p:cNvSpPr/>
            <p:nvPr/>
          </p:nvSpPr>
          <p:spPr>
            <a:xfrm>
              <a:off x="517680" y="2449440"/>
              <a:ext cx="450720" cy="106560"/>
            </a:xfrm>
            <a:custGeom>
              <a:avLst/>
              <a:gdLst>
                <a:gd name="textAreaLeft" fmla="*/ 0 w 450720"/>
                <a:gd name="textAreaRight" fmla="*/ 451080 w 4507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859" h="211">
                  <a:moveTo>
                    <a:pt x="26" y="175"/>
                  </a:moveTo>
                  <a:lnTo>
                    <a:pt x="799" y="0"/>
                  </a:lnTo>
                  <a:lnTo>
                    <a:pt x="806" y="1"/>
                  </a:lnTo>
                  <a:lnTo>
                    <a:pt x="813" y="4"/>
                  </a:lnTo>
                  <a:lnTo>
                    <a:pt x="821" y="5"/>
                  </a:lnTo>
                  <a:lnTo>
                    <a:pt x="828" y="8"/>
                  </a:lnTo>
                  <a:lnTo>
                    <a:pt x="835" y="9"/>
                  </a:lnTo>
                  <a:lnTo>
                    <a:pt x="843" y="12"/>
                  </a:lnTo>
                  <a:lnTo>
                    <a:pt x="851" y="13"/>
                  </a:lnTo>
                  <a:lnTo>
                    <a:pt x="859" y="16"/>
                  </a:lnTo>
                  <a:lnTo>
                    <a:pt x="0" y="211"/>
                  </a:lnTo>
                  <a:lnTo>
                    <a:pt x="6" y="202"/>
                  </a:lnTo>
                  <a:lnTo>
                    <a:pt x="12" y="194"/>
                  </a:lnTo>
                  <a:lnTo>
                    <a:pt x="18" y="185"/>
                  </a:lnTo>
                  <a:lnTo>
                    <a:pt x="26" y="175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117"/>
            <p:cNvSpPr/>
            <p:nvPr/>
          </p:nvSpPr>
          <p:spPr>
            <a:xfrm>
              <a:off x="2013120" y="2760840"/>
              <a:ext cx="446040" cy="12852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851" h="254">
                  <a:moveTo>
                    <a:pt x="20" y="103"/>
                  </a:moveTo>
                  <a:lnTo>
                    <a:pt x="0" y="31"/>
                  </a:lnTo>
                  <a:lnTo>
                    <a:pt x="75" y="0"/>
                  </a:lnTo>
                  <a:lnTo>
                    <a:pt x="103" y="4"/>
                  </a:lnTo>
                  <a:lnTo>
                    <a:pt x="180" y="16"/>
                  </a:lnTo>
                  <a:lnTo>
                    <a:pt x="288" y="32"/>
                  </a:lnTo>
                  <a:lnTo>
                    <a:pt x="412" y="52"/>
                  </a:lnTo>
                  <a:lnTo>
                    <a:pt x="536" y="70"/>
                  </a:lnTo>
                  <a:lnTo>
                    <a:pt x="646" y="89"/>
                  </a:lnTo>
                  <a:lnTo>
                    <a:pt x="724" y="102"/>
                  </a:lnTo>
                  <a:lnTo>
                    <a:pt x="757" y="110"/>
                  </a:lnTo>
                  <a:lnTo>
                    <a:pt x="763" y="118"/>
                  </a:lnTo>
                  <a:lnTo>
                    <a:pt x="775" y="135"/>
                  </a:lnTo>
                  <a:lnTo>
                    <a:pt x="790" y="158"/>
                  </a:lnTo>
                  <a:lnTo>
                    <a:pt x="807" y="185"/>
                  </a:lnTo>
                  <a:lnTo>
                    <a:pt x="822" y="210"/>
                  </a:lnTo>
                  <a:lnTo>
                    <a:pt x="836" y="231"/>
                  </a:lnTo>
                  <a:lnTo>
                    <a:pt x="847" y="247"/>
                  </a:lnTo>
                  <a:lnTo>
                    <a:pt x="851" y="254"/>
                  </a:lnTo>
                  <a:lnTo>
                    <a:pt x="79" y="144"/>
                  </a:lnTo>
                  <a:lnTo>
                    <a:pt x="20" y="103"/>
                  </a:lnTo>
                  <a:close/>
                </a:path>
              </a:pathLst>
            </a:cu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118"/>
            <p:cNvSpPr/>
            <p:nvPr/>
          </p:nvSpPr>
          <p:spPr>
            <a:xfrm>
              <a:off x="2001960" y="2809800"/>
              <a:ext cx="452160" cy="13356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865" h="260">
                  <a:moveTo>
                    <a:pt x="0" y="103"/>
                  </a:moveTo>
                  <a:lnTo>
                    <a:pt x="50" y="147"/>
                  </a:lnTo>
                  <a:lnTo>
                    <a:pt x="714" y="260"/>
                  </a:lnTo>
                  <a:lnTo>
                    <a:pt x="721" y="255"/>
                  </a:lnTo>
                  <a:lnTo>
                    <a:pt x="740" y="244"/>
                  </a:lnTo>
                  <a:lnTo>
                    <a:pt x="765" y="230"/>
                  </a:lnTo>
                  <a:lnTo>
                    <a:pt x="794" y="213"/>
                  </a:lnTo>
                  <a:lnTo>
                    <a:pt x="821" y="193"/>
                  </a:lnTo>
                  <a:lnTo>
                    <a:pt x="847" y="176"/>
                  </a:lnTo>
                  <a:lnTo>
                    <a:pt x="861" y="161"/>
                  </a:lnTo>
                  <a:lnTo>
                    <a:pt x="865" y="153"/>
                  </a:lnTo>
                  <a:lnTo>
                    <a:pt x="828" y="141"/>
                  </a:lnTo>
                  <a:lnTo>
                    <a:pt x="745" y="127"/>
                  </a:lnTo>
                  <a:lnTo>
                    <a:pt x="627" y="107"/>
                  </a:lnTo>
                  <a:lnTo>
                    <a:pt x="495" y="89"/>
                  </a:lnTo>
                  <a:lnTo>
                    <a:pt x="361" y="69"/>
                  </a:lnTo>
                  <a:lnTo>
                    <a:pt x="244" y="52"/>
                  </a:lnTo>
                  <a:lnTo>
                    <a:pt x="159" y="40"/>
                  </a:lnTo>
                  <a:lnTo>
                    <a:pt x="122" y="34"/>
                  </a:lnTo>
                  <a:lnTo>
                    <a:pt x="111" y="29"/>
                  </a:lnTo>
                  <a:lnTo>
                    <a:pt x="99" y="25"/>
                  </a:lnTo>
                  <a:lnTo>
                    <a:pt x="85" y="20"/>
                  </a:lnTo>
                  <a:lnTo>
                    <a:pt x="73" y="15"/>
                  </a:lnTo>
                  <a:lnTo>
                    <a:pt x="59" y="8"/>
                  </a:lnTo>
                  <a:lnTo>
                    <a:pt x="50" y="4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f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119"/>
            <p:cNvSpPr/>
            <p:nvPr/>
          </p:nvSpPr>
          <p:spPr>
            <a:xfrm>
              <a:off x="1225440" y="2622600"/>
              <a:ext cx="169920" cy="19692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330" h="383">
                  <a:moveTo>
                    <a:pt x="0" y="383"/>
                  </a:moveTo>
                  <a:lnTo>
                    <a:pt x="4" y="374"/>
                  </a:lnTo>
                  <a:lnTo>
                    <a:pt x="17" y="354"/>
                  </a:lnTo>
                  <a:lnTo>
                    <a:pt x="35" y="323"/>
                  </a:lnTo>
                  <a:lnTo>
                    <a:pt x="58" y="289"/>
                  </a:lnTo>
                  <a:lnTo>
                    <a:pt x="79" y="251"/>
                  </a:lnTo>
                  <a:lnTo>
                    <a:pt x="99" y="218"/>
                  </a:lnTo>
                  <a:lnTo>
                    <a:pt x="112" y="190"/>
                  </a:lnTo>
                  <a:lnTo>
                    <a:pt x="120" y="173"/>
                  </a:lnTo>
                  <a:lnTo>
                    <a:pt x="116" y="156"/>
                  </a:lnTo>
                  <a:lnTo>
                    <a:pt x="107" y="132"/>
                  </a:lnTo>
                  <a:lnTo>
                    <a:pt x="93" y="104"/>
                  </a:lnTo>
                  <a:lnTo>
                    <a:pt x="80" y="75"/>
                  </a:lnTo>
                  <a:lnTo>
                    <a:pt x="67" y="46"/>
                  </a:lnTo>
                  <a:lnTo>
                    <a:pt x="58" y="24"/>
                  </a:lnTo>
                  <a:lnTo>
                    <a:pt x="54" y="5"/>
                  </a:lnTo>
                  <a:lnTo>
                    <a:pt x="59" y="0"/>
                  </a:lnTo>
                  <a:lnTo>
                    <a:pt x="77" y="7"/>
                  </a:lnTo>
                  <a:lnTo>
                    <a:pt x="112" y="29"/>
                  </a:lnTo>
                  <a:lnTo>
                    <a:pt x="157" y="58"/>
                  </a:lnTo>
                  <a:lnTo>
                    <a:pt x="207" y="95"/>
                  </a:lnTo>
                  <a:lnTo>
                    <a:pt x="254" y="131"/>
                  </a:lnTo>
                  <a:lnTo>
                    <a:pt x="294" y="164"/>
                  </a:lnTo>
                  <a:lnTo>
                    <a:pt x="320" y="190"/>
                  </a:lnTo>
                  <a:lnTo>
                    <a:pt x="330" y="205"/>
                  </a:lnTo>
                  <a:lnTo>
                    <a:pt x="311" y="218"/>
                  </a:lnTo>
                  <a:lnTo>
                    <a:pt x="273" y="242"/>
                  </a:lnTo>
                  <a:lnTo>
                    <a:pt x="220" y="271"/>
                  </a:lnTo>
                  <a:lnTo>
                    <a:pt x="162" y="304"/>
                  </a:lnTo>
                  <a:lnTo>
                    <a:pt x="103" y="333"/>
                  </a:lnTo>
                  <a:lnTo>
                    <a:pt x="51" y="359"/>
                  </a:lnTo>
                  <a:lnTo>
                    <a:pt x="14" y="376"/>
                  </a:lnTo>
                  <a:lnTo>
                    <a:pt x="0" y="383"/>
                  </a:lnTo>
                  <a:close/>
                </a:path>
              </a:pathLst>
            </a:custGeom>
            <a:solidFill>
              <a:srgbClr val="b0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120"/>
            <p:cNvSpPr/>
            <p:nvPr/>
          </p:nvSpPr>
          <p:spPr>
            <a:xfrm>
              <a:off x="447840" y="2635200"/>
              <a:ext cx="158760" cy="2412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310" h="466">
                  <a:moveTo>
                    <a:pt x="21" y="0"/>
                  </a:moveTo>
                  <a:lnTo>
                    <a:pt x="31" y="3"/>
                  </a:lnTo>
                  <a:lnTo>
                    <a:pt x="42" y="22"/>
                  </a:lnTo>
                  <a:lnTo>
                    <a:pt x="51" y="53"/>
                  </a:lnTo>
                  <a:lnTo>
                    <a:pt x="62" y="94"/>
                  </a:lnTo>
                  <a:lnTo>
                    <a:pt x="72" y="136"/>
                  </a:lnTo>
                  <a:lnTo>
                    <a:pt x="86" y="180"/>
                  </a:lnTo>
                  <a:lnTo>
                    <a:pt x="100" y="221"/>
                  </a:lnTo>
                  <a:lnTo>
                    <a:pt x="119" y="255"/>
                  </a:lnTo>
                  <a:lnTo>
                    <a:pt x="141" y="281"/>
                  </a:lnTo>
                  <a:lnTo>
                    <a:pt x="173" y="313"/>
                  </a:lnTo>
                  <a:lnTo>
                    <a:pt x="206" y="343"/>
                  </a:lnTo>
                  <a:lnTo>
                    <a:pt x="240" y="375"/>
                  </a:lnTo>
                  <a:lnTo>
                    <a:pt x="269" y="403"/>
                  </a:lnTo>
                  <a:lnTo>
                    <a:pt x="294" y="428"/>
                  </a:lnTo>
                  <a:lnTo>
                    <a:pt x="307" y="448"/>
                  </a:lnTo>
                  <a:lnTo>
                    <a:pt x="310" y="462"/>
                  </a:lnTo>
                  <a:lnTo>
                    <a:pt x="298" y="466"/>
                  </a:lnTo>
                  <a:lnTo>
                    <a:pt x="278" y="461"/>
                  </a:lnTo>
                  <a:lnTo>
                    <a:pt x="251" y="446"/>
                  </a:lnTo>
                  <a:lnTo>
                    <a:pt x="219" y="425"/>
                  </a:lnTo>
                  <a:lnTo>
                    <a:pt x="183" y="396"/>
                  </a:lnTo>
                  <a:lnTo>
                    <a:pt x="146" y="364"/>
                  </a:lnTo>
                  <a:lnTo>
                    <a:pt x="111" y="327"/>
                  </a:lnTo>
                  <a:lnTo>
                    <a:pt x="78" y="289"/>
                  </a:lnTo>
                  <a:lnTo>
                    <a:pt x="47" y="247"/>
                  </a:lnTo>
                  <a:lnTo>
                    <a:pt x="26" y="202"/>
                  </a:lnTo>
                  <a:lnTo>
                    <a:pt x="10" y="156"/>
                  </a:lnTo>
                  <a:lnTo>
                    <a:pt x="4" y="111"/>
                  </a:lnTo>
                  <a:lnTo>
                    <a:pt x="0" y="70"/>
                  </a:lnTo>
                  <a:lnTo>
                    <a:pt x="4" y="37"/>
                  </a:lnTo>
                  <a:lnTo>
                    <a:pt x="10" y="1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0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Freeform 121"/>
            <p:cNvSpPr/>
            <p:nvPr/>
          </p:nvSpPr>
          <p:spPr>
            <a:xfrm>
              <a:off x="1306440" y="2957400"/>
              <a:ext cx="360360" cy="30492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689" h="585">
                  <a:moveTo>
                    <a:pt x="219" y="42"/>
                  </a:moveTo>
                  <a:lnTo>
                    <a:pt x="219" y="40"/>
                  </a:lnTo>
                  <a:lnTo>
                    <a:pt x="225" y="33"/>
                  </a:lnTo>
                  <a:lnTo>
                    <a:pt x="231" y="24"/>
                  </a:lnTo>
                  <a:lnTo>
                    <a:pt x="243" y="16"/>
                  </a:lnTo>
                  <a:lnTo>
                    <a:pt x="254" y="8"/>
                  </a:lnTo>
                  <a:lnTo>
                    <a:pt x="269" y="3"/>
                  </a:lnTo>
                  <a:lnTo>
                    <a:pt x="287" y="0"/>
                  </a:lnTo>
                  <a:lnTo>
                    <a:pt x="306" y="5"/>
                  </a:lnTo>
                  <a:lnTo>
                    <a:pt x="324" y="12"/>
                  </a:lnTo>
                  <a:lnTo>
                    <a:pt x="337" y="20"/>
                  </a:lnTo>
                  <a:lnTo>
                    <a:pt x="346" y="28"/>
                  </a:lnTo>
                  <a:lnTo>
                    <a:pt x="354" y="37"/>
                  </a:lnTo>
                  <a:lnTo>
                    <a:pt x="358" y="44"/>
                  </a:lnTo>
                  <a:lnTo>
                    <a:pt x="361" y="52"/>
                  </a:lnTo>
                  <a:lnTo>
                    <a:pt x="362" y="56"/>
                  </a:lnTo>
                  <a:lnTo>
                    <a:pt x="363" y="58"/>
                  </a:lnTo>
                  <a:lnTo>
                    <a:pt x="365" y="56"/>
                  </a:lnTo>
                  <a:lnTo>
                    <a:pt x="370" y="53"/>
                  </a:lnTo>
                  <a:lnTo>
                    <a:pt x="378" y="48"/>
                  </a:lnTo>
                  <a:lnTo>
                    <a:pt x="391" y="45"/>
                  </a:lnTo>
                  <a:lnTo>
                    <a:pt x="405" y="42"/>
                  </a:lnTo>
                  <a:lnTo>
                    <a:pt x="423" y="44"/>
                  </a:lnTo>
                  <a:lnTo>
                    <a:pt x="441" y="48"/>
                  </a:lnTo>
                  <a:lnTo>
                    <a:pt x="464" y="58"/>
                  </a:lnTo>
                  <a:lnTo>
                    <a:pt x="479" y="70"/>
                  </a:lnTo>
                  <a:lnTo>
                    <a:pt x="493" y="86"/>
                  </a:lnTo>
                  <a:lnTo>
                    <a:pt x="501" y="100"/>
                  </a:lnTo>
                  <a:lnTo>
                    <a:pt x="505" y="115"/>
                  </a:lnTo>
                  <a:lnTo>
                    <a:pt x="505" y="126"/>
                  </a:lnTo>
                  <a:lnTo>
                    <a:pt x="506" y="136"/>
                  </a:lnTo>
                  <a:lnTo>
                    <a:pt x="505" y="143"/>
                  </a:lnTo>
                  <a:lnTo>
                    <a:pt x="505" y="147"/>
                  </a:lnTo>
                  <a:lnTo>
                    <a:pt x="506" y="144"/>
                  </a:lnTo>
                  <a:lnTo>
                    <a:pt x="512" y="143"/>
                  </a:lnTo>
                  <a:lnTo>
                    <a:pt x="520" y="140"/>
                  </a:lnTo>
                  <a:lnTo>
                    <a:pt x="532" y="140"/>
                  </a:lnTo>
                  <a:lnTo>
                    <a:pt x="545" y="140"/>
                  </a:lnTo>
                  <a:lnTo>
                    <a:pt x="560" y="144"/>
                  </a:lnTo>
                  <a:lnTo>
                    <a:pt x="576" y="152"/>
                  </a:lnTo>
                  <a:lnTo>
                    <a:pt x="593" y="165"/>
                  </a:lnTo>
                  <a:lnTo>
                    <a:pt x="604" y="180"/>
                  </a:lnTo>
                  <a:lnTo>
                    <a:pt x="610" y="198"/>
                  </a:lnTo>
                  <a:lnTo>
                    <a:pt x="611" y="217"/>
                  </a:lnTo>
                  <a:lnTo>
                    <a:pt x="611" y="235"/>
                  </a:lnTo>
                  <a:lnTo>
                    <a:pt x="608" y="250"/>
                  </a:lnTo>
                  <a:lnTo>
                    <a:pt x="605" y="263"/>
                  </a:lnTo>
                  <a:lnTo>
                    <a:pt x="602" y="271"/>
                  </a:lnTo>
                  <a:lnTo>
                    <a:pt x="602" y="275"/>
                  </a:lnTo>
                  <a:lnTo>
                    <a:pt x="604" y="273"/>
                  </a:lnTo>
                  <a:lnTo>
                    <a:pt x="609" y="273"/>
                  </a:lnTo>
                  <a:lnTo>
                    <a:pt x="617" y="273"/>
                  </a:lnTo>
                  <a:lnTo>
                    <a:pt x="629" y="279"/>
                  </a:lnTo>
                  <a:lnTo>
                    <a:pt x="641" y="284"/>
                  </a:lnTo>
                  <a:lnTo>
                    <a:pt x="655" y="293"/>
                  </a:lnTo>
                  <a:lnTo>
                    <a:pt x="668" y="308"/>
                  </a:lnTo>
                  <a:lnTo>
                    <a:pt x="683" y="329"/>
                  </a:lnTo>
                  <a:lnTo>
                    <a:pt x="689" y="349"/>
                  </a:lnTo>
                  <a:lnTo>
                    <a:pt x="689" y="369"/>
                  </a:lnTo>
                  <a:lnTo>
                    <a:pt x="683" y="386"/>
                  </a:lnTo>
                  <a:lnTo>
                    <a:pt x="674" y="402"/>
                  </a:lnTo>
                  <a:lnTo>
                    <a:pt x="662" y="413"/>
                  </a:lnTo>
                  <a:lnTo>
                    <a:pt x="650" y="425"/>
                  </a:lnTo>
                  <a:lnTo>
                    <a:pt x="642" y="432"/>
                  </a:lnTo>
                  <a:lnTo>
                    <a:pt x="639" y="435"/>
                  </a:lnTo>
                  <a:lnTo>
                    <a:pt x="641" y="436"/>
                  </a:lnTo>
                  <a:lnTo>
                    <a:pt x="647" y="441"/>
                  </a:lnTo>
                  <a:lnTo>
                    <a:pt x="654" y="449"/>
                  </a:lnTo>
                  <a:lnTo>
                    <a:pt x="663" y="462"/>
                  </a:lnTo>
                  <a:lnTo>
                    <a:pt x="670" y="477"/>
                  </a:lnTo>
                  <a:lnTo>
                    <a:pt x="674" y="493"/>
                  </a:lnTo>
                  <a:lnTo>
                    <a:pt x="672" y="510"/>
                  </a:lnTo>
                  <a:lnTo>
                    <a:pt x="668" y="530"/>
                  </a:lnTo>
                  <a:lnTo>
                    <a:pt x="655" y="546"/>
                  </a:lnTo>
                  <a:lnTo>
                    <a:pt x="641" y="557"/>
                  </a:lnTo>
                  <a:lnTo>
                    <a:pt x="622" y="564"/>
                  </a:lnTo>
                  <a:lnTo>
                    <a:pt x="605" y="569"/>
                  </a:lnTo>
                  <a:lnTo>
                    <a:pt x="586" y="571"/>
                  </a:lnTo>
                  <a:lnTo>
                    <a:pt x="573" y="573"/>
                  </a:lnTo>
                  <a:lnTo>
                    <a:pt x="564" y="573"/>
                  </a:lnTo>
                  <a:lnTo>
                    <a:pt x="561" y="573"/>
                  </a:lnTo>
                  <a:lnTo>
                    <a:pt x="100" y="585"/>
                  </a:lnTo>
                  <a:lnTo>
                    <a:pt x="95" y="581"/>
                  </a:lnTo>
                  <a:lnTo>
                    <a:pt x="83" y="572"/>
                  </a:lnTo>
                  <a:lnTo>
                    <a:pt x="65" y="557"/>
                  </a:lnTo>
                  <a:lnTo>
                    <a:pt x="48" y="540"/>
                  </a:lnTo>
                  <a:lnTo>
                    <a:pt x="28" y="520"/>
                  </a:lnTo>
                  <a:lnTo>
                    <a:pt x="12" y="502"/>
                  </a:lnTo>
                  <a:lnTo>
                    <a:pt x="1" y="483"/>
                  </a:lnTo>
                  <a:lnTo>
                    <a:pt x="0" y="469"/>
                  </a:lnTo>
                  <a:lnTo>
                    <a:pt x="11" y="439"/>
                  </a:lnTo>
                  <a:lnTo>
                    <a:pt x="37" y="384"/>
                  </a:lnTo>
                  <a:lnTo>
                    <a:pt x="73" y="316"/>
                  </a:lnTo>
                  <a:lnTo>
                    <a:pt x="112" y="240"/>
                  </a:lnTo>
                  <a:lnTo>
                    <a:pt x="151" y="165"/>
                  </a:lnTo>
                  <a:lnTo>
                    <a:pt x="185" y="103"/>
                  </a:lnTo>
                  <a:lnTo>
                    <a:pt x="210" y="58"/>
                  </a:lnTo>
                  <a:lnTo>
                    <a:pt x="219" y="42"/>
                  </a:lnTo>
                  <a:close/>
                  <a:moveTo>
                    <a:pt x="116" y="316"/>
                  </a:moveTo>
                  <a:lnTo>
                    <a:pt x="116" y="321"/>
                  </a:lnTo>
                  <a:lnTo>
                    <a:pt x="118" y="328"/>
                  </a:lnTo>
                  <a:lnTo>
                    <a:pt x="120" y="336"/>
                  </a:lnTo>
                  <a:lnTo>
                    <a:pt x="122" y="342"/>
                  </a:lnTo>
                  <a:lnTo>
                    <a:pt x="124" y="349"/>
                  </a:lnTo>
                  <a:lnTo>
                    <a:pt x="126" y="355"/>
                  </a:lnTo>
                  <a:lnTo>
                    <a:pt x="128" y="359"/>
                  </a:lnTo>
                  <a:lnTo>
                    <a:pt x="131" y="357"/>
                  </a:lnTo>
                  <a:lnTo>
                    <a:pt x="135" y="350"/>
                  </a:lnTo>
                  <a:lnTo>
                    <a:pt x="140" y="338"/>
                  </a:lnTo>
                  <a:lnTo>
                    <a:pt x="147" y="328"/>
                  </a:lnTo>
                  <a:lnTo>
                    <a:pt x="152" y="314"/>
                  </a:lnTo>
                  <a:lnTo>
                    <a:pt x="157" y="304"/>
                  </a:lnTo>
                  <a:lnTo>
                    <a:pt x="160" y="296"/>
                  </a:lnTo>
                  <a:lnTo>
                    <a:pt x="162" y="293"/>
                  </a:lnTo>
                  <a:lnTo>
                    <a:pt x="159" y="293"/>
                  </a:lnTo>
                  <a:lnTo>
                    <a:pt x="148" y="296"/>
                  </a:lnTo>
                  <a:lnTo>
                    <a:pt x="140" y="297"/>
                  </a:lnTo>
                  <a:lnTo>
                    <a:pt x="133" y="301"/>
                  </a:lnTo>
                  <a:lnTo>
                    <a:pt x="124" y="306"/>
                  </a:lnTo>
                  <a:lnTo>
                    <a:pt x="116" y="316"/>
                  </a:lnTo>
                  <a:close/>
                  <a:moveTo>
                    <a:pt x="201" y="318"/>
                  </a:moveTo>
                  <a:lnTo>
                    <a:pt x="153" y="391"/>
                  </a:lnTo>
                  <a:lnTo>
                    <a:pt x="176" y="409"/>
                  </a:lnTo>
                  <a:lnTo>
                    <a:pt x="235" y="350"/>
                  </a:lnTo>
                  <a:lnTo>
                    <a:pt x="236" y="346"/>
                  </a:lnTo>
                  <a:lnTo>
                    <a:pt x="240" y="338"/>
                  </a:lnTo>
                  <a:lnTo>
                    <a:pt x="242" y="328"/>
                  </a:lnTo>
                  <a:lnTo>
                    <a:pt x="235" y="318"/>
                  </a:lnTo>
                  <a:lnTo>
                    <a:pt x="223" y="312"/>
                  </a:lnTo>
                  <a:lnTo>
                    <a:pt x="213" y="313"/>
                  </a:lnTo>
                  <a:lnTo>
                    <a:pt x="203" y="316"/>
                  </a:lnTo>
                  <a:lnTo>
                    <a:pt x="201" y="318"/>
                  </a:lnTo>
                  <a:close/>
                  <a:moveTo>
                    <a:pt x="269" y="373"/>
                  </a:moveTo>
                  <a:lnTo>
                    <a:pt x="203" y="441"/>
                  </a:lnTo>
                  <a:lnTo>
                    <a:pt x="213" y="450"/>
                  </a:lnTo>
                  <a:lnTo>
                    <a:pt x="297" y="407"/>
                  </a:lnTo>
                  <a:lnTo>
                    <a:pt x="300" y="403"/>
                  </a:lnTo>
                  <a:lnTo>
                    <a:pt x="304" y="399"/>
                  </a:lnTo>
                  <a:lnTo>
                    <a:pt x="304" y="390"/>
                  </a:lnTo>
                  <a:lnTo>
                    <a:pt x="301" y="379"/>
                  </a:lnTo>
                  <a:lnTo>
                    <a:pt x="296" y="371"/>
                  </a:lnTo>
                  <a:lnTo>
                    <a:pt x="291" y="369"/>
                  </a:lnTo>
                  <a:lnTo>
                    <a:pt x="285" y="367"/>
                  </a:lnTo>
                  <a:lnTo>
                    <a:pt x="281" y="367"/>
                  </a:lnTo>
                  <a:lnTo>
                    <a:pt x="272" y="370"/>
                  </a:lnTo>
                  <a:lnTo>
                    <a:pt x="269" y="373"/>
                  </a:lnTo>
                  <a:close/>
                  <a:moveTo>
                    <a:pt x="322" y="469"/>
                  </a:moveTo>
                  <a:lnTo>
                    <a:pt x="325" y="468"/>
                  </a:lnTo>
                  <a:lnTo>
                    <a:pt x="333" y="465"/>
                  </a:lnTo>
                  <a:lnTo>
                    <a:pt x="339" y="458"/>
                  </a:lnTo>
                  <a:lnTo>
                    <a:pt x="342" y="448"/>
                  </a:lnTo>
                  <a:lnTo>
                    <a:pt x="335" y="439"/>
                  </a:lnTo>
                  <a:lnTo>
                    <a:pt x="328" y="437"/>
                  </a:lnTo>
                  <a:lnTo>
                    <a:pt x="320" y="439"/>
                  </a:lnTo>
                  <a:lnTo>
                    <a:pt x="317" y="441"/>
                  </a:lnTo>
                  <a:lnTo>
                    <a:pt x="235" y="479"/>
                  </a:lnTo>
                  <a:lnTo>
                    <a:pt x="244" y="498"/>
                  </a:lnTo>
                  <a:lnTo>
                    <a:pt x="322" y="469"/>
                  </a:lnTo>
                  <a:close/>
                  <a:moveTo>
                    <a:pt x="326" y="542"/>
                  </a:moveTo>
                  <a:lnTo>
                    <a:pt x="334" y="536"/>
                  </a:lnTo>
                  <a:lnTo>
                    <a:pt x="343" y="531"/>
                  </a:lnTo>
                  <a:lnTo>
                    <a:pt x="347" y="526"/>
                  </a:lnTo>
                  <a:lnTo>
                    <a:pt x="353" y="522"/>
                  </a:lnTo>
                  <a:lnTo>
                    <a:pt x="355" y="512"/>
                  </a:lnTo>
                  <a:lnTo>
                    <a:pt x="357" y="510"/>
                  </a:lnTo>
                  <a:lnTo>
                    <a:pt x="351" y="510"/>
                  </a:lnTo>
                  <a:lnTo>
                    <a:pt x="342" y="511"/>
                  </a:lnTo>
                  <a:lnTo>
                    <a:pt x="328" y="514"/>
                  </a:lnTo>
                  <a:lnTo>
                    <a:pt x="313" y="518"/>
                  </a:lnTo>
                  <a:lnTo>
                    <a:pt x="296" y="520"/>
                  </a:lnTo>
                  <a:lnTo>
                    <a:pt x="283" y="524"/>
                  </a:lnTo>
                  <a:lnTo>
                    <a:pt x="272" y="528"/>
                  </a:lnTo>
                  <a:lnTo>
                    <a:pt x="269" y="532"/>
                  </a:lnTo>
                  <a:lnTo>
                    <a:pt x="271" y="534"/>
                  </a:lnTo>
                  <a:lnTo>
                    <a:pt x="277" y="535"/>
                  </a:lnTo>
                  <a:lnTo>
                    <a:pt x="285" y="536"/>
                  </a:lnTo>
                  <a:lnTo>
                    <a:pt x="297" y="539"/>
                  </a:lnTo>
                  <a:lnTo>
                    <a:pt x="306" y="539"/>
                  </a:lnTo>
                  <a:lnTo>
                    <a:pt x="317" y="540"/>
                  </a:lnTo>
                  <a:lnTo>
                    <a:pt x="324" y="540"/>
                  </a:lnTo>
                  <a:lnTo>
                    <a:pt x="326" y="54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122"/>
            <p:cNvSpPr/>
            <p:nvPr/>
          </p:nvSpPr>
          <p:spPr>
            <a:xfrm>
              <a:off x="1324080" y="3130560"/>
              <a:ext cx="122040" cy="1191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238" h="235">
                  <a:moveTo>
                    <a:pt x="28" y="22"/>
                  </a:moveTo>
                  <a:lnTo>
                    <a:pt x="0" y="73"/>
                  </a:lnTo>
                  <a:lnTo>
                    <a:pt x="3" y="73"/>
                  </a:lnTo>
                  <a:lnTo>
                    <a:pt x="12" y="78"/>
                  </a:lnTo>
                  <a:lnTo>
                    <a:pt x="24" y="84"/>
                  </a:lnTo>
                  <a:lnTo>
                    <a:pt x="41" y="94"/>
                  </a:lnTo>
                  <a:lnTo>
                    <a:pt x="57" y="103"/>
                  </a:lnTo>
                  <a:lnTo>
                    <a:pt x="74" y="115"/>
                  </a:lnTo>
                  <a:lnTo>
                    <a:pt x="89" y="128"/>
                  </a:lnTo>
                  <a:lnTo>
                    <a:pt x="101" y="141"/>
                  </a:lnTo>
                  <a:lnTo>
                    <a:pt x="109" y="156"/>
                  </a:lnTo>
                  <a:lnTo>
                    <a:pt x="117" y="172"/>
                  </a:lnTo>
                  <a:lnTo>
                    <a:pt x="125" y="187"/>
                  </a:lnTo>
                  <a:lnTo>
                    <a:pt x="134" y="203"/>
                  </a:lnTo>
                  <a:lnTo>
                    <a:pt x="139" y="215"/>
                  </a:lnTo>
                  <a:lnTo>
                    <a:pt x="146" y="226"/>
                  </a:lnTo>
                  <a:lnTo>
                    <a:pt x="148" y="232"/>
                  </a:lnTo>
                  <a:lnTo>
                    <a:pt x="151" y="235"/>
                  </a:lnTo>
                  <a:lnTo>
                    <a:pt x="238" y="223"/>
                  </a:lnTo>
                  <a:lnTo>
                    <a:pt x="213" y="207"/>
                  </a:lnTo>
                  <a:lnTo>
                    <a:pt x="209" y="207"/>
                  </a:lnTo>
                  <a:lnTo>
                    <a:pt x="202" y="209"/>
                  </a:lnTo>
                  <a:lnTo>
                    <a:pt x="192" y="209"/>
                  </a:lnTo>
                  <a:lnTo>
                    <a:pt x="183" y="211"/>
                  </a:lnTo>
                  <a:lnTo>
                    <a:pt x="171" y="211"/>
                  </a:lnTo>
                  <a:lnTo>
                    <a:pt x="160" y="213"/>
                  </a:lnTo>
                  <a:lnTo>
                    <a:pt x="154" y="211"/>
                  </a:lnTo>
                  <a:lnTo>
                    <a:pt x="151" y="210"/>
                  </a:lnTo>
                  <a:lnTo>
                    <a:pt x="146" y="203"/>
                  </a:lnTo>
                  <a:lnTo>
                    <a:pt x="143" y="198"/>
                  </a:lnTo>
                  <a:lnTo>
                    <a:pt x="143" y="191"/>
                  </a:lnTo>
                  <a:lnTo>
                    <a:pt x="144" y="189"/>
                  </a:lnTo>
                  <a:lnTo>
                    <a:pt x="147" y="186"/>
                  </a:lnTo>
                  <a:lnTo>
                    <a:pt x="154" y="184"/>
                  </a:lnTo>
                  <a:lnTo>
                    <a:pt x="160" y="181"/>
                  </a:lnTo>
                  <a:lnTo>
                    <a:pt x="171" y="180"/>
                  </a:lnTo>
                  <a:lnTo>
                    <a:pt x="180" y="177"/>
                  </a:lnTo>
                  <a:lnTo>
                    <a:pt x="188" y="176"/>
                  </a:lnTo>
                  <a:lnTo>
                    <a:pt x="195" y="176"/>
                  </a:lnTo>
                  <a:lnTo>
                    <a:pt x="197" y="176"/>
                  </a:lnTo>
                  <a:lnTo>
                    <a:pt x="188" y="157"/>
                  </a:lnTo>
                  <a:lnTo>
                    <a:pt x="185" y="157"/>
                  </a:lnTo>
                  <a:lnTo>
                    <a:pt x="180" y="160"/>
                  </a:lnTo>
                  <a:lnTo>
                    <a:pt x="171" y="164"/>
                  </a:lnTo>
                  <a:lnTo>
                    <a:pt x="163" y="168"/>
                  </a:lnTo>
                  <a:lnTo>
                    <a:pt x="152" y="170"/>
                  </a:lnTo>
                  <a:lnTo>
                    <a:pt x="144" y="174"/>
                  </a:lnTo>
                  <a:lnTo>
                    <a:pt x="138" y="176"/>
                  </a:lnTo>
                  <a:lnTo>
                    <a:pt x="135" y="176"/>
                  </a:lnTo>
                  <a:lnTo>
                    <a:pt x="134" y="172"/>
                  </a:lnTo>
                  <a:lnTo>
                    <a:pt x="134" y="166"/>
                  </a:lnTo>
                  <a:lnTo>
                    <a:pt x="132" y="161"/>
                  </a:lnTo>
                  <a:lnTo>
                    <a:pt x="132" y="160"/>
                  </a:lnTo>
                  <a:lnTo>
                    <a:pt x="169" y="129"/>
                  </a:lnTo>
                  <a:lnTo>
                    <a:pt x="158" y="123"/>
                  </a:lnTo>
                  <a:lnTo>
                    <a:pt x="151" y="128"/>
                  </a:lnTo>
                  <a:lnTo>
                    <a:pt x="139" y="140"/>
                  </a:lnTo>
                  <a:lnTo>
                    <a:pt x="131" y="144"/>
                  </a:lnTo>
                  <a:lnTo>
                    <a:pt x="125" y="149"/>
                  </a:lnTo>
                  <a:lnTo>
                    <a:pt x="119" y="151"/>
                  </a:lnTo>
                  <a:lnTo>
                    <a:pt x="117" y="151"/>
                  </a:lnTo>
                  <a:lnTo>
                    <a:pt x="111" y="143"/>
                  </a:lnTo>
                  <a:lnTo>
                    <a:pt x="107" y="133"/>
                  </a:lnTo>
                  <a:lnTo>
                    <a:pt x="103" y="125"/>
                  </a:lnTo>
                  <a:lnTo>
                    <a:pt x="103" y="123"/>
                  </a:lnTo>
                  <a:lnTo>
                    <a:pt x="132" y="88"/>
                  </a:lnTo>
                  <a:lnTo>
                    <a:pt x="110" y="73"/>
                  </a:lnTo>
                  <a:lnTo>
                    <a:pt x="109" y="74"/>
                  </a:lnTo>
                  <a:lnTo>
                    <a:pt x="106" y="79"/>
                  </a:lnTo>
                  <a:lnTo>
                    <a:pt x="102" y="86"/>
                  </a:lnTo>
                  <a:lnTo>
                    <a:pt x="98" y="94"/>
                  </a:lnTo>
                  <a:lnTo>
                    <a:pt x="92" y="100"/>
                  </a:lnTo>
                  <a:lnTo>
                    <a:pt x="85" y="106"/>
                  </a:lnTo>
                  <a:lnTo>
                    <a:pt x="78" y="108"/>
                  </a:lnTo>
                  <a:lnTo>
                    <a:pt x="72" y="107"/>
                  </a:lnTo>
                  <a:lnTo>
                    <a:pt x="66" y="100"/>
                  </a:lnTo>
                  <a:lnTo>
                    <a:pt x="66" y="94"/>
                  </a:lnTo>
                  <a:lnTo>
                    <a:pt x="66" y="84"/>
                  </a:lnTo>
                  <a:lnTo>
                    <a:pt x="70" y="77"/>
                  </a:lnTo>
                  <a:lnTo>
                    <a:pt x="74" y="67"/>
                  </a:lnTo>
                  <a:lnTo>
                    <a:pt x="78" y="61"/>
                  </a:lnTo>
                  <a:lnTo>
                    <a:pt x="80" y="55"/>
                  </a:lnTo>
                  <a:lnTo>
                    <a:pt x="82" y="54"/>
                  </a:lnTo>
                  <a:lnTo>
                    <a:pt x="76" y="0"/>
                  </a:lnTo>
                  <a:lnTo>
                    <a:pt x="74" y="3"/>
                  </a:lnTo>
                  <a:lnTo>
                    <a:pt x="72" y="12"/>
                  </a:lnTo>
                  <a:lnTo>
                    <a:pt x="66" y="24"/>
                  </a:lnTo>
                  <a:lnTo>
                    <a:pt x="62" y="40"/>
                  </a:lnTo>
                  <a:lnTo>
                    <a:pt x="56" y="53"/>
                  </a:lnTo>
                  <a:lnTo>
                    <a:pt x="49" y="63"/>
                  </a:lnTo>
                  <a:lnTo>
                    <a:pt x="41" y="70"/>
                  </a:lnTo>
                  <a:lnTo>
                    <a:pt x="35" y="73"/>
                  </a:lnTo>
                  <a:lnTo>
                    <a:pt x="28" y="66"/>
                  </a:lnTo>
                  <a:lnTo>
                    <a:pt x="25" y="59"/>
                  </a:lnTo>
                  <a:lnTo>
                    <a:pt x="23" y="51"/>
                  </a:lnTo>
                  <a:lnTo>
                    <a:pt x="24" y="44"/>
                  </a:lnTo>
                  <a:lnTo>
                    <a:pt x="24" y="34"/>
                  </a:lnTo>
                  <a:lnTo>
                    <a:pt x="25" y="28"/>
                  </a:lnTo>
                  <a:lnTo>
                    <a:pt x="27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f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Freeform 123"/>
            <p:cNvSpPr/>
            <p:nvPr/>
          </p:nvSpPr>
          <p:spPr>
            <a:xfrm>
              <a:off x="1265400" y="3166920"/>
              <a:ext cx="134640" cy="1270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65" h="249">
                  <a:moveTo>
                    <a:pt x="109" y="0"/>
                  </a:moveTo>
                  <a:lnTo>
                    <a:pt x="111" y="0"/>
                  </a:lnTo>
                  <a:lnTo>
                    <a:pt x="119" y="0"/>
                  </a:lnTo>
                  <a:lnTo>
                    <a:pt x="129" y="2"/>
                  </a:lnTo>
                  <a:lnTo>
                    <a:pt x="144" y="8"/>
                  </a:lnTo>
                  <a:lnTo>
                    <a:pt x="158" y="13"/>
                  </a:lnTo>
                  <a:lnTo>
                    <a:pt x="177" y="23"/>
                  </a:lnTo>
                  <a:lnTo>
                    <a:pt x="195" y="37"/>
                  </a:lnTo>
                  <a:lnTo>
                    <a:pt x="214" y="54"/>
                  </a:lnTo>
                  <a:lnTo>
                    <a:pt x="228" y="72"/>
                  </a:lnTo>
                  <a:lnTo>
                    <a:pt x="243" y="92"/>
                  </a:lnTo>
                  <a:lnTo>
                    <a:pt x="253" y="111"/>
                  </a:lnTo>
                  <a:lnTo>
                    <a:pt x="261" y="129"/>
                  </a:lnTo>
                  <a:lnTo>
                    <a:pt x="265" y="145"/>
                  </a:lnTo>
                  <a:lnTo>
                    <a:pt x="265" y="161"/>
                  </a:lnTo>
                  <a:lnTo>
                    <a:pt x="263" y="174"/>
                  </a:lnTo>
                  <a:lnTo>
                    <a:pt x="257" y="186"/>
                  </a:lnTo>
                  <a:lnTo>
                    <a:pt x="244" y="196"/>
                  </a:lnTo>
                  <a:lnTo>
                    <a:pt x="226" y="211"/>
                  </a:lnTo>
                  <a:lnTo>
                    <a:pt x="203" y="224"/>
                  </a:lnTo>
                  <a:lnTo>
                    <a:pt x="177" y="237"/>
                  </a:lnTo>
                  <a:lnTo>
                    <a:pt x="148" y="245"/>
                  </a:lnTo>
                  <a:lnTo>
                    <a:pt x="119" y="249"/>
                  </a:lnTo>
                  <a:lnTo>
                    <a:pt x="91" y="247"/>
                  </a:lnTo>
                  <a:lnTo>
                    <a:pt x="66" y="236"/>
                  </a:lnTo>
                  <a:lnTo>
                    <a:pt x="43" y="218"/>
                  </a:lnTo>
                  <a:lnTo>
                    <a:pt x="28" y="200"/>
                  </a:lnTo>
                  <a:lnTo>
                    <a:pt x="16" y="181"/>
                  </a:lnTo>
                  <a:lnTo>
                    <a:pt x="8" y="165"/>
                  </a:lnTo>
                  <a:lnTo>
                    <a:pt x="1" y="148"/>
                  </a:lnTo>
                  <a:lnTo>
                    <a:pt x="0" y="134"/>
                  </a:lnTo>
                  <a:lnTo>
                    <a:pt x="0" y="122"/>
                  </a:lnTo>
                  <a:lnTo>
                    <a:pt x="4" y="116"/>
                  </a:lnTo>
                  <a:lnTo>
                    <a:pt x="14" y="89"/>
                  </a:lnTo>
                  <a:lnTo>
                    <a:pt x="30" y="67"/>
                  </a:lnTo>
                  <a:lnTo>
                    <a:pt x="47" y="46"/>
                  </a:lnTo>
                  <a:lnTo>
                    <a:pt x="66" y="30"/>
                  </a:lnTo>
                  <a:lnTo>
                    <a:pt x="82" y="15"/>
                  </a:lnTo>
                  <a:lnTo>
                    <a:pt x="96" y="6"/>
                  </a:lnTo>
                  <a:lnTo>
                    <a:pt x="105" y="1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124"/>
            <p:cNvSpPr/>
            <p:nvPr/>
          </p:nvSpPr>
          <p:spPr>
            <a:xfrm>
              <a:off x="1276200" y="3178080"/>
              <a:ext cx="113040" cy="10656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22" h="210">
                  <a:moveTo>
                    <a:pt x="92" y="0"/>
                  </a:moveTo>
                  <a:lnTo>
                    <a:pt x="94" y="0"/>
                  </a:lnTo>
                  <a:lnTo>
                    <a:pt x="100" y="0"/>
                  </a:lnTo>
                  <a:lnTo>
                    <a:pt x="108" y="1"/>
                  </a:lnTo>
                  <a:lnTo>
                    <a:pt x="121" y="5"/>
                  </a:lnTo>
                  <a:lnTo>
                    <a:pt x="135" y="9"/>
                  </a:lnTo>
                  <a:lnTo>
                    <a:pt x="149" y="17"/>
                  </a:lnTo>
                  <a:lnTo>
                    <a:pt x="164" y="28"/>
                  </a:lnTo>
                  <a:lnTo>
                    <a:pt x="180" y="44"/>
                  </a:lnTo>
                  <a:lnTo>
                    <a:pt x="191" y="61"/>
                  </a:lnTo>
                  <a:lnTo>
                    <a:pt x="203" y="78"/>
                  </a:lnTo>
                  <a:lnTo>
                    <a:pt x="211" y="94"/>
                  </a:lnTo>
                  <a:lnTo>
                    <a:pt x="219" y="111"/>
                  </a:lnTo>
                  <a:lnTo>
                    <a:pt x="220" y="126"/>
                  </a:lnTo>
                  <a:lnTo>
                    <a:pt x="222" y="139"/>
                  </a:lnTo>
                  <a:lnTo>
                    <a:pt x="218" y="149"/>
                  </a:lnTo>
                  <a:lnTo>
                    <a:pt x="214" y="160"/>
                  </a:lnTo>
                  <a:lnTo>
                    <a:pt x="203" y="168"/>
                  </a:lnTo>
                  <a:lnTo>
                    <a:pt x="189" y="180"/>
                  </a:lnTo>
                  <a:lnTo>
                    <a:pt x="169" y="190"/>
                  </a:lnTo>
                  <a:lnTo>
                    <a:pt x="148" y="201"/>
                  </a:lnTo>
                  <a:lnTo>
                    <a:pt x="124" y="207"/>
                  </a:lnTo>
                  <a:lnTo>
                    <a:pt x="100" y="210"/>
                  </a:lnTo>
                  <a:lnTo>
                    <a:pt x="77" y="207"/>
                  </a:lnTo>
                  <a:lnTo>
                    <a:pt x="58" y="198"/>
                  </a:lnTo>
                  <a:lnTo>
                    <a:pt x="38" y="182"/>
                  </a:lnTo>
                  <a:lnTo>
                    <a:pt x="24" y="166"/>
                  </a:lnTo>
                  <a:lnTo>
                    <a:pt x="13" y="151"/>
                  </a:lnTo>
                  <a:lnTo>
                    <a:pt x="7" y="137"/>
                  </a:lnTo>
                  <a:lnTo>
                    <a:pt x="1" y="122"/>
                  </a:lnTo>
                  <a:lnTo>
                    <a:pt x="0" y="111"/>
                  </a:lnTo>
                  <a:lnTo>
                    <a:pt x="0" y="100"/>
                  </a:lnTo>
                  <a:lnTo>
                    <a:pt x="4" y="94"/>
                  </a:lnTo>
                  <a:lnTo>
                    <a:pt x="13" y="71"/>
                  </a:lnTo>
                  <a:lnTo>
                    <a:pt x="26" y="53"/>
                  </a:lnTo>
                  <a:lnTo>
                    <a:pt x="41" y="36"/>
                  </a:lnTo>
                  <a:lnTo>
                    <a:pt x="55" y="24"/>
                  </a:lnTo>
                  <a:lnTo>
                    <a:pt x="69" y="12"/>
                  </a:lnTo>
                  <a:lnTo>
                    <a:pt x="81" y="5"/>
                  </a:lnTo>
                  <a:lnTo>
                    <a:pt x="88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125"/>
            <p:cNvSpPr/>
            <p:nvPr/>
          </p:nvSpPr>
          <p:spPr>
            <a:xfrm>
              <a:off x="1362240" y="2965320"/>
              <a:ext cx="126720" cy="2145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48" h="414">
                  <a:moveTo>
                    <a:pt x="145" y="38"/>
                  </a:moveTo>
                  <a:lnTo>
                    <a:pt x="145" y="35"/>
                  </a:lnTo>
                  <a:lnTo>
                    <a:pt x="149" y="30"/>
                  </a:lnTo>
                  <a:lnTo>
                    <a:pt x="154" y="22"/>
                  </a:lnTo>
                  <a:lnTo>
                    <a:pt x="162" y="15"/>
                  </a:lnTo>
                  <a:lnTo>
                    <a:pt x="170" y="8"/>
                  </a:lnTo>
                  <a:lnTo>
                    <a:pt x="179" y="2"/>
                  </a:lnTo>
                  <a:lnTo>
                    <a:pt x="189" y="0"/>
                  </a:lnTo>
                  <a:lnTo>
                    <a:pt x="200" y="2"/>
                  </a:lnTo>
                  <a:lnTo>
                    <a:pt x="210" y="8"/>
                  </a:lnTo>
                  <a:lnTo>
                    <a:pt x="219" y="14"/>
                  </a:lnTo>
                  <a:lnTo>
                    <a:pt x="226" y="22"/>
                  </a:lnTo>
                  <a:lnTo>
                    <a:pt x="233" y="31"/>
                  </a:lnTo>
                  <a:lnTo>
                    <a:pt x="237" y="39"/>
                  </a:lnTo>
                  <a:lnTo>
                    <a:pt x="241" y="47"/>
                  </a:lnTo>
                  <a:lnTo>
                    <a:pt x="244" y="54"/>
                  </a:lnTo>
                  <a:lnTo>
                    <a:pt x="248" y="59"/>
                  </a:lnTo>
                  <a:lnTo>
                    <a:pt x="243" y="70"/>
                  </a:lnTo>
                  <a:lnTo>
                    <a:pt x="231" y="95"/>
                  </a:lnTo>
                  <a:lnTo>
                    <a:pt x="212" y="128"/>
                  </a:lnTo>
                  <a:lnTo>
                    <a:pt x="193" y="166"/>
                  </a:lnTo>
                  <a:lnTo>
                    <a:pt x="170" y="202"/>
                  </a:lnTo>
                  <a:lnTo>
                    <a:pt x="153" y="235"/>
                  </a:lnTo>
                  <a:lnTo>
                    <a:pt x="140" y="257"/>
                  </a:lnTo>
                  <a:lnTo>
                    <a:pt x="136" y="266"/>
                  </a:lnTo>
                  <a:lnTo>
                    <a:pt x="97" y="278"/>
                  </a:lnTo>
                  <a:lnTo>
                    <a:pt x="35" y="373"/>
                  </a:lnTo>
                  <a:lnTo>
                    <a:pt x="33" y="375"/>
                  </a:lnTo>
                  <a:lnTo>
                    <a:pt x="30" y="381"/>
                  </a:lnTo>
                  <a:lnTo>
                    <a:pt x="25" y="388"/>
                  </a:lnTo>
                  <a:lnTo>
                    <a:pt x="20" y="397"/>
                  </a:lnTo>
                  <a:lnTo>
                    <a:pt x="13" y="404"/>
                  </a:lnTo>
                  <a:lnTo>
                    <a:pt x="8" y="412"/>
                  </a:lnTo>
                  <a:lnTo>
                    <a:pt x="2" y="414"/>
                  </a:lnTo>
                  <a:lnTo>
                    <a:pt x="0" y="414"/>
                  </a:lnTo>
                  <a:lnTo>
                    <a:pt x="1" y="404"/>
                  </a:lnTo>
                  <a:lnTo>
                    <a:pt x="10" y="388"/>
                  </a:lnTo>
                  <a:lnTo>
                    <a:pt x="22" y="367"/>
                  </a:lnTo>
                  <a:lnTo>
                    <a:pt x="38" y="344"/>
                  </a:lnTo>
                  <a:lnTo>
                    <a:pt x="51" y="321"/>
                  </a:lnTo>
                  <a:lnTo>
                    <a:pt x="66" y="299"/>
                  </a:lnTo>
                  <a:lnTo>
                    <a:pt x="75" y="282"/>
                  </a:lnTo>
                  <a:lnTo>
                    <a:pt x="79" y="273"/>
                  </a:lnTo>
                  <a:lnTo>
                    <a:pt x="78" y="265"/>
                  </a:lnTo>
                  <a:lnTo>
                    <a:pt x="76" y="258"/>
                  </a:lnTo>
                  <a:lnTo>
                    <a:pt x="74" y="251"/>
                  </a:lnTo>
                  <a:lnTo>
                    <a:pt x="71" y="243"/>
                  </a:lnTo>
                  <a:lnTo>
                    <a:pt x="64" y="229"/>
                  </a:lnTo>
                  <a:lnTo>
                    <a:pt x="63" y="225"/>
                  </a:lnTo>
                  <a:lnTo>
                    <a:pt x="145" y="38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126"/>
            <p:cNvSpPr/>
            <p:nvPr/>
          </p:nvSpPr>
          <p:spPr>
            <a:xfrm>
              <a:off x="1386000" y="2989440"/>
              <a:ext cx="172800" cy="21096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335" h="408">
                  <a:moveTo>
                    <a:pt x="219" y="23"/>
                  </a:moveTo>
                  <a:lnTo>
                    <a:pt x="220" y="20"/>
                  </a:lnTo>
                  <a:lnTo>
                    <a:pt x="227" y="16"/>
                  </a:lnTo>
                  <a:lnTo>
                    <a:pt x="237" y="9"/>
                  </a:lnTo>
                  <a:lnTo>
                    <a:pt x="251" y="5"/>
                  </a:lnTo>
                  <a:lnTo>
                    <a:pt x="264" y="0"/>
                  </a:lnTo>
                  <a:lnTo>
                    <a:pt x="278" y="0"/>
                  </a:lnTo>
                  <a:lnTo>
                    <a:pt x="293" y="4"/>
                  </a:lnTo>
                  <a:lnTo>
                    <a:pt x="306" y="13"/>
                  </a:lnTo>
                  <a:lnTo>
                    <a:pt x="315" y="25"/>
                  </a:lnTo>
                  <a:lnTo>
                    <a:pt x="323" y="40"/>
                  </a:lnTo>
                  <a:lnTo>
                    <a:pt x="328" y="52"/>
                  </a:lnTo>
                  <a:lnTo>
                    <a:pt x="334" y="66"/>
                  </a:lnTo>
                  <a:lnTo>
                    <a:pt x="335" y="77"/>
                  </a:lnTo>
                  <a:lnTo>
                    <a:pt x="335" y="89"/>
                  </a:lnTo>
                  <a:lnTo>
                    <a:pt x="334" y="97"/>
                  </a:lnTo>
                  <a:lnTo>
                    <a:pt x="331" y="105"/>
                  </a:lnTo>
                  <a:lnTo>
                    <a:pt x="319" y="115"/>
                  </a:lnTo>
                  <a:lnTo>
                    <a:pt x="299" y="138"/>
                  </a:lnTo>
                  <a:lnTo>
                    <a:pt x="273" y="168"/>
                  </a:lnTo>
                  <a:lnTo>
                    <a:pt x="244" y="204"/>
                  </a:lnTo>
                  <a:lnTo>
                    <a:pt x="215" y="237"/>
                  </a:lnTo>
                  <a:lnTo>
                    <a:pt x="190" y="267"/>
                  </a:lnTo>
                  <a:lnTo>
                    <a:pt x="171" y="287"/>
                  </a:lnTo>
                  <a:lnTo>
                    <a:pt x="166" y="296"/>
                  </a:lnTo>
                  <a:lnTo>
                    <a:pt x="125" y="292"/>
                  </a:lnTo>
                  <a:lnTo>
                    <a:pt x="120" y="296"/>
                  </a:lnTo>
                  <a:lnTo>
                    <a:pt x="107" y="309"/>
                  </a:lnTo>
                  <a:lnTo>
                    <a:pt x="88" y="328"/>
                  </a:lnTo>
                  <a:lnTo>
                    <a:pt x="67" y="350"/>
                  </a:lnTo>
                  <a:lnTo>
                    <a:pt x="45" y="371"/>
                  </a:lnTo>
                  <a:lnTo>
                    <a:pt x="26" y="390"/>
                  </a:lnTo>
                  <a:lnTo>
                    <a:pt x="11" y="403"/>
                  </a:lnTo>
                  <a:lnTo>
                    <a:pt x="5" y="408"/>
                  </a:lnTo>
                  <a:lnTo>
                    <a:pt x="1" y="406"/>
                  </a:lnTo>
                  <a:lnTo>
                    <a:pt x="0" y="400"/>
                  </a:lnTo>
                  <a:lnTo>
                    <a:pt x="0" y="394"/>
                  </a:lnTo>
                  <a:lnTo>
                    <a:pt x="0" y="392"/>
                  </a:lnTo>
                  <a:lnTo>
                    <a:pt x="4" y="387"/>
                  </a:lnTo>
                  <a:lnTo>
                    <a:pt x="15" y="374"/>
                  </a:lnTo>
                  <a:lnTo>
                    <a:pt x="33" y="355"/>
                  </a:lnTo>
                  <a:lnTo>
                    <a:pt x="54" y="336"/>
                  </a:lnTo>
                  <a:lnTo>
                    <a:pt x="74" y="313"/>
                  </a:lnTo>
                  <a:lnTo>
                    <a:pt x="92" y="295"/>
                  </a:lnTo>
                  <a:lnTo>
                    <a:pt x="105" y="280"/>
                  </a:lnTo>
                  <a:lnTo>
                    <a:pt x="112" y="274"/>
                  </a:lnTo>
                  <a:lnTo>
                    <a:pt x="109" y="263"/>
                  </a:lnTo>
                  <a:lnTo>
                    <a:pt x="105" y="250"/>
                  </a:lnTo>
                  <a:lnTo>
                    <a:pt x="101" y="239"/>
                  </a:lnTo>
                  <a:lnTo>
                    <a:pt x="100" y="235"/>
                  </a:lnTo>
                  <a:lnTo>
                    <a:pt x="104" y="225"/>
                  </a:lnTo>
                  <a:lnTo>
                    <a:pt x="117" y="201"/>
                  </a:lnTo>
                  <a:lnTo>
                    <a:pt x="136" y="167"/>
                  </a:lnTo>
                  <a:lnTo>
                    <a:pt x="159" y="128"/>
                  </a:lnTo>
                  <a:lnTo>
                    <a:pt x="181" y="89"/>
                  </a:lnTo>
                  <a:lnTo>
                    <a:pt x="199" y="56"/>
                  </a:lnTo>
                  <a:lnTo>
                    <a:pt x="212" y="31"/>
                  </a:lnTo>
                  <a:lnTo>
                    <a:pt x="219" y="2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127"/>
            <p:cNvSpPr/>
            <p:nvPr/>
          </p:nvSpPr>
          <p:spPr>
            <a:xfrm>
              <a:off x="1400040" y="3046320"/>
              <a:ext cx="217800" cy="16992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422" h="332">
                  <a:moveTo>
                    <a:pt x="331" y="8"/>
                  </a:moveTo>
                  <a:lnTo>
                    <a:pt x="332" y="7"/>
                  </a:lnTo>
                  <a:lnTo>
                    <a:pt x="339" y="4"/>
                  </a:lnTo>
                  <a:lnTo>
                    <a:pt x="348" y="2"/>
                  </a:lnTo>
                  <a:lnTo>
                    <a:pt x="360" y="2"/>
                  </a:lnTo>
                  <a:lnTo>
                    <a:pt x="372" y="0"/>
                  </a:lnTo>
                  <a:lnTo>
                    <a:pt x="387" y="3"/>
                  </a:lnTo>
                  <a:lnTo>
                    <a:pt x="399" y="8"/>
                  </a:lnTo>
                  <a:lnTo>
                    <a:pt x="410" y="18"/>
                  </a:lnTo>
                  <a:lnTo>
                    <a:pt x="416" y="30"/>
                  </a:lnTo>
                  <a:lnTo>
                    <a:pt x="420" y="43"/>
                  </a:lnTo>
                  <a:lnTo>
                    <a:pt x="421" y="56"/>
                  </a:lnTo>
                  <a:lnTo>
                    <a:pt x="422" y="70"/>
                  </a:lnTo>
                  <a:lnTo>
                    <a:pt x="418" y="82"/>
                  </a:lnTo>
                  <a:lnTo>
                    <a:pt x="416" y="96"/>
                  </a:lnTo>
                  <a:lnTo>
                    <a:pt x="410" y="106"/>
                  </a:lnTo>
                  <a:lnTo>
                    <a:pt x="406" y="115"/>
                  </a:lnTo>
                  <a:lnTo>
                    <a:pt x="391" y="126"/>
                  </a:lnTo>
                  <a:lnTo>
                    <a:pt x="363" y="146"/>
                  </a:lnTo>
                  <a:lnTo>
                    <a:pt x="327" y="170"/>
                  </a:lnTo>
                  <a:lnTo>
                    <a:pt x="289" y="196"/>
                  </a:lnTo>
                  <a:lnTo>
                    <a:pt x="251" y="220"/>
                  </a:lnTo>
                  <a:lnTo>
                    <a:pt x="218" y="242"/>
                  </a:lnTo>
                  <a:lnTo>
                    <a:pt x="195" y="257"/>
                  </a:lnTo>
                  <a:lnTo>
                    <a:pt x="187" y="263"/>
                  </a:lnTo>
                  <a:lnTo>
                    <a:pt x="153" y="250"/>
                  </a:lnTo>
                  <a:lnTo>
                    <a:pt x="2" y="332"/>
                  </a:lnTo>
                  <a:lnTo>
                    <a:pt x="0" y="328"/>
                  </a:lnTo>
                  <a:lnTo>
                    <a:pt x="2" y="319"/>
                  </a:lnTo>
                  <a:lnTo>
                    <a:pt x="10" y="312"/>
                  </a:lnTo>
                  <a:lnTo>
                    <a:pt x="29" y="302"/>
                  </a:lnTo>
                  <a:lnTo>
                    <a:pt x="51" y="287"/>
                  </a:lnTo>
                  <a:lnTo>
                    <a:pt x="79" y="273"/>
                  </a:lnTo>
                  <a:lnTo>
                    <a:pt x="104" y="257"/>
                  </a:lnTo>
                  <a:lnTo>
                    <a:pt x="126" y="243"/>
                  </a:lnTo>
                  <a:lnTo>
                    <a:pt x="140" y="233"/>
                  </a:lnTo>
                  <a:lnTo>
                    <a:pt x="146" y="228"/>
                  </a:lnTo>
                  <a:lnTo>
                    <a:pt x="146" y="221"/>
                  </a:lnTo>
                  <a:lnTo>
                    <a:pt x="148" y="213"/>
                  </a:lnTo>
                  <a:lnTo>
                    <a:pt x="149" y="205"/>
                  </a:lnTo>
                  <a:lnTo>
                    <a:pt x="150" y="203"/>
                  </a:lnTo>
                  <a:lnTo>
                    <a:pt x="331" y="8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128"/>
            <p:cNvSpPr/>
            <p:nvPr/>
          </p:nvSpPr>
          <p:spPr>
            <a:xfrm>
              <a:off x="1406520" y="3116160"/>
              <a:ext cx="249120" cy="12060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79" h="235">
                  <a:moveTo>
                    <a:pt x="413" y="0"/>
                  </a:moveTo>
                  <a:lnTo>
                    <a:pt x="415" y="0"/>
                  </a:lnTo>
                  <a:lnTo>
                    <a:pt x="421" y="1"/>
                  </a:lnTo>
                  <a:lnTo>
                    <a:pt x="429" y="3"/>
                  </a:lnTo>
                  <a:lnTo>
                    <a:pt x="441" y="6"/>
                  </a:lnTo>
                  <a:lnTo>
                    <a:pt x="452" y="10"/>
                  </a:lnTo>
                  <a:lnTo>
                    <a:pt x="462" y="20"/>
                  </a:lnTo>
                  <a:lnTo>
                    <a:pt x="471" y="28"/>
                  </a:lnTo>
                  <a:lnTo>
                    <a:pt x="479" y="41"/>
                  </a:lnTo>
                  <a:lnTo>
                    <a:pt x="478" y="53"/>
                  </a:lnTo>
                  <a:lnTo>
                    <a:pt x="474" y="67"/>
                  </a:lnTo>
                  <a:lnTo>
                    <a:pt x="466" y="82"/>
                  </a:lnTo>
                  <a:lnTo>
                    <a:pt x="458" y="98"/>
                  </a:lnTo>
                  <a:lnTo>
                    <a:pt x="448" y="109"/>
                  </a:lnTo>
                  <a:lnTo>
                    <a:pt x="440" y="121"/>
                  </a:lnTo>
                  <a:lnTo>
                    <a:pt x="433" y="128"/>
                  </a:lnTo>
                  <a:lnTo>
                    <a:pt x="432" y="132"/>
                  </a:lnTo>
                  <a:lnTo>
                    <a:pt x="203" y="207"/>
                  </a:lnTo>
                  <a:lnTo>
                    <a:pt x="178" y="194"/>
                  </a:lnTo>
                  <a:lnTo>
                    <a:pt x="170" y="195"/>
                  </a:lnTo>
                  <a:lnTo>
                    <a:pt x="152" y="201"/>
                  </a:lnTo>
                  <a:lnTo>
                    <a:pt x="125" y="207"/>
                  </a:lnTo>
                  <a:lnTo>
                    <a:pt x="95" y="216"/>
                  </a:lnTo>
                  <a:lnTo>
                    <a:pt x="63" y="223"/>
                  </a:lnTo>
                  <a:lnTo>
                    <a:pt x="36" y="230"/>
                  </a:lnTo>
                  <a:lnTo>
                    <a:pt x="14" y="234"/>
                  </a:lnTo>
                  <a:lnTo>
                    <a:pt x="5" y="235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1" y="220"/>
                  </a:lnTo>
                  <a:lnTo>
                    <a:pt x="3" y="219"/>
                  </a:lnTo>
                  <a:lnTo>
                    <a:pt x="168" y="169"/>
                  </a:lnTo>
                  <a:lnTo>
                    <a:pt x="187" y="132"/>
                  </a:lnTo>
                  <a:lnTo>
                    <a:pt x="413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129"/>
            <p:cNvSpPr/>
            <p:nvPr/>
          </p:nvSpPr>
          <p:spPr>
            <a:xfrm>
              <a:off x="1407960" y="3192480"/>
              <a:ext cx="244800" cy="6192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70" h="125">
                  <a:moveTo>
                    <a:pt x="429" y="0"/>
                  </a:moveTo>
                  <a:lnTo>
                    <a:pt x="430" y="0"/>
                  </a:lnTo>
                  <a:lnTo>
                    <a:pt x="435" y="4"/>
                  </a:lnTo>
                  <a:lnTo>
                    <a:pt x="442" y="9"/>
                  </a:lnTo>
                  <a:lnTo>
                    <a:pt x="450" y="17"/>
                  </a:lnTo>
                  <a:lnTo>
                    <a:pt x="456" y="25"/>
                  </a:lnTo>
                  <a:lnTo>
                    <a:pt x="463" y="34"/>
                  </a:lnTo>
                  <a:lnTo>
                    <a:pt x="467" y="45"/>
                  </a:lnTo>
                  <a:lnTo>
                    <a:pt x="470" y="57"/>
                  </a:lnTo>
                  <a:lnTo>
                    <a:pt x="466" y="65"/>
                  </a:lnTo>
                  <a:lnTo>
                    <a:pt x="462" y="75"/>
                  </a:lnTo>
                  <a:lnTo>
                    <a:pt x="456" y="84"/>
                  </a:lnTo>
                  <a:lnTo>
                    <a:pt x="451" y="94"/>
                  </a:lnTo>
                  <a:lnTo>
                    <a:pt x="443" y="100"/>
                  </a:lnTo>
                  <a:lnTo>
                    <a:pt x="435" y="108"/>
                  </a:lnTo>
                  <a:lnTo>
                    <a:pt x="427" y="112"/>
                  </a:lnTo>
                  <a:lnTo>
                    <a:pt x="419" y="116"/>
                  </a:lnTo>
                  <a:lnTo>
                    <a:pt x="393" y="116"/>
                  </a:lnTo>
                  <a:lnTo>
                    <a:pt x="343" y="116"/>
                  </a:lnTo>
                  <a:lnTo>
                    <a:pt x="276" y="117"/>
                  </a:lnTo>
                  <a:lnTo>
                    <a:pt x="200" y="120"/>
                  </a:lnTo>
                  <a:lnTo>
                    <a:pt x="125" y="121"/>
                  </a:lnTo>
                  <a:lnTo>
                    <a:pt x="62" y="123"/>
                  </a:lnTo>
                  <a:lnTo>
                    <a:pt x="15" y="124"/>
                  </a:lnTo>
                  <a:lnTo>
                    <a:pt x="0" y="125"/>
                  </a:lnTo>
                  <a:lnTo>
                    <a:pt x="5" y="120"/>
                  </a:lnTo>
                  <a:lnTo>
                    <a:pt x="150" y="107"/>
                  </a:lnTo>
                  <a:lnTo>
                    <a:pt x="178" y="82"/>
                  </a:lnTo>
                  <a:lnTo>
                    <a:pt x="4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130"/>
            <p:cNvSpPr/>
            <p:nvPr/>
          </p:nvSpPr>
          <p:spPr>
            <a:xfrm>
              <a:off x="1339920" y="2973240"/>
              <a:ext cx="95040" cy="1890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189" h="366">
                  <a:moveTo>
                    <a:pt x="189" y="0"/>
                  </a:moveTo>
                  <a:lnTo>
                    <a:pt x="184" y="8"/>
                  </a:lnTo>
                  <a:lnTo>
                    <a:pt x="173" y="30"/>
                  </a:lnTo>
                  <a:lnTo>
                    <a:pt x="156" y="62"/>
                  </a:lnTo>
                  <a:lnTo>
                    <a:pt x="139" y="99"/>
                  </a:lnTo>
                  <a:lnTo>
                    <a:pt x="119" y="136"/>
                  </a:lnTo>
                  <a:lnTo>
                    <a:pt x="103" y="170"/>
                  </a:lnTo>
                  <a:lnTo>
                    <a:pt x="91" y="195"/>
                  </a:lnTo>
                  <a:lnTo>
                    <a:pt x="89" y="210"/>
                  </a:lnTo>
                  <a:lnTo>
                    <a:pt x="89" y="219"/>
                  </a:lnTo>
                  <a:lnTo>
                    <a:pt x="89" y="231"/>
                  </a:lnTo>
                  <a:lnTo>
                    <a:pt x="89" y="239"/>
                  </a:lnTo>
                  <a:lnTo>
                    <a:pt x="89" y="244"/>
                  </a:lnTo>
                  <a:lnTo>
                    <a:pt x="48" y="269"/>
                  </a:lnTo>
                  <a:lnTo>
                    <a:pt x="45" y="272"/>
                  </a:lnTo>
                  <a:lnTo>
                    <a:pt x="42" y="284"/>
                  </a:lnTo>
                  <a:lnTo>
                    <a:pt x="36" y="300"/>
                  </a:lnTo>
                  <a:lnTo>
                    <a:pt x="30" y="318"/>
                  </a:lnTo>
                  <a:lnTo>
                    <a:pt x="23" y="335"/>
                  </a:lnTo>
                  <a:lnTo>
                    <a:pt x="17" y="351"/>
                  </a:lnTo>
                  <a:lnTo>
                    <a:pt x="12" y="362"/>
                  </a:lnTo>
                  <a:lnTo>
                    <a:pt x="9" y="366"/>
                  </a:lnTo>
                  <a:lnTo>
                    <a:pt x="0" y="359"/>
                  </a:lnTo>
                  <a:lnTo>
                    <a:pt x="0" y="356"/>
                  </a:lnTo>
                  <a:lnTo>
                    <a:pt x="4" y="343"/>
                  </a:lnTo>
                  <a:lnTo>
                    <a:pt x="20" y="310"/>
                  </a:lnTo>
                  <a:lnTo>
                    <a:pt x="41" y="261"/>
                  </a:lnTo>
                  <a:lnTo>
                    <a:pt x="69" y="206"/>
                  </a:lnTo>
                  <a:lnTo>
                    <a:pt x="99" y="145"/>
                  </a:lnTo>
                  <a:lnTo>
                    <a:pt x="131" y="87"/>
                  </a:lnTo>
                  <a:lnTo>
                    <a:pt x="161" y="35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131"/>
            <p:cNvSpPr/>
            <p:nvPr/>
          </p:nvSpPr>
          <p:spPr>
            <a:xfrm>
              <a:off x="1287360" y="3216240"/>
              <a:ext cx="85680" cy="554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71" h="113">
                  <a:moveTo>
                    <a:pt x="142" y="0"/>
                  </a:moveTo>
                  <a:lnTo>
                    <a:pt x="142" y="1"/>
                  </a:lnTo>
                  <a:lnTo>
                    <a:pt x="147" y="9"/>
                  </a:lnTo>
                  <a:lnTo>
                    <a:pt x="152" y="18"/>
                  </a:lnTo>
                  <a:lnTo>
                    <a:pt x="159" y="30"/>
                  </a:lnTo>
                  <a:lnTo>
                    <a:pt x="164" y="42"/>
                  </a:lnTo>
                  <a:lnTo>
                    <a:pt x="169" y="54"/>
                  </a:lnTo>
                  <a:lnTo>
                    <a:pt x="171" y="63"/>
                  </a:lnTo>
                  <a:lnTo>
                    <a:pt x="171" y="71"/>
                  </a:lnTo>
                  <a:lnTo>
                    <a:pt x="163" y="76"/>
                  </a:lnTo>
                  <a:lnTo>
                    <a:pt x="152" y="84"/>
                  </a:lnTo>
                  <a:lnTo>
                    <a:pt x="138" y="93"/>
                  </a:lnTo>
                  <a:lnTo>
                    <a:pt x="121" y="103"/>
                  </a:lnTo>
                  <a:lnTo>
                    <a:pt x="102" y="109"/>
                  </a:lnTo>
                  <a:lnTo>
                    <a:pt x="84" y="113"/>
                  </a:lnTo>
                  <a:lnTo>
                    <a:pt x="66" y="113"/>
                  </a:lnTo>
                  <a:lnTo>
                    <a:pt x="52" y="109"/>
                  </a:lnTo>
                  <a:lnTo>
                    <a:pt x="36" y="100"/>
                  </a:lnTo>
                  <a:lnTo>
                    <a:pt x="24" y="90"/>
                  </a:lnTo>
                  <a:lnTo>
                    <a:pt x="12" y="76"/>
                  </a:lnTo>
                  <a:lnTo>
                    <a:pt x="6" y="64"/>
                  </a:lnTo>
                  <a:lnTo>
                    <a:pt x="0" y="50"/>
                  </a:lnTo>
                  <a:lnTo>
                    <a:pt x="0" y="38"/>
                  </a:lnTo>
                  <a:lnTo>
                    <a:pt x="3" y="26"/>
                  </a:lnTo>
                  <a:lnTo>
                    <a:pt x="11" y="18"/>
                  </a:lnTo>
                  <a:lnTo>
                    <a:pt x="19" y="13"/>
                  </a:lnTo>
                  <a:lnTo>
                    <a:pt x="28" y="16"/>
                  </a:lnTo>
                  <a:lnTo>
                    <a:pt x="36" y="20"/>
                  </a:lnTo>
                  <a:lnTo>
                    <a:pt x="45" y="29"/>
                  </a:lnTo>
                  <a:lnTo>
                    <a:pt x="53" y="37"/>
                  </a:lnTo>
                  <a:lnTo>
                    <a:pt x="64" y="46"/>
                  </a:lnTo>
                  <a:lnTo>
                    <a:pt x="76" y="54"/>
                  </a:lnTo>
                  <a:lnTo>
                    <a:pt x="89" y="59"/>
                  </a:lnTo>
                  <a:lnTo>
                    <a:pt x="95" y="54"/>
                  </a:lnTo>
                  <a:lnTo>
                    <a:pt x="103" y="46"/>
                  </a:lnTo>
                  <a:lnTo>
                    <a:pt x="111" y="35"/>
                  </a:lnTo>
                  <a:lnTo>
                    <a:pt x="121" y="26"/>
                  </a:lnTo>
                  <a:lnTo>
                    <a:pt x="127" y="16"/>
                  </a:lnTo>
                  <a:lnTo>
                    <a:pt x="135" y="8"/>
                  </a:lnTo>
                  <a:lnTo>
                    <a:pt x="139" y="1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132"/>
            <p:cNvSpPr/>
            <p:nvPr/>
          </p:nvSpPr>
          <p:spPr>
            <a:xfrm>
              <a:off x="1306440" y="3244680"/>
              <a:ext cx="46080" cy="176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96" h="43">
                  <a:moveTo>
                    <a:pt x="3" y="9"/>
                  </a:moveTo>
                  <a:lnTo>
                    <a:pt x="3" y="13"/>
                  </a:lnTo>
                  <a:lnTo>
                    <a:pt x="7" y="23"/>
                  </a:lnTo>
                  <a:lnTo>
                    <a:pt x="9" y="29"/>
                  </a:lnTo>
                  <a:lnTo>
                    <a:pt x="15" y="35"/>
                  </a:lnTo>
                  <a:lnTo>
                    <a:pt x="21" y="39"/>
                  </a:lnTo>
                  <a:lnTo>
                    <a:pt x="30" y="43"/>
                  </a:lnTo>
                  <a:lnTo>
                    <a:pt x="38" y="43"/>
                  </a:lnTo>
                  <a:lnTo>
                    <a:pt x="49" y="43"/>
                  </a:lnTo>
                  <a:lnTo>
                    <a:pt x="61" y="42"/>
                  </a:lnTo>
                  <a:lnTo>
                    <a:pt x="73" y="40"/>
                  </a:lnTo>
                  <a:lnTo>
                    <a:pt x="82" y="37"/>
                  </a:lnTo>
                  <a:lnTo>
                    <a:pt x="90" y="33"/>
                  </a:lnTo>
                  <a:lnTo>
                    <a:pt x="94" y="27"/>
                  </a:lnTo>
                  <a:lnTo>
                    <a:pt x="96" y="22"/>
                  </a:lnTo>
                  <a:lnTo>
                    <a:pt x="92" y="17"/>
                  </a:lnTo>
                  <a:lnTo>
                    <a:pt x="87" y="15"/>
                  </a:lnTo>
                  <a:lnTo>
                    <a:pt x="78" y="15"/>
                  </a:lnTo>
                  <a:lnTo>
                    <a:pt x="70" y="18"/>
                  </a:lnTo>
                  <a:lnTo>
                    <a:pt x="59" y="19"/>
                  </a:lnTo>
                  <a:lnTo>
                    <a:pt x="52" y="22"/>
                  </a:lnTo>
                  <a:lnTo>
                    <a:pt x="45" y="22"/>
                  </a:lnTo>
                  <a:lnTo>
                    <a:pt x="44" y="22"/>
                  </a:lnTo>
                  <a:lnTo>
                    <a:pt x="38" y="17"/>
                  </a:lnTo>
                  <a:lnTo>
                    <a:pt x="32" y="13"/>
                  </a:lnTo>
                  <a:lnTo>
                    <a:pt x="24" y="7"/>
                  </a:lnTo>
                  <a:lnTo>
                    <a:pt x="17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133"/>
            <p:cNvSpPr/>
            <p:nvPr/>
          </p:nvSpPr>
          <p:spPr>
            <a:xfrm>
              <a:off x="1454040" y="3013200"/>
              <a:ext cx="96840" cy="11736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91" h="231">
                  <a:moveTo>
                    <a:pt x="116" y="0"/>
                  </a:moveTo>
                  <a:lnTo>
                    <a:pt x="119" y="0"/>
                  </a:lnTo>
                  <a:lnTo>
                    <a:pt x="126" y="0"/>
                  </a:lnTo>
                  <a:lnTo>
                    <a:pt x="137" y="1"/>
                  </a:lnTo>
                  <a:lnTo>
                    <a:pt x="150" y="3"/>
                  </a:lnTo>
                  <a:lnTo>
                    <a:pt x="163" y="4"/>
                  </a:lnTo>
                  <a:lnTo>
                    <a:pt x="175" y="7"/>
                  </a:lnTo>
                  <a:lnTo>
                    <a:pt x="185" y="8"/>
                  </a:lnTo>
                  <a:lnTo>
                    <a:pt x="191" y="12"/>
                  </a:lnTo>
                  <a:lnTo>
                    <a:pt x="183" y="21"/>
                  </a:lnTo>
                  <a:lnTo>
                    <a:pt x="166" y="48"/>
                  </a:lnTo>
                  <a:lnTo>
                    <a:pt x="138" y="82"/>
                  </a:lnTo>
                  <a:lnTo>
                    <a:pt x="109" y="123"/>
                  </a:lnTo>
                  <a:lnTo>
                    <a:pt x="79" y="161"/>
                  </a:lnTo>
                  <a:lnTo>
                    <a:pt x="53" y="196"/>
                  </a:lnTo>
                  <a:lnTo>
                    <a:pt x="35" y="221"/>
                  </a:lnTo>
                  <a:lnTo>
                    <a:pt x="31" y="231"/>
                  </a:lnTo>
                  <a:lnTo>
                    <a:pt x="0" y="210"/>
                  </a:lnTo>
                  <a:lnTo>
                    <a:pt x="25" y="206"/>
                  </a:lnTo>
                  <a:lnTo>
                    <a:pt x="18" y="176"/>
                  </a:lnTo>
                  <a:lnTo>
                    <a:pt x="41" y="185"/>
                  </a:lnTo>
                  <a:lnTo>
                    <a:pt x="31" y="156"/>
                  </a:lnTo>
                  <a:lnTo>
                    <a:pt x="59" y="163"/>
                  </a:lnTo>
                  <a:lnTo>
                    <a:pt x="50" y="126"/>
                  </a:lnTo>
                  <a:lnTo>
                    <a:pt x="72" y="137"/>
                  </a:lnTo>
                  <a:lnTo>
                    <a:pt x="66" y="100"/>
                  </a:lnTo>
                  <a:lnTo>
                    <a:pt x="93" y="106"/>
                  </a:lnTo>
                  <a:lnTo>
                    <a:pt x="78" y="78"/>
                  </a:lnTo>
                  <a:lnTo>
                    <a:pt x="107" y="81"/>
                  </a:lnTo>
                  <a:lnTo>
                    <a:pt x="91" y="46"/>
                  </a:lnTo>
                  <a:lnTo>
                    <a:pt x="128" y="53"/>
                  </a:lnTo>
                  <a:lnTo>
                    <a:pt x="103" y="28"/>
                  </a:lnTo>
                  <a:lnTo>
                    <a:pt x="144" y="25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134"/>
            <p:cNvSpPr/>
            <p:nvPr/>
          </p:nvSpPr>
          <p:spPr>
            <a:xfrm>
              <a:off x="1406520" y="2975040"/>
              <a:ext cx="73080" cy="1206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47" h="235">
                  <a:moveTo>
                    <a:pt x="93" y="0"/>
                  </a:moveTo>
                  <a:lnTo>
                    <a:pt x="95" y="0"/>
                  </a:lnTo>
                  <a:lnTo>
                    <a:pt x="100" y="4"/>
                  </a:lnTo>
                  <a:lnTo>
                    <a:pt x="107" y="8"/>
                  </a:lnTo>
                  <a:lnTo>
                    <a:pt x="116" y="15"/>
                  </a:lnTo>
                  <a:lnTo>
                    <a:pt x="125" y="20"/>
                  </a:lnTo>
                  <a:lnTo>
                    <a:pt x="134" y="27"/>
                  </a:lnTo>
                  <a:lnTo>
                    <a:pt x="141" y="30"/>
                  </a:lnTo>
                  <a:lnTo>
                    <a:pt x="147" y="34"/>
                  </a:lnTo>
                  <a:lnTo>
                    <a:pt x="144" y="44"/>
                  </a:lnTo>
                  <a:lnTo>
                    <a:pt x="132" y="69"/>
                  </a:lnTo>
                  <a:lnTo>
                    <a:pt x="113" y="100"/>
                  </a:lnTo>
                  <a:lnTo>
                    <a:pt x="92" y="139"/>
                  </a:lnTo>
                  <a:lnTo>
                    <a:pt x="68" y="174"/>
                  </a:lnTo>
                  <a:lnTo>
                    <a:pt x="50" y="206"/>
                  </a:lnTo>
                  <a:lnTo>
                    <a:pt x="35" y="227"/>
                  </a:lnTo>
                  <a:lnTo>
                    <a:pt x="29" y="235"/>
                  </a:lnTo>
                  <a:lnTo>
                    <a:pt x="0" y="223"/>
                  </a:lnTo>
                  <a:lnTo>
                    <a:pt x="29" y="221"/>
                  </a:lnTo>
                  <a:lnTo>
                    <a:pt x="9" y="198"/>
                  </a:lnTo>
                  <a:lnTo>
                    <a:pt x="31" y="201"/>
                  </a:lnTo>
                  <a:lnTo>
                    <a:pt x="15" y="176"/>
                  </a:lnTo>
                  <a:lnTo>
                    <a:pt x="47" y="180"/>
                  </a:lnTo>
                  <a:lnTo>
                    <a:pt x="31" y="141"/>
                  </a:lnTo>
                  <a:lnTo>
                    <a:pt x="56" y="151"/>
                  </a:lnTo>
                  <a:lnTo>
                    <a:pt x="41" y="114"/>
                  </a:lnTo>
                  <a:lnTo>
                    <a:pt x="72" y="116"/>
                  </a:lnTo>
                  <a:lnTo>
                    <a:pt x="54" y="91"/>
                  </a:lnTo>
                  <a:lnTo>
                    <a:pt x="81" y="91"/>
                  </a:lnTo>
                  <a:lnTo>
                    <a:pt x="63" y="57"/>
                  </a:lnTo>
                  <a:lnTo>
                    <a:pt x="97" y="60"/>
                  </a:lnTo>
                  <a:lnTo>
                    <a:pt x="72" y="38"/>
                  </a:lnTo>
                  <a:lnTo>
                    <a:pt x="109" y="29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135"/>
            <p:cNvSpPr/>
            <p:nvPr/>
          </p:nvSpPr>
          <p:spPr>
            <a:xfrm>
              <a:off x="1494000" y="3056040"/>
              <a:ext cx="112680" cy="1062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23" h="210">
                  <a:moveTo>
                    <a:pt x="153" y="0"/>
                  </a:moveTo>
                  <a:lnTo>
                    <a:pt x="156" y="0"/>
                  </a:lnTo>
                  <a:lnTo>
                    <a:pt x="162" y="2"/>
                  </a:lnTo>
                  <a:lnTo>
                    <a:pt x="173" y="6"/>
                  </a:lnTo>
                  <a:lnTo>
                    <a:pt x="186" y="13"/>
                  </a:lnTo>
                  <a:lnTo>
                    <a:pt x="198" y="17"/>
                  </a:lnTo>
                  <a:lnTo>
                    <a:pt x="210" y="22"/>
                  </a:lnTo>
                  <a:lnTo>
                    <a:pt x="218" y="26"/>
                  </a:lnTo>
                  <a:lnTo>
                    <a:pt x="223" y="31"/>
                  </a:lnTo>
                  <a:lnTo>
                    <a:pt x="214" y="41"/>
                  </a:lnTo>
                  <a:lnTo>
                    <a:pt x="190" y="62"/>
                  </a:lnTo>
                  <a:lnTo>
                    <a:pt x="153" y="91"/>
                  </a:lnTo>
                  <a:lnTo>
                    <a:pt x="114" y="124"/>
                  </a:lnTo>
                  <a:lnTo>
                    <a:pt x="71" y="154"/>
                  </a:lnTo>
                  <a:lnTo>
                    <a:pt x="34" y="182"/>
                  </a:lnTo>
                  <a:lnTo>
                    <a:pt x="9" y="202"/>
                  </a:lnTo>
                  <a:lnTo>
                    <a:pt x="0" y="210"/>
                  </a:lnTo>
                  <a:lnTo>
                    <a:pt x="0" y="175"/>
                  </a:lnTo>
                  <a:lnTo>
                    <a:pt x="18" y="185"/>
                  </a:lnTo>
                  <a:lnTo>
                    <a:pt x="22" y="150"/>
                  </a:lnTo>
                  <a:lnTo>
                    <a:pt x="41" y="163"/>
                  </a:lnTo>
                  <a:lnTo>
                    <a:pt x="34" y="134"/>
                  </a:lnTo>
                  <a:lnTo>
                    <a:pt x="63" y="148"/>
                  </a:lnTo>
                  <a:lnTo>
                    <a:pt x="63" y="109"/>
                  </a:lnTo>
                  <a:lnTo>
                    <a:pt x="82" y="125"/>
                  </a:lnTo>
                  <a:lnTo>
                    <a:pt x="82" y="84"/>
                  </a:lnTo>
                  <a:lnTo>
                    <a:pt x="110" y="100"/>
                  </a:lnTo>
                  <a:lnTo>
                    <a:pt x="100" y="70"/>
                  </a:lnTo>
                  <a:lnTo>
                    <a:pt x="128" y="79"/>
                  </a:lnTo>
                  <a:lnTo>
                    <a:pt x="123" y="41"/>
                  </a:lnTo>
                  <a:lnTo>
                    <a:pt x="153" y="56"/>
                  </a:lnTo>
                  <a:lnTo>
                    <a:pt x="139" y="25"/>
                  </a:lnTo>
                  <a:lnTo>
                    <a:pt x="176" y="31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ff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136"/>
            <p:cNvSpPr/>
            <p:nvPr/>
          </p:nvSpPr>
          <p:spPr>
            <a:xfrm>
              <a:off x="1508040" y="3119400"/>
              <a:ext cx="133560" cy="842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261" h="167">
                  <a:moveTo>
                    <a:pt x="200" y="0"/>
                  </a:moveTo>
                  <a:lnTo>
                    <a:pt x="202" y="0"/>
                  </a:lnTo>
                  <a:lnTo>
                    <a:pt x="210" y="6"/>
                  </a:lnTo>
                  <a:lnTo>
                    <a:pt x="219" y="12"/>
                  </a:lnTo>
                  <a:lnTo>
                    <a:pt x="231" y="20"/>
                  </a:lnTo>
                  <a:lnTo>
                    <a:pt x="240" y="28"/>
                  </a:lnTo>
                  <a:lnTo>
                    <a:pt x="251" y="36"/>
                  </a:lnTo>
                  <a:lnTo>
                    <a:pt x="257" y="41"/>
                  </a:lnTo>
                  <a:lnTo>
                    <a:pt x="261" y="48"/>
                  </a:lnTo>
                  <a:lnTo>
                    <a:pt x="249" y="53"/>
                  </a:lnTo>
                  <a:lnTo>
                    <a:pt x="220" y="68"/>
                  </a:lnTo>
                  <a:lnTo>
                    <a:pt x="178" y="86"/>
                  </a:lnTo>
                  <a:lnTo>
                    <a:pt x="130" y="109"/>
                  </a:lnTo>
                  <a:lnTo>
                    <a:pt x="82" y="130"/>
                  </a:lnTo>
                  <a:lnTo>
                    <a:pt x="41" y="148"/>
                  </a:lnTo>
                  <a:lnTo>
                    <a:pt x="10" y="162"/>
                  </a:lnTo>
                  <a:lnTo>
                    <a:pt x="0" y="167"/>
                  </a:lnTo>
                  <a:lnTo>
                    <a:pt x="13" y="135"/>
                  </a:lnTo>
                  <a:lnTo>
                    <a:pt x="29" y="148"/>
                  </a:lnTo>
                  <a:lnTo>
                    <a:pt x="38" y="117"/>
                  </a:lnTo>
                  <a:lnTo>
                    <a:pt x="54" y="133"/>
                  </a:lnTo>
                  <a:lnTo>
                    <a:pt x="54" y="101"/>
                  </a:lnTo>
                  <a:lnTo>
                    <a:pt x="79" y="123"/>
                  </a:lnTo>
                  <a:lnTo>
                    <a:pt x="88" y="85"/>
                  </a:lnTo>
                  <a:lnTo>
                    <a:pt x="100" y="107"/>
                  </a:lnTo>
                  <a:lnTo>
                    <a:pt x="113" y="67"/>
                  </a:lnTo>
                  <a:lnTo>
                    <a:pt x="136" y="88"/>
                  </a:lnTo>
                  <a:lnTo>
                    <a:pt x="132" y="53"/>
                  </a:lnTo>
                  <a:lnTo>
                    <a:pt x="157" y="69"/>
                  </a:lnTo>
                  <a:lnTo>
                    <a:pt x="161" y="32"/>
                  </a:lnTo>
                  <a:lnTo>
                    <a:pt x="189" y="53"/>
                  </a:lnTo>
                  <a:lnTo>
                    <a:pt x="179" y="23"/>
                  </a:lnTo>
                  <a:lnTo>
                    <a:pt x="216" y="35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ff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137"/>
            <p:cNvSpPr/>
            <p:nvPr/>
          </p:nvSpPr>
          <p:spPr>
            <a:xfrm>
              <a:off x="1498680" y="3209760"/>
              <a:ext cx="139680" cy="381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74" h="80">
                  <a:moveTo>
                    <a:pt x="248" y="0"/>
                  </a:moveTo>
                  <a:lnTo>
                    <a:pt x="251" y="0"/>
                  </a:lnTo>
                  <a:lnTo>
                    <a:pt x="258" y="6"/>
                  </a:lnTo>
                  <a:lnTo>
                    <a:pt x="262" y="13"/>
                  </a:lnTo>
                  <a:lnTo>
                    <a:pt x="266" y="22"/>
                  </a:lnTo>
                  <a:lnTo>
                    <a:pt x="270" y="34"/>
                  </a:lnTo>
                  <a:lnTo>
                    <a:pt x="274" y="50"/>
                  </a:lnTo>
                  <a:lnTo>
                    <a:pt x="263" y="63"/>
                  </a:lnTo>
                  <a:lnTo>
                    <a:pt x="233" y="72"/>
                  </a:lnTo>
                  <a:lnTo>
                    <a:pt x="189" y="76"/>
                  </a:lnTo>
                  <a:lnTo>
                    <a:pt x="139" y="80"/>
                  </a:lnTo>
                  <a:lnTo>
                    <a:pt x="87" y="79"/>
                  </a:lnTo>
                  <a:lnTo>
                    <a:pt x="44" y="79"/>
                  </a:lnTo>
                  <a:lnTo>
                    <a:pt x="12" y="79"/>
                  </a:lnTo>
                  <a:lnTo>
                    <a:pt x="0" y="79"/>
                  </a:lnTo>
                  <a:lnTo>
                    <a:pt x="19" y="54"/>
                  </a:lnTo>
                  <a:lnTo>
                    <a:pt x="32" y="68"/>
                  </a:lnTo>
                  <a:lnTo>
                    <a:pt x="50" y="47"/>
                  </a:lnTo>
                  <a:lnTo>
                    <a:pt x="60" y="66"/>
                  </a:lnTo>
                  <a:lnTo>
                    <a:pt x="73" y="38"/>
                  </a:lnTo>
                  <a:lnTo>
                    <a:pt x="89" y="66"/>
                  </a:lnTo>
                  <a:lnTo>
                    <a:pt x="110" y="34"/>
                  </a:lnTo>
                  <a:lnTo>
                    <a:pt x="116" y="59"/>
                  </a:lnTo>
                  <a:lnTo>
                    <a:pt x="142" y="29"/>
                  </a:lnTo>
                  <a:lnTo>
                    <a:pt x="151" y="56"/>
                  </a:lnTo>
                  <a:lnTo>
                    <a:pt x="164" y="25"/>
                  </a:lnTo>
                  <a:lnTo>
                    <a:pt x="180" y="47"/>
                  </a:lnTo>
                  <a:lnTo>
                    <a:pt x="198" y="13"/>
                  </a:lnTo>
                  <a:lnTo>
                    <a:pt x="217" y="47"/>
                  </a:lnTo>
                  <a:lnTo>
                    <a:pt x="219" y="13"/>
                  </a:lnTo>
                  <a:lnTo>
                    <a:pt x="248" y="38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ff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138"/>
            <p:cNvSpPr/>
            <p:nvPr/>
          </p:nvSpPr>
          <p:spPr>
            <a:xfrm>
              <a:off x="1246320" y="2227320"/>
              <a:ext cx="961920" cy="11444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1144440"/>
                <a:gd name="textAreaBottom" fmla="*/ 1144800 h 1144440"/>
              </a:gdLst>
              <a:ahLst/>
              <a:rect l="textAreaLeft" t="textAreaTop" r="textAreaRight" b="textAreaBottom"/>
              <a:pathLst>
                <a:path w="1826" h="2173">
                  <a:moveTo>
                    <a:pt x="0" y="298"/>
                  </a:moveTo>
                  <a:lnTo>
                    <a:pt x="0" y="307"/>
                  </a:lnTo>
                  <a:lnTo>
                    <a:pt x="22" y="321"/>
                  </a:lnTo>
                  <a:lnTo>
                    <a:pt x="59" y="337"/>
                  </a:lnTo>
                  <a:lnTo>
                    <a:pt x="110" y="358"/>
                  </a:lnTo>
                  <a:lnTo>
                    <a:pt x="166" y="379"/>
                  </a:lnTo>
                  <a:lnTo>
                    <a:pt x="226" y="404"/>
                  </a:lnTo>
                  <a:lnTo>
                    <a:pt x="284" y="429"/>
                  </a:lnTo>
                  <a:lnTo>
                    <a:pt x="336" y="458"/>
                  </a:lnTo>
                  <a:lnTo>
                    <a:pt x="399" y="516"/>
                  </a:lnTo>
                  <a:lnTo>
                    <a:pt x="496" y="626"/>
                  </a:lnTo>
                  <a:lnTo>
                    <a:pt x="611" y="768"/>
                  </a:lnTo>
                  <a:lnTo>
                    <a:pt x="735" y="928"/>
                  </a:lnTo>
                  <a:lnTo>
                    <a:pt x="852" y="1081"/>
                  </a:lnTo>
                  <a:lnTo>
                    <a:pt x="951" y="1216"/>
                  </a:lnTo>
                  <a:lnTo>
                    <a:pt x="1020" y="1310"/>
                  </a:lnTo>
                  <a:lnTo>
                    <a:pt x="1048" y="1348"/>
                  </a:lnTo>
                  <a:lnTo>
                    <a:pt x="1093" y="1503"/>
                  </a:lnTo>
                  <a:lnTo>
                    <a:pt x="1547" y="2133"/>
                  </a:lnTo>
                  <a:lnTo>
                    <a:pt x="1775" y="2173"/>
                  </a:lnTo>
                  <a:lnTo>
                    <a:pt x="1826" y="1961"/>
                  </a:lnTo>
                  <a:lnTo>
                    <a:pt x="1299" y="1302"/>
                  </a:lnTo>
                  <a:lnTo>
                    <a:pt x="1173" y="1258"/>
                  </a:lnTo>
                  <a:lnTo>
                    <a:pt x="509" y="367"/>
                  </a:lnTo>
                  <a:lnTo>
                    <a:pt x="399" y="0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139"/>
            <p:cNvSpPr/>
            <p:nvPr/>
          </p:nvSpPr>
          <p:spPr>
            <a:xfrm>
              <a:off x="682560" y="1554120"/>
              <a:ext cx="1185840" cy="1401840"/>
            </a:xfrm>
            <a:custGeom>
              <a:avLst/>
              <a:gdLst>
                <a:gd name="textAreaLeft" fmla="*/ 0 w 1185840"/>
                <a:gd name="textAreaRight" fmla="*/ 1186200 w 1185840"/>
                <a:gd name="textAreaTop" fmla="*/ 0 h 1401840"/>
                <a:gd name="textAreaBottom" fmla="*/ 1402200 h 1401840"/>
              </a:gdLst>
              <a:ahLst/>
              <a:rect l="textAreaLeft" t="textAreaTop" r="textAreaRight" b="textAreaBottom"/>
              <a:pathLst>
                <a:path w="2251" h="2657">
                  <a:moveTo>
                    <a:pt x="1075" y="468"/>
                  </a:moveTo>
                  <a:lnTo>
                    <a:pt x="1167" y="595"/>
                  </a:lnTo>
                  <a:lnTo>
                    <a:pt x="1242" y="725"/>
                  </a:lnTo>
                  <a:lnTo>
                    <a:pt x="1299" y="855"/>
                  </a:lnTo>
                  <a:lnTo>
                    <a:pt x="1336" y="980"/>
                  </a:lnTo>
                  <a:lnTo>
                    <a:pt x="1351" y="1096"/>
                  </a:lnTo>
                  <a:lnTo>
                    <a:pt x="1343" y="1202"/>
                  </a:lnTo>
                  <a:lnTo>
                    <a:pt x="1310" y="1292"/>
                  </a:lnTo>
                  <a:lnTo>
                    <a:pt x="1250" y="1365"/>
                  </a:lnTo>
                  <a:lnTo>
                    <a:pt x="1166" y="1412"/>
                  </a:lnTo>
                  <a:lnTo>
                    <a:pt x="1065" y="1433"/>
                  </a:lnTo>
                  <a:lnTo>
                    <a:pt x="953" y="1428"/>
                  </a:lnTo>
                  <a:lnTo>
                    <a:pt x="834" y="1399"/>
                  </a:lnTo>
                  <a:lnTo>
                    <a:pt x="712" y="1346"/>
                  </a:lnTo>
                  <a:lnTo>
                    <a:pt x="590" y="1272"/>
                  </a:lnTo>
                  <a:lnTo>
                    <a:pt x="474" y="1176"/>
                  </a:lnTo>
                  <a:lnTo>
                    <a:pt x="367" y="1061"/>
                  </a:lnTo>
                  <a:lnTo>
                    <a:pt x="273" y="930"/>
                  </a:lnTo>
                  <a:lnTo>
                    <a:pt x="202" y="797"/>
                  </a:lnTo>
                  <a:lnTo>
                    <a:pt x="150" y="663"/>
                  </a:lnTo>
                  <a:lnTo>
                    <a:pt x="123" y="534"/>
                  </a:lnTo>
                  <a:lnTo>
                    <a:pt x="113" y="412"/>
                  </a:lnTo>
                  <a:lnTo>
                    <a:pt x="129" y="303"/>
                  </a:lnTo>
                  <a:lnTo>
                    <a:pt x="167" y="210"/>
                  </a:lnTo>
                  <a:lnTo>
                    <a:pt x="231" y="139"/>
                  </a:lnTo>
                  <a:lnTo>
                    <a:pt x="311" y="91"/>
                  </a:lnTo>
                  <a:lnTo>
                    <a:pt x="408" y="74"/>
                  </a:lnTo>
                  <a:lnTo>
                    <a:pt x="512" y="82"/>
                  </a:lnTo>
                  <a:lnTo>
                    <a:pt x="624" y="117"/>
                  </a:lnTo>
                  <a:lnTo>
                    <a:pt x="739" y="172"/>
                  </a:lnTo>
                  <a:lnTo>
                    <a:pt x="856" y="250"/>
                  </a:lnTo>
                  <a:lnTo>
                    <a:pt x="968" y="349"/>
                  </a:lnTo>
                  <a:lnTo>
                    <a:pt x="1075" y="468"/>
                  </a:lnTo>
                  <a:close/>
                  <a:moveTo>
                    <a:pt x="260" y="23"/>
                  </a:moveTo>
                  <a:lnTo>
                    <a:pt x="248" y="27"/>
                  </a:lnTo>
                  <a:lnTo>
                    <a:pt x="222" y="41"/>
                  </a:lnTo>
                  <a:lnTo>
                    <a:pt x="183" y="64"/>
                  </a:lnTo>
                  <a:lnTo>
                    <a:pt x="140" y="97"/>
                  </a:lnTo>
                  <a:lnTo>
                    <a:pt x="92" y="136"/>
                  </a:lnTo>
                  <a:lnTo>
                    <a:pt x="53" y="185"/>
                  </a:lnTo>
                  <a:lnTo>
                    <a:pt x="21" y="241"/>
                  </a:lnTo>
                  <a:lnTo>
                    <a:pt x="5" y="305"/>
                  </a:lnTo>
                  <a:lnTo>
                    <a:pt x="0" y="377"/>
                  </a:lnTo>
                  <a:lnTo>
                    <a:pt x="4" y="461"/>
                  </a:lnTo>
                  <a:lnTo>
                    <a:pt x="16" y="555"/>
                  </a:lnTo>
                  <a:lnTo>
                    <a:pt x="39" y="658"/>
                  </a:lnTo>
                  <a:lnTo>
                    <a:pt x="75" y="768"/>
                  </a:lnTo>
                  <a:lnTo>
                    <a:pt x="128" y="885"/>
                  </a:lnTo>
                  <a:lnTo>
                    <a:pt x="198" y="1008"/>
                  </a:lnTo>
                  <a:lnTo>
                    <a:pt x="288" y="1139"/>
                  </a:lnTo>
                  <a:lnTo>
                    <a:pt x="393" y="1256"/>
                  </a:lnTo>
                  <a:lnTo>
                    <a:pt x="511" y="1353"/>
                  </a:lnTo>
                  <a:lnTo>
                    <a:pt x="632" y="1427"/>
                  </a:lnTo>
                  <a:lnTo>
                    <a:pt x="753" y="1483"/>
                  </a:lnTo>
                  <a:lnTo>
                    <a:pt x="863" y="1520"/>
                  </a:lnTo>
                  <a:lnTo>
                    <a:pt x="964" y="1547"/>
                  </a:lnTo>
                  <a:lnTo>
                    <a:pt x="1043" y="1559"/>
                  </a:lnTo>
                  <a:lnTo>
                    <a:pt x="1100" y="1563"/>
                  </a:lnTo>
                  <a:lnTo>
                    <a:pt x="1143" y="1565"/>
                  </a:lnTo>
                  <a:lnTo>
                    <a:pt x="1194" y="1576"/>
                  </a:lnTo>
                  <a:lnTo>
                    <a:pt x="1244" y="1592"/>
                  </a:lnTo>
                  <a:lnTo>
                    <a:pt x="1295" y="1613"/>
                  </a:lnTo>
                  <a:lnTo>
                    <a:pt x="1344" y="1635"/>
                  </a:lnTo>
                  <a:lnTo>
                    <a:pt x="1390" y="1662"/>
                  </a:lnTo>
                  <a:lnTo>
                    <a:pt x="1431" y="1689"/>
                  </a:lnTo>
                  <a:lnTo>
                    <a:pt x="1467" y="1720"/>
                  </a:lnTo>
                  <a:lnTo>
                    <a:pt x="1505" y="1767"/>
                  </a:lnTo>
                  <a:lnTo>
                    <a:pt x="1588" y="1876"/>
                  </a:lnTo>
                  <a:lnTo>
                    <a:pt x="1699" y="2022"/>
                  </a:lnTo>
                  <a:lnTo>
                    <a:pt x="1826" y="2190"/>
                  </a:lnTo>
                  <a:lnTo>
                    <a:pt x="1950" y="2355"/>
                  </a:lnTo>
                  <a:lnTo>
                    <a:pt x="2063" y="2502"/>
                  </a:lnTo>
                  <a:lnTo>
                    <a:pt x="2146" y="2607"/>
                  </a:lnTo>
                  <a:lnTo>
                    <a:pt x="2188" y="2655"/>
                  </a:lnTo>
                  <a:lnTo>
                    <a:pt x="2201" y="2657"/>
                  </a:lnTo>
                  <a:lnTo>
                    <a:pt x="2216" y="2655"/>
                  </a:lnTo>
                  <a:lnTo>
                    <a:pt x="2229" y="2647"/>
                  </a:lnTo>
                  <a:lnTo>
                    <a:pt x="2241" y="2635"/>
                  </a:lnTo>
                  <a:lnTo>
                    <a:pt x="2247" y="2620"/>
                  </a:lnTo>
                  <a:lnTo>
                    <a:pt x="2251" y="2606"/>
                  </a:lnTo>
                  <a:lnTo>
                    <a:pt x="2250" y="2591"/>
                  </a:lnTo>
                  <a:lnTo>
                    <a:pt x="2242" y="2582"/>
                  </a:lnTo>
                  <a:lnTo>
                    <a:pt x="2204" y="2536"/>
                  </a:lnTo>
                  <a:lnTo>
                    <a:pt x="2122" y="2434"/>
                  </a:lnTo>
                  <a:lnTo>
                    <a:pt x="2010" y="2292"/>
                  </a:lnTo>
                  <a:lnTo>
                    <a:pt x="1886" y="2130"/>
                  </a:lnTo>
                  <a:lnTo>
                    <a:pt x="1760" y="1965"/>
                  </a:lnTo>
                  <a:lnTo>
                    <a:pt x="1651" y="1821"/>
                  </a:lnTo>
                  <a:lnTo>
                    <a:pt x="1573" y="1713"/>
                  </a:lnTo>
                  <a:lnTo>
                    <a:pt x="1540" y="1663"/>
                  </a:lnTo>
                  <a:lnTo>
                    <a:pt x="1513" y="1604"/>
                  </a:lnTo>
                  <a:lnTo>
                    <a:pt x="1491" y="1551"/>
                  </a:lnTo>
                  <a:lnTo>
                    <a:pt x="1472" y="1499"/>
                  </a:lnTo>
                  <a:lnTo>
                    <a:pt x="1458" y="1452"/>
                  </a:lnTo>
                  <a:lnTo>
                    <a:pt x="1444" y="1402"/>
                  </a:lnTo>
                  <a:lnTo>
                    <a:pt x="1437" y="1351"/>
                  </a:lnTo>
                  <a:lnTo>
                    <a:pt x="1433" y="1296"/>
                  </a:lnTo>
                  <a:lnTo>
                    <a:pt x="1433" y="1236"/>
                  </a:lnTo>
                  <a:lnTo>
                    <a:pt x="1431" y="1143"/>
                  </a:lnTo>
                  <a:lnTo>
                    <a:pt x="1423" y="1042"/>
                  </a:lnTo>
                  <a:lnTo>
                    <a:pt x="1405" y="937"/>
                  </a:lnTo>
                  <a:lnTo>
                    <a:pt x="1378" y="828"/>
                  </a:lnTo>
                  <a:lnTo>
                    <a:pt x="1336" y="715"/>
                  </a:lnTo>
                  <a:lnTo>
                    <a:pt x="1282" y="603"/>
                  </a:lnTo>
                  <a:lnTo>
                    <a:pt x="1209" y="490"/>
                  </a:lnTo>
                  <a:lnTo>
                    <a:pt x="1122" y="381"/>
                  </a:lnTo>
                  <a:lnTo>
                    <a:pt x="1019" y="276"/>
                  </a:lnTo>
                  <a:lnTo>
                    <a:pt x="911" y="188"/>
                  </a:lnTo>
                  <a:lnTo>
                    <a:pt x="799" y="114"/>
                  </a:lnTo>
                  <a:lnTo>
                    <a:pt x="686" y="58"/>
                  </a:lnTo>
                  <a:lnTo>
                    <a:pt x="573" y="19"/>
                  </a:lnTo>
                  <a:lnTo>
                    <a:pt x="463" y="0"/>
                  </a:lnTo>
                  <a:lnTo>
                    <a:pt x="358" y="0"/>
                  </a:lnTo>
                  <a:lnTo>
                    <a:pt x="260" y="23"/>
                  </a:lnTo>
                  <a:close/>
                </a:path>
              </a:pathLst>
            </a:custGeom>
            <a:solidFill>
              <a:srgbClr val="707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140"/>
            <p:cNvSpPr/>
            <p:nvPr/>
          </p:nvSpPr>
          <p:spPr>
            <a:xfrm>
              <a:off x="1258920" y="2030400"/>
              <a:ext cx="104760" cy="266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207" h="514">
                  <a:moveTo>
                    <a:pt x="0" y="514"/>
                  </a:moveTo>
                  <a:lnTo>
                    <a:pt x="194" y="0"/>
                  </a:lnTo>
                  <a:lnTo>
                    <a:pt x="197" y="8"/>
                  </a:lnTo>
                  <a:lnTo>
                    <a:pt x="201" y="20"/>
                  </a:lnTo>
                  <a:lnTo>
                    <a:pt x="203" y="32"/>
                  </a:lnTo>
                  <a:lnTo>
                    <a:pt x="207" y="44"/>
                  </a:lnTo>
                  <a:lnTo>
                    <a:pt x="32" y="507"/>
                  </a:lnTo>
                  <a:lnTo>
                    <a:pt x="22" y="509"/>
                  </a:lnTo>
                  <a:lnTo>
                    <a:pt x="14" y="510"/>
                  </a:lnTo>
                  <a:lnTo>
                    <a:pt x="7" y="511"/>
                  </a:lnTo>
                  <a:lnTo>
                    <a:pt x="0" y="514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141"/>
            <p:cNvSpPr/>
            <p:nvPr/>
          </p:nvSpPr>
          <p:spPr>
            <a:xfrm>
              <a:off x="1187280" y="1938240"/>
              <a:ext cx="141480" cy="35892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58920"/>
                <a:gd name="textAreaBottom" fmla="*/ 358920 h 358920"/>
              </a:gdLst>
              <a:ahLst/>
              <a:rect l="textAreaLeft" t="textAreaTop" r="textAreaRight" b="textAreaBottom"/>
              <a:pathLst>
                <a:path w="276" h="687">
                  <a:moveTo>
                    <a:pt x="0" y="680"/>
                  </a:moveTo>
                  <a:lnTo>
                    <a:pt x="32" y="595"/>
                  </a:lnTo>
                  <a:lnTo>
                    <a:pt x="64" y="510"/>
                  </a:lnTo>
                  <a:lnTo>
                    <a:pt x="95" y="426"/>
                  </a:lnTo>
                  <a:lnTo>
                    <a:pt x="128" y="341"/>
                  </a:lnTo>
                  <a:lnTo>
                    <a:pt x="160" y="255"/>
                  </a:lnTo>
                  <a:lnTo>
                    <a:pt x="193" y="171"/>
                  </a:lnTo>
                  <a:lnTo>
                    <a:pt x="226" y="85"/>
                  </a:lnTo>
                  <a:lnTo>
                    <a:pt x="260" y="0"/>
                  </a:lnTo>
                  <a:lnTo>
                    <a:pt x="262" y="8"/>
                  </a:lnTo>
                  <a:lnTo>
                    <a:pt x="266" y="18"/>
                  </a:lnTo>
                  <a:lnTo>
                    <a:pt x="271" y="25"/>
                  </a:lnTo>
                  <a:lnTo>
                    <a:pt x="276" y="35"/>
                  </a:lnTo>
                  <a:lnTo>
                    <a:pt x="245" y="115"/>
                  </a:lnTo>
                  <a:lnTo>
                    <a:pt x="213" y="197"/>
                  </a:lnTo>
                  <a:lnTo>
                    <a:pt x="181" y="278"/>
                  </a:lnTo>
                  <a:lnTo>
                    <a:pt x="151" y="360"/>
                  </a:lnTo>
                  <a:lnTo>
                    <a:pt x="119" y="440"/>
                  </a:lnTo>
                  <a:lnTo>
                    <a:pt x="87" y="522"/>
                  </a:lnTo>
                  <a:lnTo>
                    <a:pt x="56" y="604"/>
                  </a:lnTo>
                  <a:lnTo>
                    <a:pt x="25" y="687"/>
                  </a:lnTo>
                  <a:lnTo>
                    <a:pt x="13" y="683"/>
                  </a:lnTo>
                  <a:lnTo>
                    <a:pt x="0" y="68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142"/>
            <p:cNvSpPr/>
            <p:nvPr/>
          </p:nvSpPr>
          <p:spPr>
            <a:xfrm>
              <a:off x="1120680" y="1865160"/>
              <a:ext cx="163440" cy="41436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319" h="793">
                  <a:moveTo>
                    <a:pt x="0" y="784"/>
                  </a:moveTo>
                  <a:lnTo>
                    <a:pt x="37" y="685"/>
                  </a:lnTo>
                  <a:lnTo>
                    <a:pt x="75" y="587"/>
                  </a:lnTo>
                  <a:lnTo>
                    <a:pt x="112" y="490"/>
                  </a:lnTo>
                  <a:lnTo>
                    <a:pt x="150" y="392"/>
                  </a:lnTo>
                  <a:lnTo>
                    <a:pt x="187" y="293"/>
                  </a:lnTo>
                  <a:lnTo>
                    <a:pt x="226" y="195"/>
                  </a:lnTo>
                  <a:lnTo>
                    <a:pt x="263" y="97"/>
                  </a:lnTo>
                  <a:lnTo>
                    <a:pt x="301" y="0"/>
                  </a:lnTo>
                  <a:lnTo>
                    <a:pt x="305" y="6"/>
                  </a:lnTo>
                  <a:lnTo>
                    <a:pt x="309" y="14"/>
                  </a:lnTo>
                  <a:lnTo>
                    <a:pt x="314" y="21"/>
                  </a:lnTo>
                  <a:lnTo>
                    <a:pt x="319" y="29"/>
                  </a:lnTo>
                  <a:lnTo>
                    <a:pt x="281" y="124"/>
                  </a:lnTo>
                  <a:lnTo>
                    <a:pt x="245" y="219"/>
                  </a:lnTo>
                  <a:lnTo>
                    <a:pt x="207" y="314"/>
                  </a:lnTo>
                  <a:lnTo>
                    <a:pt x="171" y="410"/>
                  </a:lnTo>
                  <a:lnTo>
                    <a:pt x="133" y="505"/>
                  </a:lnTo>
                  <a:lnTo>
                    <a:pt x="96" y="602"/>
                  </a:lnTo>
                  <a:lnTo>
                    <a:pt x="61" y="697"/>
                  </a:lnTo>
                  <a:lnTo>
                    <a:pt x="25" y="793"/>
                  </a:lnTo>
                  <a:lnTo>
                    <a:pt x="13" y="789"/>
                  </a:lnTo>
                  <a:lnTo>
                    <a:pt x="0" y="784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Freeform 143"/>
            <p:cNvSpPr/>
            <p:nvPr/>
          </p:nvSpPr>
          <p:spPr>
            <a:xfrm>
              <a:off x="1058760" y="1801800"/>
              <a:ext cx="177840" cy="45252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344" h="862">
                  <a:moveTo>
                    <a:pt x="0" y="850"/>
                  </a:moveTo>
                  <a:lnTo>
                    <a:pt x="39" y="743"/>
                  </a:lnTo>
                  <a:lnTo>
                    <a:pt x="80" y="638"/>
                  </a:lnTo>
                  <a:lnTo>
                    <a:pt x="121" y="531"/>
                  </a:lnTo>
                  <a:lnTo>
                    <a:pt x="162" y="425"/>
                  </a:lnTo>
                  <a:lnTo>
                    <a:pt x="202" y="318"/>
                  </a:lnTo>
                  <a:lnTo>
                    <a:pt x="243" y="211"/>
                  </a:lnTo>
                  <a:lnTo>
                    <a:pt x="283" y="106"/>
                  </a:lnTo>
                  <a:lnTo>
                    <a:pt x="326" y="0"/>
                  </a:lnTo>
                  <a:lnTo>
                    <a:pt x="335" y="12"/>
                  </a:lnTo>
                  <a:lnTo>
                    <a:pt x="344" y="25"/>
                  </a:lnTo>
                  <a:lnTo>
                    <a:pt x="303" y="129"/>
                  </a:lnTo>
                  <a:lnTo>
                    <a:pt x="264" y="234"/>
                  </a:lnTo>
                  <a:lnTo>
                    <a:pt x="224" y="338"/>
                  </a:lnTo>
                  <a:lnTo>
                    <a:pt x="184" y="444"/>
                  </a:lnTo>
                  <a:lnTo>
                    <a:pt x="144" y="548"/>
                  </a:lnTo>
                  <a:lnTo>
                    <a:pt x="104" y="652"/>
                  </a:lnTo>
                  <a:lnTo>
                    <a:pt x="64" y="757"/>
                  </a:lnTo>
                  <a:lnTo>
                    <a:pt x="25" y="862"/>
                  </a:lnTo>
                  <a:lnTo>
                    <a:pt x="11" y="856"/>
                  </a:lnTo>
                  <a:lnTo>
                    <a:pt x="0" y="85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144"/>
            <p:cNvSpPr/>
            <p:nvPr/>
          </p:nvSpPr>
          <p:spPr>
            <a:xfrm>
              <a:off x="1001880" y="1747800"/>
              <a:ext cx="183960" cy="4698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357" h="897">
                  <a:moveTo>
                    <a:pt x="0" y="881"/>
                  </a:moveTo>
                  <a:lnTo>
                    <a:pt x="41" y="770"/>
                  </a:lnTo>
                  <a:lnTo>
                    <a:pt x="83" y="660"/>
                  </a:lnTo>
                  <a:lnTo>
                    <a:pt x="125" y="551"/>
                  </a:lnTo>
                  <a:lnTo>
                    <a:pt x="168" y="441"/>
                  </a:lnTo>
                  <a:lnTo>
                    <a:pt x="209" y="330"/>
                  </a:lnTo>
                  <a:lnTo>
                    <a:pt x="251" y="220"/>
                  </a:lnTo>
                  <a:lnTo>
                    <a:pt x="293" y="109"/>
                  </a:lnTo>
                  <a:lnTo>
                    <a:pt x="335" y="0"/>
                  </a:lnTo>
                  <a:lnTo>
                    <a:pt x="346" y="10"/>
                  </a:lnTo>
                  <a:lnTo>
                    <a:pt x="357" y="21"/>
                  </a:lnTo>
                  <a:lnTo>
                    <a:pt x="314" y="129"/>
                  </a:lnTo>
                  <a:lnTo>
                    <a:pt x="273" y="239"/>
                  </a:lnTo>
                  <a:lnTo>
                    <a:pt x="231" y="348"/>
                  </a:lnTo>
                  <a:lnTo>
                    <a:pt x="190" y="458"/>
                  </a:lnTo>
                  <a:lnTo>
                    <a:pt x="147" y="566"/>
                  </a:lnTo>
                  <a:lnTo>
                    <a:pt x="106" y="677"/>
                  </a:lnTo>
                  <a:lnTo>
                    <a:pt x="62" y="786"/>
                  </a:lnTo>
                  <a:lnTo>
                    <a:pt x="21" y="897"/>
                  </a:lnTo>
                  <a:lnTo>
                    <a:pt x="12" y="890"/>
                  </a:lnTo>
                  <a:lnTo>
                    <a:pt x="0" y="881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145"/>
            <p:cNvSpPr/>
            <p:nvPr/>
          </p:nvSpPr>
          <p:spPr>
            <a:xfrm>
              <a:off x="946080" y="1700280"/>
              <a:ext cx="185760" cy="47448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60" h="904">
                  <a:moveTo>
                    <a:pt x="0" y="885"/>
                  </a:moveTo>
                  <a:lnTo>
                    <a:pt x="41" y="774"/>
                  </a:lnTo>
                  <a:lnTo>
                    <a:pt x="84" y="663"/>
                  </a:lnTo>
                  <a:lnTo>
                    <a:pt x="125" y="552"/>
                  </a:lnTo>
                  <a:lnTo>
                    <a:pt x="169" y="443"/>
                  </a:lnTo>
                  <a:lnTo>
                    <a:pt x="210" y="332"/>
                  </a:lnTo>
                  <a:lnTo>
                    <a:pt x="252" y="221"/>
                  </a:lnTo>
                  <a:lnTo>
                    <a:pt x="293" y="110"/>
                  </a:lnTo>
                  <a:lnTo>
                    <a:pt x="335" y="0"/>
                  </a:lnTo>
                  <a:lnTo>
                    <a:pt x="342" y="4"/>
                  </a:lnTo>
                  <a:lnTo>
                    <a:pt x="347" y="10"/>
                  </a:lnTo>
                  <a:lnTo>
                    <a:pt x="352" y="15"/>
                  </a:lnTo>
                  <a:lnTo>
                    <a:pt x="360" y="20"/>
                  </a:lnTo>
                  <a:lnTo>
                    <a:pt x="317" y="130"/>
                  </a:lnTo>
                  <a:lnTo>
                    <a:pt x="274" y="241"/>
                  </a:lnTo>
                  <a:lnTo>
                    <a:pt x="232" y="350"/>
                  </a:lnTo>
                  <a:lnTo>
                    <a:pt x="191" y="461"/>
                  </a:lnTo>
                  <a:lnTo>
                    <a:pt x="148" y="571"/>
                  </a:lnTo>
                  <a:lnTo>
                    <a:pt x="105" y="682"/>
                  </a:lnTo>
                  <a:lnTo>
                    <a:pt x="63" y="793"/>
                  </a:lnTo>
                  <a:lnTo>
                    <a:pt x="22" y="904"/>
                  </a:lnTo>
                  <a:lnTo>
                    <a:pt x="10" y="894"/>
                  </a:lnTo>
                  <a:lnTo>
                    <a:pt x="0" y="885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146"/>
            <p:cNvSpPr/>
            <p:nvPr/>
          </p:nvSpPr>
          <p:spPr>
            <a:xfrm>
              <a:off x="895320" y="1663560"/>
              <a:ext cx="179280" cy="45720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48" h="874">
                  <a:moveTo>
                    <a:pt x="0" y="853"/>
                  </a:moveTo>
                  <a:lnTo>
                    <a:pt x="40" y="745"/>
                  </a:lnTo>
                  <a:lnTo>
                    <a:pt x="81" y="638"/>
                  </a:lnTo>
                  <a:lnTo>
                    <a:pt x="122" y="531"/>
                  </a:lnTo>
                  <a:lnTo>
                    <a:pt x="163" y="424"/>
                  </a:lnTo>
                  <a:lnTo>
                    <a:pt x="202" y="317"/>
                  </a:lnTo>
                  <a:lnTo>
                    <a:pt x="243" y="211"/>
                  </a:lnTo>
                  <a:lnTo>
                    <a:pt x="284" y="104"/>
                  </a:lnTo>
                  <a:lnTo>
                    <a:pt x="326" y="0"/>
                  </a:lnTo>
                  <a:lnTo>
                    <a:pt x="330" y="1"/>
                  </a:lnTo>
                  <a:lnTo>
                    <a:pt x="337" y="5"/>
                  </a:lnTo>
                  <a:lnTo>
                    <a:pt x="342" y="8"/>
                  </a:lnTo>
                  <a:lnTo>
                    <a:pt x="348" y="12"/>
                  </a:lnTo>
                  <a:lnTo>
                    <a:pt x="305" y="119"/>
                  </a:lnTo>
                  <a:lnTo>
                    <a:pt x="264" y="227"/>
                  </a:lnTo>
                  <a:lnTo>
                    <a:pt x="223" y="334"/>
                  </a:lnTo>
                  <a:lnTo>
                    <a:pt x="182" y="442"/>
                  </a:lnTo>
                  <a:lnTo>
                    <a:pt x="140" y="549"/>
                  </a:lnTo>
                  <a:lnTo>
                    <a:pt x="101" y="658"/>
                  </a:lnTo>
                  <a:lnTo>
                    <a:pt x="58" y="766"/>
                  </a:lnTo>
                  <a:lnTo>
                    <a:pt x="19" y="874"/>
                  </a:lnTo>
                  <a:lnTo>
                    <a:pt x="13" y="869"/>
                  </a:lnTo>
                  <a:lnTo>
                    <a:pt x="8" y="864"/>
                  </a:lnTo>
                  <a:lnTo>
                    <a:pt x="4" y="857"/>
                  </a:lnTo>
                  <a:lnTo>
                    <a:pt x="0" y="853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147"/>
            <p:cNvSpPr/>
            <p:nvPr/>
          </p:nvSpPr>
          <p:spPr>
            <a:xfrm>
              <a:off x="846000" y="1633680"/>
              <a:ext cx="168480" cy="423720"/>
            </a:xfrm>
            <a:custGeom>
              <a:avLst/>
              <a:gdLst>
                <a:gd name="textAreaLeft" fmla="*/ 0 w 168480"/>
                <a:gd name="textAreaRight" fmla="*/ 168480 w 16848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326" h="812">
                  <a:moveTo>
                    <a:pt x="0" y="787"/>
                  </a:moveTo>
                  <a:lnTo>
                    <a:pt x="37" y="688"/>
                  </a:lnTo>
                  <a:lnTo>
                    <a:pt x="75" y="589"/>
                  </a:lnTo>
                  <a:lnTo>
                    <a:pt x="112" y="490"/>
                  </a:lnTo>
                  <a:lnTo>
                    <a:pt x="151" y="392"/>
                  </a:lnTo>
                  <a:lnTo>
                    <a:pt x="188" y="293"/>
                  </a:lnTo>
                  <a:lnTo>
                    <a:pt x="226" y="194"/>
                  </a:lnTo>
                  <a:lnTo>
                    <a:pt x="263" y="97"/>
                  </a:lnTo>
                  <a:lnTo>
                    <a:pt x="301" y="0"/>
                  </a:lnTo>
                  <a:lnTo>
                    <a:pt x="312" y="4"/>
                  </a:lnTo>
                  <a:lnTo>
                    <a:pt x="326" y="10"/>
                  </a:lnTo>
                  <a:lnTo>
                    <a:pt x="287" y="109"/>
                  </a:lnTo>
                  <a:lnTo>
                    <a:pt x="247" y="209"/>
                  </a:lnTo>
                  <a:lnTo>
                    <a:pt x="209" y="309"/>
                  </a:lnTo>
                  <a:lnTo>
                    <a:pt x="172" y="411"/>
                  </a:lnTo>
                  <a:lnTo>
                    <a:pt x="132" y="510"/>
                  </a:lnTo>
                  <a:lnTo>
                    <a:pt x="95" y="612"/>
                  </a:lnTo>
                  <a:lnTo>
                    <a:pt x="56" y="711"/>
                  </a:lnTo>
                  <a:lnTo>
                    <a:pt x="19" y="812"/>
                  </a:lnTo>
                  <a:lnTo>
                    <a:pt x="13" y="806"/>
                  </a:lnTo>
                  <a:lnTo>
                    <a:pt x="9" y="799"/>
                  </a:lnTo>
                  <a:lnTo>
                    <a:pt x="4" y="793"/>
                  </a:lnTo>
                  <a:lnTo>
                    <a:pt x="0" y="787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Freeform 148"/>
            <p:cNvSpPr/>
            <p:nvPr/>
          </p:nvSpPr>
          <p:spPr>
            <a:xfrm>
              <a:off x="803160" y="1612800"/>
              <a:ext cx="146160" cy="373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285" h="713">
                  <a:moveTo>
                    <a:pt x="0" y="677"/>
                  </a:moveTo>
                  <a:lnTo>
                    <a:pt x="32" y="592"/>
                  </a:lnTo>
                  <a:lnTo>
                    <a:pt x="65" y="507"/>
                  </a:lnTo>
                  <a:lnTo>
                    <a:pt x="97" y="423"/>
                  </a:lnTo>
                  <a:lnTo>
                    <a:pt x="130" y="338"/>
                  </a:lnTo>
                  <a:lnTo>
                    <a:pt x="161" y="252"/>
                  </a:lnTo>
                  <a:lnTo>
                    <a:pt x="193" y="169"/>
                  </a:lnTo>
                  <a:lnTo>
                    <a:pt x="225" y="83"/>
                  </a:lnTo>
                  <a:lnTo>
                    <a:pt x="258" y="0"/>
                  </a:lnTo>
                  <a:lnTo>
                    <a:pt x="271" y="3"/>
                  </a:lnTo>
                  <a:lnTo>
                    <a:pt x="285" y="7"/>
                  </a:lnTo>
                  <a:lnTo>
                    <a:pt x="251" y="94"/>
                  </a:lnTo>
                  <a:lnTo>
                    <a:pt x="218" y="182"/>
                  </a:lnTo>
                  <a:lnTo>
                    <a:pt x="185" y="271"/>
                  </a:lnTo>
                  <a:lnTo>
                    <a:pt x="152" y="359"/>
                  </a:lnTo>
                  <a:lnTo>
                    <a:pt x="118" y="446"/>
                  </a:lnTo>
                  <a:lnTo>
                    <a:pt x="83" y="535"/>
                  </a:lnTo>
                  <a:lnTo>
                    <a:pt x="49" y="623"/>
                  </a:lnTo>
                  <a:lnTo>
                    <a:pt x="16" y="713"/>
                  </a:lnTo>
                  <a:lnTo>
                    <a:pt x="12" y="703"/>
                  </a:lnTo>
                  <a:lnTo>
                    <a:pt x="9" y="693"/>
                  </a:lnTo>
                  <a:lnTo>
                    <a:pt x="4" y="685"/>
                  </a:lnTo>
                  <a:lnTo>
                    <a:pt x="0" y="677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149"/>
            <p:cNvSpPr/>
            <p:nvPr/>
          </p:nvSpPr>
          <p:spPr>
            <a:xfrm>
              <a:off x="768240" y="1611360"/>
              <a:ext cx="109800" cy="27936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217" h="537">
                  <a:moveTo>
                    <a:pt x="0" y="493"/>
                  </a:moveTo>
                  <a:lnTo>
                    <a:pt x="189" y="3"/>
                  </a:lnTo>
                  <a:lnTo>
                    <a:pt x="202" y="2"/>
                  </a:lnTo>
                  <a:lnTo>
                    <a:pt x="217" y="0"/>
                  </a:lnTo>
                  <a:lnTo>
                    <a:pt x="13" y="537"/>
                  </a:lnTo>
                  <a:lnTo>
                    <a:pt x="9" y="526"/>
                  </a:lnTo>
                  <a:lnTo>
                    <a:pt x="7" y="515"/>
                  </a:lnTo>
                  <a:lnTo>
                    <a:pt x="3" y="503"/>
                  </a:lnTo>
                  <a:lnTo>
                    <a:pt x="0" y="493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150"/>
            <p:cNvSpPr/>
            <p:nvPr/>
          </p:nvSpPr>
          <p:spPr>
            <a:xfrm>
              <a:off x="828720" y="2017800"/>
              <a:ext cx="425520" cy="28080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812" h="539">
                  <a:moveTo>
                    <a:pt x="0" y="0"/>
                  </a:moveTo>
                  <a:lnTo>
                    <a:pt x="812" y="536"/>
                  </a:lnTo>
                  <a:lnTo>
                    <a:pt x="800" y="536"/>
                  </a:lnTo>
                  <a:lnTo>
                    <a:pt x="789" y="537"/>
                  </a:lnTo>
                  <a:lnTo>
                    <a:pt x="778" y="537"/>
                  </a:lnTo>
                  <a:lnTo>
                    <a:pt x="768" y="539"/>
                  </a:lnTo>
                  <a:lnTo>
                    <a:pt x="30" y="53"/>
                  </a:lnTo>
                  <a:lnTo>
                    <a:pt x="21" y="38"/>
                  </a:lnTo>
                  <a:lnTo>
                    <a:pt x="13" y="26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151"/>
            <p:cNvSpPr/>
            <p:nvPr/>
          </p:nvSpPr>
          <p:spPr>
            <a:xfrm>
              <a:off x="785880" y="1925640"/>
              <a:ext cx="530280" cy="35712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1013" h="684">
                  <a:moveTo>
                    <a:pt x="0" y="0"/>
                  </a:moveTo>
                  <a:lnTo>
                    <a:pt x="125" y="83"/>
                  </a:lnTo>
                  <a:lnTo>
                    <a:pt x="252" y="167"/>
                  </a:lnTo>
                  <a:lnTo>
                    <a:pt x="379" y="250"/>
                  </a:lnTo>
                  <a:lnTo>
                    <a:pt x="506" y="334"/>
                  </a:lnTo>
                  <a:lnTo>
                    <a:pt x="632" y="418"/>
                  </a:lnTo>
                  <a:lnTo>
                    <a:pt x="759" y="501"/>
                  </a:lnTo>
                  <a:lnTo>
                    <a:pt x="886" y="584"/>
                  </a:lnTo>
                  <a:lnTo>
                    <a:pt x="1013" y="668"/>
                  </a:lnTo>
                  <a:lnTo>
                    <a:pt x="998" y="676"/>
                  </a:lnTo>
                  <a:lnTo>
                    <a:pt x="988" y="684"/>
                  </a:lnTo>
                  <a:lnTo>
                    <a:pt x="865" y="604"/>
                  </a:lnTo>
                  <a:lnTo>
                    <a:pt x="743" y="523"/>
                  </a:lnTo>
                  <a:lnTo>
                    <a:pt x="622" y="443"/>
                  </a:lnTo>
                  <a:lnTo>
                    <a:pt x="500" y="363"/>
                  </a:lnTo>
                  <a:lnTo>
                    <a:pt x="378" y="283"/>
                  </a:lnTo>
                  <a:lnTo>
                    <a:pt x="257" y="202"/>
                  </a:lnTo>
                  <a:lnTo>
                    <a:pt x="136" y="122"/>
                  </a:lnTo>
                  <a:lnTo>
                    <a:pt x="16" y="41"/>
                  </a:lnTo>
                  <a:lnTo>
                    <a:pt x="10" y="31"/>
                  </a:lnTo>
                  <a:lnTo>
                    <a:pt x="8" y="21"/>
                  </a:lnTo>
                  <a:lnTo>
                    <a:pt x="4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152"/>
            <p:cNvSpPr/>
            <p:nvPr/>
          </p:nvSpPr>
          <p:spPr>
            <a:xfrm>
              <a:off x="763560" y="1846440"/>
              <a:ext cx="588960" cy="39816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398160"/>
                <a:gd name="textAreaBottom" fmla="*/ 398520 h 398160"/>
              </a:gdLst>
              <a:ahLst/>
              <a:rect l="textAreaLeft" t="textAreaTop" r="textAreaRight" b="textAreaBottom"/>
              <a:pathLst>
                <a:path w="1122" h="762">
                  <a:moveTo>
                    <a:pt x="0" y="0"/>
                  </a:moveTo>
                  <a:lnTo>
                    <a:pt x="139" y="93"/>
                  </a:lnTo>
                  <a:lnTo>
                    <a:pt x="280" y="185"/>
                  </a:lnTo>
                  <a:lnTo>
                    <a:pt x="420" y="278"/>
                  </a:lnTo>
                  <a:lnTo>
                    <a:pt x="561" y="370"/>
                  </a:lnTo>
                  <a:lnTo>
                    <a:pt x="701" y="461"/>
                  </a:lnTo>
                  <a:lnTo>
                    <a:pt x="841" y="555"/>
                  </a:lnTo>
                  <a:lnTo>
                    <a:pt x="981" y="647"/>
                  </a:lnTo>
                  <a:lnTo>
                    <a:pt x="1122" y="741"/>
                  </a:lnTo>
                  <a:lnTo>
                    <a:pt x="1116" y="752"/>
                  </a:lnTo>
                  <a:lnTo>
                    <a:pt x="1107" y="762"/>
                  </a:lnTo>
                  <a:lnTo>
                    <a:pt x="969" y="671"/>
                  </a:lnTo>
                  <a:lnTo>
                    <a:pt x="832" y="581"/>
                  </a:lnTo>
                  <a:lnTo>
                    <a:pt x="695" y="490"/>
                  </a:lnTo>
                  <a:lnTo>
                    <a:pt x="557" y="401"/>
                  </a:lnTo>
                  <a:lnTo>
                    <a:pt x="419" y="309"/>
                  </a:lnTo>
                  <a:lnTo>
                    <a:pt x="281" y="220"/>
                  </a:lnTo>
                  <a:lnTo>
                    <a:pt x="144" y="128"/>
                  </a:lnTo>
                  <a:lnTo>
                    <a:pt x="7" y="39"/>
                  </a:lnTo>
                  <a:lnTo>
                    <a:pt x="5" y="27"/>
                  </a:lnTo>
                  <a:lnTo>
                    <a:pt x="4" y="16"/>
                  </a:lnTo>
                  <a:lnTo>
                    <a:pt x="1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153"/>
            <p:cNvSpPr/>
            <p:nvPr/>
          </p:nvSpPr>
          <p:spPr>
            <a:xfrm>
              <a:off x="757080" y="1779480"/>
              <a:ext cx="615960" cy="41904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173" h="801">
                  <a:moveTo>
                    <a:pt x="0" y="0"/>
                  </a:moveTo>
                  <a:lnTo>
                    <a:pt x="147" y="95"/>
                  </a:lnTo>
                  <a:lnTo>
                    <a:pt x="293" y="192"/>
                  </a:lnTo>
                  <a:lnTo>
                    <a:pt x="440" y="288"/>
                  </a:lnTo>
                  <a:lnTo>
                    <a:pt x="586" y="386"/>
                  </a:lnTo>
                  <a:lnTo>
                    <a:pt x="733" y="481"/>
                  </a:lnTo>
                  <a:lnTo>
                    <a:pt x="880" y="577"/>
                  </a:lnTo>
                  <a:lnTo>
                    <a:pt x="1026" y="674"/>
                  </a:lnTo>
                  <a:lnTo>
                    <a:pt x="1173" y="772"/>
                  </a:lnTo>
                  <a:lnTo>
                    <a:pt x="1169" y="778"/>
                  </a:lnTo>
                  <a:lnTo>
                    <a:pt x="1167" y="785"/>
                  </a:lnTo>
                  <a:lnTo>
                    <a:pt x="1166" y="793"/>
                  </a:lnTo>
                  <a:lnTo>
                    <a:pt x="1166" y="801"/>
                  </a:lnTo>
                  <a:lnTo>
                    <a:pt x="1020" y="703"/>
                  </a:lnTo>
                  <a:lnTo>
                    <a:pt x="874" y="606"/>
                  </a:lnTo>
                  <a:lnTo>
                    <a:pt x="728" y="510"/>
                  </a:lnTo>
                  <a:lnTo>
                    <a:pt x="582" y="414"/>
                  </a:lnTo>
                  <a:lnTo>
                    <a:pt x="436" y="317"/>
                  </a:lnTo>
                  <a:lnTo>
                    <a:pt x="291" y="222"/>
                  </a:lnTo>
                  <a:lnTo>
                    <a:pt x="145" y="127"/>
                  </a:lnTo>
                  <a:lnTo>
                    <a:pt x="0" y="32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Freeform 154"/>
            <p:cNvSpPr/>
            <p:nvPr/>
          </p:nvSpPr>
          <p:spPr>
            <a:xfrm>
              <a:off x="762120" y="1719360"/>
              <a:ext cx="614160" cy="419040"/>
            </a:xfrm>
            <a:custGeom>
              <a:avLst/>
              <a:gdLst>
                <a:gd name="textAreaLeft" fmla="*/ 0 w 614160"/>
                <a:gd name="textAreaRight" fmla="*/ 614520 w 6141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170" h="800">
                  <a:moveTo>
                    <a:pt x="6" y="0"/>
                  </a:moveTo>
                  <a:lnTo>
                    <a:pt x="151" y="95"/>
                  </a:lnTo>
                  <a:lnTo>
                    <a:pt x="296" y="190"/>
                  </a:lnTo>
                  <a:lnTo>
                    <a:pt x="441" y="286"/>
                  </a:lnTo>
                  <a:lnTo>
                    <a:pt x="588" y="383"/>
                  </a:lnTo>
                  <a:lnTo>
                    <a:pt x="732" y="478"/>
                  </a:lnTo>
                  <a:lnTo>
                    <a:pt x="877" y="574"/>
                  </a:lnTo>
                  <a:lnTo>
                    <a:pt x="1024" y="669"/>
                  </a:lnTo>
                  <a:lnTo>
                    <a:pt x="1170" y="766"/>
                  </a:lnTo>
                  <a:lnTo>
                    <a:pt x="1170" y="774"/>
                  </a:lnTo>
                  <a:lnTo>
                    <a:pt x="1170" y="783"/>
                  </a:lnTo>
                  <a:lnTo>
                    <a:pt x="1170" y="791"/>
                  </a:lnTo>
                  <a:lnTo>
                    <a:pt x="1170" y="800"/>
                  </a:lnTo>
                  <a:lnTo>
                    <a:pt x="1024" y="702"/>
                  </a:lnTo>
                  <a:lnTo>
                    <a:pt x="877" y="606"/>
                  </a:lnTo>
                  <a:lnTo>
                    <a:pt x="731" y="509"/>
                  </a:lnTo>
                  <a:lnTo>
                    <a:pt x="584" y="413"/>
                  </a:lnTo>
                  <a:lnTo>
                    <a:pt x="437" y="315"/>
                  </a:lnTo>
                  <a:lnTo>
                    <a:pt x="291" y="219"/>
                  </a:lnTo>
                  <a:lnTo>
                    <a:pt x="146" y="121"/>
                  </a:lnTo>
                  <a:lnTo>
                    <a:pt x="0" y="25"/>
                  </a:lnTo>
                  <a:lnTo>
                    <a:pt x="3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Freeform 155"/>
            <p:cNvSpPr/>
            <p:nvPr/>
          </p:nvSpPr>
          <p:spPr>
            <a:xfrm>
              <a:off x="777960" y="1668600"/>
              <a:ext cx="590400" cy="39996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124" h="765">
                  <a:moveTo>
                    <a:pt x="16" y="0"/>
                  </a:moveTo>
                  <a:lnTo>
                    <a:pt x="153" y="90"/>
                  </a:lnTo>
                  <a:lnTo>
                    <a:pt x="290" y="181"/>
                  </a:lnTo>
                  <a:lnTo>
                    <a:pt x="428" y="272"/>
                  </a:lnTo>
                  <a:lnTo>
                    <a:pt x="565" y="363"/>
                  </a:lnTo>
                  <a:lnTo>
                    <a:pt x="702" y="455"/>
                  </a:lnTo>
                  <a:lnTo>
                    <a:pt x="840" y="546"/>
                  </a:lnTo>
                  <a:lnTo>
                    <a:pt x="977" y="637"/>
                  </a:lnTo>
                  <a:lnTo>
                    <a:pt x="1114" y="728"/>
                  </a:lnTo>
                  <a:lnTo>
                    <a:pt x="1116" y="736"/>
                  </a:lnTo>
                  <a:lnTo>
                    <a:pt x="1118" y="746"/>
                  </a:lnTo>
                  <a:lnTo>
                    <a:pt x="1120" y="754"/>
                  </a:lnTo>
                  <a:lnTo>
                    <a:pt x="1124" y="765"/>
                  </a:lnTo>
                  <a:lnTo>
                    <a:pt x="982" y="671"/>
                  </a:lnTo>
                  <a:lnTo>
                    <a:pt x="842" y="579"/>
                  </a:lnTo>
                  <a:lnTo>
                    <a:pt x="702" y="485"/>
                  </a:lnTo>
                  <a:lnTo>
                    <a:pt x="562" y="394"/>
                  </a:lnTo>
                  <a:lnTo>
                    <a:pt x="421" y="300"/>
                  </a:lnTo>
                  <a:lnTo>
                    <a:pt x="281" y="208"/>
                  </a:lnTo>
                  <a:lnTo>
                    <a:pt x="140" y="117"/>
                  </a:lnTo>
                  <a:lnTo>
                    <a:pt x="0" y="25"/>
                  </a:lnTo>
                  <a:lnTo>
                    <a:pt x="8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156"/>
            <p:cNvSpPr/>
            <p:nvPr/>
          </p:nvSpPr>
          <p:spPr>
            <a:xfrm>
              <a:off x="812880" y="1630440"/>
              <a:ext cx="530280" cy="35712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1010" h="684">
                  <a:moveTo>
                    <a:pt x="25" y="0"/>
                  </a:moveTo>
                  <a:lnTo>
                    <a:pt x="144" y="79"/>
                  </a:lnTo>
                  <a:lnTo>
                    <a:pt x="265" y="159"/>
                  </a:lnTo>
                  <a:lnTo>
                    <a:pt x="385" y="239"/>
                  </a:lnTo>
                  <a:lnTo>
                    <a:pt x="507" y="319"/>
                  </a:lnTo>
                  <a:lnTo>
                    <a:pt x="627" y="398"/>
                  </a:lnTo>
                  <a:lnTo>
                    <a:pt x="748" y="479"/>
                  </a:lnTo>
                  <a:lnTo>
                    <a:pt x="869" y="560"/>
                  </a:lnTo>
                  <a:lnTo>
                    <a:pt x="991" y="640"/>
                  </a:lnTo>
                  <a:lnTo>
                    <a:pt x="995" y="648"/>
                  </a:lnTo>
                  <a:lnTo>
                    <a:pt x="1001" y="660"/>
                  </a:lnTo>
                  <a:lnTo>
                    <a:pt x="1005" y="672"/>
                  </a:lnTo>
                  <a:lnTo>
                    <a:pt x="1010" y="684"/>
                  </a:lnTo>
                  <a:lnTo>
                    <a:pt x="883" y="599"/>
                  </a:lnTo>
                  <a:lnTo>
                    <a:pt x="758" y="516"/>
                  </a:lnTo>
                  <a:lnTo>
                    <a:pt x="631" y="433"/>
                  </a:lnTo>
                  <a:lnTo>
                    <a:pt x="506" y="350"/>
                  </a:lnTo>
                  <a:lnTo>
                    <a:pt x="379" y="265"/>
                  </a:lnTo>
                  <a:lnTo>
                    <a:pt x="252" y="182"/>
                  </a:lnTo>
                  <a:lnTo>
                    <a:pt x="125" y="99"/>
                  </a:lnTo>
                  <a:lnTo>
                    <a:pt x="0" y="16"/>
                  </a:lnTo>
                  <a:lnTo>
                    <a:pt x="10" y="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157"/>
            <p:cNvSpPr/>
            <p:nvPr/>
          </p:nvSpPr>
          <p:spPr>
            <a:xfrm>
              <a:off x="871560" y="1609560"/>
              <a:ext cx="422280" cy="2797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807" h="536">
                  <a:moveTo>
                    <a:pt x="41" y="0"/>
                  </a:moveTo>
                  <a:lnTo>
                    <a:pt x="769" y="479"/>
                  </a:lnTo>
                  <a:lnTo>
                    <a:pt x="778" y="492"/>
                  </a:lnTo>
                  <a:lnTo>
                    <a:pt x="787" y="507"/>
                  </a:lnTo>
                  <a:lnTo>
                    <a:pt x="791" y="513"/>
                  </a:lnTo>
                  <a:lnTo>
                    <a:pt x="797" y="521"/>
                  </a:lnTo>
                  <a:lnTo>
                    <a:pt x="802" y="528"/>
                  </a:lnTo>
                  <a:lnTo>
                    <a:pt x="807" y="536"/>
                  </a:lnTo>
                  <a:lnTo>
                    <a:pt x="0" y="5"/>
                  </a:lnTo>
                  <a:lnTo>
                    <a:pt x="11" y="2"/>
                  </a:lnTo>
                  <a:lnTo>
                    <a:pt x="21" y="1"/>
                  </a:lnTo>
                  <a:lnTo>
                    <a:pt x="3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Freeform 158"/>
            <p:cNvSpPr/>
            <p:nvPr/>
          </p:nvSpPr>
          <p:spPr>
            <a:xfrm>
              <a:off x="1886040" y="2927520"/>
              <a:ext cx="296640" cy="42840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570" h="819">
                  <a:moveTo>
                    <a:pt x="0" y="66"/>
                  </a:moveTo>
                  <a:lnTo>
                    <a:pt x="30" y="0"/>
                  </a:lnTo>
                  <a:lnTo>
                    <a:pt x="112" y="41"/>
                  </a:lnTo>
                  <a:lnTo>
                    <a:pt x="131" y="65"/>
                  </a:lnTo>
                  <a:lnTo>
                    <a:pt x="182" y="132"/>
                  </a:lnTo>
                  <a:lnTo>
                    <a:pt x="255" y="227"/>
                  </a:lnTo>
                  <a:lnTo>
                    <a:pt x="341" y="338"/>
                  </a:lnTo>
                  <a:lnTo>
                    <a:pt x="424" y="448"/>
                  </a:lnTo>
                  <a:lnTo>
                    <a:pt x="498" y="545"/>
                  </a:lnTo>
                  <a:lnTo>
                    <a:pt x="549" y="615"/>
                  </a:lnTo>
                  <a:lnTo>
                    <a:pt x="570" y="647"/>
                  </a:lnTo>
                  <a:lnTo>
                    <a:pt x="570" y="658"/>
                  </a:lnTo>
                  <a:lnTo>
                    <a:pt x="569" y="680"/>
                  </a:lnTo>
                  <a:lnTo>
                    <a:pt x="565" y="707"/>
                  </a:lnTo>
                  <a:lnTo>
                    <a:pt x="561" y="738"/>
                  </a:lnTo>
                  <a:lnTo>
                    <a:pt x="556" y="767"/>
                  </a:lnTo>
                  <a:lnTo>
                    <a:pt x="552" y="794"/>
                  </a:lnTo>
                  <a:lnTo>
                    <a:pt x="548" y="811"/>
                  </a:lnTo>
                  <a:lnTo>
                    <a:pt x="548" y="819"/>
                  </a:lnTo>
                  <a:lnTo>
                    <a:pt x="14" y="141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Freeform 159"/>
            <p:cNvSpPr/>
            <p:nvPr/>
          </p:nvSpPr>
          <p:spPr>
            <a:xfrm>
              <a:off x="1833480" y="2959200"/>
              <a:ext cx="338400" cy="39348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646" h="752">
                  <a:moveTo>
                    <a:pt x="0" y="39"/>
                  </a:moveTo>
                  <a:lnTo>
                    <a:pt x="12" y="112"/>
                  </a:lnTo>
                  <a:lnTo>
                    <a:pt x="458" y="708"/>
                  </a:lnTo>
                  <a:lnTo>
                    <a:pt x="465" y="710"/>
                  </a:lnTo>
                  <a:lnTo>
                    <a:pt x="487" y="717"/>
                  </a:lnTo>
                  <a:lnTo>
                    <a:pt x="516" y="725"/>
                  </a:lnTo>
                  <a:lnTo>
                    <a:pt x="552" y="735"/>
                  </a:lnTo>
                  <a:lnTo>
                    <a:pt x="585" y="743"/>
                  </a:lnTo>
                  <a:lnTo>
                    <a:pt x="615" y="750"/>
                  </a:lnTo>
                  <a:lnTo>
                    <a:pt x="637" y="752"/>
                  </a:lnTo>
                  <a:lnTo>
                    <a:pt x="646" y="749"/>
                  </a:lnTo>
                  <a:lnTo>
                    <a:pt x="623" y="713"/>
                  </a:lnTo>
                  <a:lnTo>
                    <a:pt x="568" y="636"/>
                  </a:lnTo>
                  <a:lnTo>
                    <a:pt x="489" y="532"/>
                  </a:lnTo>
                  <a:lnTo>
                    <a:pt x="398" y="416"/>
                  </a:lnTo>
                  <a:lnTo>
                    <a:pt x="305" y="298"/>
                  </a:lnTo>
                  <a:lnTo>
                    <a:pt x="225" y="195"/>
                  </a:lnTo>
                  <a:lnTo>
                    <a:pt x="165" y="120"/>
                  </a:lnTo>
                  <a:lnTo>
                    <a:pt x="141" y="87"/>
                  </a:lnTo>
                  <a:lnTo>
                    <a:pt x="135" y="75"/>
                  </a:lnTo>
                  <a:lnTo>
                    <a:pt x="128" y="63"/>
                  </a:lnTo>
                  <a:lnTo>
                    <a:pt x="122" y="49"/>
                  </a:lnTo>
                  <a:lnTo>
                    <a:pt x="115" y="34"/>
                  </a:lnTo>
                  <a:lnTo>
                    <a:pt x="108" y="20"/>
                  </a:lnTo>
                  <a:lnTo>
                    <a:pt x="104" y="9"/>
                  </a:lnTo>
                  <a:lnTo>
                    <a:pt x="100" y="2"/>
                  </a:lnTo>
                  <a:lnTo>
                    <a:pt x="10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Freeform 160"/>
            <p:cNvSpPr/>
            <p:nvPr/>
          </p:nvSpPr>
          <p:spPr>
            <a:xfrm>
              <a:off x="1278000" y="2249640"/>
              <a:ext cx="160200" cy="15084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12" h="294">
                  <a:moveTo>
                    <a:pt x="0" y="185"/>
                  </a:moveTo>
                  <a:lnTo>
                    <a:pt x="7" y="182"/>
                  </a:lnTo>
                  <a:lnTo>
                    <a:pt x="26" y="179"/>
                  </a:lnTo>
                  <a:lnTo>
                    <a:pt x="54" y="174"/>
                  </a:lnTo>
                  <a:lnTo>
                    <a:pt x="88" y="169"/>
                  </a:lnTo>
                  <a:lnTo>
                    <a:pt x="121" y="161"/>
                  </a:lnTo>
                  <a:lnTo>
                    <a:pt x="153" y="154"/>
                  </a:lnTo>
                  <a:lnTo>
                    <a:pt x="177" y="146"/>
                  </a:lnTo>
                  <a:lnTo>
                    <a:pt x="191" y="141"/>
                  </a:lnTo>
                  <a:lnTo>
                    <a:pt x="198" y="128"/>
                  </a:lnTo>
                  <a:lnTo>
                    <a:pt x="205" y="109"/>
                  </a:lnTo>
                  <a:lnTo>
                    <a:pt x="211" y="83"/>
                  </a:lnTo>
                  <a:lnTo>
                    <a:pt x="219" y="58"/>
                  </a:lnTo>
                  <a:lnTo>
                    <a:pt x="226" y="33"/>
                  </a:lnTo>
                  <a:lnTo>
                    <a:pt x="234" y="13"/>
                  </a:lnTo>
                  <a:lnTo>
                    <a:pt x="240" y="0"/>
                  </a:lnTo>
                  <a:lnTo>
                    <a:pt x="248" y="0"/>
                  </a:lnTo>
                  <a:lnTo>
                    <a:pt x="255" y="16"/>
                  </a:lnTo>
                  <a:lnTo>
                    <a:pt x="267" y="51"/>
                  </a:lnTo>
                  <a:lnTo>
                    <a:pt x="279" y="97"/>
                  </a:lnTo>
                  <a:lnTo>
                    <a:pt x="292" y="150"/>
                  </a:lnTo>
                  <a:lnTo>
                    <a:pt x="301" y="202"/>
                  </a:lnTo>
                  <a:lnTo>
                    <a:pt x="309" y="248"/>
                  </a:lnTo>
                  <a:lnTo>
                    <a:pt x="312" y="280"/>
                  </a:lnTo>
                  <a:lnTo>
                    <a:pt x="310" y="294"/>
                  </a:lnTo>
                  <a:lnTo>
                    <a:pt x="290" y="290"/>
                  </a:lnTo>
                  <a:lnTo>
                    <a:pt x="253" y="278"/>
                  </a:lnTo>
                  <a:lnTo>
                    <a:pt x="202" y="261"/>
                  </a:lnTo>
                  <a:lnTo>
                    <a:pt x="148" y="243"/>
                  </a:lnTo>
                  <a:lnTo>
                    <a:pt x="92" y="222"/>
                  </a:lnTo>
                  <a:lnTo>
                    <a:pt x="45" y="204"/>
                  </a:lnTo>
                  <a:lnTo>
                    <a:pt x="12" y="190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de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Freeform 161"/>
            <p:cNvSpPr/>
            <p:nvPr/>
          </p:nvSpPr>
          <p:spPr>
            <a:xfrm>
              <a:off x="695160" y="1619280"/>
              <a:ext cx="78120" cy="2840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156" h="548">
                  <a:moveTo>
                    <a:pt x="150" y="0"/>
                  </a:moveTo>
                  <a:lnTo>
                    <a:pt x="156" y="9"/>
                  </a:lnTo>
                  <a:lnTo>
                    <a:pt x="150" y="31"/>
                  </a:lnTo>
                  <a:lnTo>
                    <a:pt x="136" y="60"/>
                  </a:lnTo>
                  <a:lnTo>
                    <a:pt x="119" y="96"/>
                  </a:lnTo>
                  <a:lnTo>
                    <a:pt x="98" y="134"/>
                  </a:lnTo>
                  <a:lnTo>
                    <a:pt x="79" y="175"/>
                  </a:lnTo>
                  <a:lnTo>
                    <a:pt x="63" y="215"/>
                  </a:lnTo>
                  <a:lnTo>
                    <a:pt x="55" y="253"/>
                  </a:lnTo>
                  <a:lnTo>
                    <a:pt x="55" y="290"/>
                  </a:lnTo>
                  <a:lnTo>
                    <a:pt x="59" y="336"/>
                  </a:lnTo>
                  <a:lnTo>
                    <a:pt x="65" y="384"/>
                  </a:lnTo>
                  <a:lnTo>
                    <a:pt x="71" y="433"/>
                  </a:lnTo>
                  <a:lnTo>
                    <a:pt x="75" y="476"/>
                  </a:lnTo>
                  <a:lnTo>
                    <a:pt x="78" y="512"/>
                  </a:lnTo>
                  <a:lnTo>
                    <a:pt x="76" y="537"/>
                  </a:lnTo>
                  <a:lnTo>
                    <a:pt x="69" y="548"/>
                  </a:lnTo>
                  <a:lnTo>
                    <a:pt x="54" y="541"/>
                  </a:lnTo>
                  <a:lnTo>
                    <a:pt x="42" y="521"/>
                  </a:lnTo>
                  <a:lnTo>
                    <a:pt x="30" y="489"/>
                  </a:lnTo>
                  <a:lnTo>
                    <a:pt x="20" y="451"/>
                  </a:lnTo>
                  <a:lnTo>
                    <a:pt x="9" y="402"/>
                  </a:lnTo>
                  <a:lnTo>
                    <a:pt x="4" y="351"/>
                  </a:lnTo>
                  <a:lnTo>
                    <a:pt x="0" y="297"/>
                  </a:lnTo>
                  <a:lnTo>
                    <a:pt x="0" y="244"/>
                  </a:lnTo>
                  <a:lnTo>
                    <a:pt x="5" y="191"/>
                  </a:lnTo>
                  <a:lnTo>
                    <a:pt x="20" y="143"/>
                  </a:lnTo>
                  <a:lnTo>
                    <a:pt x="38" y="100"/>
                  </a:lnTo>
                  <a:lnTo>
                    <a:pt x="63" y="64"/>
                  </a:lnTo>
                  <a:lnTo>
                    <a:pt x="87" y="34"/>
                  </a:lnTo>
                  <a:lnTo>
                    <a:pt x="112" y="11"/>
                  </a:lnTo>
                  <a:lnTo>
                    <a:pt x="133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de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Freeform 162"/>
            <p:cNvSpPr/>
            <p:nvPr/>
          </p:nvSpPr>
          <p:spPr>
            <a:xfrm>
              <a:off x="2001960" y="2940120"/>
              <a:ext cx="485640" cy="41580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926" h="794">
                  <a:moveTo>
                    <a:pt x="0" y="7"/>
                  </a:moveTo>
                  <a:lnTo>
                    <a:pt x="468" y="556"/>
                  </a:lnTo>
                  <a:lnTo>
                    <a:pt x="417" y="794"/>
                  </a:lnTo>
                  <a:lnTo>
                    <a:pt x="433" y="781"/>
                  </a:lnTo>
                  <a:lnTo>
                    <a:pt x="479" y="748"/>
                  </a:lnTo>
                  <a:lnTo>
                    <a:pt x="544" y="697"/>
                  </a:lnTo>
                  <a:lnTo>
                    <a:pt x="622" y="634"/>
                  </a:lnTo>
                  <a:lnTo>
                    <a:pt x="701" y="561"/>
                  </a:lnTo>
                  <a:lnTo>
                    <a:pt x="777" y="485"/>
                  </a:lnTo>
                  <a:lnTo>
                    <a:pt x="837" y="407"/>
                  </a:lnTo>
                  <a:lnTo>
                    <a:pt x="878" y="333"/>
                  </a:lnTo>
                  <a:lnTo>
                    <a:pt x="899" y="264"/>
                  </a:lnTo>
                  <a:lnTo>
                    <a:pt x="914" y="201"/>
                  </a:lnTo>
                  <a:lnTo>
                    <a:pt x="922" y="144"/>
                  </a:lnTo>
                  <a:lnTo>
                    <a:pt x="926" y="95"/>
                  </a:lnTo>
                  <a:lnTo>
                    <a:pt x="924" y="54"/>
                  </a:lnTo>
                  <a:lnTo>
                    <a:pt x="923" y="25"/>
                  </a:lnTo>
                  <a:lnTo>
                    <a:pt x="922" y="5"/>
                  </a:lnTo>
                  <a:lnTo>
                    <a:pt x="922" y="0"/>
                  </a:lnTo>
                  <a:lnTo>
                    <a:pt x="759" y="13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3c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Freeform 163"/>
            <p:cNvSpPr/>
            <p:nvPr/>
          </p:nvSpPr>
          <p:spPr>
            <a:xfrm>
              <a:off x="1717560" y="1881360"/>
              <a:ext cx="135000" cy="3492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349200"/>
                <a:gd name="textAreaBottom" fmla="*/ 349200 h 349200"/>
              </a:gdLst>
              <a:ahLst/>
              <a:rect l="textAreaLeft" t="textAreaTop" r="textAreaRight" b="textAreaBottom"/>
              <a:pathLst>
                <a:path w="263" h="669">
                  <a:moveTo>
                    <a:pt x="0" y="581"/>
                  </a:moveTo>
                  <a:lnTo>
                    <a:pt x="263" y="0"/>
                  </a:lnTo>
                  <a:lnTo>
                    <a:pt x="128" y="669"/>
                  </a:lnTo>
                  <a:lnTo>
                    <a:pt x="0" y="5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Freeform 164"/>
            <p:cNvSpPr/>
            <p:nvPr/>
          </p:nvSpPr>
          <p:spPr>
            <a:xfrm>
              <a:off x="1895400" y="1941480"/>
              <a:ext cx="297000" cy="39852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571" h="762">
                  <a:moveTo>
                    <a:pt x="0" y="662"/>
                  </a:moveTo>
                  <a:lnTo>
                    <a:pt x="571" y="0"/>
                  </a:lnTo>
                  <a:lnTo>
                    <a:pt x="135" y="762"/>
                  </a:lnTo>
                  <a:lnTo>
                    <a:pt x="128" y="757"/>
                  </a:lnTo>
                  <a:lnTo>
                    <a:pt x="114" y="746"/>
                  </a:lnTo>
                  <a:lnTo>
                    <a:pt x="93" y="732"/>
                  </a:lnTo>
                  <a:lnTo>
                    <a:pt x="69" y="714"/>
                  </a:lnTo>
                  <a:lnTo>
                    <a:pt x="44" y="696"/>
                  </a:lnTo>
                  <a:lnTo>
                    <a:pt x="23" y="680"/>
                  </a:lnTo>
                  <a:lnTo>
                    <a:pt x="7" y="667"/>
                  </a:lnTo>
                  <a:lnTo>
                    <a:pt x="0" y="66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Freeform 165"/>
            <p:cNvSpPr/>
            <p:nvPr/>
          </p:nvSpPr>
          <p:spPr>
            <a:xfrm>
              <a:off x="2039760" y="2238480"/>
              <a:ext cx="459000" cy="236520"/>
            </a:xfrm>
            <a:custGeom>
              <a:avLst/>
              <a:gdLst>
                <a:gd name="textAreaLeft" fmla="*/ 0 w 459000"/>
                <a:gd name="textAreaRight" fmla="*/ 459360 w 45900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876" h="455">
                  <a:moveTo>
                    <a:pt x="0" y="326"/>
                  </a:moveTo>
                  <a:lnTo>
                    <a:pt x="876" y="0"/>
                  </a:lnTo>
                  <a:lnTo>
                    <a:pt x="101" y="455"/>
                  </a:lnTo>
                  <a:lnTo>
                    <a:pt x="0" y="32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Freeform 166"/>
            <p:cNvSpPr/>
            <p:nvPr/>
          </p:nvSpPr>
          <p:spPr>
            <a:xfrm>
              <a:off x="1477800" y="2446200"/>
              <a:ext cx="373320" cy="4874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714" h="932">
                  <a:moveTo>
                    <a:pt x="4" y="29"/>
                  </a:moveTo>
                  <a:lnTo>
                    <a:pt x="32" y="66"/>
                  </a:lnTo>
                  <a:lnTo>
                    <a:pt x="106" y="168"/>
                  </a:lnTo>
                  <a:lnTo>
                    <a:pt x="211" y="312"/>
                  </a:lnTo>
                  <a:lnTo>
                    <a:pt x="334" y="477"/>
                  </a:lnTo>
                  <a:lnTo>
                    <a:pt x="456" y="641"/>
                  </a:lnTo>
                  <a:lnTo>
                    <a:pt x="565" y="786"/>
                  </a:lnTo>
                  <a:lnTo>
                    <a:pt x="644" y="888"/>
                  </a:lnTo>
                  <a:lnTo>
                    <a:pt x="681" y="930"/>
                  </a:lnTo>
                  <a:lnTo>
                    <a:pt x="688" y="931"/>
                  </a:lnTo>
                  <a:lnTo>
                    <a:pt x="696" y="932"/>
                  </a:lnTo>
                  <a:lnTo>
                    <a:pt x="702" y="932"/>
                  </a:lnTo>
                  <a:lnTo>
                    <a:pt x="709" y="932"/>
                  </a:lnTo>
                  <a:lnTo>
                    <a:pt x="714" y="927"/>
                  </a:lnTo>
                  <a:lnTo>
                    <a:pt x="713" y="917"/>
                  </a:lnTo>
                  <a:lnTo>
                    <a:pt x="679" y="873"/>
                  </a:lnTo>
                  <a:lnTo>
                    <a:pt x="599" y="769"/>
                  </a:lnTo>
                  <a:lnTo>
                    <a:pt x="490" y="623"/>
                  </a:lnTo>
                  <a:lnTo>
                    <a:pt x="366" y="458"/>
                  </a:lnTo>
                  <a:lnTo>
                    <a:pt x="242" y="293"/>
                  </a:lnTo>
                  <a:lnTo>
                    <a:pt x="133" y="149"/>
                  </a:lnTo>
                  <a:lnTo>
                    <a:pt x="57" y="48"/>
                  </a:lnTo>
                  <a:lnTo>
                    <a:pt x="29" y="11"/>
                  </a:lnTo>
                  <a:lnTo>
                    <a:pt x="22" y="5"/>
                  </a:lnTo>
                  <a:lnTo>
                    <a:pt x="12" y="0"/>
                  </a:lnTo>
                  <a:lnTo>
                    <a:pt x="5" y="0"/>
                  </a:lnTo>
                  <a:lnTo>
                    <a:pt x="1" y="4"/>
                  </a:lnTo>
                  <a:lnTo>
                    <a:pt x="0" y="12"/>
                  </a:lnTo>
                  <a:lnTo>
                    <a:pt x="4" y="29"/>
                  </a:lnTo>
                  <a:close/>
                </a:path>
              </a:pathLst>
            </a:custGeom>
            <a:solidFill>
              <a:srgbClr val="de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Freeform 167"/>
            <p:cNvSpPr/>
            <p:nvPr/>
          </p:nvSpPr>
          <p:spPr>
            <a:xfrm>
              <a:off x="1947960" y="3002040"/>
              <a:ext cx="223920" cy="2905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432" h="560">
                  <a:moveTo>
                    <a:pt x="3" y="17"/>
                  </a:moveTo>
                  <a:lnTo>
                    <a:pt x="19" y="40"/>
                  </a:lnTo>
                  <a:lnTo>
                    <a:pt x="62" y="103"/>
                  </a:lnTo>
                  <a:lnTo>
                    <a:pt x="123" y="190"/>
                  </a:lnTo>
                  <a:lnTo>
                    <a:pt x="197" y="292"/>
                  </a:lnTo>
                  <a:lnTo>
                    <a:pt x="271" y="391"/>
                  </a:lnTo>
                  <a:lnTo>
                    <a:pt x="338" y="478"/>
                  </a:lnTo>
                  <a:lnTo>
                    <a:pt x="388" y="537"/>
                  </a:lnTo>
                  <a:lnTo>
                    <a:pt x="416" y="560"/>
                  </a:lnTo>
                  <a:lnTo>
                    <a:pt x="424" y="555"/>
                  </a:lnTo>
                  <a:lnTo>
                    <a:pt x="429" y="548"/>
                  </a:lnTo>
                  <a:lnTo>
                    <a:pt x="431" y="540"/>
                  </a:lnTo>
                  <a:lnTo>
                    <a:pt x="432" y="533"/>
                  </a:lnTo>
                  <a:lnTo>
                    <a:pt x="428" y="520"/>
                  </a:lnTo>
                  <a:lnTo>
                    <a:pt x="425" y="516"/>
                  </a:lnTo>
                  <a:lnTo>
                    <a:pt x="28" y="1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9" y="1"/>
                  </a:lnTo>
                  <a:lnTo>
                    <a:pt x="0" y="7"/>
                  </a:lnTo>
                  <a:lnTo>
                    <a:pt x="3" y="17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Freeform 168"/>
            <p:cNvSpPr/>
            <p:nvPr/>
          </p:nvSpPr>
          <p:spPr>
            <a:xfrm>
              <a:off x="2031840" y="2778120"/>
              <a:ext cx="379440" cy="7776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727" h="156">
                  <a:moveTo>
                    <a:pt x="0" y="12"/>
                  </a:moveTo>
                  <a:lnTo>
                    <a:pt x="68" y="0"/>
                  </a:lnTo>
                  <a:lnTo>
                    <a:pt x="698" y="96"/>
                  </a:lnTo>
                  <a:lnTo>
                    <a:pt x="727" y="156"/>
                  </a:lnTo>
                  <a:lnTo>
                    <a:pt x="80" y="6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"/>
          <p:cNvSpPr/>
          <p:nvPr/>
        </p:nvSpPr>
        <p:spPr>
          <a:xfrm>
            <a:off x="1148760" y="1857240"/>
            <a:ext cx="7562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893 - основана первая в мире Ассоциация бадминто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887 - в Англии был создан первый клуб любителей бадминт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898 - началось производство воланов 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05 - английская Федерация бадминтона утвердила правила игр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34 – основана Международная федерация бадминтона (IB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1957 -  появился в России бадминтон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68 - проводятся чемпионаты Европ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77 - проводятся чемпионаты ми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92 - бадминтон включен в программу Олимпийских иг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199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снован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сероссийская федерация бадминт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WordArt 2"/>
          <p:cNvSpPr txBox="1"/>
          <p:nvPr/>
        </p:nvSpPr>
        <p:spPr>
          <a:xfrm>
            <a:off x="1042920" y="549360"/>
            <a:ext cx="6121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стория игры в цифра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1" descr=""/>
          <p:cNvPicPr/>
          <p:nvPr/>
        </p:nvPicPr>
        <p:blipFill>
          <a:blip r:embed="rId1"/>
          <a:stretch/>
        </p:blipFill>
        <p:spPr>
          <a:xfrm>
            <a:off x="5148360" y="1341360"/>
            <a:ext cx="3108240" cy="460872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2"/>
          <p:cNvSpPr/>
          <p:nvPr/>
        </p:nvSpPr>
        <p:spPr>
          <a:xfrm>
            <a:off x="1042920" y="2046240"/>
            <a:ext cx="27370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этом виде 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вляю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китайски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корейски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индонезий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дминтонис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WordArt 3"/>
          <p:cNvSpPr txBox="1"/>
          <p:nvPr/>
        </p:nvSpPr>
        <p:spPr>
          <a:xfrm>
            <a:off x="684360" y="476280"/>
            <a:ext cx="3816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ильнейши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ортсмена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WordArt 1"/>
          <p:cNvSpPr txBox="1"/>
          <p:nvPr/>
        </p:nvSpPr>
        <p:spPr>
          <a:xfrm>
            <a:off x="1619280" y="549360"/>
            <a:ext cx="61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Поле битвы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90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80000" y="1484280"/>
            <a:ext cx="1676160" cy="20160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6920" y="4076640"/>
            <a:ext cx="2664000" cy="193032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4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372360" y="3068640"/>
            <a:ext cx="1995480" cy="284148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5"/>
          <p:cNvSpPr/>
          <p:nvPr/>
        </p:nvSpPr>
        <p:spPr>
          <a:xfrm>
            <a:off x="971640" y="6165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6"/>
          <p:cNvSpPr/>
          <p:nvPr/>
        </p:nvSpPr>
        <p:spPr>
          <a:xfrm>
            <a:off x="3348000" y="3645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л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6156360" y="6021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кет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1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6985080" cy="4713480"/>
          </a:xfrm>
          <a:prstGeom prst="rect">
            <a:avLst/>
          </a:prstGeom>
          <a:ln w="0">
            <a:noFill/>
          </a:ln>
        </p:spPr>
      </p:pic>
      <p:sp>
        <p:nvSpPr>
          <p:cNvPr id="497" name="Rectangle 2"/>
          <p:cNvSpPr/>
          <p:nvPr/>
        </p:nvSpPr>
        <p:spPr>
          <a:xfrm>
            <a:off x="609840" y="6237720"/>
            <a:ext cx="810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Ширина одиночной площадки 5,18 м, длина 13,40 м, высота сетки — 155 см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WordArt 3"/>
          <p:cNvSpPr txBox="1"/>
          <p:nvPr/>
        </p:nvSpPr>
        <p:spPr>
          <a:xfrm>
            <a:off x="2340000" y="404640"/>
            <a:ext cx="3672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р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1"/>
          <p:cNvSpPr/>
          <p:nvPr/>
        </p:nvSpPr>
        <p:spPr>
          <a:xfrm>
            <a:off x="2627280" y="54936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2"/>
          <p:cNvSpPr/>
          <p:nvPr/>
        </p:nvSpPr>
        <p:spPr>
          <a:xfrm>
            <a:off x="468360" y="6120000"/>
            <a:ext cx="65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сса ракеток колеблется от 80 до 150 грамм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1" name="Group 3"/>
          <p:cNvGrpSpPr/>
          <p:nvPr/>
        </p:nvGrpSpPr>
        <p:grpSpPr>
          <a:xfrm>
            <a:off x="1692360" y="333360"/>
            <a:ext cx="7049880" cy="5013360"/>
            <a:chOff x="1692360" y="333360"/>
            <a:chExt cx="7049880" cy="5013360"/>
          </a:xfrm>
        </p:grpSpPr>
        <p:cxnSp>
          <p:nvCxnSpPr>
            <p:cNvPr id="502" name="AutoShape 4"/>
            <p:cNvCxnSpPr>
              <a:stCxn id="503" idx="4"/>
              <a:endCxn id="504" idx="3"/>
            </p:cNvCxnSpPr>
            <p:nvPr/>
          </p:nvCxnSpPr>
          <p:spPr>
            <a:xfrm flipV="1">
              <a:off x="4636800" y="2125080"/>
              <a:ext cx="538920" cy="749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505" name="AutoShape 5"/>
            <p:cNvCxnSpPr>
              <a:stCxn id="506" idx="4"/>
              <a:endCxn id="507" idx="3"/>
            </p:cNvCxnSpPr>
            <p:nvPr/>
          </p:nvCxnSpPr>
          <p:spPr>
            <a:xfrm flipV="1">
              <a:off x="4635000" y="4272840"/>
              <a:ext cx="543960" cy="754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508" name="AutoShape 6"/>
            <p:cNvCxnSpPr>
              <a:stCxn id="507" idx="4"/>
              <a:endCxn id="509" idx="3"/>
            </p:cNvCxnSpPr>
            <p:nvPr/>
          </p:nvCxnSpPr>
          <p:spPr>
            <a:xfrm flipV="1">
              <a:off x="6651720" y="1047600"/>
              <a:ext cx="543600" cy="2905560"/>
            </a:xfrm>
            <a:prstGeom prst="bentConnector3">
              <a:avLst>
                <a:gd name="adj1" fmla="val 49966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510" name="AutoShape 7"/>
            <p:cNvCxnSpPr>
              <a:stCxn id="504" idx="4"/>
              <a:endCxn id="509" idx="3"/>
            </p:cNvCxnSpPr>
            <p:nvPr/>
          </p:nvCxnSpPr>
          <p:spPr>
            <a:xfrm flipV="1">
              <a:off x="6651720" y="1046880"/>
              <a:ext cx="543600" cy="754920"/>
            </a:xfrm>
            <a:prstGeom prst="bentConnector3">
              <a:avLst>
                <a:gd name="adj1" fmla="val 49966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509" name="AutoShape 8"/>
            <p:cNvSpPr/>
            <p:nvPr/>
          </p:nvSpPr>
          <p:spPr>
            <a:xfrm>
              <a:off x="5722920" y="333360"/>
              <a:ext cx="3019320" cy="712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40000"/>
                  </a:srgbClr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Ракетки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AutoShape 9"/>
            <p:cNvSpPr/>
            <p:nvPr/>
          </p:nvSpPr>
          <p:spPr>
            <a:xfrm>
              <a:off x="3708360" y="1407960"/>
              <a:ext cx="3017880" cy="712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333399">
                    <a:alpha val="40000"/>
                  </a:srgbClr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фессиональ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AutoShape 10"/>
            <p:cNvSpPr/>
            <p:nvPr/>
          </p:nvSpPr>
          <p:spPr>
            <a:xfrm>
              <a:off x="3708360" y="3559320"/>
              <a:ext cx="3017880" cy="712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333399">
                    <a:alpha val="40000"/>
                  </a:srgbClr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юбительск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AutoShape 11"/>
            <p:cNvSpPr/>
            <p:nvPr/>
          </p:nvSpPr>
          <p:spPr>
            <a:xfrm>
              <a:off x="1692360" y="4633920"/>
              <a:ext cx="3017880" cy="712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>
                    <a:alpha val="40000"/>
                  </a:srgbClr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из графита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тали, алюми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AutoShape 12"/>
            <p:cNvSpPr/>
            <p:nvPr/>
          </p:nvSpPr>
          <p:spPr>
            <a:xfrm>
              <a:off x="1692360" y="2482920"/>
              <a:ext cx="3017880" cy="712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>
                    <a:alpha val="40000"/>
                  </a:srgbClr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Из графита, титан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11" name="Picture 13" descr=""/>
          <p:cNvPicPr/>
          <p:nvPr/>
        </p:nvPicPr>
        <p:blipFill>
          <a:blip r:embed="rId1"/>
          <a:stretch/>
        </p:blipFill>
        <p:spPr>
          <a:xfrm>
            <a:off x="5796000" y="3357720"/>
            <a:ext cx="3097080" cy="294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2449440" cy="1828800"/>
          </a:xfrm>
          <a:prstGeom prst="rect">
            <a:avLst/>
          </a:prstGeom>
          <a:ln w="0">
            <a:noFill/>
          </a:ln>
        </p:spPr>
      </p:pic>
      <p:sp>
        <p:nvSpPr>
          <p:cNvPr id="513" name="AutoShape 2"/>
          <p:cNvSpPr/>
          <p:nvPr/>
        </p:nvSpPr>
        <p:spPr>
          <a:xfrm rot="4800000">
            <a:off x="6953040" y="1627200"/>
            <a:ext cx="1079280" cy="216000"/>
          </a:xfrm>
          <a:custGeom>
            <a:avLst/>
            <a:gdLst>
              <a:gd name="textAreaLeft" fmla="*/ 168480 w 1079280"/>
              <a:gd name="textAreaRight" fmla="*/ 944640 w 10792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AutoShape 3"/>
          <p:cNvSpPr/>
          <p:nvPr/>
        </p:nvSpPr>
        <p:spPr>
          <a:xfrm rot="6900000">
            <a:off x="4828320" y="1518480"/>
            <a:ext cx="1008000" cy="21600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WordArt 4"/>
          <p:cNvSpPr txBox="1"/>
          <p:nvPr/>
        </p:nvSpPr>
        <p:spPr>
          <a:xfrm>
            <a:off x="5076720" y="333360"/>
            <a:ext cx="273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лан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6431040" y="2492280"/>
            <a:ext cx="23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стиков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синтетически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6"/>
          <p:cNvSpPr/>
          <p:nvPr/>
        </p:nvSpPr>
        <p:spPr>
          <a:xfrm>
            <a:off x="3984480" y="2060640"/>
            <a:ext cx="207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ьев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натуральны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324000" y="4149720"/>
            <a:ext cx="74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Зеленая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медленн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синя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— средня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расна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быстр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астиковые воланы выпускают в основно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елы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желты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362520" y="3355920"/>
            <a:ext cx="56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корость волана можно определ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 цвету окантовочной ленты на головке вола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AutoShape 9"/>
          <p:cNvSpPr/>
          <p:nvPr/>
        </p:nvSpPr>
        <p:spPr>
          <a:xfrm>
            <a:off x="1979640" y="2349360"/>
            <a:ext cx="144360" cy="1008360"/>
          </a:xfrm>
          <a:prstGeom prst="upArrow">
            <a:avLst>
              <a:gd name="adj1" fmla="val 50000"/>
              <a:gd name="adj2" fmla="val 1746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6T12:55:45Z</dcterms:created>
  <dc:creator>Костя</dc:creator>
  <dc:description/>
  <dc:language>en-US</dc:language>
  <cp:lastModifiedBy>Евгения Лебедева</cp:lastModifiedBy>
  <dcterms:modified xsi:type="dcterms:W3CDTF">2017-09-08T16:05:19Z</dcterms:modified>
  <cp:revision>11</cp:revision>
  <dc:subject/>
  <dc:title>Слайд 1</dc:title>
</cp:coreProperties>
</file>