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34.gif" ContentType="image/gif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E6AF-3126-4F2D-83EA-DD73800EB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468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440" y="4988880"/>
            <a:ext cx="77468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3EC4-1F0F-46B7-B53B-A7E53B7E0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44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516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9078-FFB4-4F34-8003-5DCC21AA9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04440" y="19810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23800" y="19810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440" y="49888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04440" y="49888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23800" y="49888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12CF1-932D-4382-BDFC-978228BB7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1E06E-86B6-4405-A495-D58E33A54B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4684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BD80E-10E6-4B56-BD17-91049FCF8D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468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F721-EE04-499B-B72A-C29167CAA0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2991C-0449-4B47-BA04-333CE3F2A5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741C4-370D-4936-B9A6-2B82657549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440" y="-19440"/>
            <a:ext cx="77468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8B38D-497A-40E2-B7C0-BCF7A16F23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44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A1D4A-FF9C-4AA0-AF38-B48747717C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4684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0BF2-ACFB-434D-9555-549BD999D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516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082A0-7E46-47BC-9345-2BB5477F46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440" y="4988880"/>
            <a:ext cx="77468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BD161-EF39-4FEA-B81A-948FB1DD50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468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440" y="4988880"/>
            <a:ext cx="77468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E9F1E-392C-416C-9D3D-30061835E3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44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516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54F98-59BA-4F14-9637-288B956E0A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04440" y="19810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23800" y="19810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440" y="49888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04440" y="49888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23800" y="49888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7783E-3B16-4CD1-823E-6B425C45E4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468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FA5E-5B72-43F0-9A4A-D4D1AF0BD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3D45-7807-42A5-A4F6-708B61A3C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F6C6-8724-4038-A8CD-468DE384B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440" y="-19440"/>
            <a:ext cx="77468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DC5E-C607-498E-90AB-A9BF1C021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44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D163-DAFB-4A27-A372-4660D06DB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516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B142-3D6E-4FF8-B59C-1F4EE7517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988880"/>
            <a:ext cx="77468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3C4D-DAD1-4261-B120-6DD1E16F6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6225480" y="-56520"/>
            <a:ext cx="2982240" cy="3309480"/>
            <a:chOff x="6225480" y="-56520"/>
            <a:chExt cx="2982240" cy="3309480"/>
          </a:xfrm>
        </p:grpSpPr>
        <p:grpSp>
          <p:nvGrpSpPr>
            <p:cNvPr id="1" name="Group 2"/>
            <p:cNvGrpSpPr/>
            <p:nvPr/>
          </p:nvGrpSpPr>
          <p:grpSpPr>
            <a:xfrm>
              <a:off x="7567560" y="2500200"/>
              <a:ext cx="1003320" cy="752760"/>
              <a:chOff x="7567560" y="2500200"/>
              <a:chExt cx="1003320" cy="752760"/>
            </a:xfrm>
          </p:grpSpPr>
          <p:sp>
            <p:nvSpPr>
              <p:cNvPr id="2" name="Oval 3"/>
              <p:cNvSpPr/>
              <p:nvPr/>
            </p:nvSpPr>
            <p:spPr>
              <a:xfrm>
                <a:off x="7567560" y="250020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4"/>
              <p:cNvSpPr/>
              <p:nvPr/>
            </p:nvSpPr>
            <p:spPr>
              <a:xfrm>
                <a:off x="7927920" y="2828880"/>
                <a:ext cx="239760" cy="1396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7797960" y="1442880"/>
              <a:ext cx="1003320" cy="752760"/>
              <a:chOff x="7797960" y="1442880"/>
              <a:chExt cx="1003320" cy="752760"/>
            </a:xfrm>
          </p:grpSpPr>
          <p:sp>
            <p:nvSpPr>
              <p:cNvPr id="5" name="Oval 6"/>
              <p:cNvSpPr/>
              <p:nvPr/>
            </p:nvSpPr>
            <p:spPr>
              <a:xfrm>
                <a:off x="7797960" y="144288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7"/>
              <p:cNvSpPr/>
              <p:nvPr/>
            </p:nvSpPr>
            <p:spPr>
              <a:xfrm>
                <a:off x="8159760" y="1773360"/>
                <a:ext cx="239760" cy="1396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8"/>
            <p:cNvGrpSpPr/>
            <p:nvPr/>
          </p:nvGrpSpPr>
          <p:grpSpPr>
            <a:xfrm>
              <a:off x="6329520" y="0"/>
              <a:ext cx="1003320" cy="752400"/>
              <a:chOff x="6329520" y="0"/>
              <a:chExt cx="1003320" cy="752400"/>
            </a:xfrm>
          </p:grpSpPr>
          <p:sp>
            <p:nvSpPr>
              <p:cNvPr id="8" name="Oval 9"/>
              <p:cNvSpPr/>
              <p:nvPr/>
            </p:nvSpPr>
            <p:spPr>
              <a:xfrm>
                <a:off x="6329520" y="0"/>
                <a:ext cx="1003320" cy="75240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0"/>
              <p:cNvSpPr/>
              <p:nvPr/>
            </p:nvSpPr>
            <p:spPr>
              <a:xfrm>
                <a:off x="6689880" y="328680"/>
                <a:ext cx="239400" cy="1396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1"/>
            <p:cNvGrpSpPr/>
            <p:nvPr/>
          </p:nvGrpSpPr>
          <p:grpSpPr>
            <a:xfrm>
              <a:off x="6225480" y="-56520"/>
              <a:ext cx="2982240" cy="2334960"/>
              <a:chOff x="6225480" y="-56520"/>
              <a:chExt cx="2982240" cy="2334960"/>
            </a:xfrm>
          </p:grpSpPr>
          <p:grpSp>
            <p:nvGrpSpPr>
              <p:cNvPr id="11" name="Group 12"/>
              <p:cNvGrpSpPr/>
              <p:nvPr/>
            </p:nvGrpSpPr>
            <p:grpSpPr>
              <a:xfrm>
                <a:off x="6991200" y="403200"/>
                <a:ext cx="1497240" cy="1103400"/>
                <a:chOff x="6991200" y="403200"/>
                <a:chExt cx="1497240" cy="1103400"/>
              </a:xfrm>
            </p:grpSpPr>
            <p:sp>
              <p:nvSpPr>
                <p:cNvPr id="12" name="Oval 13"/>
                <p:cNvSpPr/>
                <p:nvPr/>
              </p:nvSpPr>
              <p:spPr>
                <a:xfrm>
                  <a:off x="6991200" y="403200"/>
                  <a:ext cx="1497240" cy="110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4"/>
                <p:cNvSpPr/>
                <p:nvPr/>
              </p:nvSpPr>
              <p:spPr>
                <a:xfrm>
                  <a:off x="7562880" y="806400"/>
                  <a:ext cx="295200" cy="20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5"/>
              <p:cNvGrpSpPr/>
              <p:nvPr/>
            </p:nvGrpSpPr>
            <p:grpSpPr>
              <a:xfrm>
                <a:off x="6225480" y="-56520"/>
                <a:ext cx="2982240" cy="2334960"/>
                <a:chOff x="6225480" y="-56520"/>
                <a:chExt cx="2982240" cy="2334960"/>
              </a:xfrm>
            </p:grpSpPr>
            <p:grpSp>
              <p:nvGrpSpPr>
                <p:cNvPr id="15" name="Group 16"/>
                <p:cNvGrpSpPr/>
                <p:nvPr/>
              </p:nvGrpSpPr>
              <p:grpSpPr>
                <a:xfrm>
                  <a:off x="7600320" y="847440"/>
                  <a:ext cx="1393560" cy="1215720"/>
                  <a:chOff x="7600320" y="847440"/>
                  <a:chExt cx="1393560" cy="1215720"/>
                </a:xfrm>
              </p:grpSpPr>
              <p:sp>
                <p:nvSpPr>
                  <p:cNvPr id="16" name="Freeform 17"/>
                  <p:cNvSpPr/>
                  <p:nvPr/>
                </p:nvSpPr>
                <p:spPr>
                  <a:xfrm rot="2700000">
                    <a:off x="7572600" y="1104840"/>
                    <a:ext cx="841320" cy="271080"/>
                  </a:xfrm>
                  <a:custGeom>
                    <a:avLst/>
                    <a:gdLst>
                      <a:gd name="textAreaLeft" fmla="*/ 0 w 841320"/>
                      <a:gd name="textAreaRight" fmla="*/ 841680 w 841320"/>
                      <a:gd name="textAreaTop" fmla="*/ 0 h 271080"/>
                      <a:gd name="textAreaBottom" fmla="*/ 271440 h 271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 rot="2700000">
                    <a:off x="8458560" y="1540440"/>
                    <a:ext cx="450720" cy="425520"/>
                  </a:xfrm>
                  <a:custGeom>
                    <a:avLst/>
                    <a:gdLst>
                      <a:gd name="textAreaLeft" fmla="*/ 0 w 450720"/>
                      <a:gd name="textAreaRight" fmla="*/ 451080 w 450720"/>
                      <a:gd name="textAreaTop" fmla="*/ 0 h 425520"/>
                      <a:gd name="textAreaBottom" fmla="*/ 425880 h 425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Group 19"/>
                <p:cNvGrpSpPr/>
                <p:nvPr/>
              </p:nvGrpSpPr>
              <p:grpSpPr>
                <a:xfrm>
                  <a:off x="7852680" y="505800"/>
                  <a:ext cx="1355040" cy="1419480"/>
                  <a:chOff x="7852680" y="505800"/>
                  <a:chExt cx="1355040" cy="1419480"/>
                </a:xfrm>
              </p:grpSpPr>
              <p:sp>
                <p:nvSpPr>
                  <p:cNvPr id="19" name="Freeform 20"/>
                  <p:cNvSpPr/>
                  <p:nvPr/>
                </p:nvSpPr>
                <p:spPr>
                  <a:xfrm rot="2100000">
                    <a:off x="7845120" y="748080"/>
                    <a:ext cx="930240" cy="267480"/>
                  </a:xfrm>
                  <a:custGeom>
                    <a:avLst/>
                    <a:gdLst>
                      <a:gd name="textAreaLeft" fmla="*/ 0 w 930240"/>
                      <a:gd name="textAreaRight" fmla="*/ 930600 w 930240"/>
                      <a:gd name="textAreaTop" fmla="*/ 0 h 267480"/>
                      <a:gd name="textAreaBottom" fmla="*/ 267840 h 26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 rot="2100000">
                    <a:off x="8632800" y="1397880"/>
                    <a:ext cx="498600" cy="422640"/>
                  </a:xfrm>
                  <a:custGeom>
                    <a:avLst/>
                    <a:gdLst>
                      <a:gd name="textAreaLeft" fmla="*/ 0 w 498600"/>
                      <a:gd name="textAreaRight" fmla="*/ 498960 w 498600"/>
                      <a:gd name="textAreaTop" fmla="*/ 0 h 422640"/>
                      <a:gd name="textAreaBottom" fmla="*/ 423000 h 422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Group 22"/>
                <p:cNvGrpSpPr/>
                <p:nvPr/>
              </p:nvGrpSpPr>
              <p:grpSpPr>
                <a:xfrm>
                  <a:off x="7857360" y="527400"/>
                  <a:ext cx="1348560" cy="1096560"/>
                  <a:chOff x="7857360" y="527400"/>
                  <a:chExt cx="1348560" cy="1096560"/>
                </a:xfrm>
              </p:grpSpPr>
              <p:sp>
                <p:nvSpPr>
                  <p:cNvPr id="22" name="Freeform 23"/>
                  <p:cNvSpPr/>
                  <p:nvPr/>
                </p:nvSpPr>
                <p:spPr>
                  <a:xfrm rot="1560000">
                    <a:off x="7862400" y="713160"/>
                    <a:ext cx="902160" cy="232560"/>
                  </a:xfrm>
                  <a:custGeom>
                    <a:avLst/>
                    <a:gdLst>
                      <a:gd name="textAreaLeft" fmla="*/ 0 w 902160"/>
                      <a:gd name="textAreaRight" fmla="*/ 902520 w 902160"/>
                      <a:gd name="textAreaTop" fmla="*/ 0 h 232560"/>
                      <a:gd name="textAreaBottom" fmla="*/ 232920 h 232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 rot="1560000">
                    <a:off x="8666280" y="1168920"/>
                    <a:ext cx="483480" cy="367200"/>
                  </a:xfrm>
                  <a:custGeom>
                    <a:avLst/>
                    <a:gdLst>
                      <a:gd name="textAreaLeft" fmla="*/ 0 w 483480"/>
                      <a:gd name="textAreaRight" fmla="*/ 483840 w 483480"/>
                      <a:gd name="textAreaTop" fmla="*/ 0 h 367200"/>
                      <a:gd name="textAreaBottom" fmla="*/ 367560 h 367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Group 25"/>
                <p:cNvGrpSpPr/>
                <p:nvPr/>
              </p:nvGrpSpPr>
              <p:grpSpPr>
                <a:xfrm>
                  <a:off x="7845120" y="563760"/>
                  <a:ext cx="1341720" cy="838080"/>
                  <a:chOff x="7845120" y="563760"/>
                  <a:chExt cx="1341720" cy="838080"/>
                </a:xfrm>
              </p:grpSpPr>
              <p:sp>
                <p:nvSpPr>
                  <p:cNvPr id="25" name="Freeform 26"/>
                  <p:cNvSpPr/>
                  <p:nvPr/>
                </p:nvSpPr>
                <p:spPr>
                  <a:xfrm rot="1080000">
                    <a:off x="7860960" y="694080"/>
                    <a:ext cx="883800" cy="2430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243000"/>
                      <a:gd name="textAreaBottom" fmla="*/ 243360 h 243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 rot="1080000">
                    <a:off x="8664840" y="953280"/>
                    <a:ext cx="473760" cy="384840"/>
                  </a:xfrm>
                  <a:custGeom>
                    <a:avLst/>
                    <a:gdLst>
                      <a:gd name="textAreaLeft" fmla="*/ 0 w 473760"/>
                      <a:gd name="textAreaRight" fmla="*/ 474120 w 473760"/>
                      <a:gd name="textAreaTop" fmla="*/ 0 h 384840"/>
                      <a:gd name="textAreaBottom" fmla="*/ 385200 h 384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Group 28"/>
                <p:cNvGrpSpPr/>
                <p:nvPr/>
              </p:nvGrpSpPr>
              <p:grpSpPr>
                <a:xfrm>
                  <a:off x="7844760" y="598320"/>
                  <a:ext cx="1250280" cy="481320"/>
                  <a:chOff x="7844760" y="598320"/>
                  <a:chExt cx="1250280" cy="481320"/>
                </a:xfrm>
              </p:grpSpPr>
              <p:sp>
                <p:nvSpPr>
                  <p:cNvPr id="28" name="Freeform 29"/>
                  <p:cNvSpPr/>
                  <p:nvPr/>
                </p:nvSpPr>
                <p:spPr>
                  <a:xfrm rot="480000">
                    <a:off x="7854840" y="653040"/>
                    <a:ext cx="804960" cy="200880"/>
                  </a:xfrm>
                  <a:custGeom>
                    <a:avLst/>
                    <a:gdLst>
                      <a:gd name="textAreaLeft" fmla="*/ 0 w 804960"/>
                      <a:gd name="textAreaRight" fmla="*/ 805320 w 804960"/>
                      <a:gd name="textAreaTop" fmla="*/ 0 h 200880"/>
                      <a:gd name="textAreaBottom" fmla="*/ 201240 h 20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 rot="480000">
                    <a:off x="8643600" y="735840"/>
                    <a:ext cx="431640" cy="315360"/>
                  </a:xfrm>
                  <a:custGeom>
                    <a:avLst/>
                    <a:gdLst>
                      <a:gd name="textAreaLeft" fmla="*/ 0 w 431640"/>
                      <a:gd name="textAreaRight" fmla="*/ 432000 w 431640"/>
                      <a:gd name="textAreaTop" fmla="*/ 0 h 315360"/>
                      <a:gd name="textAreaBottom" fmla="*/ 315720 h 31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Group 31"/>
                <p:cNvGrpSpPr/>
                <p:nvPr/>
              </p:nvGrpSpPr>
              <p:grpSpPr>
                <a:xfrm>
                  <a:off x="7868880" y="624240"/>
                  <a:ext cx="1088640" cy="200160"/>
                  <a:chOff x="7868880" y="624240"/>
                  <a:chExt cx="1088640" cy="200160"/>
                </a:xfrm>
              </p:grpSpPr>
              <p:sp>
                <p:nvSpPr>
                  <p:cNvPr id="31" name="Freeform 32"/>
                  <p:cNvSpPr/>
                  <p:nvPr/>
                </p:nvSpPr>
                <p:spPr>
                  <a:xfrm rot="21480000">
                    <a:off x="7870680" y="668160"/>
                    <a:ext cx="723240" cy="118080"/>
                  </a:xfrm>
                  <a:custGeom>
                    <a:avLst/>
                    <a:gdLst>
                      <a:gd name="textAreaLeft" fmla="*/ 0 w 723240"/>
                      <a:gd name="textAreaRight" fmla="*/ 723600 w 723240"/>
                      <a:gd name="textAreaTop" fmla="*/ 0 h 118080"/>
                      <a:gd name="textAreaBottom" fmla="*/ 118440 h 118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 rot="21480000">
                    <a:off x="8566200" y="631080"/>
                    <a:ext cx="388080" cy="186480"/>
                  </a:xfrm>
                  <a:custGeom>
                    <a:avLst/>
                    <a:gdLst>
                      <a:gd name="textAreaLeft" fmla="*/ 0 w 388080"/>
                      <a:gd name="textAreaRight" fmla="*/ 388440 w 388080"/>
                      <a:gd name="textAreaTop" fmla="*/ 0 h 186480"/>
                      <a:gd name="textAreaBottom" fmla="*/ 186840 h 1864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Group 34"/>
                <p:cNvGrpSpPr/>
                <p:nvPr/>
              </p:nvGrpSpPr>
              <p:grpSpPr>
                <a:xfrm>
                  <a:off x="7835040" y="380880"/>
                  <a:ext cx="995400" cy="444600"/>
                  <a:chOff x="7835040" y="380880"/>
                  <a:chExt cx="995400" cy="444600"/>
                </a:xfrm>
              </p:grpSpPr>
              <p:sp>
                <p:nvSpPr>
                  <p:cNvPr id="34" name="Freeform 35"/>
                  <p:cNvSpPr/>
                  <p:nvPr/>
                </p:nvSpPr>
                <p:spPr>
                  <a:xfrm rot="20760000">
                    <a:off x="7845120" y="585360"/>
                    <a:ext cx="645480" cy="164520"/>
                  </a:xfrm>
                  <a:custGeom>
                    <a:avLst/>
                    <a:gdLst>
                      <a:gd name="textAreaLeft" fmla="*/ 0 w 645480"/>
                      <a:gd name="textAreaRight" fmla="*/ 645840 w 645480"/>
                      <a:gd name="textAreaTop" fmla="*/ 0 h 164520"/>
                      <a:gd name="textAreaBottom" fmla="*/ 164880 h 164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 rot="20760000">
                    <a:off x="8458560" y="418680"/>
                    <a:ext cx="345240" cy="26100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261000"/>
                      <a:gd name="textAreaBottom" fmla="*/ 261360 h 261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Group 37"/>
                <p:cNvGrpSpPr/>
                <p:nvPr/>
              </p:nvGrpSpPr>
              <p:grpSpPr>
                <a:xfrm>
                  <a:off x="6436800" y="915480"/>
                  <a:ext cx="1447200" cy="1204560"/>
                  <a:chOff x="6436800" y="915480"/>
                  <a:chExt cx="1447200" cy="1204560"/>
                </a:xfrm>
              </p:grpSpPr>
              <p:sp>
                <p:nvSpPr>
                  <p:cNvPr id="37" name="Freeform 38"/>
                  <p:cNvSpPr/>
                  <p:nvPr/>
                </p:nvSpPr>
                <p:spPr>
                  <a:xfrm flipH="1" rot="18900000">
                    <a:off x="7074360" y="1175040"/>
                    <a:ext cx="841680" cy="258120"/>
                  </a:xfrm>
                  <a:custGeom>
                    <a:avLst/>
                    <a:gdLst>
                      <a:gd name="textAreaLeft" fmla="*/ 360 w 841680"/>
                      <a:gd name="textAreaRight" fmla="*/ 842400 w 841680"/>
                      <a:gd name="textAreaTop" fmla="*/ 0 h 258120"/>
                      <a:gd name="textAreaBottom" fmla="*/ 258480 h 258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 flipH="1" rot="18900000">
                    <a:off x="6514200" y="1614240"/>
                    <a:ext cx="450720" cy="405720"/>
                  </a:xfrm>
                  <a:custGeom>
                    <a:avLst/>
                    <a:gdLst>
                      <a:gd name="textAreaLeft" fmla="*/ 360 w 450720"/>
                      <a:gd name="textAreaRight" fmla="*/ 451440 w 450720"/>
                      <a:gd name="textAreaTop" fmla="*/ 0 h 405720"/>
                      <a:gd name="textAreaBottom" fmla="*/ 406080 h 405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Group 40"/>
                <p:cNvGrpSpPr/>
                <p:nvPr/>
              </p:nvGrpSpPr>
              <p:grpSpPr>
                <a:xfrm>
                  <a:off x="6228000" y="594000"/>
                  <a:ext cx="1335240" cy="1422000"/>
                  <a:chOff x="6228000" y="594000"/>
                  <a:chExt cx="1335240" cy="1422000"/>
                </a:xfrm>
              </p:grpSpPr>
              <p:sp>
                <p:nvSpPr>
                  <p:cNvPr id="40" name="Freeform 41"/>
                  <p:cNvSpPr/>
                  <p:nvPr/>
                </p:nvSpPr>
                <p:spPr>
                  <a:xfrm flipH="1" rot="19500000">
                    <a:off x="6637680" y="837000"/>
                    <a:ext cx="932760" cy="267480"/>
                  </a:xfrm>
                  <a:custGeom>
                    <a:avLst/>
                    <a:gdLst>
                      <a:gd name="textAreaLeft" fmla="*/ -360 w 932760"/>
                      <a:gd name="textAreaRight" fmla="*/ 932760 w 932760"/>
                      <a:gd name="textAreaTop" fmla="*/ 0 h 267480"/>
                      <a:gd name="textAreaBottom" fmla="*/ 267840 h 26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 flipH="1" rot="19500000">
                    <a:off x="6303960" y="1488240"/>
                    <a:ext cx="499680" cy="422280"/>
                  </a:xfrm>
                  <a:custGeom>
                    <a:avLst/>
                    <a:gdLst>
                      <a:gd name="textAreaLeft" fmla="*/ 360 w 499680"/>
                      <a:gd name="textAreaRight" fmla="*/ 500400 w 499680"/>
                      <a:gd name="textAreaTop" fmla="*/ 0 h 422280"/>
                      <a:gd name="textAreaBottom" fmla="*/ 422640 h 422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Group 43"/>
                <p:cNvGrpSpPr/>
                <p:nvPr/>
              </p:nvGrpSpPr>
              <p:grpSpPr>
                <a:xfrm>
                  <a:off x="6238080" y="619920"/>
                  <a:ext cx="1364040" cy="1093680"/>
                  <a:chOff x="6238080" y="619920"/>
                  <a:chExt cx="1364040" cy="1093680"/>
                </a:xfrm>
              </p:grpSpPr>
              <p:sp>
                <p:nvSpPr>
                  <p:cNvPr id="43" name="Freeform 44"/>
                  <p:cNvSpPr/>
                  <p:nvPr/>
                </p:nvSpPr>
                <p:spPr>
                  <a:xfrm flipH="1" rot="20040000">
                    <a:off x="6695640" y="805320"/>
                    <a:ext cx="900720" cy="232920"/>
                  </a:xfrm>
                  <a:custGeom>
                    <a:avLst/>
                    <a:gdLst>
                      <a:gd name="textAreaLeft" fmla="*/ 360 w 900720"/>
                      <a:gd name="textAreaRight" fmla="*/ 901440 w 900720"/>
                      <a:gd name="textAreaTop" fmla="*/ 0 h 232920"/>
                      <a:gd name="textAreaBottom" fmla="*/ 233280 h 232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 flipH="1" rot="20040000">
                    <a:off x="6293880" y="1259280"/>
                    <a:ext cx="482040" cy="366840"/>
                  </a:xfrm>
                  <a:custGeom>
                    <a:avLst/>
                    <a:gdLst>
                      <a:gd name="textAreaLeft" fmla="*/ -360 w 482040"/>
                      <a:gd name="textAreaRight" fmla="*/ 482040 w 482040"/>
                      <a:gd name="textAreaTop" fmla="*/ 0 h 366840"/>
                      <a:gd name="textAreaBottom" fmla="*/ 366840 h 366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Group 46"/>
                <p:cNvGrpSpPr/>
                <p:nvPr/>
              </p:nvGrpSpPr>
              <p:grpSpPr>
                <a:xfrm>
                  <a:off x="6225480" y="656280"/>
                  <a:ext cx="1391040" cy="837360"/>
                  <a:chOff x="6225480" y="656280"/>
                  <a:chExt cx="1391040" cy="837360"/>
                </a:xfrm>
              </p:grpSpPr>
              <p:sp>
                <p:nvSpPr>
                  <p:cNvPr id="46" name="Freeform 47"/>
                  <p:cNvSpPr/>
                  <p:nvPr/>
                </p:nvSpPr>
                <p:spPr>
                  <a:xfrm flipH="1" rot="20520000">
                    <a:off x="6717240" y="786600"/>
                    <a:ext cx="883080" cy="243360"/>
                  </a:xfrm>
                  <a:custGeom>
                    <a:avLst/>
                    <a:gdLst>
                      <a:gd name="textAreaLeft" fmla="*/ -360 w 883080"/>
                      <a:gd name="textAreaRight" fmla="*/ 883080 w 88308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 flipH="1" rot="20520000">
                    <a:off x="6273000" y="1045440"/>
                    <a:ext cx="473400" cy="384120"/>
                  </a:xfrm>
                  <a:custGeom>
                    <a:avLst/>
                    <a:gdLst>
                      <a:gd name="textAreaLeft" fmla="*/ -360 w 473400"/>
                      <a:gd name="textAreaRight" fmla="*/ 473400 w 473400"/>
                      <a:gd name="textAreaTop" fmla="*/ 0 h 384120"/>
                      <a:gd name="textAreaBottom" fmla="*/ 384480 h 384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Group 49"/>
                <p:cNvGrpSpPr/>
                <p:nvPr/>
              </p:nvGrpSpPr>
              <p:grpSpPr>
                <a:xfrm>
                  <a:off x="6319440" y="690480"/>
                  <a:ext cx="1249200" cy="477720"/>
                  <a:chOff x="6319440" y="690480"/>
                  <a:chExt cx="1249200" cy="477720"/>
                </a:xfrm>
              </p:grpSpPr>
              <p:sp>
                <p:nvSpPr>
                  <p:cNvPr id="49" name="Freeform 50"/>
                  <p:cNvSpPr/>
                  <p:nvPr/>
                </p:nvSpPr>
                <p:spPr>
                  <a:xfrm flipH="1" rot="21120000">
                    <a:off x="6753240" y="745200"/>
                    <a:ext cx="804960" cy="199080"/>
                  </a:xfrm>
                  <a:custGeom>
                    <a:avLst/>
                    <a:gdLst>
                      <a:gd name="textAreaLeft" fmla="*/ 360 w 804960"/>
                      <a:gd name="textAreaRight" fmla="*/ 805680 w 804960"/>
                      <a:gd name="textAreaTop" fmla="*/ 0 h 199080"/>
                      <a:gd name="textAreaBottom" fmla="*/ 199440 h 19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 flipH="1" rot="21120000">
                    <a:off x="6338880" y="825840"/>
                    <a:ext cx="431640" cy="313920"/>
                  </a:xfrm>
                  <a:custGeom>
                    <a:avLst/>
                    <a:gdLst>
                      <a:gd name="textAreaLeft" fmla="*/ -360 w 431640"/>
                      <a:gd name="textAreaRight" fmla="*/ 431640 w 431640"/>
                      <a:gd name="textAreaTop" fmla="*/ 0 h 313920"/>
                      <a:gd name="textAreaBottom" fmla="*/ 314280 h 313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Group 52"/>
                <p:cNvGrpSpPr/>
                <p:nvPr/>
              </p:nvGrpSpPr>
              <p:grpSpPr>
                <a:xfrm>
                  <a:off x="6408360" y="713520"/>
                  <a:ext cx="1133280" cy="199440"/>
                  <a:chOff x="6408360" y="713520"/>
                  <a:chExt cx="1133280" cy="199440"/>
                </a:xfrm>
              </p:grpSpPr>
              <p:sp>
                <p:nvSpPr>
                  <p:cNvPr id="52" name="Freeform 53"/>
                  <p:cNvSpPr/>
                  <p:nvPr/>
                </p:nvSpPr>
                <p:spPr>
                  <a:xfrm flipH="1" rot="120000">
                    <a:off x="6818400" y="757080"/>
                    <a:ext cx="721080" cy="119520"/>
                  </a:xfrm>
                  <a:custGeom>
                    <a:avLst/>
                    <a:gdLst>
                      <a:gd name="textAreaLeft" fmla="*/ 0 w 721080"/>
                      <a:gd name="textAreaRight" fmla="*/ 721080 w 721080"/>
                      <a:gd name="textAreaTop" fmla="*/ 0 h 119520"/>
                      <a:gd name="textAreaBottom" fmla="*/ 119880 h 119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 flipH="1" rot="120000">
                    <a:off x="6410880" y="720000"/>
                    <a:ext cx="386640" cy="186120"/>
                  </a:xfrm>
                  <a:custGeom>
                    <a:avLst/>
                    <a:gdLst>
                      <a:gd name="textAreaLeft" fmla="*/ 360 w 386640"/>
                      <a:gd name="textAreaRight" fmla="*/ 387360 w 386640"/>
                      <a:gd name="textAreaTop" fmla="*/ 0 h 186120"/>
                      <a:gd name="textAreaBottom" fmla="*/ 186480 h 186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Group 55"/>
                <p:cNvGrpSpPr/>
                <p:nvPr/>
              </p:nvGrpSpPr>
              <p:grpSpPr>
                <a:xfrm>
                  <a:off x="6534000" y="471240"/>
                  <a:ext cx="1019880" cy="444600"/>
                  <a:chOff x="6534000" y="471240"/>
                  <a:chExt cx="1019880" cy="444600"/>
                </a:xfrm>
              </p:grpSpPr>
              <p:sp>
                <p:nvSpPr>
                  <p:cNvPr id="55" name="Freeform 56"/>
                  <p:cNvSpPr/>
                  <p:nvPr/>
                </p:nvSpPr>
                <p:spPr>
                  <a:xfrm flipH="1" rot="840000">
                    <a:off x="6899400" y="676080"/>
                    <a:ext cx="644040" cy="163800"/>
                  </a:xfrm>
                  <a:custGeom>
                    <a:avLst/>
                    <a:gdLst>
                      <a:gd name="textAreaLeft" fmla="*/ -360 w 644040"/>
                      <a:gd name="textAreaRight" fmla="*/ 644040 w 644040"/>
                      <a:gd name="textAreaTop" fmla="*/ 0 h 163800"/>
                      <a:gd name="textAreaBottom" fmla="*/ 164160 h 163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 flipH="1" rot="840000">
                    <a:off x="6559920" y="509040"/>
                    <a:ext cx="344880" cy="261360"/>
                  </a:xfrm>
                  <a:custGeom>
                    <a:avLst/>
                    <a:gdLst>
                      <a:gd name="textAreaLeft" fmla="*/ 360 w 344880"/>
                      <a:gd name="textAreaRight" fmla="*/ 345600 w 344880"/>
                      <a:gd name="textAreaTop" fmla="*/ 0 h 261360"/>
                      <a:gd name="textAreaBottom" fmla="*/ 261720 h 261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Group 58"/>
                <p:cNvGrpSpPr/>
                <p:nvPr/>
              </p:nvGrpSpPr>
              <p:grpSpPr>
                <a:xfrm>
                  <a:off x="6598080" y="361080"/>
                  <a:ext cx="1018080" cy="610920"/>
                  <a:chOff x="6598080" y="361080"/>
                  <a:chExt cx="1018080" cy="610920"/>
                </a:xfrm>
              </p:grpSpPr>
              <p:sp>
                <p:nvSpPr>
                  <p:cNvPr id="58" name="Freeform 59"/>
                  <p:cNvSpPr/>
                  <p:nvPr/>
                </p:nvSpPr>
                <p:spPr>
                  <a:xfrm flipH="1" rot="1260000">
                    <a:off x="6963840" y="689760"/>
                    <a:ext cx="642600" cy="172800"/>
                  </a:xfrm>
                  <a:custGeom>
                    <a:avLst/>
                    <a:gdLst>
                      <a:gd name="textAreaLeft" fmla="*/ -360 w 642600"/>
                      <a:gd name="textAreaRight" fmla="*/ 642600 w 642600"/>
                      <a:gd name="textAreaTop" fmla="*/ 0 h 172800"/>
                      <a:gd name="textAreaBottom" fmla="*/ 173160 h 172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 flipH="1" rot="1260000">
                    <a:off x="6635160" y="413640"/>
                    <a:ext cx="344520" cy="272880"/>
                  </a:xfrm>
                  <a:custGeom>
                    <a:avLst/>
                    <a:gdLst>
                      <a:gd name="textAreaLeft" fmla="*/ -360 w 344520"/>
                      <a:gd name="textAreaRight" fmla="*/ 344520 w 344520"/>
                      <a:gd name="textAreaTop" fmla="*/ 0 h 272880"/>
                      <a:gd name="textAreaBottom" fmla="*/ 273240 h 272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Group 61"/>
                <p:cNvGrpSpPr/>
                <p:nvPr/>
              </p:nvGrpSpPr>
              <p:grpSpPr>
                <a:xfrm>
                  <a:off x="6677280" y="151920"/>
                  <a:ext cx="973440" cy="856080"/>
                  <a:chOff x="6677280" y="151920"/>
                  <a:chExt cx="973440" cy="856080"/>
                </a:xfrm>
              </p:grpSpPr>
              <p:sp>
                <p:nvSpPr>
                  <p:cNvPr id="61" name="Freeform 62"/>
                  <p:cNvSpPr/>
                  <p:nvPr/>
                </p:nvSpPr>
                <p:spPr>
                  <a:xfrm flipH="1" rot="2040000">
                    <a:off x="7026120" y="669240"/>
                    <a:ext cx="628200" cy="178200"/>
                  </a:xfrm>
                  <a:custGeom>
                    <a:avLst/>
                    <a:gdLst>
                      <a:gd name="textAreaLeft" fmla="*/ -360 w 628200"/>
                      <a:gd name="textAreaRight" fmla="*/ 628200 w 62820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 flipH="1" rot="2040000">
                    <a:off x="6727680" y="221400"/>
                    <a:ext cx="336240" cy="283320"/>
                  </a:xfrm>
                  <a:custGeom>
                    <a:avLst/>
                    <a:gdLst>
                      <a:gd name="textAreaLeft" fmla="*/ 0 w 336240"/>
                      <a:gd name="textAreaRight" fmla="*/ 336240 w 336240"/>
                      <a:gd name="textAreaTop" fmla="*/ 0 h 283320"/>
                      <a:gd name="textAreaBottom" fmla="*/ 283680 h 283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Group 64"/>
                <p:cNvGrpSpPr/>
                <p:nvPr/>
              </p:nvGrpSpPr>
              <p:grpSpPr>
                <a:xfrm>
                  <a:off x="6791040" y="-15480"/>
                  <a:ext cx="855720" cy="1045080"/>
                  <a:chOff x="6791040" y="-15480"/>
                  <a:chExt cx="855720" cy="1045080"/>
                </a:xfrm>
              </p:grpSpPr>
              <p:sp>
                <p:nvSpPr>
                  <p:cNvPr id="64" name="Freeform 65"/>
                  <p:cNvSpPr/>
                  <p:nvPr/>
                </p:nvSpPr>
                <p:spPr>
                  <a:xfrm flipH="1" rot="2700000">
                    <a:off x="7066440" y="664560"/>
                    <a:ext cx="606240" cy="176400"/>
                  </a:xfrm>
                  <a:custGeom>
                    <a:avLst/>
                    <a:gdLst>
                      <a:gd name="textAreaLeft" fmla="*/ 360 w 606240"/>
                      <a:gd name="textAreaRight" fmla="*/ 606960 w 606240"/>
                      <a:gd name="textAreaTop" fmla="*/ 0 h 176400"/>
                      <a:gd name="textAreaBottom" fmla="*/ 176760 h 176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 flipH="1" rot="2700000">
                    <a:off x="6842520" y="57960"/>
                    <a:ext cx="324720" cy="280800"/>
                  </a:xfrm>
                  <a:custGeom>
                    <a:avLst/>
                    <a:gdLst>
                      <a:gd name="textAreaLeft" fmla="*/ 360 w 324720"/>
                      <a:gd name="textAreaRight" fmla="*/ 325440 w 324720"/>
                      <a:gd name="textAreaTop" fmla="*/ 0 h 280800"/>
                      <a:gd name="textAreaBottom" fmla="*/ 281160 h 280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7035840" y="19440"/>
                  <a:ext cx="843120" cy="780840"/>
                  <a:chOff x="7035840" y="19440"/>
                  <a:chExt cx="843120" cy="78084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 flipH="1" rot="3480000">
                    <a:off x="7373880" y="436320"/>
                    <a:ext cx="571320" cy="158760"/>
                  </a:xfrm>
                  <a:custGeom>
                    <a:avLst/>
                    <a:gdLst>
                      <a:gd name="textAreaLeft" fmla="*/ 0 w 571320"/>
                      <a:gd name="textAreaRight" fmla="*/ 571320 w 571320"/>
                      <a:gd name="textAreaTop" fmla="*/ 0 h 158760"/>
                      <a:gd name="textAreaBottom" fmla="*/ 159120 h 158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 flipH="1" rot="3480000">
                    <a:off x="7070400" y="89640"/>
                    <a:ext cx="306000" cy="252000"/>
                  </a:xfrm>
                  <a:custGeom>
                    <a:avLst/>
                    <a:gdLst>
                      <a:gd name="textAreaLeft" fmla="*/ 360 w 306000"/>
                      <a:gd name="textAreaRight" fmla="*/ 306720 w 30600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Group 70"/>
                <p:cNvGrpSpPr/>
                <p:nvPr/>
              </p:nvGrpSpPr>
              <p:grpSpPr>
                <a:xfrm>
                  <a:off x="7246440" y="-56520"/>
                  <a:ext cx="602640" cy="872640"/>
                  <a:chOff x="7246440" y="-56520"/>
                  <a:chExt cx="602640" cy="872640"/>
                </a:xfrm>
              </p:grpSpPr>
              <p:sp>
                <p:nvSpPr>
                  <p:cNvPr id="70" name="Freeform 71"/>
                  <p:cNvSpPr/>
                  <p:nvPr/>
                </p:nvSpPr>
                <p:spPr>
                  <a:xfrm flipH="1" rot="4140000">
                    <a:off x="7399080" y="451440"/>
                    <a:ext cx="556200" cy="154080"/>
                  </a:xfrm>
                  <a:custGeom>
                    <a:avLst/>
                    <a:gdLst>
                      <a:gd name="textAreaLeft" fmla="*/ -360 w 556200"/>
                      <a:gd name="textAreaRight" fmla="*/ 556200 w 556200"/>
                      <a:gd name="textAreaTop" fmla="*/ 0 h 154080"/>
                      <a:gd name="textAreaBottom" fmla="*/ 154440 h 154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 flipH="1" rot="4140000">
                    <a:off x="7265160" y="3600"/>
                    <a:ext cx="297720" cy="245160"/>
                  </a:xfrm>
                  <a:custGeom>
                    <a:avLst/>
                    <a:gdLst>
                      <a:gd name="textAreaLeft" fmla="*/ -360 w 297720"/>
                      <a:gd name="textAreaRight" fmla="*/ 297720 w 297720"/>
                      <a:gd name="textAreaTop" fmla="*/ 0 h 245160"/>
                      <a:gd name="textAreaBottom" fmla="*/ 245520 h 245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Group 73"/>
                <p:cNvGrpSpPr/>
                <p:nvPr/>
              </p:nvGrpSpPr>
              <p:grpSpPr>
                <a:xfrm>
                  <a:off x="7801920" y="217800"/>
                  <a:ext cx="967320" cy="628560"/>
                  <a:chOff x="7801920" y="217800"/>
                  <a:chExt cx="967320" cy="628560"/>
                </a:xfrm>
              </p:grpSpPr>
              <p:sp>
                <p:nvSpPr>
                  <p:cNvPr id="73" name="Freeform 74"/>
                  <p:cNvSpPr/>
                  <p:nvPr/>
                </p:nvSpPr>
                <p:spPr>
                  <a:xfrm rot="20280000">
                    <a:off x="7810560" y="560160"/>
                    <a:ext cx="643320" cy="171720"/>
                  </a:xfrm>
                  <a:custGeom>
                    <a:avLst/>
                    <a:gdLst>
                      <a:gd name="textAreaLeft" fmla="*/ 0 w 643320"/>
                      <a:gd name="textAreaRight" fmla="*/ 643680 w 64332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 rot="20280000">
                    <a:off x="8385480" y="272520"/>
                    <a:ext cx="344880" cy="272520"/>
                  </a:xfrm>
                  <a:custGeom>
                    <a:avLst/>
                    <a:gdLst>
                      <a:gd name="textAreaLeft" fmla="*/ 0 w 344880"/>
                      <a:gd name="textAreaRight" fmla="*/ 345240 w 344880"/>
                      <a:gd name="textAreaTop" fmla="*/ 0 h 272520"/>
                      <a:gd name="textAreaBottom" fmla="*/ 272880 h 272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Group 76"/>
                <p:cNvGrpSpPr/>
                <p:nvPr/>
              </p:nvGrpSpPr>
              <p:grpSpPr>
                <a:xfrm>
                  <a:off x="7763040" y="65160"/>
                  <a:ext cx="913320" cy="851760"/>
                  <a:chOff x="7763040" y="65160"/>
                  <a:chExt cx="913320" cy="851760"/>
                </a:xfrm>
              </p:grpSpPr>
              <p:sp>
                <p:nvSpPr>
                  <p:cNvPr id="76" name="Freeform 77"/>
                  <p:cNvSpPr/>
                  <p:nvPr/>
                </p:nvSpPr>
                <p:spPr>
                  <a:xfrm rot="19680000">
                    <a:off x="7760880" y="586800"/>
                    <a:ext cx="635040" cy="174960"/>
                  </a:xfrm>
                  <a:custGeom>
                    <a:avLst/>
                    <a:gdLst>
                      <a:gd name="textAreaLeft" fmla="*/ 0 w 635040"/>
                      <a:gd name="textAreaRight" fmla="*/ 635400 w 6350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 rot="19680000">
                    <a:off x="8289000" y="134280"/>
                    <a:ext cx="340200" cy="275760"/>
                  </a:xfrm>
                  <a:custGeom>
                    <a:avLst/>
                    <a:gdLst>
                      <a:gd name="textAreaLeft" fmla="*/ 0 w 340200"/>
                      <a:gd name="textAreaRight" fmla="*/ 340560 w 340200"/>
                      <a:gd name="textAreaTop" fmla="*/ 0 h 275760"/>
                      <a:gd name="textAreaBottom" fmla="*/ 276120 h 275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Freeform 79"/>
                <p:cNvSpPr/>
                <p:nvPr/>
              </p:nvSpPr>
              <p:spPr>
                <a:xfrm flipH="1" rot="4560000">
                  <a:off x="7422480" y="485640"/>
                  <a:ext cx="525240" cy="73080"/>
                </a:xfrm>
                <a:custGeom>
                  <a:avLst/>
                  <a:gdLst>
                    <a:gd name="textAreaLeft" fmla="*/ 0 w 525240"/>
                    <a:gd name="textAreaRight" fmla="*/ 525240 w 525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80"/>
                <p:cNvSpPr/>
                <p:nvPr/>
              </p:nvSpPr>
              <p:spPr>
                <a:xfrm flipH="1" rot="4560000">
                  <a:off x="7435440" y="100080"/>
                  <a:ext cx="280440" cy="116280"/>
                </a:xfrm>
                <a:custGeom>
                  <a:avLst/>
                  <a:gdLst>
                    <a:gd name="textAreaLeft" fmla="*/ -360 w 280440"/>
                    <a:gd name="textAreaRight" fmla="*/ 280440 w 280440"/>
                    <a:gd name="textAreaTop" fmla="*/ 0 h 116280"/>
                    <a:gd name="textAreaBottom" fmla="*/ 116640 h 11628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Group 81"/>
                <p:cNvGrpSpPr/>
                <p:nvPr/>
              </p:nvGrpSpPr>
              <p:grpSpPr>
                <a:xfrm>
                  <a:off x="7575480" y="-45000"/>
                  <a:ext cx="639360" cy="871560"/>
                  <a:chOff x="7575480" y="-45000"/>
                  <a:chExt cx="639360" cy="871560"/>
                </a:xfrm>
              </p:grpSpPr>
              <p:sp>
                <p:nvSpPr>
                  <p:cNvPr id="81" name="Freeform 82"/>
                  <p:cNvSpPr/>
                  <p:nvPr/>
                </p:nvSpPr>
                <p:spPr>
                  <a:xfrm rot="17760000">
                    <a:off x="7486560" y="476280"/>
                    <a:ext cx="547560" cy="144720"/>
                  </a:xfrm>
                  <a:custGeom>
                    <a:avLst/>
                    <a:gdLst>
                      <a:gd name="textAreaLeft" fmla="*/ 0 w 547560"/>
                      <a:gd name="textAreaRight" fmla="*/ 547920 w 547560"/>
                      <a:gd name="textAreaTop" fmla="*/ 0 h 144720"/>
                      <a:gd name="textAreaBottom" fmla="*/ 145080 h 144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 rot="17760000">
                    <a:off x="7900920" y="22320"/>
                    <a:ext cx="293040" cy="229680"/>
                  </a:xfrm>
                  <a:custGeom>
                    <a:avLst/>
                    <a:gdLst>
                      <a:gd name="textAreaLeft" fmla="*/ 0 w 293040"/>
                      <a:gd name="textAreaRight" fmla="*/ 293400 w 293040"/>
                      <a:gd name="textAreaTop" fmla="*/ 0 h 229680"/>
                      <a:gd name="textAreaBottom" fmla="*/ 230040 h 2296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Group 84"/>
                <p:cNvGrpSpPr/>
                <p:nvPr/>
              </p:nvGrpSpPr>
              <p:grpSpPr>
                <a:xfrm>
                  <a:off x="7511400" y="-14040"/>
                  <a:ext cx="996840" cy="814320"/>
                  <a:chOff x="7511400" y="-14040"/>
                  <a:chExt cx="996840" cy="814320"/>
                </a:xfrm>
              </p:grpSpPr>
              <p:sp>
                <p:nvSpPr>
                  <p:cNvPr id="84" name="Freeform 85"/>
                  <p:cNvSpPr/>
                  <p:nvPr/>
                </p:nvSpPr>
                <p:spPr>
                  <a:xfrm rot="18840000">
                    <a:off x="7497720" y="411480"/>
                    <a:ext cx="585000" cy="210600"/>
                  </a:xfrm>
                  <a:custGeom>
                    <a:avLst/>
                    <a:gdLst>
                      <a:gd name="textAreaLeft" fmla="*/ 0 w 585000"/>
                      <a:gd name="textAreaRight" fmla="*/ 585360 w 585000"/>
                      <a:gd name="textAreaTop" fmla="*/ 0 h 210600"/>
                      <a:gd name="textAreaBottom" fmla="*/ 210960 h 210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 rot="18840000">
                    <a:off x="8124480" y="47520"/>
                    <a:ext cx="312480" cy="330480"/>
                  </a:xfrm>
                  <a:custGeom>
                    <a:avLst/>
                    <a:gdLst>
                      <a:gd name="textAreaLeft" fmla="*/ 0 w 312480"/>
                      <a:gd name="textAreaRight" fmla="*/ 312840 w 312480"/>
                      <a:gd name="textAreaTop" fmla="*/ 0 h 330480"/>
                      <a:gd name="textAreaBottom" fmla="*/ 330480 h 3304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87"/>
                <p:cNvGrpSpPr/>
                <p:nvPr/>
              </p:nvGrpSpPr>
              <p:grpSpPr>
                <a:xfrm>
                  <a:off x="7700400" y="19800"/>
                  <a:ext cx="224640" cy="726840"/>
                  <a:chOff x="7700400" y="19800"/>
                  <a:chExt cx="224640" cy="726840"/>
                </a:xfrm>
              </p:grpSpPr>
              <p:sp>
                <p:nvSpPr>
                  <p:cNvPr id="87" name="Freeform 88"/>
                  <p:cNvSpPr/>
                  <p:nvPr/>
                </p:nvSpPr>
                <p:spPr>
                  <a:xfrm rot="16680000">
                    <a:off x="7518960" y="469080"/>
                    <a:ext cx="491040" cy="60480"/>
                  </a:xfrm>
                  <a:custGeom>
                    <a:avLst/>
                    <a:gdLst>
                      <a:gd name="textAreaLeft" fmla="*/ 0 w 491040"/>
                      <a:gd name="textAreaRight" fmla="*/ 491400 w 491040"/>
                      <a:gd name="textAreaTop" fmla="*/ 0 h 60480"/>
                      <a:gd name="textAreaBottom" fmla="*/ 60840 h 60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 rot="16680000">
                    <a:off x="7727760" y="108000"/>
                    <a:ext cx="262080" cy="9648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Group 90"/>
                <p:cNvGrpSpPr/>
                <p:nvPr/>
              </p:nvGrpSpPr>
              <p:grpSpPr>
                <a:xfrm>
                  <a:off x="6607800" y="913680"/>
                  <a:ext cx="1248120" cy="1312920"/>
                  <a:chOff x="6607800" y="913680"/>
                  <a:chExt cx="1248120" cy="1312920"/>
                </a:xfrm>
              </p:grpSpPr>
              <p:sp>
                <p:nvSpPr>
                  <p:cNvPr id="90" name="Freeform 91"/>
                  <p:cNvSpPr/>
                  <p:nvPr/>
                </p:nvSpPr>
                <p:spPr>
                  <a:xfrm flipH="1" rot="18360000">
                    <a:off x="7061040" y="1211040"/>
                    <a:ext cx="868320" cy="260640"/>
                  </a:xfrm>
                  <a:custGeom>
                    <a:avLst/>
                    <a:gdLst>
                      <a:gd name="textAreaLeft" fmla="*/ 360 w 868320"/>
                      <a:gd name="textAreaRight" fmla="*/ 869040 w 868320"/>
                      <a:gd name="textAreaTop" fmla="*/ 0 h 260640"/>
                      <a:gd name="textAreaBottom" fmla="*/ 261000 h 260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 flipH="1" rot="18360000">
                    <a:off x="6676560" y="1713240"/>
                    <a:ext cx="465480" cy="408960"/>
                  </a:xfrm>
                  <a:custGeom>
                    <a:avLst/>
                    <a:gdLst>
                      <a:gd name="textAreaLeft" fmla="*/ -360 w 465480"/>
                      <a:gd name="textAreaRight" fmla="*/ 465480 w 465480"/>
                      <a:gd name="textAreaTop" fmla="*/ 0 h 408960"/>
                      <a:gd name="textAreaBottom" fmla="*/ 409320 h 408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93"/>
                <p:cNvGrpSpPr/>
                <p:nvPr/>
              </p:nvGrpSpPr>
              <p:grpSpPr>
                <a:xfrm>
                  <a:off x="6946920" y="961200"/>
                  <a:ext cx="828000" cy="1317240"/>
                  <a:chOff x="6946920" y="961200"/>
                  <a:chExt cx="828000" cy="1317240"/>
                </a:xfrm>
              </p:grpSpPr>
              <p:sp>
                <p:nvSpPr>
                  <p:cNvPr id="93" name="Freeform 94"/>
                  <p:cNvSpPr/>
                  <p:nvPr/>
                </p:nvSpPr>
                <p:spPr>
                  <a:xfrm flipH="1" rot="17520000">
                    <a:off x="7084800" y="1271160"/>
                    <a:ext cx="836640" cy="248040"/>
                  </a:xfrm>
                  <a:custGeom>
                    <a:avLst/>
                    <a:gdLst>
                      <a:gd name="textAreaLeft" fmla="*/ 360 w 836640"/>
                      <a:gd name="textAreaRight" fmla="*/ 837360 w 836640"/>
                      <a:gd name="textAreaTop" fmla="*/ 0 h 248040"/>
                      <a:gd name="textAreaBottom" fmla="*/ 248400 h 2480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 flipH="1" rot="17520000">
                    <a:off x="6986880" y="1802520"/>
                    <a:ext cx="448920" cy="389520"/>
                  </a:xfrm>
                  <a:custGeom>
                    <a:avLst/>
                    <a:gdLst>
                      <a:gd name="textAreaLeft" fmla="*/ -360 w 448920"/>
                      <a:gd name="textAreaRight" fmla="*/ 448920 w 448920"/>
                      <a:gd name="textAreaTop" fmla="*/ 0 h 389520"/>
                      <a:gd name="textAreaBottom" fmla="*/ 389880 h 389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96"/>
                <p:cNvGrpSpPr/>
                <p:nvPr/>
              </p:nvGrpSpPr>
              <p:grpSpPr>
                <a:xfrm>
                  <a:off x="7297560" y="988200"/>
                  <a:ext cx="453600" cy="1253880"/>
                  <a:chOff x="7297560" y="988200"/>
                  <a:chExt cx="453600" cy="1253880"/>
                </a:xfrm>
              </p:grpSpPr>
              <p:sp>
                <p:nvSpPr>
                  <p:cNvPr id="96" name="Freeform 97"/>
                  <p:cNvSpPr/>
                  <p:nvPr/>
                </p:nvSpPr>
                <p:spPr>
                  <a:xfrm flipH="1" rot="16860000">
                    <a:off x="7170120" y="1293840"/>
                    <a:ext cx="799200" cy="213480"/>
                  </a:xfrm>
                  <a:custGeom>
                    <a:avLst/>
                    <a:gdLst>
                      <a:gd name="textAreaLeft" fmla="*/ 360 w 799200"/>
                      <a:gd name="textAreaRight" fmla="*/ 799920 w 799200"/>
                      <a:gd name="textAreaTop" fmla="*/ 0 h 213480"/>
                      <a:gd name="textAreaBottom" fmla="*/ 213840 h 213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 flipH="1" rot="16860000">
                    <a:off x="7289280" y="1832400"/>
                    <a:ext cx="426960" cy="336240"/>
                  </a:xfrm>
                  <a:custGeom>
                    <a:avLst/>
                    <a:gdLst>
                      <a:gd name="textAreaLeft" fmla="*/ 360 w 426960"/>
                      <a:gd name="textAreaRight" fmla="*/ 427680 w 426960"/>
                      <a:gd name="textAreaTop" fmla="*/ 0 h 336240"/>
                      <a:gd name="textAreaBottom" fmla="*/ 336600 h 336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Group 99"/>
                <p:cNvGrpSpPr/>
                <p:nvPr/>
              </p:nvGrpSpPr>
              <p:grpSpPr>
                <a:xfrm>
                  <a:off x="7581960" y="898200"/>
                  <a:ext cx="1287720" cy="1312920"/>
                  <a:chOff x="7581960" y="898200"/>
                  <a:chExt cx="1287720" cy="1312920"/>
                </a:xfrm>
              </p:grpSpPr>
              <p:sp>
                <p:nvSpPr>
                  <p:cNvPr id="99" name="Freeform 100"/>
                  <p:cNvSpPr/>
                  <p:nvPr/>
                </p:nvSpPr>
                <p:spPr>
                  <a:xfrm rot="3120000">
                    <a:off x="7518240" y="1189800"/>
                    <a:ext cx="868320" cy="262080"/>
                  </a:xfrm>
                  <a:custGeom>
                    <a:avLst/>
                    <a:gdLst>
                      <a:gd name="textAreaLeft" fmla="*/ 0 w 868320"/>
                      <a:gd name="textAreaRight" fmla="*/ 868680 w 868320"/>
                      <a:gd name="textAreaTop" fmla="*/ 0 h 262080"/>
                      <a:gd name="textAreaBottom" fmla="*/ 262440 h 26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 rot="3120000">
                    <a:off x="8330400" y="1693440"/>
                    <a:ext cx="465480" cy="413640"/>
                  </a:xfrm>
                  <a:custGeom>
                    <a:avLst/>
                    <a:gdLst>
                      <a:gd name="textAreaLeft" fmla="*/ 0 w 465480"/>
                      <a:gd name="textAreaRight" fmla="*/ 465840 w 465480"/>
                      <a:gd name="textAreaTop" fmla="*/ 0 h 413640"/>
                      <a:gd name="textAreaBottom" fmla="*/ 414000 h 413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102"/>
                <p:cNvGrpSpPr/>
                <p:nvPr/>
              </p:nvGrpSpPr>
              <p:grpSpPr>
                <a:xfrm>
                  <a:off x="7621200" y="937440"/>
                  <a:ext cx="1003680" cy="1317240"/>
                  <a:chOff x="7621200" y="937440"/>
                  <a:chExt cx="1003680" cy="1317240"/>
                </a:xfrm>
              </p:grpSpPr>
              <p:sp>
                <p:nvSpPr>
                  <p:cNvPr id="102" name="Freeform 103"/>
                  <p:cNvSpPr/>
                  <p:nvPr/>
                </p:nvSpPr>
                <p:spPr>
                  <a:xfrm rot="3720000">
                    <a:off x="7503120" y="1249200"/>
                    <a:ext cx="855360" cy="247680"/>
                  </a:xfrm>
                  <a:custGeom>
                    <a:avLst/>
                    <a:gdLst>
                      <a:gd name="textAreaLeft" fmla="*/ 0 w 855360"/>
                      <a:gd name="textAreaRight" fmla="*/ 855720 w 855360"/>
                      <a:gd name="textAreaTop" fmla="*/ 0 h 247680"/>
                      <a:gd name="textAreaBottom" fmla="*/ 248040 h 2476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 rot="3720000">
                    <a:off x="8115840" y="1765800"/>
                    <a:ext cx="458280" cy="389880"/>
                  </a:xfrm>
                  <a:custGeom>
                    <a:avLst/>
                    <a:gdLst>
                      <a:gd name="textAreaLeft" fmla="*/ 0 w 458280"/>
                      <a:gd name="textAreaRight" fmla="*/ 458640 w 458280"/>
                      <a:gd name="textAreaTop" fmla="*/ 0 h 389880"/>
                      <a:gd name="textAreaBottom" fmla="*/ 390240 h 389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Group 105"/>
                <p:cNvGrpSpPr/>
                <p:nvPr/>
              </p:nvGrpSpPr>
              <p:grpSpPr>
                <a:xfrm>
                  <a:off x="7631280" y="972720"/>
                  <a:ext cx="727920" cy="1285920"/>
                  <a:chOff x="7631280" y="972720"/>
                  <a:chExt cx="727920" cy="1285920"/>
                </a:xfrm>
              </p:grpSpPr>
              <p:sp>
                <p:nvSpPr>
                  <p:cNvPr id="105" name="Freeform 106"/>
                  <p:cNvSpPr/>
                  <p:nvPr/>
                </p:nvSpPr>
                <p:spPr>
                  <a:xfrm rot="4260000">
                    <a:off x="7443360" y="1299600"/>
                    <a:ext cx="832320" cy="196560"/>
                  </a:xfrm>
                  <a:custGeom>
                    <a:avLst/>
                    <a:gdLst>
                      <a:gd name="textAreaLeft" fmla="*/ 0 w 832320"/>
                      <a:gd name="textAreaRight" fmla="*/ 832680 w 83232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 rot="4260000">
                    <a:off x="7918560" y="1844280"/>
                    <a:ext cx="444960" cy="307800"/>
                  </a:xfrm>
                  <a:custGeom>
                    <a:avLst/>
                    <a:gdLst>
                      <a:gd name="textAreaLeft" fmla="*/ 0 w 444960"/>
                      <a:gd name="textAreaRight" fmla="*/ 445320 w 444960"/>
                      <a:gd name="textAreaTop" fmla="*/ 0 h 307800"/>
                      <a:gd name="textAreaBottom" fmla="*/ 308160 h 307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Group 108"/>
                <p:cNvGrpSpPr/>
                <p:nvPr/>
              </p:nvGrpSpPr>
              <p:grpSpPr>
                <a:xfrm>
                  <a:off x="7709400" y="1049760"/>
                  <a:ext cx="368640" cy="1173240"/>
                  <a:chOff x="7709400" y="1049760"/>
                  <a:chExt cx="368640" cy="1173240"/>
                </a:xfrm>
              </p:grpSpPr>
              <p:sp>
                <p:nvSpPr>
                  <p:cNvPr id="108" name="Freeform 109"/>
                  <p:cNvSpPr/>
                  <p:nvPr/>
                </p:nvSpPr>
                <p:spPr>
                  <a:xfrm rot="4920000">
                    <a:off x="7468560" y="1350360"/>
                    <a:ext cx="757440" cy="172800"/>
                  </a:xfrm>
                  <a:custGeom>
                    <a:avLst/>
                    <a:gdLst>
                      <a:gd name="textAreaLeft" fmla="*/ 0 w 757440"/>
                      <a:gd name="textAreaRight" fmla="*/ 757800 w 757440"/>
                      <a:gd name="textAreaTop" fmla="*/ 0 h 172800"/>
                      <a:gd name="textAreaBottom" fmla="*/ 173160 h 172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10"/>
                  <p:cNvSpPr/>
                  <p:nvPr/>
                </p:nvSpPr>
                <p:spPr>
                  <a:xfrm rot="4920000">
                    <a:off x="7710840" y="1865880"/>
                    <a:ext cx="405000" cy="27468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274680"/>
                      <a:gd name="textAreaBottom" fmla="*/ 275040 h 2746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Group 111"/>
                <p:cNvGrpSpPr/>
                <p:nvPr/>
              </p:nvGrpSpPr>
              <p:grpSpPr>
                <a:xfrm>
                  <a:off x="7520400" y="1071360"/>
                  <a:ext cx="317160" cy="1142280"/>
                  <a:chOff x="7520400" y="1071360"/>
                  <a:chExt cx="317160" cy="1142280"/>
                </a:xfrm>
              </p:grpSpPr>
              <p:sp>
                <p:nvSpPr>
                  <p:cNvPr id="111" name="Freeform 112"/>
                  <p:cNvSpPr/>
                  <p:nvPr/>
                </p:nvSpPr>
                <p:spPr>
                  <a:xfrm rot="5760000">
                    <a:off x="7366320" y="1384920"/>
                    <a:ext cx="741960" cy="123120"/>
                  </a:xfrm>
                  <a:custGeom>
                    <a:avLst/>
                    <a:gdLst>
                      <a:gd name="textAreaLeft" fmla="*/ 0 w 741960"/>
                      <a:gd name="textAreaRight" fmla="*/ 742320 w 741960"/>
                      <a:gd name="textAreaTop" fmla="*/ 0 h 123120"/>
                      <a:gd name="textAreaBottom" fmla="*/ 123480 h 123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Freeform 113"/>
                  <p:cNvSpPr/>
                  <p:nvPr/>
                </p:nvSpPr>
                <p:spPr>
                  <a:xfrm rot="5760000">
                    <a:off x="7438320" y="1909440"/>
                    <a:ext cx="396720" cy="192960"/>
                  </a:xfrm>
                  <a:custGeom>
                    <a:avLst/>
                    <a:gdLst>
                      <a:gd name="textAreaLeft" fmla="*/ 0 w 396720"/>
                      <a:gd name="textAreaRight" fmla="*/ 397080 w 396720"/>
                      <a:gd name="textAreaTop" fmla="*/ 0 h 192960"/>
                      <a:gd name="textAreaBottom" fmla="*/ 193320 h 192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Freeform 114"/>
              <p:cNvSpPr/>
              <p:nvPr/>
            </p:nvSpPr>
            <p:spPr>
              <a:xfrm flipH="1">
                <a:off x="7296120" y="1222200"/>
                <a:ext cx="247680" cy="75744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757440"/>
                  <a:gd name="textAreaBottom" fmla="*/ 757800 h 7574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15"/>
              <p:cNvSpPr/>
              <p:nvPr/>
            </p:nvSpPr>
            <p:spPr>
              <a:xfrm flipH="1">
                <a:off x="6844680" y="949320"/>
                <a:ext cx="1089000" cy="1179360"/>
              </a:xfrm>
              <a:custGeom>
                <a:avLst/>
                <a:gdLst>
                  <a:gd name="textAreaLeft" fmla="*/ -360 w 1089000"/>
                  <a:gd name="textAreaRight" fmla="*/ 1089000 w 1089000"/>
                  <a:gd name="textAreaTop" fmla="*/ 0 h 1179360"/>
                  <a:gd name="textAreaBottom" fmla="*/ 1179720 h 117936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16"/>
              <p:cNvSpPr/>
              <p:nvPr/>
            </p:nvSpPr>
            <p:spPr>
              <a:xfrm flipV="1">
                <a:off x="7826400" y="231480"/>
                <a:ext cx="1316160" cy="1047600"/>
              </a:xfrm>
              <a:custGeom>
                <a:avLst/>
                <a:gdLst>
                  <a:gd name="textAreaLeft" fmla="*/ 0 w 1316160"/>
                  <a:gd name="textAreaRight" fmla="*/ 1316520 w 1316160"/>
                  <a:gd name="textAreaTop" fmla="*/ 360 h 1047600"/>
                  <a:gd name="textAreaBottom" fmla="*/ 1048320 h 104760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17"/>
              <p:cNvSpPr/>
              <p:nvPr/>
            </p:nvSpPr>
            <p:spPr>
              <a:xfrm flipH="1">
                <a:off x="6954840" y="758880"/>
                <a:ext cx="635040" cy="1219320"/>
              </a:xfrm>
              <a:custGeom>
                <a:avLst/>
                <a:gdLst>
                  <a:gd name="textAreaLeft" fmla="*/ 360 w 635040"/>
                  <a:gd name="textAreaRight" fmla="*/ 635760 w 635040"/>
                  <a:gd name="textAreaTop" fmla="*/ 0 h 1219320"/>
                  <a:gd name="textAreaBottom" fmla="*/ 1219680 h 12193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18"/>
              <p:cNvSpPr/>
              <p:nvPr/>
            </p:nvSpPr>
            <p:spPr>
              <a:xfrm flipH="1">
                <a:off x="6500160" y="822240"/>
                <a:ext cx="1033560" cy="1217520"/>
              </a:xfrm>
              <a:custGeom>
                <a:avLst/>
                <a:gdLst>
                  <a:gd name="textAreaLeft" fmla="*/ -360 w 1033560"/>
                  <a:gd name="textAreaRight" fmla="*/ 1033560 w 1033560"/>
                  <a:gd name="textAreaTop" fmla="*/ 0 h 1217520"/>
                  <a:gd name="textAreaBottom" fmla="*/ 1217880 h 121752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119"/>
              <p:cNvSpPr/>
              <p:nvPr/>
            </p:nvSpPr>
            <p:spPr>
              <a:xfrm flipH="1">
                <a:off x="6411960" y="600120"/>
                <a:ext cx="1217520" cy="1219320"/>
              </a:xfrm>
              <a:custGeom>
                <a:avLst/>
                <a:gdLst>
                  <a:gd name="textAreaLeft" fmla="*/ 360 w 1217520"/>
                  <a:gd name="textAreaRight" fmla="*/ 1218240 w 1217520"/>
                  <a:gd name="textAreaTop" fmla="*/ 0 h 1219320"/>
                  <a:gd name="textAreaBottom" fmla="*/ 1219680 h 12193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Freeform 120"/>
              <p:cNvSpPr/>
              <p:nvPr/>
            </p:nvSpPr>
            <p:spPr>
              <a:xfrm>
                <a:off x="7761240" y="771480"/>
                <a:ext cx="193680" cy="121932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1219320"/>
                  <a:gd name="textAreaBottom" fmla="*/ 1219680 h 12193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Freeform 121"/>
              <p:cNvSpPr/>
              <p:nvPr/>
            </p:nvSpPr>
            <p:spPr>
              <a:xfrm>
                <a:off x="7813800" y="765000"/>
                <a:ext cx="514080" cy="12193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19320"/>
                  <a:gd name="textAreaBottom" fmla="*/ 1219680 h 12193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Freeform 122"/>
              <p:cNvSpPr/>
              <p:nvPr/>
            </p:nvSpPr>
            <p:spPr>
              <a:xfrm>
                <a:off x="7858080" y="606600"/>
                <a:ext cx="730440" cy="1218960"/>
              </a:xfrm>
              <a:custGeom>
                <a:avLst/>
                <a:gdLst>
                  <a:gd name="textAreaLeft" fmla="*/ 0 w 730440"/>
                  <a:gd name="textAreaRight" fmla="*/ 730800 w 730440"/>
                  <a:gd name="textAreaTop" fmla="*/ 0 h 1218960"/>
                  <a:gd name="textAreaBottom" fmla="*/ 1219320 h 12189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Freeform 123"/>
              <p:cNvSpPr/>
              <p:nvPr/>
            </p:nvSpPr>
            <p:spPr>
              <a:xfrm>
                <a:off x="7999560" y="1352520"/>
                <a:ext cx="245880" cy="7574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7440"/>
                  <a:gd name="textAreaBottom" fmla="*/ 757800 h 7574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Freeform 124"/>
              <p:cNvSpPr/>
              <p:nvPr/>
            </p:nvSpPr>
            <p:spPr>
              <a:xfrm flipV="1" rot="19680000">
                <a:off x="7614720" y="1102680"/>
                <a:ext cx="223920" cy="428400"/>
              </a:xfrm>
              <a:custGeom>
                <a:avLst/>
                <a:gdLst>
                  <a:gd name="textAreaLeft" fmla="*/ 0 w 223920"/>
                  <a:gd name="textAreaRight" fmla="*/ 224280 w 223920"/>
                  <a:gd name="textAreaTop" fmla="*/ 0 h 428400"/>
                  <a:gd name="textAreaBottom" fmla="*/ 428400 h 4284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Freeform 125"/>
              <p:cNvSpPr/>
              <p:nvPr/>
            </p:nvSpPr>
            <p:spPr>
              <a:xfrm flipH="1">
                <a:off x="6342120" y="417600"/>
                <a:ext cx="1301760" cy="1218960"/>
              </a:xfrm>
              <a:custGeom>
                <a:avLst/>
                <a:gdLst>
                  <a:gd name="textAreaLeft" fmla="*/ 360 w 1301760"/>
                  <a:gd name="textAreaRight" fmla="*/ 1302480 w 1301760"/>
                  <a:gd name="textAreaTop" fmla="*/ 0 h 1218960"/>
                  <a:gd name="textAreaBottom" fmla="*/ 1219320 h 121896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Freeform 126"/>
              <p:cNvSpPr/>
              <p:nvPr/>
            </p:nvSpPr>
            <p:spPr>
              <a:xfrm flipH="1">
                <a:off x="6707880" y="160200"/>
                <a:ext cx="947880" cy="1179720"/>
              </a:xfrm>
              <a:custGeom>
                <a:avLst/>
                <a:gdLst>
                  <a:gd name="textAreaLeft" fmla="*/ -360 w 947880"/>
                  <a:gd name="textAreaRight" fmla="*/ 947880 w 947880"/>
                  <a:gd name="textAreaTop" fmla="*/ 0 h 1179720"/>
                  <a:gd name="textAreaBottom" fmla="*/ 1180080 h 117972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Freeform 127"/>
              <p:cNvSpPr/>
              <p:nvPr/>
            </p:nvSpPr>
            <p:spPr>
              <a:xfrm>
                <a:off x="7721640" y="657360"/>
                <a:ext cx="390600" cy="118080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Freeform 128"/>
              <p:cNvSpPr/>
              <p:nvPr/>
            </p:nvSpPr>
            <p:spPr>
              <a:xfrm flipH="1">
                <a:off x="6554160" y="1285920"/>
                <a:ext cx="554040" cy="779400"/>
              </a:xfrm>
              <a:custGeom>
                <a:avLst/>
                <a:gdLst>
                  <a:gd name="textAreaLeft" fmla="*/ -360 w 554040"/>
                  <a:gd name="textAreaRight" fmla="*/ 554040 w 554040"/>
                  <a:gd name="textAreaTop" fmla="*/ 0 h 779400"/>
                  <a:gd name="textAreaBottom" fmla="*/ 779760 h 7794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Freeform 129"/>
              <p:cNvSpPr/>
              <p:nvPr/>
            </p:nvSpPr>
            <p:spPr>
              <a:xfrm flipH="1">
                <a:off x="6815160" y="457200"/>
                <a:ext cx="355680" cy="781200"/>
              </a:xfrm>
              <a:custGeom>
                <a:avLst/>
                <a:gdLst>
                  <a:gd name="textAreaLeft" fmla="*/ 0 w 355680"/>
                  <a:gd name="textAreaRight" fmla="*/ 355680 w 355680"/>
                  <a:gd name="textAreaTop" fmla="*/ 0 h 781200"/>
                  <a:gd name="textAreaBottom" fmla="*/ 781560 h 781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130"/>
              <p:cNvSpPr/>
              <p:nvPr/>
            </p:nvSpPr>
            <p:spPr>
              <a:xfrm flipH="1">
                <a:off x="7227000" y="225360"/>
                <a:ext cx="212760" cy="779400"/>
              </a:xfrm>
              <a:custGeom>
                <a:avLst/>
                <a:gdLst>
                  <a:gd name="textAreaLeft" fmla="*/ -360 w 212760"/>
                  <a:gd name="textAreaRight" fmla="*/ 212760 w 212760"/>
                  <a:gd name="textAreaTop" fmla="*/ 0 h 779400"/>
                  <a:gd name="textAreaBottom" fmla="*/ 779760 h 7794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31"/>
              <p:cNvSpPr/>
              <p:nvPr/>
            </p:nvSpPr>
            <p:spPr>
              <a:xfrm>
                <a:off x="8562960" y="1170000"/>
                <a:ext cx="515880" cy="820800"/>
              </a:xfrm>
              <a:custGeom>
                <a:avLst/>
                <a:gdLst>
                  <a:gd name="textAreaLeft" fmla="*/ 0 w 515880"/>
                  <a:gd name="textAreaRight" fmla="*/ 516240 w 515880"/>
                  <a:gd name="textAreaTop" fmla="*/ 0 h 820800"/>
                  <a:gd name="textAreaBottom" fmla="*/ 821160 h 820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32"/>
              <p:cNvSpPr/>
              <p:nvPr/>
            </p:nvSpPr>
            <p:spPr>
              <a:xfrm>
                <a:off x="8294760" y="754200"/>
                <a:ext cx="777960" cy="546120"/>
              </a:xfrm>
              <a:custGeom>
                <a:avLst/>
                <a:gdLst>
                  <a:gd name="textAreaLeft" fmla="*/ 0 w 777960"/>
                  <a:gd name="textAreaRight" fmla="*/ 778320 w 777960"/>
                  <a:gd name="textAreaTop" fmla="*/ 0 h 546120"/>
                  <a:gd name="textAreaBottom" fmla="*/ 546480 h 546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33"/>
              <p:cNvSpPr/>
              <p:nvPr/>
            </p:nvSpPr>
            <p:spPr>
              <a:xfrm>
                <a:off x="8323200" y="173160"/>
                <a:ext cx="338040" cy="733320"/>
              </a:xfrm>
              <a:custGeom>
                <a:avLst/>
                <a:gdLst>
                  <a:gd name="textAreaLeft" fmla="*/ 0 w 338040"/>
                  <a:gd name="textAreaRight" fmla="*/ 338040 w 338040"/>
                  <a:gd name="textAreaTop" fmla="*/ 0 h 733320"/>
                  <a:gd name="textAreaBottom" fmla="*/ 733680 h 733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4"/>
              <p:cNvSpPr/>
              <p:nvPr/>
            </p:nvSpPr>
            <p:spPr>
              <a:xfrm rot="20220000">
                <a:off x="7986240" y="808200"/>
                <a:ext cx="225360" cy="42840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428400"/>
                  <a:gd name="textAreaBottom" fmla="*/ 428400 h 4284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135"/>
              <p:cNvSpPr/>
              <p:nvPr/>
            </p:nvSpPr>
            <p:spPr>
              <a:xfrm flipH="1" rot="1380000">
                <a:off x="7176600" y="797040"/>
                <a:ext cx="225720" cy="428400"/>
              </a:xfrm>
              <a:custGeom>
                <a:avLst/>
                <a:gdLst>
                  <a:gd name="textAreaLeft" fmla="*/ -360 w 225720"/>
                  <a:gd name="textAreaRight" fmla="*/ 225720 w 225720"/>
                  <a:gd name="textAreaTop" fmla="*/ 0 h 428400"/>
                  <a:gd name="textAreaBottom" fmla="*/ 428400 h 4284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468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Text Box 138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39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879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20EA6-1CF3-4552-B30C-6F1D32E3631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1"/>
          <p:cNvGrpSpPr/>
          <p:nvPr/>
        </p:nvGrpSpPr>
        <p:grpSpPr>
          <a:xfrm>
            <a:off x="1899360" y="189000"/>
            <a:ext cx="7137360" cy="5595480"/>
            <a:chOff x="1899360" y="189000"/>
            <a:chExt cx="7137360" cy="5595480"/>
          </a:xfrm>
        </p:grpSpPr>
        <p:grpSp>
          <p:nvGrpSpPr>
            <p:cNvPr id="177" name="Group 2"/>
            <p:cNvGrpSpPr/>
            <p:nvPr/>
          </p:nvGrpSpPr>
          <p:grpSpPr>
            <a:xfrm>
              <a:off x="3484440" y="954000"/>
              <a:ext cx="944640" cy="708120"/>
              <a:chOff x="3484440" y="954000"/>
              <a:chExt cx="944640" cy="708120"/>
            </a:xfrm>
          </p:grpSpPr>
          <p:sp>
            <p:nvSpPr>
              <p:cNvPr id="178" name="Oval 3"/>
              <p:cNvSpPr/>
              <p:nvPr/>
            </p:nvSpPr>
            <p:spPr>
              <a:xfrm>
                <a:off x="3484440" y="954000"/>
                <a:ext cx="944640" cy="70812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Oval 4"/>
              <p:cNvSpPr/>
              <p:nvPr/>
            </p:nvSpPr>
            <p:spPr>
              <a:xfrm>
                <a:off x="3824280" y="1263600"/>
                <a:ext cx="2253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5"/>
            <p:cNvGrpSpPr/>
            <p:nvPr/>
          </p:nvGrpSpPr>
          <p:grpSpPr>
            <a:xfrm>
              <a:off x="1899360" y="189000"/>
              <a:ext cx="7137360" cy="5595480"/>
              <a:chOff x="1899360" y="189000"/>
              <a:chExt cx="7137360" cy="5595480"/>
            </a:xfrm>
          </p:grpSpPr>
          <p:grpSp>
            <p:nvGrpSpPr>
              <p:cNvPr id="181" name="Group 6"/>
              <p:cNvGrpSpPr/>
              <p:nvPr/>
            </p:nvGrpSpPr>
            <p:grpSpPr>
              <a:xfrm>
                <a:off x="1899360" y="189000"/>
                <a:ext cx="7137360" cy="5595480"/>
                <a:chOff x="1899360" y="189000"/>
                <a:chExt cx="7137360" cy="5595480"/>
              </a:xfrm>
            </p:grpSpPr>
            <p:grpSp>
              <p:nvGrpSpPr>
                <p:cNvPr id="182" name="Group 7"/>
                <p:cNvGrpSpPr/>
                <p:nvPr/>
              </p:nvGrpSpPr>
              <p:grpSpPr>
                <a:xfrm>
                  <a:off x="3735360" y="1266840"/>
                  <a:ext cx="3597480" cy="2651040"/>
                  <a:chOff x="3735360" y="1266840"/>
                  <a:chExt cx="3597480" cy="2651040"/>
                </a:xfrm>
              </p:grpSpPr>
              <p:sp>
                <p:nvSpPr>
                  <p:cNvPr id="183" name="Oval 8"/>
                  <p:cNvSpPr/>
                  <p:nvPr/>
                </p:nvSpPr>
                <p:spPr>
                  <a:xfrm>
                    <a:off x="3735360" y="1266840"/>
                    <a:ext cx="35974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Oval 9"/>
                  <p:cNvSpPr/>
                  <p:nvPr/>
                </p:nvSpPr>
                <p:spPr>
                  <a:xfrm>
                    <a:off x="5110200" y="2236680"/>
                    <a:ext cx="712800" cy="49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ff99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Group 10"/>
                <p:cNvGrpSpPr/>
                <p:nvPr/>
              </p:nvGrpSpPr>
              <p:grpSpPr>
                <a:xfrm>
                  <a:off x="1899360" y="189000"/>
                  <a:ext cx="7137360" cy="5595480"/>
                  <a:chOff x="1899360" y="189000"/>
                  <a:chExt cx="7137360" cy="5595480"/>
                </a:xfrm>
              </p:grpSpPr>
              <p:grpSp>
                <p:nvGrpSpPr>
                  <p:cNvPr id="186" name="Group 11"/>
                  <p:cNvGrpSpPr/>
                  <p:nvPr/>
                </p:nvGrpSpPr>
                <p:grpSpPr>
                  <a:xfrm>
                    <a:off x="5132520" y="2402280"/>
                    <a:ext cx="3459240" cy="2847240"/>
                    <a:chOff x="5132520" y="2402280"/>
                    <a:chExt cx="3459240" cy="2847240"/>
                  </a:xfrm>
                </p:grpSpPr>
                <p:sp>
                  <p:nvSpPr>
                    <p:cNvPr id="187" name="Freeform 12"/>
                    <p:cNvSpPr/>
                    <p:nvPr/>
                  </p:nvSpPr>
                  <p:spPr>
                    <a:xfrm rot="2700000">
                      <a:off x="5054040" y="3030840"/>
                      <a:ext cx="2036520" cy="622800"/>
                    </a:xfrm>
                    <a:custGeom>
                      <a:avLst/>
                      <a:gdLst>
                        <a:gd name="textAreaLeft" fmla="*/ 0 w 2036520"/>
                        <a:gd name="textAreaRight" fmla="*/ 2036880 w 2036520"/>
                        <a:gd name="textAreaTop" fmla="*/ 0 h 622800"/>
                        <a:gd name="textAreaBottom" fmla="*/ 623160 h 622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Freeform 13"/>
                    <p:cNvSpPr/>
                    <p:nvPr/>
                  </p:nvSpPr>
                  <p:spPr>
                    <a:xfrm rot="2700000">
                      <a:off x="7313040" y="4025520"/>
                      <a:ext cx="1091520" cy="981360"/>
                    </a:xfrm>
                    <a:custGeom>
                      <a:avLst/>
                      <a:gdLst>
                        <a:gd name="textAreaLeft" fmla="*/ 0 w 1091520"/>
                        <a:gd name="textAreaRight" fmla="*/ 1091880 w 1091520"/>
                        <a:gd name="textAreaTop" fmla="*/ 0 h 981360"/>
                        <a:gd name="textAreaBottom" fmla="*/ 981720 h 981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Group 14"/>
                  <p:cNvGrpSpPr/>
                  <p:nvPr/>
                </p:nvGrpSpPr>
                <p:grpSpPr>
                  <a:xfrm>
                    <a:off x="5802480" y="1543320"/>
                    <a:ext cx="3234240" cy="3363120"/>
                    <a:chOff x="5802480" y="1543320"/>
                    <a:chExt cx="3234240" cy="3363120"/>
                  </a:xfrm>
                </p:grpSpPr>
                <p:sp>
                  <p:nvSpPr>
                    <p:cNvPr id="190" name="Freeform 15"/>
                    <p:cNvSpPr/>
                    <p:nvPr/>
                  </p:nvSpPr>
                  <p:spPr>
                    <a:xfrm rot="2100000">
                      <a:off x="5787720" y="2125440"/>
                      <a:ext cx="2237040" cy="654480"/>
                    </a:xfrm>
                    <a:custGeom>
                      <a:avLst/>
                      <a:gdLst>
                        <a:gd name="textAreaLeft" fmla="*/ 0 w 2237040"/>
                        <a:gd name="textAreaRight" fmla="*/ 2237400 w 2237040"/>
                        <a:gd name="textAreaTop" fmla="*/ 0 h 654480"/>
                        <a:gd name="textAreaBottom" fmla="*/ 654840 h 65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Freeform 16"/>
                    <p:cNvSpPr/>
                    <p:nvPr/>
                  </p:nvSpPr>
                  <p:spPr>
                    <a:xfrm rot="2100000">
                      <a:off x="7650000" y="3624840"/>
                      <a:ext cx="1199520" cy="1030680"/>
                    </a:xfrm>
                    <a:custGeom>
                      <a:avLst/>
                      <a:gdLst>
                        <a:gd name="textAreaLeft" fmla="*/ 0 w 1199520"/>
                        <a:gd name="textAreaRight" fmla="*/ 1199880 w 1199520"/>
                        <a:gd name="textAreaTop" fmla="*/ 0 h 1030680"/>
                        <a:gd name="textAreaBottom" fmla="*/ 1031040 h 1030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Group 17"/>
                  <p:cNvGrpSpPr/>
                  <p:nvPr/>
                </p:nvGrpSpPr>
                <p:grpSpPr>
                  <a:xfrm>
                    <a:off x="5781240" y="1625040"/>
                    <a:ext cx="3248280" cy="2615040"/>
                    <a:chOff x="5781240" y="1625040"/>
                    <a:chExt cx="3248280" cy="2615040"/>
                  </a:xfrm>
                </p:grpSpPr>
                <p:sp>
                  <p:nvSpPr>
                    <p:cNvPr id="193" name="Freeform 18"/>
                    <p:cNvSpPr/>
                    <p:nvPr/>
                  </p:nvSpPr>
                  <p:spPr>
                    <a:xfrm rot="1560000">
                      <a:off x="5795640" y="2071800"/>
                      <a:ext cx="2169360" cy="567720"/>
                    </a:xfrm>
                    <a:custGeom>
                      <a:avLst/>
                      <a:gdLst>
                        <a:gd name="textAreaLeft" fmla="*/ 0 w 2169360"/>
                        <a:gd name="textAreaRight" fmla="*/ 2169720 w 2169360"/>
                        <a:gd name="textAreaTop" fmla="*/ 0 h 567720"/>
                        <a:gd name="textAreaBottom" fmla="*/ 568080 h 5677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Freeform 19"/>
                    <p:cNvSpPr/>
                    <p:nvPr/>
                  </p:nvSpPr>
                  <p:spPr>
                    <a:xfrm rot="1560000">
                      <a:off x="7727760" y="3137400"/>
                      <a:ext cx="1164600" cy="892440"/>
                    </a:xfrm>
                    <a:custGeom>
                      <a:avLst/>
                      <a:gdLst>
                        <a:gd name="textAreaLeft" fmla="*/ 0 w 1164600"/>
                        <a:gd name="textAreaRight" fmla="*/ 1164960 w 1164600"/>
                        <a:gd name="textAreaTop" fmla="*/ 0 h 892440"/>
                        <a:gd name="textAreaBottom" fmla="*/ 892800 h 892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Group 20"/>
                  <p:cNvGrpSpPr/>
                  <p:nvPr/>
                </p:nvGrpSpPr>
                <p:grpSpPr>
                  <a:xfrm>
                    <a:off x="5732280" y="1632240"/>
                    <a:ext cx="3279960" cy="2098080"/>
                    <a:chOff x="5732280" y="1632240"/>
                    <a:chExt cx="3279960" cy="2098080"/>
                  </a:xfrm>
                </p:grpSpPr>
                <p:sp>
                  <p:nvSpPr>
                    <p:cNvPr id="196" name="Freeform 21"/>
                    <p:cNvSpPr/>
                    <p:nvPr/>
                  </p:nvSpPr>
                  <p:spPr>
                    <a:xfrm rot="1080000">
                      <a:off x="5769000" y="1946160"/>
                      <a:ext cx="2123280" cy="574200"/>
                    </a:xfrm>
                    <a:custGeom>
                      <a:avLst/>
                      <a:gdLst>
                        <a:gd name="textAreaLeft" fmla="*/ 0 w 2123280"/>
                        <a:gd name="textAreaRight" fmla="*/ 2123640 w 2123280"/>
                        <a:gd name="textAreaTop" fmla="*/ 0 h 574200"/>
                        <a:gd name="textAreaBottom" fmla="*/ 574560 h 574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Freeform 22"/>
                    <p:cNvSpPr/>
                    <p:nvPr/>
                  </p:nvSpPr>
                  <p:spPr>
                    <a:xfrm rot="1080000">
                      <a:off x="7759800" y="2673360"/>
                      <a:ext cx="1140480" cy="9028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902880"/>
                        <a:gd name="textAreaBottom" fmla="*/ 903240 h 902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Group 23"/>
                  <p:cNvGrpSpPr/>
                  <p:nvPr/>
                </p:nvGrpSpPr>
                <p:grpSpPr>
                  <a:xfrm>
                    <a:off x="5805360" y="1742040"/>
                    <a:ext cx="2988720" cy="1186920"/>
                    <a:chOff x="5805360" y="1742040"/>
                    <a:chExt cx="2988720" cy="1186920"/>
                  </a:xfrm>
                </p:grpSpPr>
                <p:sp>
                  <p:nvSpPr>
                    <p:cNvPr id="199" name="Freeform 24"/>
                    <p:cNvSpPr/>
                    <p:nvPr/>
                  </p:nvSpPr>
                  <p:spPr>
                    <a:xfrm rot="480000">
                      <a:off x="5829120" y="1874520"/>
                      <a:ext cx="1940400" cy="480600"/>
                    </a:xfrm>
                    <a:custGeom>
                      <a:avLst/>
                      <a:gdLst>
                        <a:gd name="textAreaLeft" fmla="*/ 0 w 1940400"/>
                        <a:gd name="textAreaRight" fmla="*/ 1940760 w 1940400"/>
                        <a:gd name="textAreaTop" fmla="*/ 0 h 480600"/>
                        <a:gd name="textAreaBottom" fmla="*/ 480960 h 480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Freeform 25"/>
                    <p:cNvSpPr/>
                    <p:nvPr/>
                  </p:nvSpPr>
                  <p:spPr>
                    <a:xfrm rot="480000">
                      <a:off x="7704360" y="2104560"/>
                      <a:ext cx="1041840" cy="755640"/>
                    </a:xfrm>
                    <a:custGeom>
                      <a:avLst/>
                      <a:gdLst>
                        <a:gd name="textAreaLeft" fmla="*/ 0 w 1041840"/>
                        <a:gd name="textAreaRight" fmla="*/ 1042200 w 1041840"/>
                        <a:gd name="textAreaTop" fmla="*/ 0 h 755640"/>
                        <a:gd name="textAreaBottom" fmla="*/ 756000 h 755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Group 26"/>
                  <p:cNvGrpSpPr/>
                  <p:nvPr/>
                </p:nvGrpSpPr>
                <p:grpSpPr>
                  <a:xfrm>
                    <a:off x="5821920" y="1795320"/>
                    <a:ext cx="2694240" cy="484200"/>
                    <a:chOff x="5821920" y="1795320"/>
                    <a:chExt cx="2694240" cy="484200"/>
                  </a:xfrm>
                </p:grpSpPr>
                <p:sp>
                  <p:nvSpPr>
                    <p:cNvPr id="202" name="Freeform 27"/>
                    <p:cNvSpPr/>
                    <p:nvPr/>
                  </p:nvSpPr>
                  <p:spPr>
                    <a:xfrm rot="21480000">
                      <a:off x="5826240" y="1837800"/>
                      <a:ext cx="1734840" cy="288360"/>
                    </a:xfrm>
                    <a:custGeom>
                      <a:avLst/>
                      <a:gdLst>
                        <a:gd name="textAreaLeft" fmla="*/ 0 w 1734840"/>
                        <a:gd name="textAreaRight" fmla="*/ 1735200 w 1734840"/>
                        <a:gd name="textAreaTop" fmla="*/ 0 h 288360"/>
                        <a:gd name="textAreaBottom" fmla="*/ 288720 h 288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Freeform 28"/>
                    <p:cNvSpPr/>
                    <p:nvPr/>
                  </p:nvSpPr>
                  <p:spPr>
                    <a:xfrm rot="21480000">
                      <a:off x="7576920" y="1811160"/>
                      <a:ext cx="931680" cy="452160"/>
                    </a:xfrm>
                    <a:custGeom>
                      <a:avLst/>
                      <a:gdLst>
                        <a:gd name="textAreaLeft" fmla="*/ 0 w 931680"/>
                        <a:gd name="textAreaRight" fmla="*/ 932040 w 931680"/>
                        <a:gd name="textAreaTop" fmla="*/ 0 h 452160"/>
                        <a:gd name="textAreaBottom" fmla="*/ 452520 h 452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Group 29"/>
                  <p:cNvGrpSpPr/>
                  <p:nvPr/>
                </p:nvGrpSpPr>
                <p:grpSpPr>
                  <a:xfrm>
                    <a:off x="5740560" y="1209240"/>
                    <a:ext cx="2473200" cy="1070280"/>
                    <a:chOff x="5740560" y="1209240"/>
                    <a:chExt cx="2473200" cy="1070280"/>
                  </a:xfrm>
                </p:grpSpPr>
                <p:sp>
                  <p:nvSpPr>
                    <p:cNvPr id="205" name="Freeform 30"/>
                    <p:cNvSpPr/>
                    <p:nvPr/>
                  </p:nvSpPr>
                  <p:spPr>
                    <a:xfrm rot="20760000">
                      <a:off x="5765760" y="1698120"/>
                      <a:ext cx="1549080" cy="399960"/>
                    </a:xfrm>
                    <a:custGeom>
                      <a:avLst/>
                      <a:gdLst>
                        <a:gd name="textAreaLeft" fmla="*/ 0 w 1549080"/>
                        <a:gd name="textAreaRight" fmla="*/ 1549440 w 1549080"/>
                        <a:gd name="textAreaTop" fmla="*/ 0 h 399960"/>
                        <a:gd name="textAreaBottom" fmla="*/ 400320 h 399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Freeform 31"/>
                    <p:cNvSpPr/>
                    <p:nvPr/>
                  </p:nvSpPr>
                  <p:spPr>
                    <a:xfrm rot="20760000">
                      <a:off x="7319520" y="1299960"/>
                      <a:ext cx="830520" cy="629280"/>
                    </a:xfrm>
                    <a:custGeom>
                      <a:avLst/>
                      <a:gdLst>
                        <a:gd name="textAreaLeft" fmla="*/ 0 w 830520"/>
                        <a:gd name="textAreaRight" fmla="*/ 830880 w 830520"/>
                        <a:gd name="textAreaTop" fmla="*/ 0 h 629280"/>
                        <a:gd name="textAreaBottom" fmla="*/ 629640 h 629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Group 32"/>
                  <p:cNvGrpSpPr/>
                  <p:nvPr/>
                </p:nvGrpSpPr>
                <p:grpSpPr>
                  <a:xfrm>
                    <a:off x="2419560" y="2546640"/>
                    <a:ext cx="3407040" cy="2862720"/>
                    <a:chOff x="2419560" y="2546640"/>
                    <a:chExt cx="3407040" cy="2862720"/>
                  </a:xfrm>
                </p:grpSpPr>
                <p:sp>
                  <p:nvSpPr>
                    <p:cNvPr id="208" name="Freeform 33"/>
                    <p:cNvSpPr/>
                    <p:nvPr/>
                  </p:nvSpPr>
                  <p:spPr>
                    <a:xfrm flipH="1" rot="18900000">
                      <a:off x="3868560" y="3170160"/>
                      <a:ext cx="2028960" cy="638280"/>
                    </a:xfrm>
                    <a:custGeom>
                      <a:avLst/>
                      <a:gdLst>
                        <a:gd name="textAreaLeft" fmla="*/ 360 w 2028960"/>
                        <a:gd name="textAreaRight" fmla="*/ 2029680 w 2028960"/>
                        <a:gd name="textAreaTop" fmla="*/ 0 h 638280"/>
                        <a:gd name="textAreaBottom" fmla="*/ 638640 h 63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Freeform 34"/>
                    <p:cNvSpPr/>
                    <p:nvPr/>
                  </p:nvSpPr>
                  <p:spPr>
                    <a:xfrm flipH="1" rot="18900000">
                      <a:off x="2615400" y="4165200"/>
                      <a:ext cx="1088640" cy="1006560"/>
                    </a:xfrm>
                    <a:custGeom>
                      <a:avLst/>
                      <a:gdLst>
                        <a:gd name="textAreaLeft" fmla="*/ 360 w 1088640"/>
                        <a:gd name="textAreaRight" fmla="*/ 1089360 w 1088640"/>
                        <a:gd name="textAreaTop" fmla="*/ 0 h 1006560"/>
                        <a:gd name="textAreaBottom" fmla="*/ 1006920 h 1006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Group 35"/>
                  <p:cNvGrpSpPr/>
                  <p:nvPr/>
                </p:nvGrpSpPr>
                <p:grpSpPr>
                  <a:xfrm>
                    <a:off x="1919880" y="1761480"/>
                    <a:ext cx="3194280" cy="3361320"/>
                    <a:chOff x="1919880" y="1761480"/>
                    <a:chExt cx="3194280" cy="3361320"/>
                  </a:xfrm>
                </p:grpSpPr>
                <p:sp>
                  <p:nvSpPr>
                    <p:cNvPr id="211" name="Freeform 36"/>
                    <p:cNvSpPr/>
                    <p:nvPr/>
                  </p:nvSpPr>
                  <p:spPr>
                    <a:xfrm flipH="1" rot="19500000">
                      <a:off x="2888280" y="2344320"/>
                      <a:ext cx="2239920" cy="655560"/>
                    </a:xfrm>
                    <a:custGeom>
                      <a:avLst/>
                      <a:gdLst>
                        <a:gd name="textAreaLeft" fmla="*/ 0 w 2239920"/>
                        <a:gd name="textAreaRight" fmla="*/ 2239920 w 2239920"/>
                        <a:gd name="textAreaTop" fmla="*/ 0 h 655560"/>
                        <a:gd name="textAreaBottom" fmla="*/ 655920 h 65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Freeform 37"/>
                    <p:cNvSpPr/>
                    <p:nvPr/>
                  </p:nvSpPr>
                  <p:spPr>
                    <a:xfrm flipH="1" rot="19500000">
                      <a:off x="2107800" y="3836520"/>
                      <a:ext cx="1202760" cy="103500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1035000"/>
                        <a:gd name="textAreaBottom" fmla="*/ 1035360 h 1035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Group 38"/>
                  <p:cNvGrpSpPr/>
                  <p:nvPr/>
                </p:nvGrpSpPr>
                <p:grpSpPr>
                  <a:xfrm>
                    <a:off x="1905840" y="1818360"/>
                    <a:ext cx="3247920" cy="2641680"/>
                    <a:chOff x="1905840" y="1818360"/>
                    <a:chExt cx="3247920" cy="2641680"/>
                  </a:xfrm>
                </p:grpSpPr>
                <p:sp>
                  <p:nvSpPr>
                    <p:cNvPr id="214" name="Freeform 39"/>
                    <p:cNvSpPr/>
                    <p:nvPr/>
                  </p:nvSpPr>
                  <p:spPr>
                    <a:xfrm flipH="1" rot="20040000">
                      <a:off x="2968560" y="2265480"/>
                      <a:ext cx="2171160" cy="564120"/>
                    </a:xfrm>
                    <a:custGeom>
                      <a:avLst/>
                      <a:gdLst>
                        <a:gd name="textAreaLeft" fmla="*/ -360 w 2171160"/>
                        <a:gd name="textAreaRight" fmla="*/ 2171160 w 2171160"/>
                        <a:gd name="textAreaTop" fmla="*/ 0 h 564120"/>
                        <a:gd name="textAreaBottom" fmla="*/ 564480 h 56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Freeform 40"/>
                    <p:cNvSpPr/>
                    <p:nvPr/>
                  </p:nvSpPr>
                  <p:spPr>
                    <a:xfrm flipH="1" rot="20040000">
                      <a:off x="2040480" y="3363120"/>
                      <a:ext cx="1164600" cy="886320"/>
                    </a:xfrm>
                    <a:custGeom>
                      <a:avLst/>
                      <a:gdLst>
                        <a:gd name="textAreaLeft" fmla="*/ -360 w 1164600"/>
                        <a:gd name="textAreaRight" fmla="*/ 1164600 w 1164600"/>
                        <a:gd name="textAreaTop" fmla="*/ 0 h 886320"/>
                        <a:gd name="textAreaBottom" fmla="*/ 886680 h 88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Group 41"/>
                  <p:cNvGrpSpPr/>
                  <p:nvPr/>
                </p:nvGrpSpPr>
                <p:grpSpPr>
                  <a:xfrm>
                    <a:off x="1899360" y="1851120"/>
                    <a:ext cx="3280320" cy="2097000"/>
                    <a:chOff x="1899360" y="1851120"/>
                    <a:chExt cx="3280320" cy="2097000"/>
                  </a:xfrm>
                </p:grpSpPr>
                <p:sp>
                  <p:nvSpPr>
                    <p:cNvPr id="217" name="Freeform 42"/>
                    <p:cNvSpPr/>
                    <p:nvPr/>
                  </p:nvSpPr>
                  <p:spPr>
                    <a:xfrm flipH="1" rot="20520000">
                      <a:off x="3017520" y="2165400"/>
                      <a:ext cx="2125080" cy="574200"/>
                    </a:xfrm>
                    <a:custGeom>
                      <a:avLst/>
                      <a:gdLst>
                        <a:gd name="textAreaLeft" fmla="*/ -360 w 2125080"/>
                        <a:gd name="textAreaRight" fmla="*/ 2125080 w 2125080"/>
                        <a:gd name="textAreaTop" fmla="*/ 0 h 574200"/>
                        <a:gd name="textAreaBottom" fmla="*/ 574560 h 574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Freeform 43"/>
                    <p:cNvSpPr/>
                    <p:nvPr/>
                  </p:nvSpPr>
                  <p:spPr>
                    <a:xfrm flipH="1" rot="20520000">
                      <a:off x="2010600" y="2890800"/>
                      <a:ext cx="1140840" cy="90324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903240"/>
                        <a:gd name="textAreaBottom" fmla="*/ 903600 h 90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Group 44"/>
                  <p:cNvGrpSpPr/>
                  <p:nvPr/>
                </p:nvGrpSpPr>
                <p:grpSpPr>
                  <a:xfrm>
                    <a:off x="2116080" y="1961280"/>
                    <a:ext cx="3036600" cy="1185120"/>
                    <a:chOff x="2116080" y="1961280"/>
                    <a:chExt cx="3036600" cy="1185120"/>
                  </a:xfrm>
                </p:grpSpPr>
                <p:sp>
                  <p:nvSpPr>
                    <p:cNvPr id="220" name="Freeform 45"/>
                    <p:cNvSpPr/>
                    <p:nvPr/>
                  </p:nvSpPr>
                  <p:spPr>
                    <a:xfrm flipH="1" rot="21120000">
                      <a:off x="3188880" y="2093760"/>
                      <a:ext cx="1938960" cy="480240"/>
                    </a:xfrm>
                    <a:custGeom>
                      <a:avLst/>
                      <a:gdLst>
                        <a:gd name="textAreaLeft" fmla="*/ 360 w 1938960"/>
                        <a:gd name="textAreaRight" fmla="*/ 1939680 w 1938960"/>
                        <a:gd name="textAreaTop" fmla="*/ 0 h 480240"/>
                        <a:gd name="textAreaBottom" fmla="*/ 480600 h 4802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Freeform 46"/>
                    <p:cNvSpPr/>
                    <p:nvPr/>
                  </p:nvSpPr>
                  <p:spPr>
                    <a:xfrm flipH="1" rot="21120000">
                      <a:off x="2163600" y="2322360"/>
                      <a:ext cx="1039680" cy="754920"/>
                    </a:xfrm>
                    <a:custGeom>
                      <a:avLst/>
                      <a:gdLst>
                        <a:gd name="textAreaLeft" fmla="*/ 360 w 1039680"/>
                        <a:gd name="textAreaRight" fmla="*/ 1040400 w 1039680"/>
                        <a:gd name="textAreaTop" fmla="*/ 0 h 754920"/>
                        <a:gd name="textAreaBottom" fmla="*/ 755280 h 754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Group 47"/>
                  <p:cNvGrpSpPr/>
                  <p:nvPr/>
                </p:nvGrpSpPr>
                <p:grpSpPr>
                  <a:xfrm>
                    <a:off x="2370600" y="2014560"/>
                    <a:ext cx="2668680" cy="484200"/>
                    <a:chOff x="2370600" y="2014560"/>
                    <a:chExt cx="2668680" cy="484200"/>
                  </a:xfrm>
                </p:grpSpPr>
                <p:sp>
                  <p:nvSpPr>
                    <p:cNvPr id="223" name="Freeform 48"/>
                    <p:cNvSpPr/>
                    <p:nvPr/>
                  </p:nvSpPr>
                  <p:spPr>
                    <a:xfrm flipH="1" rot="120000">
                      <a:off x="3298320" y="2055240"/>
                      <a:ext cx="1735920" cy="288360"/>
                    </a:xfrm>
                    <a:custGeom>
                      <a:avLst/>
                      <a:gdLst>
                        <a:gd name="textAreaLeft" fmla="*/ 360 w 1735920"/>
                        <a:gd name="textAreaRight" fmla="*/ 1736640 w 1735920"/>
                        <a:gd name="textAreaTop" fmla="*/ 0 h 288360"/>
                        <a:gd name="textAreaBottom" fmla="*/ 288720 h 288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Freeform 49"/>
                    <p:cNvSpPr/>
                    <p:nvPr/>
                  </p:nvSpPr>
                  <p:spPr>
                    <a:xfrm flipH="1" rot="120000">
                      <a:off x="2378160" y="2030400"/>
                      <a:ext cx="932400" cy="452160"/>
                    </a:xfrm>
                    <a:custGeom>
                      <a:avLst/>
                      <a:gdLst>
                        <a:gd name="textAreaLeft" fmla="*/ 360 w 932400"/>
                        <a:gd name="textAreaRight" fmla="*/ 933120 w 932400"/>
                        <a:gd name="textAreaTop" fmla="*/ 0 h 452160"/>
                        <a:gd name="textAreaBottom" fmla="*/ 452520 h 452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Group 50"/>
                  <p:cNvGrpSpPr/>
                  <p:nvPr/>
                </p:nvGrpSpPr>
                <p:grpSpPr>
                  <a:xfrm>
                    <a:off x="2695320" y="1427760"/>
                    <a:ext cx="2430360" cy="1071000"/>
                    <a:chOff x="2695320" y="1427760"/>
                    <a:chExt cx="2430360" cy="1071000"/>
                  </a:xfrm>
                </p:grpSpPr>
                <p:sp>
                  <p:nvSpPr>
                    <p:cNvPr id="226" name="Freeform 51"/>
                    <p:cNvSpPr/>
                    <p:nvPr/>
                  </p:nvSpPr>
                  <p:spPr>
                    <a:xfrm flipH="1" rot="840000">
                      <a:off x="3548160" y="1916640"/>
                      <a:ext cx="1551960" cy="400320"/>
                    </a:xfrm>
                    <a:custGeom>
                      <a:avLst/>
                      <a:gdLst>
                        <a:gd name="textAreaLeft" fmla="*/ -360 w 1551960"/>
                        <a:gd name="textAreaRight" fmla="*/ 1551960 w 1551960"/>
                        <a:gd name="textAreaTop" fmla="*/ 0 h 400320"/>
                        <a:gd name="textAreaBottom" fmla="*/ 400680 h 400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Freeform 52"/>
                    <p:cNvSpPr/>
                    <p:nvPr/>
                  </p:nvSpPr>
                  <p:spPr>
                    <a:xfrm flipH="1" rot="840000">
                      <a:off x="2759040" y="1518840"/>
                      <a:ext cx="831600" cy="629640"/>
                    </a:xfrm>
                    <a:custGeom>
                      <a:avLst/>
                      <a:gdLst>
                        <a:gd name="textAreaLeft" fmla="*/ 360 w 831600"/>
                        <a:gd name="textAreaRight" fmla="*/ 832320 w 831600"/>
                        <a:gd name="textAreaTop" fmla="*/ 0 h 629640"/>
                        <a:gd name="textAreaBottom" fmla="*/ 630000 h 629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Group 53"/>
                  <p:cNvGrpSpPr/>
                  <p:nvPr/>
                </p:nvGrpSpPr>
                <p:grpSpPr>
                  <a:xfrm>
                    <a:off x="2772360" y="1135440"/>
                    <a:ext cx="2465280" cy="1443240"/>
                    <a:chOff x="2772360" y="1135440"/>
                    <a:chExt cx="2465280" cy="1443240"/>
                  </a:xfrm>
                </p:grpSpPr>
                <p:sp>
                  <p:nvSpPr>
                    <p:cNvPr id="229" name="Freeform 54"/>
                    <p:cNvSpPr/>
                    <p:nvPr/>
                  </p:nvSpPr>
                  <p:spPr>
                    <a:xfrm flipH="1" rot="1260000">
                      <a:off x="3665520" y="1892880"/>
                      <a:ext cx="1547640" cy="422280"/>
                    </a:xfrm>
                    <a:custGeom>
                      <a:avLst/>
                      <a:gdLst>
                        <a:gd name="textAreaLeft" fmla="*/ -360 w 1547640"/>
                        <a:gd name="textAreaRight" fmla="*/ 1547640 w 1547640"/>
                        <a:gd name="textAreaTop" fmla="*/ 0 h 422280"/>
                        <a:gd name="textAreaBottom" fmla="*/ 422640 h 422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Freeform 55"/>
                    <p:cNvSpPr/>
                    <p:nvPr/>
                  </p:nvSpPr>
                  <p:spPr>
                    <a:xfrm flipH="1" rot="1260000">
                      <a:off x="2863800" y="1261800"/>
                      <a:ext cx="829440" cy="664200"/>
                    </a:xfrm>
                    <a:custGeom>
                      <a:avLst/>
                      <a:gdLst>
                        <a:gd name="textAreaLeft" fmla="*/ 360 w 829440"/>
                        <a:gd name="textAreaRight" fmla="*/ 830160 w 829440"/>
                        <a:gd name="textAreaTop" fmla="*/ 0 h 664200"/>
                        <a:gd name="textAreaBottom" fmla="*/ 664560 h 664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Group 56"/>
                  <p:cNvGrpSpPr/>
                  <p:nvPr/>
                </p:nvGrpSpPr>
                <p:grpSpPr>
                  <a:xfrm>
                    <a:off x="3013920" y="663840"/>
                    <a:ext cx="2305440" cy="2062440"/>
                    <a:chOff x="3013920" y="663840"/>
                    <a:chExt cx="2305440" cy="2062440"/>
                  </a:xfrm>
                </p:grpSpPr>
                <p:sp>
                  <p:nvSpPr>
                    <p:cNvPr id="232" name="Freeform 57"/>
                    <p:cNvSpPr/>
                    <p:nvPr/>
                  </p:nvSpPr>
                  <p:spPr>
                    <a:xfrm flipH="1" rot="2040000">
                      <a:off x="3815640" y="1905840"/>
                      <a:ext cx="1510920" cy="435240"/>
                    </a:xfrm>
                    <a:custGeom>
                      <a:avLst/>
                      <a:gdLst>
                        <a:gd name="textAreaLeft" fmla="*/ -360 w 1510920"/>
                        <a:gd name="textAreaRight" fmla="*/ 1510920 w 1510920"/>
                        <a:gd name="textAreaTop" fmla="*/ 0 h 435240"/>
                        <a:gd name="textAreaBottom" fmla="*/ 435600 h 4352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Freeform 58"/>
                    <p:cNvSpPr/>
                    <p:nvPr/>
                  </p:nvSpPr>
                  <p:spPr>
                    <a:xfrm flipH="1" rot="2040000">
                      <a:off x="3136320" y="831600"/>
                      <a:ext cx="810360" cy="686880"/>
                    </a:xfrm>
                    <a:custGeom>
                      <a:avLst/>
                      <a:gdLst>
                        <a:gd name="textAreaLeft" fmla="*/ -360 w 810360"/>
                        <a:gd name="textAreaRight" fmla="*/ 810360 w 810360"/>
                        <a:gd name="textAreaTop" fmla="*/ 0 h 686880"/>
                        <a:gd name="textAreaBottom" fmla="*/ 687240 h 68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Group 59"/>
                  <p:cNvGrpSpPr/>
                  <p:nvPr/>
                </p:nvGrpSpPr>
                <p:grpSpPr>
                  <a:xfrm>
                    <a:off x="3306960" y="281160"/>
                    <a:ext cx="2053800" cy="2464560"/>
                    <a:chOff x="3306960" y="281160"/>
                    <a:chExt cx="2053800" cy="2464560"/>
                  </a:xfrm>
                </p:grpSpPr>
                <p:sp>
                  <p:nvSpPr>
                    <p:cNvPr id="235" name="Freeform 60"/>
                    <p:cNvSpPr/>
                    <p:nvPr/>
                  </p:nvSpPr>
                  <p:spPr>
                    <a:xfrm flipH="1" rot="2700000">
                      <a:off x="3955680" y="1852920"/>
                      <a:ext cx="1463040" cy="440280"/>
                    </a:xfrm>
                    <a:custGeom>
                      <a:avLst/>
                      <a:gdLst>
                        <a:gd name="textAreaLeft" fmla="*/ 360 w 1463040"/>
                        <a:gd name="textAreaRight" fmla="*/ 1463760 w 1463040"/>
                        <a:gd name="textAreaTop" fmla="*/ 0 h 440280"/>
                        <a:gd name="textAreaBottom" fmla="*/ 440640 h 440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Freeform 61"/>
                    <p:cNvSpPr/>
                    <p:nvPr/>
                  </p:nvSpPr>
                  <p:spPr>
                    <a:xfrm flipH="1" rot="2700000">
                      <a:off x="3436200" y="456840"/>
                      <a:ext cx="784440" cy="692280"/>
                    </a:xfrm>
                    <a:custGeom>
                      <a:avLst/>
                      <a:gdLst>
                        <a:gd name="textAreaLeft" fmla="*/ -360 w 784440"/>
                        <a:gd name="textAreaRight" fmla="*/ 784440 w 784440"/>
                        <a:gd name="textAreaTop" fmla="*/ 0 h 692280"/>
                        <a:gd name="textAreaBottom" fmla="*/ 692280 h 692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Group 62"/>
                  <p:cNvGrpSpPr/>
                  <p:nvPr/>
                </p:nvGrpSpPr>
                <p:grpSpPr>
                  <a:xfrm>
                    <a:off x="3853440" y="255960"/>
                    <a:ext cx="1968120" cy="1964160"/>
                    <a:chOff x="3853440" y="255960"/>
                    <a:chExt cx="1968120" cy="1964160"/>
                  </a:xfrm>
                </p:grpSpPr>
                <p:sp>
                  <p:nvSpPr>
                    <p:cNvPr id="238" name="Freeform 63"/>
                    <p:cNvSpPr/>
                    <p:nvPr/>
                  </p:nvSpPr>
                  <p:spPr>
                    <a:xfrm flipH="1" rot="3480000">
                      <a:off x="4597920" y="1331640"/>
                      <a:ext cx="1379880" cy="396000"/>
                    </a:xfrm>
                    <a:custGeom>
                      <a:avLst/>
                      <a:gdLst>
                        <a:gd name="textAreaLeft" fmla="*/ -360 w 1379880"/>
                        <a:gd name="textAreaRight" fmla="*/ 1379880 w 1379880"/>
                        <a:gd name="textAreaTop" fmla="*/ 0 h 396000"/>
                        <a:gd name="textAreaBottom" fmla="*/ 396360 h 396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Freeform 64"/>
                    <p:cNvSpPr/>
                    <p:nvPr/>
                  </p:nvSpPr>
                  <p:spPr>
                    <a:xfrm flipH="1" rot="3480000">
                      <a:off x="3944160" y="423000"/>
                      <a:ext cx="740880" cy="625320"/>
                    </a:xfrm>
                    <a:custGeom>
                      <a:avLst/>
                      <a:gdLst>
                        <a:gd name="textAreaLeft" fmla="*/ 360 w 740880"/>
                        <a:gd name="textAreaRight" fmla="*/ 741600 w 740880"/>
                        <a:gd name="textAreaTop" fmla="*/ 0 h 625320"/>
                        <a:gd name="textAreaBottom" fmla="*/ 625680 h 625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Group 65"/>
                  <p:cNvGrpSpPr/>
                  <p:nvPr/>
                </p:nvGrpSpPr>
                <p:grpSpPr>
                  <a:xfrm>
                    <a:off x="4340520" y="189720"/>
                    <a:ext cx="1465560" cy="2043720"/>
                    <a:chOff x="4340520" y="189720"/>
                    <a:chExt cx="1465560" cy="2043720"/>
                  </a:xfrm>
                </p:grpSpPr>
                <p:sp>
                  <p:nvSpPr>
                    <p:cNvPr id="241" name="Freeform 66"/>
                    <p:cNvSpPr/>
                    <p:nvPr/>
                  </p:nvSpPr>
                  <p:spPr>
                    <a:xfrm flipH="1" rot="4140000">
                      <a:off x="4714200" y="1350720"/>
                      <a:ext cx="1352160" cy="370440"/>
                    </a:xfrm>
                    <a:custGeom>
                      <a:avLst/>
                      <a:gdLst>
                        <a:gd name="textAreaLeft" fmla="*/ 360 w 1352160"/>
                        <a:gd name="textAreaRight" fmla="*/ 1352880 w 1352160"/>
                        <a:gd name="textAreaTop" fmla="*/ 0 h 370440"/>
                        <a:gd name="textAreaBottom" fmla="*/ 370800 h 370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Freeform 67"/>
                    <p:cNvSpPr/>
                    <p:nvPr/>
                  </p:nvSpPr>
                  <p:spPr>
                    <a:xfrm flipH="1" rot="4140000">
                      <a:off x="4379040" y="341640"/>
                      <a:ext cx="726480" cy="582480"/>
                    </a:xfrm>
                    <a:custGeom>
                      <a:avLst/>
                      <a:gdLst>
                        <a:gd name="textAreaLeft" fmla="*/ 0 w 726480"/>
                        <a:gd name="textAreaRight" fmla="*/ 726480 w 726480"/>
                        <a:gd name="textAreaTop" fmla="*/ 0 h 582480"/>
                        <a:gd name="textAreaBottom" fmla="*/ 582840 h 58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Group 68"/>
                  <p:cNvGrpSpPr/>
                  <p:nvPr/>
                </p:nvGrpSpPr>
                <p:grpSpPr>
                  <a:xfrm>
                    <a:off x="5661360" y="843480"/>
                    <a:ext cx="2410560" cy="1494360"/>
                    <a:chOff x="5661360" y="843480"/>
                    <a:chExt cx="2410560" cy="1494360"/>
                  </a:xfrm>
                </p:grpSpPr>
                <p:sp>
                  <p:nvSpPr>
                    <p:cNvPr id="244" name="Freeform 69"/>
                    <p:cNvSpPr/>
                    <p:nvPr/>
                  </p:nvSpPr>
                  <p:spPr>
                    <a:xfrm rot="20280000">
                      <a:off x="5684400" y="1638000"/>
                      <a:ext cx="1547640" cy="425160"/>
                    </a:xfrm>
                    <a:custGeom>
                      <a:avLst/>
                      <a:gdLst>
                        <a:gd name="textAreaLeft" fmla="*/ 0 w 1547640"/>
                        <a:gd name="textAreaRight" fmla="*/ 1548000 w 1547640"/>
                        <a:gd name="textAreaTop" fmla="*/ 0 h 425160"/>
                        <a:gd name="textAreaBottom" fmla="*/ 425520 h 4251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Freeform 70"/>
                    <p:cNvSpPr/>
                    <p:nvPr/>
                  </p:nvSpPr>
                  <p:spPr>
                    <a:xfrm rot="20280000">
                      <a:off x="7146360" y="974520"/>
                      <a:ext cx="830160" cy="668520"/>
                    </a:xfrm>
                    <a:custGeom>
                      <a:avLst/>
                      <a:gdLst>
                        <a:gd name="textAreaLeft" fmla="*/ 0 w 830160"/>
                        <a:gd name="textAreaRight" fmla="*/ 830520 w 830160"/>
                        <a:gd name="textAreaTop" fmla="*/ 0 h 668520"/>
                        <a:gd name="textAreaBottom" fmla="*/ 668880 h 668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Group 71"/>
                  <p:cNvGrpSpPr/>
                  <p:nvPr/>
                </p:nvGrpSpPr>
                <p:grpSpPr>
                  <a:xfrm>
                    <a:off x="5534640" y="462240"/>
                    <a:ext cx="2284560" cy="2006280"/>
                    <a:chOff x="5534640" y="462240"/>
                    <a:chExt cx="2284560" cy="2006280"/>
                  </a:xfrm>
                </p:grpSpPr>
                <p:sp>
                  <p:nvSpPr>
                    <p:cNvPr id="247" name="Freeform 72"/>
                    <p:cNvSpPr/>
                    <p:nvPr/>
                  </p:nvSpPr>
                  <p:spPr>
                    <a:xfrm rot="19680000">
                      <a:off x="5532120" y="1670400"/>
                      <a:ext cx="1521000" cy="427680"/>
                    </a:xfrm>
                    <a:custGeom>
                      <a:avLst/>
                      <a:gdLst>
                        <a:gd name="textAreaLeft" fmla="*/ 0 w 1521000"/>
                        <a:gd name="textAreaRight" fmla="*/ 1521360 w 152100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Freeform 73"/>
                    <p:cNvSpPr/>
                    <p:nvPr/>
                  </p:nvSpPr>
                  <p:spPr>
                    <a:xfrm rot="19680000">
                      <a:off x="6886080" y="627120"/>
                      <a:ext cx="815760" cy="675360"/>
                    </a:xfrm>
                    <a:custGeom>
                      <a:avLst/>
                      <a:gdLst>
                        <a:gd name="textAreaLeft" fmla="*/ 0 w 815760"/>
                        <a:gd name="textAreaRight" fmla="*/ 816120 w 815760"/>
                        <a:gd name="textAreaTop" fmla="*/ 0 h 675360"/>
                        <a:gd name="textAreaBottom" fmla="*/ 675360 h 675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Freeform 74"/>
                  <p:cNvSpPr/>
                  <p:nvPr/>
                </p:nvSpPr>
                <p:spPr>
                  <a:xfrm flipH="1" rot="4560000">
                    <a:off x="4764960" y="1466280"/>
                    <a:ext cx="1265400" cy="176400"/>
                  </a:xfrm>
                  <a:custGeom>
                    <a:avLst/>
                    <a:gdLst>
                      <a:gd name="textAreaLeft" fmla="*/ -360 w 1265400"/>
                      <a:gd name="textAreaRight" fmla="*/ 1265400 w 1265400"/>
                      <a:gd name="textAreaTop" fmla="*/ 0 h 176400"/>
                      <a:gd name="textAreaBottom" fmla="*/ 176760 h 176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Freeform 75"/>
                  <p:cNvSpPr/>
                  <p:nvPr/>
                </p:nvSpPr>
                <p:spPr>
                  <a:xfrm flipH="1" rot="4560000">
                    <a:off x="4795560" y="564480"/>
                    <a:ext cx="679680" cy="281160"/>
                  </a:xfrm>
                  <a:custGeom>
                    <a:avLst/>
                    <a:gdLst>
                      <a:gd name="textAreaLeft" fmla="*/ 360 w 679680"/>
                      <a:gd name="textAreaRight" fmla="*/ 680400 w 679680"/>
                      <a:gd name="textAreaTop" fmla="*/ 0 h 281160"/>
                      <a:gd name="textAreaBottom" fmla="*/ 281520 h 281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Group 76"/>
                  <p:cNvGrpSpPr/>
                  <p:nvPr/>
                </p:nvGrpSpPr>
                <p:grpSpPr>
                  <a:xfrm>
                    <a:off x="5079960" y="189000"/>
                    <a:ext cx="1597680" cy="2012760"/>
                    <a:chOff x="5079960" y="189000"/>
                    <a:chExt cx="1597680" cy="2012760"/>
                  </a:xfrm>
                </p:grpSpPr>
                <p:sp>
                  <p:nvSpPr>
                    <p:cNvPr id="252" name="Freeform 77"/>
                    <p:cNvSpPr/>
                    <p:nvPr/>
                  </p:nvSpPr>
                  <p:spPr>
                    <a:xfrm rot="17760000">
                      <a:off x="4861800" y="1359000"/>
                      <a:ext cx="1325520" cy="343080"/>
                    </a:xfrm>
                    <a:custGeom>
                      <a:avLst/>
                      <a:gdLst>
                        <a:gd name="textAreaLeft" fmla="*/ 0 w 1325520"/>
                        <a:gd name="textAreaRight" fmla="*/ 1325880 w 1325520"/>
                        <a:gd name="textAreaTop" fmla="*/ 0 h 343080"/>
                        <a:gd name="textAreaBottom" fmla="*/ 343440 h 343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Freeform 78"/>
                    <p:cNvSpPr/>
                    <p:nvPr/>
                  </p:nvSpPr>
                  <p:spPr>
                    <a:xfrm rot="17760000">
                      <a:off x="5924880" y="356400"/>
                      <a:ext cx="709200" cy="539280"/>
                    </a:xfrm>
                    <a:custGeom>
                      <a:avLst/>
                      <a:gdLst>
                        <a:gd name="textAreaLeft" fmla="*/ 0 w 709200"/>
                        <a:gd name="textAreaRight" fmla="*/ 709560 w 709200"/>
                        <a:gd name="textAreaTop" fmla="*/ 0 h 539280"/>
                        <a:gd name="textAreaBottom" fmla="*/ 539640 h 539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Group 79"/>
                  <p:cNvGrpSpPr/>
                  <p:nvPr/>
                </p:nvGrpSpPr>
                <p:grpSpPr>
                  <a:xfrm>
                    <a:off x="4925160" y="243720"/>
                    <a:ext cx="2439720" cy="1940400"/>
                    <a:chOff x="4925160" y="243720"/>
                    <a:chExt cx="2439720" cy="1940400"/>
                  </a:xfrm>
                </p:grpSpPr>
                <p:sp>
                  <p:nvSpPr>
                    <p:cNvPr id="255" name="Freeform 80"/>
                    <p:cNvSpPr/>
                    <p:nvPr/>
                  </p:nvSpPr>
                  <p:spPr>
                    <a:xfrm rot="18840000">
                      <a:off x="4892040" y="1243440"/>
                      <a:ext cx="1415880" cy="509040"/>
                    </a:xfrm>
                    <a:custGeom>
                      <a:avLst/>
                      <a:gdLst>
                        <a:gd name="textAreaLeft" fmla="*/ 0 w 1415880"/>
                        <a:gd name="textAreaRight" fmla="*/ 1416240 w 1415880"/>
                        <a:gd name="textAreaTop" fmla="*/ 0 h 509040"/>
                        <a:gd name="textAreaBottom" fmla="*/ 509400 h 509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Freeform 81"/>
                    <p:cNvSpPr/>
                    <p:nvPr/>
                  </p:nvSpPr>
                  <p:spPr>
                    <a:xfrm rot="18840000">
                      <a:off x="6435360" y="394920"/>
                      <a:ext cx="758520" cy="796320"/>
                    </a:xfrm>
                    <a:custGeom>
                      <a:avLst/>
                      <a:gdLst>
                        <a:gd name="textAreaLeft" fmla="*/ 0 w 758520"/>
                        <a:gd name="textAreaRight" fmla="*/ 758880 w 758520"/>
                        <a:gd name="textAreaTop" fmla="*/ 0 h 796320"/>
                        <a:gd name="textAreaBottom" fmla="*/ 796680 h 79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Group 82"/>
                  <p:cNvGrpSpPr/>
                  <p:nvPr/>
                </p:nvGrpSpPr>
                <p:grpSpPr>
                  <a:xfrm>
                    <a:off x="5401800" y="278640"/>
                    <a:ext cx="547920" cy="1858680"/>
                    <a:chOff x="5401800" y="278640"/>
                    <a:chExt cx="547920" cy="1858680"/>
                  </a:xfrm>
                </p:grpSpPr>
                <p:sp>
                  <p:nvSpPr>
                    <p:cNvPr id="258" name="Freeform 83"/>
                    <p:cNvSpPr/>
                    <p:nvPr/>
                  </p:nvSpPr>
                  <p:spPr>
                    <a:xfrm rot="16680000">
                      <a:off x="4967280" y="1468800"/>
                      <a:ext cx="1179720" cy="148320"/>
                    </a:xfrm>
                    <a:custGeom>
                      <a:avLst/>
                      <a:gdLst>
                        <a:gd name="textAreaLeft" fmla="*/ 0 w 1179720"/>
                        <a:gd name="textAreaRight" fmla="*/ 1180080 w 1179720"/>
                        <a:gd name="textAreaTop" fmla="*/ 0 h 148320"/>
                        <a:gd name="textAreaBottom" fmla="*/ 148680 h 148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Freeform 84"/>
                    <p:cNvSpPr/>
                    <p:nvPr/>
                  </p:nvSpPr>
                  <p:spPr>
                    <a:xfrm rot="16680000">
                      <a:off x="5473800" y="491400"/>
                      <a:ext cx="632880" cy="233280"/>
                    </a:xfrm>
                    <a:custGeom>
                      <a:avLst/>
                      <a:gdLst>
                        <a:gd name="textAreaLeft" fmla="*/ 0 w 632880"/>
                        <a:gd name="textAreaRight" fmla="*/ 633240 w 632880"/>
                        <a:gd name="textAreaTop" fmla="*/ 0 h 233280"/>
                        <a:gd name="textAreaBottom" fmla="*/ 233640 h 233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Group 85"/>
                  <p:cNvGrpSpPr/>
                  <p:nvPr/>
                </p:nvGrpSpPr>
                <p:grpSpPr>
                  <a:xfrm>
                    <a:off x="2863800" y="2546640"/>
                    <a:ext cx="2957040" cy="3173400"/>
                    <a:chOff x="2863800" y="2546640"/>
                    <a:chExt cx="2957040" cy="3173400"/>
                  </a:xfrm>
                </p:grpSpPr>
                <p:sp>
                  <p:nvSpPr>
                    <p:cNvPr id="261" name="Freeform 86"/>
                    <p:cNvSpPr/>
                    <p:nvPr/>
                  </p:nvSpPr>
                  <p:spPr>
                    <a:xfrm flipH="1" rot="18360000">
                      <a:off x="3880440" y="3269880"/>
                      <a:ext cx="2116080" cy="643680"/>
                    </a:xfrm>
                    <a:custGeom>
                      <a:avLst/>
                      <a:gdLst>
                        <a:gd name="textAreaLeft" fmla="*/ 0 w 2116080"/>
                        <a:gd name="textAreaRight" fmla="*/ 2116080 w 2116080"/>
                        <a:gd name="textAreaTop" fmla="*/ 0 h 643680"/>
                        <a:gd name="textAreaBottom" fmla="*/ 644040 h 643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Freeform 87"/>
                    <p:cNvSpPr/>
                    <p:nvPr/>
                  </p:nvSpPr>
                  <p:spPr>
                    <a:xfrm flipH="1" rot="18360000">
                      <a:off x="3040200" y="4455720"/>
                      <a:ext cx="1133640" cy="1014480"/>
                    </a:xfrm>
                    <a:custGeom>
                      <a:avLst/>
                      <a:gdLst>
                        <a:gd name="textAreaLeft" fmla="*/ -360 w 1133640"/>
                        <a:gd name="textAreaRight" fmla="*/ 1133640 w 1133640"/>
                        <a:gd name="textAreaTop" fmla="*/ 0 h 1014480"/>
                        <a:gd name="textAreaBottom" fmla="*/ 1014840 h 101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Group 88"/>
                  <p:cNvGrpSpPr/>
                  <p:nvPr/>
                </p:nvGrpSpPr>
                <p:grpSpPr>
                  <a:xfrm>
                    <a:off x="3624840" y="2609280"/>
                    <a:ext cx="1996200" cy="3175200"/>
                    <a:chOff x="3624840" y="2609280"/>
                    <a:chExt cx="1996200" cy="3175200"/>
                  </a:xfrm>
                </p:grpSpPr>
                <p:sp>
                  <p:nvSpPr>
                    <p:cNvPr id="264" name="Freeform 89"/>
                    <p:cNvSpPr/>
                    <p:nvPr/>
                  </p:nvSpPr>
                  <p:spPr>
                    <a:xfrm flipH="1" rot="17520000">
                      <a:off x="3956400" y="3358080"/>
                      <a:ext cx="2018520" cy="597960"/>
                    </a:xfrm>
                    <a:custGeom>
                      <a:avLst/>
                      <a:gdLst>
                        <a:gd name="textAreaLeft" fmla="*/ -360 w 2018520"/>
                        <a:gd name="textAreaRight" fmla="*/ 2018520 w 2018520"/>
                        <a:gd name="textAreaTop" fmla="*/ 0 h 597960"/>
                        <a:gd name="textAreaBottom" fmla="*/ 598320 h 597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Freeform 90"/>
                    <p:cNvSpPr/>
                    <p:nvPr/>
                  </p:nvSpPr>
                  <p:spPr>
                    <a:xfrm flipH="1" rot="17520000">
                      <a:off x="3722040" y="4636440"/>
                      <a:ext cx="1082520" cy="940320"/>
                    </a:xfrm>
                    <a:custGeom>
                      <a:avLst/>
                      <a:gdLst>
                        <a:gd name="textAreaLeft" fmla="*/ -360 w 1082520"/>
                        <a:gd name="textAreaRight" fmla="*/ 1082520 w 1082520"/>
                        <a:gd name="textAreaTop" fmla="*/ 0 h 940320"/>
                        <a:gd name="textAreaBottom" fmla="*/ 940680 h 940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Group 91"/>
                  <p:cNvGrpSpPr/>
                  <p:nvPr/>
                </p:nvGrpSpPr>
                <p:grpSpPr>
                  <a:xfrm>
                    <a:off x="4465800" y="2648160"/>
                    <a:ext cx="1092240" cy="3026520"/>
                    <a:chOff x="4465800" y="2648160"/>
                    <a:chExt cx="1092240" cy="3026520"/>
                  </a:xfrm>
                </p:grpSpPr>
                <p:sp>
                  <p:nvSpPr>
                    <p:cNvPr id="267" name="Freeform 92"/>
                    <p:cNvSpPr/>
                    <p:nvPr/>
                  </p:nvSpPr>
                  <p:spPr>
                    <a:xfrm flipH="1" rot="16860000">
                      <a:off x="4158720" y="3384360"/>
                      <a:ext cx="1924920" cy="515160"/>
                    </a:xfrm>
                    <a:custGeom>
                      <a:avLst/>
                      <a:gdLst>
                        <a:gd name="textAreaLeft" fmla="*/ -360 w 1924920"/>
                        <a:gd name="textAreaRight" fmla="*/ 1924920 w 1924920"/>
                        <a:gd name="textAreaTop" fmla="*/ 0 h 515160"/>
                        <a:gd name="textAreaBottom" fmla="*/ 515520 h 5151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Freeform 93"/>
                    <p:cNvSpPr/>
                    <p:nvPr/>
                  </p:nvSpPr>
                  <p:spPr>
                    <a:xfrm flipH="1" rot="16860000">
                      <a:off x="4446720" y="4683960"/>
                      <a:ext cx="1032120" cy="812520"/>
                    </a:xfrm>
                    <a:custGeom>
                      <a:avLst/>
                      <a:gdLst>
                        <a:gd name="textAreaLeft" fmla="*/ -360 w 1032120"/>
                        <a:gd name="textAreaRight" fmla="*/ 1032120 w 1032120"/>
                        <a:gd name="textAreaTop" fmla="*/ 0 h 812520"/>
                        <a:gd name="textAreaBottom" fmla="*/ 812880 h 812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Group 94"/>
                  <p:cNvGrpSpPr/>
                  <p:nvPr/>
                </p:nvGrpSpPr>
                <p:grpSpPr>
                  <a:xfrm>
                    <a:off x="5091840" y="2518560"/>
                    <a:ext cx="3148560" cy="3072240"/>
                    <a:chOff x="5091840" y="2518560"/>
                    <a:chExt cx="3148560" cy="3072240"/>
                  </a:xfrm>
                </p:grpSpPr>
                <p:sp>
                  <p:nvSpPr>
                    <p:cNvPr id="270" name="Freeform 95"/>
                    <p:cNvSpPr/>
                    <p:nvPr/>
                  </p:nvSpPr>
                  <p:spPr>
                    <a:xfrm rot="3120000">
                      <a:off x="4932000" y="3227400"/>
                      <a:ext cx="2100960" cy="618840"/>
                    </a:xfrm>
                    <a:custGeom>
                      <a:avLst/>
                      <a:gdLst>
                        <a:gd name="textAreaLeft" fmla="*/ 0 w 2100960"/>
                        <a:gd name="textAreaRight" fmla="*/ 2100960 w 2100960"/>
                        <a:gd name="textAreaTop" fmla="*/ 0 h 618840"/>
                        <a:gd name="textAreaBottom" fmla="*/ 619200 h 618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Freeform 96"/>
                    <p:cNvSpPr/>
                    <p:nvPr/>
                  </p:nvSpPr>
                  <p:spPr>
                    <a:xfrm rot="3120000">
                      <a:off x="6946560" y="4359240"/>
                      <a:ext cx="1125720" cy="975240"/>
                    </a:xfrm>
                    <a:custGeom>
                      <a:avLst/>
                      <a:gdLst>
                        <a:gd name="textAreaLeft" fmla="*/ 0 w 1125720"/>
                        <a:gd name="textAreaRight" fmla="*/ 1126080 w 1125720"/>
                        <a:gd name="textAreaTop" fmla="*/ 0 h 975240"/>
                        <a:gd name="textAreaBottom" fmla="*/ 975600 h 975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Group 97"/>
                  <p:cNvGrpSpPr/>
                  <p:nvPr/>
                </p:nvGrpSpPr>
                <p:grpSpPr>
                  <a:xfrm>
                    <a:off x="5195880" y="2575080"/>
                    <a:ext cx="2414160" cy="3206520"/>
                    <a:chOff x="5195880" y="2575080"/>
                    <a:chExt cx="2414160" cy="3206520"/>
                  </a:xfrm>
                </p:grpSpPr>
                <p:sp>
                  <p:nvSpPr>
                    <p:cNvPr id="273" name="Freeform 98"/>
                    <p:cNvSpPr/>
                    <p:nvPr/>
                  </p:nvSpPr>
                  <p:spPr>
                    <a:xfrm rot="3720000">
                      <a:off x="4915800" y="3323160"/>
                      <a:ext cx="2055600" cy="600840"/>
                    </a:xfrm>
                    <a:custGeom>
                      <a:avLst/>
                      <a:gdLst>
                        <a:gd name="textAreaLeft" fmla="*/ 0 w 2055600"/>
                        <a:gd name="textAreaRight" fmla="*/ 2055600 w 2055600"/>
                        <a:gd name="textAreaTop" fmla="*/ 0 h 600840"/>
                        <a:gd name="textAreaBottom" fmla="*/ 601200 h 600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Freeform 99"/>
                    <p:cNvSpPr/>
                    <p:nvPr/>
                  </p:nvSpPr>
                  <p:spPr>
                    <a:xfrm rot="3720000">
                      <a:off x="6383520" y="4601520"/>
                      <a:ext cx="1101600" cy="943920"/>
                    </a:xfrm>
                    <a:custGeom>
                      <a:avLst/>
                      <a:gdLst>
                        <a:gd name="textAreaLeft" fmla="*/ 0 w 1101600"/>
                        <a:gd name="textAreaRight" fmla="*/ 1101960 w 1101600"/>
                        <a:gd name="textAreaTop" fmla="*/ 0 h 943920"/>
                        <a:gd name="textAreaBottom" fmla="*/ 944280 h 943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Group 100"/>
                  <p:cNvGrpSpPr/>
                  <p:nvPr/>
                </p:nvGrpSpPr>
                <p:grpSpPr>
                  <a:xfrm>
                    <a:off x="5290920" y="2683800"/>
                    <a:ext cx="1663920" cy="3089880"/>
                    <a:chOff x="5290920" y="2683800"/>
                    <a:chExt cx="1663920" cy="3089880"/>
                  </a:xfrm>
                </p:grpSpPr>
                <p:sp>
                  <p:nvSpPr>
                    <p:cNvPr id="276" name="Freeform 101"/>
                    <p:cNvSpPr/>
                    <p:nvPr/>
                  </p:nvSpPr>
                  <p:spPr>
                    <a:xfrm rot="4260000">
                      <a:off x="4856400" y="3457080"/>
                      <a:ext cx="1996920" cy="505440"/>
                    </a:xfrm>
                    <a:custGeom>
                      <a:avLst/>
                      <a:gdLst>
                        <a:gd name="textAreaLeft" fmla="*/ 0 w 1996920"/>
                        <a:gd name="textAreaRight" fmla="*/ 1997280 w 1996920"/>
                        <a:gd name="textAreaTop" fmla="*/ 0 h 505440"/>
                        <a:gd name="textAreaBottom" fmla="*/ 505800 h 505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Freeform 102"/>
                    <p:cNvSpPr/>
                    <p:nvPr/>
                  </p:nvSpPr>
                  <p:spPr>
                    <a:xfrm rot="4260000">
                      <a:off x="5868720" y="4740120"/>
                      <a:ext cx="1071000" cy="794880"/>
                    </a:xfrm>
                    <a:custGeom>
                      <a:avLst/>
                      <a:gdLst>
                        <a:gd name="textAreaLeft" fmla="*/ 0 w 1071000"/>
                        <a:gd name="textAreaRight" fmla="*/ 1071360 w 1071000"/>
                        <a:gd name="textAreaTop" fmla="*/ 0 h 794880"/>
                        <a:gd name="textAreaBottom" fmla="*/ 795240 h 794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Group 103"/>
                  <p:cNvGrpSpPr/>
                  <p:nvPr/>
                </p:nvGrpSpPr>
                <p:grpSpPr>
                  <a:xfrm>
                    <a:off x="5435640" y="2795760"/>
                    <a:ext cx="850680" cy="2837880"/>
                    <a:chOff x="5435640" y="2795760"/>
                    <a:chExt cx="850680" cy="2837880"/>
                  </a:xfrm>
                </p:grpSpPr>
                <p:sp>
                  <p:nvSpPr>
                    <p:cNvPr id="279" name="Freeform 104"/>
                    <p:cNvSpPr/>
                    <p:nvPr/>
                  </p:nvSpPr>
                  <p:spPr>
                    <a:xfrm rot="4920000">
                      <a:off x="4852440" y="3525120"/>
                      <a:ext cx="1839960" cy="421560"/>
                    </a:xfrm>
                    <a:custGeom>
                      <a:avLst/>
                      <a:gdLst>
                        <a:gd name="textAreaLeft" fmla="*/ 0 w 1839960"/>
                        <a:gd name="textAreaRight" fmla="*/ 1840320 w 1839960"/>
                        <a:gd name="textAreaTop" fmla="*/ 0 h 421560"/>
                        <a:gd name="textAreaBottom" fmla="*/ 421920 h 421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Freeform 105"/>
                    <p:cNvSpPr/>
                    <p:nvPr/>
                  </p:nvSpPr>
                  <p:spPr>
                    <a:xfrm rot="4920000">
                      <a:off x="5394960" y="4766400"/>
                      <a:ext cx="987480" cy="663480"/>
                    </a:xfrm>
                    <a:custGeom>
                      <a:avLst/>
                      <a:gdLst>
                        <a:gd name="textAreaLeft" fmla="*/ 0 w 987480"/>
                        <a:gd name="textAreaRight" fmla="*/ 987840 w 987480"/>
                        <a:gd name="textAreaTop" fmla="*/ 0 h 663480"/>
                        <a:gd name="textAreaBottom" fmla="*/ 663840 h 663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Group 106"/>
                  <p:cNvGrpSpPr/>
                  <p:nvPr/>
                </p:nvGrpSpPr>
                <p:grpSpPr>
                  <a:xfrm>
                    <a:off x="4949640" y="2875320"/>
                    <a:ext cx="788400" cy="2748240"/>
                    <a:chOff x="4949640" y="2875320"/>
                    <a:chExt cx="788400" cy="2748240"/>
                  </a:xfrm>
                </p:grpSpPr>
                <p:sp>
                  <p:nvSpPr>
                    <p:cNvPr id="282" name="Freeform 107"/>
                    <p:cNvSpPr/>
                    <p:nvPr/>
                  </p:nvSpPr>
                  <p:spPr>
                    <a:xfrm rot="5760000">
                      <a:off x="4605120" y="3631320"/>
                      <a:ext cx="1785600" cy="294840"/>
                    </a:xfrm>
                    <a:custGeom>
                      <a:avLst/>
                      <a:gdLst>
                        <a:gd name="textAreaLeft" fmla="*/ 0 w 1785600"/>
                        <a:gd name="textAreaRight" fmla="*/ 1785960 w 1785600"/>
                        <a:gd name="textAreaTop" fmla="*/ 0 h 294840"/>
                        <a:gd name="textAreaBottom" fmla="*/ 295200 h 29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Freeform 108"/>
                    <p:cNvSpPr/>
                    <p:nvPr/>
                  </p:nvSpPr>
                  <p:spPr>
                    <a:xfrm rot="5760000">
                      <a:off x="4751640" y="4890960"/>
                      <a:ext cx="957600" cy="464040"/>
                    </a:xfrm>
                    <a:custGeom>
                      <a:avLst/>
                      <a:gdLst>
                        <a:gd name="textAreaLeft" fmla="*/ 0 w 957600"/>
                        <a:gd name="textAreaRight" fmla="*/ 957960 w 957600"/>
                        <a:gd name="textAreaTop" fmla="*/ 0 h 464040"/>
                        <a:gd name="textAreaBottom" fmla="*/ 464400 h 464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09"/>
              <p:cNvGrpSpPr/>
              <p:nvPr/>
            </p:nvGrpSpPr>
            <p:grpSpPr>
              <a:xfrm>
                <a:off x="2173320" y="682560"/>
                <a:ext cx="6732720" cy="4519800"/>
                <a:chOff x="2173320" y="682560"/>
                <a:chExt cx="6732720" cy="4519800"/>
              </a:xfrm>
            </p:grpSpPr>
            <p:grpSp>
              <p:nvGrpSpPr>
                <p:cNvPr id="285" name="Group 110"/>
                <p:cNvGrpSpPr/>
                <p:nvPr/>
              </p:nvGrpSpPr>
              <p:grpSpPr>
                <a:xfrm>
                  <a:off x="2173320" y="682560"/>
                  <a:ext cx="6732720" cy="4519800"/>
                  <a:chOff x="2173320" y="682560"/>
                  <a:chExt cx="6732720" cy="4519800"/>
                </a:xfrm>
              </p:grpSpPr>
              <p:sp>
                <p:nvSpPr>
                  <p:cNvPr id="286" name="Freeform 111"/>
                  <p:cNvSpPr/>
                  <p:nvPr/>
                </p:nvSpPr>
                <p:spPr>
                  <a:xfrm flipV="1">
                    <a:off x="5742000" y="858600"/>
                    <a:ext cx="3164040" cy="2520720"/>
                  </a:xfrm>
                  <a:custGeom>
                    <a:avLst/>
                    <a:gdLst>
                      <a:gd name="textAreaLeft" fmla="*/ 0 w 3164040"/>
                      <a:gd name="textAreaRight" fmla="*/ 3164400 w 3164040"/>
                      <a:gd name="textAreaTop" fmla="*/ 360 h 2520720"/>
                      <a:gd name="textAreaBottom" fmla="*/ 2521440 h 25207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Freeform 112"/>
                  <p:cNvSpPr/>
                  <p:nvPr/>
                </p:nvSpPr>
                <p:spPr>
                  <a:xfrm flipH="1">
                    <a:off x="2562120" y="2270160"/>
                    <a:ext cx="2484720" cy="2932200"/>
                  </a:xfrm>
                  <a:custGeom>
                    <a:avLst/>
                    <a:gdLst>
                      <a:gd name="textAreaLeft" fmla="*/ 360 w 2484720"/>
                      <a:gd name="textAreaRight" fmla="*/ 2485440 w 2484720"/>
                      <a:gd name="textAreaTop" fmla="*/ 0 h 2932200"/>
                      <a:gd name="textAreaBottom" fmla="*/ 2932560 h 293220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Freeform 113"/>
                  <p:cNvSpPr/>
                  <p:nvPr/>
                </p:nvSpPr>
                <p:spPr>
                  <a:xfrm>
                    <a:off x="5819760" y="1752480"/>
                    <a:ext cx="1757520" cy="2932200"/>
                  </a:xfrm>
                  <a:custGeom>
                    <a:avLst/>
                    <a:gdLst>
                      <a:gd name="textAreaLeft" fmla="*/ 0 w 1757520"/>
                      <a:gd name="textAreaRight" fmla="*/ 1757880 w 1757520"/>
                      <a:gd name="textAreaTop" fmla="*/ 0 h 2932200"/>
                      <a:gd name="textAreaBottom" fmla="*/ 2932560 h 293220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Freeform 114"/>
                  <p:cNvSpPr/>
                  <p:nvPr/>
                </p:nvSpPr>
                <p:spPr>
                  <a:xfrm flipH="1">
                    <a:off x="2173320" y="1298520"/>
                    <a:ext cx="3130560" cy="2932200"/>
                  </a:xfrm>
                  <a:custGeom>
                    <a:avLst/>
                    <a:gdLst>
                      <a:gd name="textAreaLeft" fmla="*/ 360 w 3130560"/>
                      <a:gd name="textAreaRight" fmla="*/ 3131280 w 3130560"/>
                      <a:gd name="textAreaTop" fmla="*/ 0 h 2932200"/>
                      <a:gd name="textAreaBottom" fmla="*/ 2932560 h 293220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Freeform 115"/>
                  <p:cNvSpPr/>
                  <p:nvPr/>
                </p:nvSpPr>
                <p:spPr>
                  <a:xfrm flipH="1">
                    <a:off x="3059280" y="682560"/>
                    <a:ext cx="2279520" cy="2838600"/>
                  </a:xfrm>
                  <a:custGeom>
                    <a:avLst/>
                    <a:gdLst>
                      <a:gd name="textAreaLeft" fmla="*/ 360 w 2279520"/>
                      <a:gd name="textAreaRight" fmla="*/ 2280240 w 2279520"/>
                      <a:gd name="textAreaTop" fmla="*/ 0 h 2838600"/>
                      <a:gd name="textAreaBottom" fmla="*/ 2838960 h 283860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Freeform 116"/>
                  <p:cNvSpPr/>
                  <p:nvPr/>
                </p:nvSpPr>
                <p:spPr>
                  <a:xfrm>
                    <a:off x="5491080" y="1876320"/>
                    <a:ext cx="939960" cy="2838600"/>
                  </a:xfrm>
                  <a:custGeom>
                    <a:avLst/>
                    <a:gdLst>
                      <a:gd name="textAreaLeft" fmla="*/ 0 w 939960"/>
                      <a:gd name="textAreaRight" fmla="*/ 940320 w 939960"/>
                      <a:gd name="textAreaTop" fmla="*/ 0 h 2838600"/>
                      <a:gd name="textAreaBottom" fmla="*/ 2838960 h 283860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Freeform 117"/>
                  <p:cNvSpPr/>
                  <p:nvPr/>
                </p:nvSpPr>
                <p:spPr>
                  <a:xfrm flipH="1">
                    <a:off x="4303080" y="836640"/>
                    <a:ext cx="514440" cy="1878120"/>
                  </a:xfrm>
                  <a:custGeom>
                    <a:avLst/>
                    <a:gdLst>
                      <a:gd name="textAreaLeft" fmla="*/ -360 w 514440"/>
                      <a:gd name="textAreaRight" fmla="*/ 514440 w 514440"/>
                      <a:gd name="textAreaTop" fmla="*/ 0 h 1878120"/>
                      <a:gd name="textAreaBottom" fmla="*/ 1878480 h 187812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Freeform 118"/>
                <p:cNvSpPr/>
                <p:nvPr/>
              </p:nvSpPr>
              <p:spPr>
                <a:xfrm rot="20220000">
                  <a:off x="6127920" y="2206440"/>
                  <a:ext cx="542880" cy="1029960"/>
                </a:xfrm>
                <a:custGeom>
                  <a:avLst/>
                  <a:gdLst>
                    <a:gd name="textAreaLeft" fmla="*/ 0 w 542880"/>
                    <a:gd name="textAreaRight" fmla="*/ 543240 w 542880"/>
                    <a:gd name="textAreaTop" fmla="*/ 0 h 1029960"/>
                    <a:gd name="textAreaBottom" fmla="*/ 1030320 h 10299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Group 119"/>
            <p:cNvGrpSpPr/>
            <p:nvPr/>
          </p:nvGrpSpPr>
          <p:grpSpPr>
            <a:xfrm>
              <a:off x="2343240" y="714240"/>
              <a:ext cx="6410160" cy="4707000"/>
              <a:chOff x="2343240" y="714240"/>
              <a:chExt cx="6410160" cy="4707000"/>
            </a:xfrm>
          </p:grpSpPr>
          <p:sp>
            <p:nvSpPr>
              <p:cNvPr id="295" name="Freeform 120"/>
              <p:cNvSpPr/>
              <p:nvPr/>
            </p:nvSpPr>
            <p:spPr>
              <a:xfrm flipH="1">
                <a:off x="4470480" y="3236760"/>
                <a:ext cx="596880" cy="1822680"/>
              </a:xfrm>
              <a:custGeom>
                <a:avLst/>
                <a:gdLst>
                  <a:gd name="textAreaLeft" fmla="*/ 360 w 596880"/>
                  <a:gd name="textAreaRight" fmla="*/ 597600 w 596880"/>
                  <a:gd name="textAreaTop" fmla="*/ 0 h 1822680"/>
                  <a:gd name="textAreaBottom" fmla="*/ 1823040 h 1822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Freeform 121"/>
              <p:cNvSpPr/>
              <p:nvPr/>
            </p:nvSpPr>
            <p:spPr>
              <a:xfrm flipH="1">
                <a:off x="3385440" y="2581200"/>
                <a:ext cx="2616120" cy="2840040"/>
              </a:xfrm>
              <a:custGeom>
                <a:avLst/>
                <a:gdLst>
                  <a:gd name="textAreaLeft" fmla="*/ -360 w 2616120"/>
                  <a:gd name="textAreaRight" fmla="*/ 2616120 w 2616120"/>
                  <a:gd name="textAreaTop" fmla="*/ 0 h 2840040"/>
                  <a:gd name="textAreaBottom" fmla="*/ 2840400 h 284004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Freeform 122"/>
              <p:cNvSpPr/>
              <p:nvPr/>
            </p:nvSpPr>
            <p:spPr>
              <a:xfrm flipH="1">
                <a:off x="3646440" y="2124000"/>
                <a:ext cx="1533600" cy="29322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2200"/>
                  <a:gd name="textAreaBottom" fmla="*/ 2932560 h 29322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Freeform 123"/>
              <p:cNvSpPr/>
              <p:nvPr/>
            </p:nvSpPr>
            <p:spPr>
              <a:xfrm flipH="1">
                <a:off x="2343240" y="1739880"/>
                <a:ext cx="2928960" cy="2932200"/>
              </a:xfrm>
              <a:custGeom>
                <a:avLst/>
                <a:gdLst>
                  <a:gd name="textAreaLeft" fmla="*/ 360 w 2928960"/>
                  <a:gd name="textAreaRight" fmla="*/ 2929680 w 2928960"/>
                  <a:gd name="textAreaTop" fmla="*/ 0 h 2932200"/>
                  <a:gd name="textAreaBottom" fmla="*/ 2932560 h 29322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Freeform 124"/>
              <p:cNvSpPr/>
              <p:nvPr/>
            </p:nvSpPr>
            <p:spPr>
              <a:xfrm>
                <a:off x="5587920" y="2152800"/>
                <a:ext cx="468360" cy="2931840"/>
              </a:xfrm>
              <a:custGeom>
                <a:avLst/>
                <a:gdLst>
                  <a:gd name="textAreaLeft" fmla="*/ 0 w 468360"/>
                  <a:gd name="textAreaRight" fmla="*/ 468720 w 468360"/>
                  <a:gd name="textAreaTop" fmla="*/ 0 h 2931840"/>
                  <a:gd name="textAreaBottom" fmla="*/ 2932200 h 293184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Freeform 125"/>
              <p:cNvSpPr/>
              <p:nvPr/>
            </p:nvSpPr>
            <p:spPr>
              <a:xfrm>
                <a:off x="5711760" y="2138400"/>
                <a:ext cx="1236600" cy="2932200"/>
              </a:xfrm>
              <a:custGeom>
                <a:avLst/>
                <a:gdLst>
                  <a:gd name="textAreaLeft" fmla="*/ 0 w 1236600"/>
                  <a:gd name="textAreaRight" fmla="*/ 1236960 w 1236600"/>
                  <a:gd name="textAreaTop" fmla="*/ 0 h 2932200"/>
                  <a:gd name="textAreaBottom" fmla="*/ 2932560 h 29322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Freeform 126"/>
              <p:cNvSpPr/>
              <p:nvPr/>
            </p:nvSpPr>
            <p:spPr>
              <a:xfrm>
                <a:off x="6156360" y="3548160"/>
                <a:ext cx="596880" cy="1822320"/>
              </a:xfrm>
              <a:custGeom>
                <a:avLst/>
                <a:gdLst>
                  <a:gd name="textAreaLeft" fmla="*/ 0 w 596880"/>
                  <a:gd name="textAreaRight" fmla="*/ 597240 w 596880"/>
                  <a:gd name="textAreaTop" fmla="*/ 0 h 1822320"/>
                  <a:gd name="textAreaBottom" fmla="*/ 1822680 h 1822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Freeform 127"/>
              <p:cNvSpPr/>
              <p:nvPr/>
            </p:nvSpPr>
            <p:spPr>
              <a:xfrm flipV="1" rot="19680000">
                <a:off x="5226120" y="2948040"/>
                <a:ext cx="542880" cy="10303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1030320"/>
                  <a:gd name="textAreaBottom" fmla="*/ 1030320 h 1030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Freeform 128"/>
              <p:cNvSpPr/>
              <p:nvPr/>
            </p:nvSpPr>
            <p:spPr>
              <a:xfrm flipH="1">
                <a:off x="2687040" y="3386160"/>
                <a:ext cx="1336680" cy="1878120"/>
              </a:xfrm>
              <a:custGeom>
                <a:avLst/>
                <a:gdLst>
                  <a:gd name="textAreaLeft" fmla="*/ -360 w 1336680"/>
                  <a:gd name="textAreaRight" fmla="*/ 1336680 w 1336680"/>
                  <a:gd name="textAreaTop" fmla="*/ 0 h 1878120"/>
                  <a:gd name="textAreaBottom" fmla="*/ 1878480 h 1878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Freeform 129"/>
              <p:cNvSpPr/>
              <p:nvPr/>
            </p:nvSpPr>
            <p:spPr>
              <a:xfrm flipH="1">
                <a:off x="3318840" y="1400040"/>
                <a:ext cx="857160" cy="1878120"/>
              </a:xfrm>
              <a:custGeom>
                <a:avLst/>
                <a:gdLst>
                  <a:gd name="textAreaLeft" fmla="*/ -360 w 857160"/>
                  <a:gd name="textAreaRight" fmla="*/ 857160 w 857160"/>
                  <a:gd name="textAreaTop" fmla="*/ 0 h 1878120"/>
                  <a:gd name="textAreaBottom" fmla="*/ 1878480 h 1878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Freeform 130"/>
              <p:cNvSpPr/>
              <p:nvPr/>
            </p:nvSpPr>
            <p:spPr>
              <a:xfrm>
                <a:off x="7513560" y="3110040"/>
                <a:ext cx="1239840" cy="1973160"/>
              </a:xfrm>
              <a:custGeom>
                <a:avLst/>
                <a:gdLst>
                  <a:gd name="textAreaLeft" fmla="*/ 0 w 1239840"/>
                  <a:gd name="textAreaRight" fmla="*/ 1240200 w 1239840"/>
                  <a:gd name="textAreaTop" fmla="*/ 0 h 1973160"/>
                  <a:gd name="textAreaBottom" fmla="*/ 1973520 h 19731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Freeform 131"/>
              <p:cNvSpPr/>
              <p:nvPr/>
            </p:nvSpPr>
            <p:spPr>
              <a:xfrm>
                <a:off x="6869160" y="2111400"/>
                <a:ext cx="1870200" cy="1314360"/>
              </a:xfrm>
              <a:custGeom>
                <a:avLst/>
                <a:gdLst>
                  <a:gd name="textAreaLeft" fmla="*/ 0 w 1870200"/>
                  <a:gd name="textAreaRight" fmla="*/ 1870560 w 1870200"/>
                  <a:gd name="textAreaTop" fmla="*/ 0 h 1314360"/>
                  <a:gd name="textAreaBottom" fmla="*/ 1314720 h 13143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Freeform 132"/>
              <p:cNvSpPr/>
              <p:nvPr/>
            </p:nvSpPr>
            <p:spPr>
              <a:xfrm>
                <a:off x="6937200" y="714240"/>
                <a:ext cx="816120" cy="1766880"/>
              </a:xfrm>
              <a:custGeom>
                <a:avLst/>
                <a:gdLst>
                  <a:gd name="textAreaLeft" fmla="*/ 0 w 816120"/>
                  <a:gd name="textAreaRight" fmla="*/ 816480 w 816120"/>
                  <a:gd name="textAreaTop" fmla="*/ 0 h 1766880"/>
                  <a:gd name="textAreaBottom" fmla="*/ 1767240 h 1766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Freeform 133"/>
              <p:cNvSpPr/>
              <p:nvPr/>
            </p:nvSpPr>
            <p:spPr>
              <a:xfrm flipH="1" rot="1380000">
                <a:off x="4182840" y="2180880"/>
                <a:ext cx="542880" cy="102996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29960"/>
                  <a:gd name="textAreaBottom" fmla="*/ 1030320 h 10299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468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Text Box 13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1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8795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B6EF0F4-30FC-4CE9-A4FA-D4CB5A8F0602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vkontakte.ru/away.php?to=http%3A%2F%2Ftalisman.sochi2014.com%22%20%5Ct%20%22_blank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vkontakte.ru/away.php?to=http%3A%2F%2Ftalisman.sochi2014.com%22%20%5Ct%20%22_blank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vkontakte.ru/away.php?to=http%3A%2F%2Ftalisman.sochi2014.com%22%20%5Ct%20%22_blank" TargetMode="Externa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http://talisman.sochi2014.com/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1"/>
          <p:cNvSpPr txBox="1"/>
          <p:nvPr/>
        </p:nvSpPr>
        <p:spPr>
          <a:xfrm>
            <a:off x="1116000" y="1979640"/>
            <a:ext cx="6840720" cy="27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6648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ОЛИМПИЙСКИЕ ИГРЫ</a:t>
            </a:r>
            <a:endParaRPr b="0" lang="en-US" sz="2400" spc="1" strike="noStrike">
              <a:ln w="108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В ДРЕВНЕЙ ГРЕЦИИ</a:t>
            </a:r>
            <a:endParaRPr b="0" lang="en-US" sz="2400" spc="1" strike="noStrike">
              <a:ln w="108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WordArt 2"/>
          <p:cNvSpPr txBox="1"/>
          <p:nvPr/>
        </p:nvSpPr>
        <p:spPr>
          <a:xfrm>
            <a:off x="1440000" y="3959280"/>
            <a:ext cx="6119640" cy="90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6650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современ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1260360" y="5400720"/>
            <a:ext cx="702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e6e6ff"/>
                </a:solidFill>
                <a:latin typeface="Arial"/>
              </a:rPr>
              <a:t>учитель физической культуры МБОУ «Школа 62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e6e6ff"/>
                </a:solidFill>
                <a:latin typeface="Arial"/>
              </a:rPr>
              <a:t>Лебедева Евгения Валерье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539640" y="539640"/>
            <a:ext cx="5472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Times New Roman"/>
              </a:rPr>
              <a:t>Награды победителя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539640" y="1619280"/>
            <a:ext cx="696924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Главной наградой победителю Олимпийских игр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служил венок из оливковых ветвей. Их срезал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золотым ритуальным ножом со старого дерева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которое , как считалось , посадил Герак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Кроме венка победитель получал пальмовую ветв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Имя атлета высекалось на мраморных колоннах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которые устанавливали вдоль реки Алфей в Олимп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Олимпионик , победивший в состязаниях трижды 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получал право поставить в Олимпии свою стату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Жители города, в котором жил победитель, одаривал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его дорогими подарками, освобождали от налогов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назначали пожизненную пенсию, предоставляли бесплатное место в театр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Возвращение победителя  к себе на Родину превращалось 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подлинно триумфальное шеств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Первым победителем Олимпийских игр был бегун Корэб из Элиды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9" name="Group 6"/>
          <p:cNvGrpSpPr/>
          <p:nvPr/>
        </p:nvGrpSpPr>
        <p:grpSpPr>
          <a:xfrm>
            <a:off x="6008760" y="3060720"/>
            <a:ext cx="2628720" cy="1617480"/>
            <a:chOff x="6008760" y="3060720"/>
            <a:chExt cx="2628720" cy="1617480"/>
          </a:xfrm>
        </p:grpSpPr>
        <p:pic>
          <p:nvPicPr>
            <p:cNvPr id="400" name="Picture 7" descr=""/>
            <p:cNvPicPr/>
            <p:nvPr/>
          </p:nvPicPr>
          <p:blipFill>
            <a:blip r:embed="rId1"/>
            <a:stretch/>
          </p:blipFill>
          <p:spPr>
            <a:xfrm>
              <a:off x="6008760" y="3060720"/>
              <a:ext cx="262872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Text Box 8"/>
            <p:cNvSpPr/>
            <p:nvPr/>
          </p:nvSpPr>
          <p:spPr>
            <a:xfrm>
              <a:off x="6008760" y="3060720"/>
              <a:ext cx="262872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685800" y="720720"/>
            <a:ext cx="77724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древней Греции игры проводились 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293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с 776г.до н.э   по     394 г.н.э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лимпийские игры были отменены римским императором 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Феодосием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в 394 г. н.э.,который принял свод законов по борьбе с язычеств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оружения и храмы  Олимпии были разруше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tabLst>
                <a:tab algn="l" pos="0"/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198360" y="179280"/>
            <a:ext cx="8621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Задание 2. Вставить пропущенные слова в текст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лимпийские игры”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360360" y="1260360"/>
            <a:ext cx="809928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ервые Олимпийские игры состоялись в _______    году до н.э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Они посвящались богу  _______        Со всех концов Греции спешил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люди на великолепное зрелище, которое проводилось только раз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________       года. Проводились Олимпийские игры в ________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о время игр запрещалось _________    Виновные в нарушении прави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латили большой штраф. Атлеты должны были предварительно записаться в списки участников и тренироваться окол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года у себя на родине и еще месяц в ____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Рабов, чужеземцев и _____           на игр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е допускали. Празднества продолжались____ дне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 стадионе состязались в пятиборь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 ипподроме – в_______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качестве награды они получали _________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граждение проходило перед храмом Зевса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где находилась знаменитая статуя работы Фиди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ризнанная одним из _______чудес свет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360360" y="720720"/>
            <a:ext cx="7738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Образец выполненного зад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360360" y="1781280"/>
            <a:ext cx="845964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ервые Олимпийские игры состоялись в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776 году до </a:t>
            </a:r>
            <a:r>
              <a:rPr b="0" i="1" lang="ru-RU" sz="2000" spc="-1" strike="noStrike" u="sng">
                <a:solidFill>
                  <a:srgbClr val="00ff00"/>
                </a:solidFill>
                <a:uFillTx/>
                <a:latin typeface="Times New Roman"/>
              </a:rPr>
              <a:t>н.э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Они посвящались богу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Зевсу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Со всех концов Греции спешили люди на великолепное зрелище, которое проводилось только раз в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четыре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года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Проводились Олимпийские игры в Олимпии. Во время игр запрещалось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воевать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Виновные в нарушении правил платили большой штраф. Атлеты должны были предварительно записаться в списки участников и тренироваться около года у себя на родине и ещ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месяц в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Олимпии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Рабов, чужеземцев и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женщин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 игры не допускали. Празднества продолжалис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пять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дней. На стадионе состязались в пятиборь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 ипподроме –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в гонках на колесницах</a:t>
            </a:r>
            <a:r>
              <a:rPr b="0" i="1" lang="ru-RU" sz="2000" spc="-1" strike="noStrike" u="sng">
                <a:solidFill>
                  <a:srgbClr val="00ff00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качестве награды они получали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оливковый венок</a:t>
            </a:r>
            <a:r>
              <a:rPr b="0" i="1" lang="ru-RU" sz="2000" spc="-1" strike="noStrike" u="sng">
                <a:solidFill>
                  <a:srgbClr val="00ff00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граждение проходило перед храмом Зевса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где находилась знаменитая статуя работ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Фидия, признанная одним из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семи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 чудес свет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360360" y="374760"/>
            <a:ext cx="82803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imes New Roman"/>
              </a:rPr>
              <a:t>Возрождение Олимпийског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33cc"/>
                </a:solidFill>
                <a:latin typeface="Times New Roman"/>
              </a:rPr>
              <a:t>дви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442800" y="1943280"/>
            <a:ext cx="2797200" cy="381600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3"/>
          <p:cNvSpPr/>
          <p:nvPr/>
        </p:nvSpPr>
        <p:spPr>
          <a:xfrm>
            <a:off x="3959280" y="1979640"/>
            <a:ext cx="4859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Французский историк, литератор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педагог , общественно-политический деятель;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Основатель современного олимпийского движения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29 лет он был бессменным президентом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международного олимпийского комитета (МОК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В 1912 г. написал  гимн «Ода спорту»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который состоит из 9 гла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Первые современные Олимпийские игры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состоялись  по его инициативе в 1896 году  в Афина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В состязаниях участвовало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241 спортсмен – только мужчин из  четырнадцати  стран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646200" y="5950080"/>
            <a:ext cx="223344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Times New Roman"/>
              </a:rPr>
              <a:t>Пьер де Куберте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Times New Roman"/>
              </a:rPr>
              <a:t>01. 01.1863 - 02.09.193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539640" y="720720"/>
            <a:ext cx="7740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33cc"/>
                </a:solidFill>
                <a:latin typeface="Verdana"/>
              </a:rPr>
              <a:t>Олимпийский девиз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690480" y="2160720"/>
            <a:ext cx="802332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ff00"/>
                </a:solidFill>
                <a:latin typeface="Times New Roman"/>
              </a:rPr>
              <a:t>«</a:t>
            </a:r>
            <a:r>
              <a:rPr b="1" i="1" lang="en-US" sz="2600" spc="-1" strike="noStrike">
                <a:solidFill>
                  <a:srgbClr val="00ff00"/>
                </a:solidFill>
                <a:latin typeface="Times New Roman"/>
              </a:rPr>
              <a:t>Citius</a:t>
            </a:r>
            <a:r>
              <a:rPr b="1" i="1" lang="ru-RU" sz="2600" spc="-1" strike="noStrike">
                <a:solidFill>
                  <a:srgbClr val="00ff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ff00"/>
                </a:solidFill>
                <a:latin typeface="Times New Roman"/>
              </a:rPr>
              <a:t>altius</a:t>
            </a:r>
            <a:r>
              <a:rPr b="1" i="1" lang="ru-RU" sz="2600" spc="-1" strike="noStrike">
                <a:solidFill>
                  <a:srgbClr val="00ff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ff00"/>
                </a:solidFill>
                <a:latin typeface="Times New Roman"/>
              </a:rPr>
              <a:t>fortius</a:t>
            </a:r>
            <a:r>
              <a:rPr b="1" i="1" lang="ru-RU" sz="2600" spc="-1" strike="noStrike">
                <a:solidFill>
                  <a:srgbClr val="00ff00"/>
                </a:solidFill>
                <a:latin typeface="Times New Roman"/>
              </a:rPr>
              <a:t>»</a:t>
            </a:r>
            <a:r>
              <a:rPr b="0" i="1" lang="ru-RU" sz="26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(в переводе с латинского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ff00"/>
                </a:solidFill>
                <a:latin typeface="Times New Roman"/>
              </a:rPr>
              <a:t>«Быстрее, выше, сильнее»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выражает устремления олимпийского движения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Автором девиза был </a:t>
            </a:r>
            <a:r>
              <a:rPr b="0" i="1" lang="ru-RU" sz="2600" spc="-1" strike="noStrike">
                <a:solidFill>
                  <a:srgbClr val="00ff00"/>
                </a:solidFill>
                <a:latin typeface="Times New Roman"/>
              </a:rPr>
              <a:t>священник Дидон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 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директор одного из колледжей Франции.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477720" y="539640"/>
            <a:ext cx="56419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imes New Roman"/>
              </a:rPr>
              <a:t>Олимпийская эмбле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539640" y="1800360"/>
            <a:ext cx="488484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Переплетенные кольц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символизируют объединен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в Олимпийское движен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пять континен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979640" y="3790800"/>
          <a:ext cx="5904000" cy="306720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</a:tblGrid>
              <a:tr h="511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ЦВЕТА ОЛИМПИЙСКИХ КОЛЕ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Си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вро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Чер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ф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Крас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Желт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з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Зеле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встрал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7" name="Text Box 15"/>
          <p:cNvSpPr/>
          <p:nvPr/>
        </p:nvSpPr>
        <p:spPr>
          <a:xfrm>
            <a:off x="179280" y="593568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" name="Picture 16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94624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360360" y="1079640"/>
            <a:ext cx="8099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йский фла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360360" y="2139840"/>
            <a:ext cx="5265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На белом атласном полотнищ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изображен олимпийский символ- пя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разноцветных переплетенных колец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Белый фон флага, на котор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расположены кольца, дополняе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идею содружества всех бе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исключения наций Земл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Впервые флаг на Олимпийски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играх был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поднят в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1920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год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1" name="Group 3"/>
          <p:cNvGrpSpPr/>
          <p:nvPr/>
        </p:nvGrpSpPr>
        <p:grpSpPr>
          <a:xfrm>
            <a:off x="4965840" y="3959280"/>
            <a:ext cx="3852720" cy="2295360"/>
            <a:chOff x="4965840" y="3959280"/>
            <a:chExt cx="3852720" cy="2295360"/>
          </a:xfrm>
        </p:grpSpPr>
        <p:pic>
          <p:nvPicPr>
            <p:cNvPr id="422" name="Picture 4" descr=""/>
            <p:cNvPicPr/>
            <p:nvPr/>
          </p:nvPicPr>
          <p:blipFill>
            <a:blip r:embed="rId1"/>
            <a:stretch/>
          </p:blipFill>
          <p:spPr>
            <a:xfrm>
              <a:off x="4965840" y="3959280"/>
              <a:ext cx="385272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 Box 5"/>
            <p:cNvSpPr/>
            <p:nvPr/>
          </p:nvSpPr>
          <p:spPr>
            <a:xfrm>
              <a:off x="4965840" y="3959280"/>
              <a:ext cx="3852720" cy="22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539640" y="720720"/>
            <a:ext cx="79200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йский огон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360360" y="1619280"/>
            <a:ext cx="5040360" cy="53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Зажжение олимпийского    огня-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один из главных ритуалов на торжественной церемонии открытия  игр, зажжению предшествует факельная эстафета,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берущая начало в Греци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Впервые церемония зажжения олимпийского огня  была проведена  на играх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200" spc="-1" strike="noStrike">
                <a:solidFill>
                  <a:srgbClr val="00ff00"/>
                </a:solidFill>
                <a:latin typeface="Times New Roman"/>
              </a:rPr>
              <a:t>Х</a:t>
            </a:r>
            <a:r>
              <a:rPr b="0" lang="en-US" sz="2200" spc="-1" strike="noStrike">
                <a:solidFill>
                  <a:srgbClr val="00ff00"/>
                </a:solidFill>
                <a:latin typeface="Times New Roman"/>
              </a:rPr>
              <a:t>I</a:t>
            </a:r>
            <a:r>
              <a:rPr b="0" i="1" lang="ru-RU" sz="2200" spc="-1" strike="noStrike">
                <a:solidFill>
                  <a:srgbClr val="00ff00"/>
                </a:solidFill>
                <a:latin typeface="Times New Roman"/>
              </a:rPr>
              <a:t> Олимпиады  1928 г</a:t>
            </a: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. в Амстердаме    и  на зимних играх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в </a:t>
            </a:r>
            <a:r>
              <a:rPr b="0" i="1" lang="ru-RU" sz="2200" spc="-1" strike="noStrike">
                <a:solidFill>
                  <a:srgbClr val="00ff00"/>
                </a:solidFill>
                <a:latin typeface="Times New Roman"/>
              </a:rPr>
              <a:t>1952 г</a:t>
            </a: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. в Осло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Олимпийский огонь горит непрерывно в течение Игр и гасится на церемонии закрыт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6480000" y="4319640"/>
            <a:ext cx="201636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344520" y="720720"/>
            <a:ext cx="84754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Талисман Олимпийских иг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360360" y="2160720"/>
            <a:ext cx="43196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Обычно талисманом объявляют изображение какого-либо животного , популярного в стране, проводящей Олимпийские игр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а летних играх 1968 г. в Мехико талисманом был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ягуар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Талисманом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монреальской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Олимпиады-76 был симпатичный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бобёр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Московской Олимпиады-80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бурый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медвежонок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Миш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1346400" cy="1871640"/>
          </a:xfrm>
          <a:prstGeom prst="rect">
            <a:avLst/>
          </a:prstGeom>
          <a:ln w="0">
            <a:noFill/>
          </a:ln>
        </p:spPr>
      </p:pic>
      <p:grpSp>
        <p:nvGrpSpPr>
          <p:cNvPr id="430" name="Group 4"/>
          <p:cNvGrpSpPr/>
          <p:nvPr/>
        </p:nvGrpSpPr>
        <p:grpSpPr>
          <a:xfrm>
            <a:off x="6659640" y="2060640"/>
            <a:ext cx="1484280" cy="1942920"/>
            <a:chOff x="6659640" y="2060640"/>
            <a:chExt cx="1484280" cy="1942920"/>
          </a:xfrm>
        </p:grpSpPr>
        <p:pic>
          <p:nvPicPr>
            <p:cNvPr id="431" name="Picture 5" descr=""/>
            <p:cNvPicPr/>
            <p:nvPr/>
          </p:nvPicPr>
          <p:blipFill>
            <a:blip r:embed="rId2"/>
            <a:stretch/>
          </p:blipFill>
          <p:spPr>
            <a:xfrm>
              <a:off x="6659640" y="2060640"/>
              <a:ext cx="14842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6"/>
            <p:cNvSpPr/>
            <p:nvPr/>
          </p:nvSpPr>
          <p:spPr>
            <a:xfrm>
              <a:off x="6659640" y="2060640"/>
              <a:ext cx="148428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33" name="Picture 7" descr=""/>
          <p:cNvPicPr/>
          <p:nvPr/>
        </p:nvPicPr>
        <p:blipFill>
          <a:blip r:embed="rId3"/>
          <a:stretch/>
        </p:blipFill>
        <p:spPr>
          <a:xfrm>
            <a:off x="4643280" y="4292640"/>
            <a:ext cx="1441440" cy="1800360"/>
          </a:xfrm>
          <a:prstGeom prst="rect">
            <a:avLst/>
          </a:prstGeom>
          <a:ln w="0">
            <a:noFill/>
          </a:ln>
        </p:spPr>
      </p:pic>
      <p:grpSp>
        <p:nvGrpSpPr>
          <p:cNvPr id="434" name="Group 8"/>
          <p:cNvGrpSpPr/>
          <p:nvPr/>
        </p:nvGrpSpPr>
        <p:grpSpPr>
          <a:xfrm>
            <a:off x="6588000" y="4292640"/>
            <a:ext cx="1540080" cy="1798560"/>
            <a:chOff x="6588000" y="4292640"/>
            <a:chExt cx="1540080" cy="1798560"/>
          </a:xfrm>
        </p:grpSpPr>
        <p:pic>
          <p:nvPicPr>
            <p:cNvPr id="435" name="Picture 9" descr=""/>
            <p:cNvPicPr/>
            <p:nvPr/>
          </p:nvPicPr>
          <p:blipFill>
            <a:blip r:embed="rId4"/>
            <a:stretch/>
          </p:blipFill>
          <p:spPr>
            <a:xfrm>
              <a:off x="6588000" y="4292640"/>
              <a:ext cx="15400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Text Box 10"/>
            <p:cNvSpPr/>
            <p:nvPr/>
          </p:nvSpPr>
          <p:spPr>
            <a:xfrm>
              <a:off x="6588000" y="4292640"/>
              <a:ext cx="154008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539640" y="360360"/>
            <a:ext cx="774072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539640" y="3051000"/>
            <a:ext cx="486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50920" y="257040"/>
          <a:ext cx="8424720" cy="6600960"/>
        </p:xfrm>
        <a:graphic>
          <a:graphicData uri="http://schemas.openxmlformats.org/drawingml/2006/table">
            <a:tbl>
              <a:tblPr/>
              <a:tblGrid>
                <a:gridCol w="2806560"/>
                <a:gridCol w="2809800"/>
                <a:gridCol w="2808360"/>
              </a:tblGrid>
              <a:tr h="153612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427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427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493560" y="720720"/>
            <a:ext cx="76075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imes New Roman"/>
              </a:rPr>
              <a:t>Олимпийские награ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2"/>
          <p:cNvSpPr/>
          <p:nvPr/>
        </p:nvSpPr>
        <p:spPr>
          <a:xfrm>
            <a:off x="179280" y="1800360"/>
            <a:ext cx="4500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лимпийские чемпионы современнос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за победу в Олимпийских играх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олучают олимпийские меда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(золотые , серебряные и бронзовы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imes New Roman"/>
              </a:rPr>
              <a:t>Победа в Олимпийских игра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imes New Roman"/>
              </a:rPr>
              <a:t>считается самым больши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imes New Roman"/>
              </a:rPr>
              <a:t>спортивным достижением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4680000" y="2541600"/>
            <a:ext cx="4167000" cy="3755880"/>
            <a:chOff x="4680000" y="2541600"/>
            <a:chExt cx="4167000" cy="3755880"/>
          </a:xfrm>
        </p:grpSpPr>
        <p:pic>
          <p:nvPicPr>
            <p:cNvPr id="440" name="Picture 4" descr=""/>
            <p:cNvPicPr/>
            <p:nvPr/>
          </p:nvPicPr>
          <p:blipFill>
            <a:blip r:embed="rId1"/>
            <a:stretch/>
          </p:blipFill>
          <p:spPr>
            <a:xfrm>
              <a:off x="4680000" y="2541600"/>
              <a:ext cx="4167000" cy="37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Text Box 5"/>
            <p:cNvSpPr/>
            <p:nvPr/>
          </p:nvSpPr>
          <p:spPr>
            <a:xfrm>
              <a:off x="4680000" y="2541600"/>
              <a:ext cx="4167000" cy="37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263520" y="679320"/>
            <a:ext cx="83772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I Российские олимпийц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3" name="Group 2"/>
          <p:cNvGrpSpPr/>
          <p:nvPr/>
        </p:nvGrpSpPr>
        <p:grpSpPr>
          <a:xfrm>
            <a:off x="5157720" y="1981080"/>
            <a:ext cx="2787840" cy="4113360"/>
            <a:chOff x="5157720" y="1981080"/>
            <a:chExt cx="2787840" cy="4113360"/>
          </a:xfrm>
        </p:grpSpPr>
        <p:pic>
          <p:nvPicPr>
            <p:cNvPr id="444" name="Picture 3" descr=""/>
            <p:cNvPicPr/>
            <p:nvPr/>
          </p:nvPicPr>
          <p:blipFill>
            <a:blip r:embed="rId1"/>
            <a:stretch/>
          </p:blipFill>
          <p:spPr>
            <a:xfrm>
              <a:off x="5157720" y="1981080"/>
              <a:ext cx="2787840" cy="41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Text Box 4"/>
            <p:cNvSpPr/>
            <p:nvPr/>
          </p:nvSpPr>
          <p:spPr>
            <a:xfrm>
              <a:off x="5157720" y="1981080"/>
              <a:ext cx="278784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Text Box 5"/>
          <p:cNvSpPr/>
          <p:nvPr/>
        </p:nvSpPr>
        <p:spPr>
          <a:xfrm>
            <a:off x="179280" y="1800360"/>
            <a:ext cx="395928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Спортсмены из России впервые приняли участие 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1908 г. в 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V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Олимпийских играх.</a:t>
            </a:r>
            <a:r>
              <a:rPr b="0" i="1" lang="ru-RU" sz="20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Команда состояла из 5 человек, но , несмотря на малочисленность, они завоевали одну золотую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(фигурист Н.Панин-Коломенкин)</a:t>
            </a:r>
            <a:r>
              <a:rPr b="0" i="1" lang="ru-RU" sz="20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две серебряные меда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( борцы Н.Орлов и А.Петро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Гордость Российского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спор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3429000" y="2925720"/>
            <a:ext cx="16858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9" name="Picture 3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2087640" cy="187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826920" y="4500720"/>
          <a:ext cx="1873440" cy="2016000"/>
        </p:xfrm>
        <a:graphic>
          <a:graphicData uri="http://schemas.openxmlformats.org/drawingml/2006/table">
            <a:tbl>
              <a:tblPr/>
              <a:tblGrid>
                <a:gridCol w="1873440"/>
              </a:tblGrid>
              <a:tr h="2016000"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Владислав Третья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рёхкрат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лимпий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чемпион п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хокке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1" name="Picture 6" descr=""/>
          <p:cNvPicPr/>
          <p:nvPr/>
        </p:nvPicPr>
        <p:blipFill>
          <a:blip r:embed="rId2"/>
          <a:stretch/>
        </p:blipFill>
        <p:spPr>
          <a:xfrm>
            <a:off x="3564000" y="2276640"/>
            <a:ext cx="2171520" cy="194436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7"/>
          <p:cNvSpPr/>
          <p:nvPr/>
        </p:nvSpPr>
        <p:spPr>
          <a:xfrm>
            <a:off x="3784320" y="4295880"/>
            <a:ext cx="173700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Ири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Роднин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трёхкратн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лимпийск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чемпион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по фигурном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кат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6372360" y="4002120"/>
            <a:ext cx="2016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Александ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Карел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четырехкратны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лимпийски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чемпио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п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греко-римск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борьб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9"/>
          <p:cNvSpPr/>
          <p:nvPr/>
        </p:nvSpPr>
        <p:spPr>
          <a:xfrm>
            <a:off x="3639960" y="24382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5" name="Picture 10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2124000" cy="189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539640" y="189000"/>
            <a:ext cx="828036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Гордость Тульского спор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360360" y="1800360"/>
            <a:ext cx="431964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талья Садова, заслуженный мастер спорта, бронзовый призер Игр XXVI Олимпиады (1996) и чемпионата Европы (1998), четырехкратный победитель чемпионатов России (1995, 1997, 1999, 2000) и неоднократный обладатель Кубков Европы (1995, 1997—1999), бронзовый призер чемпионата мира (199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263520" y="977760"/>
            <a:ext cx="67849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дова Наталья Ивановна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гкая атлетика, метание дис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9" name="Рисунок 5" descr="natalia_sadova_poster.jpg"/>
          <p:cNvPicPr/>
          <p:nvPr/>
        </p:nvPicPr>
        <p:blipFill>
          <a:blip r:embed="rId1"/>
          <a:stretch/>
        </p:blipFill>
        <p:spPr>
          <a:xfrm>
            <a:off x="5219640" y="2133720"/>
            <a:ext cx="3024360" cy="3341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йские  виды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спор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1752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Летние Олимпийские  виды спорта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сегодня включают в себя - 29 дисципли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(легкая атлета,бокс, борьба ,конный спорт,футбол, и  т.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imes New Roman"/>
              </a:rPr>
              <a:t>Зимние Олимпийские виды спорт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imes New Roman"/>
              </a:rPr>
              <a:t>включают в себя -7 дисципл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imes New Roman"/>
              </a:rPr>
              <a:t>(биатлон, бобслей, конькобежный спорт, кёрлинг, лыжный спорт, санный спорт, хоккей  с шайбо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родолжительность современных Олимпийских игр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летних игр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-15 дней, </a:t>
            </a:r>
            <a:r>
              <a:rPr b="0" lang="ru-RU" sz="2400" spc="-1" strike="noStrike">
                <a:solidFill>
                  <a:srgbClr val="00ccff"/>
                </a:solidFill>
                <a:latin typeface="Times New Roman"/>
              </a:rPr>
              <a:t>зимних-10 дней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324000" y="360360"/>
            <a:ext cx="795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Современное пятиборь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539640" y="1851120"/>
            <a:ext cx="30607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Виды  пятиборь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Стрельба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Фехтовани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Плавание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Верховая езд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Бег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Современно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пятиборь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проходи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за один де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4" name="Group 3"/>
          <p:cNvGrpSpPr/>
          <p:nvPr/>
        </p:nvGrpSpPr>
        <p:grpSpPr>
          <a:xfrm>
            <a:off x="4057560" y="2411280"/>
            <a:ext cx="1160640" cy="1366920"/>
            <a:chOff x="4057560" y="2411280"/>
            <a:chExt cx="1160640" cy="1366920"/>
          </a:xfrm>
        </p:grpSpPr>
        <p:pic>
          <p:nvPicPr>
            <p:cNvPr id="465" name="Picture 4" descr=""/>
            <p:cNvPicPr/>
            <p:nvPr/>
          </p:nvPicPr>
          <p:blipFill>
            <a:blip r:embed="rId1"/>
            <a:stretch/>
          </p:blipFill>
          <p:spPr>
            <a:xfrm>
              <a:off x="4057560" y="2411280"/>
              <a:ext cx="116064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5"/>
            <p:cNvSpPr/>
            <p:nvPr/>
          </p:nvSpPr>
          <p:spPr>
            <a:xfrm>
              <a:off x="4057560" y="2411280"/>
              <a:ext cx="1160640" cy="13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7" name="Group 6"/>
          <p:cNvGrpSpPr/>
          <p:nvPr/>
        </p:nvGrpSpPr>
        <p:grpSpPr>
          <a:xfrm>
            <a:off x="5580000" y="1619280"/>
            <a:ext cx="1978200" cy="1798560"/>
            <a:chOff x="5580000" y="1619280"/>
            <a:chExt cx="1978200" cy="1798560"/>
          </a:xfrm>
        </p:grpSpPr>
        <p:pic>
          <p:nvPicPr>
            <p:cNvPr id="468" name="Picture 7" descr=""/>
            <p:cNvPicPr/>
            <p:nvPr/>
          </p:nvPicPr>
          <p:blipFill>
            <a:blip r:embed="rId2"/>
            <a:stretch/>
          </p:blipFill>
          <p:spPr>
            <a:xfrm>
              <a:off x="5580000" y="1619280"/>
              <a:ext cx="19782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Text Box 8"/>
            <p:cNvSpPr/>
            <p:nvPr/>
          </p:nvSpPr>
          <p:spPr>
            <a:xfrm>
              <a:off x="5580000" y="1619280"/>
              <a:ext cx="197820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70" name="Picture 9" descr=""/>
          <p:cNvPicPr/>
          <p:nvPr/>
        </p:nvPicPr>
        <p:blipFill>
          <a:blip r:embed="rId3"/>
          <a:stretch/>
        </p:blipFill>
        <p:spPr>
          <a:xfrm>
            <a:off x="7740720" y="2565360"/>
            <a:ext cx="957240" cy="1440000"/>
          </a:xfrm>
          <a:prstGeom prst="rect">
            <a:avLst/>
          </a:prstGeom>
          <a:ln w="0">
            <a:noFill/>
          </a:ln>
        </p:spPr>
      </p:pic>
      <p:grpSp>
        <p:nvGrpSpPr>
          <p:cNvPr id="471" name="Group 10"/>
          <p:cNvGrpSpPr/>
          <p:nvPr/>
        </p:nvGrpSpPr>
        <p:grpSpPr>
          <a:xfrm>
            <a:off x="3419640" y="4140360"/>
            <a:ext cx="2157120" cy="1617480"/>
            <a:chOff x="3419640" y="4140360"/>
            <a:chExt cx="2157120" cy="1617480"/>
          </a:xfrm>
        </p:grpSpPr>
        <p:pic>
          <p:nvPicPr>
            <p:cNvPr id="472" name="Picture 11" descr=""/>
            <p:cNvPicPr/>
            <p:nvPr/>
          </p:nvPicPr>
          <p:blipFill>
            <a:blip r:embed="rId4"/>
            <a:stretch/>
          </p:blipFill>
          <p:spPr>
            <a:xfrm>
              <a:off x="3419640" y="4140360"/>
              <a:ext cx="215712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12"/>
            <p:cNvSpPr/>
            <p:nvPr/>
          </p:nvSpPr>
          <p:spPr>
            <a:xfrm>
              <a:off x="3419640" y="4140360"/>
              <a:ext cx="215712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Group 13"/>
          <p:cNvGrpSpPr/>
          <p:nvPr/>
        </p:nvGrpSpPr>
        <p:grpSpPr>
          <a:xfrm>
            <a:off x="6300720" y="4319640"/>
            <a:ext cx="1617840" cy="1798560"/>
            <a:chOff x="6300720" y="4319640"/>
            <a:chExt cx="1617840" cy="1798560"/>
          </a:xfrm>
        </p:grpSpPr>
        <p:pic>
          <p:nvPicPr>
            <p:cNvPr id="475" name="Picture 14" descr=""/>
            <p:cNvPicPr/>
            <p:nvPr/>
          </p:nvPicPr>
          <p:blipFill>
            <a:blip r:embed="rId5"/>
            <a:stretch/>
          </p:blipFill>
          <p:spPr>
            <a:xfrm>
              <a:off x="6300720" y="4319640"/>
              <a:ext cx="1617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15"/>
            <p:cNvSpPr/>
            <p:nvPr/>
          </p:nvSpPr>
          <p:spPr>
            <a:xfrm>
              <a:off x="6300720" y="4319640"/>
              <a:ext cx="161784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539640" y="498600"/>
            <a:ext cx="79200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ада-8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260280" y="1839960"/>
            <a:ext cx="859176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1980 г. в Москве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проходили игры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ХХ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I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летней Олимпиады  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США, ФРГ, Япония и Канада отказались принимать участие в играх, проходивших в Советском Союз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есмотря на это, в Играх приняли участие 5603 спортсмена из 81 стран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а играх  было зарегистрировано 36 мировых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76 олимпийских, 40 европейских рекорд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685800" y="1079640"/>
            <a:ext cx="777240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1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Девиз олимпиады </a:t>
            </a:r>
            <a:r>
              <a:rPr b="1" lang="ru-RU" sz="1600" spc="-1" strike="noStrike" u="sng">
                <a:solidFill>
                  <a:srgbClr val="ffff00"/>
                </a:solidFill>
                <a:uFillTx/>
                <a:latin typeface="Arial Black"/>
              </a:rPr>
              <a:t>"Один мир - одна мечта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Эмблема в виде бегущего человека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который выглядит как китайский иероглиф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означающий "столица"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" name="Group 2"/>
          <p:cNvGrpSpPr/>
          <p:nvPr/>
        </p:nvGrpSpPr>
        <p:grpSpPr>
          <a:xfrm>
            <a:off x="539640" y="2666880"/>
            <a:ext cx="2951280" cy="2011320"/>
            <a:chOff x="539640" y="2666880"/>
            <a:chExt cx="2951280" cy="2011320"/>
          </a:xfrm>
        </p:grpSpPr>
        <p:pic>
          <p:nvPicPr>
            <p:cNvPr id="481" name="Picture 3" descr=""/>
            <p:cNvPicPr/>
            <p:nvPr/>
          </p:nvPicPr>
          <p:blipFill>
            <a:blip r:embed="rId1"/>
            <a:stretch/>
          </p:blipFill>
          <p:spPr>
            <a:xfrm>
              <a:off x="539640" y="2666880"/>
              <a:ext cx="2951280" cy="2011320"/>
            </a:xfrm>
            <a:prstGeom prst="rect">
              <a:avLst/>
            </a:prstGeom>
            <a:ln w="19080">
              <a:solidFill>
                <a:srgbClr val="ffff00"/>
              </a:solidFill>
              <a:miter/>
            </a:ln>
          </p:spPr>
        </p:pic>
        <p:sp>
          <p:nvSpPr>
            <p:cNvPr id="482" name="Text Box 4"/>
            <p:cNvSpPr/>
            <p:nvPr/>
          </p:nvSpPr>
          <p:spPr>
            <a:xfrm>
              <a:off x="539640" y="2666880"/>
              <a:ext cx="295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3" name="Rectangle 5"/>
          <p:cNvSpPr/>
          <p:nvPr/>
        </p:nvSpPr>
        <p:spPr>
          <a:xfrm>
            <a:off x="1835280" y="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екин – столиц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ХХ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летняя олимпиада-20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4" name="Picture 6" descr=""/>
          <p:cNvPicPr/>
          <p:nvPr/>
        </p:nvPicPr>
        <p:blipFill>
          <a:blip r:embed="rId2"/>
          <a:stretch/>
        </p:blipFill>
        <p:spPr>
          <a:xfrm>
            <a:off x="5506920" y="2700360"/>
            <a:ext cx="2952720" cy="196992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485" name="Text Box 7"/>
          <p:cNvSpPr/>
          <p:nvPr/>
        </p:nvSpPr>
        <p:spPr>
          <a:xfrm>
            <a:off x="754920" y="5229360"/>
            <a:ext cx="699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У олимпиады в Пекине было  сразу пять талисманов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рыба, панда, дух олимпийского огн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тибетская антилопа и ласточк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"/>
          <p:cNvSpPr/>
          <p:nvPr/>
        </p:nvSpPr>
        <p:spPr>
          <a:xfrm>
            <a:off x="360360" y="1619280"/>
            <a:ext cx="44006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Летние Олимпийские игры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20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фициально называются - Игры XXX Олимпиады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ридцатые по счёту летние Олимпийские игры. Они пройдут в Лондоне, столице Великобритании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 27 июля по 12 августа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Лондон станет первым городом, который примет игры уже третий раз (до этого они проходили там в 1908 и 1948 годах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2"/>
          <p:cNvSpPr/>
          <p:nvPr/>
        </p:nvSpPr>
        <p:spPr>
          <a:xfrm>
            <a:off x="720720" y="623880"/>
            <a:ext cx="7559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ЕТНИЕ ОЛИМПИЙСКИЕ ИГ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0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8" name="Picture 3" descr=""/>
          <p:cNvPicPr/>
          <p:nvPr/>
        </p:nvPicPr>
        <p:blipFill>
          <a:blip r:embed="rId1"/>
          <a:stretch/>
        </p:blipFill>
        <p:spPr>
          <a:xfrm>
            <a:off x="5148360" y="2349360"/>
            <a:ext cx="3813120" cy="300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433440" y="318960"/>
            <a:ext cx="658656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Зимняя Олимпиад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в Сочи    2014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0" name="Group 2"/>
          <p:cNvGrpSpPr/>
          <p:nvPr/>
        </p:nvGrpSpPr>
        <p:grpSpPr>
          <a:xfrm>
            <a:off x="5580000" y="1258920"/>
            <a:ext cx="2638440" cy="1977840"/>
            <a:chOff x="5580000" y="1258920"/>
            <a:chExt cx="2638440" cy="1977840"/>
          </a:xfrm>
        </p:grpSpPr>
        <p:pic>
          <p:nvPicPr>
            <p:cNvPr id="491" name="Picture 3" descr=""/>
            <p:cNvPicPr/>
            <p:nvPr/>
          </p:nvPicPr>
          <p:blipFill>
            <a:blip r:embed="rId1"/>
            <a:stretch/>
          </p:blipFill>
          <p:spPr>
            <a:xfrm>
              <a:off x="5580000" y="1258920"/>
              <a:ext cx="2638440" cy="19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Text Box 4"/>
            <p:cNvSpPr/>
            <p:nvPr/>
          </p:nvSpPr>
          <p:spPr>
            <a:xfrm>
              <a:off x="5580000" y="1258920"/>
              <a:ext cx="2638440" cy="19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Text Box 5"/>
          <p:cNvSpPr/>
          <p:nvPr/>
        </p:nvSpPr>
        <p:spPr>
          <a:xfrm>
            <a:off x="728640" y="1979640"/>
            <a:ext cx="4311720" cy="33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Столицей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ХХ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I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зимних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Олимпийских игр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Х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Паралимпийских   зимних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игр 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2014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году выбран г.Соч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Период проведения с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7 по 23 февраля 2014 го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а проведение Олимпиады в Сочи будет выделено около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12 миллиардов долларов СШ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Picture 6" descr=""/>
          <p:cNvPicPr/>
          <p:nvPr/>
        </p:nvPicPr>
        <p:blipFill>
          <a:blip r:embed="rId2"/>
          <a:stretch/>
        </p:blipFill>
        <p:spPr>
          <a:xfrm>
            <a:off x="5076720" y="3573360"/>
            <a:ext cx="3305160" cy="2713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WordArt 1"/>
          <p:cNvSpPr txBox="1"/>
          <p:nvPr/>
        </p:nvSpPr>
        <p:spPr>
          <a:xfrm>
            <a:off x="539640" y="1619280"/>
            <a:ext cx="7380360" cy="273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4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017979" dir="18900860" blurRad="0" rotWithShape="0">
                    <a:srgbClr val="94bd5e">
                      <a:alpha val="60000"/>
                    </a:srgbClr>
                  </a:outerShdw>
                </a:effectLst>
                <a:latin typeface="Times New Roman"/>
              </a:rPr>
              <a:t>ПЕРВЫЕ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017979" dir="18900860" blurRad="0" rotWithShape="0">
                  <a:srgbClr val="94bd5e">
                    <a:alpha val="6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017979" dir="18900860" blurRad="0" rotWithShape="0">
                    <a:srgbClr val="94bd5e">
                      <a:alpha val="60000"/>
                    </a:srgbClr>
                  </a:outerShdw>
                </a:effectLst>
                <a:latin typeface="Times New Roman"/>
              </a:rPr>
              <a:t>ОЛИМПИЙСКИЕ ИГРЫ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017979" dir="18900860" blurRad="0" rotWithShape="0">
                  <a:srgbClr val="94bd5e">
                    <a:alpha val="6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1"/>
          <p:cNvSpPr/>
          <p:nvPr/>
        </p:nvSpPr>
        <p:spPr>
          <a:xfrm>
            <a:off x="392040" y="539640"/>
            <a:ext cx="859788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Талисманы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XXII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Олимпийских зимних игр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(7 - 23 февраля)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360360" y="360360"/>
            <a:ext cx="540216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еопард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алисман-Сочи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тактная и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род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еб-сайт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talisman.sochi2014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ичная и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ятельность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лисман Олимпийских игр в Сочи 2014 го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терес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лимпийские и Паралимпийские игры, спорт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обенно сноуборд, танцы, общение с друзья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имая музык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 Гимн Игр в "Сочи 2014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имые телешоу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"Талисмания. Сочи 2014. Начало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"Талисмания. Сочи 2014. Финал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с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м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Заснеженные горы Кавказа С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2"/>
          <a:stretch/>
        </p:blipFill>
        <p:spPr>
          <a:xfrm>
            <a:off x="6745320" y="539640"/>
            <a:ext cx="171432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179280" y="345960"/>
            <a:ext cx="635004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йк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алисман-Со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тактная и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род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еб-сайт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talisman.sochi2014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ичная информац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ятельность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фициальный талисман Олимпийских игр "Сочи 2014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терес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лимпийские игры в Сочи, конькобежный спорт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г на лыжах, фигурное катание, кухня для эстет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ко-мода, интересные рецепты, пение, танцы, кулинар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имая музык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мн Игр "Сочи 2014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ст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сторан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Лесная Запруда, c 2011 г. С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7105680" y="720720"/>
            <a:ext cx="171432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360360" y="417600"/>
            <a:ext cx="673740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Белый-Мишк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алисман-Сочи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тактная информац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род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еб-сайт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talisman.sochi2014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ичная информац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терес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лимпийские Игры в Сочи, Олимпиада'80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лимпийский Мишка'80, Красная Поляна, Роза Хутор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ькобежный спорт, керлинг, бобслей, Интернет-серфинг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ые сети, ме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имая музык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мн Игр "Сочи 2014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имые книг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История Олимпийских игр: от Афин до Китая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ст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портивный клуб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асная Поляна, c 2011 г. С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2"/>
          <a:stretch/>
        </p:blipFill>
        <p:spPr>
          <a:xfrm>
            <a:off x="6926400" y="720720"/>
            <a:ext cx="171432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" descr=""/>
          <p:cNvPicPr/>
          <p:nvPr/>
        </p:nvPicPr>
        <p:blipFill>
          <a:blip r:embed="rId1"/>
          <a:stretch/>
        </p:blipFill>
        <p:spPr>
          <a:xfrm>
            <a:off x="7020000" y="360360"/>
            <a:ext cx="1714320" cy="51436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2"/>
          <p:cNvSpPr/>
          <p:nvPr/>
        </p:nvSpPr>
        <p:spPr>
          <a:xfrm>
            <a:off x="360360" y="360360"/>
            <a:ext cx="61196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учик-И-Снежин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лисманы-Соч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тактная информ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род: С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еб-сайт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talisman.sochi2014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Личная информация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ятельность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лисманы XI зимних Паралимпийских Игр 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чи в 2014 год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терес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ы вместе с Лучиком придумали абсолютн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вые для землян виды спорта - керлинг 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ясках и следж-хоккей на льду!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имые телешоу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"Талисмания. Сочи 2014. Финал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имые цитаты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"Невозможного не существует!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1"/>
          <p:cNvSpPr/>
          <p:nvPr/>
        </p:nvSpPr>
        <p:spPr>
          <a:xfrm>
            <a:off x="2879640" y="360360"/>
            <a:ext cx="540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Задание на ур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Text Box 2"/>
          <p:cNvSpPr/>
          <p:nvPr/>
        </p:nvSpPr>
        <p:spPr>
          <a:xfrm>
            <a:off x="539640" y="3051000"/>
            <a:ext cx="486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98400" y="179280"/>
          <a:ext cx="7581960" cy="6600960"/>
        </p:xfrm>
        <a:graphic>
          <a:graphicData uri="http://schemas.openxmlformats.org/drawingml/2006/table">
            <a:tbl>
              <a:tblPr/>
              <a:tblGrid>
                <a:gridCol w="2525760"/>
                <a:gridCol w="2529000"/>
                <a:gridCol w="2527200"/>
              </a:tblGrid>
              <a:tr h="153612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427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427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07" name="Group 19"/>
          <p:cNvGrpSpPr/>
          <p:nvPr/>
        </p:nvGrpSpPr>
        <p:grpSpPr>
          <a:xfrm>
            <a:off x="371520" y="485640"/>
            <a:ext cx="1427040" cy="1132200"/>
            <a:chOff x="371520" y="485640"/>
            <a:chExt cx="1427040" cy="1132200"/>
          </a:xfrm>
        </p:grpSpPr>
        <p:pic>
          <p:nvPicPr>
            <p:cNvPr id="508" name="Picture 20" descr=""/>
            <p:cNvPicPr/>
            <p:nvPr/>
          </p:nvPicPr>
          <p:blipFill>
            <a:blip r:embed="rId1"/>
            <a:stretch/>
          </p:blipFill>
          <p:spPr>
            <a:xfrm>
              <a:off x="371520" y="485640"/>
              <a:ext cx="1427040" cy="11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Text Box 21"/>
            <p:cNvSpPr/>
            <p:nvPr/>
          </p:nvSpPr>
          <p:spPr>
            <a:xfrm>
              <a:off x="371520" y="485640"/>
              <a:ext cx="1427040" cy="11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heel spokes="8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250920" y="0"/>
          <a:ext cx="8373960" cy="6440400"/>
        </p:xfrm>
        <a:graphic>
          <a:graphicData uri="http://schemas.openxmlformats.org/drawingml/2006/table">
            <a:tbl>
              <a:tblPr/>
              <a:tblGrid>
                <a:gridCol w="2506680"/>
                <a:gridCol w="2933640"/>
                <a:gridCol w="2933640"/>
              </a:tblGrid>
              <a:tr h="137556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79280" y="0"/>
          <a:ext cx="8402760" cy="6477120"/>
        </p:xfrm>
        <a:graphic>
          <a:graphicData uri="http://schemas.openxmlformats.org/drawingml/2006/table">
            <a:tbl>
              <a:tblPr/>
              <a:tblGrid>
                <a:gridCol w="2514600"/>
                <a:gridCol w="2944800"/>
                <a:gridCol w="2943360"/>
              </a:tblGrid>
              <a:tr h="138420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33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296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33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33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250920" y="189000"/>
          <a:ext cx="8373960" cy="6440400"/>
        </p:xfrm>
        <a:graphic>
          <a:graphicData uri="http://schemas.openxmlformats.org/drawingml/2006/table">
            <a:tbl>
              <a:tblPr/>
              <a:tblGrid>
                <a:gridCol w="2506680"/>
                <a:gridCol w="2933640"/>
                <a:gridCol w="2933640"/>
              </a:tblGrid>
              <a:tr h="137592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179280" y="189000"/>
          <a:ext cx="8374320" cy="6440400"/>
        </p:xfrm>
        <a:graphic>
          <a:graphicData uri="http://schemas.openxmlformats.org/drawingml/2006/table">
            <a:tbl>
              <a:tblPr/>
              <a:tblGrid>
                <a:gridCol w="2506680"/>
                <a:gridCol w="2933640"/>
                <a:gridCol w="2934000"/>
              </a:tblGrid>
              <a:tr h="137592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 летних игр -15 дней, а зимних-10 дн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" descr=""/>
          <p:cNvPicPr/>
          <p:nvPr/>
        </p:nvPicPr>
        <p:blipFill>
          <a:blip r:embed="rId1"/>
          <a:stretch/>
        </p:blipFill>
        <p:spPr>
          <a:xfrm>
            <a:off x="4788000" y="1052640"/>
            <a:ext cx="3133800" cy="399564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2"/>
          <p:cNvSpPr/>
          <p:nvPr/>
        </p:nvSpPr>
        <p:spPr>
          <a:xfrm>
            <a:off x="360360" y="360360"/>
            <a:ext cx="341964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«Все –в Олимпию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Священный мир объявлен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дороги безопасны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Да победят сильнейшие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аждые четыре года 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лимпии - древнем городе Греции , в области Элида 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елопоннесе проходи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лимпийские иг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ервые игры состоялись 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776 году до н.э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79280" y="0"/>
          <a:ext cx="8374320" cy="6440400"/>
        </p:xfrm>
        <a:graphic>
          <a:graphicData uri="http://schemas.openxmlformats.org/drawingml/2006/table">
            <a:tbl>
              <a:tblPr/>
              <a:tblGrid>
                <a:gridCol w="2506680"/>
                <a:gridCol w="2933640"/>
                <a:gridCol w="2934000"/>
              </a:tblGrid>
              <a:tr h="137556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 летних игр -15 дней, а зимних-10 дн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250920" y="0"/>
          <a:ext cx="8373960" cy="6440400"/>
        </p:xfrm>
        <a:graphic>
          <a:graphicData uri="http://schemas.openxmlformats.org/drawingml/2006/table">
            <a:tbl>
              <a:tblPr/>
              <a:tblGrid>
                <a:gridCol w="2506680"/>
                <a:gridCol w="2933640"/>
                <a:gridCol w="2933640"/>
              </a:tblGrid>
              <a:tr h="137556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 летних игр -15 дней, а зимних-10 дн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о решению М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712800" y="179280"/>
          <a:ext cx="8369280" cy="7118280"/>
        </p:xfrm>
        <a:graphic>
          <a:graphicData uri="http://schemas.openxmlformats.org/drawingml/2006/table">
            <a:tbl>
              <a:tblPr/>
              <a:tblGrid>
                <a:gridCol w="2505240"/>
                <a:gridCol w="2931840"/>
                <a:gridCol w="2932200"/>
              </a:tblGrid>
              <a:tr h="137628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48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 летних игр -15 дней, а зимних-10 дн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о решению М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328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.Прекращались вой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2.Участвовали только греки –мужчин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3.Победитель награждался оливковым венком, пальмовой ветвь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4.В перерывах между состязаниями выступали поэты и музыкант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4" name="Picture 18" descr=""/>
          <p:cNvPicPr/>
          <p:nvPr/>
        </p:nvPicPr>
        <p:blipFill>
          <a:blip r:embed="rId1"/>
          <a:stretch/>
        </p:blipFill>
        <p:spPr>
          <a:xfrm>
            <a:off x="297000" y="53964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0" y="-260280"/>
          <a:ext cx="8373960" cy="7118280"/>
        </p:xfrm>
        <a:graphic>
          <a:graphicData uri="http://schemas.openxmlformats.org/drawingml/2006/table">
            <a:tbl>
              <a:tblPr/>
              <a:tblGrid>
                <a:gridCol w="2506680"/>
                <a:gridCol w="2933640"/>
                <a:gridCol w="2933640"/>
              </a:tblGrid>
              <a:tr h="137592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48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 летних игр -15 дней, а зимних-10 дн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о решению М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36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.Прекращались вой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2.Участвовали только греки –мужчин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3.Победитель награждался оливковым венком, пальмовой ветвь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4.В перерывах между состязаниями выступали поэты и музыкант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.Не соблюд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2.Участвуют  мужчины и женщин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3.Победители получают золотые, серебряные и бронзовые медал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4.Большая культурная программ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"/>
          <p:cNvGrpSpPr/>
          <p:nvPr/>
        </p:nvGrpSpPr>
        <p:grpSpPr>
          <a:xfrm>
            <a:off x="1116000" y="1916280"/>
            <a:ext cx="6657840" cy="3643200"/>
            <a:chOff x="1116000" y="1916280"/>
            <a:chExt cx="6657840" cy="3643200"/>
          </a:xfrm>
        </p:grpSpPr>
        <p:pic>
          <p:nvPicPr>
            <p:cNvPr id="360" name="Picture 2" descr=""/>
            <p:cNvPicPr/>
            <p:nvPr/>
          </p:nvPicPr>
          <p:blipFill>
            <a:blip r:embed="rId1"/>
            <a:stretch/>
          </p:blipFill>
          <p:spPr>
            <a:xfrm>
              <a:off x="1116000" y="1916280"/>
              <a:ext cx="6657840" cy="36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Text Box 3"/>
            <p:cNvSpPr/>
            <p:nvPr/>
          </p:nvSpPr>
          <p:spPr>
            <a:xfrm>
              <a:off x="1116000" y="1916280"/>
              <a:ext cx="66578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2" name="Text Box 4"/>
          <p:cNvSpPr/>
          <p:nvPr/>
        </p:nvSpPr>
        <p:spPr>
          <a:xfrm>
            <a:off x="179280" y="331920"/>
            <a:ext cx="88203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ffff"/>
                </a:solidFill>
                <a:latin typeface="Times New Roman"/>
              </a:rPr>
              <a:t>На олимпийские игры приезжали жители не только из самой Греции, но и с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ffff"/>
                </a:solidFill>
                <a:latin typeface="Times New Roman"/>
              </a:rPr>
              <a:t>побережья Малой Азии, из Сицилии, Италии,Африки, отовсюду ,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ffff"/>
                </a:solidFill>
                <a:latin typeface="Times New Roman"/>
              </a:rPr>
              <a:t>где находились греческие города- колонии.  Игры посвящались  богу Зевсу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ffff"/>
                </a:solidFill>
                <a:latin typeface="Times New Roman"/>
              </a:rPr>
              <a:t>Все прибывшие в Олимпию считались «гостями Зевса»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ffff"/>
                </a:solidFill>
                <a:latin typeface="Times New Roman"/>
              </a:rPr>
              <a:t>и находились под его защитой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539640" y="720720"/>
            <a:ext cx="7740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Подготовка к игра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539640" y="2319480"/>
            <a:ext cx="7907400" cy="40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Почти за год до начала игр все участники обязаны были приступит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к тренировкам в своём родном город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10 месяцев подряд неустанно тренировались атлеты  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затем сдавали своеобразный экзамен судьям (элладоникам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Ровно за месяц до открытия игр им нужно было прибыть в Олимп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и продолжить подготовк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Участвовать в играх могли все свободные грек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Запрещалось участие женщин, варваров( лиц негреческого происхождения)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рабов. За нарушение запрета  их ждала смертная каз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690480" y="720720"/>
            <a:ext cx="77691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Я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ЕЗАБЫВАЕМЫХ ДН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539640" y="2519280"/>
            <a:ext cx="809784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Verdana"/>
              </a:rPr>
              <a:t>Первый ден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жертвоприношение богам,клятва судей, знакомств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участников  с судьями и друг с друг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Verdana"/>
              </a:rPr>
              <a:t>Последующие три дня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остязания атле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Verdana"/>
              </a:rPr>
              <a:t>Пятый ден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награждение победителей (олимпиоников) перед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храмом Зевс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7199280" y="4319640"/>
            <a:ext cx="1584360" cy="1873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Пятиборье (пентатлон)- главное состязание Олимпийских игр, которое состояло из соревнований по пяти видам спор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9" name="Group 2"/>
          <p:cNvGrpSpPr/>
          <p:nvPr/>
        </p:nvGrpSpPr>
        <p:grpSpPr>
          <a:xfrm>
            <a:off x="685800" y="1981080"/>
            <a:ext cx="7770960" cy="4113360"/>
            <a:chOff x="685800" y="1981080"/>
            <a:chExt cx="7770960" cy="4113360"/>
          </a:xfrm>
        </p:grpSpPr>
        <p:cxnSp>
          <p:nvCxnSpPr>
            <p:cNvPr id="370" name="AutoShape 3"/>
            <p:cNvCxnSpPr>
              <a:stCxn id="371" idx="0"/>
              <a:endCxn id="372" idx="0"/>
            </p:cNvCxnSpPr>
            <p:nvPr/>
          </p:nvCxnSpPr>
          <p:spPr>
            <a:xfrm rot="10800000">
              <a:off x="6563520" y="3228120"/>
              <a:ext cx="513720" cy="1324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3" name="AutoShape 4"/>
            <p:cNvCxnSpPr>
              <a:stCxn id="374" idx="0"/>
              <a:endCxn id="372" idx="2"/>
            </p:cNvCxnSpPr>
            <p:nvPr/>
          </p:nvCxnSpPr>
          <p:spPr>
            <a:xfrm flipV="1">
              <a:off x="6563880" y="4552560"/>
              <a:ext cx="1080" cy="513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5" name="AutoShape 5"/>
            <p:cNvCxnSpPr>
              <a:stCxn id="376" idx="0"/>
              <a:endCxn id="372" idx="2"/>
            </p:cNvCxnSpPr>
            <p:nvPr/>
          </p:nvCxnSpPr>
          <p:spPr>
            <a:xfrm flipV="1">
              <a:off x="5237280" y="4552560"/>
              <a:ext cx="1326240" cy="513360"/>
            </a:xfrm>
            <a:prstGeom prst="bentConnector3">
              <a:avLst>
                <a:gd name="adj1" fmla="val 499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7" name="AutoShape 6"/>
            <p:cNvCxnSpPr>
              <a:stCxn id="378" idx="0"/>
              <a:endCxn id="379" idx="2"/>
            </p:cNvCxnSpPr>
            <p:nvPr/>
          </p:nvCxnSpPr>
          <p:spPr>
            <a:xfrm rot="10800000">
              <a:off x="2580480" y="4552200"/>
              <a:ext cx="1324800" cy="513360"/>
            </a:xfrm>
            <a:prstGeom prst="bentConnector3">
              <a:avLst>
                <a:gd name="adj1" fmla="val 499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0" name="AutoShape 7"/>
            <p:cNvCxnSpPr>
              <a:stCxn id="381" idx="0"/>
              <a:endCxn id="379" idx="2"/>
            </p:cNvCxnSpPr>
            <p:nvPr/>
          </p:nvCxnSpPr>
          <p:spPr>
            <a:xfrm flipV="1">
              <a:off x="2580840" y="4552560"/>
              <a:ext cx="1080" cy="513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2" name="AutoShape 8"/>
            <p:cNvCxnSpPr>
              <a:stCxn id="383" idx="0"/>
              <a:endCxn id="379" idx="2"/>
            </p:cNvCxnSpPr>
            <p:nvPr/>
          </p:nvCxnSpPr>
          <p:spPr>
            <a:xfrm flipV="1">
              <a:off x="1255680" y="4552560"/>
              <a:ext cx="1326240" cy="513360"/>
            </a:xfrm>
            <a:prstGeom prst="bentConnector3">
              <a:avLst>
                <a:gd name="adj1" fmla="val 499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4" name="AutoShape 9"/>
            <p:cNvCxnSpPr>
              <a:stCxn id="372" idx="0"/>
              <a:endCxn id="385" idx="2"/>
            </p:cNvCxnSpPr>
            <p:nvPr/>
          </p:nvCxnSpPr>
          <p:spPr>
            <a:xfrm rot="10800000">
              <a:off x="3906000" y="3009240"/>
              <a:ext cx="2655000" cy="513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6" name="AutoShape 10"/>
            <p:cNvCxnSpPr>
              <a:stCxn id="387" idx="0"/>
              <a:endCxn id="385" idx="2"/>
            </p:cNvCxnSpPr>
            <p:nvPr/>
          </p:nvCxnSpPr>
          <p:spPr>
            <a:xfrm rot="10800000">
              <a:off x="3906000" y="3009240"/>
              <a:ext cx="1329480" cy="513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8" name="AutoShape 11"/>
            <p:cNvCxnSpPr>
              <a:stCxn id="389" idx="0"/>
              <a:endCxn id="385" idx="2"/>
            </p:cNvCxnSpPr>
            <p:nvPr/>
          </p:nvCxnSpPr>
          <p:spPr>
            <a:xfrm rot="10800000">
              <a:off x="3906000" y="3009240"/>
              <a:ext cx="1080" cy="513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0" name="AutoShape 12"/>
            <p:cNvCxnSpPr>
              <a:stCxn id="379" idx="0"/>
              <a:endCxn id="385" idx="2"/>
            </p:cNvCxnSpPr>
            <p:nvPr/>
          </p:nvCxnSpPr>
          <p:spPr>
            <a:xfrm flipV="1">
              <a:off x="2581200" y="3009600"/>
              <a:ext cx="1324800" cy="513360"/>
            </a:xfrm>
            <a:prstGeom prst="bentConnector3">
              <a:avLst>
                <a:gd name="adj1" fmla="val 499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1" name="AutoShape 13"/>
            <p:cNvCxnSpPr>
              <a:stCxn id="392" idx="0"/>
              <a:endCxn id="385" idx="2"/>
            </p:cNvCxnSpPr>
            <p:nvPr/>
          </p:nvCxnSpPr>
          <p:spPr>
            <a:xfrm flipV="1">
              <a:off x="1255680" y="3009600"/>
              <a:ext cx="2651760" cy="51336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85" name="AutoShape 14"/>
            <p:cNvSpPr/>
            <p:nvPr/>
          </p:nvSpPr>
          <p:spPr>
            <a:xfrm>
              <a:off x="3338640" y="1981080"/>
              <a:ext cx="11365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ятиборь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AutoShape 15"/>
            <p:cNvSpPr/>
            <p:nvPr/>
          </p:nvSpPr>
          <p:spPr>
            <a:xfrm>
              <a:off x="685800" y="3524400"/>
              <a:ext cx="11365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рыжки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 длину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AutoShape 16"/>
            <p:cNvSpPr/>
            <p:nvPr/>
          </p:nvSpPr>
          <p:spPr>
            <a:xfrm>
              <a:off x="2013120" y="3524400"/>
              <a:ext cx="11365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Бег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AutoShape 17"/>
            <p:cNvSpPr/>
            <p:nvPr/>
          </p:nvSpPr>
          <p:spPr>
            <a:xfrm>
              <a:off x="3340080" y="3524400"/>
              <a:ext cx="11365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Мета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иск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AutoShape 18"/>
            <p:cNvSpPr/>
            <p:nvPr/>
          </p:nvSpPr>
          <p:spPr>
            <a:xfrm>
              <a:off x="4668840" y="3524400"/>
              <a:ext cx="11365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Мета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копь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AutoShape 19"/>
            <p:cNvSpPr/>
            <p:nvPr/>
          </p:nvSpPr>
          <p:spPr>
            <a:xfrm>
              <a:off x="5996160" y="3524400"/>
              <a:ext cx="11347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Борьб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AutoShape 20"/>
            <p:cNvSpPr/>
            <p:nvPr/>
          </p:nvSpPr>
          <p:spPr>
            <a:xfrm>
              <a:off x="687240" y="5067360"/>
              <a:ext cx="113508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росто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AutoShape 21"/>
            <p:cNvSpPr/>
            <p:nvPr/>
          </p:nvSpPr>
          <p:spPr>
            <a:xfrm>
              <a:off x="2013120" y="5067360"/>
              <a:ext cx="11347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войно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AutoShape 22"/>
            <p:cNvSpPr/>
            <p:nvPr/>
          </p:nvSpPr>
          <p:spPr>
            <a:xfrm>
              <a:off x="3338640" y="5067360"/>
              <a:ext cx="11365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На длинную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истанци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AutoShape 23"/>
            <p:cNvSpPr/>
            <p:nvPr/>
          </p:nvSpPr>
          <p:spPr>
            <a:xfrm>
              <a:off x="4668840" y="5067360"/>
              <a:ext cx="113508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роста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AutoShape 24"/>
            <p:cNvSpPr/>
            <p:nvPr/>
          </p:nvSpPr>
          <p:spPr>
            <a:xfrm>
              <a:off x="5996160" y="5067360"/>
              <a:ext cx="11347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Кулачны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бо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AutoShape 25"/>
            <p:cNvSpPr/>
            <p:nvPr/>
          </p:nvSpPr>
          <p:spPr>
            <a:xfrm>
              <a:off x="7321680" y="5067360"/>
              <a:ext cx="113508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анкратион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Rectangle 31"/>
          <p:cNvSpPr/>
          <p:nvPr/>
        </p:nvSpPr>
        <p:spPr>
          <a:xfrm>
            <a:off x="1116000" y="6194520"/>
            <a:ext cx="6031080" cy="8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     </a:t>
            </a: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В Древней Греции пятиборье считалось венцом Олимпиады , а его победитель объявлялся главным олимпионико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" descr=""/>
          <p:cNvPicPr/>
          <p:nvPr/>
        </p:nvPicPr>
        <p:blipFill>
          <a:blip r:embed="rId1"/>
          <a:stretch/>
        </p:blipFill>
        <p:spPr>
          <a:xfrm>
            <a:off x="4859280" y="3054240"/>
            <a:ext cx="4140360" cy="270504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2"/>
          <p:cNvSpPr/>
          <p:nvPr/>
        </p:nvSpPr>
        <p:spPr>
          <a:xfrm>
            <a:off x="539640" y="539640"/>
            <a:ext cx="716940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Интерес зрителей на Олимпийских игра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также вызывали гонки колесниц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( колесницы должны 12 раз обогнуть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ипподром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ри этом владелец упряжки мог сам не управлять ею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 нанять возничего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360360" y="3240000"/>
            <a:ext cx="3240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37 Игр (632г.до н.э)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состязаниях ста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частвовать и юноши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возрасте до 20 лет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0:55:13Z</dcterms:created>
  <dc:creator>Comp1</dc:creator>
  <dc:description/>
  <dc:language>en-US</dc:language>
  <cp:lastModifiedBy>Евгения Лебедева</cp:lastModifiedBy>
  <dcterms:modified xsi:type="dcterms:W3CDTF">2017-09-08T16:25:54Z</dcterms:modified>
  <cp:revision>142</cp:revision>
  <dc:subject/>
  <dc:title>Слайд 1</dc:title>
</cp:coreProperties>
</file>