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C152-8DF1-4EDB-9DC2-15BA7EB9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B124-D138-4DA7-8B85-F4EFBACB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83F8-90CD-4F70-972B-99355055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1C36-2B9C-44D4-B9A6-8128C113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6868-DA48-4D77-8F6C-2E5450D6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1570-8509-43F1-9806-89D71B82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A5BD-D8DB-4407-9653-3EBEB75C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357A-3EBE-46AD-850B-065AD60D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4C7C-4F13-4BC6-8EBE-4066E36D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8ECE-40C5-4F1C-B34D-A6D92053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4DA2-71A3-4688-A72E-0715795B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FD9A-4C50-429C-9792-FA24F797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3984-E948-412F-AE59-90BC0F6F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6725-72E8-4FBA-856B-44C4547B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FCB7-2840-44F3-A99D-69DA1DB0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EE79-E8D5-4B71-BFE9-9374FED6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1331-3D75-4CE1-AF5A-A5BD2BA3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3AA0-75BC-4810-B49B-FD30160B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E99D-3FA5-4898-B667-43065A41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619C-B970-4950-962E-BFB1DD40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D640-A958-4859-94B8-31C87005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0FF5-98B3-469A-9A0C-95861081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3015-3920-4450-81E3-8AC55773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3675-FAB3-4CCD-BB8F-548B688A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c6cad"/>
                </a:gs>
                <a:gs pos="50000">
                  <a:srgbClr val="9280cc"/>
                </a:gs>
                <a:gs pos="100000">
                  <a:srgbClr val="7c6c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b"/>
                </a:gs>
                <a:gs pos="50000">
                  <a:srgbClr val="bd51a1"/>
                </a:gs>
                <a:gs pos="100000">
                  <a:srgbClr val="5725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6CD3-64CE-4037-AB04-A74DCD43B9A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c6cad"/>
                </a:gs>
                <a:gs pos="50000">
                  <a:srgbClr val="9280cc"/>
                </a:gs>
                <a:gs pos="100000">
                  <a:srgbClr val="7c6c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b"/>
                </a:gs>
                <a:gs pos="50000">
                  <a:srgbClr val="bd51a1"/>
                </a:gs>
                <a:gs pos="100000">
                  <a:srgbClr val="5725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AEC5-6851-4088-B387-EFDB016B615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1773360"/>
            <a:ext cx="6965640" cy="27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Bookman Old Style"/>
              </a:rPr>
              <a:t>Особенности природных условий в городе</a:t>
            </a:r>
            <a:endParaRPr b="0" lang="en-US" sz="4800" spc="-1" strike="noStrike">
              <a:solidFill>
                <a:srgbClr val="f4bc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81080" y="2636640"/>
            <a:ext cx="43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Goudy Old Style"/>
              </a:rPr>
              <a:t>Природные условия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Goudy Old Style"/>
              </a:rPr>
              <a:t>(микроклимат)</a:t>
            </a:r>
            <a:endParaRPr b="0" lang="en-US" sz="28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4067280" y="3716280"/>
            <a:ext cx="217440" cy="792360"/>
          </a:xfrm>
          <a:prstGeom prst="downArrow">
            <a:avLst>
              <a:gd name="adj1" fmla="val 50000"/>
              <a:gd name="adj2" fmla="val 91101"/>
            </a:avLst>
          </a:prstGeom>
          <a:solidFill>
            <a:srgbClr val="928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 rot="20400000">
            <a:off x="5651640" y="3645000"/>
            <a:ext cx="217440" cy="792000"/>
          </a:xfrm>
          <a:prstGeom prst="downArrow">
            <a:avLst>
              <a:gd name="adj1" fmla="val 50000"/>
              <a:gd name="adj2" fmla="val 91060"/>
            </a:avLst>
          </a:prstGeom>
          <a:solidFill>
            <a:srgbClr val="928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6"/>
          <p:cNvSpPr/>
          <p:nvPr/>
        </p:nvSpPr>
        <p:spPr>
          <a:xfrm rot="1200000">
            <a:off x="2484000" y="3644640"/>
            <a:ext cx="217440" cy="792000"/>
          </a:xfrm>
          <a:prstGeom prst="downArrow">
            <a:avLst>
              <a:gd name="adj1" fmla="val 50000"/>
              <a:gd name="adj2" fmla="val 91060"/>
            </a:avLst>
          </a:prstGeom>
          <a:solidFill>
            <a:srgbClr val="928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 rot="20400000">
            <a:off x="3132000" y="1989000"/>
            <a:ext cx="216000" cy="792360"/>
          </a:xfrm>
          <a:prstGeom prst="upArrow">
            <a:avLst>
              <a:gd name="adj1" fmla="val 50000"/>
              <a:gd name="adj2" fmla="val 91708"/>
            </a:avLst>
          </a:prstGeom>
          <a:solidFill>
            <a:srgbClr val="928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10"/>
          <p:cNvSpPr/>
          <p:nvPr/>
        </p:nvSpPr>
        <p:spPr>
          <a:xfrm rot="1200000">
            <a:off x="4932000" y="1989000"/>
            <a:ext cx="216000" cy="792360"/>
          </a:xfrm>
          <a:prstGeom prst="upArrow">
            <a:avLst>
              <a:gd name="adj1" fmla="val 50000"/>
              <a:gd name="adj2" fmla="val 91708"/>
            </a:avLst>
          </a:prstGeom>
          <a:solidFill>
            <a:srgbClr val="928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971640" y="112536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ографическое полож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5076720" y="4508640"/>
            <a:ext cx="26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еленые насаж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612720" y="4508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до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2843280" y="488808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назначение го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4427640" y="112536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енности клим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371520"/>
            <a:ext cx="7476840" cy="12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4bc40"/>
                </a:solidFill>
                <a:latin typeface="Bookman Old Style"/>
              </a:rPr>
              <a:t>По предназначению города бывают: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44600" y="1956960"/>
            <a:ext cx="560376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ород – столиц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ород – пор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ород – кур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ород – уче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мышленный го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5" descr="Z1000"/>
          <p:cNvPicPr/>
          <p:nvPr/>
        </p:nvPicPr>
        <p:blipFill>
          <a:blip r:embed="rId6"/>
          <a:stretch/>
        </p:blipFill>
        <p:spPr>
          <a:xfrm>
            <a:off x="6156360" y="1700280"/>
            <a:ext cx="1417680" cy="1417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BL14147"/>
          <p:cNvPicPr/>
          <p:nvPr/>
        </p:nvPicPr>
        <p:blipFill>
          <a:blip r:embed="rId7"/>
          <a:stretch/>
        </p:blipFill>
        <p:spPr>
          <a:xfrm>
            <a:off x="466560" y="48466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BL000100"/>
          <p:cNvPicPr/>
          <p:nvPr/>
        </p:nvPicPr>
        <p:blipFill>
          <a:blip r:embed="rId8"/>
          <a:stretch/>
        </p:blipFill>
        <p:spPr>
          <a:xfrm>
            <a:off x="3130560" y="4917960"/>
            <a:ext cx="1512720" cy="1513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RUSSIA"/>
          <p:cNvPicPr/>
          <p:nvPr/>
        </p:nvPicPr>
        <p:blipFill>
          <a:blip r:embed="rId9"/>
          <a:stretch/>
        </p:blipFill>
        <p:spPr>
          <a:xfrm>
            <a:off x="5724360" y="49197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2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4bc40"/>
                </a:solidFill>
                <a:latin typeface="Arial"/>
              </a:rPr>
              <a:t>Наш город – один из крупнейших промышленных центров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211" name="Picture 4" descr="DSCN4109"/>
          <p:cNvPicPr/>
          <p:nvPr/>
        </p:nvPicPr>
        <p:blipFill>
          <a:blip r:embed="rId1"/>
          <a:stretch/>
        </p:blipFill>
        <p:spPr>
          <a:xfrm>
            <a:off x="144360" y="386064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сканирование0001"/>
          <p:cNvPicPr/>
          <p:nvPr/>
        </p:nvPicPr>
        <p:blipFill>
          <a:blip r:embed="rId2"/>
          <a:stretch/>
        </p:blipFill>
        <p:spPr>
          <a:xfrm>
            <a:off x="2124000" y="242100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сканирование0004"/>
          <p:cNvPicPr/>
          <p:nvPr/>
        </p:nvPicPr>
        <p:blipFill>
          <a:blip r:embed="rId3"/>
          <a:stretch/>
        </p:blipFill>
        <p:spPr>
          <a:xfrm>
            <a:off x="5076720" y="1413000"/>
            <a:ext cx="381636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1280" y="36324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озяйственная деятельность человека приводит к загрязнению окружающего нас мира.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618920" y="2997000"/>
            <a:ext cx="61088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Загрязнен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это наличие в окружающей среде вредных веществ, снижающих качество среды с точки зрения проживания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5" descr="POINT2"/>
          <p:cNvPicPr/>
          <p:nvPr/>
        </p:nvPicPr>
        <p:blipFill>
          <a:blip r:embed="rId1"/>
          <a:stretch/>
        </p:blipFill>
        <p:spPr>
          <a:xfrm>
            <a:off x="250920" y="3068640"/>
            <a:ext cx="1368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7640" y="485640"/>
            <a:ext cx="482472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4bc40"/>
                </a:solidFill>
                <a:latin typeface="Arial"/>
              </a:rPr>
              <a:t>Загрязнения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18" name="AutoShape 4"/>
          <p:cNvSpPr/>
          <p:nvPr/>
        </p:nvSpPr>
        <p:spPr>
          <a:xfrm rot="1265400">
            <a:off x="1115640" y="620280"/>
            <a:ext cx="649440" cy="2016360"/>
          </a:xfrm>
          <a:custGeom>
            <a:avLst/>
            <a:gdLst>
              <a:gd name="textAreaLeft" fmla="*/ 86760 w 649440"/>
              <a:gd name="textAreaRight" fmla="*/ 562680 w 649440"/>
              <a:gd name="textAreaTop" fmla="*/ 352800 h 2016360"/>
              <a:gd name="textAreaBottom" fmla="*/ 146196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28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 flipH="1" rot="20117400">
            <a:off x="6228720" y="606600"/>
            <a:ext cx="647640" cy="2016000"/>
          </a:xfrm>
          <a:custGeom>
            <a:avLst/>
            <a:gdLst>
              <a:gd name="textAreaLeft" fmla="*/ 86760 w 647640"/>
              <a:gd name="textAreaRight" fmla="*/ 560880 w 647640"/>
              <a:gd name="textAreaTop" fmla="*/ 352800 h 2016000"/>
              <a:gd name="textAreaBottom" fmla="*/ 146160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28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403280" y="21337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род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3780000" y="21337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тропог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466560" y="2924280"/>
            <a:ext cx="360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Возникают в результате естественных причин – извержения вулканов, пыльных бурь, наводнений, лесных пожаров, землетряс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3780000" y="2997360"/>
            <a:ext cx="36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Возникают в результате хозяйственной деятельности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4bc40"/>
                </a:solidFill>
                <a:latin typeface="Arial"/>
              </a:rPr>
              <a:t>Антропогенные загрязнения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000" y="1598760"/>
            <a:ext cx="6756120" cy="37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грязнение воздух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грязнение природных в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умовое загрязн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быточное скопл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вердых бытовы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ход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TRASH"/>
          <p:cNvPicPr/>
          <p:nvPr/>
        </p:nvPicPr>
        <p:blipFill>
          <a:blip r:embed="rId5"/>
          <a:stretch/>
        </p:blipFill>
        <p:spPr>
          <a:xfrm>
            <a:off x="4427640" y="364500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4bc40"/>
                </a:solidFill>
                <a:latin typeface="Arial"/>
              </a:rPr>
              <a:t>Загрязнение воздуха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228" name="Picture 4" descr="Заводы"/>
          <p:cNvPicPr/>
          <p:nvPr/>
        </p:nvPicPr>
        <p:blipFill>
          <a:blip r:embed="rId1"/>
          <a:stretch/>
        </p:blipFill>
        <p:spPr>
          <a:xfrm>
            <a:off x="3995640" y="1268280"/>
            <a:ext cx="3708360" cy="278136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324000" y="1341360"/>
            <a:ext cx="3527280" cy="20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источни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анспор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мышле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лектростанц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4357800" y="4149720"/>
            <a:ext cx="41749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грязняющие веществ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ж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ы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по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глекислый газ и другие окси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7"/>
          <p:cNvSpPr/>
          <p:nvPr/>
        </p:nvSpPr>
        <p:spPr>
          <a:xfrm flipH="1">
            <a:off x="2986920" y="4508640"/>
            <a:ext cx="1297080" cy="1726920"/>
          </a:xfrm>
          <a:custGeom>
            <a:avLst/>
            <a:gdLst>
              <a:gd name="textAreaLeft" fmla="*/ 202320 w 1297080"/>
              <a:gd name="textAreaRight" fmla="*/ 1134720 w 1297080"/>
              <a:gd name="textAreaTop" fmla="*/ 431640 h 1726920"/>
              <a:gd name="textAreaBottom" fmla="*/ 1295280 h 1726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28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539640" y="4581360"/>
            <a:ext cx="23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доровье человека и окружающего ми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4bc40"/>
                </a:solidFill>
                <a:latin typeface="Arial"/>
              </a:rPr>
              <a:t>Загрязнение природных вод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234" name="Picture 4" descr="DSC00200"/>
          <p:cNvPicPr/>
          <p:nvPr/>
        </p:nvPicPr>
        <p:blipFill>
          <a:blip r:embed="rId1"/>
          <a:stretch/>
        </p:blipFill>
        <p:spPr>
          <a:xfrm>
            <a:off x="3708360" y="1268280"/>
            <a:ext cx="3889440" cy="28926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179280" y="1341360"/>
            <a:ext cx="3527640" cy="20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источни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мышле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лектростанц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4357800" y="4613400"/>
            <a:ext cx="4174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грязняющие веществ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товой мус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очные в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имические веще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7"/>
          <p:cNvSpPr/>
          <p:nvPr/>
        </p:nvSpPr>
        <p:spPr>
          <a:xfrm flipH="1">
            <a:off x="2986920" y="4508640"/>
            <a:ext cx="1297080" cy="1726920"/>
          </a:xfrm>
          <a:custGeom>
            <a:avLst/>
            <a:gdLst>
              <a:gd name="textAreaLeft" fmla="*/ 202320 w 1297080"/>
              <a:gd name="textAreaRight" fmla="*/ 1134720 w 1297080"/>
              <a:gd name="textAreaTop" fmla="*/ 431640 h 1726920"/>
              <a:gd name="textAreaBottom" fmla="*/ 1295280 h 1726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28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324000" y="3716280"/>
            <a:ext cx="266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щение водных ресурсов, в том числе уменьшение запасов пригодной для питья 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4:17:10Z</dcterms:created>
  <dc:creator>DEMIDOVY</dc:creator>
  <dc:description/>
  <dc:language>en-US</dc:language>
  <cp:lastModifiedBy>Елена</cp:lastModifiedBy>
  <dcterms:modified xsi:type="dcterms:W3CDTF">2017-09-08T16:14:50Z</dcterms:modified>
  <cp:revision>7</cp:revision>
  <dc:subject/>
  <dc:title>Особенности природных условий в городе</dc:title>
</cp:coreProperties>
</file>