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D4E-AF20-498E-BBBE-097D8C15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CC1-8F8E-4A08-813B-C102E07B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A96-129F-4F1E-82EA-65F9ABB3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2AA-DD97-4975-8B47-3F41903D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D91F-3A35-4D93-A855-3337FBC1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0794-0DDA-4AF4-B942-C17314A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AAF8-A105-4616-915A-85E7E281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24F2-237E-4F16-A570-B64855F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9BA7-5D35-463A-89F3-F2D07231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EE07-E560-41E7-A075-15812B57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4D23-40DB-4DCA-8D6F-652A00F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E8B-0B2A-46AE-B933-DA472996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2D97-30DE-4A86-B07F-5D8F3E2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C05F-5238-4EC1-86D8-EDE78673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B258-4EA8-45CF-9D7A-0C7BC36C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3825-6172-43C8-941A-B28C4732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C776-E1EE-451A-BFE3-8495D46A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448-F0D7-48D0-A8CE-62498C6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C24-2532-44CA-B747-377890A8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F6F-CDF2-4E0D-B5C4-8B7B292F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EF3-3739-4828-BBCC-ED0CA696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C9C-A45F-437B-AC10-F28F95D9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5B3-CD71-48B7-8B53-899F053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F04-4E61-44C5-B90B-72D785A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7BF5-5E7E-4751-A952-7E3A3F5B07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EFD-F1AD-4DCF-BF13-3142E2E76C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6965640" cy="27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Bookman Old Style"/>
              </a:rPr>
              <a:t>Особенности природных условий в городе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81080" y="2636640"/>
            <a:ext cx="43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oudy Old Style"/>
              </a:rPr>
              <a:t>Природные условия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Goudy Old Style"/>
              </a:rPr>
              <a:t>(микроклимат)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067280" y="3716280"/>
            <a:ext cx="217440" cy="792360"/>
          </a:xfrm>
          <a:prstGeom prst="downArrow">
            <a:avLst>
              <a:gd name="adj1" fmla="val 50000"/>
              <a:gd name="adj2" fmla="val 91101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 rot="20400000">
            <a:off x="5651640" y="3645000"/>
            <a:ext cx="217440" cy="792000"/>
          </a:xfrm>
          <a:prstGeom prst="downArrow">
            <a:avLst>
              <a:gd name="adj1" fmla="val 50000"/>
              <a:gd name="adj2" fmla="val 91060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 rot="1200000">
            <a:off x="2484000" y="3644640"/>
            <a:ext cx="217440" cy="792000"/>
          </a:xfrm>
          <a:prstGeom prst="downArrow">
            <a:avLst>
              <a:gd name="adj1" fmla="val 50000"/>
              <a:gd name="adj2" fmla="val 91060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 rot="20400000">
            <a:off x="3132000" y="1989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 rot="1200000">
            <a:off x="4932000" y="1989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971640" y="1125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076720" y="4508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ые наса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12720" y="45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о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843280" y="488808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значение 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427640" y="1125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клим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371520"/>
            <a:ext cx="747684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Bookman Old Style"/>
              </a:rPr>
              <a:t>По предназначению города бывают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44600" y="1956960"/>
            <a:ext cx="560376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род – столиц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род – п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род – кур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род – уче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мышленный г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Z1000"/>
          <p:cNvPicPr/>
          <p:nvPr/>
        </p:nvPicPr>
        <p:blipFill>
          <a:blip r:embed="rId6"/>
          <a:stretch/>
        </p:blipFill>
        <p:spPr>
          <a:xfrm>
            <a:off x="6156360" y="170028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BL14147"/>
          <p:cNvPicPr/>
          <p:nvPr/>
        </p:nvPicPr>
        <p:blipFill>
          <a:blip r:embed="rId7"/>
          <a:stretch/>
        </p:blipFill>
        <p:spPr>
          <a:xfrm>
            <a:off x="466560" y="4846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BL000100"/>
          <p:cNvPicPr/>
          <p:nvPr/>
        </p:nvPicPr>
        <p:blipFill>
          <a:blip r:embed="rId8"/>
          <a:stretch/>
        </p:blipFill>
        <p:spPr>
          <a:xfrm>
            <a:off x="3130560" y="491796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RUSSIA"/>
          <p:cNvPicPr/>
          <p:nvPr/>
        </p:nvPicPr>
        <p:blipFill>
          <a:blip r:embed="rId9"/>
          <a:stretch/>
        </p:blipFill>
        <p:spPr>
          <a:xfrm>
            <a:off x="5724360" y="49197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Наш город – один из крупнейших промышленных центров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11" name="Picture 4" descr="DSCN4109"/>
          <p:cNvPicPr/>
          <p:nvPr/>
        </p:nvPicPr>
        <p:blipFill>
          <a:blip r:embed="rId1"/>
          <a:stretch/>
        </p:blipFill>
        <p:spPr>
          <a:xfrm>
            <a:off x="144360" y="3860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сканирование0001"/>
          <p:cNvPicPr/>
          <p:nvPr/>
        </p:nvPicPr>
        <p:blipFill>
          <a:blip r:embed="rId2"/>
          <a:stretch/>
        </p:blipFill>
        <p:spPr>
          <a:xfrm>
            <a:off x="2124000" y="242100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сканирование0004"/>
          <p:cNvPicPr/>
          <p:nvPr/>
        </p:nvPicPr>
        <p:blipFill>
          <a:blip r:embed="rId3"/>
          <a:stretch/>
        </p:blipFill>
        <p:spPr>
          <a:xfrm>
            <a:off x="5076720" y="141300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3632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зяйственная деятельность человека приводит к загрязнению окружающего нас мира.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618920" y="2997000"/>
            <a:ext cx="6108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агрязн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наличие в окружающей среде вредных веществ, снижающих качество среды с точки зрения проживания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POINT2"/>
          <p:cNvPicPr/>
          <p:nvPr/>
        </p:nvPicPr>
        <p:blipFill>
          <a:blip r:embed="rId1"/>
          <a:stretch/>
        </p:blipFill>
        <p:spPr>
          <a:xfrm>
            <a:off x="250920" y="3068640"/>
            <a:ext cx="1368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7640" y="485640"/>
            <a:ext cx="482472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Загрязнения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 rot="1265400">
            <a:off x="1115640" y="620280"/>
            <a:ext cx="649440" cy="2016360"/>
          </a:xfrm>
          <a:custGeom>
            <a:avLst/>
            <a:gdLst>
              <a:gd name="textAreaLeft" fmla="*/ 86760 w 649440"/>
              <a:gd name="textAreaRight" fmla="*/ 562680 w 649440"/>
              <a:gd name="textAreaTop" fmla="*/ 352800 h 2016360"/>
              <a:gd name="textAreaBottom" fmla="*/ 14619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flipH="1" rot="20117400">
            <a:off x="6228720" y="606600"/>
            <a:ext cx="647640" cy="2016000"/>
          </a:xfrm>
          <a:custGeom>
            <a:avLst/>
            <a:gdLst>
              <a:gd name="textAreaLeft" fmla="*/ 86760 w 647640"/>
              <a:gd name="textAreaRight" fmla="*/ 560880 w 6476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403280" y="2133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780000" y="2133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ропог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66560" y="2924280"/>
            <a:ext cx="36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озникают в результате естественных причин – извержения вулканов, пыльных бурь, наводнений, лесных пожаров, землетряс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780000" y="299736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озникают в результате хозяйственной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Антропогенные загрязнения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675612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рязнение воз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рязнение природных 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овое загряз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ыточное скоп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ердых бытов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х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TRASH"/>
          <p:cNvPicPr/>
          <p:nvPr/>
        </p:nvPicPr>
        <p:blipFill>
          <a:blip r:embed="rId5"/>
          <a:stretch/>
        </p:blipFill>
        <p:spPr>
          <a:xfrm>
            <a:off x="4427640" y="364500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Загрязнение воздуха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28" name="Picture 4" descr="Заводы"/>
          <p:cNvPicPr/>
          <p:nvPr/>
        </p:nvPicPr>
        <p:blipFill>
          <a:blip r:embed="rId1"/>
          <a:stretch/>
        </p:blipFill>
        <p:spPr>
          <a:xfrm>
            <a:off x="3995640" y="126828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324000" y="1341360"/>
            <a:ext cx="35272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источн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анспо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стан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4357800" y="4149720"/>
            <a:ext cx="41749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язняющие веще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ы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о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глекислый газ и другие окси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 flipH="1">
            <a:off x="2986920" y="4508640"/>
            <a:ext cx="1297080" cy="1726920"/>
          </a:xfrm>
          <a:custGeom>
            <a:avLst/>
            <a:gdLst>
              <a:gd name="textAreaLeft" fmla="*/ 202320 w 1297080"/>
              <a:gd name="textAreaRight" fmla="*/ 1134720 w 1297080"/>
              <a:gd name="textAreaTop" fmla="*/ 431640 h 1726920"/>
              <a:gd name="textAreaBottom" fmla="*/ 1295280 h 1726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39640" y="4581360"/>
            <a:ext cx="23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е человека и окружающ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Загрязнение природных вод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34" name="Picture 4" descr="DSC00200"/>
          <p:cNvPicPr/>
          <p:nvPr/>
        </p:nvPicPr>
        <p:blipFill>
          <a:blip r:embed="rId1"/>
          <a:stretch/>
        </p:blipFill>
        <p:spPr>
          <a:xfrm>
            <a:off x="3708360" y="1268280"/>
            <a:ext cx="3889440" cy="28926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79280" y="1341360"/>
            <a:ext cx="352764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источн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стан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357800" y="4613400"/>
            <a:ext cx="4174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язняющие веще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товой му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чные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вещ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 flipH="1">
            <a:off x="2986920" y="4508640"/>
            <a:ext cx="1297080" cy="1726920"/>
          </a:xfrm>
          <a:custGeom>
            <a:avLst/>
            <a:gdLst>
              <a:gd name="textAreaLeft" fmla="*/ 202320 w 1297080"/>
              <a:gd name="textAreaRight" fmla="*/ 1134720 w 1297080"/>
              <a:gd name="textAreaTop" fmla="*/ 431640 h 1726920"/>
              <a:gd name="textAreaBottom" fmla="*/ 1295280 h 1726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324000" y="371628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щение водных ресурсов, в том числе уменьшение запасов пригодной для питья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4:17:10Z</dcterms:created>
  <dc:creator>DEMIDOVY</dc:creator>
  <dc:description/>
  <dc:language>en-US</dc:language>
  <cp:lastModifiedBy>Елена</cp:lastModifiedBy>
  <dcterms:modified xsi:type="dcterms:W3CDTF">2017-09-08T16:14:50Z</dcterms:modified>
  <cp:revision>7</cp:revision>
  <dc:subject/>
  <dc:title>Особенности природных условий в городе</dc:title>
</cp:coreProperties>
</file>