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EB10-A926-4C02-8225-E9BAC2FD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BFFE-2D80-4000-AE00-7F2A0B5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211A-26DB-434D-B5CB-E92FAEFE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7BEA-EE0F-478E-AAFF-2C31B189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E929-588B-4E8E-9656-5C88FBD5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46FA-23B2-46E2-AA0B-B2686708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CF8E-D4B9-40BC-BCDC-976B1EB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8BEB-79C2-4FF5-B536-1924F3BE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72BC-CC28-43DD-9183-23F4DFFB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B988-3D32-4E79-98DF-DBEA906F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218C-415A-45F5-88A7-5ED824A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7592-4F36-46DF-A6F9-1030399E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BA1-6562-40CA-A61C-94267A82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9099-E707-4621-AB9F-D9AB51C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C9C1-6573-47D2-A025-76CF9653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5B44-5DBB-4552-BCD7-ACC6032C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1DB0-E2C5-45B4-96C1-77D2BA9F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1181-1686-4E4C-B332-3494EF08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3323-2C48-4E8B-9DB3-2E27A372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6F71-1D1B-4222-B0C0-ADD005E5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8E7C-CFC3-4C3C-82BE-3C84A14F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23E8-5E01-438F-9633-A022F110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07B7-98E4-46D3-B3F2-0CDF4C2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D88CA-DC46-4F6D-AC9A-6EDD6B5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4151-5D26-497A-B345-57358C52A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2C4-E249-4277-BC3A-F5F96CB04E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ddddd"/>
                </a:solidFill>
                <a:latin typeface="Comic Sans MS"/>
              </a:rPr>
              <a:t>Пешеход и его безопасность</a:t>
            </a:r>
            <a:endParaRPr b="1" lang="en-US" sz="66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Если рядом нет ни светофора, ни подземного и наземного переходов, ни «зебры», запомните: посмотрите сначала налево, а дойдя до середины дороги – направо; убедитесь в безопасности перехода и переходите дорогу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324000" y="260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е выходите на проезжую часть из-за препятствия и из общественного транспорта, не убедившись в отсутствии приближающейся машин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0" t="0" r="2154" b="0"/>
          <a:stretch/>
        </p:blipFill>
        <p:spPr>
          <a:xfrm>
            <a:off x="324000" y="3213000"/>
            <a:ext cx="3744720" cy="2871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4057920" cy="2671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4427640" y="515772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Трамвай всегда обходят спереди, а автобус – сзади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3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ddddd"/>
                </a:solidFill>
                <a:latin typeface="Garamond"/>
              </a:rPr>
              <a:t>От вас зависит многое… а главное - ваша жизнь…</a:t>
            </a:r>
            <a:endParaRPr b="1" lang="en-US" sz="96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Пешеход </a:t>
            </a: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– лицо, находящееся вне транспортного средства на дороге и не производящее на ней работу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39640" y="3068640"/>
            <a:ext cx="8229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Monotype Corsiva"/>
              </a:rPr>
              <a:t>К пешеходам приравниваются лица, передвигающиеся в инвалидных  колясках  без двигателя, ведущие велосипед, мопед, мотоцикл, везущие санки, тележку, детскую или инвалидную коляску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Пешеходы должны двигаться по тротуарам или пешеходным дорожкам</a:t>
            </a:r>
            <a:br>
              <a:rPr sz="4000"/>
            </a:b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А при их отсутствии – по обочинам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>
            <a:lum bright="6000"/>
          </a:blip>
          <a:srcRect l="7521" t="0" r="2284" b="0"/>
          <a:stretch/>
        </p:blipFill>
        <p:spPr>
          <a:xfrm>
            <a:off x="250920" y="2924280"/>
            <a:ext cx="4321080" cy="367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>
            <a:lum bright="6000"/>
          </a:blip>
          <a:srcRect l="3266" t="1757" r="7151" b="2387"/>
          <a:stretch/>
        </p:blipFill>
        <p:spPr>
          <a:xfrm>
            <a:off x="4716360" y="2924280"/>
            <a:ext cx="4176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Самое главное правило</a:t>
            </a:r>
            <a:br>
              <a:rPr sz="4000"/>
            </a:b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Дорога – это не место для игр!!!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>
            <a:lum bright="6000"/>
          </a:blip>
          <a:srcRect l="3306" t="0" r="0" b="3130"/>
          <a:stretch/>
        </p:blipFill>
        <p:spPr>
          <a:xfrm>
            <a:off x="179280" y="2637000"/>
            <a:ext cx="5761080" cy="40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156360" y="4005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удьте внимательны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4033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Garamond"/>
              </a:rPr>
              <a:t>Переходить улицу можно только по пешеходным переходам</a:t>
            </a:r>
            <a:endParaRPr b="1" lang="en-US" sz="3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435640" y="3933720"/>
            <a:ext cx="3529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Garamond"/>
              </a:rPr>
              <a:t>Самые безопасные переходы – подземный и наземный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>
            <a:lum bright="12000"/>
          </a:blip>
          <a:srcRect l="1917" t="10037" r="12603" b="15252"/>
          <a:stretch/>
        </p:blipFill>
        <p:spPr>
          <a:xfrm>
            <a:off x="4356000" y="189000"/>
            <a:ext cx="460872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>
            <a:lum bright="12000"/>
          </a:blip>
          <a:srcRect l="6163" t="6516" r="3444" b="2248"/>
          <a:stretch/>
        </p:blipFill>
        <p:spPr>
          <a:xfrm>
            <a:off x="250920" y="3645000"/>
            <a:ext cx="4752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Garamond"/>
              </a:rPr>
              <a:t>Лучше всего пользоваться переходом, регулируемым светофором</a:t>
            </a:r>
            <a:endParaRPr b="1" lang="en-US" sz="36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>
            <a:lum bright="12000"/>
          </a:blip>
          <a:srcRect l="8227" t="0" r="4191" b="2900"/>
          <a:stretch/>
        </p:blipFill>
        <p:spPr>
          <a:xfrm>
            <a:off x="1908000" y="1700280"/>
            <a:ext cx="5545440" cy="3343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11280" y="530064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Если даже нет машин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цвет – дороги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т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Garamond"/>
              </a:rPr>
              <a:t>Если светофор не работает, но есть регулировщик, то все участники дорожного движения подчиняются его указаниям</a:t>
            </a:r>
            <a:endParaRPr b="1" lang="en-US" sz="36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>
            <a:lum bright="12000"/>
          </a:blip>
          <a:srcRect l="11376" t="0" r="6813" b="0"/>
          <a:stretch/>
        </p:blipFill>
        <p:spPr>
          <a:xfrm>
            <a:off x="1908000" y="2598840"/>
            <a:ext cx="5328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>
            <a:lum bright="6000"/>
          </a:blip>
          <a:srcRect l="6994" t="4169" r="7763" b="7634"/>
          <a:stretch/>
        </p:blipFill>
        <p:spPr>
          <a:xfrm>
            <a:off x="4572000" y="260280"/>
            <a:ext cx="4392720" cy="3024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549360"/>
            <a:ext cx="410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Дорогу переходят прямо, а не зигзагами и наискосок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716360" y="4149720"/>
            <a:ext cx="41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Даже если вам «зеленый», вы обязаны пропускать службы экстренной помощи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2">
            <a:lum bright="6000"/>
          </a:blip>
          <a:srcRect l="4865" t="0" r="6582" b="5502"/>
          <a:stretch/>
        </p:blipFill>
        <p:spPr>
          <a:xfrm>
            <a:off x="179280" y="3263760"/>
            <a:ext cx="446400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Garamond"/>
              </a:rPr>
              <a:t>Если вы не успели закончить переход на зеленый свет, спокойно подождите на островке безопасности,</a:t>
            </a:r>
            <a:endParaRPr b="1" lang="en-US" sz="36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5472360" cy="4059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5580000" y="1989000"/>
            <a:ext cx="35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Garamond"/>
              </a:rPr>
              <a:t>расположенном посередине дороги, или на разделительной полос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9:22:29Z</dcterms:created>
  <dc:creator>CORPORATION</dc:creator>
  <dc:description/>
  <dc:language>en-US</dc:language>
  <cp:lastModifiedBy>Елена</cp:lastModifiedBy>
  <dcterms:modified xsi:type="dcterms:W3CDTF">2017-09-08T16:23:35Z</dcterms:modified>
  <cp:revision>8</cp:revision>
  <dc:subject/>
  <dc:title>Пешеход и его безопасность</dc:title>
</cp:coreProperties>
</file>