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53F-06FE-4691-B40C-4B811F7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A0C-4CCA-46DA-BA5C-E1966D2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C1F-7D50-4A41-9A6A-7F252FCF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FFF-2A71-421A-BAA7-137A7B8A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B45C-8B94-4D03-91D2-5FDC4F7F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4F5D-5B95-49DA-BCE0-E6ECC63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9143-1B8A-4514-9824-6700ED4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88E5-73EA-4081-A6E5-CF43164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2D13-24BE-41D7-BC01-A8267A6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BE4A-9AC7-442F-A8B4-427C74C1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E67B-3D76-4EDF-903E-EDFCE0E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A0C-7ABD-42CD-A790-36633F1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B6AA-E413-4E18-BFB2-48C98EF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835B-E766-4A8B-82DD-82D1ED0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7F61-6F3B-4A19-8C7F-BACBEC80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F20-EF0D-4771-8DA7-39500C38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4CC8-5F5F-4544-9F70-3E2AFC2F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35A-8F55-4F6F-961E-B721311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6EB-6CA0-4D00-9043-A72E258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9D8-6A1B-4B2E-A29C-993FDD13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8FC-F376-440E-B2D9-1692A82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E7A-F6BD-42AF-B90F-D7F50E7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8BD-ED69-4DD5-B710-7369ECC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B58-7AA8-496D-84E2-C296398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17EF-3AF4-491A-B241-D7BD2A343B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851-39DF-4E95-B4F7-ECAD91FC2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370160"/>
            <a:ext cx="788508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Comic Sans MS"/>
              </a:rPr>
              <a:t>Погодные условия и безопасность человека</a:t>
            </a:r>
            <a:endParaRPr b="0" lang="en-US" sz="60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bc40"/>
                </a:solidFill>
                <a:latin typeface="Arial"/>
              </a:rPr>
              <a:t>Погода –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состояние атмосферы в определенном месте и в определенное время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82920" y="4149720"/>
            <a:ext cx="2521080" cy="2374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84720" y="2039760"/>
            <a:ext cx="2519280" cy="208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42920" y="203832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новные показатели, определяющие состояние погоды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а воздуха (постоянно колеблет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ное давление (влияет на движение воздух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тер (характеризуется скоростью и направление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ч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адки (дождь, снег, гр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огодные явления, опасные для здоровья человека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2637000"/>
            <a:ext cx="745344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. Гр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Гроз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бурное ненастье с дождем, громом и мол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чем опасность грозы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ждать в поме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: закрыть окна, выключить электроприборы, не говорить по телеф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рятаться под деревь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вы находитесь в водоеме, то следует выйти из воды, отойти от берега и спрятаться в укры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404640"/>
            <a:ext cx="7632720" cy="63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 Голо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c40"/>
                </a:solidFill>
                <a:latin typeface="Arial"/>
              </a:rPr>
              <a:t>Гололед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лой плотного льда, который образуется на земной поверхности и на предметах при намерзании капель переохлажденного дождя и морос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c40"/>
                </a:solidFill>
                <a:latin typeface="Arial"/>
              </a:rPr>
              <a:t>Гололедиц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тонкий слой льда, который образовался на земной поверхности после оттепели или дождя в результате похоло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чем опасность гололед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бегать, передвигаться осторожно, ступая на всю подош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ходьбе ноги должны быть расслаблены, а руки свобод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рать малоскользящую обувь с ребристой подош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ы подскользнулись, присядьте и сгруппируйт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404640"/>
            <a:ext cx="7632720" cy="63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. Снежный занос и ме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Снежный зано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природное явление, связанное с обильным выпадением снега при скорости ветра свыше 15 м/с и продолжительности снегопада более 12 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Метель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это перенос снега ветром в приземном слое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чем опасность снежного за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метели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рыть окна, двери и чердачные л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йтесь не выходить из дома без особой надоб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айте родителям выбраться из заноса, строго выполнять их треб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готовьте фонари, свечи, керосиновые лам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30:58Z</dcterms:created>
  <dc:creator>LENOCHKA</dc:creator>
  <dc:description/>
  <dc:language>en-US</dc:language>
  <cp:lastModifiedBy>LENOCHKA</cp:lastModifiedBy>
  <dcterms:modified xsi:type="dcterms:W3CDTF">2009-02-27T14:20:44Z</dcterms:modified>
  <cp:revision>5</cp:revision>
  <dc:subject/>
  <dc:title>Погодные условия и безопасность человека</dc:title>
</cp:coreProperties>
</file>