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31C-C26D-43B6-AF1F-C6251B9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F75-69DB-4726-9578-0FFBB4F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7B0-BBA1-43EC-9876-ACE9CB69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E6B-1C9A-4585-BDA9-A242FFFF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11B-35CD-41A6-A244-9D812A69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D18D-2467-4E81-93DE-417AFA2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424-C9FF-4026-8575-44E101F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E3B0-F31E-4CB5-95AA-05364B6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7CBF-9FDF-41B4-BA52-CC4FB3F1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9AE-4701-45AC-9FE1-757718C0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F55-6E5E-4F32-9A26-5F72A7F7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76A-7D89-479B-AB6F-0831A89F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3ADB-B122-436A-BA76-AFCE175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E92-A817-45D8-B203-A929B03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90B-180A-4B2E-BFC3-D992F48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99D1-02A6-4704-B2E2-3BCC0994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2B5-1A9C-4A12-A87A-D622D3D0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0D7-72DB-493C-9EFA-5923BC0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BFE-AA55-4557-BCA2-1B8B700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43C-6515-40F6-9568-EFC0F20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C4A-9221-4F98-8317-B2F7438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E2B-B0BE-4975-8AEE-00C2E47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80D-F205-434A-A66E-73F3D92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26B-1867-47BA-802D-DBE3C04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6B0-19D2-4A8A-953A-6F3AE3248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446F-30F1-4ADC-A33B-0B60DEA52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370160"/>
            <a:ext cx="788508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Comic Sans MS"/>
              </a:rPr>
              <a:t>Погодные условия и безопасность человека</a:t>
            </a:r>
            <a:endParaRPr b="0" lang="en-US" sz="60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bc40"/>
                </a:solidFill>
                <a:latin typeface="Arial"/>
              </a:rPr>
              <a:t>Погода –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состояние атмосферы в определенном месте и в определенное время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82920" y="4149720"/>
            <a:ext cx="2521080" cy="2374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84720" y="2039760"/>
            <a:ext cx="2519280" cy="208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42920" y="203832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новные показатели, определяющие состояние погоды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а воздуха (постоянно колеблет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ное давление (влияет на движение воздух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тер (характеризуется скоростью и направление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ч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адки (дождь, снег, гр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огодные явления, опасные для здоровья человека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2637000"/>
            <a:ext cx="745344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. Гр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Гроз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бурное ненастье с дождем, громом и мол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чем опасность грозы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ждать в поме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: закрыть окна, выключить электроприборы, не говорить по телеф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рятаться под деревь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вы находитесь в водоеме, то следует выйти из воды, отойти от берега и спрятаться в укры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404640"/>
            <a:ext cx="7632720" cy="63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 Голо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c40"/>
                </a:solidFill>
                <a:latin typeface="Arial"/>
              </a:rPr>
              <a:t>Гололед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лой плотного льда, который образуется на земной поверхности и на предметах при намерзании капель переохлажденного дождя и морос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c40"/>
                </a:solidFill>
                <a:latin typeface="Arial"/>
              </a:rPr>
              <a:t>Гололедиц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тонкий слой льда, который образовался на земной поверхности после оттепели или дождя в результате похоло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чем опасность гололед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бегать, передвигаться осторожно, ступая на всю подош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ходьбе ноги должны быть расслаблены, а руки свобод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рать малоскользящую обувь с ребристой подош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ы подскользнулись, присядьте и сгруппируйт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404640"/>
            <a:ext cx="7632720" cy="63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. Снежный занос и ме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Снежный зано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природное явление, связанное с обильным выпадением снега при скорости ветра свыше 15 м/с и продолжительности снегопада более 12 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c40"/>
                </a:solidFill>
                <a:latin typeface="Arial"/>
              </a:rPr>
              <a:t>Метель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это перенос снега ветром в приземном слое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чем опасность снежного за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метели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Правила поведения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рыть окна, двери и чердачные л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йтесь не выходить из дома без особой надоб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айте родителям выбраться из заноса, строго выполнять их треб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готовьте фонари, свечи, керосиновые лам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30:58Z</dcterms:created>
  <dc:creator>LENOCHKA</dc:creator>
  <dc:description/>
  <dc:language>en-US</dc:language>
  <cp:lastModifiedBy>LENOCHKA</cp:lastModifiedBy>
  <dcterms:modified xsi:type="dcterms:W3CDTF">2009-02-27T14:20:44Z</dcterms:modified>
  <cp:revision>5</cp:revision>
  <dc:subject/>
  <dc:title>Погодные условия и безопасность человека</dc:title>
</cp:coreProperties>
</file>