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7B1-036C-47F1-B36D-DE6EF19B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E47-FBE4-477D-AAE3-89C83E2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8A4-2710-4446-BE29-3342A104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4BE-86AD-4D17-BD54-111D15B8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915-C913-4A54-9EC4-29E65C77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491D-BD1F-4F75-AA31-F08BCC9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59E-5C1B-46B1-A832-725476A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F84F-048C-4C12-972D-43D512EC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775-9F4A-435D-8E57-1CDCE468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318-A0ED-4F70-8D81-7DCA980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CE7F-9D2F-4297-94C5-EFE9A71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3CE-09E4-4F2C-A365-15726C0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2BD4-44EE-4994-9344-29595F7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4943-BF38-4349-B0BD-21541E1F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6268-0D68-47C8-8EE4-CBBC8B28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516C-B222-4FF6-854A-DE55909E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CCD-29D4-470D-9206-B8805F3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14C-00D9-47B7-8251-DDE4A3A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001-0A46-4E15-87BB-5DE68C20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426-F1E0-4DF7-8AC3-C2D21494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25A-A523-4763-A1FC-C5EC7615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DE4-141E-4C14-9070-95BB4EE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E62-D7E5-42AB-B64D-F5F8966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2AD-0584-4133-BAE4-1B6C313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F17-5491-4E5A-A060-26D9AB09D2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ECFA-9A4B-4638-A1DB-8E2F012B85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азвитие представлений о строении мир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Гелиоцентрическая система мира по Коперни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103480" cy="3070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979640" y="18900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жордано Бруно (1548 - 160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64000" y="1557360"/>
            <a:ext cx="44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. Бруно – великий итальянский ученый, который за свои воззрения был посажен в тюрьму, а затем заживо сожжен на ко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68360" y="4076640"/>
            <a:ext cx="820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великого астроно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ленная бесконеч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ленная не имеет и не может иметь единого цен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лнце – это звезда – центр Солнеч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еты, в том числе и Земля, вращаются вокруг Солн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539800" cy="2879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3708360" y="3333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лилео Галилей (1564 - 164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19640" y="184464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альянский ученый, который впервые использовал телескоп для наблюдений за небесными телами (изготовленные самостоятель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24000" y="3573360"/>
            <a:ext cx="8424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ижения Г.Галиле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л спутники у Юпитера и доказал, что они движутся вокруг план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идел на Луне горы, а на Солнце пятна, которые перемеща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азал, что Солнце вращается вокруг собственной о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азал правильность учений Н. Коперника и Дж. Бру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22487" t="31540" r="17743" b="12638"/>
          <a:stretch/>
        </p:blipFill>
        <p:spPr>
          <a:xfrm>
            <a:off x="971640" y="1413000"/>
            <a:ext cx="7345440" cy="51260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04292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Вспомним пройден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Земля кругла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или представление о форме Земли древнегреческий ученый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ифаго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его последователь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илола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жившие в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V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еках до нашей эры. Они высказали предположение о том, что                Земля имеет форму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ар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Z6020"/>
          <p:cNvPicPr/>
          <p:nvPr/>
        </p:nvPicPr>
        <p:blipFill>
          <a:blip r:embed="rId1"/>
          <a:stretch/>
        </p:blipFill>
        <p:spPr>
          <a:xfrm>
            <a:off x="6372360" y="378936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61680" y="-360"/>
            <a:ext cx="7581960" cy="36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Доказательства в пользу шарообразного строения Земли впервые нашел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Аристотель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(384 – 322 годы до нашей эр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6877080" y="3860640"/>
            <a:ext cx="2095560" cy="279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76220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468360" y="3357720"/>
            <a:ext cx="35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Вовочки спрашиваю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ем был Аристотель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вочк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н был очень великий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 что он сделал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у, купался он один раз в ванне, и вдруг закричал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врик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 что значит Эври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ше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 что же он нашел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 знаю, мыло наверное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10059" t="11470" r="10630" b="10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Геоцентрическая система мира Аристотел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082960" y="1628640"/>
            <a:ext cx="55134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10100" t="10631" r="10503" b="9761"/>
          <a:stretch/>
        </p:blipFill>
        <p:spPr>
          <a:xfrm>
            <a:off x="-36360" y="-27000"/>
            <a:ext cx="918036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9968" t="10631" r="9968" b="10631"/>
          <a:stretch/>
        </p:blipFill>
        <p:spPr>
          <a:xfrm>
            <a:off x="-73080" y="0"/>
            <a:ext cx="9325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43120" y="2232000"/>
            <a:ext cx="2792160" cy="3357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971640" y="18900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иколай Копер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1473 - 154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191628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польский астроном, Николай Коперник, создал новую теорию строения мира, которая отвергла прежние геоцентрические системы. Эта теория получила название гелиоцентр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22:38Z</dcterms:created>
  <dc:creator>DEMIDOVY</dc:creator>
  <dc:description/>
  <dc:language>en-US</dc:language>
  <cp:lastModifiedBy>Елена</cp:lastModifiedBy>
  <dcterms:modified xsi:type="dcterms:W3CDTF">2017-09-08T13:26:12Z</dcterms:modified>
  <cp:revision>11</cp:revision>
  <dc:subject/>
  <dc:title>Модели Вселенной по Аристотелю и Птолемею</dc:title>
</cp:coreProperties>
</file>