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714-7C80-43E5-A10E-06044A97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55A-4AB2-4A17-B237-2AC1CB13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1DB-EA16-43A1-9B80-09FAA829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B48-1B3A-4F8E-B576-8AF09126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946E-6581-496B-8CAD-C5BD40DC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229F-57A6-4604-86D4-DF6A167E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A62-5426-4E96-97D1-C9396453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0EC2-FB53-416E-866D-68F738C2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00F2-C043-48B1-AC09-A7785ED7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95E2-1AFA-4134-9891-8BC01D10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B11-99B4-4D22-895C-EBA6271C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895-B996-481D-A265-B01E3488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7F21-3259-40B5-BF5A-EC974464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BFEA-B493-4952-8FCC-83EF89F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E144-B2C8-42D6-A038-3652A57F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52BA-6B1F-489C-BFF7-3EB02BD8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2A7B-1881-4698-A1FC-8A07A1F5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B86-8B7D-4FC9-B773-19B250E8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A0F-EC19-471D-8593-A3AE9DF8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A78-490A-4582-B3AD-C67CC50B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836-F1C6-4869-B0D7-31719F34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769-1287-4FD0-A3CA-75C65EB9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FAC-D2F4-46C3-849C-3BC6C5F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F89-1D7E-408C-B04D-C7AF6DE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CBF-D684-4581-AAB0-886F4A3516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BB92-C28F-4F51-B0FD-99D446D1E8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7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Развитие представлений о строении мир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Гелиоцентрическая система мира по Коперни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4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2103480" cy="3070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979640" y="18900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жордано Бруно (1548 - 1600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564000" y="1557360"/>
            <a:ext cx="446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. Бруно – великий итальянский ученый, который за свои воззрения был посажен в тюрьму, а затем заживо сожжен на ко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68360" y="4076640"/>
            <a:ext cx="8207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великого астроно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ленная бесконеч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ленная не имеет и не может иметь единого цен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лнце – это звезда – центр Солнеч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неты, в том числе и Земля, вращаются вокруг Солн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539800" cy="2879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3708360" y="33336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алилео Галилей (1564 - 164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419640" y="184464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тальянский ученый, который впервые использовал телескоп для наблюдений за небесными телами (изготовленные самостоятель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24000" y="3573360"/>
            <a:ext cx="8424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ижения Г.Галиле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л спутники у Юпитера и доказал, что они движутся вокруг план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идел на Луне горы, а на Солнце пятна, которые перемещал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азал, что Солнце вращается вокруг собственной о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азал правильность учений Н. Коперника и Дж. Бру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rcRect l="22487" t="31540" r="17743" b="12638"/>
          <a:stretch/>
        </p:blipFill>
        <p:spPr>
          <a:xfrm>
            <a:off x="971640" y="1413000"/>
            <a:ext cx="7345440" cy="51260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1042920" y="333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Вспомним пройденн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Земля круглая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или представление о форме Земли древнегреческий ученый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ифаго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 его последователь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Филола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жившие в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V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еках до нашей эры. Они высказали предположение о том, что                Земля имеет форму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шар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Z6020"/>
          <p:cNvPicPr/>
          <p:nvPr/>
        </p:nvPicPr>
        <p:blipFill>
          <a:blip r:embed="rId1"/>
          <a:stretch/>
        </p:blipFill>
        <p:spPr>
          <a:xfrm>
            <a:off x="6372360" y="378936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61680" y="-360"/>
            <a:ext cx="7581960" cy="36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Доказательства в пользу шарообразного строения Земли впервые нашел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Аристотель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(384 – 322 годы до нашей эр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6877080" y="3860640"/>
            <a:ext cx="2095560" cy="279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762200" cy="2349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468360" y="3357720"/>
            <a:ext cx="352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Вовочки спрашивают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ем был Аристотель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вочка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н был очень великий..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А что он сделал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у, купался он один раз в ванне, и вдруг закричал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врик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А что значит Эври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ше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 что же он нашел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 знаю, мыло наверное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rcRect l="10059" t="11470" r="10630" b="107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Геоцентрическая система мира Аристотел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2082960" y="1628640"/>
            <a:ext cx="55134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10100" t="10631" r="10503" b="9761"/>
          <a:stretch/>
        </p:blipFill>
        <p:spPr>
          <a:xfrm>
            <a:off x="-36360" y="-27000"/>
            <a:ext cx="918036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9968" t="10631" r="9968" b="10631"/>
          <a:stretch/>
        </p:blipFill>
        <p:spPr>
          <a:xfrm>
            <a:off x="-73080" y="0"/>
            <a:ext cx="9325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843120" y="2232000"/>
            <a:ext cx="2792160" cy="3357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971640" y="18900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иколай Коперни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1473 - 154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0" y="1916280"/>
            <a:ext cx="36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й польский астроном, Николай Коперник, создал новую теорию строения мира, которая отвергла прежние геоцентрические системы. Эта теория получила название гелиоцентри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22:38Z</dcterms:created>
  <dc:creator>DEMIDOVY</dc:creator>
  <dc:description/>
  <dc:language>en-US</dc:language>
  <cp:lastModifiedBy>Елена</cp:lastModifiedBy>
  <dcterms:modified xsi:type="dcterms:W3CDTF">2017-09-08T13:26:12Z</dcterms:modified>
  <cp:revision>11</cp:revision>
  <dc:subject/>
  <dc:title>Модели Вселенной по Аристотелю и Птолемею</dc:title>
</cp:coreProperties>
</file>