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png" ContentType="image/png"/>
  <Override PartName="/ppt/media/image6.wmf" ContentType="image/x-wmf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20.gif" ContentType="image/gif"/>
  <Override PartName="/ppt/media/image18.gif" ContentType="image/gif"/>
  <Override PartName="/ppt/media/image3.wmf" ContentType="image/x-wmf"/>
  <Override PartName="/ppt/media/image17.gif" ContentType="image/gif"/>
  <Override PartName="/ppt/media/image15.gif" ContentType="image/gif"/>
  <Override PartName="/ppt/media/image19.png" ContentType="image/png"/>
  <Override PartName="/ppt/media/image16.gif" ContentType="image/gif"/>
  <Override PartName="/ppt/media/image2.png" ContentType="image/png"/>
  <Override PartName="/ppt/media/image14.gif" ContentType="image/gif"/>
  <Override PartName="/ppt/media/image4.wmf" ContentType="image/x-wmf"/>
  <Override PartName="/ppt/media/image5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009E-69AC-4903-A26C-3B253F140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8599-6BFE-4850-90F1-F65F73C85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2CCB-93CF-4D84-BC0F-1F23FBEDC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5C9C-55D4-4752-859B-940122F2D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5C52-7581-4A25-8C05-F9EDE0730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7EAE-AA6E-4E02-A813-57D9258AE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FF3A-71CD-44BE-9E3F-904B250245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0CB4-C691-43CC-88D9-EF7E5B308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C9E-4FB3-41B5-A8F7-549E4AD1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CF2-F04B-4AE1-A04F-D091DA62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95B-ECF7-40D0-AEBF-47ECCEBC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935-B09A-44DE-B0DA-9DAE1B0D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CF5-9C56-46CE-9EA3-0A65B1B5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B22-2BEB-478C-BA2B-417DEECC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83A-3763-4573-880B-683ADCCA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AF9-0242-491E-9B87-7F2BE0AB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C74-DA1D-4117-A677-FA8670C6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49A-18E2-4A1B-8B5F-C44BEF65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991-3744-4611-83DA-64B5F9A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527-2D66-440C-A90F-BF9D1BF8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FA5A-D23A-44C5-9F5D-0CAC16AF8E0D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br>
              <a:rPr sz="6500"/>
            </a:br>
            <a:br>
              <a:rPr sz="6500"/>
            </a:br>
            <a:r>
              <a:rPr b="1" lang="es-ES" sz="6500" spc="-1" strike="noStrike">
                <a:solidFill>
                  <a:srgbClr val="ff0066"/>
                </a:solidFill>
                <a:latin typeface="MS Mincho"/>
                <a:ea typeface="MS Mincho"/>
              </a:rPr>
              <a:t>HAPPY </a:t>
            </a:r>
            <a:br>
              <a:rPr sz="6500"/>
            </a:br>
            <a:r>
              <a:rPr b="1" lang="es-ES" sz="6500" spc="-1" strike="noStrike">
                <a:solidFill>
                  <a:srgbClr val="ff0066"/>
                </a:solidFill>
                <a:latin typeface="MS Mincho"/>
                <a:ea typeface="MS Mincho"/>
              </a:rPr>
              <a:t>SAINT VALENTINE`S DAY</a:t>
            </a:r>
            <a:r>
              <a:rPr b="1" lang="en-US" sz="6500" spc="-1" strike="noStrike">
                <a:solidFill>
                  <a:srgbClr val="ff0066"/>
                </a:solidFill>
                <a:latin typeface="MS Mincho"/>
                <a:ea typeface="MS Mincho"/>
              </a:rPr>
              <a:t>  </a:t>
            </a:r>
            <a:br>
              <a:rPr sz="6500"/>
            </a:br>
            <a:r>
              <a:rPr b="1" lang="en-US" sz="6500" spc="-1" strike="noStrike">
                <a:solidFill>
                  <a:srgbClr val="ff0066"/>
                </a:solidFill>
                <a:latin typeface="MS Mincho"/>
                <a:ea typeface="MS Mincho"/>
              </a:rPr>
              <a:t>          </a:t>
            </a:r>
            <a:br>
              <a:rPr sz="1800"/>
            </a:br>
            <a:r>
              <a:rPr b="1" lang="ru-RU" sz="1800" spc="-1" strike="noStrike">
                <a:solidFill>
                  <a:srgbClr val="ff99cc"/>
                </a:solidFill>
                <a:latin typeface="MS Mincho"/>
                <a:ea typeface="MS Mincho"/>
              </a:rPr>
              <a:t>     </a:t>
            </a:r>
            <a:r>
              <a:rPr b="1" lang="en-US" sz="1800" spc="-1" strike="noStrike">
                <a:solidFill>
                  <a:srgbClr val="ff99cc"/>
                </a:solidFill>
                <a:latin typeface="MS Mincho"/>
                <a:ea typeface="MS Mincho"/>
              </a:rPr>
              <a:t>                      </a:t>
            </a:r>
            <a:br>
              <a:rPr sz="1800"/>
            </a:br>
            <a:r>
              <a:rPr b="1" lang="en-US" sz="1800" spc="-1" strike="noStrike">
                <a:solidFill>
                  <a:srgbClr val="ff99cc"/>
                </a:solidFill>
                <a:latin typeface="MS Mincho"/>
                <a:ea typeface="MS Mincho"/>
              </a:rPr>
              <a:t>                    </a:t>
            </a:r>
            <a:br>
              <a:rPr sz="1800"/>
            </a:br>
            <a:r>
              <a:rPr b="1" lang="en-US" sz="1800" spc="-1" strike="noStrike">
                <a:solidFill>
                  <a:srgbClr val="ff99cc"/>
                </a:solidFill>
                <a:latin typeface="MS Mincho"/>
                <a:ea typeface="MS Mincho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66"/>
                </a:solidFill>
                <a:latin typeface="Calibri"/>
              </a:rPr>
              <a:t>Sayings and Aphorisms about </a:t>
            </a:r>
            <a:br>
              <a:rPr sz="2900"/>
            </a:br>
            <a:r>
              <a:rPr b="0" i="1" lang="en-US" sz="2900" spc="-1" strike="noStrike" u="sng">
                <a:solidFill>
                  <a:srgbClr val="ff0066"/>
                </a:solidFill>
                <a:uFillTx/>
                <a:latin typeface="Calibri"/>
              </a:rPr>
              <a:t>Love &amp; Marriag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71720" y="1214280"/>
            <a:ext cx="3714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Love cannot be forc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Love is neither bought nor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sold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No herb will cure l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b7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And when love speaks,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voice of all the gods ma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heaven drowsy with th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harmo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Out of sight, out of mi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But love is blind, and lov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cannot see the pretty foll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they themselves enjo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Faults are thick where lov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is th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W. Shakespea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929120" y="1213920"/>
            <a:ext cx="3857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It`s curious how, when you`re in love, you yearn to go about doing acts of kindness to everybo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                    </a:t>
            </a: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P. H. Wodeh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Love conquers all things except poverty and toothach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M. West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To love oneself is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beginning of a lifel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roma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The proper basis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marriage is a mutu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misunderstan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O. Wil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67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6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72" dur="3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7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77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82" dur="3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8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87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8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92" dur="3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9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97" dur="3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9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02" dur="3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0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0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07" dur="3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0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2" dur="3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1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7" dur="3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1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22" dur="3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2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27" dur="30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2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32" dur="30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3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44" dur="3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50" dur="3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5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55" dur="3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5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5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60" dur="3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65" dur="3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6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70" dur="3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7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75" dur="3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Арка 11"/>
          <p:cNvSpPr/>
          <p:nvPr/>
        </p:nvSpPr>
        <p:spPr>
          <a:xfrm rot="4713000">
            <a:off x="6760800" y="3895560"/>
            <a:ext cx="2428920" cy="91440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429000" y="5000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99cc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4" descr="05.gif"/>
          <p:cNvPicPr/>
          <p:nvPr/>
        </p:nvPicPr>
        <p:blipFill>
          <a:blip r:embed="rId1"/>
          <a:stretch/>
        </p:blipFill>
        <p:spPr>
          <a:xfrm>
            <a:off x="2571840" y="1857240"/>
            <a:ext cx="4000320" cy="3500640"/>
          </a:xfrm>
          <a:prstGeom prst="rect">
            <a:avLst/>
          </a:prstGeom>
          <a:ln w="0">
            <a:noFill/>
          </a:ln>
        </p:spPr>
      </p:pic>
      <p:sp>
        <p:nvSpPr>
          <p:cNvPr id="153" name="Сердце 5"/>
          <p:cNvSpPr/>
          <p:nvPr/>
        </p:nvSpPr>
        <p:spPr>
          <a:xfrm>
            <a:off x="7380360" y="1773360"/>
            <a:ext cx="914400" cy="91440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ердце 7"/>
          <p:cNvSpPr/>
          <p:nvPr/>
        </p:nvSpPr>
        <p:spPr>
          <a:xfrm flipV="1">
            <a:off x="7429680" y="2785320"/>
            <a:ext cx="914400" cy="85716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ердце 8"/>
          <p:cNvSpPr/>
          <p:nvPr/>
        </p:nvSpPr>
        <p:spPr>
          <a:xfrm rot="5400000">
            <a:off x="7893720" y="2321640"/>
            <a:ext cx="857520" cy="92880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ердце 9"/>
          <p:cNvSpPr/>
          <p:nvPr/>
        </p:nvSpPr>
        <p:spPr>
          <a:xfrm flipV="1" rot="5103600">
            <a:off x="6976080" y="2380320"/>
            <a:ext cx="914400" cy="78876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ердце 10"/>
          <p:cNvSpPr/>
          <p:nvPr/>
        </p:nvSpPr>
        <p:spPr>
          <a:xfrm>
            <a:off x="7429680" y="2571840"/>
            <a:ext cx="914400" cy="500040"/>
          </a:xfrm>
          <a:prstGeom prst="pie">
            <a:avLst/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Капля 12"/>
          <p:cNvSpPr/>
          <p:nvPr/>
        </p:nvSpPr>
        <p:spPr>
          <a:xfrm rot="3571200">
            <a:off x="6806880" y="3963960"/>
            <a:ext cx="1253880" cy="60012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Капля 13"/>
          <p:cNvSpPr/>
          <p:nvPr/>
        </p:nvSpPr>
        <p:spPr>
          <a:xfrm rot="10800000">
            <a:off x="8501040" y="3357720"/>
            <a:ext cx="285840" cy="142848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90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1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5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96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7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1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2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3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8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9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9999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ff9999"/>
                </a:solidFill>
                <a:latin typeface="Calibri"/>
              </a:rPr>
              <a:t>From Hist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88600" y="1857240"/>
            <a:ext cx="79837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St. Valentine`s Day as a lovers` festival dates at least from the 14</a:t>
            </a:r>
            <a:r>
              <a:rPr b="0" lang="en-US" sz="1800" spc="-1" strike="noStrike" baseline="30000">
                <a:solidFill>
                  <a:srgbClr val="002776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 century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Generations of young (and not very young) people have regar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St.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Valentine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as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the friend and patron of those who are in lov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However, St. Valentine is rather a mysterious figure. In Ancient Rome there w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two martyrs of that name. One of them was a priest who perished in 269 AD,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other was a bishop who was executed in 273 AD. It is said that before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execution he sent a note of friendship to his jailer`s blind daughter and signed 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it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“Your Valentine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It is not clear, unfortunately, which of the two is really the lovers` saint. The f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known facts of their lives are so interwoven with undocumented traditions that is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impossible to separate fact from legend.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Documents and Settings\Admin\Мои документы\Мои рисунки\Организатор клипов (Microsoft)\j0436221.png"/>
          <p:cNvPicPr/>
          <p:nvPr/>
        </p:nvPicPr>
        <p:blipFill>
          <a:blip r:embed="rId1"/>
          <a:stretch/>
        </p:blipFill>
        <p:spPr>
          <a:xfrm>
            <a:off x="428760" y="142920"/>
            <a:ext cx="2571480" cy="18572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j0310062.wmf"/>
          <p:cNvPicPr/>
          <p:nvPr/>
        </p:nvPicPr>
        <p:blipFill>
          <a:blip r:embed="rId2"/>
          <a:stretch/>
        </p:blipFill>
        <p:spPr>
          <a:xfrm>
            <a:off x="5214960" y="5072040"/>
            <a:ext cx="15127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j0413460.wmf"/>
          <p:cNvPicPr/>
          <p:nvPr/>
        </p:nvPicPr>
        <p:blipFill>
          <a:blip r:embed="rId3"/>
          <a:stretch/>
        </p:blipFill>
        <p:spPr>
          <a:xfrm>
            <a:off x="6357960" y="0"/>
            <a:ext cx="2219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0074E-006 C 0.01198 -0.02405 0.03299 -0.05851 0.05799 -0.05851 C 0.09496 -0.05851 0.125 -0.02266 0.125 0.02267 C 0.125 0.03724 0.12205 0.05065 0.11597 0.06268 C 0.11701 0.06268 1.11111E-006 0.24237 1.11111E-006 0.24376 C 1.11111E-006 0.24237 -0.11701 0.06268 -0.11597 0.06268 C -0.12205 0.05065 -0.125 0.03724 -0.125 0.02267 C -0.125 -0.02266 -0.09497 -0.05851 -0.05695 -0.05851 C -0.03299 -0.05851 -0.01198 -0.02405 1.11111E-006 -3.20074E-006 Z">
                                      <p:cBhvr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j_g-lesnaja_kolybelx-2.mp3" descr=""/>
          <p:cNvPicPr/>
          <p:nvPr/>
        </p:nvPicPr>
        <p:blipFill>
          <a:blip r:embed="rId1"/>
          <a:stretch/>
        </p:blipFill>
        <p:spPr>
          <a:xfrm>
            <a:off x="807228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j0388814.wmf"/>
          <p:cNvPicPr/>
          <p:nvPr/>
        </p:nvPicPr>
        <p:blipFill>
          <a:blip r:embed="rId2"/>
          <a:stretch/>
        </p:blipFill>
        <p:spPr>
          <a:xfrm>
            <a:off x="8143920" y="3500280"/>
            <a:ext cx="1357200" cy="177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Admin\Мои документы\Мои рисунки\Организатор клипов (Microsoft)\j0436188.png"/>
          <p:cNvPicPr/>
          <p:nvPr/>
        </p:nvPicPr>
        <p:blipFill>
          <a:blip r:embed="rId3"/>
          <a:stretch/>
        </p:blipFill>
        <p:spPr>
          <a:xfrm>
            <a:off x="0" y="5929200"/>
            <a:ext cx="4572000" cy="9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Admin\Мои документы\Мои рисунки\Организатор клипов (Microsoft)\j0436188.png"/>
          <p:cNvPicPr/>
          <p:nvPr/>
        </p:nvPicPr>
        <p:blipFill>
          <a:blip r:embed="rId4"/>
          <a:stretch/>
        </p:blipFill>
        <p:spPr>
          <a:xfrm>
            <a:off x="4191120" y="5929200"/>
            <a:ext cx="4952880" cy="928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071720" y="1285920"/>
            <a:ext cx="74293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St. Valentine`s Day is often associated with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birds.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People once believed that birds began to choose their mates on February 14</a:t>
            </a:r>
            <a:r>
              <a:rPr b="0" lang="en-US" sz="1800" spc="-1" strike="noStrike" baseline="30000">
                <a:solidFill>
                  <a:srgbClr val="00b0f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. Chaucer refers to it, as well as Shakespeare. Probably the keeping of St. Valentine`s Day as a day for people in love grew out of this beli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The custom of choosing a Valentine`s Day sweetheart may go back to the Lupercalia, a fertility festival of ancient Rome, which was held in the middle of February. Roman girls decorated love messages and put them in a large box. Unmarried young men drew the names from the box and in this way chose their partners for the festi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The drawing of the names of young women from a box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St. Valentine`s Day continued for centuries in many countries. This custom was also popular in England. A 17</a:t>
            </a:r>
            <a:r>
              <a:rPr b="0" lang="en-US" sz="1800" spc="-1" strike="noStrike" baseline="30000">
                <a:solidFill>
                  <a:srgbClr val="00b0f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century</a:t>
            </a:r>
            <a:r>
              <a:rPr b="0" lang="en-US" sz="1800" spc="-1" strike="noStrike" baseline="30000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French writer described how he visited an English house on February 14</a:t>
            </a:r>
            <a:r>
              <a:rPr b="0" lang="en-US" sz="1800" spc="-1" strike="noStrike" baseline="30000">
                <a:solidFill>
                  <a:srgbClr val="00b0f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and how the guests drew lots for partners by writing down names on pieces of pap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hearts050.gif"/>
          <p:cNvPicPr/>
          <p:nvPr/>
        </p:nvPicPr>
        <p:blipFill>
          <a:blip r:embed="rId5"/>
          <a:stretch/>
        </p:blipFill>
        <p:spPr>
          <a:xfrm>
            <a:off x="1214280" y="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hearts050.gif"/>
          <p:cNvPicPr/>
          <p:nvPr/>
        </p:nvPicPr>
        <p:blipFill>
          <a:blip r:embed="rId6"/>
          <a:stretch/>
        </p:blipFill>
        <p:spPr>
          <a:xfrm>
            <a:off x="5429160" y="0"/>
            <a:ext cx="1905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55 0.00277 C -0.20955 -0.06962 -0.17153 -0.12489 -0.12414 -0.12489 C -0.07604 -0.12489 -0.03681 -0.06962 -0.03681 0.00277 C -0.03681 0.07516 0.00173 0.13066 0.05069 0.13066 C 0.09791 0.13066 0.13698 0.07516 0.13698 0.00277 E">
                                      <p:cBhvr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95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396 0.00278 C -0.32396 0.0495 -0.28907 0.08534 -0.24653 0.08534 C -0.20209 0.08534 -0.16684 0.0495 -0.16684 0.00278 C -0.16684 -0.04394 -0.13177 -0.07978 -0.08733 -0.07978 C -0.04427 -0.07978 -0.00886 -0.04394 -0.00886 0.00278 E">
                                      <p:cBhvr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25645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Heart-and-Bear-Balloon.gif"/>
          <p:cNvPicPr/>
          <p:nvPr/>
        </p:nvPicPr>
        <p:blipFill>
          <a:blip r:embed="rId1"/>
          <a:stretch/>
        </p:blipFill>
        <p:spPr>
          <a:xfrm>
            <a:off x="6000840" y="0"/>
            <a:ext cx="3500280" cy="2786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85840" y="642960"/>
            <a:ext cx="8858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There are a lot of traditions connected with St. Valentine`s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Most of them have died. Some of them have survived. To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Valentine`s Day remains, as ever, a day to express lov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its main meaning is a sentimental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People of all ages send valentines, serious and comic – to their own true lo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but also to family members and friends. Valentine cards that we know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first appeared in the 18</a:t>
            </a:r>
            <a:r>
              <a:rPr b="0" lang="en-US" sz="1800" spc="-1" strike="noStrike" baseline="30000">
                <a:solidFill>
                  <a:srgbClr val="00449e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centu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Sweethearts used to spend hours making their own valentines. Lace, sat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ribbon, coloured paper, wild flowers, moss, feather and shells, all were us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make them look more “attractive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The commercial card appeared in the 19</a:t>
            </a:r>
            <a:r>
              <a:rPr b="0" lang="en-US" sz="1800" spc="-1" strike="noStrike" baseline="30000">
                <a:solidFill>
                  <a:srgbClr val="00449e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century. It was brigh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coloured and decorated, and later on even perfumed. It con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a ready-made sentiment to suit all ta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Shops began selling paper hearts, bows and arrows, cupids, ro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Of course it is especially young people and children who look forwar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St.  Valentine`s Day, hoping to receive as many cards as possi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The greatest fun is to guess who has sent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b7a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j0283009.gif"/>
          <p:cNvPicPr/>
          <p:nvPr/>
        </p:nvPicPr>
        <p:blipFill>
          <a:blip r:embed="rId2"/>
          <a:stretch/>
        </p:blipFill>
        <p:spPr>
          <a:xfrm>
            <a:off x="7358040" y="3071880"/>
            <a:ext cx="1928880" cy="2214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1928880" y="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ustoms and 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9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900"/>
                            </p:stCondLst>
                            <p:childTnLst>
                              <p:par>
                                <p:cTn id="13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900"/>
                            </p:stCondLst>
                            <p:childTnLst>
                              <p:par>
                                <p:cTn id="16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7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900"/>
                            </p:stCondLst>
                            <p:childTnLst>
                              <p:par>
                                <p:cTn id="16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900"/>
                            </p:stCondLst>
                            <p:childTnLst>
                              <p:par>
                                <p:cTn id="17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9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900"/>
                            </p:stCondLst>
                            <p:childTnLst>
                              <p:par>
                                <p:cTn id="18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2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900"/>
                            </p:stCondLst>
                            <p:childTnLst>
                              <p:par>
                                <p:cTn id="18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8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9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1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900"/>
                            </p:stCondLst>
                            <p:childTnLst>
                              <p:par>
                                <p:cTn id="19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4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900"/>
                            </p:stCondLst>
                            <p:childTnLst>
                              <p:par>
                                <p:cTn id="19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0" dur="1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1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" dur="1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900"/>
                            </p:stCondLst>
                            <p:childTnLst>
                              <p:par>
                                <p:cTn id="20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6" dur="1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8" dur="1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9" dur="1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2" dur="1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900"/>
                            </p:stCondLst>
                            <p:childTnLst>
                              <p:par>
                                <p:cTn id="22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10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900"/>
                            </p:stCondLst>
                            <p:childTnLst>
                              <p:par>
                                <p:cTn id="2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0" dur="10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1" dur="10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10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00040" y="5000760"/>
            <a:ext cx="2428920" cy="1714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76438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VALENTINE RHYMES &amp; MESSAGES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3880" y="356760"/>
            <a:ext cx="8215560" cy="564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Traditional valentine cards are in rhymes and sentimental in nature. In old times sweethearts composed their sentimental valentines themselves. It was not an easy thing to write a serious message avoiding commonplace variations of “mine” and “ fine” and “Valentine”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         </a:t>
            </a: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In the last century special books appeared (for example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2776"/>
                </a:solidFill>
                <a:latin typeface="Calibri"/>
              </a:rPr>
              <a:t>       </a:t>
            </a:r>
            <a:r>
              <a:rPr b="0" i="1" lang="en-US" sz="1900" spc="-1" strike="noStrike">
                <a:solidFill>
                  <a:srgbClr val="002776"/>
                </a:solidFill>
                <a:latin typeface="Calibri"/>
              </a:rPr>
              <a:t>St. Valentine`s Sentimental Writer</a:t>
            </a: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)  to help people in love wri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         </a:t>
            </a: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their valentin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        </a:t>
            </a: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Messages can be humorous (they are usually in prose)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Dear Betty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First I love my mother and father. Then I love my grandparents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Then I love my cat Tim and my canary Yellowbird. Then I love  m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records and hi-fi set and after that I love you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</a:t>
            </a: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Jac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hearts066.gif"/>
          <p:cNvPicPr/>
          <p:nvPr/>
        </p:nvPicPr>
        <p:blipFill>
          <a:blip r:embed="rId2"/>
          <a:stretch/>
        </p:blipFill>
        <p:spPr>
          <a:xfrm>
            <a:off x="5630760" y="4714920"/>
            <a:ext cx="3513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3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animClr clrSpc="rgb">
                                      <p:cBhvr>
                                        <p:cTn id="257" dur="2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58" dur="2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animClr clrSpc="rgb">
                                      <p:cBhvr>
                                        <p:cTn id="266" dur="2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67" dur="2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animClr clrSpc="rgb">
                                      <p:cBhvr>
                                        <p:cTn id="275" dur="2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76" dur="2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animClr clrSpc="rgb">
                                      <p:cBhvr>
                                        <p:cTn id="284" dur="2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85" dur="2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29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550"/>
                            </p:stCondLst>
                            <p:childTnLst>
                              <p:par>
                                <p:cTn id="3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8" descr="026.gif"/>
          <p:cNvPicPr/>
          <p:nvPr/>
        </p:nvPicPr>
        <p:blipFill>
          <a:blip r:embed="rId1"/>
          <a:stretch/>
        </p:blipFill>
        <p:spPr>
          <a:xfrm>
            <a:off x="3071880" y="2714760"/>
            <a:ext cx="3000240" cy="2476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019.gif"/>
          <p:cNvPicPr/>
          <p:nvPr/>
        </p:nvPicPr>
        <p:blipFill>
          <a:blip r:embed="rId2"/>
          <a:stretch/>
        </p:blipFill>
        <p:spPr>
          <a:xfrm>
            <a:off x="2500200" y="2571840"/>
            <a:ext cx="4143600" cy="2643120"/>
          </a:xfrm>
          <a:prstGeom prst="rect">
            <a:avLst/>
          </a:prstGeom>
          <a:ln w="0">
            <a:noFill/>
          </a:ln>
        </p:spPr>
      </p:pic>
      <p:sp>
        <p:nvSpPr>
          <p:cNvPr id="71" name="Сердце 2"/>
          <p:cNvSpPr/>
          <p:nvPr/>
        </p:nvSpPr>
        <p:spPr>
          <a:xfrm>
            <a:off x="3000240" y="0"/>
            <a:ext cx="3143520" cy="1643040"/>
          </a:xfrm>
          <a:prstGeom prst="pie">
            <a:avLst/>
          </a:prstGeom>
          <a:solidFill>
            <a:srgbClr val="990033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7a2"/>
                </a:solidFill>
                <a:latin typeface="Calibri"/>
              </a:rPr>
              <a:t>Valentine gif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ердце 3"/>
          <p:cNvSpPr/>
          <p:nvPr/>
        </p:nvSpPr>
        <p:spPr>
          <a:xfrm>
            <a:off x="3571920" y="0"/>
            <a:ext cx="1928880" cy="1285920"/>
          </a:xfrm>
          <a:prstGeom prst="pie">
            <a:avLst/>
          </a:prstGeom>
          <a:solidFill>
            <a:srgbClr val="a50021"/>
          </a:solidFill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ердце 4"/>
          <p:cNvSpPr/>
          <p:nvPr/>
        </p:nvSpPr>
        <p:spPr>
          <a:xfrm>
            <a:off x="4071960" y="571680"/>
            <a:ext cx="914400" cy="714240"/>
          </a:xfrm>
          <a:prstGeom prst="pie">
            <a:avLst/>
          </a:pr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ердце 6"/>
          <p:cNvSpPr/>
          <p:nvPr/>
        </p:nvSpPr>
        <p:spPr>
          <a:xfrm>
            <a:off x="1500120" y="1143000"/>
            <a:ext cx="6108840" cy="5214960"/>
          </a:xfrm>
          <a:prstGeom prst="pie">
            <a:avLst/>
          </a:prstGeom>
          <a:solidFill>
            <a:srgbClr val="ff00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February 14</a:t>
            </a:r>
            <a:r>
              <a:rPr b="0" lang="en-US" sz="2000" spc="-1" strike="noStrike" baseline="30000">
                <a:solidFill>
                  <a:srgbClr val="ff9999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 is the day to send little gifts to those you love. Flowers and sweets are favourite presents. As the day approaches, shops are filled with red, heart-shaped boxes of chocolat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the florists sell thousands of red roses – a symb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lo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4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3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9" descr="122.gif"/>
          <p:cNvPicPr/>
          <p:nvPr/>
        </p:nvPicPr>
        <p:blipFill>
          <a:blip r:embed="rId1"/>
          <a:stretch/>
        </p:blipFill>
        <p:spPr>
          <a:xfrm>
            <a:off x="1285920" y="5357880"/>
            <a:ext cx="1643040" cy="1285920"/>
          </a:xfrm>
          <a:prstGeom prst="rect">
            <a:avLst/>
          </a:prstGeom>
          <a:ln w="0">
            <a:noFill/>
          </a:ln>
        </p:spPr>
      </p:pic>
      <p:sp>
        <p:nvSpPr>
          <p:cNvPr id="76" name="Стрелка вправо 1"/>
          <p:cNvSpPr/>
          <p:nvPr/>
        </p:nvSpPr>
        <p:spPr>
          <a:xfrm>
            <a:off x="2000160" y="142920"/>
            <a:ext cx="5715000" cy="13413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a5002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FOLLOW-UP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714240" y="1500120"/>
            <a:ext cx="807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99cc"/>
                </a:solidFill>
                <a:latin typeface="Arial"/>
              </a:rPr>
              <a:t>It is not an easy thing to compose a valentine. Can you thin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99cc"/>
                </a:solidFill>
                <a:latin typeface="Arial"/>
              </a:rPr>
              <a:t>your own version of the old rhy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"/>
          <p:cNvSpPr/>
          <p:nvPr/>
        </p:nvSpPr>
        <p:spPr>
          <a:xfrm>
            <a:off x="1643040" y="2357280"/>
            <a:ext cx="2857680" cy="15004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oses are r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Violets are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" descr="12.gif"/>
          <p:cNvPicPr/>
          <p:nvPr/>
        </p:nvPicPr>
        <p:blipFill>
          <a:blip r:embed="rId2"/>
          <a:stretch/>
        </p:blipFill>
        <p:spPr>
          <a:xfrm>
            <a:off x="4929120" y="2000160"/>
            <a:ext cx="2500560" cy="2076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006.gif"/>
          <p:cNvPicPr/>
          <p:nvPr/>
        </p:nvPicPr>
        <p:blipFill>
          <a:blip r:embed="rId3"/>
          <a:stretch/>
        </p:blipFill>
        <p:spPr>
          <a:xfrm>
            <a:off x="2786040" y="3929040"/>
            <a:ext cx="342900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лево 8"/>
          <p:cNvSpPr/>
          <p:nvPr/>
        </p:nvSpPr>
        <p:spPr>
          <a:xfrm>
            <a:off x="3429000" y="5357880"/>
            <a:ext cx="2857680" cy="119844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a5002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3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376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3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381" dur="3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39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99"/>
                                      </p:to>
                                    </p:animClr>
                                    <p:animClr clrSpc="rgb">
                                      <p:cBhvr>
                                        <p:cTn id="3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99"/>
                                      </p:to>
                                    </p:animClr>
                                    <p:set>
                                      <p:cBhvr>
                                        <p:cTn id="39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500"/>
                            </p:stCondLst>
                            <p:childTnLst>
                              <p:par>
                                <p:cTn id="407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3154E-006 C 0.00799 0.01064 0.01701 0.02128 0.02101 0.03469 C 0.025 0.04926 0.02708 0.06661 0.02899 0.08395 C 0.03108 0.1013 0.02899 0.11587 0.02708 0.13183 C 0.025 0.14663 0.02205 0.16258 0.01493 0.17577 C 0.00903 0.18918 -0.00104 0.19982 -0.01198 0.20791 C -0.02205 0.21578 -0.03403 0.2211 -0.04601 0.22387 C -0.05799 0.22641 -0.06997 0.22641 -0.08108 0.22387 C -0.09306 0.2211 -0.10399 0.21439 -0.11302 0.20375 C -0.12205 0.1945 -0.13003 0.18247 -0.13403 0.1679 C -0.13906 0.15449 -0.14097 0.13599 -0.14097 0.12119 C -0.14201 0.10662 -0.14097 0.08927 -0.13594 0.0747 C -0.13108 0.06129 -0.12205 0.05065 -0.11007 0.04533 C -0.09792 0.0414 -0.08594 0.04672 -0.07795 0.05597 C -0.07101 0.06522 -0.06597 0.08002 -0.06493 0.09714 C -0.06493 0.11448 -0.06597 0.13044 -0.07101 0.14385 C -0.07604 0.15727 -0.075 0.15981 -0.09497 0.17715 C -0.11302 0.19589 -0.13108 0.19057 -0.14201 0.19172 C -0.15295 0.19172 -0.16198 0.18641 -0.17292 0.18109 C -0.18507 0.17461 -0.19497 0.16258 -0.20208 0.15195 C -0.20903 0.14131 -0.21198 0.12789 -0.21597 0.10662 C -0.21892 0.08534 -0.21892 0.0747 -0.21892 0.05851 C -0.21892 0.04256 -0.21892 0.0266 -0.21892 0.01064 E">
                                      <p:cBhvr>
                                        <p:cTn id="40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152360" y="214200"/>
            <a:ext cx="74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In this wordsearch 12 words are hidden. The words can go acros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right to left, down or in this dir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>
            <a:off x="5000400" y="571680"/>
            <a:ext cx="286200" cy="1432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graphicFrame>
        <p:nvGraphicFramePr>
          <p:cNvPr id="84" name=""/>
          <p:cNvGraphicFramePr/>
          <p:nvPr/>
        </p:nvGraphicFramePr>
        <p:xfrm>
          <a:off x="1187280" y="1155600"/>
          <a:ext cx="7643880" cy="5702400"/>
        </p:xfrm>
        <a:graphic>
          <a:graphicData uri="http://schemas.openxmlformats.org/drawingml/2006/table">
            <a:tbl>
              <a:tblPr/>
              <a:tblGrid>
                <a:gridCol w="765360"/>
                <a:gridCol w="763560"/>
                <a:gridCol w="765360"/>
                <a:gridCol w="763560"/>
                <a:gridCol w="765000"/>
                <a:gridCol w="763560"/>
                <a:gridCol w="765360"/>
                <a:gridCol w="763560"/>
                <a:gridCol w="765000"/>
                <a:gridCol w="763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S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Box 19"/>
          <p:cNvSpPr/>
          <p:nvPr/>
        </p:nvSpPr>
        <p:spPr>
          <a:xfrm>
            <a:off x="3643200" y="17146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 flipH="1">
            <a:off x="4357800" y="1714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5214960" y="1714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6000840" y="171468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3"/>
          <p:cNvSpPr/>
          <p:nvPr/>
        </p:nvSpPr>
        <p:spPr>
          <a:xfrm>
            <a:off x="6786720" y="1714680"/>
            <a:ext cx="6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4"/>
          <p:cNvSpPr/>
          <p:nvPr/>
        </p:nvSpPr>
        <p:spPr>
          <a:xfrm flipH="1">
            <a:off x="8286840" y="1214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5214960" y="2286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8286840" y="17859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7500960" y="2286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8286840" y="228600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9"/>
          <p:cNvSpPr/>
          <p:nvPr/>
        </p:nvSpPr>
        <p:spPr>
          <a:xfrm>
            <a:off x="1428840" y="28576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0"/>
          <p:cNvSpPr/>
          <p:nvPr/>
        </p:nvSpPr>
        <p:spPr>
          <a:xfrm>
            <a:off x="3000240" y="285768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1"/>
          <p:cNvSpPr/>
          <p:nvPr/>
        </p:nvSpPr>
        <p:spPr>
          <a:xfrm>
            <a:off x="3714840" y="2857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2"/>
          <p:cNvSpPr/>
          <p:nvPr/>
        </p:nvSpPr>
        <p:spPr>
          <a:xfrm>
            <a:off x="4429080" y="285768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3"/>
          <p:cNvSpPr/>
          <p:nvPr/>
        </p:nvSpPr>
        <p:spPr>
          <a:xfrm>
            <a:off x="5286240" y="285768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5"/>
          <p:cNvSpPr/>
          <p:nvPr/>
        </p:nvSpPr>
        <p:spPr>
          <a:xfrm>
            <a:off x="7500960" y="2928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6"/>
          <p:cNvSpPr/>
          <p:nvPr/>
        </p:nvSpPr>
        <p:spPr>
          <a:xfrm>
            <a:off x="8286840" y="292896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7"/>
          <p:cNvSpPr/>
          <p:nvPr/>
        </p:nvSpPr>
        <p:spPr>
          <a:xfrm>
            <a:off x="142884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7a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8"/>
          <p:cNvSpPr/>
          <p:nvPr/>
        </p:nvSpPr>
        <p:spPr>
          <a:xfrm>
            <a:off x="3000240" y="3500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3714840" y="3143160"/>
            <a:ext cx="4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4429080" y="3500280"/>
            <a:ext cx="4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5286240" y="3500280"/>
            <a:ext cx="4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7500960" y="342900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8286840" y="3429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1428840" y="400068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5286240" y="400068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7500960" y="400068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8286840" y="400068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1500120" y="457200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2214720" y="457200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292896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3714840" y="457200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4500720" y="4572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5286240" y="457200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8"/>
          <p:cNvSpPr/>
          <p:nvPr/>
        </p:nvSpPr>
        <p:spPr>
          <a:xfrm>
            <a:off x="6143760" y="4643280"/>
            <a:ext cx="3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9"/>
          <p:cNvSpPr/>
          <p:nvPr/>
        </p:nvSpPr>
        <p:spPr>
          <a:xfrm>
            <a:off x="742968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0"/>
          <p:cNvSpPr/>
          <p:nvPr/>
        </p:nvSpPr>
        <p:spPr>
          <a:xfrm>
            <a:off x="8215200" y="4572000"/>
            <a:ext cx="5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1"/>
          <p:cNvSpPr/>
          <p:nvPr/>
        </p:nvSpPr>
        <p:spPr>
          <a:xfrm>
            <a:off x="1500120" y="5286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2"/>
          <p:cNvSpPr/>
          <p:nvPr/>
        </p:nvSpPr>
        <p:spPr>
          <a:xfrm>
            <a:off x="2143080" y="528624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3"/>
          <p:cNvSpPr/>
          <p:nvPr/>
        </p:nvSpPr>
        <p:spPr>
          <a:xfrm>
            <a:off x="3000240" y="528624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4"/>
          <p:cNvSpPr/>
          <p:nvPr/>
        </p:nvSpPr>
        <p:spPr>
          <a:xfrm>
            <a:off x="3643200" y="5286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5"/>
          <p:cNvSpPr/>
          <p:nvPr/>
        </p:nvSpPr>
        <p:spPr>
          <a:xfrm>
            <a:off x="4500720" y="52862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6"/>
          <p:cNvSpPr/>
          <p:nvPr/>
        </p:nvSpPr>
        <p:spPr>
          <a:xfrm>
            <a:off x="5286240" y="5286240"/>
            <a:ext cx="4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7"/>
          <p:cNvSpPr/>
          <p:nvPr/>
        </p:nvSpPr>
        <p:spPr>
          <a:xfrm>
            <a:off x="6072120" y="5357880"/>
            <a:ext cx="3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8"/>
          <p:cNvSpPr/>
          <p:nvPr/>
        </p:nvSpPr>
        <p:spPr>
          <a:xfrm>
            <a:off x="6858000" y="528624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9"/>
          <p:cNvSpPr/>
          <p:nvPr/>
        </p:nvSpPr>
        <p:spPr>
          <a:xfrm>
            <a:off x="7500960" y="528624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0"/>
          <p:cNvSpPr/>
          <p:nvPr/>
        </p:nvSpPr>
        <p:spPr>
          <a:xfrm>
            <a:off x="8286840" y="528624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1"/>
          <p:cNvSpPr/>
          <p:nvPr/>
        </p:nvSpPr>
        <p:spPr>
          <a:xfrm>
            <a:off x="7500960" y="578628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2"/>
          <p:cNvSpPr/>
          <p:nvPr/>
        </p:nvSpPr>
        <p:spPr>
          <a:xfrm>
            <a:off x="8286840" y="57862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3"/>
          <p:cNvSpPr/>
          <p:nvPr/>
        </p:nvSpPr>
        <p:spPr>
          <a:xfrm>
            <a:off x="2214720" y="6429240"/>
            <a:ext cx="5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4"/>
          <p:cNvSpPr/>
          <p:nvPr/>
        </p:nvSpPr>
        <p:spPr>
          <a:xfrm>
            <a:off x="2928960" y="642924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3714840" y="64292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6"/>
          <p:cNvSpPr/>
          <p:nvPr/>
        </p:nvSpPr>
        <p:spPr>
          <a:xfrm>
            <a:off x="4429080" y="6429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7"/>
          <p:cNvSpPr/>
          <p:nvPr/>
        </p:nvSpPr>
        <p:spPr>
          <a:xfrm>
            <a:off x="5286240" y="642924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8"/>
          <p:cNvSpPr/>
          <p:nvPr/>
        </p:nvSpPr>
        <p:spPr>
          <a:xfrm>
            <a:off x="6072120" y="6429240"/>
            <a:ext cx="4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9"/>
          <p:cNvSpPr/>
          <p:nvPr/>
        </p:nvSpPr>
        <p:spPr>
          <a:xfrm>
            <a:off x="6858000" y="642924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0"/>
          <p:cNvSpPr/>
          <p:nvPr/>
        </p:nvSpPr>
        <p:spPr>
          <a:xfrm>
            <a:off x="8286840" y="63579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4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5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6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9" dur="25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0" dur="25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1" dur="25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4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5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6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9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0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1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4" dur="25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5" dur="25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6" dur="25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40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41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50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46" dur="50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47" dur="50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2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3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50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8" dur="50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9" dur="50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64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65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8" dur="25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9" dur="25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25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73" dur="25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4" dur="25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5" dur="25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78" dur="25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9" dur="25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0" dur="25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3" dur="25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4" dur="25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5" dur="25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8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9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0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500"/>
                            </p:stCondLst>
                            <p:childTnLst>
                              <p:par>
                                <p:cTn id="49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3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4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99" dur="50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00" dur="50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50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05" dur="50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06" dur="50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11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12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50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17" dur="50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18" dur="50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23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24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50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29" dur="50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30" dur="50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4" dur="25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5" dur="25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8" dur="25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9" dur="25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0" dur="25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43" dur="25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4" dur="25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5" dur="25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50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49" dur="50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50" dur="50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50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55" dur="50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56" dur="50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50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61" dur="50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62" dur="50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5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6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0" dur="25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1" dur="25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2" dur="25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5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6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7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1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2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50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7" dur="50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8" dur="50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50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93" dur="50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94" dur="50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97" dur="25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8" dur="25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9" dur="25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02" dur="25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3" dur="25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4" dur="25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07" dur="25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8" dur="25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9" dur="25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2" dur="25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3" dur="25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4" dur="25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18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19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24" dur="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25" dur="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50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0" dur="50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1" dur="50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6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7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0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1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2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5" dur="25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6" dur="25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7" dur="25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50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1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2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50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56" dur="50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57" dur="50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50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2" dur="50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3" dur="50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50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8" dur="50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9" dur="50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72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3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4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77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8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2" dur="25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3" dur="25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4" dur="25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68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7" dur="25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8" dur="25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25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92" dur="25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3" dur="25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4" dur="25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500"/>
                            </p:stCondLst>
                            <p:childTnLst>
                              <p:par>
                                <p:cTn id="69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7" dur="50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98" dur="50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99" dur="50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3" dur="50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4" dur="50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5" dur="50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50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10" dur="50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11" dur="50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16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17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50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22" dur="50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23" dur="50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26" dur="25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7" dur="25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8" dur="25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31" dur="25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2" dur="25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3" dur="25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36" dur="25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7" dur="25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8" dur="25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500"/>
                            </p:stCondLst>
                            <p:childTnLst>
                              <p:par>
                                <p:cTn id="74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1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2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6" dur="25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7" dur="25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8" dur="25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500"/>
                            </p:stCondLst>
                            <p:childTnLst>
                              <p:par>
                                <p:cTn id="75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1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52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53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7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58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59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64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65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0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1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50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6" dur="50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7" dur="50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80" dur="25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1" dur="25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2" dur="25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85" dur="25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6" dur="25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7" dur="25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90" dur="25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1" dur="25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25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500"/>
                            </p:stCondLst>
                            <p:childTnLst>
                              <p:par>
                                <p:cTn id="79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95" dur="25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6" dur="25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7" dur="25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0" dur="25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1" dur="25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2" dur="25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06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07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1" dur="50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2" dur="50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3" dur="50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8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9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3" dur="50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24" dur="50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25" dur="50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30" dur="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31" dur="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34" dur="25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5" dur="25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6" dur="25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39" dur="25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0" dur="25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1" dur="25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44" dur="25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5" dur="25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6" dur="25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50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0" dur="50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1" dur="50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5" dur="50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6" dur="50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7" dur="50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62" dur="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63" dur="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66" dur="25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7" dur="25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8" dur="25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71" dur="25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2" dur="25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3" dur="25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76" dur="25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7" dur="25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8" dur="25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8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81" dur="25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82" dur="25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25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8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86" dur="25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87" dur="25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8" dur="25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500"/>
                            </p:stCondLst>
                            <p:childTnLst>
                              <p:par>
                                <p:cTn id="89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91" dur="25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2" dur="25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3" dur="25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89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96" dur="25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7" dur="25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8" dur="25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01" dur="25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2" dur="25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3" dur="25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0"/>
                            </p:stCondLst>
                            <p:childTnLst>
                              <p:par>
                                <p:cTn id="90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6" dur="50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07" dur="50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08" dur="50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2" dur="50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13" dur="50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14" dur="50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8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19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20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50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25" dur="50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26" dur="50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0" dur="50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31" dur="50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32" dur="50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6" dur="50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37" dur="50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38" dur="50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2" dur="50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43" dur="50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44" dur="50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8" dur="50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49" dur="50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50" dur="50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53" dur="25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4" dur="25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25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58" dur="25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9" dur="25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0" dur="25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63" dur="25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4" dur="25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5" dur="25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500"/>
                            </p:stCondLst>
                            <p:childTnLst>
                              <p:par>
                                <p:cTn id="96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68" dur="25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9" dur="25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0" dur="25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000"/>
                            </p:stCondLst>
                            <p:childTnLst>
                              <p:par>
                                <p:cTn id="97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3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4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5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8" dur="25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9" dur="25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25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4000"/>
                            </p:stCondLst>
                            <p:childTnLst>
                              <p:par>
                                <p:cTn id="98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3" dur="25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4" dur="25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5" dur="25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9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90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4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95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96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0" dur="50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01" dur="50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02" dur="50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50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07" dur="50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08" dur="50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50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13" dur="50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14" dur="50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8" dur="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19" dur="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20" dur="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25" dur="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26" dur="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1357200" y="428760"/>
            <a:ext cx="70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HERE ARE 6 PROVERBS ABOUT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LOVE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. A KEY WOR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ACH PROVERB IS MISSING. CAN YOU FIND I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928880" y="1357200"/>
            <a:ext cx="5429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Love is 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deaf           b) blind      c) nu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Love is the __________ of l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mother       b) father    c) d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ll is fair in love and 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friendship   b) marriage   c)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Love and ________ are hard to h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hatred        b) poverty      c)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Love me, love my 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face            b) faults         c) 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Love is never without 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jealousy      b) tears         c) quarr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4" descr="heart-fountain.gif"/>
          <p:cNvPicPr/>
          <p:nvPr/>
        </p:nvPicPr>
        <p:blipFill>
          <a:blip r:embed="rId1"/>
          <a:stretch/>
        </p:blipFill>
        <p:spPr>
          <a:xfrm>
            <a:off x="1857240" y="1357200"/>
            <a:ext cx="5715000" cy="4000680"/>
          </a:xfrm>
          <a:prstGeom prst="rect">
            <a:avLst/>
          </a:prstGeom>
          <a:ln w="9360">
            <a:solidFill>
              <a:srgbClr val="e40059"/>
            </a:solidFill>
            <a:miter/>
          </a:ln>
        </p:spPr>
      </p:pic>
      <p:pic>
        <p:nvPicPr>
          <p:cNvPr id="145" name="Прямоугольник 5" descr=""/>
          <p:cNvPicPr/>
          <p:nvPr/>
        </p:nvPicPr>
        <p:blipFill>
          <a:blip r:embed="rId2"/>
          <a:stretch/>
        </p:blipFill>
        <p:spPr>
          <a:xfrm>
            <a:off x="1566720" y="5456160"/>
            <a:ext cx="6266160" cy="1249560"/>
          </a:xfrm>
          <a:prstGeom prst="rect">
            <a:avLst/>
          </a:prstGeom>
          <a:ln w="0">
            <a:noFill/>
          </a:ln>
        </p:spPr>
      </p:pic>
      <p:pic>
        <p:nvPicPr>
          <p:cNvPr id="146" name="sergey_s_g-story_-_sergey_sirotin__golden_light_orchestra-2.mp3" descr=""/>
          <p:cNvPicPr/>
          <p:nvPr/>
        </p:nvPicPr>
        <p:blipFill>
          <a:blip r:embed="rId3"/>
          <a:stretch/>
        </p:blipFill>
        <p:spPr>
          <a:xfrm>
            <a:off x="8636040" y="6429240"/>
            <a:ext cx="150840" cy="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4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4796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Frantsuzenko</dc:creator>
  <dc:description/>
  <cp:keywords>Holidays</cp:keywords>
  <dc:language>en-US</dc:language>
  <cp:lastModifiedBy>1</cp:lastModifiedBy>
  <dcterms:modified xsi:type="dcterms:W3CDTF">2013-02-16T12:56:50Z</dcterms:modified>
  <cp:revision>119</cp:revision>
  <dc:subject>Valentine`s Day</dc:subject>
  <dc:title>Валентинка</dc:title>
</cp:coreProperties>
</file>