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2FB-C451-4926-84FE-4F46D1E6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23A-6D34-4266-B5BA-CEBBEAE4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FB8-B40A-4668-A0C8-70B9CB1A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C5B-8C93-4BBD-988A-B9CA1253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74A-6655-4EC1-9BAB-032300E5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A798-6A64-4CFA-8157-3C63B19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E15-2C74-4D7B-BC9D-67B24C3B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A029-6418-4408-A70D-F7A4E822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051-2717-450E-BECB-2B92049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8D0-DA77-4899-8020-2D9472F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209-D23C-4C67-8D1F-4769658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120-5D30-47D4-A513-5480721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29A-0A06-408D-BACC-A3208C18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8AE6-AF5B-4026-B89A-FFBEF71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25BD-8904-4885-B27C-C8EC41A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7D75-2F09-4B67-BA94-C30EE89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D800-4D49-48F6-B31E-E336F7D1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1F66-3D03-4875-8314-9BDE9E8F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FABA-B932-477D-B9FF-44A4641E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8B6A-20B4-4348-AD3D-B346ADE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EDDD-D798-432A-9D3B-4537EE9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AA33-3A97-4375-A579-FE67536F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81A-14A4-4BD9-BEF2-70AF045E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4EEC-BFB4-458F-B70E-14B760C7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026A-FD0A-455A-A42F-60E3068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E0A8-DBBF-4C1C-BBE0-9A083E7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AC9F-7F7E-45DD-BEDB-B40065E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81A8-038D-446C-94E9-B3868ED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4BDC-F9D2-4BD9-8EAA-190857EB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8B13-0470-4181-A76D-04B789AA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7AB-F3C6-40F0-8B3D-DBA07BEA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3A5-BAB2-4364-B790-1436B7EB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2EB-5DD5-41BB-9C65-71ADB2B5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426-BF79-4347-AE7E-A7B1C62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A35-D515-4AE5-8FCB-E84831B5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ABA-8E79-47D4-8976-DD038BA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45F-CCFC-4D5E-B776-1D1958535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A36-56AB-4755-BD1E-D53C698864A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D21-216B-4C9F-ABF6-BEA4B0ABF3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900000" y="3141720"/>
            <a:ext cx="79250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Alex</cp:lastModifiedBy>
  <dcterms:modified xsi:type="dcterms:W3CDTF">2016-09-19T15:21:11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