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8FB-D139-4EB4-911A-758FD945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B52-3560-4718-89E3-FC31D31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60-0DBC-4780-9A64-3592C4EE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56C-532C-4D6E-A5DE-6E6262E3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86FA-5CFF-4711-84B4-B4BF1060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1BE7-D4B1-4524-B627-C0B1C83D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CBF2-0AF7-4CE6-9C0C-8056173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D23C-5384-447E-B44F-1628284F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B919-9BB3-4128-9638-3C5876CB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C93D-F77F-432D-BD46-4D8D2E7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18B6-C8F7-4C76-AA47-A99BB97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654-C053-44DD-BC44-3431719F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C355-EA2C-469D-9CC7-BDD27472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BBF1-031B-4C1A-BFEB-1EF57E85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54C0-8B8A-4E2D-9F15-8A70E0A2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483-600E-4086-A7C6-FBD28335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8146-F0F9-49F4-A846-9925961F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A178-D255-4199-B4BD-8EBD0786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8E1E-0861-476C-9411-96775F3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EA09-6311-4145-9442-560E421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F6BE-8DE7-4C04-BCAD-E23EE3C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2853-EEE2-41CF-8287-AE6A16E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EF7-63A8-4050-8277-10725E6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6AE3-8599-41A7-BD1F-690015CC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F058-A0AF-46F0-B716-3D48526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19F6-3141-452F-A87E-F0DCA7B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0563-A025-4385-B0BD-6B3EF08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B185-A9FE-4F52-B77E-20551EF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C4F0-EFC1-4960-B5C7-971ED336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617D-67A4-4CC7-916E-5E911CE0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321-9BC8-42CE-A733-4C92972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179-96AE-44C3-A774-BFF02D6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63E-6A40-4BB6-86C9-3CAC5E95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D73-47F6-467C-B17E-5795D38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4DA-1CEF-4ACD-92B5-2878489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5B5-2086-47A6-B384-C17C413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1D79-93CD-4DD1-9C3A-B3D75D7B3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77D-0E39-4E90-BF2B-68645BA4040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2DD-AFC2-4966-B698-B4994720861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900000" y="3141720"/>
            <a:ext cx="79250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Alex</cp:lastModifiedBy>
  <dcterms:modified xsi:type="dcterms:W3CDTF">2016-09-19T15:21:11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