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.png" ContentType="image/png"/>
  <Override PartName="/ppt/media/image7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2.gif" ContentType="image/gif"/>
  <Override PartName="/ppt/media/image5.png" ContentType="image/png"/>
  <Override PartName="/ppt/media/image8.gif" ContentType="image/gif"/>
  <Override PartName="/ppt/media/image13.gif" ContentType="image/gif"/>
  <Override PartName="/ppt/media/image9.gif" ContentType="image/gif"/>
  <Override PartName="/ppt/media/image10.gif" ContentType="image/gif"/>
  <Override PartName="/ppt/media/image14.png" ContentType="image/pn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3AC5-A648-40C7-A75D-EB8CDA69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9F35-9735-4C69-B58F-B812E1B5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E1B6-2E16-4AED-B433-1FDD196D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0EA9-AC2F-41AF-98AA-0F0AA447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EBEF-4958-485C-A2D9-C809680E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412A-2659-404E-828B-BB6910CD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80B5-C807-4B71-BA43-5EAF3967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2A34-A6F8-4978-A2BD-D7703148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0B7A-3542-49D8-BAD5-2F33E373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5FE5-0C1A-43A6-8D00-3BE88659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3FCD-C5A1-4D8B-B1EB-029684D6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2B15-104E-4A8C-8BCD-D91D9730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3476B5-06BB-46D6-AE35-BA2B0C3CA8F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png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неклассное мероприятие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2"/>
          <p:cNvSpPr txBox="1"/>
          <p:nvPr/>
        </p:nvSpPr>
        <p:spPr>
          <a:xfrm>
            <a:off x="762120" y="2057400"/>
            <a:ext cx="74674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Веселые старты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228600" y="304920"/>
            <a:ext cx="861048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«Метание валенк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расстоянии 5-6 м. лежит обруч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сигналу впереди стоящий метает валенок, стараясь попасть в  обру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тем он же бежит за валенк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гает колонну и передает его впереди стояще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авило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каждое попадание с результата сбрасывается 2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990720" y="4800600"/>
            <a:ext cx="828720" cy="1238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1676520" y="4876920"/>
            <a:ext cx="828720" cy="1238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tretch/>
        </p:blipFill>
        <p:spPr>
          <a:xfrm>
            <a:off x="304920" y="4800600"/>
            <a:ext cx="828720" cy="1238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tretch/>
        </p:blipFill>
        <p:spPr>
          <a:xfrm>
            <a:off x="4800600" y="5105520"/>
            <a:ext cx="2495520" cy="831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6553080" y="4572000"/>
            <a:ext cx="1648080" cy="170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6"/>
          <a:stretch/>
        </p:blipFill>
        <p:spPr>
          <a:xfrm>
            <a:off x="3200400" y="4952880"/>
            <a:ext cx="298440" cy="144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7"/>
          <a:stretch/>
        </p:blipFill>
        <p:spPr>
          <a:xfrm>
            <a:off x="2438280" y="4876920"/>
            <a:ext cx="828720" cy="12380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9"/>
          <p:cNvSpPr/>
          <p:nvPr/>
        </p:nvSpPr>
        <p:spPr>
          <a:xfrm>
            <a:off x="6629400" y="6095880"/>
            <a:ext cx="2057400" cy="381240"/>
          </a:xfrm>
          <a:custGeom>
            <a:avLst/>
            <a:gdLst>
              <a:gd name="textAreaLeft" fmla="*/ 360000 w 2057400"/>
              <a:gd name="textAreaRight" fmla="*/ 1491840 w 20574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 rot="13560000">
            <a:off x="7165440" y="4571280"/>
            <a:ext cx="2057400" cy="685800"/>
          </a:xfrm>
          <a:custGeom>
            <a:avLst/>
            <a:gdLst>
              <a:gd name="textAreaLeft" fmla="*/ 360000 w 2057400"/>
              <a:gd name="textAreaRight" fmla="*/ 1491840 w 20574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611280" y="235080"/>
            <a:ext cx="49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2. «Стирка и сушк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685800" y="91440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вентарь: Пластмассовый таз, веревка, майка, шорт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прищеп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371600" y="1066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355760" y="5751360"/>
            <a:ext cx="115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2280" y="2743200"/>
            <a:ext cx="6477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уках у первого таз, по сигналу он бежит к натянутой веревке. Вешает майку, шорты прищепляет прищепками, возвращается и передает таз следующему, следующий участник сним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игрывает тот, кто первым заканчивает зад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6553080" y="2438280"/>
            <a:ext cx="238284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3. «Построить звезд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расстоянии 15 м. на полу чертится контур звезды. За линией старта леж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 гимнастических палок. По сигналу первый участник берет 1 гим. палку и кладет на контур. Возвращаясь ударом ладони передает эстафету следующему участнику. Выигрывает команда закончившая задание пер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2260440" cy="2438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6781680" y="4952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4  «Уборка палуб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капитана команды в руках шваб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одна нога в пластмассовом вед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5 м. стоит стойка. По сигна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стники обегают стойку и передают ведро и швабру следующему участн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беждает команда закончившая эстафету пер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7467480" y="4952880"/>
            <a:ext cx="1175040" cy="1676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609480" y="5079960"/>
            <a:ext cx="1981440" cy="1778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304920" y="380880"/>
            <a:ext cx="8305560" cy="50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5. «Накрыть стол»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тазу различные  предметы  по количеству участников ( яблоко, чашка, ложка, банан, пачка печенья, стакан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ый участник берет один предмет и несет его на стол нарисова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лом в 15 м. от  старта .Возвращаясь ударом  ладони  передает эстафет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едующему участнику эстаф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беждает команда перв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шедшая к финиш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248520" y="4038480"/>
            <a:ext cx="2895480" cy="2590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533520" y="1219320"/>
            <a:ext cx="7848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стник садится верхом на большой резиновый мяч , (или зажимает коленями баскетбольный мяч) прыжками движется к стойке, огибает ее и пересекая стартовую линию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ает мяч следующему участни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о: При потере мяча движение нужно начать с того места где потерял мя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WordArt 2"/>
          <p:cNvSpPr txBox="1"/>
          <p:nvPr/>
        </p:nvSpPr>
        <p:spPr>
          <a:xfrm>
            <a:off x="1143000" y="457200"/>
            <a:ext cx="6458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«Барон  Мюнхгаузен на ядре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411120" y="2171880"/>
            <a:ext cx="82296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епашова Мария Владимиро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читель физической культу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У Школа №1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124080" y="3429000"/>
            <a:ext cx="2403720" cy="3124080"/>
          </a:xfrm>
          <a:prstGeom prst="rect">
            <a:avLst/>
          </a:prstGeom>
          <a:ln w="0">
            <a:noFill/>
          </a:ln>
        </p:spPr>
      </p:pic>
      <p:sp>
        <p:nvSpPr>
          <p:cNvPr id="73" name="WordArt 3"/>
          <p:cNvSpPr txBox="1"/>
          <p:nvPr/>
        </p:nvSpPr>
        <p:spPr>
          <a:xfrm>
            <a:off x="1828800" y="0"/>
            <a:ext cx="48196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Желаю всем здоровь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</cp:lastModifiedBy>
  <dcterms:modified xsi:type="dcterms:W3CDTF">2016-09-19T15:42:4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