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2.gif" ContentType="image/gif"/>
  <Override PartName="/ppt/media/image5.png" ContentType="image/png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14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5B3-5318-4F78-A4A4-FC95C7B0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26B-234C-4B83-90F4-75BB2DCA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F26-CB2A-4333-8E06-1AC40476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090-3C73-4345-A31F-85793C78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9FA-5B2B-42EC-9647-C27050C5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9A1-19C2-4098-9B3A-CA28A62C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465-028B-4153-A9E9-0EA8BE4F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662-199D-4C90-8484-AE61B6B9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83E-AF02-469A-BA20-F11B6F93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703-2B0A-42D9-B617-CF871F9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FEC-9AE6-436F-A868-D598E33C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535-7ED7-4607-8E16-9EA6187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DE8176-83CB-4A05-90A2-A972BB916DE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неклассное мероприятие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2"/>
          <p:cNvSpPr txBox="1"/>
          <p:nvPr/>
        </p:nvSpPr>
        <p:spPr>
          <a:xfrm>
            <a:off x="762120" y="2057400"/>
            <a:ext cx="74674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Веселые старты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228600" y="304920"/>
            <a:ext cx="861048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Метание вален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сстоянии 5-6 м. лежит обру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сигналу впереди стоящий метает валенок, стараясь попасть в  обру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он же бежит за валенк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гает колонну и передает его впереди стоящ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ило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каждое попадание с результата сбрасывается 2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828720" cy="12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1676520" y="4876920"/>
            <a:ext cx="828720" cy="1238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828720" cy="123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4800600" y="5105520"/>
            <a:ext cx="2495520" cy="83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6553080" y="4572000"/>
            <a:ext cx="1648080" cy="170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3200400" y="4952880"/>
            <a:ext cx="29844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2438280" y="4876920"/>
            <a:ext cx="828720" cy="12380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9"/>
          <p:cNvSpPr/>
          <p:nvPr/>
        </p:nvSpPr>
        <p:spPr>
          <a:xfrm>
            <a:off x="6629400" y="6095880"/>
            <a:ext cx="2057400" cy="38124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rot="13560000">
            <a:off x="7165440" y="4571280"/>
            <a:ext cx="2057400" cy="6858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11280" y="23508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. «Стирка и суш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85800" y="9144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нтарь: Пластмассовый таз, веревка, майка, шор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прищеп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371600" y="1066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355760" y="5751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2280" y="2743200"/>
            <a:ext cx="647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уках у первого таз, по сигналу он бежит к натянутой веревке. Вешает майку, шорты прищепляет прищепками, возвращается и передает таз следующему, следующий участник сним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игрывает тот, кто первым заканчивает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238284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. «Построить звезд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асстоянии 15 м. на полу чертится контур звезды. За линией старта 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 гимнастических палок. По сигналу первый участник берет 1 гим. палку и кладет на контур. Возвращаясь ударом ладони передает эстафету следующему участнику. Выигрывает команда закончившая задание пер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2260440" cy="243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  «Уборка палуб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апитана команды в руках шваб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одна нога в пластмассовом вед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5 м. стоит стойка. По сигн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и обегают стойку и передают ведро и швабру следующему участ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беждает команда закончившая эстафету пер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467480" y="4952880"/>
            <a:ext cx="117504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09480" y="5079960"/>
            <a:ext cx="1981440" cy="1778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304920" y="380880"/>
            <a:ext cx="830556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5. «Накрыть стол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азу различные  предметы  по количеству участников ( яблоко, чашка, ложка, банан, пачка печенья, стака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й участник берет один предмет и несет его на стол нарисова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лом в 15 м. от  старта .Возвращаясь ударом  ладони  передает эстафе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ющему участнику эстаф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беждает команда пер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шедшая к финиш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2895480" cy="2590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33520" y="1219320"/>
            <a:ext cx="7848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 садится верхом на большой резиновый мяч , (или зажимает коленями баскетбольный мяч) прыжками движется к стойке, огибает ее и пересекая стартовую лини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ет мяч следующему участн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о: При потере мяча движение нужно начать с того места где потерял мя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2"/>
          <p:cNvSpPr txBox="1"/>
          <p:nvPr/>
        </p:nvSpPr>
        <p:spPr>
          <a:xfrm>
            <a:off x="1143000" y="457200"/>
            <a:ext cx="6458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«Барон  Мюнхгаузен на ядре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11120" y="2171880"/>
            <a:ext cx="82296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пашова Мария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итель физической куль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У Школа №1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403720" cy="3124080"/>
          </a:xfrm>
          <a:prstGeom prst="rect">
            <a:avLst/>
          </a:prstGeom>
          <a:ln w="0">
            <a:noFill/>
          </a:ln>
        </p:spPr>
      </p:pic>
      <p:sp>
        <p:nvSpPr>
          <p:cNvPr id="73" name="WordArt 3"/>
          <p:cNvSpPr txBox="1"/>
          <p:nvPr/>
        </p:nvSpPr>
        <p:spPr>
          <a:xfrm>
            <a:off x="1828800" y="0"/>
            <a:ext cx="48196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Желаю всем здоровь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16-09-19T15:42:4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