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2.gif" ContentType="image/gif"/>
  <Override PartName="/ppt/media/image5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A7D-573C-4B09-85FC-805E34C4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A4F-6AAC-4787-848D-0AC90AD8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D38-F03D-4D20-B753-83D65A64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E3B-3F1D-4002-982A-229E5EE6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60E-09E3-4290-90A5-F1AEFE4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551-EF05-4302-BB99-4DC9731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D4D-EC3F-4393-B51F-7A7D33E6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ED3-E924-442B-90DF-C6C146C9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7D7-DB0A-4C5C-9089-03BD1E0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654-A17C-4B14-B667-C1AB86C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E32-0F87-45FC-BBE1-FAA5290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1B4-04D2-4A37-ACE5-E4516BA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0769F2-33AC-4BE2-B7B3-F92D2476D1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неклассное мероприяти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762120" y="2057400"/>
            <a:ext cx="74674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еселые старт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228600" y="304920"/>
            <a:ext cx="86104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етание вален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сстоянии 5-6 м. лежит обру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игналу впереди стоящий метает валенок, стараясь попасть в  обру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он же бежит за вален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гает колонну и передает его впереди стоящ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каждое попадание с результата сбрасывается 2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828720" cy="1238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828720" cy="123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2495520" cy="83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6553080" y="4572000"/>
            <a:ext cx="1648080" cy="17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29844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2438280" y="4876920"/>
            <a:ext cx="828720" cy="12380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>
            <a:off x="6629400" y="6095880"/>
            <a:ext cx="2057400" cy="38124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13560000">
            <a:off x="7165440" y="4571280"/>
            <a:ext cx="2057400" cy="6858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11280" y="2350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«Стирка и суш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85800" y="9144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нтарь: Пластмассовый таз, веревка, майка, шор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рищеп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106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355760" y="5751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2280" y="274320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уках у первого таз, по сигналу он бежит к натянутой веревке. Вешает майку, шорты прищепляет прищепками, возвращается и передает таз следующему, следующий участник сним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игрывает тот, кто первым заканчивает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238284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. «Построить звез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асстоянии 15 м. на полу чертится контур звезды. За линией старта 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гимнастических палок. По сигналу первый участник берет 1 гим. палку и кладет на контур. Возвращаясь ударом ладони передает эстафету следующему участнику. Выигрывает команда закончившая задание пер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260440" cy="243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  «Уборка палу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питана команды в руках шваб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дна нога в пластмассовом вед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5 м. стоит стойка. По сиг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и обегают стойку и передают ведро и швабру следующему участ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еждает команда закончившая эстафету пер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17504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9480" y="5079960"/>
            <a:ext cx="1981440" cy="1778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04920" y="380880"/>
            <a:ext cx="830556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«Накрыть стол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зу различные  предметы  по количеству участников ( яблоко, чашка, ложка, банан, пачка печенья, стака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участник берет один предмет и несет его на стол нарисова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лом в 15 м. от  старта .Возвращаясь ударом  ладони  передает эстафе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ему участнику эстаф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еждает команда пер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шедшая к фин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895480" cy="259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33520" y="121932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 садится верхом на большой резиновый мяч , (или зажимает коленями баскетбольный мяч) прыжками движется к стойке, огибает ее и пересекая стартовую лини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ет мяч следующему участн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о: При потере мяча движение нужно начать с того места где потерял мя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1143000" y="457200"/>
            <a:ext cx="645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«Барон  Мюнхгаузен на ядре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11120" y="2171880"/>
            <a:ext cx="82296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пашова Мари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итель физической куль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У Школа №17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403720" cy="3124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3"/>
          <p:cNvSpPr txBox="1"/>
          <p:nvPr/>
        </p:nvSpPr>
        <p:spPr>
          <a:xfrm>
            <a:off x="1828800" y="0"/>
            <a:ext cx="48196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Желаю всем здоров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6-09-19T15:42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