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23.png" ContentType="image/png"/>
  <Override PartName="/ppt/media/image20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E5C-D39B-40C1-9EAA-45A964A4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2A3-9914-47C6-9468-2001F82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EE2-7AE8-4A03-BC79-A7789F75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6A0-83CA-411D-B937-033A0E5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7A8-1D5A-4FA4-A3A0-7FD7C2E2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FD83-7B44-482B-BC30-A15DDD3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EC3F-6C55-4CE8-B304-CE281C4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325D-0A66-44E4-AE99-4ED13891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ECC1-D94B-4C85-A54B-A79FCE3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C5D-987A-4FFD-88F5-B929D4D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8B33-AA65-4094-8EF0-3CF1AA8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6F6-97A7-458B-8F58-057FB31B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FBA9-E7EF-4F1A-B18E-270350D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DD4-4ACC-4AF3-BD67-64C81F34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E610-50CC-476E-9321-D78ABF4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C1DC-C0A9-4135-A984-23816242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C2BC-ACC7-4BD6-A9F0-E9D9F012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3FB-F8C0-443E-867B-EDB964F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66D-65AD-4D9C-A9D0-2C50C41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6DB-7627-4AD6-9641-E6D0ADF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A0E-F8E4-4B4C-8AD6-E2CCFD40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804-7525-47B2-AC26-7E11FB8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50-6C10-483C-9117-271253B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BDC-3E37-4C18-AA9C-E6676CC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135-AC5C-489B-9797-1D05E04608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A5CA-0CB5-4F4F-9F8E-4B2AB4AC4E40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&#1054;&#1073;%20&#1072;&#1074;&#1090;&#1086;&#1088;&#1077;.ppt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7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2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3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4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5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6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7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8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9" Type="http://schemas.openxmlformats.org/officeDocument/2006/relationships/hyperlink" Target="file:///&#1042;&#1086;&#1083;&#1077;&#1081;&#1073;&#1086;&#1083;.ppt#18. &#1055;&#1086;&#1076;&#1072;&#1095;&#1080;" TargetMode="External"/><Relationship Id="rId10" Type="http://schemas.openxmlformats.org/officeDocument/2006/relationships/hyperlink" Target="file:///&#1042;&#1086;&#1083;&#1077;&#1081;&#1073;&#1086;&#1083;.ppt#21. &#1055;&#1088;&#1080;&#1077;&#1084; &#1084;&#1103;&#1095;&#1072;" TargetMode="External"/><Relationship Id="rId11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2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3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4" Type="http://schemas.openxmlformats.org/officeDocument/2006/relationships/hyperlink" Target="file:///&#1042;&#1086;&#1083;&#1077;&#1081;&#1073;&#1086;&#1083;.ppt#31. &#1055;&#1077;&#1088;&#1077;&#1076;&#1072;&#1095;&#1080;" TargetMode="External"/><Relationship Id="rId15" Type="http://schemas.openxmlformats.org/officeDocument/2006/relationships/hyperlink" Target="file:///&#1042;&#1086;&#1083;&#1077;&#1081;&#1073;&#1086;&#1083;.ppt#32. &#1055;&#1088;&#1080;&#1077;&#1084;&#1099;" TargetMode="External"/><Relationship Id="rId16" Type="http://schemas.openxmlformats.org/officeDocument/2006/relationships/hyperlink" Target="file:///&#1042;&#1086;&#1083;&#1077;&#1081;&#1073;&#1086;&#1083;.ppt#33. &#1055;&#1086;&#1076;&#1072;&#1095;&#1080;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1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065040"/>
            <a:ext cx="640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29841" y="10800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5937120"/>
            <a:ext cx="719280" cy="339840"/>
          </a:xfrm>
          <a:custGeom>
            <a:avLst/>
            <a:gdLst>
              <a:gd name="textAreaLeft" fmla="*/ 21960 w 719280"/>
              <a:gd name="textAreaRight" fmla="*/ 697320 w 71928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91" h="21600">
                <a:moveTo>
                  <a:pt x="0" y="0"/>
                </a:moveTo>
                <a:lnTo>
                  <a:pt x="45691" y="0"/>
                </a:lnTo>
                <a:lnTo>
                  <a:pt x="45691" y="21600"/>
                </a:lnTo>
                <a:lnTo>
                  <a:pt x="0" y="21600"/>
                </a:lnTo>
                <a:close/>
              </a:path>
              <a:path fill="lightenLess" w="45691" h="21600">
                <a:moveTo>
                  <a:pt x="0" y="0"/>
                </a:moveTo>
                <a:lnTo>
                  <a:pt x="45691" y="0"/>
                </a:lnTo>
                <a:lnTo>
                  <a:pt x="44291" y="1400"/>
                </a:lnTo>
                <a:lnTo>
                  <a:pt x="1400" y="1400"/>
                </a:lnTo>
                <a:close/>
              </a:path>
              <a:path fill="darken" w="45691" h="21600">
                <a:moveTo>
                  <a:pt x="45691" y="0"/>
                </a:moveTo>
                <a:lnTo>
                  <a:pt x="45691" y="21600"/>
                </a:lnTo>
                <a:lnTo>
                  <a:pt x="44291" y="20200"/>
                </a:lnTo>
                <a:lnTo>
                  <a:pt x="44291" y="1400"/>
                </a:lnTo>
                <a:close/>
              </a:path>
              <a:path fill="darkenLess" w="45691" h="21600">
                <a:moveTo>
                  <a:pt x="4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1" y="20200"/>
                </a:lnTo>
                <a:close/>
              </a:path>
              <a:path fill="lighten" w="4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1" h="21600">
                <a:moveTo>
                  <a:pt x="15839" y="10800"/>
                </a:moveTo>
                <a:lnTo>
                  <a:pt x="29852" y="3794"/>
                </a:lnTo>
                <a:lnTo>
                  <a:pt x="2985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50880"/>
            <a:ext cx="6264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3"/>
          </p:cNvPr>
          <p:cNvSpPr/>
          <p:nvPr/>
        </p:nvSpPr>
        <p:spPr>
          <a:xfrm>
            <a:off x="46836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9335" y="10800"/>
                </a:moveTo>
                <a:lnTo>
                  <a:pt x="29841" y="3794"/>
                </a:lnTo>
                <a:lnTo>
                  <a:pt x="29841" y="17806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17490" y="3794"/>
                </a:lnTo>
                <a:lnTo>
                  <a:pt x="17490" y="17806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7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67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9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4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80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9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8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0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998"/>
                            </p:stCondLst>
                            <p:childTnLst>
                              <p:par>
                                <p:cTn id="5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998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8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998"/>
                            </p:stCondLst>
                            <p:childTnLst>
                              <p:par>
                                <p:cTn id="5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38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4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9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6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400"/>
                            </p:stCondLst>
                            <p:childTnLst>
                              <p:par>
                                <p:cTn id="6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900"/>
                            </p:stCondLst>
                            <p:childTnLst>
                              <p:par>
                                <p:cTn id="6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900"/>
                            </p:stCondLst>
                            <p:childTnLst>
                              <p:par>
                                <p:cTn id="6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900"/>
                            </p:stCondLst>
                            <p:childTnLst>
                              <p:par>
                                <p:cTn id="6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900"/>
                            </p:stCondLst>
                            <p:childTnLst>
                              <p:par>
                                <p:cTn id="6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900"/>
                            </p:stCondLst>
                            <p:childTnLst>
                              <p:par>
                                <p:cTn id="6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3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998"/>
                            </p:stCondLst>
                            <p:childTnLst>
                              <p:par>
                                <p:cTn id="6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998"/>
                            </p:stCondLst>
                            <p:childTnLst>
                              <p:par>
                                <p:cTn id="7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998"/>
                            </p:stCondLst>
                            <p:childTnLst>
                              <p:par>
                                <p:cTn id="7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998"/>
                            </p:stCondLst>
                            <p:childTnLst>
                              <p:par>
                                <p:cTn id="7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5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1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6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2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 падени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 одной рукой с последующим падением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5" name="Picture 7" descr="в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7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09308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5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8" name="Picture 7" descr="в1"/>
          <p:cNvPicPr/>
          <p:nvPr/>
        </p:nvPicPr>
        <p:blipFill>
          <a:blip r:embed="rId1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4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7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6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е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1" descr="в3"/>
          <p:cNvPicPr/>
          <p:nvPr/>
        </p:nvPicPr>
        <p:blipFill>
          <a:blip r:embed="rId1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38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38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0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2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385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0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2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385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6000" y="638172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1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7" name="Picture 7" descr="волей2"/>
          <p:cNvPicPr/>
          <p:nvPr/>
        </p:nvPicPr>
        <p:blipFill>
          <a:blip r:embed="rId1"/>
          <a:stretch/>
        </p:blipFill>
        <p:spPr>
          <a:xfrm>
            <a:off x="903240" y="2077920"/>
            <a:ext cx="299088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12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 падени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8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6" name="Picture 9" descr="в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1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6-09-19T16:41:59Z</dcterms:modified>
  <cp:revision>71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