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526-3CE4-4D8B-822D-B80BC3DA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77A-431B-4B43-9574-FA97053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8B1-AA7D-47DF-AE6C-226585F3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C80-F96F-4E78-971A-404F7365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E01-C679-45CA-BF57-BF7B6BF8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B7-9AE1-405A-95A5-50467C98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2D0-EFF7-4D9B-ABBD-A1984EF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976-3501-45E3-B298-C449694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D9C-AC39-4A34-985A-E02AB8F4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F43-D1E2-492E-A154-0269669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3ED-A0F1-445E-978F-5A5A778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8D6-1230-4CE6-ADA1-BA1438E8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3BDA9-0A20-4BE3-A919-4C89103A617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95640" y="260280"/>
            <a:ext cx="4464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лейбо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9640" y="594036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ебеде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741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6" name="WordArt 2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н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ж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5952960" cy="3971880"/>
          </a:xfrm>
          <a:prstGeom prst="rect">
            <a:avLst/>
          </a:prstGeom>
          <a:ln w="108000">
            <a:solidFill>
              <a:srgbClr val="0000ff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942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является спортивной игрой с мячом, в которой две команды соревнуются на специальной площадке, разделенной сеткой. 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 игры - направить мяч над сеткой, чтобы он коснулся площадки соперника, и предотвратить такую же попытку сопер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этого команда имеет 3 касания мяча (и еще одно возможное дополнительное касание мяча на блоке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 вводится в игру подачей: подающий игрок ударом направляет мяч на сторону соперника. Розыгрыш каждого мяча продолжается до его приземления на площадку, выхода «за» или ошибки коман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лейболе команда, выигравшая розыгрыш, получает очко (система «каждый розыгрыш - очко»). Когда принимающая команда выигрывает розыгрыш, она получает очко и право подавать, и ее игроки переходят на одну позицию по часовой стрелк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403280" y="1628640"/>
            <a:ext cx="6702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ателем волейбола считается Уильям Дж. Морган, преподаватель физкультуры из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9 февраля 1895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портивном зале он подвесил теннисную сетк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 высоте 197 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его ученики, число которых на площадке не ограничивалось, стали перебрасывать через неё баскетбольную камеру. Морган назвал новую игр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минтоне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зже игра демонстрировалась на конференции колледжей ассоциации молодых христиан в Спрингфилде и по предложению профессора Альфреда Т. Хальстеда получила новое название — «волейбол»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1897 году в США были опубликованы первые правила волейбола: размер площадки 7,6 x 15,1 м (25 x 50 футов), высота сетки 198 см (6,5 фута), мяч окружностью 63,5—68,5 см (25—27 дюймов) и массой 340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личество игроков на площадке и касаний мяча не регламентировалось, очко засчитывалось только при собственной подаче, при неудачной подаче её можно было повторить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грали до 21 очка в парт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1908000" y="260280"/>
            <a:ext cx="568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 волейбо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572000" cy="3436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0" name="Rectangle 2"/>
          <p:cNvSpPr/>
          <p:nvPr/>
        </p:nvSpPr>
        <p:spPr>
          <a:xfrm>
            <a:off x="179280" y="189000"/>
            <a:ext cx="72342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временный волейбо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игра высоких скоростей и больших высот. Атакующий удар нередко производится с высоты, заметно превышающей высоту баскетбольного кольца (порядка 3,5 и более метров), и достигает «цели» за считанные доли секу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35280" y="5445000"/>
            <a:ext cx="7103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овременном волейболе различают пять основных амплуа игроков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вязующий, диагональный нападающий, центральный блокирующий, доигровщик и либер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179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арактеристики удара (касания):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любой части тела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должен быть ударен, а не схвачен и/или брошен. Он может отскочить в любом направлении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различных частей тела, только если соприкосновения происходят одновремен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076720" cy="3809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тия (кроме решающей - 5-ой) выигрывается командой, которая первой набирает 25 очков с преимуществом минимум в 2 очка. В случае равного счета 24-24, игра продолжается до достижения преимущества в 2 очка (26-24, 27-25 и т. д.)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бедителем матча является команда, которая выигрывает три парти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лучае равного счета 2-2, решающая (пятая) партия играется до 15 очков с минимальным преимуществом в 2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762800" cy="3429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4149360"/>
            <a:ext cx="785988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шибки при игре мячом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четыре удара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манда касается мяча 4 раза, чтобы вернуть его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на сторону соперник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дар при поддержк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пользуется поддержкой партнера по команде или любого устройства/предмета в пределах игрового поля для того, чтобы дотянуться до мяч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хва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не ударяет мяч, и мяч оказывается захваченным и/или брошенным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войное касани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ударяет мяч дважды подряд или мяч касается различных частей его тела последователь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545440" cy="31208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4078080"/>
            <a:ext cx="864216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0" tIns="12600" bIns="666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его техническое отличие от классического волейбола заключается в том, что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яч в процессе игры берется в р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ответственно подача, пас партнеру и перевод мяча на сторону соперника осуществля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е ударом, а брос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тч состоит из трех партий, игра в которых вед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 15 оч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ыигрывает команда, победившая в двух партиях. Пионербол включен в программу средних школ по физподготовке и является подготовительным этапом в освоении азов не только волейбола, но и баскетбола. В разных городах России проводятся соревнования по пионербо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2987640" y="115920"/>
            <a:ext cx="374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онер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400720" cy="3566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"/>
          <p:cNvSpPr txBox="1"/>
          <p:nvPr/>
        </p:nvSpPr>
        <p:spPr>
          <a:xfrm>
            <a:off x="183528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яжный волей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3502080"/>
            <a:ext cx="882036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3480" anchor="ctr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ия пляжного волейбола от классическ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оманде 2 игрока, вместо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акт мяча с блоком считается полноценным касанием, то есть после него команда может еще только 2 раза коснуться мяча (в классическом волейболе после блока можно делать еще 3 каса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розыгрыша каждых 7 очков командам надо меняться сторонами, чтобы не было такого, что одна из команд играет все время против солнца или по вет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ляжном волейболе игра ведется до двух выигранных партий, причем две первые играются до 21 очка и третья — до 15 оч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ые покр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43280" y="765000"/>
            <a:ext cx="3635280" cy="2729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11:09Z</dcterms:created>
  <dc:creator>user</dc:creator>
  <dc:description/>
  <dc:language>en-US</dc:language>
  <cp:lastModifiedBy>Евгения Лебедева</cp:lastModifiedBy>
  <dcterms:modified xsi:type="dcterms:W3CDTF">2017-09-08T16:30:39Z</dcterms:modified>
  <cp:revision>14</cp:revision>
  <dc:subject/>
  <dc:title>Слайд 1</dc:title>
</cp:coreProperties>
</file>