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B4A-4AA6-4510-B219-B517849A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745-9683-406B-BCFB-D88335D5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D39-3C92-4CC5-98F4-29E1A020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D08-17D9-44A2-9A98-96A28097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9C7-078F-4DF2-AB69-1DFDEA3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701-31DC-445E-9E49-FEF8DB7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7C3-7EF9-45B0-8626-29D5A8B8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1F9-DB03-4728-B7B0-3DF1932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F58-1162-4473-AEC7-17F2030F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FE5-D027-413B-B2CE-9B236A3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95F-F7D4-48D6-910B-64DC5D94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77A-68E9-4859-941B-D336F97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2366C-67D5-4940-9265-A54B660268E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195640" y="260280"/>
            <a:ext cx="44640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лейбо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9640" y="594036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читель физической культуры МБОУ «Школа №6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ебедев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741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66" name="WordArt 2"/>
          <p:cNvSpPr txBox="1"/>
          <p:nvPr/>
        </p:nvSpPr>
        <p:spPr>
          <a:xfrm>
            <a:off x="1763640" y="40464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нская сборная Рос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волейбол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1"/>
          <p:cNvSpPr txBox="1"/>
          <p:nvPr/>
        </p:nvSpPr>
        <p:spPr>
          <a:xfrm>
            <a:off x="1763640" y="40464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ужская сборная Рос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волейбол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5952960" cy="3971880"/>
          </a:xfrm>
          <a:prstGeom prst="rect">
            <a:avLst/>
          </a:prstGeom>
          <a:ln w="108000">
            <a:solidFill>
              <a:srgbClr val="0000ff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942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является спортивной игрой с мячом, в которой две команды соревнуются на специальной площадке, разделенной сеткой. 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Цель игры - направить мяч над сеткой, чтобы он коснулся площадки соперника, и предотвратить такую же попытку сопер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этого команда имеет 3 касания мяча (и еще одно возможное дополнительное касание мяча на блоке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 вводится в игру подачей: подающий игрок ударом направляет мяч на сторону соперника. Розыгрыш каждого мяча продолжается до его приземления на площадку, выхода «за» или ошибки коман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лейболе команда, выигравшая розыгрыш, получает очко (система «каждый розыгрыш - очко»). Когда принимающая команда выигрывает розыгрыш, она получает очко и право подавать, и ее игроки переходят на одну позицию по часовой стрелк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403280" y="1628640"/>
            <a:ext cx="6702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ателем волейбола считается Уильям Дж. Морган, преподаватель физкультуры из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9 февраля 1895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портивном зале он подвесил теннисную сетку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 высоте 197 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его ученики, число которых на площадке не ограничивалось, стали перебрасывать через неё баскетбольную камеру. Морган назвал новую игру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минтоне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зже игра демонстрировалась на конференции колледжей ассоциации молодых христиан в Спрингфилде и по предложению профессора Альфреда Т. Хальстеда получила новое название — «волейбол».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1897 году в США были опубликованы первые правила волейбола: размер площадки 7,6 x 15,1 м (25 x 50 футов), высота сетки 198 см (6,5 фута), мяч окружностью 63,5—68,5 см (25—27 дюймов) и массой 340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личество игроков на площадке и касаний мяча не регламентировалось, очко засчитывалось только при собственной подаче, при неудачной подаче её можно было повторить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грали до 21 очка в парт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1908000" y="260280"/>
            <a:ext cx="568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 волейбо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572000" cy="34369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0" name="Rectangle 2"/>
          <p:cNvSpPr/>
          <p:nvPr/>
        </p:nvSpPr>
        <p:spPr>
          <a:xfrm>
            <a:off x="179280" y="189000"/>
            <a:ext cx="72342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временный волейбо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то игра высоких скоростей и больших высот. Атакующий удар нередко производится с высоты, заметно превышающей высоту баскетбольного кольца (порядка 3,5 и более метров), и достигает «цели» за считанные доли секу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35280" y="5445000"/>
            <a:ext cx="7103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современном волейболе различают пять основных амплуа игроков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вязующий, диагональный нападающий, центральный блокирующий, доигровщик и либер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1790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арактеристики удара (касания):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может касаться любой части тела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должен быть ударен, а не схвачен и/или брошен. Он может отскочить в любом направлении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яч может касаться различных частей тела, только если соприкосновения происходят одновремен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076720" cy="3809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тия (кроме решающей - 5-ой) выигрывается командой, которая первой набирает 25 очков с преимуществом минимум в 2 очка. В случае равного счета 24-24, игра продолжается до достижения преимущества в 2 очка (26-24, 27-25 и т. д.)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бедителем матча является команда, которая выигрывает три парти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случае равного счета 2-2, решающая (пятая) партия играется до 15 очков с минимальным преимуществом в 2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762800" cy="3429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4149360"/>
            <a:ext cx="785988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шибки при игре мячом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четыре удара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манда касается мяча 4 раза, чтобы вернуть его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на сторону соперника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дар при поддержк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пользуется поддержкой партнера по команде или любого устройства/предмета в пределах игрового поля для того, чтобы дотянуться до мяча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хват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не ударяет мяч, и мяч оказывается захваченным и/или брошенным; 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двойное касание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грок ударяет мяч дважды подряд или мяч касается различных частей его тела последовательно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545440" cy="31208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4078080"/>
            <a:ext cx="864216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0" tIns="12600" bIns="666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его техническое отличие от классического волейбола заключается в том, что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мяч в процессе игры берется в р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ответственно подача, пас партнеру и перевод мяча на сторону соперника осуществля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е ударом, а брос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тч состоит из трех партий, игра в которых вед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 15 оч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ыигрывает команда, победившая в двух партиях. Пионербол включен в программу средних школ по физподготовке и является подготовительным этапом в освоении азов не только волейбола, но и баскетбола. В разных городах России проводятся соревнования по пионербо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2"/>
          <p:cNvSpPr txBox="1"/>
          <p:nvPr/>
        </p:nvSpPr>
        <p:spPr>
          <a:xfrm>
            <a:off x="2987640" y="115920"/>
            <a:ext cx="374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онер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5400720" cy="3566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"/>
          <p:cNvSpPr txBox="1"/>
          <p:nvPr/>
        </p:nvSpPr>
        <p:spPr>
          <a:xfrm>
            <a:off x="1835280" y="189000"/>
            <a:ext cx="576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яжный волей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3502080"/>
            <a:ext cx="882036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3480" anchor="ctr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ия пляжного волейбола от классическ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оманде 2 игрока, вместо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акт мяча с блоком считается полноценным касанием, то есть после него команда может еще только 2 раза коснуться мяча (в классическом волейболе после блока можно делать еще 3 каса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розыгрыша каждых 7 очков командам надо меняться сторонами, чтобы не было такого, что одна из команд играет все время против солнца или по вет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ляжном волейболе игра ведется до двух выигранных партий, причем две первые играются до 21 очка и третья — до 15 оч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ные покры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843280" y="765000"/>
            <a:ext cx="3635280" cy="2729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11:09Z</dcterms:created>
  <dc:creator>user</dc:creator>
  <dc:description/>
  <dc:language>en-US</dc:language>
  <cp:lastModifiedBy>Евгения Лебедева</cp:lastModifiedBy>
  <dcterms:modified xsi:type="dcterms:W3CDTF">2017-09-08T16:30:39Z</dcterms:modified>
  <cp:revision>14</cp:revision>
  <dc:subject/>
  <dc:title>Слайд 1</dc:title>
</cp:coreProperties>
</file>