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E1E-0C99-4B0E-AC79-72E56B4E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1A5-79EE-43F7-968A-FEB4A71B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B1B1-A360-4FF3-8ABA-C97FD0EB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3F3-2D3D-4CB8-A4E8-154EE294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A190-66F8-49ED-B1F9-6F026DF0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520A-A209-49C2-A65C-D4CA039D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053A-857A-435D-A8AB-0DF8E5C2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B63E-82A1-41AF-B318-945F8BD2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88CA-77C6-4FBD-92B7-F8AD5C8E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E81B-E4FF-4ADD-8878-132A866D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D625-3AC7-46FE-8B4E-AF95FB16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B835-3B8A-4D50-9109-956FE4C0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E077-1C0D-4143-AEA1-88035884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FA8F-558E-450F-AAB2-C1034850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8308-6808-4086-8C46-0A25FF96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F2B2-B93A-464D-9EA0-18592D3F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3A0C-B253-443B-B193-B6AFEB47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3E839-ED42-4F27-BC0A-5BC43E63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31D2A-A4A4-483D-BC3A-047866E0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ADFB5-A1CA-479C-B9B1-8E52A9A6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2DB00-DE02-4AA8-A743-7D665CC8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8163D-E239-4498-92CE-0CB9A0F9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42A8-62F3-46AC-BE06-D4D6833F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125EA-DFEC-4656-945A-780BFA1C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4A6C3-EF3E-4479-82B7-43FE5F75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B4F9F-75BA-4E94-B2EB-0AA0EAAE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872A7-6BE2-47A8-94C1-41A9A6B7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0000A-3173-4BCC-B722-BAB14C14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6F4FE-2E80-44BD-A1AA-67E3F231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369D2-C1B2-4B09-9015-E78DEC94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EA633-942E-42EE-8255-AF812A6C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57F90-547F-489A-A3E8-D40B5B42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183EC-9657-4D83-8C25-1942C1A2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649-B257-4D60-A08F-088E36E8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E6EBA-FE17-4DF7-84A1-730A1478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FC521-44DB-4BB3-B114-9E8DDC23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8AEF9-2140-4990-9173-37EE04D3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70ACB-5B5F-49AD-AB1B-6294E36D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A8E11-588B-4D61-A722-36496DDA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D4CFC-77B9-4EAA-B3A2-DFF23770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E9B44-6F4A-4582-9AF4-025111D3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CFA0F-3463-453D-A480-E519C253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F5AAF-4A76-4575-8996-4281C32B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F0363-A6E1-4D1F-9BF0-E51C1B8D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60AA-FEA7-4D98-AE3A-9ABF0BB6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2C08D-49F2-4B5E-B908-C714FEDA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D82C9-5BD9-4E91-BEE6-35170F58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305A2-CC5A-4FD8-88C4-DD5609C4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A6A05-2B8C-42A8-8C0A-446CE504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95BF3-2526-43D9-B200-9468C9C4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A2199-55D6-4AB5-B554-BE82F907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50652-53BD-4B50-8844-AC56E615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978EE-9448-4506-944B-935A365B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C1B17-41DE-46CA-B77A-AAC43273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8DE16-F7F0-458B-8CC9-2400EDAB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E83-1318-4CC3-A0E4-A334BEF1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8DBFD-D8C4-44DD-8E1E-9E047D9C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0A1B-9C40-4B9A-BF13-AEEA7E21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CE8-C6C7-4605-9785-876BEBC7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9F19-030D-45CA-9D4D-15BCD287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79B8-4A59-4C4B-8E19-6646190FF793}" type="slidenum">
              <a:rPr b="0" lang="ru-RU" sz="1100" spc="-1" strike="noStrike">
                <a:solidFill>
                  <a:srgbClr val="4e5b6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FAA7-93EF-4620-AC78-AE4AF7B2B9CA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EE0F-B4B0-418D-BFB5-83BD6FEA450C}" type="slidenum">
              <a:rPr b="0" lang="ru-RU" sz="1100" spc="-1" strike="noStrike">
                <a:solidFill>
                  <a:srgbClr val="4e5b6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89E5-A460-45A2-8346-8864D6506A91}" type="slidenum">
              <a:rPr b="0" lang="ru-RU" sz="11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679B-5C9F-42A6-9EA5-AC8CFF2679CC}" type="slidenum">
              <a:rPr b="0" lang="ru-RU" sz="1100" spc="-1" strike="noStrike">
                <a:solidFill>
                  <a:srgbClr val="4e5b6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469800" y="-171360"/>
            <a:ext cx="8674200" cy="34210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читель физической культуры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Лебедева Е.В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МБОУ «Школа №62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4311658"/>
          <p:cNvPicPr/>
          <p:nvPr/>
        </p:nvPicPr>
        <p:blipFill>
          <a:blip r:embed="rId1"/>
          <a:stretch/>
        </p:blipFill>
        <p:spPr>
          <a:xfrm>
            <a:off x="2627280" y="1125360"/>
            <a:ext cx="3456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5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225360" y="-311040"/>
            <a:ext cx="7473960" cy="20541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-360" y="1905120"/>
            <a:ext cx="884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тарт с опорой на одну руку – вариант высокого старта. В отличие от высокого старта по команде «На старт!» ноги здесь согнуты сильнее, вес тела больше переносится вперед. Рука, противоположная ноге, выставленной вперед, касается грунта. Другая, согнутая в локте, отведена назад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 команде «Внимание!» тяжесть тела переносится на руку и толчковую ног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9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4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94920" y="692280"/>
            <a:ext cx="84502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 команде «Марш!» бегун производит отталкивание от грунта рукой и обеими ногами. Первые шаги делает с большим наклоном, постепенно уменьшая ег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3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454880" cy="1395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 спорте бег составляет около 2/3 видов легкой атлетики, входит в состав почти всех других видов спорт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 беге на короткие дистанции развиваются максимальные усилия, напрягаются мышцы, не участвующие в выполнении беговых движений. Все это вызывает лишние энерготраты и снижает частоту рабочих движений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учные данные показывают, что примерно у 90% детей  7-10летнего возраста отмечается целый ряд нерациональных движений и ошибок в беге, а именно: неполное разгибание опорной ноги при отталкивании;  фаза опоры более продолжительна во времени, чем фаза полета; и наружного свода стопы; перекрестная работа ног, т.е. след правой ноги заходит влево за среднюю линию. В связи с этим возникает необходимость формировать правильные двигательные навыки в бег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225360" y="0"/>
            <a:ext cx="8626680" cy="17254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ехнику бега  принято условно делить на следующие фазы: старт, стартовый разгон, бег по дистанции и финишировани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4" descr="бег"/>
          <p:cNvPicPr/>
          <p:nvPr/>
        </p:nvPicPr>
        <p:blipFill>
          <a:blip r:embed="rId2"/>
          <a:stretch/>
        </p:blipFill>
        <p:spPr>
          <a:xfrm>
            <a:off x="2627280" y="3068640"/>
            <a:ext cx="30337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12760" y="244440"/>
            <a:ext cx="8632800" cy="1176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 команде «На старт!» бегун подходит к стартовой лини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сильнейшую ногу ставит вплотную к стартовой лини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немного поворачивает носок внутрь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другую ногу ставит на 1,5-2 стопы сзад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тяжесть тела распределяет на две ног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туловище выпрямлено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руки свободно опущен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1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3"/>
          <p:cNvSpPr/>
          <p:nvPr/>
        </p:nvSpPr>
        <p:spPr>
          <a:xfrm>
            <a:off x="4618080" y="3726000"/>
            <a:ext cx="46656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4311656"/>
          <p:cNvPicPr/>
          <p:nvPr/>
        </p:nvPicPr>
        <p:blipFill>
          <a:blip r:embed="rId1"/>
          <a:stretch/>
        </p:blipFill>
        <p:spPr>
          <a:xfrm>
            <a:off x="3419640" y="620640"/>
            <a:ext cx="25923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-360" y="404640"/>
            <a:ext cx="884556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 команде «Внимание!» бегун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наклоняет туловище вперед под углом 45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- тяжесть тела переносит на сильнейшую ногу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рис1"/>
          <p:cNvPicPr/>
          <p:nvPr/>
        </p:nvPicPr>
        <p:blipFill>
          <a:blip r:embed="rId1"/>
          <a:stretch/>
        </p:blipFill>
        <p:spPr>
          <a:xfrm>
            <a:off x="3059280" y="333360"/>
            <a:ext cx="34574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 выполнении команды «Марш!»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бегун резко бросается вперед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через 5-6 шагов  тело принимает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ертикальное положени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2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20:46:06Z</dcterms:created>
  <dc:creator>User</dc:creator>
  <dc:description/>
  <dc:language>en-US</dc:language>
  <cp:lastModifiedBy>Евгения Лебедева</cp:lastModifiedBy>
  <dcterms:modified xsi:type="dcterms:W3CDTF">2017-09-08T16:32:43Z</dcterms:modified>
  <cp:revision>10</cp:revision>
  <dc:subject/>
  <dc:title>Бег на короткие дистан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