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9.png" ContentType="image/png"/>
  <Override PartName="/ppt/media/image10.jpeg" ContentType="image/jpeg"/>
  <Override PartName="/ppt/media/image11.jpeg" ContentType="image/jpeg"/>
  <Override PartName="/ppt/media/image1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9832-8FDF-495A-B18C-B6714AB1D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3C39-65E3-4953-87B0-A820DA93F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7C01-A38F-447E-9EFE-53B5B4F9D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3406-BBE6-45D2-A19A-A90EFFCA7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53773-AA2F-4B44-AEFC-BD4103F12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91D23-7488-4296-856D-1873E9E0B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E4F26-E1D7-4342-AAFB-0514DC532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BC07F-3E82-43E3-89DD-61577A137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9BC5D-3604-43FC-9DD1-DDA734D92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F08F6-867F-487C-9F90-24964A59F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34722-3C7B-4910-B0C3-423AE997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7C91-3B26-45DA-B597-16E816C9D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80D86-6887-489A-8471-1104CE73C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34C40-0520-40A9-9798-4F1AB1F3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A388F-800B-4A40-A366-534DA2B1E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FCEDC-0734-4AF6-824A-4B4B63E61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E1CA0-7BDB-4347-AE82-975637575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1FB61-8D9D-41E0-978E-E862E91D2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EA4E1-06E1-455E-822C-DA0F85350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E872F-C43F-477E-8EF8-AE682A3F1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B2D80-DED9-4F84-A2FD-B75C0D31E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6043A-640C-4C98-AA49-D13764DC4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C0CE-6351-41A6-8EFA-2E3709D71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4D6B0-FE5F-4AC3-8810-B4E2C55D9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BC426-02A5-40F2-BA50-08A0144F7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CEE47-AB9B-4648-AE15-34FA7E50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36F8C-1B93-40C7-8D0F-B8C5D8CAF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97CEE-2682-46DE-B1FD-456021B42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F29E6-6351-436E-A3FD-EAAAC2022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78953-EF86-4D6B-8C53-38DD8FED1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11604-B505-4962-92A8-320F4AF72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B6187-30E1-4CC7-8235-D27CE5B58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48A06-7813-40B4-89EA-52BE5447C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3C98-CDF5-4924-A005-5905B1CC8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FD11D-7325-45FE-86A7-61EC474C5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E149D-35A2-49A5-ADA5-30E392E83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1D975-3391-4E7C-81A2-3CED95D1F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43156-2C7A-4A58-B8B7-19DD9915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E72E6-8CFF-4256-876E-E4498BFD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FE29E-ADE2-4609-BB65-71AFB53C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826C6-19C7-440B-9C3A-100BB4D0F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1705D-669D-44A0-9651-FECB715D3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F3BF4-F7A9-4DC0-A8F2-8ADAB20C0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D6C45-373D-4E9A-9D2C-0C4BDDC19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16A1-CD5D-43E4-8B13-675BBBC89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6B5AD2-DF56-4AAF-98AE-44E9634DF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1D542-3702-4A53-8B11-B749BE540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BCD622-4ED6-40B8-A8AC-0D5DF4F71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CB60D3-64B4-4BFC-BD93-159BC57D9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82E3C-9CCD-439C-90DF-5304EFE37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66F907-86BE-4809-8184-932F6F96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B55AF-068B-4C16-AC91-BA422D7FB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56B4F-31A4-4D81-B618-C1F31A2B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61B13-8F07-4505-8812-CE54948B5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EF70F4-DBB6-4580-9B08-2709758F3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D5A6-304E-4155-B60A-420FC2250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AA21C-9864-4095-8B3C-4C4BB733E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D0D5-D730-487F-A7F4-EB785183D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BC81-CB77-491E-A133-7B8CA141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98B3-6D15-42ED-9BD7-861623042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00add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00ad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00add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00add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4e5b6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5F90E-F10C-4CFE-A253-CD00AA10EE3E}" type="slidenum">
              <a:rPr b="0" lang="ru-RU" sz="1100" spc="-1" strike="noStrike">
                <a:solidFill>
                  <a:srgbClr val="4e5b6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00add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00ad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00add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00add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FD6F2-66CB-40E6-A601-E19D2C41B25C}" type="slidenum">
              <a:rPr b="0" lang="ru-RU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00add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00ad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00add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00add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4e5b6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88F59-58AF-48A7-83B0-8B9D8714C10A}" type="slidenum">
              <a:rPr b="0" lang="ru-RU" sz="1100" spc="-1" strike="noStrike">
                <a:solidFill>
                  <a:srgbClr val="4e5b6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6ec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00add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00ad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00add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00add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3848F-015B-42E3-825E-899866981FA3}" type="slidenum">
              <a:rPr b="0" lang="ru-RU" sz="11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00add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00ad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00add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00add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4e5b6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2123A-D2CE-48F4-B07C-C2D0F4AE4653}" type="slidenum">
              <a:rPr b="0" lang="ru-RU" sz="1100" spc="-1" strike="noStrike">
                <a:solidFill>
                  <a:srgbClr val="4e5b6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Rectangle 2" descr=""/>
          <p:cNvPicPr/>
          <p:nvPr/>
        </p:nvPicPr>
        <p:blipFill>
          <a:blip r:embed="rId1"/>
          <a:stretch/>
        </p:blipFill>
        <p:spPr>
          <a:xfrm>
            <a:off x="469800" y="-171360"/>
            <a:ext cx="8674200" cy="342108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27432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Учитель физической культуры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Лебедева Е.В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МБОУ «Школа №62»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" dur="1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" dur="1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" dur="10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4" descr="4311658"/>
          <p:cNvPicPr/>
          <p:nvPr/>
        </p:nvPicPr>
        <p:blipFill>
          <a:blip r:embed="rId1"/>
          <a:stretch/>
        </p:blipFill>
        <p:spPr>
          <a:xfrm>
            <a:off x="2627280" y="1125360"/>
            <a:ext cx="34560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5" dur="10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10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Rectangle 2" descr=""/>
          <p:cNvPicPr/>
          <p:nvPr/>
        </p:nvPicPr>
        <p:blipFill>
          <a:blip r:embed="rId1"/>
          <a:stretch/>
        </p:blipFill>
        <p:spPr>
          <a:xfrm>
            <a:off x="225360" y="-311040"/>
            <a:ext cx="7473960" cy="205416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-360" y="1905120"/>
            <a:ext cx="8845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тарт с опорой на одну руку – вариант высокого старта. В отличие от высокого старта по команде «На старт!» ноги здесь согнуты сильнее, вес тела больше переносится вперед. Рука, противоположная ноге, выставленной вперед, касается грунта. Другая, согнутая в локте, отведена назад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о команде «Внимание!» тяжесть тела переносится на руку и толчковую ногу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2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2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2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2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9" dur="1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1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4" dur="1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1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8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9" dur="10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10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394920" y="692280"/>
            <a:ext cx="845028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о команде «Марш!» бегун производит отталкивание от грунта рукой и обеими ногами. Первые шаги делает с большим наклоном, постепенно уменьшая его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2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2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3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Rectangle 2" descr=""/>
          <p:cNvPicPr/>
          <p:nvPr/>
        </p:nvPicPr>
        <p:blipFill>
          <a:blip r:embed="rId1"/>
          <a:stretch/>
        </p:blipFill>
        <p:spPr>
          <a:xfrm>
            <a:off x="244440" y="324000"/>
            <a:ext cx="7454880" cy="139536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В спорте бег составляет около 2/3 видов легкой атлетики, входит в состав почти всех других видов спорта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В беге на короткие дистанции развиваются максимальные усилия, напрягаются мышцы, не участвующие в выполнении беговых движений. Все это вызывает лишние энерготраты и снижает частоту рабочих движений.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" dur="1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6" dur="1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0" y="33336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аучные данные показывают, что примерно у 90% детей  7-10летнего возраста отмечается целый ряд нерациональных движений и ошибок в беге, а именно: неполное разгибание опорной ноги при отталкивании;  фаза опоры более продолжительна во времени, чем фаза полета; и наружного свода стопы; перекрестная работа ног, т.е. след правой ноги заходит влево за среднюю линию. В связи с этим возникает необходимость формировать правильные двигательные навыки в бег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3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Rectangle 2" descr=""/>
          <p:cNvPicPr/>
          <p:nvPr/>
        </p:nvPicPr>
        <p:blipFill>
          <a:blip r:embed="rId1"/>
          <a:stretch/>
        </p:blipFill>
        <p:spPr>
          <a:xfrm>
            <a:off x="225360" y="0"/>
            <a:ext cx="8626680" cy="17254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0" y="148392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Технику бега  принято условно делить на следующие фазы: старт, стартовый разгон, бег по дистанции и финишировани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7" name="Picture 4" descr="бег"/>
          <p:cNvPicPr/>
          <p:nvPr/>
        </p:nvPicPr>
        <p:blipFill>
          <a:blip r:embed="rId2"/>
          <a:stretch/>
        </p:blipFill>
        <p:spPr>
          <a:xfrm>
            <a:off x="2627280" y="3068640"/>
            <a:ext cx="303372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4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9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4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Rectangle 2" descr=""/>
          <p:cNvPicPr/>
          <p:nvPr/>
        </p:nvPicPr>
        <p:blipFill>
          <a:blip r:embed="rId1"/>
          <a:stretch/>
        </p:blipFill>
        <p:spPr>
          <a:xfrm>
            <a:off x="212760" y="244440"/>
            <a:ext cx="8632800" cy="11764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о команде «На старт!» бегун подходит к стартовой линии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- сильнейшую ногу ставит вплотную к стартовой линии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- немного поворачивает носок внутрь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- другую ногу ставит на 1,5-2 стопы сзади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- тяжесть тела распределяет на две ноги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- туловище выпрямлено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- руки свободно опущены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3" dur="10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8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3" dur="1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1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8" dur="1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1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3" dur="10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10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8" dur="10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10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3" dur="10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0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8" dur="10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AutoShape 3"/>
          <p:cNvSpPr/>
          <p:nvPr/>
        </p:nvSpPr>
        <p:spPr>
          <a:xfrm>
            <a:off x="4618080" y="3726000"/>
            <a:ext cx="46656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6" descr="4311656"/>
          <p:cNvPicPr/>
          <p:nvPr/>
        </p:nvPicPr>
        <p:blipFill>
          <a:blip r:embed="rId1"/>
          <a:stretch/>
        </p:blipFill>
        <p:spPr>
          <a:xfrm>
            <a:off x="3419640" y="620640"/>
            <a:ext cx="259236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3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3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0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1" dur="30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30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-360" y="404640"/>
            <a:ext cx="884556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о команде «Внимание!» бегун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- наклоняет туловище вперед под углом 45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  <a:ea typeface="Arial"/>
              </a:rPr>
              <a:t>°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  <a:ea typeface="Arial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  <a:ea typeface="Arial"/>
              </a:rPr>
              <a:t>- тяжесть тела переносит на сильнейшую ногу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2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2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20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20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5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0" dur="10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5" dur="10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3" descr="рис1"/>
          <p:cNvPicPr/>
          <p:nvPr/>
        </p:nvPicPr>
        <p:blipFill>
          <a:blip r:embed="rId1"/>
          <a:stretch/>
        </p:blipFill>
        <p:spPr>
          <a:xfrm>
            <a:off x="3059280" y="333360"/>
            <a:ext cx="345744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8" dur="1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1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0" y="33336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ри выполнении команды «Марш!»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- бегун резко бросается вперед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- через 5-6 шагов  тело принимает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ертикальное положени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2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9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20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7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2" dur="10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10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7" dur="10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10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1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2" dur="10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10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9T20:46:06Z</dcterms:created>
  <dc:creator>User</dc:creator>
  <dc:description/>
  <dc:language>en-US</dc:language>
  <cp:lastModifiedBy>Евгения Лебедева</cp:lastModifiedBy>
  <dcterms:modified xsi:type="dcterms:W3CDTF">2017-09-08T16:32:43Z</dcterms:modified>
  <cp:revision>10</cp:revision>
  <dc:subject/>
  <dc:title>Бег на короткие дистанц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