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50D-807B-4958-9B73-C28436AB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E6A-A1EF-4CC8-A134-09863C3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C24-330C-4EB2-B76C-C2E0B989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6AE-A864-4834-8630-15D092D9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0AF4-524D-42EF-A0CD-1F2A03A9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5D7-FE38-4C71-ADF1-347EB2F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229B-6353-4F72-B854-8F32E9F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36D8-8DD8-45A7-8FAA-6BA86224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F092-E174-45A8-A470-24F4E14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547-7743-4ADA-93F1-BAD50148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CBD1-DA40-497E-A2C2-4CC987F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710-402B-4229-9174-62BBEB0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5812-50AD-4928-8AD6-BFA5B23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5F7A-CB95-419D-8A42-B40FED11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51AB-8ADB-4415-88B8-92E69E3E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076-A41C-4093-8992-ED18A556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7765-8F0E-44AA-94F5-2E798AB9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5B82-E36A-4AFD-B5B2-94B763C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FB14-B782-4EC6-8284-AD6134D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0C8F-607A-49DA-84F9-C2C3E78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D6D0-C2DD-4AA3-B7EF-D07F175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7619-0D9D-4D04-8313-40666E4C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66F-894A-47A2-B1E8-1C6AB710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CCAC-7CC0-462B-982C-5EEF3533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94AB-0485-4374-8BE8-9C8F20D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4D31-E441-45FE-9552-722389C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4E46-3873-4459-91D8-B23CC3F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E5E8-E7B7-42B3-9709-5AA636B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E25C-B389-45EF-ABBE-F76F5211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7F51-3B58-4FD4-835B-0CB72673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412B-14FC-45FA-A975-2C624D7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0428-A0E3-4274-9C05-709995B6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BB06-C2EB-4285-9637-E725F477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4A7-1826-4E7E-8048-158057A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CE59-2F17-4FDD-B0A7-8833E0DA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6D81-1FE0-484D-9F28-7BE2C1A2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0D84-155C-4255-ADE3-92E1DA8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1DD4-F19D-43AD-A988-EB7D26B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7E0A-0093-42C0-A7DC-D1A0AE9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509A-E9B2-48C5-AD4B-E0BE7833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6340-8A8A-47AD-930A-603A19F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A625-1B10-41DF-8826-C3C9A08D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C56C-BC00-4212-A2CB-51985511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5002-9D40-47C9-B042-2CCB9BCB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BE4-F39B-490C-96BB-5676A791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03E9-B84E-4DDD-8004-640280E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F442-F2DF-40BE-AB6A-94191F7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0935-5E4B-430B-A860-6143CD0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5971-5FCF-4CC6-A827-A35E29B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8C8A-D901-498D-B2F9-BB24B15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A930-7884-4B27-95F0-2CD3ED6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57C8-2F23-482F-B33A-071E490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8E07-9CC4-42E6-9F50-E2280E5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4B65-6E1D-4E86-95F0-9E63FDF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C821-D4CF-46E4-A3B5-10FFC09B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DA2-7DA2-4316-9796-F48442F5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5E60-FBFD-4C04-8E8A-140D320D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CAF-F40C-471E-BC62-1FC4C5A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3A6-1DBA-41FE-886A-E7858DF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B24-CE62-45FA-98EA-DB59A3B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EAD-5F1C-4438-8012-79DCB1F922F1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AC1-B105-4750-B792-71F3CAB7AAC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92F6-DAC5-4CE7-A2A1-F8409F0CD7C8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287-4B61-4E82-9106-421A98A1E5AF}" type="slidenum">
              <a:rPr b="0" lang="ru-RU" sz="11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62E-003C-427A-97AA-09FC5D3C452C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69800" y="-171360"/>
            <a:ext cx="8674200" cy="3421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ель физической культур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бедева Е.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БОУ «Школа №62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4311658"/>
          <p:cNvPicPr/>
          <p:nvPr/>
        </p:nvPicPr>
        <p:blipFill>
          <a:blip r:embed="rId1"/>
          <a:stretch/>
        </p:blipFill>
        <p:spPr>
          <a:xfrm>
            <a:off x="2627280" y="1125360"/>
            <a:ext cx="3456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25360" y="-311040"/>
            <a:ext cx="7473960" cy="205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т с опорой на одну руку – вариант высокого старта. В отличие от высокого старта по команде «На старт!» ноги здесь согнуты сильнее, вес тела больше переносится вперед. Рука, противоположная ноге, выставленной вперед, касается грунта. Другая, согнутая в локте, отведена наза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тяжесть тела переносится на руку и толчковую ног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4920" y="692280"/>
            <a:ext cx="84502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Марш!» бегун производит отталкивание от грунта рукой и обеими ногами. Первые шаги делает с большим наклоном, постепенно уменьшая 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395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спорте бег составляет около 2/3 видов легкой атлетики, входит в состав почти всех других видов спор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беге на короткие дистанции развиваются максимальные усилия, напрягаются мышцы, не участвующие в выполнении беговых движений. Все это вызывает лишние энерготраты и снижает частоту рабочих движений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ные данные показывают, что примерно у 90% детей  7-10летнего возраста отмечается целый ряд нерациональных движений и ошибок в беге, а именно: неполное разгибание опорной ноги при отталкивании;  фаза опоры более продолжительна во времени, чем фаза полета; и наружного свода стопы; перекрестная работа ног, т.е. след правой ноги заходит влево за среднюю линию. В связи с этим возникает необходимость формировать правильные двигательные навыки в бег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25360" y="0"/>
            <a:ext cx="8626680" cy="1725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хнику бега  принято условно делить на следующие фазы: старт, стартовый разгон, бег по дистанции и финиширова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бег"/>
          <p:cNvPicPr/>
          <p:nvPr/>
        </p:nvPicPr>
        <p:blipFill>
          <a:blip r:embed="rId2"/>
          <a:stretch/>
        </p:blipFill>
        <p:spPr>
          <a:xfrm>
            <a:off x="2627280" y="3068640"/>
            <a:ext cx="3033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6328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На старт!» бегун подходит к стартовой лини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ильнейшую ногу ставит вплотную к стартовой лин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много поворачивает носок внутр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другую ногу ставит на 1,5-2 стопы сзад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яжесть тела распределяет на две ног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уловище выпрямлен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руки свободно опущ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"/>
          <p:cNvSpPr/>
          <p:nvPr/>
        </p:nvSpPr>
        <p:spPr>
          <a:xfrm>
            <a:off x="4618080" y="3726000"/>
            <a:ext cx="46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4311656"/>
          <p:cNvPicPr/>
          <p:nvPr/>
        </p:nvPicPr>
        <p:blipFill>
          <a:blip r:embed="rId1"/>
          <a:stretch/>
        </p:blipFill>
        <p:spPr>
          <a:xfrm>
            <a:off x="3419640" y="620640"/>
            <a:ext cx="259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404640"/>
            <a:ext cx="88455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бегу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клоняет туловище вперед под углом 4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- тяжесть тела переносит на сильнейшую ног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рис1"/>
          <p:cNvPicPr/>
          <p:nvPr/>
        </p:nvPicPr>
        <p:blipFill>
          <a:blip r:embed="rId1"/>
          <a:stretch/>
        </p:blipFill>
        <p:spPr>
          <a:xfrm>
            <a:off x="3059280" y="333360"/>
            <a:ext cx="3457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выполнении команды «Марш!»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бегун резко бросается вперед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через 5-6 шагов  тело принима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тикальное полож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0:46:06Z</dcterms:created>
  <dc:creator>User</dc:creator>
  <dc:description/>
  <dc:language>en-US</dc:language>
  <cp:lastModifiedBy>Евгения Лебедева</cp:lastModifiedBy>
  <dcterms:modified xsi:type="dcterms:W3CDTF">2017-09-08T16:32:43Z</dcterms:modified>
  <cp:revision>10</cp:revision>
  <dc:subject/>
  <dc:title>Бег на короткие дист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