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1D19-1F9A-4AB8-BAE9-2FD6699AC7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7CF6-5297-4D91-88B1-328A203AE8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931C-306E-437D-A7B2-75FA768246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2996-9658-4F41-8DA4-3B4E6152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A58A-8F4D-43A9-B382-F565977A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8590-BB76-47B2-8EB8-F16B948F1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28CE-29A3-496C-9E35-DAEEBB38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F5DA-F9A7-457D-8EB1-81D2806B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D891-30E6-4F06-8F3F-1C4F6618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0297-3554-4FFC-BBBE-4336C291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5EFD-4FF4-426D-98ED-81627EA0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C679-1863-4D1E-B158-E6665CA3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6091-C450-48BC-80B3-C0AB7E5D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08D5-C6AF-4F01-A7B9-AA46160E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A2AE-D2B3-4461-8455-39DD7AF0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7A27-7BF0-428B-890E-AB78C970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F5E5-CFE1-4D5B-8EF2-D1EA9C53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4250-053F-4DE6-BA99-6D93630E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A091-2FAD-4138-A3AF-32E53C48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A367-5C61-4D11-950F-3E7184B8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82F23-EA4B-402C-AC0F-188264F6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38E55-999D-4353-A183-CE0C0361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BB0A9-9F5A-41D1-9F91-D0502FAD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328F5-FFC2-43AE-83DF-BF0450B0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EC7DB-8F79-49FA-BBFC-F64A99C3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5D91-6486-4118-B191-D01B69F6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3F247-2049-45D2-A934-6613507B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37B33-2BB2-4F0E-9A7F-2A505D2A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AC951-5699-4AAA-AB50-E9CD7EDB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D83C6-5194-4D45-BEE6-1313DC02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B78B4-8F7F-4729-9814-8A1B1F90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B0546-FAE2-443F-A561-94F2C791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33C65-C61C-42AC-A2DF-00144632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9B38A-5B29-4AD9-A092-27B7F60F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38AFC-035F-4BC1-BE87-547C5F55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2AF3F-1A7D-4F67-BA51-3BD25639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0C4C-13CB-4877-88C3-6E51F9C8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B6852-3259-48E2-82D9-48C0B9FC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312BF-A5E7-46AE-A988-EC138180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14A11-D79E-4B37-A2F5-FE03E08B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3EE64-1C8C-4DA5-86F9-6554B389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336BE-584F-4BB2-8658-2D46D5F8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45D86-2696-499D-B203-B9CC9761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BE4C2-7223-4CB8-A08B-2E76535D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A6826-F45F-4F69-8904-5EA18D7B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DCBB4-48D6-4E3E-AD3A-7F39E0DD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4E80F-5BF9-4ABD-84EC-EF8DD649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E5BB-86F2-4EAD-B228-568C9767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3E20F-7E46-4F76-AE46-2651281A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30CC8-6445-4EF6-9BC1-8ADD2A86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A22D4-7EE5-4435-BF33-3E39FCF2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133F6-B910-4EAA-BA4C-C6712925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EA1A3-0FDF-496A-A22E-D16F240C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53816-8E5D-485E-98EC-5F9FC571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A1DB6-5823-438C-A97F-193E184F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74F3F-DD92-42D8-B1B5-9AC7F9DC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AD5A5-93BF-4E59-88D7-739AA6DF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DA31B-B2A2-41B8-832C-3A39D4A5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1562-7BEA-4CCF-9CE6-2C853AC1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CE8F5-04A8-4537-AC77-3133AF1C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4B06E-A3E3-4196-809A-02E8FF59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4E923-0A76-4FEE-8B85-764BBF32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B73E5-8989-41AB-B757-2454C7E7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F0D44-5765-4E61-B86B-F87B3E49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2BE66-DF46-4A2E-9ABE-19948C8B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B2C18-C0F9-43CC-9249-3E86F70F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45A7D-1FB5-4AA7-84E9-BD946E76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1D47C-0D08-4E5E-A978-8FC8AD56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78010-7B2C-4565-83D2-EB542116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81EC-3017-449A-9694-DF770E1D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FBE14-D7FE-4104-B568-FE6A0860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9F467-E58D-49F0-A0CD-A209AC0F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52236-6418-49DE-8B0F-80ED2329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82A94-72E6-4291-B361-5CE5D73D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4CF94-B339-4AA5-B586-0E5058B5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221B1-B735-47A4-AA95-E24CD093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8E177-38D6-4C0E-BB90-D8EEC0AA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CDFFE-56CA-4C71-BDF4-E89B521E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4085C-FE6A-4067-8AD5-5F4561CD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EB7D6-882B-4DA4-A0C3-F8120AED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A59E-0DFA-4CBC-9B72-77ECA26B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ADCB7-1D24-469F-B51D-EACC60C9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3CA80-F168-423B-9EFD-6D067C0D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7CC42-86A9-4039-99DE-9734B09D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3F6AA-1947-4921-9B36-5682ACCE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578EE-4F29-4F2C-A6FB-94FD04C1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0E3A-D550-4845-B157-0B39B34C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B761-A83F-4691-8349-CF41A0CD7A2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5292-4114-4EAF-8EE7-8D2884C5A61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66E6-C0EC-4133-867A-F884796D8D8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65F5-A63B-4DD4-83A8-8417D7FF9C8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C8E6-0412-481E-AE32-8876B998346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EDBF-7033-47E6-A270-C76BB84E7CD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D0CC-7A10-43AF-AEE1-2EF973C31F2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584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AutoShape 6"/>
          <p:cNvSpPr/>
          <p:nvPr/>
        </p:nvSpPr>
        <p:spPr>
          <a:xfrm>
            <a:off x="7524720" y="404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7"/>
          <p:cNvSpPr/>
          <p:nvPr/>
        </p:nvSpPr>
        <p:spPr>
          <a:xfrm>
            <a:off x="2195640" y="4292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8"/>
          <p:cNvSpPr/>
          <p:nvPr/>
        </p:nvSpPr>
        <p:spPr>
          <a:xfrm>
            <a:off x="7308720" y="558972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9"/>
          <p:cNvSpPr/>
          <p:nvPr/>
        </p:nvSpPr>
        <p:spPr>
          <a:xfrm>
            <a:off x="1116000" y="2060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0"/>
          <p:cNvSpPr/>
          <p:nvPr/>
        </p:nvSpPr>
        <p:spPr>
          <a:xfrm>
            <a:off x="5364000" y="184464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1"/>
          <p:cNvSpPr/>
          <p:nvPr/>
        </p:nvSpPr>
        <p:spPr>
          <a:xfrm>
            <a:off x="5508720" y="4653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468360" y="5300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3"/>
          <p:cNvSpPr/>
          <p:nvPr/>
        </p:nvSpPr>
        <p:spPr>
          <a:xfrm>
            <a:off x="2987640" y="836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4"/>
          <p:cNvSpPr/>
          <p:nvPr/>
        </p:nvSpPr>
        <p:spPr>
          <a:xfrm>
            <a:off x="8172360" y="400536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5"/>
          <p:cNvSpPr/>
          <p:nvPr/>
        </p:nvSpPr>
        <p:spPr>
          <a:xfrm>
            <a:off x="3780000" y="558972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6"/>
          <p:cNvSpPr/>
          <p:nvPr/>
        </p:nvSpPr>
        <p:spPr>
          <a:xfrm>
            <a:off x="539640" y="26028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WordArt 17"/>
          <p:cNvSpPr txBox="1"/>
          <p:nvPr/>
        </p:nvSpPr>
        <p:spPr>
          <a:xfrm>
            <a:off x="1763640" y="2492280"/>
            <a:ext cx="5761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Йолдызлы  сәгать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826560" y="2060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«Су анасы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«Кызыклы шәкерт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andara"/>
              </a:rPr>
              <a:t>3. «Өч кыз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«Кәҗә белән сарык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«Эш беткәч уйнарга ярый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Әдәби уку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1095480" y="568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j0212774.wav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" dur="4745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826560" y="242064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«Сказка  о  рыбаке  и  рыбке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«Лиса  и  журавль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«Каша  из  топора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«Заюшкина  избушка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«Мартышка  и  очки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ndara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915840" y="5268960"/>
            <a:ext cx="786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се  ли  из  перечисленных  произведений  явля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казк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6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2250"/>
                            </p:stCondLst>
                            <p:childTnLst>
                              <p:par>
                                <p:cTn id="3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«Сказка  о  рыбаке  и  рыбке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«Лиса  и  журавль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«Каша  из  топора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«Заюшкина  избушка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andara"/>
              </a:rPr>
              <a:t>5. «Мартышка  и  очки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3" name="j0212789.wav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4745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«Сказка  о  рыбаке  и  рыбке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«Лиса  и  журавль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«Каша  из  топора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«Заюшкина  избушка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«Мартышка  и  очки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121040" y="5264280"/>
            <a:ext cx="689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Эта  сказка  принадлежит   великому  русск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исателю  А.С.  Пушк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andara"/>
              </a:rPr>
              <a:t>1. «Сказка  о  рыбаке  и  рыбке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«Лиса  и  журавль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«Каша  из  топора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«Заюшкина  избушка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«Мартышка  и  очки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9" name="j0212805.wav" descr=""/>
          <p:cNvPicPr/>
          <p:nvPr/>
        </p:nvPicPr>
        <p:blipFill>
          <a:blip r:embed="rId1"/>
          <a:stretch/>
        </p:blipFill>
        <p:spPr>
          <a:xfrm>
            <a:off x="395280" y="244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4745" fill="hold"/>
                                        <p:tgtEl>
                                          <p:spTgt spid="3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AutoShape 2"/>
          <p:cNvSpPr/>
          <p:nvPr/>
        </p:nvSpPr>
        <p:spPr>
          <a:xfrm>
            <a:off x="7524720" y="404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3"/>
          <p:cNvSpPr/>
          <p:nvPr/>
        </p:nvSpPr>
        <p:spPr>
          <a:xfrm>
            <a:off x="2195640" y="4292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4"/>
          <p:cNvSpPr/>
          <p:nvPr/>
        </p:nvSpPr>
        <p:spPr>
          <a:xfrm>
            <a:off x="7308720" y="558972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5"/>
          <p:cNvSpPr/>
          <p:nvPr/>
        </p:nvSpPr>
        <p:spPr>
          <a:xfrm>
            <a:off x="1116000" y="2060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6"/>
          <p:cNvSpPr/>
          <p:nvPr/>
        </p:nvSpPr>
        <p:spPr>
          <a:xfrm>
            <a:off x="5364000" y="184464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7"/>
          <p:cNvSpPr/>
          <p:nvPr/>
        </p:nvSpPr>
        <p:spPr>
          <a:xfrm>
            <a:off x="5508720" y="4653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8"/>
          <p:cNvSpPr/>
          <p:nvPr/>
        </p:nvSpPr>
        <p:spPr>
          <a:xfrm>
            <a:off x="468360" y="5300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9"/>
          <p:cNvSpPr/>
          <p:nvPr/>
        </p:nvSpPr>
        <p:spPr>
          <a:xfrm>
            <a:off x="2987640" y="836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"/>
          <p:cNvSpPr/>
          <p:nvPr/>
        </p:nvSpPr>
        <p:spPr>
          <a:xfrm>
            <a:off x="8172360" y="400536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1"/>
          <p:cNvSpPr/>
          <p:nvPr/>
        </p:nvSpPr>
        <p:spPr>
          <a:xfrm>
            <a:off x="3780000" y="558972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2"/>
          <p:cNvSpPr/>
          <p:nvPr/>
        </p:nvSpPr>
        <p:spPr>
          <a:xfrm>
            <a:off x="539640" y="26028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WordArt 13"/>
          <p:cNvSpPr txBox="1"/>
          <p:nvPr/>
        </p:nvSpPr>
        <p:spPr>
          <a:xfrm>
            <a:off x="1763640" y="2492280"/>
            <a:ext cx="5616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Йолдызлы сӘгать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5"/>
          <p:cNvSpPr txBox="1"/>
          <p:nvPr/>
        </p:nvSpPr>
        <p:spPr>
          <a:xfrm>
            <a:off x="826920" y="1916280"/>
            <a:ext cx="7705800" cy="38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2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Икенче  ту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 Литр                                           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Сантиметр                                 С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Метр                                            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 Дециметр                                   Д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Миллиметр                                 М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         </a:t>
            </a: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Озынлык үлчәү берәмлекләре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Математи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5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6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6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12650"/>
                            </p:stCondLst>
                            <p:childTnLst>
                              <p:par>
                                <p:cTn id="6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6149"/>
                            </p:stCondLst>
                            <p:childTnLst>
                              <p:par>
                                <p:cTn id="6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6400"/>
                            </p:stCondLst>
                            <p:childTnLst>
                              <p:par>
                                <p:cTn id="6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andara"/>
              </a:rPr>
              <a:t>1.  Литр                                           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Сантиметр                                 С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Метр                                            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 Дециметр                                  Д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Миллиметр                                 ММ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Математи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7" name="j0212852.wav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7" dur="4745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826560" y="22766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 Шар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 Чишү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 Сорау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 Җавап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Мәсь</a:t>
            </a:r>
            <a:r>
              <a:rPr b="0" lang="tt-RU" sz="2400" spc="-1" strike="noStrike">
                <a:solidFill>
                  <a:srgbClr val="ff0000"/>
                </a:solidFill>
                <a:latin typeface="Candara"/>
              </a:rPr>
              <a:t>әлә чишү тәртиб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ndara"/>
              </a:rPr>
              <a:t>Математи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5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5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5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WordArt 4"/>
          <p:cNvSpPr txBox="1"/>
          <p:nvPr/>
        </p:nvSpPr>
        <p:spPr>
          <a:xfrm>
            <a:off x="1332000" y="0"/>
            <a:ext cx="712764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ТНАШУЧЫЛАР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55" name="Picture 11" descr="C:\ФОТО\SAM_2892.JPG"/>
          <p:cNvPicPr/>
          <p:nvPr/>
        </p:nvPicPr>
        <p:blipFill>
          <a:blip r:embed="rId4"/>
          <a:stretch/>
        </p:blipFill>
        <p:spPr>
          <a:xfrm>
            <a:off x="739800" y="1844640"/>
            <a:ext cx="1509840" cy="2013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2" descr="C:\ФОТО\SAM_2896.JPG"/>
          <p:cNvPicPr/>
          <p:nvPr/>
        </p:nvPicPr>
        <p:blipFill>
          <a:blip r:embed="rId5"/>
          <a:stretch/>
        </p:blipFill>
        <p:spPr>
          <a:xfrm>
            <a:off x="7367760" y="1922400"/>
            <a:ext cx="1450800" cy="1935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3" descr="C:\ФОТО\SAM_2898.JPG"/>
          <p:cNvPicPr/>
          <p:nvPr/>
        </p:nvPicPr>
        <p:blipFill>
          <a:blip r:embed="rId6"/>
          <a:stretch/>
        </p:blipFill>
        <p:spPr>
          <a:xfrm>
            <a:off x="5348160" y="2319480"/>
            <a:ext cx="1498680" cy="2000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4" descr="C:\ФОТО\SAM_2900.JPG"/>
          <p:cNvPicPr/>
          <p:nvPr/>
        </p:nvPicPr>
        <p:blipFill>
          <a:blip r:embed="rId7"/>
          <a:stretch/>
        </p:blipFill>
        <p:spPr>
          <a:xfrm>
            <a:off x="3041640" y="2319480"/>
            <a:ext cx="1601640" cy="20001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5" descr="C:\ФОТО\SAM_2905.JPG"/>
          <p:cNvPicPr/>
          <p:nvPr/>
        </p:nvPicPr>
        <p:blipFill>
          <a:blip r:embed="rId8"/>
          <a:stretch/>
        </p:blipFill>
        <p:spPr>
          <a:xfrm>
            <a:off x="739800" y="4230720"/>
            <a:ext cx="1492200" cy="19875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6" descr="C:\ФОТО\SAM_2907.JPG"/>
          <p:cNvPicPr/>
          <p:nvPr/>
        </p:nvPicPr>
        <p:blipFill>
          <a:blip r:embed="rId9"/>
          <a:stretch/>
        </p:blipFill>
        <p:spPr>
          <a:xfrm>
            <a:off x="3016080" y="4486320"/>
            <a:ext cx="1627200" cy="21715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7" descr="C:\ФОТО\SAM_2913.JPG"/>
          <p:cNvPicPr/>
          <p:nvPr/>
        </p:nvPicPr>
        <p:blipFill>
          <a:blip r:embed="rId10"/>
          <a:stretch/>
        </p:blipFill>
        <p:spPr>
          <a:xfrm>
            <a:off x="7367760" y="4319640"/>
            <a:ext cx="1530000" cy="2043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8" descr="C:\ФОТО\SAM_2922.JPG"/>
          <p:cNvPicPr/>
          <p:nvPr/>
        </p:nvPicPr>
        <p:blipFill>
          <a:blip r:embed="rId11"/>
          <a:stretch/>
        </p:blipFill>
        <p:spPr>
          <a:xfrm>
            <a:off x="5288040" y="4462560"/>
            <a:ext cx="152712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75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75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 Шар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andara"/>
              </a:rPr>
              <a:t>2.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ff9900"/>
                </a:solidFill>
                <a:latin typeface="Candara"/>
              </a:rPr>
              <a:t>Сорау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andara"/>
              </a:rPr>
              <a:t>3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.  </a:t>
            </a:r>
            <a:r>
              <a:rPr b="0" lang="ru-RU" sz="2400" spc="-1" strike="noStrike">
                <a:solidFill>
                  <a:srgbClr val="ff9900"/>
                </a:solidFill>
                <a:latin typeface="Candara"/>
              </a:rPr>
              <a:t>Чишү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 Җавап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Математи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2" name="j0212852.wav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3" dur="4745" fill="hold"/>
                                        <p:tgtEl>
                                          <p:spTgt spid="4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755640" y="270792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 Имя  существительно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 Имя  прилагательно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 Глаго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 Местоимени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 Подлежаще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</a:t>
            </a: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Это  части  реч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ndara"/>
              </a:rPr>
              <a:t>Русский  язы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6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7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7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2250"/>
                            </p:stCondLst>
                            <p:childTnLst>
                              <p:par>
                                <p:cTn id="7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7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4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5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 Имя  существительно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 Имя  прилагательно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 Глаго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 Местоимени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andara"/>
              </a:rPr>
              <a:t>5.  Подлежаще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ndara"/>
              </a:rPr>
              <a:t>Русский  язы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7" name="j0212867.wav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0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5" dur="4745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 Пар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 Учени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 Красивы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 Словар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 Компьютер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Это  имена  существительны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Русский  язы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8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9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7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0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1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7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50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50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50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 Пар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 Учени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andara"/>
              </a:rPr>
              <a:t>3.  Красивы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 Словар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 Компьютер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Русский  язы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2" name="j0212883.wav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0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7" dur="4745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0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 Чёрный- белы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 Добрый- зло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 Толстый- худо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 Жаркий- тёплы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 Маленький- большо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</a:t>
            </a:r>
            <a:r>
              <a:rPr b="1" lang="ru-RU" sz="3600" spc="-1" strike="noStrike">
                <a:solidFill>
                  <a:srgbClr val="ffff00"/>
                </a:solidFill>
                <a:latin typeface="Candara"/>
              </a:rPr>
              <a:t>Это  антонимы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ndara"/>
              </a:rPr>
              <a:t>Русский  язы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0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0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1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8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8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2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3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2250"/>
                            </p:stCondLst>
                            <p:childTnLst>
                              <p:par>
                                <p:cTn id="8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16250"/>
                            </p:stCondLst>
                            <p:childTnLst>
                              <p:par>
                                <p:cTn id="8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4" dur="5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5" dur="5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5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21250"/>
                            </p:stCondLst>
                            <p:childTnLst>
                              <p:par>
                                <p:cTn id="8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0" dur="500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1" dur="500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2" dur="500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 Чёрный- белы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 Добрый- зло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 Толстый- худо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andara"/>
              </a:rPr>
              <a:t>4.  Жаркий- тёплы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 Маленький- большо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ndara"/>
              </a:rPr>
              <a:t>               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Русский  язы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7" name="j0212898.wav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0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8" dur="4745" fill="hold"/>
                                        <p:tgtEl>
                                          <p:spTgt spid="4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84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AutoShape 2"/>
          <p:cNvSpPr/>
          <p:nvPr/>
        </p:nvSpPr>
        <p:spPr>
          <a:xfrm>
            <a:off x="7524720" y="404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3"/>
          <p:cNvSpPr/>
          <p:nvPr/>
        </p:nvSpPr>
        <p:spPr>
          <a:xfrm>
            <a:off x="2195640" y="4292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4"/>
          <p:cNvSpPr/>
          <p:nvPr/>
        </p:nvSpPr>
        <p:spPr>
          <a:xfrm>
            <a:off x="7308720" y="558972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5"/>
          <p:cNvSpPr/>
          <p:nvPr/>
        </p:nvSpPr>
        <p:spPr>
          <a:xfrm>
            <a:off x="1116000" y="2060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6"/>
          <p:cNvSpPr/>
          <p:nvPr/>
        </p:nvSpPr>
        <p:spPr>
          <a:xfrm>
            <a:off x="5364000" y="184464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7"/>
          <p:cNvSpPr/>
          <p:nvPr/>
        </p:nvSpPr>
        <p:spPr>
          <a:xfrm>
            <a:off x="5508720" y="4653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8"/>
          <p:cNvSpPr/>
          <p:nvPr/>
        </p:nvSpPr>
        <p:spPr>
          <a:xfrm>
            <a:off x="468360" y="5300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9"/>
          <p:cNvSpPr/>
          <p:nvPr/>
        </p:nvSpPr>
        <p:spPr>
          <a:xfrm>
            <a:off x="2987640" y="836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0"/>
          <p:cNvSpPr/>
          <p:nvPr/>
        </p:nvSpPr>
        <p:spPr>
          <a:xfrm>
            <a:off x="8172360" y="400536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11"/>
          <p:cNvSpPr/>
          <p:nvPr/>
        </p:nvSpPr>
        <p:spPr>
          <a:xfrm>
            <a:off x="3780000" y="558972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2"/>
          <p:cNvSpPr/>
          <p:nvPr/>
        </p:nvSpPr>
        <p:spPr>
          <a:xfrm>
            <a:off x="539640" y="26028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WordArt 13"/>
          <p:cNvSpPr txBox="1"/>
          <p:nvPr/>
        </p:nvSpPr>
        <p:spPr>
          <a:xfrm>
            <a:off x="1763640" y="2492280"/>
            <a:ext cx="5761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Йолдызлы  сәгать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0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b57"/>
            </a:gs>
            <a:gs pos="100000">
              <a:srgbClr val="4584d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WordArt 6"/>
          <p:cNvSpPr txBox="1"/>
          <p:nvPr/>
        </p:nvSpPr>
        <p:spPr>
          <a:xfrm>
            <a:off x="1332000" y="1628640"/>
            <a:ext cx="676908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Өченче  ту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0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4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900000" y="22046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өйгә кайтт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урманда яш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укучының китаб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малайны укы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73e87"/>
                </a:solidFill>
                <a:latin typeface="Candara"/>
              </a:rPr>
              <a:t>5. мәктәптән чыкт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Иялек килешендәге исем кергән сүзтезмә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Татар тел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0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7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8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9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3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4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5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9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0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1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6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7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8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3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4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5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9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9" dur="5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0" dur="5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5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«Музыкаль пауза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4" name="Частушка к уроку.mp3" descr=""/>
          <p:cNvPicPr/>
          <p:nvPr/>
        </p:nvPicPr>
        <p:blipFill>
          <a:blip r:embed="rId1"/>
          <a:stretch/>
        </p:blipFill>
        <p:spPr>
          <a:xfrm>
            <a:off x="6443640" y="27082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Users\Пользователь\Desktop\iГармонь.jpeg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321150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өйгә кайтт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урманда яш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andara"/>
              </a:rPr>
              <a:t>3. укучының китаб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малайны укы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73e87"/>
                </a:solidFill>
                <a:latin typeface="Candara"/>
              </a:rPr>
              <a:t>5. мәктәптән чыкт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Татар тел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55" name="j0212930.wav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0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7" dur="4745" fill="hold"/>
                                        <p:tgtEl>
                                          <p:spTgt spid="4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К</a:t>
            </a:r>
            <a:r>
              <a:rPr b="0" lang="tt-RU" sz="2400" spc="-1" strike="noStrike">
                <a:solidFill>
                  <a:srgbClr val="073e87"/>
                </a:solidFill>
                <a:latin typeface="Candara"/>
              </a:rPr>
              <a:t>үрү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Булышу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Ишетү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Ис сизү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Тәм сизү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Кешенең ис сизү органнары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ndara"/>
              </a:rPr>
              <a:t>Әйләнә-тирә дөнь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nodeType="clickEffect" fill="hold">
                      <p:stCondLst>
                        <p:cond delay="0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0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1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2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9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6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7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8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2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3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4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8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9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0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10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4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5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6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11750"/>
                            </p:stCondLst>
                            <p:childTnLst>
                              <p:par>
                                <p:cTn id="10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0" dur="50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1" dur="50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2" dur="50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Күрү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andara"/>
              </a:rPr>
              <a:t>2.Булышу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Ишетү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Ис сизү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Тәм сизү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Әйләнә-тирә дөнь</a:t>
            </a:r>
            <a:r>
              <a:rPr b="1" lang="tt-RU" sz="4400" spc="-1" strike="noStrike">
                <a:solidFill>
                  <a:srgbClr val="ff0000"/>
                </a:solidFill>
                <a:latin typeface="Candara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0" name="j0212961.wav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0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8" dur="4745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8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Зур песнә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Яр чыпчыг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Саескан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73e87"/>
                </a:solidFill>
                <a:latin typeface="Candara"/>
              </a:rPr>
              <a:t>4. Ала карг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Күк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</a:t>
            </a:r>
            <a:r>
              <a:rPr b="1" lang="ru-RU" sz="3600" spc="-1" strike="noStrike">
                <a:solidFill>
                  <a:srgbClr val="ffff00"/>
                </a:solidFill>
                <a:latin typeface="Candara"/>
              </a:rPr>
              <a:t>Чит ояга күкәй салучы кош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ndara"/>
              </a:rPr>
              <a:t>Әйлән</a:t>
            </a:r>
            <a:r>
              <a:rPr b="1" lang="tt-RU" sz="4400" spc="-1" strike="noStrike">
                <a:solidFill>
                  <a:srgbClr val="ffff00"/>
                </a:solidFill>
                <a:latin typeface="Candara"/>
              </a:rPr>
              <a:t>ә-тирә дөн</a:t>
            </a:r>
            <a:r>
              <a:rPr b="1" lang="ru-RU" sz="4400" spc="-1" strike="noStrike">
                <a:solidFill>
                  <a:srgbClr val="ffff00"/>
                </a:solidFill>
                <a:latin typeface="Candara"/>
              </a:rPr>
              <a:t>ь</a:t>
            </a:r>
            <a:r>
              <a:rPr b="1" lang="tt-RU" sz="4400" spc="-1" strike="noStrike">
                <a:solidFill>
                  <a:srgbClr val="ffff00"/>
                </a:solidFill>
                <a:latin typeface="Candara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0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2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3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4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7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8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2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3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4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7" dur="5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8" dur="5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9" dur="5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2" dur="50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3" dur="50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50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500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500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500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Зур песнә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Яр чыпчыг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Саескан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73e87"/>
                </a:solidFill>
                <a:latin typeface="Candara"/>
              </a:rPr>
              <a:t>4. Ала карг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andara"/>
              </a:rPr>
              <a:t>5. Күк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andara"/>
              </a:rPr>
              <a:t>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Әйләнә-тирә дөнь</a:t>
            </a:r>
            <a:r>
              <a:rPr b="1" lang="tt-RU" sz="4400" spc="-1" strike="noStrike">
                <a:solidFill>
                  <a:srgbClr val="ff0000"/>
                </a:solidFill>
                <a:latin typeface="Candara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5" name="j0212976.wav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nodeType="clickEffect" fill="hold">
                      <p:stCondLst>
                        <p:cond delay="0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7" dur="4745" fill="hold"/>
                                        <p:tgtEl>
                                          <p:spTgt spid="4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Сынлы сәнга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Пейзаж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Портре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Натюрмор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Батальны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Бу картина  нинди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        </a:t>
            </a: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анрга    керә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69" name="Picture 7" descr="Изображение 030"/>
          <p:cNvPicPr/>
          <p:nvPr/>
        </p:nvPicPr>
        <p:blipFill>
          <a:blip r:embed="rId1"/>
          <a:stretch/>
        </p:blipFill>
        <p:spPr>
          <a:xfrm>
            <a:off x="4643280" y="1413000"/>
            <a:ext cx="39592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nodeType="clickEffect" fill="hold">
                      <p:stCondLst>
                        <p:cond delay="0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0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1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6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7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8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0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2" dur="500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3" dur="500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4" dur="500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8" dur="5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9" dur="5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0" dur="5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5" dur="500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6" dur="500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7" dur="500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2" dur="500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3" dur="500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4" dur="500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Сынлы   с</a:t>
            </a:r>
            <a:r>
              <a:rPr b="1" lang="tt-RU" sz="4400" spc="-1" strike="noStrike">
                <a:solidFill>
                  <a:srgbClr val="ff0000"/>
                </a:solidFill>
                <a:latin typeface="Candara"/>
              </a:rPr>
              <a:t>ә</a:t>
            </a: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нга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andara"/>
              </a:rPr>
              <a:t>1. Пейзаж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Портре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Натюрмор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Батальны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73" name="Picture 5" descr="Изображение 030"/>
          <p:cNvPicPr/>
          <p:nvPr/>
        </p:nvPicPr>
        <p:blipFill>
          <a:blip r:embed="rId1"/>
          <a:stretch/>
        </p:blipFill>
        <p:spPr>
          <a:xfrm>
            <a:off x="4643280" y="1413000"/>
            <a:ext cx="3959280" cy="5113080"/>
          </a:xfrm>
          <a:prstGeom prst="rect">
            <a:avLst/>
          </a:prstGeom>
          <a:ln w="0">
            <a:noFill/>
          </a:ln>
        </p:spPr>
      </p:pic>
      <p:pic>
        <p:nvPicPr>
          <p:cNvPr id="474" name="j0212945.wav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nodeType="clickEffect" fill="hold">
                      <p:stCondLst>
                        <p:cond delay="0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0" dur="4745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 Сәлих Сәйдәше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 Нәҗип Җиһано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 Мәҗит Гафур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 Сара Садыйков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73e87"/>
                </a:solidFill>
                <a:latin typeface="Candara"/>
              </a:rPr>
              <a:t>5. Рөстәм Яхин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Болар  композиторлар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Музы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nodeType="clickEffect" fill="hold">
                      <p:stCondLst>
                        <p:cond delay="0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4" dur="5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5" dur="5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6" dur="5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 С</a:t>
            </a:r>
            <a:r>
              <a:rPr b="0" lang="tt-RU" sz="2400" spc="-1" strike="noStrike">
                <a:solidFill>
                  <a:srgbClr val="073e87"/>
                </a:solidFill>
                <a:latin typeface="Candara"/>
              </a:rPr>
              <a:t>әлих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әйдәше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 Нәҗип Җиһано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andara"/>
              </a:rPr>
              <a:t>3.  Мәҗит Гафур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 Сара Садыйков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73e87"/>
                </a:solidFill>
                <a:latin typeface="Candara"/>
              </a:rPr>
              <a:t>5. Рөстәм Яхин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Музы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79" name="j0212992.wav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nodeType="clickEffect" fill="hold">
                      <p:stCondLst>
                        <p:cond delay="0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2" dur="4745" fill="hold"/>
                                        <p:tgtEl>
                                          <p:spTgt spid="4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84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AutoShape 2"/>
          <p:cNvSpPr/>
          <p:nvPr/>
        </p:nvSpPr>
        <p:spPr>
          <a:xfrm>
            <a:off x="7524720" y="404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3"/>
          <p:cNvSpPr/>
          <p:nvPr/>
        </p:nvSpPr>
        <p:spPr>
          <a:xfrm>
            <a:off x="2195640" y="4292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"/>
          <p:cNvSpPr/>
          <p:nvPr/>
        </p:nvSpPr>
        <p:spPr>
          <a:xfrm>
            <a:off x="7308720" y="558972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5"/>
          <p:cNvSpPr/>
          <p:nvPr/>
        </p:nvSpPr>
        <p:spPr>
          <a:xfrm>
            <a:off x="1116000" y="2060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6"/>
          <p:cNvSpPr/>
          <p:nvPr/>
        </p:nvSpPr>
        <p:spPr>
          <a:xfrm>
            <a:off x="5364000" y="184464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7"/>
          <p:cNvSpPr/>
          <p:nvPr/>
        </p:nvSpPr>
        <p:spPr>
          <a:xfrm>
            <a:off x="5508720" y="4653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8"/>
          <p:cNvSpPr/>
          <p:nvPr/>
        </p:nvSpPr>
        <p:spPr>
          <a:xfrm>
            <a:off x="468360" y="5300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9"/>
          <p:cNvSpPr/>
          <p:nvPr/>
        </p:nvSpPr>
        <p:spPr>
          <a:xfrm>
            <a:off x="2987640" y="836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10"/>
          <p:cNvSpPr/>
          <p:nvPr/>
        </p:nvSpPr>
        <p:spPr>
          <a:xfrm>
            <a:off x="8172360" y="400536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1"/>
          <p:cNvSpPr/>
          <p:nvPr/>
        </p:nvSpPr>
        <p:spPr>
          <a:xfrm>
            <a:off x="3780000" y="558972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2"/>
          <p:cNvSpPr/>
          <p:nvPr/>
        </p:nvSpPr>
        <p:spPr>
          <a:xfrm>
            <a:off x="539640" y="26028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WordArt 13"/>
          <p:cNvSpPr txBox="1"/>
          <p:nvPr/>
        </p:nvSpPr>
        <p:spPr>
          <a:xfrm>
            <a:off x="1763640" y="2492280"/>
            <a:ext cx="5761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Йолдызлы  сәгать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nodeType="clickEffect" fill="hold">
                      <p:stCondLst>
                        <p:cond delay="0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a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5"/>
          <p:cNvSpPr txBox="1"/>
          <p:nvPr/>
        </p:nvSpPr>
        <p:spPr>
          <a:xfrm>
            <a:off x="1403280" y="1484280"/>
            <a:ext cx="63374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ренче  тур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5"/>
          <p:cNvSpPr txBox="1"/>
          <p:nvPr/>
        </p:nvSpPr>
        <p:spPr>
          <a:xfrm>
            <a:off x="1116000" y="1628640"/>
            <a:ext cx="67690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НА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nodeType="clickEffect" fill="hold">
                      <p:stCondLst>
                        <p:cond delay="0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468360" y="2674440"/>
            <a:ext cx="81360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18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spcBef>
                <a:spcPts val="18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73e87"/>
                </a:solidFill>
                <a:latin typeface="Candara"/>
              </a:rPr>
              <a:t>САНДУГАЧЛАРЫМ</a:t>
            </a:r>
            <a:endParaRPr b="0" lang="en-US" sz="7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Бирелгән хәрефләрдән булдыра алган кадәр сүзләр төзегез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nodeType="clickEffect" fill="hold">
                      <p:stCondLst>
                        <p:cond delay="0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5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6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7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84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AutoShape 2"/>
          <p:cNvSpPr/>
          <p:nvPr/>
        </p:nvSpPr>
        <p:spPr>
          <a:xfrm>
            <a:off x="7524720" y="404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2195640" y="4292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7308720" y="558972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1116000" y="2060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5364000" y="184464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>
            <a:off x="5508720" y="4653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>
            <a:off x="468360" y="5300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9"/>
          <p:cNvSpPr/>
          <p:nvPr/>
        </p:nvSpPr>
        <p:spPr>
          <a:xfrm>
            <a:off x="2987640" y="836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0"/>
          <p:cNvSpPr/>
          <p:nvPr/>
        </p:nvSpPr>
        <p:spPr>
          <a:xfrm>
            <a:off x="8172360" y="400536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1"/>
          <p:cNvSpPr/>
          <p:nvPr/>
        </p:nvSpPr>
        <p:spPr>
          <a:xfrm>
            <a:off x="3780000" y="558972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>
            <a:off x="539640" y="26028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WordArt 13"/>
          <p:cNvSpPr txBox="1"/>
          <p:nvPr/>
        </p:nvSpPr>
        <p:spPr>
          <a:xfrm>
            <a:off x="1763640" y="2492280"/>
            <a:ext cx="5761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Йолдызлы сәгать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nodeType="clickEffect" fill="hold">
                      <p:stCondLst>
                        <p:cond delay="0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«Музыкаль пауза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08" name="Частушка к уроку.mp3" descr=""/>
          <p:cNvPicPr/>
          <p:nvPr/>
        </p:nvPicPr>
        <p:blipFill>
          <a:blip r:embed="rId1"/>
          <a:stretch/>
        </p:blipFill>
        <p:spPr>
          <a:xfrm>
            <a:off x="6443640" y="27082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2" descr="C:\Users\Пользователь\Desktop\iГармонь.jpeg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nodeType="clickEffect" fill="hold">
                      <p:stCondLst>
                        <p:cond delay="0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2" dur="321150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5" descr="AN00790_"/>
          <p:cNvPicPr/>
          <p:nvPr/>
        </p:nvPicPr>
        <p:blipFill>
          <a:blip r:embed="rId1"/>
          <a:stretch/>
        </p:blipFill>
        <p:spPr>
          <a:xfrm>
            <a:off x="2889360" y="1382760"/>
            <a:ext cx="3294000" cy="3435480"/>
          </a:xfrm>
          <a:prstGeom prst="rect">
            <a:avLst/>
          </a:prstGeom>
          <a:ln w="0">
            <a:noFill/>
          </a:ln>
        </p:spPr>
      </p:pic>
      <p:sp>
        <p:nvSpPr>
          <p:cNvPr id="511" name="WordArt 6"/>
          <p:cNvSpPr txBox="1"/>
          <p:nvPr/>
        </p:nvSpPr>
        <p:spPr>
          <a:xfrm>
            <a:off x="1165320" y="536400"/>
            <a:ext cx="6985080" cy="3357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Җиңүче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12" name="WordArt 7"/>
          <p:cNvSpPr txBox="1"/>
          <p:nvPr/>
        </p:nvSpPr>
        <p:spPr>
          <a:xfrm>
            <a:off x="1187280" y="3122640"/>
            <a:ext cx="7056720" cy="347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котлыйбыз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513" name="AutoShape 8"/>
          <p:cNvSpPr/>
          <p:nvPr/>
        </p:nvSpPr>
        <p:spPr>
          <a:xfrm>
            <a:off x="1835280" y="2781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9"/>
          <p:cNvSpPr/>
          <p:nvPr/>
        </p:nvSpPr>
        <p:spPr>
          <a:xfrm>
            <a:off x="7380360" y="2565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0"/>
          <p:cNvSpPr/>
          <p:nvPr/>
        </p:nvSpPr>
        <p:spPr>
          <a:xfrm>
            <a:off x="611280" y="5877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1"/>
          <p:cNvSpPr/>
          <p:nvPr/>
        </p:nvSpPr>
        <p:spPr>
          <a:xfrm>
            <a:off x="7885080" y="5661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2"/>
          <p:cNvSpPr/>
          <p:nvPr/>
        </p:nvSpPr>
        <p:spPr>
          <a:xfrm>
            <a:off x="7524720" y="549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3"/>
          <p:cNvSpPr/>
          <p:nvPr/>
        </p:nvSpPr>
        <p:spPr>
          <a:xfrm>
            <a:off x="900000" y="1125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4"/>
          <p:cNvSpPr/>
          <p:nvPr/>
        </p:nvSpPr>
        <p:spPr>
          <a:xfrm>
            <a:off x="6372360" y="1916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j0213054.wav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nodeType="clickEffect" fill="hold">
                      <p:stCondLst>
                        <p:cond delay="0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3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5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13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3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1374" nodeType="clickEffect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7" dur="4745" fill="hold"/>
                                        <p:tgtEl>
                                          <p:spTgt spid="5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Сәлам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Нихәл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Привет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Хәлләр ничек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Исәнмесез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Аралашу культурас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1246680" y="5122800"/>
            <a:ext cx="633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Үзеңнән өлкәнрәк ке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елән ничек исәнләшү дөре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Сәлам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Нихәл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Привет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Хәлләр ничек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andara"/>
              </a:rPr>
              <a:t>5. Исәнмесез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Аралашу культурас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1095480" y="568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j0212727.wav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4745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28320" y="1557360"/>
            <a:ext cx="8496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«Маратны чакырыгыз әле.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73e87"/>
                </a:solidFill>
                <a:latin typeface="Candara"/>
              </a:rPr>
              <a:t>2. “Марат өйдәме ул? Чакырыгыз әле.”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«Маратны чакырыгыз, зинһар.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«Исәнмесез! Маратны чакырыгыз әле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«Исәнмесез! Борчуым өчен гафу итегез, Марат өйдәме ул?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Аралашу культурас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1108440" y="5238720"/>
            <a:ext cx="693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елефоннан иптәшеңне чакырырга теләгәндә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айсы вариант дөрес дип уйлыйсың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«Маратны чакырыгыз әле.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«Марат өйдәме ул? Чакырыгыз әле.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73e87"/>
                </a:solidFill>
                <a:latin typeface="Candara"/>
              </a:rPr>
              <a:t>3. “Маратны чакырыгыз, зинһар.”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73e87"/>
                </a:solidFill>
                <a:latin typeface="Candara"/>
              </a:rPr>
              <a:t>4. “Исәнмесез! Маратны чакырыгыз әле”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andara"/>
              </a:rPr>
              <a:t>5. «Исәнмесез! Борчуым өчен гафу итегез, Марат өйдәме ул?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Аралашу культурас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1095480" y="568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j0212758.wav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4745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900000" y="191628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«Су анасы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«Кызыклы шәкерт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«Өч кыз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«Кәҗә белән сарык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«Эш беткәч уйнарга ярый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Әдәби уку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700920" y="5013360"/>
            <a:ext cx="81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.Тукай иҗат иткән әкиятләр һәм шигырь</a:t>
            </a:r>
            <a:r>
              <a:rPr b="1" lang="tt-RU" sz="2800" spc="-1" strike="noStrike">
                <a:solidFill>
                  <a:srgbClr val="ff0000"/>
                </a:solidFill>
                <a:latin typeface="Arial"/>
              </a:rPr>
              <a:t>лә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2:37:26Z</dcterms:created>
  <dc:creator>Baila</dc:creator>
  <dc:description/>
  <dc:language>en-US</dc:language>
  <cp:lastModifiedBy>Нурсана</cp:lastModifiedBy>
  <dcterms:modified xsi:type="dcterms:W3CDTF">2014-01-23T17:21:01Z</dcterms:modified>
  <cp:revision>49</cp:revision>
  <dc:subject/>
  <dc:title>Слайд 1</dc:title>
</cp:coreProperties>
</file>