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1BF0-0149-4482-A3DC-DAF8CA2256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02DF-1218-4D58-B3FA-D19A3A9C4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EF04-238B-42A5-8CD1-D2B658CFB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89C-19AB-461D-B544-24B88C5C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270-65F0-4D90-952B-45AE083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390-D2D1-4437-AAC3-8D6F540C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0AD-B5A8-4B30-8452-A083EA0C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D8EC-6CA8-494F-AEC9-F8C23160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4C7-B7CA-4DA5-B444-B0D30C6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8328-8445-49E3-9C1C-F77A9EC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7B95-D0C6-4A04-B449-D1F96225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4768-1A0C-42E1-8B6A-7761E07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8ECB-2F46-4F23-AA35-A3D4281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B604-DAF8-4500-BE1E-F32D61F7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A95-8FB2-4DA2-9D94-EE2F2EC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8021-828E-4406-AC22-7E6C854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BAC1-6477-4605-9D04-6959818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1225-E144-4E39-84D3-68DE2192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F73D-2E13-4902-B00A-8EC07E74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07EB-3503-4E24-B3B8-E7D6AE51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6391-AD4A-4560-AD4D-0200BC15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B024-2768-4F64-879E-CD1238B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B69E-B1EC-42B0-8A98-FB6E2DC6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E4DD-05A7-4124-8E53-BBCC0B2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FBB6-3CD6-4BD4-9334-FB79117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3A9-A061-48FC-8D31-250AD4A9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F137-1A28-46A7-95F7-CDCE684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AF06-0A13-4BCA-A5DF-BD789A8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E158-96B5-425F-931D-E0DC213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64A0-E04A-4EC0-A72A-EAAD63A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63EC-E207-4619-9765-A1F0C48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1FF0-AC81-4733-90AF-752E55E4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1B05-AFB3-4108-9B74-942F91A4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AD6C-6EEA-4E2E-996E-3DD5628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CC67-1CA9-4B6A-8502-67EB4F9A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6BBD-2654-4128-BEE4-19BE67A6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130-334B-45EC-80F7-8541783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4C7E-D7EC-4DC3-93B1-7E997DC2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669E-27A3-406C-95B1-32FB027D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E725-4531-4454-987A-915EF84F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322C-5C28-41DB-B0C8-BAA5F7F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8DA8-30F4-46F9-9F62-7FF4FA0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6006-F461-466C-A92E-32E140C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1181-CBA1-4782-B0F2-877D80CE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A1C0-62A4-46B8-8F73-C988E77E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29CA-1528-48E5-8ACE-9FA92E75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E0951-AADA-4181-9182-568FD0D1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5DD-6642-4D97-A0BB-38F4570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C418B-1251-47B9-93ED-1DB3E6D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3474-2D1B-4540-8CF3-E83EB823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B38D4-ECD5-46BD-938C-1A51F4C4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F0B0-AE81-43E1-9D6B-9CBA8927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07FDC-C545-4A00-B610-F08AAD3F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DDE6-31E2-4CFE-9C2D-BF9B5CA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E551-E3F6-402D-871D-10009B9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9B45-30C4-4B4E-9F34-8BD70A8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E605B-4A23-4C6E-941F-251B034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139D-94DF-448E-B793-AF825A06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D0A-57AC-4C5A-B479-8B50118E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E473-4AD1-40F7-8C92-0EE28712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030F-AC32-47A8-AE70-FC8C1B2A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3A57-7B9F-4B4F-9220-0B34B232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CEA9-BFDE-4B94-BE5A-183F517E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2D00-3B8D-4865-8788-5C81F64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4377-26C2-4397-9AAE-8A7A9D1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B763-7A41-4238-A61A-4A11DC4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51A7B-7444-4443-B914-5EC1B59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1D4B-160E-4FD8-B92D-50B2975C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81429-0DA4-492D-AE2E-D1B72AB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381-4E00-4B4F-9A3A-E6048F3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1325-D8EA-4A43-AF2A-A0FE9C75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A155-0547-4F71-9A0F-26FFCE15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09D78-572A-403F-92FD-3A97CC96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846E4-0AE1-432B-A266-71417FCF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4744-261D-4003-A312-C0D7781D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1C1D9-5B48-491F-A6E1-15A45BFD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5496-1D1C-411B-A084-C3BD6D7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6AD6-39CF-4070-B2A8-016EEE6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D22E-76B3-47F6-A039-00C2182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E4471-CAA3-46BE-8535-1294BA6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CA7-6DCF-4508-86D1-0068341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D8904-8075-4DA3-9046-22E61A7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60F85-BD29-47D5-868F-7B44448D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D65A-0B77-460F-AAC3-65D0F2A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83F96-8F13-447C-8269-EB6A8AC9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5656F-8E16-4521-84EB-14663ADA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E7E-7F29-49C7-A12A-A6BC3F1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15E4-5F1D-4191-90BB-991D6B34E3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DC7-358E-4490-B941-885E83DB2A1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992-36A8-400E-B602-81A0C0232B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85A7-4D06-4F72-892F-FFA71151FD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F3C-749B-493C-97CD-A10CD72C28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AD3-3F99-4B2E-A525-39935AC780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676-C6DD-4C00-9843-15E01E4DF1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6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1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6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17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560" y="2060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у анасы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Кызыклы шәкерт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3. «Өч кыз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Кәҗә белән сарык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Эш беткәч уйнарга яры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дәби у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095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j0212774.wav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47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26560" y="2420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915840" y="526896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е  ли  из  перечисленных  произведений 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аз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3" name="j0212789.wav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4745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121040" y="5264280"/>
            <a:ext cx="689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а  сказка  принадлежит   великому  рус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исателю  А.С.  Пушк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1. «Сказка  о  рыбаке  и  рыбк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Лиса  и  журавл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Каша  из  топор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Заюшкина  избуш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Мартышка  и  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9" name="j0212805.wav" descr=""/>
          <p:cNvPicPr/>
          <p:nvPr/>
        </p:nvPicPr>
        <p:blipFill>
          <a:blip r:embed="rId1"/>
          <a:stretch/>
        </p:blipFill>
        <p:spPr>
          <a:xfrm>
            <a:off x="395280" y="24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4745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13"/>
          <p:cNvSpPr txBox="1"/>
          <p:nvPr/>
        </p:nvSpPr>
        <p:spPr>
          <a:xfrm>
            <a:off x="1763640" y="2492280"/>
            <a:ext cx="5616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5"/>
          <p:cNvSpPr txBox="1"/>
          <p:nvPr/>
        </p:nvSpPr>
        <p:spPr>
          <a:xfrm>
            <a:off x="826920" y="1916280"/>
            <a:ext cx="770580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кенче 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Литр                                           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антиметр                               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Метр                                            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Дециметр                                   Д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Миллиметр                                 М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       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Озынлык үлчәү берәмлекләре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1.  Литр                                           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антиметр                               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Метр                                            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Дециметр                                  Д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Миллиметр                                 ММ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j0212852.wav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474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26560" y="22766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Шар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Чиш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Сора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Җавап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Мәсь</a:t>
            </a:r>
            <a:r>
              <a:rPr b="0" lang="tt-RU" sz="2400" spc="-1" strike="noStrike">
                <a:solidFill>
                  <a:srgbClr val="ff0000"/>
                </a:solidFill>
                <a:latin typeface="Candara"/>
              </a:rPr>
              <a:t>әлә чишү тәртиб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1332000" y="0"/>
            <a:ext cx="71276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ТНАШУЧЫ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Picture 11" descr="C:\ФОТО\SAM_2892.JPG"/>
          <p:cNvPicPr/>
          <p:nvPr/>
        </p:nvPicPr>
        <p:blipFill>
          <a:blip r:embed="rId4"/>
          <a:stretch/>
        </p:blipFill>
        <p:spPr>
          <a:xfrm>
            <a:off x="739800" y="1844640"/>
            <a:ext cx="1509840" cy="2013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C:\ФОТО\SAM_2896.JPG"/>
          <p:cNvPicPr/>
          <p:nvPr/>
        </p:nvPicPr>
        <p:blipFill>
          <a:blip r:embed="rId5"/>
          <a:stretch/>
        </p:blipFill>
        <p:spPr>
          <a:xfrm>
            <a:off x="7367760" y="1922400"/>
            <a:ext cx="1450800" cy="1935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C:\ФОТО\SAM_2898.JPG"/>
          <p:cNvPicPr/>
          <p:nvPr/>
        </p:nvPicPr>
        <p:blipFill>
          <a:blip r:embed="rId6"/>
          <a:stretch/>
        </p:blipFill>
        <p:spPr>
          <a:xfrm>
            <a:off x="5348160" y="2319480"/>
            <a:ext cx="1498680" cy="200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C:\ФОТО\SAM_2900.JPG"/>
          <p:cNvPicPr/>
          <p:nvPr/>
        </p:nvPicPr>
        <p:blipFill>
          <a:blip r:embed="rId7"/>
          <a:stretch/>
        </p:blipFill>
        <p:spPr>
          <a:xfrm>
            <a:off x="3041640" y="2319480"/>
            <a:ext cx="1601640" cy="2000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5" descr="C:\ФОТО\SAM_2905.JPG"/>
          <p:cNvPicPr/>
          <p:nvPr/>
        </p:nvPicPr>
        <p:blipFill>
          <a:blip r:embed="rId8"/>
          <a:stretch/>
        </p:blipFill>
        <p:spPr>
          <a:xfrm>
            <a:off x="739800" y="4230720"/>
            <a:ext cx="1492200" cy="1987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C:\ФОТО\SAM_2907.JPG"/>
          <p:cNvPicPr/>
          <p:nvPr/>
        </p:nvPicPr>
        <p:blipFill>
          <a:blip r:embed="rId9"/>
          <a:stretch/>
        </p:blipFill>
        <p:spPr>
          <a:xfrm>
            <a:off x="3016080" y="4486320"/>
            <a:ext cx="1627200" cy="2171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7" descr="C:\ФОТО\SAM_2913.JPG"/>
          <p:cNvPicPr/>
          <p:nvPr/>
        </p:nvPicPr>
        <p:blipFill>
          <a:blip r:embed="rId10"/>
          <a:stretch/>
        </p:blipFill>
        <p:spPr>
          <a:xfrm>
            <a:off x="7367760" y="4319640"/>
            <a:ext cx="1530000" cy="2043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C:\ФОТО\SAM_2922.JPG"/>
          <p:cNvPicPr/>
          <p:nvPr/>
        </p:nvPicPr>
        <p:blipFill>
          <a:blip r:embed="rId11"/>
          <a:stretch/>
        </p:blipFill>
        <p:spPr>
          <a:xfrm>
            <a:off x="5288040" y="4462560"/>
            <a:ext cx="152712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Шар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2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Сора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  </a:t>
            </a: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Чиш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Җавап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j0212852.wav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3" dur="4745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755640" y="2707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Имя  существи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Имя  прилага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Глаго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Местоим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Подлежаще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Это  части  реч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7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Имя  существи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Имя  прилагательн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Глаго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Местоим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5.  Подлежаще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j0212867.wav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4745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Па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Уче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Красив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ловар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Компьюте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Это  имена  существительн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Па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Уче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.  Красив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ловар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Компьюте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j0212883.wav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Чёрный- бе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Добрый- зл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Толстый- худ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Жаркий- тёп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Маленький- больш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Это  антоним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125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Чёрный- бе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Добрый- зл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Толстый- худ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4.  Жаркий- тёпл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Маленький- больш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              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усский 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7" name="j0212898.wav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8" dur="4745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13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0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4584d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6"/>
          <p:cNvSpPr txBox="1"/>
          <p:nvPr/>
        </p:nvSpPr>
        <p:spPr>
          <a:xfrm>
            <a:off x="1332000" y="1628640"/>
            <a:ext cx="6769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Өченче 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900000" y="2204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өйгә кайт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рманда яш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укучының кита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малайны укы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мәктәптән чык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Иялек килешендәге исем кергән сүзтезмә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Татар те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9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«Музыкаль пауз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Частушка к уроку.mp3" descr=""/>
          <p:cNvPicPr/>
          <p:nvPr/>
        </p:nvPicPr>
        <p:blipFill>
          <a:blip r:embed="rId1"/>
          <a:stretch/>
        </p:blipFill>
        <p:spPr>
          <a:xfrm>
            <a:off x="6443640" y="27082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Пользователь\Desktop\iГармонь.jpe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21150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өйгә кайт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рманда яш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. укучының кита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малайны укы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мәктәптән чык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Татар те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5" name="j0212930.wav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7" dur="4745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К</a:t>
            </a: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үр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Булыш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Ишет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Ис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Тәм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Кешенең ис сизү органнары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Әйләнә-тирә дөнь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0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Күр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2.Булыш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Ишет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Ис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Тәм сиз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йләнә-тирә дөнь</a:t>
            </a:r>
            <a:r>
              <a:rPr b="1" lang="tt-RU" sz="4400" spc="-1" strike="noStrike">
                <a:solidFill>
                  <a:srgbClr val="ff0000"/>
                </a:solidFill>
                <a:latin typeface="Candar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0" name="j0212961.wav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Зур песнә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Яр чыпчыг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Саеска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4. Ала карг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үк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Чит ояга күкәй салучы кош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Әйлән</a:t>
            </a:r>
            <a:r>
              <a:rPr b="1" lang="tt-RU" sz="4400" spc="-1" strike="noStrike">
                <a:solidFill>
                  <a:srgbClr val="ffff00"/>
                </a:solidFill>
                <a:latin typeface="Candara"/>
              </a:rPr>
              <a:t>ә-тирә дөн</a:t>
            </a: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ь</a:t>
            </a:r>
            <a:r>
              <a:rPr b="1" lang="tt-RU" sz="4400" spc="-1" strike="noStrike">
                <a:solidFill>
                  <a:srgbClr val="ffff00"/>
                </a:solidFill>
                <a:latin typeface="Candar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0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Зур песнә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Яр чыпчыг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Саеска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4. Ала карг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5. Күк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йләнә-тирә дөнь</a:t>
            </a:r>
            <a:r>
              <a:rPr b="1" lang="tt-RU" sz="4400" spc="-1" strike="noStrike">
                <a:solidFill>
                  <a:srgbClr val="ff0000"/>
                </a:solidFill>
                <a:latin typeface="Candara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5" name="j0212976.wav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7" dur="4745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ынлы сәнга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Пейзаж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Портр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Натюрмо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Баталь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Бу картина  нинд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анрга    керә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9" name="Picture 7" descr="Изображение 030"/>
          <p:cNvPicPr/>
          <p:nvPr/>
        </p:nvPicPr>
        <p:blipFill>
          <a:blip r:embed="rId1"/>
          <a:stretch/>
        </p:blipFill>
        <p:spPr>
          <a:xfrm>
            <a:off x="4643280" y="1413000"/>
            <a:ext cx="39592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0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ынлы   с</a:t>
            </a:r>
            <a:r>
              <a:rPr b="1" lang="tt-RU" sz="4400" spc="-1" strike="noStrike">
                <a:solidFill>
                  <a:srgbClr val="ff0000"/>
                </a:solidFill>
                <a:latin typeface="Candara"/>
              </a:rPr>
              <a:t>ә</a:t>
            </a: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нга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1. Пейзаж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Портр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Натюрмо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Баталь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3" name="Picture 5" descr="Изображение 030"/>
          <p:cNvPicPr/>
          <p:nvPr/>
        </p:nvPicPr>
        <p:blipFill>
          <a:blip r:embed="rId1"/>
          <a:stretch/>
        </p:blipFill>
        <p:spPr>
          <a:xfrm>
            <a:off x="4643280" y="1413000"/>
            <a:ext cx="3959280" cy="5113080"/>
          </a:xfrm>
          <a:prstGeom prst="rect">
            <a:avLst/>
          </a:prstGeom>
          <a:ln w="0">
            <a:noFill/>
          </a:ln>
        </p:spPr>
      </p:pic>
      <p:pic>
        <p:nvPicPr>
          <p:cNvPr id="474" name="j0212945.wav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0" dur="4745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Сәлих Сәйдәше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Нәҗип Җиһан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Мәҗит Гаф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ара Садыйко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Рөстәм Яхи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Болар  композиторлар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у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0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 С</a:t>
            </a: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әлих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әйдәше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Нәҗип Җиһан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ndara"/>
              </a:rPr>
              <a:t>3.  Мәҗит Гаф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 Сара Садыйко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5. Рөстәм Яхи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Му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9" name="j0212992.wav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2" dur="4745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3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5"/>
          <p:cNvSpPr txBox="1"/>
          <p:nvPr/>
        </p:nvSpPr>
        <p:spPr>
          <a:xfrm>
            <a:off x="1403280" y="1484280"/>
            <a:ext cx="6337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нче  ту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5"/>
          <p:cNvSpPr txBox="1"/>
          <p:nvPr/>
        </p:nvSpPr>
        <p:spPr>
          <a:xfrm>
            <a:off x="1116000" y="1628640"/>
            <a:ext cx="676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НА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0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68360" y="2674440"/>
            <a:ext cx="8136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73e87"/>
                </a:solidFill>
                <a:latin typeface="Candara"/>
              </a:rPr>
              <a:t>САНДУГАЧЛАРЫМ</a:t>
            </a: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Бирелгән хәрефләрдән булдыра алган кадәр сүзләр төзегез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0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5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6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2"/>
          <p:cNvSpPr/>
          <p:nvPr/>
        </p:nvSpPr>
        <p:spPr>
          <a:xfrm>
            <a:off x="7524720" y="404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2195640" y="4292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7308720" y="558972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116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5364000" y="184464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5508720" y="465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46836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987640" y="836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8172360" y="400536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>
            <a:off x="3780000" y="5589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539640" y="2602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13"/>
          <p:cNvSpPr txBox="1"/>
          <p:nvPr/>
        </p:nvSpPr>
        <p:spPr>
          <a:xfrm>
            <a:off x="1763640" y="2492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Йолдызлы сәгат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«Музыкаль пауз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8" name="Частушка к уроку.mp3" descr=""/>
          <p:cNvPicPr/>
          <p:nvPr/>
        </p:nvPicPr>
        <p:blipFill>
          <a:blip r:embed="rId1"/>
          <a:stretch/>
        </p:blipFill>
        <p:spPr>
          <a:xfrm>
            <a:off x="6443640" y="27082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C:\Users\Пользователь\Desktop\iГармонь.jpe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2" dur="321150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AN00790_"/>
          <p:cNvPicPr/>
          <p:nvPr/>
        </p:nvPicPr>
        <p:blipFill>
          <a:blip r:embed="rId1"/>
          <a:stretch/>
        </p:blipFill>
        <p:spPr>
          <a:xfrm>
            <a:off x="2889360" y="1382760"/>
            <a:ext cx="3294000" cy="3435480"/>
          </a:xfrm>
          <a:prstGeom prst="rect">
            <a:avLst/>
          </a:prstGeom>
          <a:ln w="0">
            <a:noFill/>
          </a:ln>
        </p:spPr>
      </p:pic>
      <p:sp>
        <p:nvSpPr>
          <p:cNvPr id="511" name="WordArt 6"/>
          <p:cNvSpPr txBox="1"/>
          <p:nvPr/>
        </p:nvSpPr>
        <p:spPr>
          <a:xfrm>
            <a:off x="1165320" y="536400"/>
            <a:ext cx="6985080" cy="3357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Җиңүче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12" name="WordArt 7"/>
          <p:cNvSpPr txBox="1"/>
          <p:nvPr/>
        </p:nvSpPr>
        <p:spPr>
          <a:xfrm>
            <a:off x="1187280" y="3122640"/>
            <a:ext cx="7056720" cy="34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отлыйбы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13" name="AutoShape 8"/>
          <p:cNvSpPr/>
          <p:nvPr/>
        </p:nvSpPr>
        <p:spPr>
          <a:xfrm>
            <a:off x="1835280" y="278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9"/>
          <p:cNvSpPr/>
          <p:nvPr/>
        </p:nvSpPr>
        <p:spPr>
          <a:xfrm>
            <a:off x="7380360" y="256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0"/>
          <p:cNvSpPr/>
          <p:nvPr/>
        </p:nvSpPr>
        <p:spPr>
          <a:xfrm>
            <a:off x="611280" y="5877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1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2"/>
          <p:cNvSpPr/>
          <p:nvPr/>
        </p:nvSpPr>
        <p:spPr>
          <a:xfrm>
            <a:off x="7524720" y="54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900000" y="112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4"/>
          <p:cNvSpPr/>
          <p:nvPr/>
        </p:nvSpPr>
        <p:spPr>
          <a:xfrm>
            <a:off x="6372360" y="191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j0213054.wav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0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3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74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4745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әлам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Нихәл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ривет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Хәлләр ничек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Исәнмесез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46680" y="5122800"/>
            <a:ext cx="63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Үзеңнән өлкәнрәк ке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лән ничек исәнләшү дө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әлам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Нихәл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ривет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Хәлләр ничек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5. Исәнмесез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095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j0212727.wav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4745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28320" y="1557360"/>
            <a:ext cx="849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Маратны чакырыгыз әле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2. “Марат өйдәме ул? Чакырыгыз әле.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Маратны чакырыгыз, зинһар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Исәнмесез! Маратны чакырыгыз әл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Исәнмесез! Борчуым өчен гафу итегез, Марат өйдәме ул?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108440" y="5238720"/>
            <a:ext cx="693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лефоннан иптәшеңне чакырырга теләгәнд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йсы вариант дөрес дип уйлыйсың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Маратны чакырыгыз әле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Марат өйдәме ул? Чакырыгыз әле.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3. “Маратны чакырыгыз, зинһар.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73e87"/>
                </a:solidFill>
                <a:latin typeface="Candara"/>
              </a:rPr>
              <a:t>4. “Исәнмесез! Маратны чакырыгыз әле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ndara"/>
              </a:rPr>
              <a:t>5. «Исәнмесез! Борчуым өчен гафу итегез, Марат өйдәме ул?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Аралашу культура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095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j0212758.wav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4745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00000" y="191628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«Су анасы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«Кызыклы шәкерт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Өч кыз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«Кәҗә белән сарык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«Эш беткәч уйнарга яры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Әдәби у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700920" y="501336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.Тукай иҗат иткән әкиятләр һәм шигырь</a:t>
            </a:r>
            <a:r>
              <a:rPr b="1" lang="tt-RU" sz="2800" spc="-1" strike="noStrike">
                <a:solidFill>
                  <a:srgbClr val="ff0000"/>
                </a:solidFill>
                <a:latin typeface="Arial"/>
              </a:rPr>
              <a:t>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37:26Z</dcterms:created>
  <dc:creator>Baila</dc:creator>
  <dc:description/>
  <dc:language>en-US</dc:language>
  <cp:lastModifiedBy>Нурсана</cp:lastModifiedBy>
  <dcterms:modified xsi:type="dcterms:W3CDTF">2014-01-23T17:21:01Z</dcterms:modified>
  <cp:revision>49</cp:revision>
  <dc:subject/>
  <dc:title>Слайд 1</dc:title>
</cp:coreProperties>
</file>