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EC6-509D-4E12-86E4-4ADB40AE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0BB-0B02-444D-87D7-E57B2B34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973-D059-4773-869A-A8E5044F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8E5-E9B6-4244-98CA-99DDE30C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32FA-6A52-45F2-BC21-39E1D8B3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10C4-AE6B-4D1C-8012-CDD0AC7C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4394-F3FB-40A8-B5F4-E3B49E78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E35A-C66B-4E2C-841E-B8F34CC3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5D9B-BB7C-4E6C-93F8-E60FA629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A13-8274-41FE-A11F-BAA7A2C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AB02-06E6-4EAB-B100-A4F5D269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96C-4B4E-4021-BC94-8D213BE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2459-D64F-4A4A-B972-A0BC202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951D-3A88-4B6A-A020-8DD3897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745E-D703-479B-ABD9-D7C09458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B681-93EB-430B-BE1A-0065622C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1ED9-6BB9-4265-B40E-7FB3870B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E7461-5D6C-464F-A4AD-06EB217D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D3CCA-8FB2-4169-9403-204088CB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80473-5B62-43C7-B2E8-3A669A70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1625E-4CE5-4C04-9118-090F28A5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2CCA1-078A-4C4D-92BF-37B51417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482-E053-429E-B46B-4B6F5134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67983-6E3C-440C-9E1F-17C6D529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96651-ED1C-48D2-BE14-69AB64B8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2A2E8-958D-4AD5-A4F1-1976FFB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F5A79-0A44-4334-80E1-FF8DF18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82B9C-F93D-468F-9BE0-0AB03EDF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1E45B-AC4F-41F5-8DDB-33531395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BCC9E-6958-4A72-B771-0F0B6976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10718-F572-4431-B875-D791852C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98C44-AC25-454D-B745-929F1E91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B9C4C-41DA-47DC-A9B0-621074F7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BA6-5931-48CA-B84B-B8F6E490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EC524-D157-40E3-9B6A-69524B7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62539-30B8-4498-A0C8-FC1B456F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0AD42-C23A-4581-993D-CEBFA220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33C0F-8B0B-4014-B4A8-8FD9A40F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DF8E4-30DD-47FE-B1EF-39DABC9F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7ED1B-87DE-4768-BD2E-30218CDA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17CD3-E1FE-42B4-AB60-721E75CB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079AB-5950-4D4C-AE75-71831BD9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EAFDE-E5F2-4371-AFDC-3826EC27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3B4A2-6DC3-4762-B3A9-70C6E932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316-9DF3-4E59-B4AF-C29F7DDE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C49D4-9566-4026-B2F7-7FDDAFF1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B79E8-042C-4257-8875-0185E923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4AB9D-2255-4B6C-A4D2-675C0EDF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78A24-C66E-469B-B949-6B7B7797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81900-F14C-46F1-991F-E79356C6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6B696-0793-4370-860D-05CD284B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6146C-59D4-41B2-9F84-1F9A38A5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96E22-8F2C-4717-BA08-68B453C9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AA2F3-F664-48C0-946E-FEC8A5AD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76FEF-D1DD-43BE-ACDB-2C6E4502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2DF-FAD5-4F38-96FE-EE641B89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E921B-0B6C-4C93-9A68-FF3CE850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E4AA-1366-4242-A399-2F3BD358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AEFE1-62DA-4097-9479-EA0FA4AD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5C9BC-CD0E-4D6F-816C-259ECA56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6067-73E4-4B31-BD30-AEDFFEED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7E02-AD23-4B96-BCAF-498B29BD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56BB9-C67C-4F38-A896-B0781635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40BB9-E632-4BE4-9904-D7B9057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C33AA-C2EB-4F5E-AD1B-546B22BA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7BF7F-8E7B-4B10-B7A4-70A4740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684-2166-41CF-9F0C-114019C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7B2C9-E3BF-4EEE-82D1-182B13FE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52514-12C3-4D52-ABFE-07F6AED3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220EF-4329-4A0F-BBCA-C765D4AE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9C653-9CE2-4BD1-8EC2-A6E51556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C3E40-423A-40E7-BE0A-3E29A699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3162E-5539-4785-8E33-BD4CE935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67952-7CFA-444C-AD1A-7D243C7C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FC1B5-89E4-4803-BDBD-3350703B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B1F41-4C54-4166-9DF0-63C2C894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E9F66-6A5C-45BE-B0E7-BD2F808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21C-AC82-4726-849B-C8BB661A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B1D3A-68AA-4645-BE44-E168A88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19FB7-3317-48EA-9D8F-E99CB41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F962F-98C0-481E-9D7B-5A86C7D4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99C50-6ABD-4929-9E21-638E33D4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8CA3E-E68F-4C72-9413-BC0A6AD3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158C3-48D3-47C4-9E95-B6C742A9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432A1-FC7C-4357-A5C9-E12E3304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4A915-15A3-44E8-A967-18A40D0F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2CDEC-4AD8-45AC-B6A2-9D7DB81B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8A170-5712-480E-B0EF-4B1485B4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FC7-2F80-4BFE-A776-7AB5D478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96DC1-BF36-4CC3-AB58-003E0FAD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04E6F-4FAF-4D62-819A-E83CF4F9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EBF29-B598-4869-BD66-49482A69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F9C2F-1FB8-4DF5-9CC1-5E35A158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D94E8-FAB2-4503-916A-30A3BB42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E81A6-A5B3-4E45-AF32-1FC14A5B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3EC14-0F6B-44D3-A74C-E836525D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D0EE-0135-4DF7-8546-8D603C0AFAA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A0B-EE77-4585-9901-7A00102BAB7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3D8E-A7A9-4EF8-AD35-B736EF661AE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3B02-519F-447B-BFCE-F21DCC93AE0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BCD6-8729-4876-9861-B31C53AA61E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A5E-1CFA-4FE6-909C-34C128D57A2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8FB7-1AB8-4697-AF04-8E00C58E0BF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FA6C-0C8E-448A-8E36-BA71CF3FB6A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ЗАДАНИЯ НА ВЫБОР И ЗАПИСЬ НЕСКОЛЬКИХ ОТВЕТОВ </a:t>
            </a:r>
            <a:br>
              <a:rPr sz="4400"/>
            </a:b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ПО ТЕМЕ «ОСНОВЫ КОНСТИТУЦИОННОГО СТРОЯ»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437920" y="5943240"/>
            <a:ext cx="6705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И.Н.    МБОУ «ЦО № 32» г. Тул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45720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 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Что из перечисленного ниже  относится к политическим правам гражданина РФ? </a:t>
            </a:r>
            <a:br>
              <a:rPr sz="2400"/>
            </a:b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Запишите цифры, под которыми они указаны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во участвовать в управлении государством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во на свободу и личную неприкосновенност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во обращаться в органы государственной власт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во на личную и семейную тайну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во участвовать в референдуме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3505320" y="6095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Calibri"/>
              </a:rPr>
              <a:t>Найдите в приведенном ниже списке положения, характеризующие основы конституционного строя РФ, и запишите цифры, под которыми они указаны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ключение трудового договора допускается с лицами, достигшими возраста шестнадцати лет, за исключением случаев, предусмотренных законодательством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Ф – социальное государство, политика которого направлена  на создание условий, обеспечивающих достойную жизнь и свободное развитие человек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ражданин РФ не может быть лишен своего гражданства или права изменить ег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емля и другие природные ресурсы используются и охраняются в РФ как основа жизни и деятельности народов, проживающих на соответствующей территории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головная ответственность наступает за совершение тяжкого и особо тяжкого преступления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2971800" y="6019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Calibri"/>
              </a:rPr>
              <a:t>Согласно Конституции РФ, наша страна является светским государством. Найдите в приведенном ниже списке черты, характеризующие светское государство, и запишите цифры, под которыми они указаны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142640" y="1600200"/>
            <a:ext cx="7623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тсутствие государственной религи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деятельность институтов, обеспечивающих демократическое развитие государств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установление гарантированного минимального размера оплаты труд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гарантия свободы совести и вероисповедания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беспечение государственной поддержки материнства и детств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TextBox 6"/>
          <p:cNvSpPr/>
          <p:nvPr/>
        </p:nvSpPr>
        <p:spPr>
          <a:xfrm>
            <a:off x="3657600" y="6172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Calibri"/>
              </a:rPr>
              <a:t>Согласно Конституции РФ, наша страна является правовым государством. Найдите в приведенном ниже списке черты, характеризующие правовое государство, и запишите цифры, под которыми они указаны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42640" y="1600200"/>
            <a:ext cx="7623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) верховенство закон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2) укрепление обороноспособности стран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3) равноправие и равенство всех граждан перед законом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) взаимная ответственность государства и гражда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5) обеспечение государственной поддержки семь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3657600" y="6172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Calibri"/>
              </a:rPr>
              <a:t>Найдите в приведенном ниже списке положения, характеризующие основы конституционного строя РФ, и запишите цифры, под которыми они указаны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 взаимоотношениях с федеральными органами государственной власти все субъекты РФ между собой равны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осителем суверенитета и единственным источником власти в РФ является её многонациональный народ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ражданин отвечает по своим обязательствам всем принадлежащим ему имуществом, за исключением имущества, на которое в  соответствии с законом не6 может быть обращено взыскание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головной ответственности подлежит лицо, достигшее ко времени совершения преступления шестнадцатилетнего возраст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обоснованный отказ в заключении трудового договора запрещается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3733920" y="6334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Что из перечисленного относится к личным (гражданским) правам гражданина РФ? Запишите цифры, под которыми они указаны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) право участвовать в управлении делами государств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2) право на свободу и личную неприкосновенност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3) право на социальное обеспечение по возрасту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) право на личную и семейную тайну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5) право свободно передвигаться, выбирать  место пребывания и жительств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3657600" y="6172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Что из перечисленного относится к социально-экономическим правам (свободам) гражданина РФ? Запишите цифры, под которыми они указаны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  право на частную собственность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свобода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 право на охрану здоровья и медицинскую помощь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свобода совести, мысли, слов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) право на защиту чести и доброго имени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3657600" y="6172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Calibri"/>
              </a:rPr>
              <a:t>Найдите в приведенном ниже списке положения, характеризующие основы конституционного строя РФ, и запишите цифры, под которыми они указаны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осударственная власть в РФ осуществляется на основе разделения на законодательную, исполнительную и судебную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я заключения брака необходимы взаимное добровольное согласие мужчины и женщины, вступающих в брак, и достижение ими брачного возраст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ражданин РФ не может быть лишен своего гражданства или права изменить ег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осителем суверенитета и единственным источником власти в РФ является её многонациональный народ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бенок имеет право на общение с обоими родителями, дедушкой, бабушкой, братьями, сёстрами и другими родственниками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2971800" y="6019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75f55"/>
                </a:solidFill>
                <a:latin typeface="Calibri"/>
              </a:rPr>
              <a:t>Что из перечисленного относится к конституционным обязанностям гражданина РФ? </a:t>
            </a:r>
            <a:br>
              <a:rPr sz="2200"/>
            </a:br>
            <a:r>
              <a:rPr b="1" lang="ru-RU" sz="2200" spc="-1" strike="noStrike">
                <a:solidFill>
                  <a:srgbClr val="775f55"/>
                </a:solidFill>
                <a:latin typeface="Calibri"/>
              </a:rPr>
              <a:t>Запишите цифры, под которыми они указаны</a:t>
            </a: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забота родителей о несовершеннолетних детях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бращение в государственные органы власт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государственная служб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защита Отечеств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сохранение исторического и культурного наследия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Прямоугольник 3"/>
          <p:cNvSpPr/>
          <p:nvPr/>
        </p:nvSpPr>
        <p:spPr>
          <a:xfrm>
            <a:off x="3593160" y="563868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Calibri"/>
              </a:rPr>
              <a:t>Согласно Конституции РФ, наша страна является социальным  государством. Найдите в приведенном ниже списке черты, характеризующие правовое государство, и запишите цифры, под которыми они указаны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установление гарантированного минимального размера оплаты труд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укрепление обороноспособности стран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создание условий, обеспечивающих гражданам РФ достойную жизн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государственная поддержка материнства и детств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тсутствие государственной обязательной религии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3505320" y="6095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7-09-08T05:03:41Z</dcterms:modified>
  <cp:revision>14</cp:revision>
  <dc:subject/>
  <dc:title>Задания на выбор и запись нескольких ответов</dc:title>
</cp:coreProperties>
</file>