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916-3C2A-4765-9671-60778557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383-4F42-4F8A-9562-679BA4A4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9FE-2EA2-45BB-96DD-182497A1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83C3-1F90-44B1-9BB0-00B3E78A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B8AA-F034-4E6D-9520-79566A39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9730-CD04-436D-B080-04B68E89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2A17-6753-4A69-A0F3-077CE8F8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4968-A16D-41BD-8721-64C8056B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39D0-0233-40E6-800D-5F2182DC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C778-54DA-4DF7-82BF-18AE6190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C7ED-836A-4C76-A595-00C535B2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3D72-24DA-4AF4-B610-892F0A18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9B31-9A55-456E-98EF-299543D3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DB2A-95EF-4C87-B7EF-8BD85072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A8DE-EB36-483E-9D70-FEA2249F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07F4-D94D-4C31-B2D9-B3A3B4B8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530D-F345-4CC5-9115-FDB478DF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3C1B8-6A0E-48FB-95F1-95D448B2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A9D64-B8CA-4E18-83D7-2D0F908D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2F302-F0FE-4F28-A25D-B8EB0DDF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275D7-4A98-4442-A11E-0650020B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B7A91-F235-44B4-8F03-980BA476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C82C-E2C0-4CAC-9A76-4A24A3DE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BB98B-91B2-44E4-A025-C9A087DB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31263-04A2-49CE-8C08-4B7124B5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5E8BF-AB4E-4DCB-A985-D71DFFF2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D8228-8F91-4084-8161-23C718B5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9CFD7-A6F7-4C31-8A5E-9CFB009F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C778A-7996-4DDE-81A1-54A5D30D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47A1A-1822-4079-B324-F5C05B21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852-8119-4F67-A90E-6540E46F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909C-4CCD-4981-8317-A9350225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16E3-0A69-4838-ABF4-F51998D1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2A0-0AF1-469C-B85A-ACD3899A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6591-F14B-410B-936A-B144C643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D083-030A-4949-A06A-9E2AA4DF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66CB-91C1-4FB6-B675-7ED8AEE2089D}" type="slidenum">
              <a:rPr b="1" lang="en-US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31FD-BFED-4E3A-A6BA-762ED6DE637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C98B-7316-4DBE-BB1C-CB533B2D852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24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УЧЁНЫЕ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556000" y="5791320"/>
            <a:ext cx="6121440" cy="83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282e"/>
                </a:solidFill>
                <a:latin typeface="Arial"/>
              </a:rPr>
              <a:t>Учитель: Потехина Светлана Владимиров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282e"/>
                </a:solidFill>
                <a:latin typeface="Arial"/>
              </a:rPr>
              <a:t>Презентацию подготовила: Чаусова Ева </a:t>
            </a:r>
            <a:r>
              <a:rPr b="0" lang="en-US" sz="1800" spc="-1" strike="noStrike">
                <a:solidFill>
                  <a:srgbClr val="d1282e"/>
                </a:solidFill>
                <a:latin typeface="Arial Black"/>
              </a:rPr>
              <a:t>7</a:t>
            </a:r>
            <a:r>
              <a:rPr b="0" lang="en-US" sz="1800" spc="-1" strike="noStrike">
                <a:solidFill>
                  <a:srgbClr val="d1282e"/>
                </a:solidFill>
                <a:latin typeface="Arial"/>
              </a:rPr>
              <a:t>«</a:t>
            </a:r>
            <a:r>
              <a:rPr b="0" lang="en-US" sz="1800" spc="-1" strike="noStrike">
                <a:solidFill>
                  <a:srgbClr val="d1282e"/>
                </a:solidFill>
                <a:latin typeface="Arial Black"/>
              </a:rPr>
              <a:t>Б</a:t>
            </a:r>
            <a:r>
              <a:rPr b="0" lang="en-US" sz="1800" spc="-1" strike="noStrike">
                <a:solidFill>
                  <a:srgbClr val="d1282e"/>
                </a:solidFill>
                <a:latin typeface="Arial"/>
              </a:rPr>
              <a:t>» клас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3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374508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А СЕЙЧАС ОНИ ВЫГЛЯДЯТ ТАК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70" name="Объект 3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5556240" cy="27766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4" descr=""/>
          <p:cNvPicPr/>
          <p:nvPr/>
        </p:nvPicPr>
        <p:blipFill>
          <a:blip r:embed="rId2"/>
          <a:stretch/>
        </p:blipFill>
        <p:spPr>
          <a:xfrm>
            <a:off x="4716360" y="11160"/>
            <a:ext cx="4235400" cy="31780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5" descr=""/>
          <p:cNvPicPr/>
          <p:nvPr/>
        </p:nvPicPr>
        <p:blipFill>
          <a:blip r:embed="rId3"/>
          <a:stretch/>
        </p:blipFill>
        <p:spPr>
          <a:xfrm>
            <a:off x="4284720" y="2852640"/>
            <a:ext cx="4205160" cy="27608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6" descr=""/>
          <p:cNvPicPr/>
          <p:nvPr/>
        </p:nvPicPr>
        <p:blipFill>
          <a:blip r:embed="rId4"/>
          <a:stretch/>
        </p:blipFill>
        <p:spPr>
          <a:xfrm>
            <a:off x="611280" y="1538280"/>
            <a:ext cx="3673440" cy="22953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7" descr=""/>
          <p:cNvPicPr/>
          <p:nvPr/>
        </p:nvPicPr>
        <p:blipFill>
          <a:blip r:embed="rId5"/>
          <a:stretch/>
        </p:blipFill>
        <p:spPr>
          <a:xfrm>
            <a:off x="1649520" y="1863720"/>
            <a:ext cx="584496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7640" y="189000"/>
            <a:ext cx="88916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1282e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76" name="Объект 3" descr=""/>
          <p:cNvPicPr/>
          <p:nvPr/>
        </p:nvPicPr>
        <p:blipFill>
          <a:blip r:embed="rId1"/>
          <a:stretch/>
        </p:blipFill>
        <p:spPr>
          <a:xfrm>
            <a:off x="755640" y="2095560"/>
            <a:ext cx="4383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                    </a:t>
            </a: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АРХИМЕД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131640" y="1773360"/>
            <a:ext cx="57610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Его закон формулируется следующим образом: на тело, погружённое в жидкость (или газ), действует выталкивающая сила, равная весу жидкости (или газа) в объёме погруженной части тела. Сила называется силой Архимед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3" descr=""/>
          <p:cNvPicPr/>
          <p:nvPr/>
        </p:nvPicPr>
        <p:blipFill>
          <a:blip r:embed="rId1"/>
          <a:stretch/>
        </p:blipFill>
        <p:spPr>
          <a:xfrm>
            <a:off x="289080" y="4076640"/>
            <a:ext cx="3665520" cy="24526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"/>
          <p:cNvPicPr/>
          <p:nvPr/>
        </p:nvPicPr>
        <p:blipFill>
          <a:blip r:embed="rId2"/>
          <a:stretch/>
        </p:blipFill>
        <p:spPr>
          <a:xfrm>
            <a:off x="297000" y="343080"/>
            <a:ext cx="2733480" cy="3568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4" descr=""/>
          <p:cNvPicPr/>
          <p:nvPr/>
        </p:nvPicPr>
        <p:blipFill>
          <a:blip r:embed="rId1"/>
          <a:stretch/>
        </p:blipFill>
        <p:spPr>
          <a:xfrm>
            <a:off x="6435720" y="1916280"/>
            <a:ext cx="2232000" cy="37908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1727280" cy="38890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А КЛИНГЕРТ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123640" y="1628640"/>
            <a:ext cx="431964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1797 г. немцем А. Клингертом был предложен первый костюм для водолазов, в котором можно было находиться под водой больше трёх мину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2124000" y="29336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начале 19 века Клейнгертом был изобретена подводная машина. Водолаз опускался вместе с огромным баллоном, из которого он мог при необходимости получать свежий воздух. По мере опускания на глубину вода давила на поршень в баллоне и сжимала находившийся там воздух, который по трубкеподачи воздуха поступал в шлем водолазного костю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А СЕЙЧАС ОНИ ВЫГЛЯДЯТ ТАК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2" name="Объект 3" descr=""/>
          <p:cNvPicPr/>
          <p:nvPr/>
        </p:nvPicPr>
        <p:blipFill>
          <a:blip r:embed="rId1"/>
          <a:stretch/>
        </p:blipFill>
        <p:spPr>
          <a:xfrm>
            <a:off x="4211640" y="3317760"/>
            <a:ext cx="4424400" cy="31291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"/>
          <p:cNvPicPr/>
          <p:nvPr/>
        </p:nvPicPr>
        <p:blipFill>
          <a:blip r:embed="rId2"/>
          <a:stretch/>
        </p:blipFill>
        <p:spPr>
          <a:xfrm>
            <a:off x="1187280" y="1681200"/>
            <a:ext cx="3718080" cy="21128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5" descr=""/>
          <p:cNvPicPr/>
          <p:nvPr/>
        </p:nvPicPr>
        <p:blipFill>
          <a:blip r:embed="rId3"/>
          <a:stretch/>
        </p:blipFill>
        <p:spPr>
          <a:xfrm>
            <a:off x="5292720" y="907920"/>
            <a:ext cx="3100320" cy="22021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6" descr=""/>
          <p:cNvPicPr/>
          <p:nvPr/>
        </p:nvPicPr>
        <p:blipFill>
          <a:blip r:embed="rId4"/>
          <a:stretch/>
        </p:blipFill>
        <p:spPr>
          <a:xfrm>
            <a:off x="250920" y="3811680"/>
            <a:ext cx="35161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Arial Black"/>
              </a:rPr>
              <a:t>МОНГОЛЬФЬЕР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28280"/>
            <a:ext cx="36100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ратья Монгольфье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стигли поднятия изготовленного из бумаги шара с отверстием внизу, наполняя шар горячими газам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3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3529080" cy="5091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А СЕЙЧАС ОНИ ВЫГЛЯДЯТ ТАК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50" name="Объект 3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279960" cy="43736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"/>
          <p:cNvPicPr/>
          <p:nvPr/>
        </p:nvPicPr>
        <p:blipFill>
          <a:blip r:embed="rId2"/>
          <a:stretch/>
        </p:blipFill>
        <p:spPr>
          <a:xfrm>
            <a:off x="5292720" y="260280"/>
            <a:ext cx="3552840" cy="44420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"/>
          <p:cNvPicPr/>
          <p:nvPr/>
        </p:nvPicPr>
        <p:blipFill>
          <a:blip r:embed="rId3"/>
          <a:stretch/>
        </p:blipFill>
        <p:spPr>
          <a:xfrm>
            <a:off x="4067280" y="1430280"/>
            <a:ext cx="4406760" cy="44467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"/>
          <p:cNvPicPr/>
          <p:nvPr/>
        </p:nvPicPr>
        <p:blipFill>
          <a:blip r:embed="rId4"/>
          <a:stretch/>
        </p:blipFill>
        <p:spPr>
          <a:xfrm>
            <a:off x="971640" y="2282760"/>
            <a:ext cx="3529080" cy="43862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"/>
          <p:cNvPicPr/>
          <p:nvPr/>
        </p:nvPicPr>
        <p:blipFill>
          <a:blip r:embed="rId5"/>
          <a:stretch/>
        </p:blipFill>
        <p:spPr>
          <a:xfrm>
            <a:off x="1908000" y="2254320"/>
            <a:ext cx="456912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Arial Black"/>
              </a:rPr>
              <a:t>ЖАН БАТИСТ МАРИ ШАРЛЬ МЁНЬЕ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ан Батист Мари Шарль Мёнь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французский математик, дивизионный генерал. Считается изобретателем дирижабл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3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2982960" cy="39765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"/>
          <p:cNvPicPr/>
          <p:nvPr/>
        </p:nvPicPr>
        <p:blipFill>
          <a:blip r:embed="rId2"/>
          <a:stretch/>
        </p:blipFill>
        <p:spPr>
          <a:xfrm>
            <a:off x="3635280" y="3201840"/>
            <a:ext cx="4969080" cy="332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А СЕЙЧАС ОНИ ВЫГЛЯДЯТ ТАК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60" name="Объект 6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4989240" cy="29131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7" descr=""/>
          <p:cNvPicPr/>
          <p:nvPr/>
        </p:nvPicPr>
        <p:blipFill>
          <a:blip r:embed="rId2"/>
          <a:stretch/>
        </p:blipFill>
        <p:spPr>
          <a:xfrm>
            <a:off x="4211640" y="1482840"/>
            <a:ext cx="4043520" cy="24336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8" descr=""/>
          <p:cNvPicPr/>
          <p:nvPr/>
        </p:nvPicPr>
        <p:blipFill>
          <a:blip r:embed="rId3"/>
          <a:stretch/>
        </p:blipFill>
        <p:spPr>
          <a:xfrm>
            <a:off x="4978440" y="38894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9" descr=""/>
          <p:cNvPicPr/>
          <p:nvPr/>
        </p:nvPicPr>
        <p:blipFill>
          <a:blip r:embed="rId4"/>
          <a:stretch/>
        </p:blipFill>
        <p:spPr>
          <a:xfrm>
            <a:off x="181080" y="1484280"/>
            <a:ext cx="33526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БРАТЬЯ РАЙТ</a:t>
            </a:r>
            <a:br>
              <a:rPr sz="3600"/>
            </a:b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ра́тья Уи́лбур и О́рвилл Р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— два американца, за которыми в большинстве стран мира признаётся приоритет изобретения и постройки первого в мире самолёта 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3" descr=""/>
          <p:cNvPicPr/>
          <p:nvPr/>
        </p:nvPicPr>
        <p:blipFill>
          <a:blip r:embed="rId1"/>
          <a:stretch/>
        </p:blipFill>
        <p:spPr>
          <a:xfrm>
            <a:off x="6811920" y="3141720"/>
            <a:ext cx="1889280" cy="23083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"/>
          <p:cNvPicPr/>
          <p:nvPr/>
        </p:nvPicPr>
        <p:blipFill>
          <a:blip r:embed="rId2"/>
          <a:stretch/>
        </p:blipFill>
        <p:spPr>
          <a:xfrm>
            <a:off x="250920" y="3046320"/>
            <a:ext cx="1800000" cy="23767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"/>
          <p:cNvPicPr/>
          <p:nvPr/>
        </p:nvPicPr>
        <p:blipFill>
          <a:blip r:embed="rId3"/>
          <a:stretch/>
        </p:blipFill>
        <p:spPr>
          <a:xfrm>
            <a:off x="2016000" y="4437000"/>
            <a:ext cx="4795920" cy="2217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15:37:48Z</dcterms:created>
  <dc:creator>ЕваВера</dc:creator>
  <dc:description/>
  <dc:language>en-US</dc:language>
  <cp:lastModifiedBy>Светлана</cp:lastModifiedBy>
  <dcterms:modified xsi:type="dcterms:W3CDTF">2017-09-09T13:33:53Z</dcterms:modified>
  <cp:revision>18</cp:revision>
  <dc:subject/>
  <dc:title>Презентация PowerPoint</dc:title>
</cp:coreProperties>
</file>