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434-3666-43B1-976D-1ED3826D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797-EE1C-40D5-BD35-2247F13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4AF-08C7-4F74-952C-FDA9251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C4F-58D5-4093-A0C7-64EADEEA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E3B-66CA-4AD3-93C6-D40D8B75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844-ACA0-49EA-BBDE-1786060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BF4-ED86-4B98-8A67-CBFE74C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46B-62E2-4568-BB79-7DFF7D9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8C4-A6FF-4797-8427-CD33925B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FFDD-24DA-4E1F-B2FC-69B961E5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A4B-DE0D-4A50-A0DD-8B1980D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881-5C46-4B16-A8FD-59562753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ED9-8441-4E1F-A6EE-64ADF9E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C7D-7103-4E62-B7F8-C89CBE0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84FF-D26D-4BFA-90C0-0A39ECD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9D71-9269-4DA8-A0EE-5CF76284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BE9A-8A46-4356-8ADF-F906B2FA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13CD-46E3-40E7-AF7C-33645D53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4EA4-4A51-4DE1-AFB6-A18AD84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17C9-9B6E-4784-A19D-391FABF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1E89-0D4F-4B45-AE6C-6434AD8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DB4E-D881-459C-801D-8978E92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BF4-9352-48F6-B8C5-0E96515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2707-F91D-4370-AB4E-7023FA4A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C707-7F22-4AF0-B1EC-FB5F7FE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BB97-10B6-4D31-8F06-E124D6E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BB4F-0390-4A6A-9015-AD42237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EB29-01F1-4882-A7BD-094B16D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0D64-768B-442D-AE63-CA3806D0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C42F-0DDF-4E17-A50C-B411D2F3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F03-0995-407B-A6AA-860B9359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F64-E5AF-47E1-AE0B-6A6898C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6F4-335C-412D-8121-F282549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F8F-0FAE-4B41-9A6B-6D4B1E1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1D2-1357-43A3-9BAC-0084696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938-E664-48DA-AED8-65E61CA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C7E-7982-4BC6-A36E-C5E3AB1B61D1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B5C-3D6B-46F3-B7FF-91A2D5E296C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03F-36CB-41CE-86EE-12A48C6E7F6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24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УЧЁНЫЕ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556000" y="5791320"/>
            <a:ext cx="612144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Учитель: Потехина Светлана Владимир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Презентацию подготовила: Чаусова Ева </a:t>
            </a:r>
            <a:r>
              <a:rPr b="0" lang="en-US" sz="1800" spc="-1" strike="noStrike">
                <a:solidFill>
                  <a:srgbClr val="d1282e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d1282e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d1282e"/>
                </a:solidFill>
                <a:latin typeface="Arial"/>
              </a:rPr>
              <a:t>» кла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7450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5556240" cy="2776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2"/>
          <a:stretch/>
        </p:blipFill>
        <p:spPr>
          <a:xfrm>
            <a:off x="4716360" y="11160"/>
            <a:ext cx="4235400" cy="3178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05160" cy="2760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"/>
          <p:cNvPicPr/>
          <p:nvPr/>
        </p:nvPicPr>
        <p:blipFill>
          <a:blip r:embed="rId4"/>
          <a:stretch/>
        </p:blipFill>
        <p:spPr>
          <a:xfrm>
            <a:off x="611280" y="1538280"/>
            <a:ext cx="3673440" cy="2295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"/>
          <p:cNvPicPr/>
          <p:nvPr/>
        </p:nvPicPr>
        <p:blipFill>
          <a:blip r:embed="rId5"/>
          <a:stretch/>
        </p:blipFill>
        <p:spPr>
          <a:xfrm>
            <a:off x="1649520" y="1863720"/>
            <a:ext cx="58449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16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282e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755640" y="2095560"/>
            <a:ext cx="4383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                  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РХИМЕ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31640" y="1773360"/>
            <a:ext cx="5761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го закон формулируется следующим образом: на тело, погружённое в жидкость (или газ), действует выталкивающая сила, равная весу жидкости (или газа) в объёме погруженной части тела. Сила называется силой Архиме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289080" y="4076640"/>
            <a:ext cx="3665520" cy="2452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297000" y="343080"/>
            <a:ext cx="273348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6435720" y="1916280"/>
            <a:ext cx="2232000" cy="3790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727280" cy="388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КЛИНГЕРТ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23640" y="1628640"/>
            <a:ext cx="43196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797 г. немцем А. Клингертом был предложен первый костюм для водолазов, в котором можно было находиться под водой больше трёх мину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124000" y="2933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чале 19 века Клейнгертом был изобретена подводная машина. Водолаз опускался вместе с огромным баллоном, из которого он мог при необходимости получать свежий воздух. По мере опускания на глубину вода давила на поршень в баллоне и сжимала находившийся там воздух, который по трубкеподачи воздуха поступал в шлем водолазного костю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4211640" y="3317760"/>
            <a:ext cx="4424400" cy="3129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1187280" y="1681200"/>
            <a:ext cx="3718080" cy="211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3"/>
          <a:stretch/>
        </p:blipFill>
        <p:spPr>
          <a:xfrm>
            <a:off x="5292720" y="907920"/>
            <a:ext cx="3100320" cy="220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"/>
          <p:cNvPicPr/>
          <p:nvPr/>
        </p:nvPicPr>
        <p:blipFill>
          <a:blip r:embed="rId4"/>
          <a:stretch/>
        </p:blipFill>
        <p:spPr>
          <a:xfrm>
            <a:off x="250920" y="3811680"/>
            <a:ext cx="3516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МОНГОЛЬФЬЕР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28280"/>
            <a:ext cx="3610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тья Монгольфь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гли поднятия изготовленного из бумаги шара с отверстием внизу, наполняя шар горячими газ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529080" cy="509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279960" cy="4373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552840" cy="4442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4067280" y="1430280"/>
            <a:ext cx="4406760" cy="4446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"/>
          <p:cNvPicPr/>
          <p:nvPr/>
        </p:nvPicPr>
        <p:blipFill>
          <a:blip r:embed="rId4"/>
          <a:stretch/>
        </p:blipFill>
        <p:spPr>
          <a:xfrm>
            <a:off x="971640" y="2282760"/>
            <a:ext cx="3529080" cy="4386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"/>
          <p:cNvPicPr/>
          <p:nvPr/>
        </p:nvPicPr>
        <p:blipFill>
          <a:blip r:embed="rId5"/>
          <a:stretch/>
        </p:blipFill>
        <p:spPr>
          <a:xfrm>
            <a:off x="1908000" y="2254320"/>
            <a:ext cx="4569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ЖАН БАТИСТ МАРИ ШАРЛЬ МЁНЬ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н Батист Мари Шарль Мёнь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французский математик, дивизионный генерал. Считается изобретателем дирижабл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982960" cy="39765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"/>
          <p:cNvPicPr/>
          <p:nvPr/>
        </p:nvPicPr>
        <p:blipFill>
          <a:blip r:embed="rId2"/>
          <a:stretch/>
        </p:blipFill>
        <p:spPr>
          <a:xfrm>
            <a:off x="3635280" y="3201840"/>
            <a:ext cx="4969080" cy="332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А СЕЙЧАС ОНИ ВЫГЛЯДЯТ 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0" name="Объект 6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989240" cy="2913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4211640" y="1482840"/>
            <a:ext cx="4043520" cy="2433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3"/>
          <a:stretch/>
        </p:blipFill>
        <p:spPr>
          <a:xfrm>
            <a:off x="4978440" y="38894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4"/>
          <a:stretch/>
        </p:blipFill>
        <p:spPr>
          <a:xfrm>
            <a:off x="181080" y="1484280"/>
            <a:ext cx="335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БРАТЬЯ РАЙТ</a:t>
            </a:r>
            <a:br>
              <a:rPr sz="36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́тья Уи́лбур и О́рвилл Р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— два американца, за которыми в большинстве стран мира признаётся приоритет изобретения и постройки первого в мире самолёта 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6811920" y="3141720"/>
            <a:ext cx="1889280" cy="2308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2"/>
          <a:stretch/>
        </p:blipFill>
        <p:spPr>
          <a:xfrm>
            <a:off x="250920" y="3046320"/>
            <a:ext cx="18000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"/>
          <p:cNvPicPr/>
          <p:nvPr/>
        </p:nvPicPr>
        <p:blipFill>
          <a:blip r:embed="rId3"/>
          <a:stretch/>
        </p:blipFill>
        <p:spPr>
          <a:xfrm>
            <a:off x="2016000" y="4437000"/>
            <a:ext cx="4795920" cy="221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5:37:48Z</dcterms:created>
  <dc:creator>ЕваВера</dc:creator>
  <dc:description/>
  <dc:language>en-US</dc:language>
  <cp:lastModifiedBy>Светлана</cp:lastModifiedBy>
  <dcterms:modified xsi:type="dcterms:W3CDTF">2017-09-09T13:33:53Z</dcterms:modified>
  <cp:revision>18</cp:revision>
  <dc:subject/>
  <dc:title>Презентация PowerPoint</dc:title>
</cp:coreProperties>
</file>