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A00-7F97-437F-A151-EE8A5C5E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9C6-846F-4FFA-85F1-93B4254F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3B8-9B4A-414B-A68E-CAA938F9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501-9714-49EB-BBDD-7BD5A84D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165-FAC7-4C5F-BFE3-07BB7D9E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AF1-4768-4504-8A1F-D2E414F6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790-9ED5-4272-9900-8831CDA5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797-0E58-4811-8D49-0C894DC2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3B1-F281-41D6-AB06-4744D199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25A-89E3-47E6-BB55-98CF5CDA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D45-C2CF-4494-A3C0-F338831A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6F9-CBD9-45F0-82DF-FD6C6F03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Admin\Рабочий стол\для шаблонов\Копия луг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E42E-C472-405E-8D42-671B17EB62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Admin\Рабочий стол\для шаблонов\Копия луг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для шаблонов\луг.gif"/>
          <p:cNvPicPr/>
          <p:nvPr/>
        </p:nvPicPr>
        <p:blipFill>
          <a:blip r:embed="rId4"/>
          <a:stretch/>
        </p:blipFill>
        <p:spPr>
          <a:xfrm>
            <a:off x="0" y="285840"/>
            <a:ext cx="9126360" cy="657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Admin\Рабочий стол\угадай\Синий.gif"/>
          <p:cNvPicPr/>
          <p:nvPr/>
        </p:nvPicPr>
        <p:blipFill>
          <a:blip r:embed="rId5"/>
          <a:stretch/>
        </p:blipFill>
        <p:spPr>
          <a:xfrm>
            <a:off x="7715160" y="6429240"/>
            <a:ext cx="1214640" cy="258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imes New Roman"/>
              </a:rPr>
              <a:t>Основная документация педагога-психолога Д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50920" y="404640"/>
            <a:ext cx="8686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Муниципальное бюджетное дошкольное образовательное учреждение </a:t>
            </a:r>
            <a:br>
              <a:rPr sz="1800"/>
            </a:b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«Детский сад комбинированного вида №17 «Здоровячок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1403280" y="4292640"/>
            <a:ext cx="6121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л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нина Анатольевна Бабич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-психо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Times New Roman"/>
              </a:rPr>
              <a:t>Основные принципы документац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4" descr=""/>
          <p:cNvPicPr/>
          <p:nvPr/>
        </p:nvPicPr>
        <p:blipFill>
          <a:blip r:embed="rId1"/>
          <a:stretch/>
        </p:blipFill>
        <p:spPr>
          <a:xfrm>
            <a:off x="328680" y="695160"/>
            <a:ext cx="87120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97960" cy="16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документации,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ирующей  деятельность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а – психолога 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231840" y="1712880"/>
            <a:ext cx="89676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Times New Roman"/>
              </a:rPr>
              <a:t>Законодательно-правовые акты и нормативные документ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"/>
          <p:cNvPicPr/>
          <p:nvPr/>
        </p:nvPicPr>
        <p:blipFill>
          <a:blip r:embed="rId1"/>
          <a:stretch/>
        </p:blipFill>
        <p:spPr>
          <a:xfrm>
            <a:off x="963720" y="1182600"/>
            <a:ext cx="7540560" cy="5688000"/>
          </a:xfrm>
          <a:prstGeom prst="rect">
            <a:avLst/>
          </a:prstGeom>
          <a:ln w="0">
            <a:noFill/>
          </a:ln>
        </p:spPr>
      </p:pic>
      <p:grpSp>
        <p:nvGrpSpPr>
          <p:cNvPr id="93" name="Скругленная прямоугольная выноска 4"/>
          <p:cNvGrpSpPr/>
          <p:nvPr/>
        </p:nvGrpSpPr>
        <p:grpSpPr>
          <a:xfrm>
            <a:off x="-55440" y="1743120"/>
            <a:ext cx="2450880" cy="2054160"/>
            <a:chOff x="-55440" y="1743120"/>
            <a:chExt cx="2450880" cy="2054160"/>
          </a:xfrm>
        </p:grpSpPr>
        <p:pic>
          <p:nvPicPr>
            <p:cNvPr id="94" name="Скругленная прямоугольная выноска 4" descr=""/>
            <p:cNvPicPr/>
            <p:nvPr/>
          </p:nvPicPr>
          <p:blipFill>
            <a:blip r:embed="rId2"/>
            <a:stretch/>
          </p:blipFill>
          <p:spPr>
            <a:xfrm>
              <a:off x="-55440" y="1743120"/>
              <a:ext cx="245088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8920" y="1862280"/>
              <a:ext cx="1657440" cy="17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Конвенция о правах ребен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Скругленная прямоугольная выноска 5"/>
          <p:cNvGrpSpPr/>
          <p:nvPr/>
        </p:nvGrpSpPr>
        <p:grpSpPr>
          <a:xfrm>
            <a:off x="6802560" y="4187880"/>
            <a:ext cx="2396880" cy="1987560"/>
            <a:chOff x="6802560" y="4187880"/>
            <a:chExt cx="2396880" cy="1987560"/>
          </a:xfrm>
        </p:grpSpPr>
        <p:pic>
          <p:nvPicPr>
            <p:cNvPr id="97" name="Скругленная прямоугольная выноска 5" descr=""/>
            <p:cNvPicPr/>
            <p:nvPr/>
          </p:nvPicPr>
          <p:blipFill>
            <a:blip r:embed="rId3"/>
            <a:stretch/>
          </p:blipFill>
          <p:spPr>
            <a:xfrm>
              <a:off x="6802560" y="4187880"/>
              <a:ext cx="2396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466040" y="4307040"/>
              <a:ext cx="1592280" cy="16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Устав  организа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Times New Roman"/>
              </a:rPr>
              <a:t>Организационно-методическая</a:t>
            </a: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800080"/>
                </a:solidFill>
                <a:latin typeface="Times New Roman"/>
              </a:rPr>
              <a:t>документа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"/>
          <p:cNvPicPr/>
          <p:nvPr/>
        </p:nvPicPr>
        <p:blipFill>
          <a:blip r:embed="rId1"/>
          <a:stretch/>
        </p:blipFill>
        <p:spPr>
          <a:xfrm>
            <a:off x="347760" y="1268280"/>
            <a:ext cx="86738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Times New Roman"/>
              </a:rPr>
              <a:t>Специальная  документа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1"/>
          <a:stretch/>
        </p:blipFill>
        <p:spPr>
          <a:xfrm>
            <a:off x="-542880" y="907920"/>
            <a:ext cx="968688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Times New Roman"/>
              </a:rPr>
              <a:t>Используемая литерату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алова М. А. Справочник психолога ДОУ. – Москва: ТЦ Сфера, 2007 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кляева Н. В., Микляева Ю. В. Работа педагога-психолога в ДОУ: Методическое пособие. – Москва: Айрис-пресс, 2005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ческая психология образования: Учебник для студентов высших и средних специальных учебных заведений/ под ред. И.В. Дубровиной. – М.: ТЦ Сфера, 1997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ирокова Г. А. Справочник дошкольного психолога / Серия «Справочники». – Ростов-на-Дону: Феникс, 2003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тинки - форум «Материнство»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u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erinstv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3T13:34:42Z</dcterms:created>
  <dc:creator>Я</dc:creator>
  <dc:description/>
  <dc:language>en-US</dc:language>
  <cp:lastModifiedBy>Бабич</cp:lastModifiedBy>
  <dcterms:modified xsi:type="dcterms:W3CDTF">2016-11-23T18:38:46Z</dcterms:modified>
  <cp:revision>21</cp:revision>
  <dc:subject/>
  <dc:title>Слайд 1</dc:title>
</cp:coreProperties>
</file>