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CE3-2CB9-4126-96F2-315070A3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641-3B1E-4CF3-9F86-C3449148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66D-C9BD-4A84-AF12-30F47498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172-7AF2-4E04-92A4-16776904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6FE5-79B3-4BBA-89DB-7F4AEFA0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D077-DCE7-48A4-AAC6-FBA5C81B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F8F5-4007-41EC-81FA-3FC991E9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CCAC-60C2-4090-A3A8-08C297F6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C1B3-0535-4039-9939-C335D78B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905B-3F21-4767-8D1F-12133A1D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D0DC-CAA1-4F9F-B15B-323EF646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693-5740-446F-B184-E68CFF0B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AD13-4996-478F-BAAA-3D1FF8ED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117F-EA7A-47BE-8464-56583887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6CEA-1178-4A6E-932B-A01E6810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A285-D260-4544-84E9-B562919C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F712-A08D-4482-8BFF-4E9CB7F2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592-B235-4784-8F67-4AEEB55C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83E-BBBA-44A4-85F9-0286B072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844-0B60-4D93-AB24-6B49DA4D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760-5D21-4F3C-BFD0-DD85EB21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A1F-405A-4EB3-8B33-6B78176D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606-E166-4ACA-87E2-ADD86A6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E1B-1AEB-4F87-BE73-5C438BF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F9AB-7764-41DF-9006-05FAD3B0A7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E9F1-D738-43B7-9ACA-C5E6037567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/index.php?title=&#1055;&#1086;&#1089;&#1083;&#1072;&#1085;&#1080;&#1077;_(&#1073;&#1086;&#1075;&#1086;&#1089;&#1083;&#1086;&#1074;&#1080;&#1077;)&amp;action=edit&amp;redlink=1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74;&#1103;&#1090;&#1086;&#1081;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Древнерусская литера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ослание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 — в церковной литературе, письменное обращение авторитетного богослова к определённой группе людей или ко всему человечеству, разъясняющее определённые религиозные вопрос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Житие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— жанр церковной литературы, в котором описывается жизнь и деяния 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святых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792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88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ладимир Святославович крестил Русь. Приобщение к христианской культуре требовало книг. Освоить наследие Византии, откуда было принято христианство, способствовала древня Болгария (865 год – крещения болгар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5614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380880"/>
            <a:ext cx="8785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озникновение и распространение письмен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ирилл и Мефодий сделали перевод церковных книг с греческого на славянский. Славянская азбука создана в 863 году. В Болгарии святой царь Борис в 860 г. принял христианство. Болгария становится центром распространения славянской письменности. Здесь создаётся первая славянская книжная школа — Преславская книжная школа — переписываются кирилло-мефодиевские оригиналы богослужебных книг (Евангелие, Псалтирь, Апостол, церковные службы), делаются новые славянские переводы с греческого языка, появляются оригинальные произведения на старославянском языке («О письменехъ Чрьноризца Храбра»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84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" y="95400"/>
            <a:ext cx="88776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«Ещё одно, последнее сказанье,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И летопись окончена моя…»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такие летописц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летопи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вы знаете о Ярославе Мудр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вы думаете, есть ли что-то общее в высказывании древнего летописца о пользе книг и в высказываниях современных авторов, с которыми мы познакомились в начале учебного г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ловарная рабо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учение – жанр, в котором излагались правила жизни.  В узком смысле -церковная проповедь , в широком же - дидактическое высказывание, обращенное к слушателям или читателя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272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9T10:32:12Z</dcterms:created>
  <dc:creator>Admin</dc:creator>
  <dc:description/>
  <dc:language>en-US</dc:language>
  <cp:lastModifiedBy>Admin</cp:lastModifiedBy>
  <dcterms:modified xsi:type="dcterms:W3CDTF">2017-09-09T13:08:00Z</dcterms:modified>
  <cp:revision>2</cp:revision>
  <dc:subject/>
  <dc:title>Древнерусская литература</dc:title>
</cp:coreProperties>
</file>