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70C-6B30-4186-90BC-7B4836A3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626-0444-481F-B653-C2FB040B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EBD-3C67-4119-A3DC-92B28325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085-1CEB-43BB-93A2-F5108C35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1653-10D8-432E-AD48-8B9E598D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A1EA-998F-48FA-B59C-F86FD40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192E-0E46-4208-98B2-B55C5005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B625-985E-4375-AFB7-B6CB6D0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6E2D-65F5-4B5A-9EC1-9BF368D3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B09-8435-4249-97C4-A9DE82E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59C-388D-4502-B624-2D5F25F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7D3-BDB3-4317-AD88-74F070F8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892-AC49-4207-846D-59905DC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A2DE-78E7-4217-88EC-9A5A9FEA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28B7-0B66-4DBE-A2AB-4777ECA1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D06E-9381-471C-AA4E-2D7BD89A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33D3-3002-42A7-8B3B-BB5E91D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F71-0797-441B-AB41-3E2C2D9E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256-446E-4AB7-A371-22F43A1B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598-8358-4BC4-A02A-1B32E65B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FBD-5554-404D-B918-6F71D84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701-4D4D-45E2-A93B-6DFA6ED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7AA-C704-4AE8-B223-9E0BC64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270-2445-4759-9D54-8CF1ED2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6E8E-A836-499E-A766-9DC1C3AE93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FF6-EF8B-41E0-A23D-0B6E3D7479C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99308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</a:t>
            </a:r>
            <a:r>
              <a:rPr b="1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» ДАСТАНЫНДА КУЛЛАНЫЛГАН</a:t>
            </a:r>
            <a:br>
              <a:rPr sz="2800"/>
            </a:br>
            <a:r>
              <a:rPr b="1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ЛМАШЛЫК СҮЗ ТӨРКЕМЕНЕҢ</a:t>
            </a:r>
            <a:br>
              <a:rPr sz="2800"/>
            </a:br>
            <a:r>
              <a:rPr b="1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ЛЕКСИК-ГРАММАТИК ҮЗЕНЧӘЛЕКЛӘ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716360" y="364500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лабуга шәһә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 нче гимназиянең</a:t>
            </a:r>
            <a:r>
              <a:rPr b="1" lang="tt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                                              11 нче сыйныф укучысы                                                                              Осипова Вал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620640"/>
            <a:ext cx="75834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Идегәй» дастаны — фольклор мирасыбыз-ның  гүзәл йөзек кашы. Ул халкыбызның милли үзаңын, тарихи хәтерен һәм Идел-йортны зур-лап, буыннан - буынга күчеп халкыбызга бөек әсәр булып кире кайт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395280" y="476280"/>
            <a:ext cx="4064040" cy="5689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2"/>
          <p:cNvSpPr/>
          <p:nvPr/>
        </p:nvSpPr>
        <p:spPr>
          <a:xfrm>
            <a:off x="4643280" y="765000"/>
            <a:ext cx="432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әнни эшнең максаты:</a:t>
            </a: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” дастанында кулланылган алмаш-лык сүз төркеменең лексик-грамматик үзенчәлекләрен билгелә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88000" y="764640"/>
            <a:ext cx="4356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 чыгышы ягыннан мангыт (төр-киләшкән монгол) яки ак мангыт каби-ләсеннән була һәм 1352 елда Котлыкыя би гаиләсендә дөньяга кил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539640" y="333360"/>
            <a:ext cx="38736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"/>
          <p:cNvPicPr/>
          <p:nvPr/>
        </p:nvPicPr>
        <p:blipFill>
          <a:blip r:embed="rId1"/>
          <a:stretch/>
        </p:blipFill>
        <p:spPr>
          <a:xfrm>
            <a:off x="468360" y="476280"/>
            <a:ext cx="4753080" cy="6121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435640" y="1053000"/>
            <a:ext cx="345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стан нигезендә Идегәй Кобогыл исеме астында үсеп,  билгеле бер мәкерлек белән, башта Тукта-мышның җитди ярдәмчеләреннән берсенә әверел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4"/>
          <p:cNvPicPr/>
          <p:nvPr/>
        </p:nvPicPr>
        <p:blipFill>
          <a:blip r:embed="rId1"/>
          <a:stretch/>
        </p:blipFill>
        <p:spPr>
          <a:xfrm>
            <a:off x="250920" y="620640"/>
            <a:ext cx="3620880" cy="3672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716360" y="143712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  - изелгәннәрне һәм рәнҗетелгәннәрне яклауч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әгънәләре буенча алмашлыклар түбәндәге төркемчәгә бүленәләр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т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ин, син, ул, без, сез, ала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Күрсәтү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л, бу, шул, шушы, теге, мондый, андый, тегенди, шундый, алай, болай, тегеләй, шушыла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Сорау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ем, ни, нәрсә, кай, кайсы, кая, нинди, ни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. 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Билгеләү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ры, барлык, барча, һәммә, һәр, һәрбер, һәркем, бөтен, ү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Билгесезлек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емдер, нәрсәдер, кайсыдыр, әллә кем, әллә нәрсә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. 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 Юклык 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ичкем, һичнәрсә, һичнинди, һич-кайчан, беркем, берниче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. 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7. Тартым алмашлыклары: минеке, синеке, аныкы һ.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станда еш кына бер зат алмашлыгы икенчесенә каршы куел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Әйтмәк  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бездән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,   хания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Ишетмәк  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сездән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,   х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Башта булсаң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син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 өлкән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Аякта  чыгар  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без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  өлкә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0280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үплек сандагы 1 һәм 2 зат алмашлыклар (без, сез) -</a:t>
            </a:r>
            <a:r>
              <a:rPr b="0" i="1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әр</a:t>
            </a: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кушымчасын алган очрак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 җырлаек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езләргә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 бирерсе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ләрг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станда </a:t>
            </a:r>
            <a:r>
              <a:rPr b="0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л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күрсәтү алмашлыгы аеруча еш кулланыла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Азамат ир Туктамы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үңеле бозылып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лыкая бигә әйт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Туктамыш хан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әйтт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рып моны әйт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Әрләп-хурлап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әйт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53:05Z</dcterms:created>
  <dc:creator>Гайсина</dc:creator>
  <dc:description/>
  <dc:language>en-US</dc:language>
  <cp:lastModifiedBy>User</cp:lastModifiedBy>
  <dcterms:modified xsi:type="dcterms:W3CDTF">2017-09-09T10:56:37Z</dcterms:modified>
  <cp:revision>7</cp:revision>
  <dc:subject/>
  <dc:title>«ИДЕГӘЙ» ДАСТАНЫНДА КУЛЛАНЫЛГАН АЛМАШЛЫК СҮЗ ТӨРКЕМЕНЕҢ ЛЕКСИК-ГРАММАТИК ҮЗЕНЧӘЛЕКЛӘРЕ</dc:title>
</cp:coreProperties>
</file>