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8D3-2F6B-4CFF-ACCB-07864EF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742-4B2E-4825-AB3B-03C0217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38B-5B6B-4427-9799-988879AD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2AF-134F-43BB-8766-C4BFCE23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9F4-196E-4DE5-BF8E-5102CB9B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1769-F3F3-40CD-9F15-44E2CF47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7F1A-EECF-4D7F-A594-5DF6D8C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08A7-3DA8-48FB-9F1C-698E807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D62-AD0D-4153-84B9-0179C602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F4E-43AE-4426-AC55-009E26F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BBF-0DFA-4979-8964-BBC013A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FA2-D947-43C3-B7E3-0C72AA0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B4D9-30F2-4F63-A926-D6CD8F5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F5FB-DF03-4B7E-8D2F-CF5F430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BE7-0AF9-4441-BE32-8CDD350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5385-D0C6-4897-993C-7FFE9D5A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625-72F9-4C62-B097-A0DD02D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44E-FE7E-4EE2-A2B6-2887398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F35-1DBB-4932-8EBD-E7F4D99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4BD-D1E9-453F-BF74-7A11BA49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A06-81C0-4B7B-BFCD-187DFC2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ECA-30A5-4AC3-9B75-84088E2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D49-E97E-4D9F-BB22-968F63F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792-E5A8-47FF-811F-33E5FB0E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B3DD-EA77-4183-8D11-0CEB422C84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345E-D0DD-4DC5-B649-441EB1B102C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9930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</a:t>
            </a: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» ДАСТАНЫНДА КУЛЛАНЫЛГАН</a:t>
            </a:r>
            <a:br>
              <a:rPr sz="2800"/>
            </a:b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МАШЛЫК СҮЗ ТӨРКЕМЕНЕҢ</a:t>
            </a:r>
            <a:br>
              <a:rPr sz="2800"/>
            </a:br>
            <a:r>
              <a:rPr b="1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ЛЕКСИК-ГРАММАТИК ҮЗЕНЧӘЛЕКЛӘ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716360" y="364500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абуга шәһә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нче гимназиянең</a:t>
            </a:r>
            <a:r>
              <a:rPr b="1" lang="tt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                                             11 нче сыйныф укучысы                                                                              Осипова Вал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620640"/>
            <a:ext cx="75834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Идегәй» дастаны — фольклор мирасыбыз-ның  гүзәл йөзек кашы. Ул халкыбызның милли үзаңын, тарихи хәтерен һәм Идел-йортны зур-лап, буыннан - буынга күчеп халкыбызга бөек әсәр булып кире кайт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395280" y="476280"/>
            <a:ext cx="4064040" cy="5689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4643280" y="765000"/>
            <a:ext cx="432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әнни эшнең максаты: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” дастанында кулланылган алмаш-лык сүз төркеменең лексик-грамматик үзенчәлекләрен билгелә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88000" y="764640"/>
            <a:ext cx="4356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 чыгышы ягыннан мангыт (төр-киләшкән монгол) яки ак мангыт каби-ләсеннән була һәм 1352 елда Котлыкыя би гаиләсендә дөньяга кил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539640" y="333360"/>
            <a:ext cx="38736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"/>
          <p:cNvPicPr/>
          <p:nvPr/>
        </p:nvPicPr>
        <p:blipFill>
          <a:blip r:embed="rId1"/>
          <a:stretch/>
        </p:blipFill>
        <p:spPr>
          <a:xfrm>
            <a:off x="468360" y="476280"/>
            <a:ext cx="4753080" cy="6121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435640" y="1053000"/>
            <a:ext cx="345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 нигезендә Идегәй Кобогыл исеме астында үсеп,  билгеле бер мәкерлек белән, башта Тукта-мышның җитди ярдәмчеләреннән берсенә әверел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4"/>
          <p:cNvPicPr/>
          <p:nvPr/>
        </p:nvPicPr>
        <p:blipFill>
          <a:blip r:embed="rId1"/>
          <a:stretch/>
        </p:blipFill>
        <p:spPr>
          <a:xfrm>
            <a:off x="250920" y="620640"/>
            <a:ext cx="3620880" cy="3672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716360" y="143712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дегәй  - изелгәннәрне һәм рәнҗетелгәннәрне яклауч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әгънәләре буенча алмашлыклар түбәндәге төркемчәгә бүленәләр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т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ин, син, ул, без, сез, ала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Күрсәтү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л, бу, шул, шушы, теге, мондый, андый, тегенди, шундый, алай, болай, тегеләй, шушыла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Сорау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ем, ни, нәрсә, кай, кайсы, кая, нинди, ни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Билгеләү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ры, барлык, барча, һәммә, һәр, һәрбер, һәркем, бөтен, ү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Билгесезлек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емдер, нәрсәдер, кайсыдыр, әллә кем, әллә нәрсә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Юклык  алмашлыклары: </a:t>
            </a:r>
            <a:r>
              <a:rPr b="0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ичкем, һичнәрсә, һичнинди, һич-кайчан, беркем, берниче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һ. 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7. Тартым алмашлыклары: минеке, синеке, аныкы һ.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да еш кына бер зат алмашлыгы икенчесенә каршы куел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Әйтмәк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бездә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,   хания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Ишетмәк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сездә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,   х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Башта булсаң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син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өлкән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Аякта  чыгар   </a:t>
            </a:r>
            <a:r>
              <a:rPr b="0" i="1" lang="tt-RU" sz="2800" spc="-1" strike="noStrike">
                <a:solidFill>
                  <a:srgbClr val="000000"/>
                </a:solidFill>
                <a:latin typeface="Tahoma"/>
              </a:rPr>
              <a:t>без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</a:rPr>
              <a:t>  өлкә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0280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үплек сандагы 1 һәм 2 зат алмашлыклар (без, сез) -</a:t>
            </a:r>
            <a:r>
              <a:rPr b="0" i="1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әр</a:t>
            </a:r>
            <a:r>
              <a:rPr b="0" lang="tt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кушымчасын алган очрак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 җырлаек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езләргә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 бирерсе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ләрг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станда </a:t>
            </a:r>
            <a:r>
              <a:rPr b="0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л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күрсәтү алмашлыгы аеруча еш кулланыла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Азамат ир Туктамы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үңеле бозылып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лыкая бигә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Туктамыш хан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әйтт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рып моны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Әрләп-хурлап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әйт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53:05Z</dcterms:created>
  <dc:creator>Гайсина</dc:creator>
  <dc:description/>
  <dc:language>en-US</dc:language>
  <cp:lastModifiedBy>User</cp:lastModifiedBy>
  <dcterms:modified xsi:type="dcterms:W3CDTF">2017-09-09T10:56:37Z</dcterms:modified>
  <cp:revision>7</cp:revision>
  <dc:subject/>
  <dc:title>«ИДЕГӘЙ» ДАСТАНЫНДА КУЛЛАНЫЛГАН АЛМАШЛЫК СҮЗ ТӨРКЕМЕНЕҢ ЛЕКСИК-ГРАММАТИК ҮЗЕНЧӘЛЕКЛӘРЕ</dc:title>
</cp:coreProperties>
</file>