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8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6C55-5100-4AA7-9D6E-24A268438E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D5A2-F6D4-4142-82FB-1DAF3CD1D4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CC5E-DAE5-4018-8650-8499EF096E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193-056E-45F2-A8C9-C0BED3BD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9DD-9E2E-48E8-ABF2-6B5E1C0D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764-F551-4B4E-AE10-8BB139A3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D77-E2A4-4EDF-998C-BFD90831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AE84-79FE-4BBC-8E4D-A8ABACEF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7A06-0F9A-4F23-AA16-95A64ADD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45E7-E64B-46D2-9600-DFD11A9D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8217-7BF6-46FB-95AB-2DDE1F2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E90C-7CFC-4842-8CCF-13C1A5D4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490E-1174-4971-8DD7-FE8D4D28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3A26-35DC-4081-B717-1C630F0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0DD-CF5C-49C6-A557-3A5123B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593-FFA1-4B99-9F1A-9B4BB6C1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041E-8ECA-48C5-869B-0EC98C5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013-C515-4A11-BA5C-4E3DF7C1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A3BA-AB9E-468D-8534-C7EFF281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BE34-3D5E-4FAA-9BC8-1489BF26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B91-F511-4421-87D4-D147B753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AFA-FEB7-4E25-96DC-6E93D665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82C-4DC2-42E0-A882-9648080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37B-1561-4017-BBBD-A4F60162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1EB-B45D-4098-8A99-5EE9BCDF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3AD-EBF7-4A40-B21E-35AB0B6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AEF-B29E-4BF1-987F-13CBC86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483-CD07-45BF-B2E4-67C374F8B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CA6-881C-4077-8275-EC2C7E75F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e United Kingdom of Great Britain and Northern Ireland</a:t>
            </a: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Соединенное королевство Великобритании и Северной Ирланд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7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Northern Ireland –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          Северная Ирланд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7480" y="192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вертая часть Великобритании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толица – Белфаст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трилистн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E:\для презентации\SUV01_FG.jpg"/>
          <p:cNvPicPr/>
          <p:nvPr/>
        </p:nvPicPr>
        <p:blipFill>
          <a:blip r:embed="rId1"/>
          <a:stretch/>
        </p:blipFill>
        <p:spPr>
          <a:xfrm>
            <a:off x="3348000" y="1916280"/>
            <a:ext cx="1746360" cy="87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E:\для презентации\map_ireland.gif"/>
          <p:cNvPicPr/>
          <p:nvPr/>
        </p:nvPicPr>
        <p:blipFill>
          <a:blip r:embed="rId2"/>
          <a:srcRect l="0" t="3327" r="4657" b="3327"/>
          <a:stretch/>
        </p:blipFill>
        <p:spPr>
          <a:xfrm>
            <a:off x="1187280" y="1844640"/>
            <a:ext cx="1874880" cy="2527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для презентации\300px-Northern_Ireland_coat_of_arms.png"/>
          <p:cNvPicPr/>
          <p:nvPr/>
        </p:nvPicPr>
        <p:blipFill>
          <a:blip r:embed="rId3"/>
          <a:stretch/>
        </p:blipFill>
        <p:spPr>
          <a:xfrm>
            <a:off x="3348000" y="2997360"/>
            <a:ext cx="163512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для презентации\42079--5659454-m133x100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435640" y="4537080"/>
            <a:ext cx="2305080" cy="1819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E:\для презентации\сев ирл.jpg"/>
          <p:cNvPicPr/>
          <p:nvPr/>
        </p:nvPicPr>
        <p:blipFill>
          <a:blip r:embed="rId5"/>
          <a:stretch/>
        </p:blipFill>
        <p:spPr>
          <a:xfrm>
            <a:off x="1619280" y="4591080"/>
            <a:ext cx="2808360" cy="18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:\для презентации\42079--5659454-m133x10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403280" y="333360"/>
            <a:ext cx="1511280" cy="1192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9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hamrock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Трилистник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928800" y="162864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кровитель Ирланди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Святой Патрик знаменит тем, что принес в Ирландию христианскую веру.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ытаясь однажды втолковать вождю-язычнику понятие Святой Троицы, Св. Патрик сорвал лист клевера и пояснил, что существуют бог-отец, бог-сын и бог-святой дух, но они едины, как три листка на одном ростке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Такое наглядное объяснение достигло цели, и благодарный вождь проникся христианским духом, повелев своим подданным следовать его примеру. Так Св. Патрик убедил ирландцев в том, что триединый бог лучше, чем множество разрозненных языческих идолов. И с тех пор трилистник стал одним из любимых национальных символов ирландцев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нглийские Королев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5977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лизавет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7.09.1533 – 24.03.1603) – королева Англии и Ирландии с 1558г. Время ее правления – «Золотой век» в истории Англии. В ее время творили: Уильям Шекспир, Марло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олева Анн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(6.02.1665 – 1.08.1714) – первый   монарх юридически объединённой Великобритании. В ее время творили: Даниэль Дефо, Джонатан Свифт, работал Исаак Ньютон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олева Виктори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робыла на троне почти 64 года – больше, чем любой другой монарх Великобритании. Викторианская эпоха совпала с промышленной революцией, это период наибольшего расцвета  Британской импе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E:\для презентации\280px-Elizabeth1England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948360" y="765000"/>
            <a:ext cx="1656000" cy="2149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E:\для презентации\280px-Anne,_Queen_of_Great_Britain.jpg"/>
          <p:cNvPicPr/>
          <p:nvPr/>
        </p:nvPicPr>
        <p:blipFill>
          <a:blip r:embed="rId2">
            <a:lum bright="20000"/>
          </a:blip>
          <a:srcRect l="0" t="0" r="0" b="38306"/>
          <a:stretch/>
        </p:blipFill>
        <p:spPr>
          <a:xfrm>
            <a:off x="6948360" y="2997360"/>
            <a:ext cx="172728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E:\для презентации\виктория.jpg"/>
          <p:cNvPicPr/>
          <p:nvPr/>
        </p:nvPicPr>
        <p:blipFill>
          <a:blip r:embed="rId3"/>
          <a:stretch/>
        </p:blipFill>
        <p:spPr>
          <a:xfrm>
            <a:off x="7164360" y="4702320"/>
            <a:ext cx="1440000" cy="1888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200"/>
                            </p:stCondLst>
                            <p:childTnLst>
                              <p:par>
                                <p:cTn id="3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1200"/>
                            </p:stCondLst>
                            <p:childTnLst>
                              <p:par>
                                <p:cTn id="3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3567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Queen Elisabeth II - 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Королева Елизавета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0" y="1714680"/>
            <a:ext cx="41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Елизавета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родилась 21.04.1926) – ныне царствующая королева,  взошла на престол в 1952. королева Великобритании лишь царствует, но не правит.  Она осуществляет обширнейшие представительские функции, участвует в различных благотворительных мероприятия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E:\для презентации\елизавета 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7280" y="1773360"/>
            <a:ext cx="3284640" cy="4551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4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Great Britai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кобритания состоит из четырех частей: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Англия, Уэльс, Шотландия и Северная Ирландия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ая часть – это отдельная страна со своей столицей, флагом, национальной эмблемой, историей и культурой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:\Documents and Settings\Admin\Application Data\Microsoft\Media Catalog\country_map.gif"/>
          <p:cNvPicPr/>
          <p:nvPr/>
        </p:nvPicPr>
        <p:blipFill>
          <a:blip r:embed="rId1"/>
          <a:stretch/>
        </p:blipFill>
        <p:spPr>
          <a:xfrm>
            <a:off x="5089680" y="1752480"/>
            <a:ext cx="345888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E:\для презентации\100px-UK_Royal_Coat_of_Arms_svg.png"/>
          <p:cNvPicPr/>
          <p:nvPr/>
        </p:nvPicPr>
        <p:blipFill>
          <a:blip r:embed="rId2"/>
          <a:stretch/>
        </p:blipFill>
        <p:spPr>
          <a:xfrm>
            <a:off x="6858000" y="285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e Union Jack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37339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лаг Великобритании называетс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The Union Jack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»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состоит из трех крестов: крест святого Георгия, покровителя Англии, крест святого Андрея, покровителя Шотландии, и крест святого Патрика, покровителя Ирланд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29" descr="C:\Documents and Settings\Admin\Application Data\Microsoft\Media Catalog\ukflagb.gif"/>
          <p:cNvPicPr/>
          <p:nvPr/>
        </p:nvPicPr>
        <p:blipFill>
          <a:blip r:embed="rId1"/>
          <a:stretch/>
        </p:blipFill>
        <p:spPr>
          <a:xfrm>
            <a:off x="1066680" y="2874960"/>
            <a:ext cx="3733920" cy="187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8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England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нгл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а из частей Великобритании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толица – Лонд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красная ро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Documents and Settings\Admin\Application Data\Microsoft\Media Catalog\map_england.gif"/>
          <p:cNvPicPr/>
          <p:nvPr/>
        </p:nvPicPr>
        <p:blipFill>
          <a:blip r:embed="rId1"/>
          <a:stretch/>
        </p:blipFill>
        <p:spPr>
          <a:xfrm>
            <a:off x="4572000" y="1773360"/>
            <a:ext cx="2314440" cy="273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E:\для презентации\i.jpg"/>
          <p:cNvPicPr/>
          <p:nvPr/>
        </p:nvPicPr>
        <p:blipFill>
          <a:blip r:embed="rId2"/>
          <a:stretch/>
        </p:blipFill>
        <p:spPr>
          <a:xfrm>
            <a:off x="7215120" y="500040"/>
            <a:ext cx="1395360" cy="833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E:\для презентации\роза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7093080" y="1773360"/>
            <a:ext cx="1577880" cy="129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E:\для презентации\150px-England_COA_svg.png"/>
          <p:cNvPicPr/>
          <p:nvPr/>
        </p:nvPicPr>
        <p:blipFill>
          <a:blip r:embed="rId4"/>
          <a:stretch/>
        </p:blipFill>
        <p:spPr>
          <a:xfrm>
            <a:off x="7236000" y="3357720"/>
            <a:ext cx="1368360" cy="150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E:\для презентации\cimg8486b.jpg"/>
          <p:cNvPicPr/>
          <p:nvPr/>
        </p:nvPicPr>
        <p:blipFill>
          <a:blip r:embed="rId5"/>
          <a:stretch/>
        </p:blipFill>
        <p:spPr>
          <a:xfrm>
            <a:off x="1332000" y="4508640"/>
            <a:ext cx="2778120" cy="1822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0"/>
          <p:cNvSpPr/>
          <p:nvPr/>
        </p:nvSpPr>
        <p:spPr>
          <a:xfrm>
            <a:off x="4430880" y="55897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уэрский м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E:\для презентации\роза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87280" y="2133720"/>
            <a:ext cx="3573720" cy="29318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Red rose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Красная роз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932360" y="1996560"/>
            <a:ext cx="38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оза с красными лепестками  — традиционная эмблема Англии. После войны Алой и Белой Розы, названной так по нагрудным знакам фамилий, боровшихся за корону, алая роза Ланкастеров победила  белую розу Йорков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cotland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отланд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8360" y="1928880"/>
            <a:ext cx="344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ая по величине часть Великобритании. </a:t>
            </a:r>
            <a:r>
              <a:rPr b="0" i="1" lang="ru-RU" sz="2400" spc="-1" strike="noStrike">
                <a:solidFill>
                  <a:srgbClr val="c00000"/>
                </a:solidFill>
                <a:latin typeface="Comic Sans MS"/>
              </a:rPr>
              <a:t>Столица – Эдинбург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чертополо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E:\для презентации\36031529_flagscotland.gif"/>
          <p:cNvPicPr/>
          <p:nvPr/>
        </p:nvPicPr>
        <p:blipFill>
          <a:blip r:embed="rId1"/>
          <a:stretch/>
        </p:blipFill>
        <p:spPr>
          <a:xfrm>
            <a:off x="3348000" y="1844640"/>
            <a:ext cx="1428840" cy="86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E:\для презентации\map_scotland.gif"/>
          <p:cNvPicPr/>
          <p:nvPr/>
        </p:nvPicPr>
        <p:blipFill>
          <a:blip r:embed="rId2"/>
          <a:srcRect l="24450" t="7430" r="4435" b="3457"/>
          <a:stretch/>
        </p:blipFill>
        <p:spPr>
          <a:xfrm>
            <a:off x="1258920" y="1844640"/>
            <a:ext cx="1911240" cy="214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для презентации\250px-Kingdom_of_scotland_royal_arms_svg.png"/>
          <p:cNvPicPr/>
          <p:nvPr/>
        </p:nvPicPr>
        <p:blipFill>
          <a:blip r:embed="rId3"/>
          <a:stretch/>
        </p:blipFill>
        <p:spPr>
          <a:xfrm>
            <a:off x="3419640" y="2781360"/>
            <a:ext cx="1384200" cy="141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Александра\Рабочий стол\для презентации\0_167cb_3ef7ebd8_XL.jpg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5867280" y="5084640"/>
            <a:ext cx="1513080" cy="1236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для презентации\шотландия.jpg"/>
          <p:cNvPicPr/>
          <p:nvPr/>
        </p:nvPicPr>
        <p:blipFill>
          <a:blip r:embed="rId5"/>
          <a:stretch/>
        </p:blipFill>
        <p:spPr>
          <a:xfrm>
            <a:off x="1763640" y="4365720"/>
            <a:ext cx="3097440" cy="210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8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3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Александра\Рабочий стол\для презентации\0_167cb_3ef7ebd8_XL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71640" y="333360"/>
            <a:ext cx="1552320" cy="1270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625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istle -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 Чертополох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05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древние времена викинги высадились на восточном побережье Шотландии с намерением захватить и ограбить страну.  Скотты собрали все свои боевые силы и заняли расположение за рекой Тэй, где имелся удобный брод. Они разбили лагерь и расположились на отдых, считая что враг не станет наступать до следующего дня. Однако викинги были рядом; не обнаружив охраны и часовых вокруг лагеря скоттов, они пересекли реку с намерением внезапно напасть. Они разулись, чтобы шуметь поменьше при передвижении к лагерю. Но вдруг один из викингов наступил на чертополох. От внезапной и острой боли он вскрикнул. Услышав крик, скотты подняли в лагере тревогу. Викинги вынуждены были отступить, а чертополох, в знак признательности за такую вот неожиданную помощь, шотландцы выбрали в качестве своей национальной эмблемы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38052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ales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Уэльс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эльс – еще  одна часть Великобритании.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</a:rPr>
              <a:t>Столица – Кардифф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циональные эмблемы – лук-порей и желтый нарци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E:\для презентации\flag.gif"/>
          <p:cNvPicPr/>
          <p:nvPr/>
        </p:nvPicPr>
        <p:blipFill>
          <a:blip r:embed="rId1"/>
          <a:stretch/>
        </p:blipFill>
        <p:spPr>
          <a:xfrm>
            <a:off x="6858000" y="40464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E:\для презентации\map_wales.gif"/>
          <p:cNvPicPr/>
          <p:nvPr/>
        </p:nvPicPr>
        <p:blipFill>
          <a:blip r:embed="rId2"/>
          <a:srcRect l="8566" t="4098" r="3704" b="3552"/>
          <a:stretch/>
        </p:blipFill>
        <p:spPr>
          <a:xfrm>
            <a:off x="4643280" y="170028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:\для презентации\250px-Royal_Badge_of_Wales_new_svg.png"/>
          <p:cNvPicPr/>
          <p:nvPr/>
        </p:nvPicPr>
        <p:blipFill>
          <a:blip r:embed="rId3"/>
          <a:stretch/>
        </p:blipFill>
        <p:spPr>
          <a:xfrm>
            <a:off x="1285920" y="285840"/>
            <a:ext cx="137484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:\для презентации\275px-Yellow_daffodils_-_floriade_canberra.jpg"/>
          <p:cNvPicPr/>
          <p:nvPr/>
        </p:nvPicPr>
        <p:blipFill>
          <a:blip r:embed="rId4"/>
          <a:stretch/>
        </p:blipFill>
        <p:spPr>
          <a:xfrm>
            <a:off x="7199280" y="4365720"/>
            <a:ext cx="160812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Александра\Рабочий стол\для презентации\image004_012.jpg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7451640" y="1844640"/>
            <a:ext cx="129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E:\для презентации\800px-Cardiff_castle_autumn.jpg"/>
          <p:cNvPicPr/>
          <p:nvPr/>
        </p:nvPicPr>
        <p:blipFill>
          <a:blip r:embed="rId6"/>
          <a:stretch/>
        </p:blipFill>
        <p:spPr>
          <a:xfrm>
            <a:off x="1258920" y="4437000"/>
            <a:ext cx="302580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E:\для презентации\cardiff_galery1_b.jpg"/>
          <p:cNvPicPr/>
          <p:nvPr/>
        </p:nvPicPr>
        <p:blipFill>
          <a:blip r:embed="rId7"/>
          <a:stretch/>
        </p:blipFill>
        <p:spPr>
          <a:xfrm>
            <a:off x="4356000" y="44370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7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70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77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E:\для презентации\275px-Yellow_daffodils_-_floriade_canberra.jpg"/>
          <p:cNvPicPr/>
          <p:nvPr/>
        </p:nvPicPr>
        <p:blipFill>
          <a:blip r:embed="rId1"/>
          <a:stretch/>
        </p:blipFill>
        <p:spPr>
          <a:xfrm>
            <a:off x="6875640" y="2060640"/>
            <a:ext cx="1919160" cy="1546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Александра\Рабочий стол\для презентации\image004_012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6948360" y="3716280"/>
            <a:ext cx="1901880" cy="2710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42840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ek and yellow daffodils –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Лук порей и желтые нарцисс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1071720" y="1785960"/>
            <a:ext cx="5732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эльс - это страна, в которой существуют две эмблемы. Легенда гласит, что с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Давид просил своих людей прикреплять лук-порей к шляпа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и вставлять его в петлицы одежды, чтобы легко отличаться во время битвы от своих врагов – англосаксо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День святого Давида празднуется в начале весны, когда цветут нарцисс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символизирующие зарождение новой жизни. Этот цветок стал второй, более изящной эмблемой Уэльса, тогда как первой официальной эмблемой является лук-пор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53:53Z</dcterms:created>
  <dc:creator>санёк</dc:creator>
  <dc:description/>
  <dc:language>en-US</dc:language>
  <cp:lastModifiedBy>User</cp:lastModifiedBy>
  <dcterms:modified xsi:type="dcterms:W3CDTF">2017-04-03T16:39:40Z</dcterms:modified>
  <cp:revision>77</cp:revision>
  <dc:subject/>
  <dc:title>The United Kingdom of Great Britain and Northern Ireland</dc:title>
</cp:coreProperties>
</file>