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3471-139A-4B81-A89F-15ED17570D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27E4-F17A-4BB6-86E9-7B33182DA52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64C-0401-4EDF-9960-59F07411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2C8-145B-49BC-99A4-6323AF37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609-B1FA-4331-927C-2B817DBD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297-CA3C-4906-857E-387A17E6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1881-DC7F-4707-BDE7-1881C9E8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51B4-4518-4003-A00E-39131BD1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866C-5D49-4A9F-B329-AE1A0AF8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2A89-B08C-422D-8645-A1F33334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0931-D7F9-499A-9CC1-8DE6BC6A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A2C2-9192-4E1E-ADE2-33515BC6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A8CA-B511-4ABE-BA1D-522A10D8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763-F263-4284-95DC-10BC86C1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5BAF-11D2-4DEE-8B4A-6EE7F47E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8A10-6CFC-4831-9DD9-1AF0CA47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2233-BF3E-4E10-BC1C-156A4BD1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1795-383B-4103-97AB-2C713B55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9003-8767-4F8A-BB58-45501E16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6DD8B-F600-49BB-B640-04B2748B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B7D1F-8937-4528-BA05-E346B56A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D367B-1FCA-4C74-8317-8367BCAF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2E1A1-2E0B-4B6A-9730-E9D9E730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2A968-A585-4AD3-9D76-D2D3635E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E52-2BAA-4F7D-B0B7-09F25C81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9CC7A-A271-4002-BDC2-962F9181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3C617-CC07-45CF-B426-A537F3E0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4C6CA-B26E-4739-A898-ECF62A44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A5F6-D5FC-48EA-ABEC-3FBE2D59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CC9D0-2DD4-4161-95AC-2FF07FDB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F3D28-B62E-438D-9F14-BA63CFF6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CDBFA-E804-4582-B72F-261D95D1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FE31D-2746-4821-BD1A-8197F217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261C1-A55C-4148-BD44-A93E1608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36DE7-AAC6-4257-9A04-5D3598E6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8BB-7E53-4063-8832-0F6A2255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B35A7-F5E8-4FB1-8CBB-B4472EE8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445B7-F454-4605-B6B6-15660193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B701-F865-4537-906B-FEAE5237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C7F8A-C106-4F43-A701-BF5556B5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5968E-491E-4856-A396-90384D15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5CA74-99C9-49A6-A641-5862DEAA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D9905-637A-40CD-B832-18E09D6B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353E5-6C71-419A-AC85-C7C6332C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CF72B-E7A9-41DD-BCD8-86F83C61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EF9-4E1C-4FFF-8B38-7A3543C2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4FE-BB61-4911-9CA2-EF957AE2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55B-7F37-4817-A528-F5F74EE9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FA8-546C-406E-A8DC-73EBA9E4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0D8C-D692-4FFE-A813-B2536140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B427-D7AB-4D40-8B44-36473B0CD84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97CE-8FAC-4873-98F5-38C112F891A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37DF-2D7B-4130-AF59-D869C22E092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2C41-6135-4E1B-A97E-4BECCD9D079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hyperlink" Target="http://www.myltik.ru/db/rus/k/kak_de_velikoe_ravnovesie_narushil.jpg" TargetMode="External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998120" cy="1828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« СОВА»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 класс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826920" y="47628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Человек связан с природ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зависит от не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179280" y="2133720"/>
            <a:ext cx="54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лядит как сова, выпучив 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робьи под кровлю (крышу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сова   на лов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а это, как журавль в н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сороки раскричал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http://www.nat-geo.ru/upload/iblock/84b/84bf9eb071797afbcc4e1667a54f1da2.jpg"/>
          <p:cNvPicPr/>
          <p:nvPr/>
        </p:nvPicPr>
        <p:blipFill>
          <a:blip r:embed="rId1"/>
          <a:stretch/>
        </p:blipFill>
        <p:spPr>
          <a:xfrm>
            <a:off x="5435640" y="2852640"/>
            <a:ext cx="345744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флексия деятельности на урок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чите  предложе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Сегодня я узнал ….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Было интересно ….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На этом уроке я сумел…..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92000" y="1125000"/>
            <a:ext cx="36716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то это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934640"/>
            <a:ext cx="4546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нем слепа, ночью зряч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шей ловит, а не ко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ю ночь летает —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шей добывает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станет светло —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ать летит в дупл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8" descr="http://www.centre-magic.ru/images/stories/owl1.jpg"/>
          <p:cNvPicPr/>
          <p:nvPr/>
        </p:nvPicPr>
        <p:blipFill>
          <a:blip r:embed="rId1"/>
          <a:stretch/>
        </p:blipFill>
        <p:spPr>
          <a:xfrm>
            <a:off x="4859280" y="44604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http://veralline.com/uploads/images/comparison/2016/06/15/7db7de1f02.jpg"/>
          <p:cNvPicPr/>
          <p:nvPr/>
        </p:nvPicPr>
        <p:blipFill>
          <a:blip r:embed="rId2"/>
          <a:stretch/>
        </p:blipFill>
        <p:spPr>
          <a:xfrm>
            <a:off x="4140360" y="3354480"/>
            <a:ext cx="4879800" cy="331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ль урока:       познакомитьс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творчеством В. Бианки и с  новым                                   произведением «Сова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https://fs00.infourok.ru/images/doc/310/309172/img7.jpg"/>
          <p:cNvPicPr/>
          <p:nvPr/>
        </p:nvPicPr>
        <p:blipFill>
          <a:blip r:embed="rId1"/>
          <a:stretch/>
        </p:blipFill>
        <p:spPr>
          <a:xfrm>
            <a:off x="1692360" y="2205000"/>
            <a:ext cx="568800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   вы   знаете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давних пор сова считалась символом мудрости и знаний. У древних греков она была священной птицей богини мудрости Афины 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 многих местностях России к сове относились радушно. В сказках ее звали «совушкой-вдовушкой», белокурой, разумной головушко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книгах Дж. Роулинг о Гарри Поттере совы используются как средство связи между волшебниками (совиная почт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вами также называют людей, которые привыкли поздно ложиться спать и поздно вставать (в отличие от жаворонков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Рисунок 12" descr="http://im4-tub-ru.yandex.net/i?id=32718129-26-72"/>
          <p:cNvPicPr/>
          <p:nvPr/>
        </p:nvPicPr>
        <p:blipFill>
          <a:blip r:embed="rId1"/>
          <a:stretch/>
        </p:blipFill>
        <p:spPr>
          <a:xfrm>
            <a:off x="324000" y="0"/>
            <a:ext cx="2016000" cy="135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.В. Бианки.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(1894-1959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8000" y="1268280"/>
            <a:ext cx="4968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емья Бианки жила в одном из флигелей Зоологического музея Петербурга, и конечно, Виталий с братьями часто бывали там. Настоящий музей был и в их квартире: у них жили 4 собаки, кошки, лиса; от пола до потолка стояли многочисленные клетки с птицами, в аквариуме жили рыбки, а в террариуме – черепахи, ящерицы и змеи. Лето вся семья Бианки проводила в деревне Лебяжь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00720" y="4437000"/>
            <a:ext cx="4186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лавная тема его произведений – лес и его обитатели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Рисунок 9" descr="http://im4-tub-ru.yandex.net/i?id=424366461-30-72"/>
          <p:cNvPicPr/>
          <p:nvPr/>
        </p:nvPicPr>
        <p:blipFill>
          <a:blip r:embed="rId1"/>
          <a:stretch/>
        </p:blipFill>
        <p:spPr>
          <a:xfrm>
            <a:off x="5435640" y="1258920"/>
            <a:ext cx="3095640" cy="2305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Картинка 1 из 12"/>
          <p:cNvPicPr/>
          <p:nvPr/>
        </p:nvPicPr>
        <p:blipFill>
          <a:blip r:embed="rId2"/>
          <a:stretch/>
        </p:blipFill>
        <p:spPr>
          <a:xfrm>
            <a:off x="270000" y="4076640"/>
            <a:ext cx="1692000" cy="263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http://5literatura.net/datas/literatura/ZHizn-Vitalija-Bianki/0012-012-Proizvedenija.jpg"/>
          <p:cNvPicPr/>
          <p:nvPr/>
        </p:nvPicPr>
        <p:blipFill>
          <a:blip r:embed="rId1"/>
          <a:stretch/>
        </p:blipFill>
        <p:spPr>
          <a:xfrm>
            <a:off x="179280" y="260280"/>
            <a:ext cx="8568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584352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ловарная работ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можно заменить слова и выражения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текае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убегае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кормовисты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клевер, предназначенный для корма скот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цветень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пыльца, мельчайшие жёлтые зёрныш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оронитьс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прятаться, таитьс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аздоль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много места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 бы худа не вышло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бы беды не был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ай белить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добавлять молоко в ча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ойло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питательное питьё для скот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i-main-pic" descr="Картинка 164 из 40321"/>
          <p:cNvPicPr/>
          <p:nvPr/>
        </p:nvPicPr>
        <p:blipFill>
          <a:blip r:embed="rId1"/>
          <a:stretch/>
        </p:blipFill>
        <p:spPr>
          <a:xfrm>
            <a:off x="6443640" y="189000"/>
            <a:ext cx="252252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почка взаимосвязи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ва —мыши —шмели —клевер —корова —молоко – ча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Рисунок 58" descr="http://im8-tub-ru.yandex.net/i?id=450046799-61-72"/>
          <p:cNvPicPr/>
          <p:nvPr/>
        </p:nvPicPr>
        <p:blipFill>
          <a:blip r:embed="rId1"/>
          <a:stretch/>
        </p:blipFill>
        <p:spPr>
          <a:xfrm>
            <a:off x="6516720" y="2997360"/>
            <a:ext cx="2508120" cy="15840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70" descr="http://im3-tub-ru.yandex.net/i?id=309513150-54-72"/>
          <p:cNvPicPr/>
          <p:nvPr/>
        </p:nvPicPr>
        <p:blipFill>
          <a:blip r:embed="rId2"/>
          <a:stretch/>
        </p:blipFill>
        <p:spPr>
          <a:xfrm>
            <a:off x="2997360" y="3027240"/>
            <a:ext cx="1728720" cy="21718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67" descr="http://im3-tub-ru.yandex.net/i?id=310301141-03-72"/>
          <p:cNvPicPr/>
          <p:nvPr/>
        </p:nvPicPr>
        <p:blipFill>
          <a:blip r:embed="rId3"/>
          <a:stretch/>
        </p:blipFill>
        <p:spPr>
          <a:xfrm>
            <a:off x="4776840" y="14050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8" descr="http://im8-tub-ru.yandex.net/i?id=290781920-46-72"/>
          <p:cNvPicPr/>
          <p:nvPr/>
        </p:nvPicPr>
        <p:blipFill>
          <a:blip r:embed="rId4"/>
          <a:stretch/>
        </p:blipFill>
        <p:spPr>
          <a:xfrm>
            <a:off x="6659640" y="808200"/>
            <a:ext cx="1655640" cy="20048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9" descr="http://im2-tub-ru.yandex.net/i?id=321281547-44-72"/>
          <p:cNvPicPr/>
          <p:nvPr/>
        </p:nvPicPr>
        <p:blipFill>
          <a:blip r:embed="rId5"/>
          <a:stretch/>
        </p:blipFill>
        <p:spPr>
          <a:xfrm>
            <a:off x="3203640" y="1414440"/>
            <a:ext cx="1428840" cy="12002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9"/>
          <p:cNvSpPr/>
          <p:nvPr/>
        </p:nvSpPr>
        <p:spPr>
          <a:xfrm>
            <a:off x="2286000" y="5013360"/>
            <a:ext cx="4878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3" descr="http://daypic.ru/wp-content/uploads/2012/09/588.jpg"/>
          <p:cNvPicPr/>
          <p:nvPr/>
        </p:nvPicPr>
        <p:blipFill>
          <a:blip r:embed="rId6"/>
          <a:stretch/>
        </p:blipFill>
        <p:spPr>
          <a:xfrm>
            <a:off x="155520" y="1709640"/>
            <a:ext cx="2687760" cy="2264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Восстановление содержания рассказа по плану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79280" y="1267920"/>
            <a:ext cx="43164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ассердилась со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ышам на лугу раздоль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Шмели на чужих лугах гуляю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левер не родит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лока у Коровы мал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шел Старик Сове кланятьс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остила Сова Старика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i-main-pic" descr="Картинка 47 из 40322"/>
          <p:cNvPicPr/>
          <p:nvPr/>
        </p:nvPicPr>
        <p:blipFill>
          <a:blip r:embed="rId1"/>
          <a:stretch/>
        </p:blipFill>
        <p:spPr>
          <a:xfrm>
            <a:off x="4788000" y="1628640"/>
            <a:ext cx="1512720" cy="1886040"/>
          </a:xfrm>
          <a:prstGeom prst="rect">
            <a:avLst/>
          </a:prstGeom>
          <a:ln w="0">
            <a:noFill/>
          </a:ln>
        </p:spPr>
      </p:pic>
      <p:pic>
        <p:nvPicPr>
          <p:cNvPr id="236" name="i-tmb-0x" descr="http://im2-tub-ru.yandex.net/i?id=19541718-39-72"/>
          <p:cNvPicPr/>
          <p:nvPr/>
        </p:nvPicPr>
        <p:blipFill>
          <a:blip r:embed="rId2"/>
          <a:stretch/>
        </p:blipFill>
        <p:spPr>
          <a:xfrm>
            <a:off x="4859280" y="3573360"/>
            <a:ext cx="1789200" cy="11685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81" descr="http://im5-tub-ru.yandex.net/i?id=447776508-04-72"/>
          <p:cNvPicPr/>
          <p:nvPr/>
        </p:nvPicPr>
        <p:blipFill>
          <a:blip r:embed="rId3"/>
          <a:stretch/>
        </p:blipFill>
        <p:spPr>
          <a:xfrm>
            <a:off x="3208320" y="554184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238" name="i-tmb-0x" descr="http://im0-tub-ru.yandex.net/i?id=324221489-10-72"/>
          <p:cNvPicPr/>
          <p:nvPr/>
        </p:nvPicPr>
        <p:blipFill>
          <a:blip r:embed="rId4"/>
          <a:stretch/>
        </p:blipFill>
        <p:spPr>
          <a:xfrm>
            <a:off x="5364000" y="494172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239" name="i-main-pic" descr="Картинка 146 из 157"/>
          <p:cNvPicPr/>
          <p:nvPr/>
        </p:nvPicPr>
        <p:blipFill>
          <a:blip r:embed="rId5"/>
          <a:stretch/>
        </p:blipFill>
        <p:spPr>
          <a:xfrm>
            <a:off x="6300720" y="1628640"/>
            <a:ext cx="2374920" cy="195264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61" descr="http://im6-tub-ru.yandex.net/i?id=561217980-11-72"/>
          <p:cNvPicPr/>
          <p:nvPr/>
        </p:nvPicPr>
        <p:blipFill>
          <a:blip r:embed="rId6"/>
          <a:stretch/>
        </p:blipFill>
        <p:spPr>
          <a:xfrm>
            <a:off x="6742080" y="3645000"/>
            <a:ext cx="1933560" cy="1214280"/>
          </a:xfrm>
          <a:prstGeom prst="rect">
            <a:avLst/>
          </a:prstGeom>
          <a:ln w="0">
            <a:noFill/>
          </a:ln>
        </p:spPr>
      </p:pic>
      <p:pic>
        <p:nvPicPr>
          <p:cNvPr id="241" name="i-main-pic" descr="Картинка 11 из 8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80360" y="5084640"/>
            <a:ext cx="1238040" cy="943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8:55:43Z</dcterms:created>
  <dc:creator>Арсланова Фатыма</dc:creator>
  <dc:description/>
  <dc:language>en-US</dc:language>
  <cp:lastModifiedBy>Матвей Сологуб</cp:lastModifiedBy>
  <dcterms:modified xsi:type="dcterms:W3CDTF">2017-09-09T17:05:50Z</dcterms:modified>
  <cp:revision>75</cp:revision>
  <dc:subject/>
  <dc:title>Слайд 1</dc:title>
</cp:coreProperties>
</file>