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A971-389D-4BF8-BF4A-58EB0C8545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60E5-FA8F-41B3-B360-BEE48480B98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0E1-869E-4694-8B46-3ECCFAE7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7A6-4582-4D39-BC99-9EB2C031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629-91B1-4506-9801-05A7FC10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185-03A2-4969-8348-81F25E86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0865-2AD4-4F23-8994-650638D6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9C11-6001-4A70-851F-F79F1778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E235-A4C9-46A7-BDFB-78299C18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77BC-F97E-4C6C-BFCB-AFE3BCDE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3D1A-70B5-408F-952C-2C9FACD4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D7DA-DCD5-412B-8C2D-01826D1B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BE27-850F-4875-A06D-48F8E7A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57F-69E2-4F47-865D-33BC8BA8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E77D-A2DC-4661-9B48-222C49D9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EC5C-DBB7-46F8-965C-5EAD3218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44A8-355C-45EC-9873-E3B21F5E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9A31-5259-4195-83A5-2B82E0B8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DAF6-7862-4C43-92A3-620A9A85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51A6-CEE0-45DC-B501-499C95FF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1FA9-472D-4BDD-88FD-2057F62F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6A62-1CDB-44F1-AF49-717BC6B9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84A4C-C397-4A82-9B1E-216A20CD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E7443-76DB-4BD6-8177-BBC632A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259-B52D-46BC-96FD-FDEE4BC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D1B7-C537-4464-9CF7-431AC10C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F686-1F84-4F06-AEAF-771E784B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6FFC-77A3-4564-A11B-4642CCAF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4C50-BB67-4D7A-9B08-99EB28E4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3BD0-5191-4BBD-9349-7DAF0DB2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6CBC-E6CA-417D-8032-235989E1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BB7C-1E52-4567-ADBB-E7141D6E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0F6D8-9DED-437C-8BE3-0DDFCE57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F1A02-6D12-44E4-A06E-4BDA1792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5A603-1194-47F5-A4F3-83680CA5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2F7-A24D-4BAF-8B7B-0C340D3E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60F51-457C-41C3-B8BC-988C13C9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1128-9A2E-4F18-A43F-8ED76C47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B7A9-48F5-46EE-9917-5DB576E5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C427-A6B1-4C18-850F-52D01EB8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68314-2C2E-4C72-AC5A-F36DEC2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7FAD-1621-49D2-AA83-2805FC1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CC39-BA72-4F4E-8505-81E6DDCF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22419-9004-4028-8B4D-D41066A9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B0452-460F-4941-B59A-A616079D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FCB-A074-4210-A6F0-A88B71CC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63B-A4ED-40F3-8DCF-D9B00763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B29-59F6-4B07-BBE5-A2970534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F90-F8B5-4D1B-9B7D-9CD24862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482-65B3-4FC5-80CE-87C86760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987E-33F0-4FA8-BC7D-264CE04BA33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E12E-C898-4C19-AB05-F302A33BEFD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5CDA-A522-4994-BC93-C52801C47CF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E16C-2FC7-4CB0-823B-CD261B40F85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hyperlink" Target="http://www.myltik.ru/db/rus/k/kak_de_velikoe_ravnovesie_narushil.jp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998120" cy="1828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 СОВА»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 класс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826920" y="476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Человек связан с природ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зависит от не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179280" y="2133720"/>
            <a:ext cx="54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ядит как сова, выпучив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робьи под кровлю (крышу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сова   на лов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а это, как журавль в н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сороки раскрича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http://www.nat-geo.ru/upload/iblock/84b/84bf9eb071797afbcc4e1667a54f1da2.jpg"/>
          <p:cNvPicPr/>
          <p:nvPr/>
        </p:nvPicPr>
        <p:blipFill>
          <a:blip r:embed="rId1"/>
          <a:stretch/>
        </p:blipFill>
        <p:spPr>
          <a:xfrm>
            <a:off x="5435640" y="2852640"/>
            <a:ext cx="345744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лексия деятельности на урок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чите  предложе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Сегодня я узнал ….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Было интересно ….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На этом уроке я сумел…..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92000" y="1125000"/>
            <a:ext cx="36716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то это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934640"/>
            <a:ext cx="4546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нем слепа, ночью зряч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шей ловит, а не ко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ю ночь летает —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шей добывает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станет светло —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ать летит в дупл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8" descr="http://www.centre-magic.ru/images/stories/owl1.jpg"/>
          <p:cNvPicPr/>
          <p:nvPr/>
        </p:nvPicPr>
        <p:blipFill>
          <a:blip r:embed="rId1"/>
          <a:stretch/>
        </p:blipFill>
        <p:spPr>
          <a:xfrm>
            <a:off x="4859280" y="44604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http://veralline.com/uploads/images/comparison/2016/06/15/7db7de1f02.jpg"/>
          <p:cNvPicPr/>
          <p:nvPr/>
        </p:nvPicPr>
        <p:blipFill>
          <a:blip r:embed="rId2"/>
          <a:stretch/>
        </p:blipFill>
        <p:spPr>
          <a:xfrm>
            <a:off x="4140360" y="3354480"/>
            <a:ext cx="4879800" cy="331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ь урока:       познакомить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творчеством В. Бианки и с  новым                                   произведением «Сова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https://fs00.infourok.ru/images/doc/310/309172/img7.jpg"/>
          <p:cNvPicPr/>
          <p:nvPr/>
        </p:nvPicPr>
        <p:blipFill>
          <a:blip r:embed="rId1"/>
          <a:stretch/>
        </p:blipFill>
        <p:spPr>
          <a:xfrm>
            <a:off x="1692360" y="2205000"/>
            <a:ext cx="568800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   вы   знаете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давних пор сова считалась символом мудрости и знаний. У древних греков она была священной птицей богини мудрости Афины 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 многих местностях России к сове относились радушно. В сказках ее звали «совушкой-вдовушкой», белокурой, разумной головушк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нигах Дж. Роулинг о Гарри Поттере совы используются как средство связи между волшебниками (совиная почт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вами также называют людей, которые привыкли поздно ложиться спать и поздно вставать (в отличие от жаворонков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Рисунок 12" descr="http://im4-tub-ru.yandex.net/i?id=32718129-26-72"/>
          <p:cNvPicPr/>
          <p:nvPr/>
        </p:nvPicPr>
        <p:blipFill>
          <a:blip r:embed="rId1"/>
          <a:stretch/>
        </p:blipFill>
        <p:spPr>
          <a:xfrm>
            <a:off x="324000" y="0"/>
            <a:ext cx="201600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.В. Бианки.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(1894-1959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8000" y="1268280"/>
            <a:ext cx="496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мья Бианки жила в одном из флигелей Зоологического музея Петербурга, и конечно, Виталий с братьями часто бывали там. Настоящий музей был и в их квартире: у них жили 4 собаки, кошки, лиса; от пола до потолка стояли многочисленные клетки с птицами, в аквариуме жили рыбки, а в террариуме – черепахи, ящерицы и змеи. Лето вся семья Бианки проводила в деревне Лебяжь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00720" y="4437000"/>
            <a:ext cx="4186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лавная тема его произведений – лес и его обитател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9" descr="http://im4-tub-ru.yandex.net/i?id=424366461-30-72"/>
          <p:cNvPicPr/>
          <p:nvPr/>
        </p:nvPicPr>
        <p:blipFill>
          <a:blip r:embed="rId1"/>
          <a:stretch/>
        </p:blipFill>
        <p:spPr>
          <a:xfrm>
            <a:off x="5435640" y="1258920"/>
            <a:ext cx="3095640" cy="23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Картинка 1 из 12"/>
          <p:cNvPicPr/>
          <p:nvPr/>
        </p:nvPicPr>
        <p:blipFill>
          <a:blip r:embed="rId2"/>
          <a:stretch/>
        </p:blipFill>
        <p:spPr>
          <a:xfrm>
            <a:off x="270000" y="4076640"/>
            <a:ext cx="1692000" cy="263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ttp://5literatura.net/datas/literatura/ZHizn-Vitalija-Bianki/0012-012-Proizvedenija.jpg"/>
          <p:cNvPicPr/>
          <p:nvPr/>
        </p:nvPicPr>
        <p:blipFill>
          <a:blip r:embed="rId1"/>
          <a:stretch/>
        </p:blipFill>
        <p:spPr>
          <a:xfrm>
            <a:off x="179280" y="260280"/>
            <a:ext cx="8568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58435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ловарная работ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можно заменить слова и выражения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текае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убегае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кормовисты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клевер, предназначенный для корма скот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цветень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пыльца, мельчайшие жёлтые зёрныш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ронитьс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прятаться, таитьс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здоль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много мест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 бы худа не вышло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бы беды не был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ай белит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добавлять молоко в ча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ойло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питательное питьё для ско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i-main-pic" descr="Картинка 164 из 40321"/>
          <p:cNvPicPr/>
          <p:nvPr/>
        </p:nvPicPr>
        <p:blipFill>
          <a:blip r:embed="rId1"/>
          <a:stretch/>
        </p:blipFill>
        <p:spPr>
          <a:xfrm>
            <a:off x="6443640" y="189000"/>
            <a:ext cx="252252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почка взаимосвяз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а —мыши —шмели —клевер —корова —молоко – 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Рисунок 58" descr="http://im8-tub-ru.yandex.net/i?id=450046799-61-72"/>
          <p:cNvPicPr/>
          <p:nvPr/>
        </p:nvPicPr>
        <p:blipFill>
          <a:blip r:embed="rId1"/>
          <a:stretch/>
        </p:blipFill>
        <p:spPr>
          <a:xfrm>
            <a:off x="6516720" y="2997360"/>
            <a:ext cx="2508120" cy="15840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0" descr="http://im3-tub-ru.yandex.net/i?id=309513150-54-72"/>
          <p:cNvPicPr/>
          <p:nvPr/>
        </p:nvPicPr>
        <p:blipFill>
          <a:blip r:embed="rId2"/>
          <a:stretch/>
        </p:blipFill>
        <p:spPr>
          <a:xfrm>
            <a:off x="2997360" y="3027240"/>
            <a:ext cx="1728720" cy="21718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7" descr="http://im3-tub-ru.yandex.net/i?id=310301141-03-72"/>
          <p:cNvPicPr/>
          <p:nvPr/>
        </p:nvPicPr>
        <p:blipFill>
          <a:blip r:embed="rId3"/>
          <a:stretch/>
        </p:blipFill>
        <p:spPr>
          <a:xfrm>
            <a:off x="4776840" y="14050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8" descr="http://im8-tub-ru.yandex.net/i?id=290781920-46-72"/>
          <p:cNvPicPr/>
          <p:nvPr/>
        </p:nvPicPr>
        <p:blipFill>
          <a:blip r:embed="rId4"/>
          <a:stretch/>
        </p:blipFill>
        <p:spPr>
          <a:xfrm>
            <a:off x="6659640" y="808200"/>
            <a:ext cx="1655640" cy="20048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9" descr="http://im2-tub-ru.yandex.net/i?id=321281547-44-72"/>
          <p:cNvPicPr/>
          <p:nvPr/>
        </p:nvPicPr>
        <p:blipFill>
          <a:blip r:embed="rId5"/>
          <a:stretch/>
        </p:blipFill>
        <p:spPr>
          <a:xfrm>
            <a:off x="3203640" y="141444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9"/>
          <p:cNvSpPr/>
          <p:nvPr/>
        </p:nvSpPr>
        <p:spPr>
          <a:xfrm>
            <a:off x="2286000" y="5013360"/>
            <a:ext cx="487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3" descr="http://daypic.ru/wp-content/uploads/2012/09/588.jpg"/>
          <p:cNvPicPr/>
          <p:nvPr/>
        </p:nvPicPr>
        <p:blipFill>
          <a:blip r:embed="rId6"/>
          <a:stretch/>
        </p:blipFill>
        <p:spPr>
          <a:xfrm>
            <a:off x="155520" y="1709640"/>
            <a:ext cx="2687760" cy="2264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осстановление содержания рассказа по плану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79280" y="1267920"/>
            <a:ext cx="43164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ссердилась со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ышам на лугу раздоль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Шмели на чужих лугах гуляю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евер не роди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лока у Коровы мал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шел Старик Сове кланятьс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остила Сова Старика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i-main-pic" descr="Картинка 47 из 40322"/>
          <p:cNvPicPr/>
          <p:nvPr/>
        </p:nvPicPr>
        <p:blipFill>
          <a:blip r:embed="rId1"/>
          <a:stretch/>
        </p:blipFill>
        <p:spPr>
          <a:xfrm>
            <a:off x="4788000" y="1628640"/>
            <a:ext cx="1512720" cy="1886040"/>
          </a:xfrm>
          <a:prstGeom prst="rect">
            <a:avLst/>
          </a:prstGeom>
          <a:ln w="0">
            <a:noFill/>
          </a:ln>
        </p:spPr>
      </p:pic>
      <p:pic>
        <p:nvPicPr>
          <p:cNvPr id="236" name="i-tmb-0x" descr="http://im2-tub-ru.yandex.net/i?id=19541718-39-72"/>
          <p:cNvPicPr/>
          <p:nvPr/>
        </p:nvPicPr>
        <p:blipFill>
          <a:blip r:embed="rId2"/>
          <a:stretch/>
        </p:blipFill>
        <p:spPr>
          <a:xfrm>
            <a:off x="4859280" y="3573360"/>
            <a:ext cx="1789200" cy="11685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81" descr="http://im5-tub-ru.yandex.net/i?id=447776508-04-72"/>
          <p:cNvPicPr/>
          <p:nvPr/>
        </p:nvPicPr>
        <p:blipFill>
          <a:blip r:embed="rId3"/>
          <a:stretch/>
        </p:blipFill>
        <p:spPr>
          <a:xfrm>
            <a:off x="3208320" y="554184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238" name="i-tmb-0x" descr="http://im0-tub-ru.yandex.net/i?id=324221489-10-72"/>
          <p:cNvPicPr/>
          <p:nvPr/>
        </p:nvPicPr>
        <p:blipFill>
          <a:blip r:embed="rId4"/>
          <a:stretch/>
        </p:blipFill>
        <p:spPr>
          <a:xfrm>
            <a:off x="5364000" y="494172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239" name="i-main-pic" descr="Картинка 146 из 157"/>
          <p:cNvPicPr/>
          <p:nvPr/>
        </p:nvPicPr>
        <p:blipFill>
          <a:blip r:embed="rId5"/>
          <a:stretch/>
        </p:blipFill>
        <p:spPr>
          <a:xfrm>
            <a:off x="6300720" y="1628640"/>
            <a:ext cx="2374920" cy="19526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61" descr="http://im6-tub-ru.yandex.net/i?id=561217980-11-72"/>
          <p:cNvPicPr/>
          <p:nvPr/>
        </p:nvPicPr>
        <p:blipFill>
          <a:blip r:embed="rId6"/>
          <a:stretch/>
        </p:blipFill>
        <p:spPr>
          <a:xfrm>
            <a:off x="6742080" y="3645000"/>
            <a:ext cx="1933560" cy="1214280"/>
          </a:xfrm>
          <a:prstGeom prst="rect">
            <a:avLst/>
          </a:prstGeom>
          <a:ln w="0">
            <a:noFill/>
          </a:ln>
        </p:spPr>
      </p:pic>
      <p:pic>
        <p:nvPicPr>
          <p:cNvPr id="241" name="i-main-pic" descr="Картинка 11 из 8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80360" y="5084640"/>
            <a:ext cx="1238040" cy="94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8:55:43Z</dcterms:created>
  <dc:creator>Арсланова Фатыма</dc:creator>
  <dc:description/>
  <dc:language>en-US</dc:language>
  <cp:lastModifiedBy>Матвей Сологуб</cp:lastModifiedBy>
  <dcterms:modified xsi:type="dcterms:W3CDTF">2017-09-09T17:05:50Z</dcterms:modified>
  <cp:revision>75</cp:revision>
  <dc:subject/>
  <dc:title>Слайд 1</dc:title>
</cp:coreProperties>
</file>