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BC79-0BE7-47BF-8766-E9AFCC89E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EE3F-D8B7-45A5-B94F-C4983111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A020-2B4B-4751-B1BC-46C161A7D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BDCB-2DA0-4319-8CEC-8CAF2081C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6D89-274F-4968-B181-60F75949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7BBC-DD1F-4B78-92B8-CDE0E2FA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8A78-3CB2-499D-B333-9700C904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2211-5C19-4EC9-BFEC-FA21A88E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ED7A-CF06-415A-BA8D-CFC4BE73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BB24-46C5-4836-996D-6A6C1D77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8E0A-9D00-475B-8684-3B30981F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5BB8-14DC-4ED6-8B34-CAD015D7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071E-1C8F-4595-88B2-F40FD1D39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23744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211640" y="3141720"/>
            <a:ext cx="4762440" cy="4333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392720" y="-316080"/>
            <a:ext cx="4751280" cy="3827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321080" cy="3067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403280" y="2997360"/>
            <a:ext cx="273060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492360"/>
            <a:ext cx="5040360" cy="336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716360" y="260280"/>
            <a:ext cx="4427640" cy="3594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0" y="765000"/>
            <a:ext cx="4356000" cy="2907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5076720" y="4076640"/>
            <a:ext cx="388944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нкурс 5. «КТО БОЛЬШЕ?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7274160" cy="48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нкурс 6. «АЙ,БОЛИТ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71643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Конкурс1. «Знаете ли вы отличительные признаки растений класса однодольных и двудольных?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ТЧАТ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ЧКОВАТ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ЕСТОЦВЕТНЫЕ, РОЗОЦВЕТНЫЕ, ПАСЛЁН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НА СЕМЯДО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ЛАКОВЫЕ, ЛИЛЕЙ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ВЕ СЕМЯД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РАЛЛЕЛЬНОЕ ИЛИ ДУГОВ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ЕРЖНЕ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Конкурс 2. «НАЙДИ ОШИБКУ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68360" y="1773360"/>
            <a:ext cx="47628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нкурс 3. «ЗНАЕТЕ ЛИ ВЫ ПРИЗНАКИ СЕМЕЙСТВ РАСТЕНИЙ?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064960"/>
            <a:ext cx="8893080" cy="435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лод — зерн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Цветок   имеет   один   пестик   и   шесть   тычинок   одинаковой велич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В цветке — один пестик и шесть тычинок,  из которых две короткие и четыре дли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Многолетние растения с луковицами или корневищ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Плод—ягода или короб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Цветок имеет один пестик и десять тычи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 Цветок имеет один пестик и пять тычи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. Плод — стручок или стручоче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29152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Стебель—соломина с узл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 Цветок имеет две цветковые чешуи, три тычинки и один пест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 Венчик цветка раздельнолепестный, состоит из пяти лепест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 Венчик цветка сростнолепестный, состоит из пяти лепест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 Соцветие—ки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 Чашечка цветка состоит из пяти свободных чашелистиков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5. Мелкие цветки собраны в соцветия—колоски, которые, в свою очередь, соединяются в более сложные соцве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6. Околоцветник состоит из четырех чашелистиков и четырех лепест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7. Листья тройчатосложные, перистосложные или пальчатосложные с прилистни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. Околоцветник простой, состоит из шести листоч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. Чашечка цветка сростнолистная, состоит из пяти чашелист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932360" y="3963960"/>
            <a:ext cx="3529080" cy="2894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381560" y="1052640"/>
            <a:ext cx="4762440" cy="31813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нкурс 4. «ЧЕТВЕРТЫЙ ЛИШНИЙ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0" y="1413000"/>
            <a:ext cx="4967280" cy="3090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24000" y="4459320"/>
            <a:ext cx="360036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716360" y="0"/>
            <a:ext cx="4427640" cy="2933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43280" y="3673440"/>
            <a:ext cx="4321440" cy="3184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39640" y="0"/>
            <a:ext cx="3816360" cy="4273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900000" y="4095720"/>
            <a:ext cx="352764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5T19:35:40Z</dcterms:created>
  <dc:creator>samsung</dc:creator>
  <dc:description/>
  <dc:language>en-US</dc:language>
  <cp:lastModifiedBy>samsung</cp:lastModifiedBy>
  <dcterms:modified xsi:type="dcterms:W3CDTF">2017-09-09T15:18:53Z</dcterms:modified>
  <cp:revision>3</cp:revision>
  <dc:subject/>
  <dc:title>Слайд 1</dc:title>
</cp:coreProperties>
</file>