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6AD-A0E2-4DB5-831C-E11C903A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666-E3E4-4C86-A20B-E43952C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559-4BC1-45A5-93A8-0C67F86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85F-FECA-4303-A3A5-40E85E29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AB0-9317-4466-86DB-DFAA9D0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F0F-90BA-4608-A038-9519D218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5F1-E5E4-44CC-9865-D346219E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2D1-64D8-4DBD-BE8C-BF3C43A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F61-627E-45E3-A2A1-DFF5757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B7D-3EB5-499D-8961-E515415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D82-94E2-4462-9DF6-3421631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470-215C-4D55-8D74-8A2ABB7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EC6-73D2-469E-BEA5-B9121A95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374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4762440" cy="4333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92720" y="-316080"/>
            <a:ext cx="4751280" cy="3827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21080" cy="306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3280" y="2997360"/>
            <a:ext cx="27306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92360"/>
            <a:ext cx="5040360" cy="336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427640" cy="359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4356000" cy="290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3889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с 5. «КТО БОЛЬШ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7416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с 6. «АЙ,БОЛИТ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онкурс1. «Знаете ли вы отличительные признаки растений класса однодольных и двудольных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ТЧА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ЧКОВА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СТОЦВЕТНЫЕ, РОЗОЦВЕТНЫЕ, ПАСЛЁ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АКОВЫЕ, ЛИЛ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ЛЕЛЬНОЕ ИЛИ ДУГ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РЖ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онкурс 2. «НАЙДИ ОШИБ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3. «ЗНАЕТЕ ЛИ ВЫ ПРИЗНАКИ СЕМЕЙСТВ РАСТЕНИЙ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64960"/>
            <a:ext cx="889308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д — зер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Цветок   имеет   один   пестик   и   шесть   тычинок   одинаковой вел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 цветке — один пестик и шесть тычинок,  из которых две короткие и четыре дл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ноголетние растения с луковицами или корневищ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лод—ягода или коро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Цветок имеет один пестик и десять тыч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Цветок имеет один пестик и пять тыч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Плод — стручок или стручоч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Стебель—соломина с уз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Цветок имеет две цветковые чешуи, три тычинки и один пе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Венчик цветка раздельнолепестный, состоит из пяти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Венчик цветка сростнолепестный, состоит из пяти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Соцветие—ки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Чашечка цветка состоит из пяти свободных чашелистико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Мелкие цветки собраны в соцветия—колоски, которые, в свою очередь, соединяются в более сложные соцв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Околоцветник состоит из четырех чашелистиков и четырех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. Листья тройчатосложные, перистосложные или пальчатосложные с прили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Околоцветник простой, состоит из шести листо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Чашечка цветка сростнолистная, состоит из пяти чашелист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3963960"/>
            <a:ext cx="3529080" cy="289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81560" y="105264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4. «ЧЕТВЕ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967280" cy="309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445932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3673440"/>
            <a:ext cx="4321440" cy="318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3816360" cy="427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900000" y="4095720"/>
            <a:ext cx="35276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9:35:40Z</dcterms:created>
  <dc:creator>samsung</dc:creator>
  <dc:description/>
  <dc:language>en-US</dc:language>
  <cp:lastModifiedBy>samsung</cp:lastModifiedBy>
  <dcterms:modified xsi:type="dcterms:W3CDTF">2017-09-09T15:18:53Z</dcterms:modified>
  <cp:revision>3</cp:revision>
  <dc:subject/>
  <dc:title>Слайд 1</dc:title>
</cp:coreProperties>
</file>