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9BD-CD9E-4F3A-9DEB-D1D02D6A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CBE-5F79-4E66-A7F1-25E5A8D1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FD3-7962-49A4-9C1D-8D487EF9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A4B-7C25-443F-AD63-C38EBEFB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8ED-A324-4065-B39C-2B9C5FD1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D69-1028-486D-AD2F-913E87D5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DB4-DD08-46BC-AB47-3F86DC1D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E2E-1091-4C91-837F-79BAC5A2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717-9EF8-47EC-B2F7-8C5E0A7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AAB-2F31-444A-A5A8-DD5292C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B7C-CD7A-42DF-BE1F-9235E9D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12A-C0CF-428B-98CD-2C058A9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6B4-3B8D-4D84-A419-F4C784B98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Documents and Settings\Gena\Мои документы\Мои рисунки\Изображение\Изображение 013.jpg"/>
          <p:cNvPicPr/>
          <p:nvPr/>
        </p:nvPicPr>
        <p:blipFill>
          <a:blip r:embed="rId1"/>
          <a:stretch/>
        </p:blipFill>
        <p:spPr>
          <a:xfrm>
            <a:off x="-2142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133640" y="1000080"/>
            <a:ext cx="70167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1285920"/>
          <a:ext cx="7286760" cy="1917720"/>
        </p:xfrm>
        <a:graphic>
          <a:graphicData uri="http://schemas.openxmlformats.org/drawingml/2006/table">
            <a:tbl>
              <a:tblPr/>
              <a:tblGrid>
                <a:gridCol w="2884680"/>
                <a:gridCol w="615960"/>
                <a:gridCol w="714240"/>
                <a:gridCol w="642960"/>
                <a:gridCol w="785880"/>
                <a:gridCol w="785880"/>
                <a:gridCol w="85716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ите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ите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ед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0040" y="3714840"/>
          <a:ext cx="7120080" cy="2143080"/>
        </p:xfrm>
        <a:graphic>
          <a:graphicData uri="http://schemas.openxmlformats.org/drawingml/2006/table">
            <a:tbl>
              <a:tblPr/>
              <a:tblGrid>
                <a:gridCol w="2214720"/>
                <a:gridCol w="857160"/>
                <a:gridCol w="714240"/>
                <a:gridCol w="928800"/>
                <a:gridCol w="642960"/>
                <a:gridCol w="744480"/>
                <a:gridCol w="10177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лимое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литель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т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Ластик стёр зна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6 * 6 =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7 * 8 = 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4 * 8 =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6 * 8 =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2 * 9 = 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4 * 9 = 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 * 8 =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2 * 5 = 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5 * 8 = 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Сравните единицы дл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дм  * 6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 см  *  8 д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 дм  *  90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8 см  *  5дм 8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1 см  *  1 дм 3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5 см  *  2дм 7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Реши задач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одя шёл по лестнице. Шагая через две ступеньки, он считал: «Один, два, три, четыре…». Когда ему нужно было сказать пять, то оказалось, что осталась одна ступенька. Сколько всего ступенек на лестниц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arhivurokov.ru/multiurok/c/5/e/c5e219fb3d321976b733791716be1fd9b6ea0718/vvierkh-po-liestnitsie-ili-moi-zhizniennyie-tsiennosti-klassnyi-chas-dlia-7-klassa_1.jpeg"/>
          <p:cNvPicPr/>
          <p:nvPr/>
        </p:nvPicPr>
        <p:blipFill>
          <a:blip r:embed="rId1"/>
          <a:srcRect l="0" t="12199" r="0" b="9754"/>
          <a:stretch/>
        </p:blipFill>
        <p:spPr>
          <a:xfrm>
            <a:off x="3429000" y="4286160"/>
            <a:ext cx="229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1:35:03Z</dcterms:created>
  <dc:creator>Ольга</dc:creator>
  <dc:description/>
  <dc:language>en-US</dc:language>
  <cp:lastModifiedBy>Ольга</cp:lastModifiedBy>
  <dcterms:modified xsi:type="dcterms:W3CDTF">2017-09-10T11:54:04Z</dcterms:modified>
  <cp:revision>2</cp:revision>
  <dc:subject/>
  <dc:title>Слайд 1</dc:title>
</cp:coreProperties>
</file>