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4.wmf" ContentType="image/x-wmf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jpeg" ContentType="image/jpeg"/>
  <Override PartName="/ppt/media/image13.png" ContentType="image/png"/>
  <Override PartName="/ppt/media/image40.jpeg" ContentType="image/jpeg"/>
  <Override PartName="/ppt/media/image44.png" ContentType="image/png"/>
  <Override PartName="/ppt/media/image45.jpeg" ContentType="image/jpeg"/>
  <Override PartName="/ppt/media/image42.png" ContentType="image/png"/>
  <Override PartName="/ppt/media/image31.png" ContentType="image/png"/>
  <Override PartName="/ppt/media/image43.png" ContentType="image/png"/>
  <Override PartName="/ppt/media/image46.jpeg" ContentType="image/jpe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8.png" ContentType="image/png"/>
  <Override PartName="/ppt/media/image47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B3D-2CE3-4BD9-B354-DC301DBD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354-DEF9-4DD2-9136-77D11850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376-1BC2-4866-B908-DE57FA22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CB3-9205-4000-A6A5-BB5BEB03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30C2-231B-48B7-A897-DC6FB374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0CB-B765-40B6-B61E-1E1134E6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7D8-BE67-421E-A949-F80E103C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B5E-E1A0-47DF-867C-744547BF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268-3F53-4912-BC24-7BA9EFFC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356-A085-4224-8AD5-183B1212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F68-66B8-4F6F-B2B9-4F7505E1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B42-1183-4740-80BC-46615BD4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020F4-0A80-4883-835C-4CEBE120C2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24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2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240000"/>
            <a:ext cx="738036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304920"/>
            <a:ext cx="90820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000" y="5040360"/>
            <a:ext cx="34196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e3e5c"/>
                </a:solidFill>
                <a:latin typeface="Arial"/>
              </a:rPr>
              <a:t>Разработала Лату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e3e5c"/>
                </a:solidFill>
                <a:latin typeface="Arial"/>
              </a:rPr>
              <a:t>Наталия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e3e5c"/>
                </a:solidFill>
                <a:latin typeface="Arial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e3e5c"/>
                </a:solidFill>
                <a:latin typeface="Arial"/>
              </a:rPr>
              <a:t>ГБОУ СОШ «ОЦ» с. Лоп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e3e5c"/>
                </a:solidFill>
                <a:latin typeface="Arial"/>
              </a:rPr>
              <a:t>с/п «Детский сад»“Улыбка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e3e5c"/>
                </a:solidFill>
                <a:latin typeface="Arial"/>
              </a:rPr>
              <a:t>2017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e3e5c"/>
                </a:solidFill>
                <a:latin typeface="Times New Roman"/>
              </a:rPr>
              <a:t>Государственное бюджетное общеобразовательное учреждение средняя общеобразовательная школа  с.Лопатино «Образовательный центр» структурное подразделение «Детский сад» "Улыбк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000" y="1439640"/>
            <a:ext cx="9070920" cy="183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 – презентация для детей старшего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"В гостях у сказки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820000">
            <a:off x="8102160" y="2874600"/>
            <a:ext cx="157968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3419640"/>
            <a:ext cx="3252960" cy="395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118040" y="3419640"/>
            <a:ext cx="2541600" cy="414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40000" y="241200"/>
            <a:ext cx="2700360" cy="281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595920" y="360360"/>
            <a:ext cx="3303720" cy="2197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840360" y="3419640"/>
            <a:ext cx="3060720" cy="3921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39640" y="609480"/>
            <a:ext cx="2160720" cy="19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099280" y="4500720"/>
            <a:ext cx="197964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lum bright="2000"/>
          </a:blip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700360" y="4500720"/>
            <a:ext cx="2700360" cy="23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6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879640"/>
            <a:ext cx="10080720" cy="468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1668600" cy="2519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40360" y="1079640"/>
            <a:ext cx="378000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19440000">
            <a:off x="3903480" y="587160"/>
            <a:ext cx="2617560" cy="188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809720" y="360360"/>
            <a:ext cx="2151000" cy="19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60360"/>
            <a:ext cx="9360000" cy="828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60640" y="5040360"/>
            <a:ext cx="2619360" cy="215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140360" y="4859280"/>
            <a:ext cx="2879640" cy="2190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759280" y="395928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800360" y="2700360"/>
            <a:ext cx="1260360" cy="144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780000" y="900000"/>
            <a:ext cx="143964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2340000" y="3600360"/>
            <a:ext cx="1800360" cy="197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8140680" y="179280"/>
            <a:ext cx="1579680" cy="1084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4846680" y="1731960"/>
            <a:ext cx="3433680" cy="22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0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2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0360" y="3060720"/>
            <a:ext cx="4859280" cy="395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7928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60720" y="179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580000" y="360360"/>
            <a:ext cx="4500720" cy="414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409760" y="1511280"/>
            <a:ext cx="273348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2 -0.023 -0.02132 C -0.054 -0.02132 -0.086 0.14523 -0.086 0.31178 C -0.086 0.22784 -0.102 0.14523 -0.117 0.14523 C -0.133 0.14523 -0.148 0.22917 -0.148 0.31178 C -0.148 0.27048 -0.156 0.22784 -0.164 0.22784 C -0.172 0.22784 -0.18 0.26914 -0.18 0.31178 C -0.18 0.29046 -0.184 0.27048 -0.188 0.27048 C -0.192 0.27048 -0.196 0.2918 -0.196 0.31178 C -0.196 0.30112 -0.198 0.29046 -0.2 0.29046 C -0.201 0.29046 -0.204 0.30112 -0.204 0.31178 C -0.204 0.30645 -0.205 0.30112 -0.206 0.30112 C -0.206 0.29979 -0.208 0.30645 -0.208 0.31178 C -0.208 0.30912 -0.208 0.30645 -0.209 0.30645 C -0.209 0.30778 -0.21 0.30911 -0.21 0.31178 C -0.21 0.31045 -0.21 0.30912 -0.21 0.30778 C -0.211 0.30778 -0.211 0.30911 -0.211 0.31044 C -0.212 0.31044 -0.212 0.30911 -0.212 0.30778 C -0.213 0.30778 -0.213 0.30911 -0.213 0.31044 E">
                                      <p:cBhvr>
                                        <p:cTn id="12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755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559640" y="360360"/>
            <a:ext cx="1979640" cy="234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119640" y="2160720"/>
            <a:ext cx="2700360" cy="216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559640" y="3790800"/>
            <a:ext cx="2160720" cy="1789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559640" y="5568840"/>
            <a:ext cx="1979640" cy="16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2 -0.023 -0.02132 C -0.054 -0.02132 -0.086 0.14523 -0.086 0.31178 C -0.086 0.22784 -0.102 0.14523 -0.117 0.14523 C -0.133 0.14523 -0.148 0.22917 -0.148 0.31178 C -0.148 0.27048 -0.156 0.22784 -0.164 0.22784 C -0.172 0.22784 -0.18 0.26914 -0.18 0.31178 C -0.18 0.29046 -0.184 0.27048 -0.188 0.27048 C -0.192 0.27048 -0.196 0.2918 -0.196 0.31178 C -0.196 0.30112 -0.198 0.29046 -0.2 0.29046 C -0.201 0.29046 -0.204 0.30112 -0.204 0.31178 C -0.204 0.30645 -0.205 0.30112 -0.206 0.30112 C -0.206 0.29979 -0.208 0.30645 -0.208 0.31178 C -0.208 0.30912 -0.208 0.30645 -0.209 0.30645 C -0.209 0.30778 -0.21 0.30911 -0.21 0.31178 C -0.21 0.31045 -0.21 0.30912 -0.21 0.30778 C -0.211 0.30778 -0.211 0.30911 -0.211 0.31044 C -0.212 0.31044 -0.212 0.30911 -0.212 0.30778 C -0.213 0.30778 -0.213 0.30911 -0.213 0.31044 E">
                                      <p:cBhvr>
                                        <p:cTn id="14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0720" y="2340000"/>
            <a:ext cx="8640720" cy="521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419640" y="550800"/>
            <a:ext cx="1618920" cy="1608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681200" y="131760"/>
            <a:ext cx="838080" cy="2028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119640" y="196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6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0360" y="4319640"/>
            <a:ext cx="3240360" cy="32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4319640"/>
            <a:ext cx="3419640" cy="3240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799320" y="163440"/>
            <a:ext cx="3101760" cy="2897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79280" y="179280"/>
            <a:ext cx="2880000" cy="3187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700440" y="179280"/>
            <a:ext cx="2419200" cy="288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419640" y="431964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979640" cy="2662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9640" y="179280"/>
            <a:ext cx="2160720" cy="251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414520" y="179280"/>
            <a:ext cx="2084400" cy="251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-179280" y="2835360"/>
            <a:ext cx="2716200" cy="3284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691160" y="179280"/>
            <a:ext cx="1968480" cy="2340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380360" y="2879640"/>
            <a:ext cx="2340000" cy="378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2700360" y="3060720"/>
            <a:ext cx="4140000" cy="45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1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1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2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4:24:58Z</dcterms:created>
  <dc:creator/>
  <dc:description/>
  <dc:language>en-US</dc:language>
  <cp:lastModifiedBy/>
  <dcterms:modified xsi:type="dcterms:W3CDTF">2017-03-22T17:07:46Z</dcterms:modified>
  <cp:revision>17</cp:revision>
  <dc:subject/>
  <dc:title/>
</cp:coreProperties>
</file>