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4.wmf" ContentType="image/x-wmf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jpeg" ContentType="image/jpeg"/>
  <Override PartName="/ppt/media/image13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912-C51F-4A27-AB5E-122CB235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C42-64F0-40C4-B951-B6ADE23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81C-A653-4953-8822-94021763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18A-CD2C-41E1-A16E-88FFC7F0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033-AB38-4842-A095-E7CF86D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B9E-7189-4B46-8199-EB72A32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877-E87E-432F-AED8-EADD0BA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47B-4595-4778-861E-D5463DE3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D6D-71C2-487C-B69C-2E7D1BB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0B1-E365-47F8-8898-D9F207E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C94-9923-41C4-8729-D5389AA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E13-FCAB-4622-8810-D82DFD9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55BD3-63D4-46F3-B8A8-563F0857F7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24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000"/>
            <a:ext cx="7380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90820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000" y="5040360"/>
            <a:ext cx="34196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Разработала Лат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Наталия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ГБОУ СОШ «ОЦ» с. Лоп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с/п «Детский сад»“Улыбка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e3e5c"/>
                </a:solidFill>
                <a:latin typeface="Times New Roman"/>
              </a:rPr>
              <a:t>Государственное бюджетное общеобразовательное учреждение средняя общеобразовательная школа  с.Лопатино «Образовательный центр» структурное подразделение «Детский сад» "Улыбк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000" y="1439640"/>
            <a:ext cx="907092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– презентация для детей стар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В гостях у сказки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820000">
            <a:off x="8102160" y="2874600"/>
            <a:ext cx="157968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3419640"/>
            <a:ext cx="3252960" cy="395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8040" y="3419640"/>
            <a:ext cx="2541600" cy="41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0" y="241200"/>
            <a:ext cx="2700360" cy="281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595920" y="360360"/>
            <a:ext cx="3303720" cy="219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840360" y="3419640"/>
            <a:ext cx="3060720" cy="392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39640" y="609480"/>
            <a:ext cx="2160720" cy="19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99280" y="4500720"/>
            <a:ext cx="197964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700360" y="4500720"/>
            <a:ext cx="2700360" cy="23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1008072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1668600" cy="251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079640"/>
            <a:ext cx="378000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440000">
            <a:off x="3903480" y="587160"/>
            <a:ext cx="2617560" cy="188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809720" y="360360"/>
            <a:ext cx="215100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60360"/>
            <a:ext cx="9360000" cy="828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60640" y="5040360"/>
            <a:ext cx="261936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140360" y="4859280"/>
            <a:ext cx="287964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59280" y="395928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800360" y="2700360"/>
            <a:ext cx="126036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80000" y="900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340000" y="360036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8140680" y="179280"/>
            <a:ext cx="1579680" cy="1084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846680" y="1731960"/>
            <a:ext cx="343368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48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92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60720" y="179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80000" y="360360"/>
            <a:ext cx="4500720" cy="414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409760" y="1511280"/>
            <a:ext cx="273348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2 -0.023 -0.02132 C -0.054 -0.02132 -0.086 0.14523 -0.086 0.31178 C -0.086 0.22784 -0.102 0.14523 -0.117 0.14523 C -0.133 0.14523 -0.148 0.22917 -0.148 0.31178 C -0.148 0.27048 -0.156 0.22784 -0.164 0.22784 C -0.172 0.22784 -0.18 0.26914 -0.18 0.31178 C -0.18 0.29046 -0.184 0.27048 -0.188 0.27048 C -0.192 0.27048 -0.196 0.2918 -0.196 0.31178 C -0.196 0.30112 -0.198 0.29046 -0.2 0.29046 C -0.201 0.29046 -0.204 0.30112 -0.204 0.31178 C -0.204 0.30645 -0.205 0.30112 -0.206 0.30112 C -0.206 0.29979 -0.208 0.30645 -0.208 0.31178 C -0.208 0.30912 -0.208 0.30645 -0.209 0.30645 C -0.209 0.30778 -0.21 0.30911 -0.21 0.31178 C -0.21 0.31045 -0.21 0.30912 -0.21 0.30778 C -0.211 0.30778 -0.211 0.30911 -0.211 0.31044 C -0.212 0.31044 -0.212 0.30911 -0.212 0.30778 C -0.213 0.30778 -0.213 0.30911 -0.213 0.31044 E">
                                      <p:cBhvr>
                                        <p:cTn id="12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755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979640" cy="23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119640" y="2160720"/>
            <a:ext cx="2700360" cy="216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559640" y="3790800"/>
            <a:ext cx="2160720" cy="178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559640" y="5568840"/>
            <a:ext cx="197964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2 -0.023 -0.02132 C -0.054 -0.02132 -0.086 0.14523 -0.086 0.31178 C -0.086 0.22784 -0.102 0.14523 -0.117 0.14523 C -0.133 0.14523 -0.148 0.22917 -0.148 0.31178 C -0.148 0.27048 -0.156 0.22784 -0.164 0.22784 C -0.172 0.22784 -0.18 0.26914 -0.18 0.31178 C -0.18 0.29046 -0.184 0.27048 -0.188 0.27048 C -0.192 0.27048 -0.196 0.2918 -0.196 0.31178 C -0.196 0.30112 -0.198 0.29046 -0.2 0.29046 C -0.201 0.29046 -0.204 0.30112 -0.204 0.31178 C -0.204 0.30645 -0.205 0.30112 -0.206 0.30112 C -0.206 0.29979 -0.208 0.30645 -0.208 0.31178 C -0.208 0.30912 -0.208 0.30645 -0.209 0.30645 C -0.209 0.30778 -0.21 0.30911 -0.21 0.31178 C -0.21 0.31045 -0.21 0.30912 -0.21 0.30778 C -0.211 0.30778 -0.211 0.30911 -0.211 0.31044 C -0.212 0.31044 -0.212 0.30911 -0.212 0.30778 C -0.213 0.30778 -0.213 0.30911 -0.213 0.31044 E">
                                      <p:cBhvr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8640720" cy="521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19640" y="550800"/>
            <a:ext cx="1618920" cy="160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81200" y="131760"/>
            <a:ext cx="838080" cy="202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19640" y="196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0360" y="431964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319640"/>
            <a:ext cx="34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799320" y="163440"/>
            <a:ext cx="3101760" cy="28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9280" y="179280"/>
            <a:ext cx="2880000" cy="31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700440" y="179280"/>
            <a:ext cx="2419200" cy="288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419640" y="43196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979640" cy="2662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9640" y="179280"/>
            <a:ext cx="216072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414520" y="179280"/>
            <a:ext cx="208440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179280" y="2835360"/>
            <a:ext cx="2716200" cy="328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691160" y="179280"/>
            <a:ext cx="1968480" cy="234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380360" y="2879640"/>
            <a:ext cx="2340000" cy="37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700360" y="3060720"/>
            <a:ext cx="414000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4:24:58Z</dcterms:created>
  <dc:creator/>
  <dc:description/>
  <dc:language>en-US</dc:language>
  <cp:lastModifiedBy/>
  <dcterms:modified xsi:type="dcterms:W3CDTF">2017-03-22T17:07:46Z</dcterms:modified>
  <cp:revision>17</cp:revision>
  <dc:subject/>
  <dc:title/>
</cp:coreProperties>
</file>