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4F1-ABEB-41AA-BACA-D2E04FA4F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D89-6C70-40FE-8CA2-8EA609DB1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B98-7BBD-411E-B57B-6FD83563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0A2-461F-4C5C-8AA8-C398797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75E-E668-4F35-AB22-F79AA9DA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EB3-74F4-47D2-AAF7-103681F9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049-4E18-465E-BB50-D96D6A6B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8E6-0B98-45DC-A6E0-D443EE94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44C1-2850-4B4F-B6DC-D09AD01F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351-0686-457B-A5EC-09F2E4F3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5D4C-F66D-4AEF-906F-C3776BF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883F-74E3-4EEE-8AB3-078129E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9022-55AE-4CBC-A38B-07B2596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00F-C968-49A3-B0FA-77A0066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518D-1D28-4C0D-AE94-CF0B7DC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710-2685-46DB-A378-3D9C254B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D39-A929-4988-B575-96A5D804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A36-08A6-4E48-8B4B-DAFC0F18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E77D-954D-49CE-9C05-55D1108C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F0E-8411-44F3-8614-BC405F7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8D0-2293-4454-912C-CEE607F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E3E-8492-4ED4-8F01-CC52D48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554-CF48-440D-BAF6-A27CE5E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A3E-50F7-44A3-8FB7-45B08ED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22D-74E0-4B85-ADE9-BEF3448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BBE-A06E-4D9F-AE9A-E52030A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115-B588-46A1-9A47-FCF381F6E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2100"/>
                </a:solidFill>
                <a:latin typeface="Arial Black"/>
              </a:rPr>
              <a:t>rodnaya-tropink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2100"/>
                </a:solidFill>
                <a:latin typeface="Arial Black"/>
              </a:rPr>
              <a:t>Профессиональный блог о развитии ребенка от рождения до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30F-994A-4FB7-A4D4-A5DADCA4F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72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283520" cy="5464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24000" y="6156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на фотографиях самоле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 прямым крылом, б) с треугольным крылом, в) со стреловидным кры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69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835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874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59600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9636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929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820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539640" y="7192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996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73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872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9:19:19Z</dcterms:created>
  <dc:creator>user</dc:creator>
  <dc:description/>
  <dc:language>en-US</dc:language>
  <cp:lastModifiedBy>Валентина Коканова</cp:lastModifiedBy>
  <dcterms:modified xsi:type="dcterms:W3CDTF">2017-09-10T17:43:47Z</dcterms:modified>
  <cp:revision>60</cp:revision>
  <dc:subject/>
  <dc:title>Слайд 1</dc:title>
</cp:coreProperties>
</file>