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B74E-2EBB-4557-94CA-403BE26433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9C68-7B37-4232-BB9F-D55833CB00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B51D-CAD8-4A9A-A7FD-4E8316A4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AE56-BF50-4791-B3D9-72ACBCB0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EE93-FDF0-4523-8C90-3827737F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8B88-07C5-4A57-8F1E-94741ED09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A669-3044-4CB1-84F7-FD7D55B4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DCB8-DFD6-4C0E-9D15-C8E8276D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E887-5B24-43C3-9FB7-5FD90936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4BB5-7358-4236-995C-F55D4ABB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213A-DC24-4B68-B831-DE43A3B3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AE3B-35A5-4A4D-A20E-89BC7850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9E35-9E35-45F0-9FDC-F0A1A3AC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CF70-01CE-4158-9A74-9E6BF820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2974-3194-44A5-948B-381C4A34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895C-7E10-4868-8ADB-05BACDEA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F5B0-2218-433B-A022-7173A195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1B4A-230B-4C36-93C5-56425D41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6AE3-81CB-4526-80DC-7CE93CDC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0A01-A886-4C6B-BCF0-AD7AFF97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6CB5-F632-490C-AA35-E57A5BD5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C09F-E70B-446B-8FF8-DEAB0161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03FF-C543-4DB0-883E-ED875A59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5C21-7D64-4478-8CBA-FBFC7A80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C1AC-D180-48AA-AD40-AB700679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6244-93D1-4C3B-AE62-5553D70B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7D39-964E-45D5-8D54-FD7BA4C42E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22100"/>
                </a:solidFill>
                <a:latin typeface="Arial Black"/>
              </a:rPr>
              <a:t>rodnaya-tropinka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22100"/>
                </a:solidFill>
                <a:latin typeface="Arial Black"/>
              </a:rPr>
              <a:t>Профессиональный блог о развитии ребенка от рождения до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C22A-EBDF-4C48-91E4-56CE0CB26A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777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716960" cy="57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8721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7283520" cy="54640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324000" y="615636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ди на фотографиях самолеты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с прямым крылом, б) с треугольным крылом, в) со стреловидным кры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95492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81200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028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796932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6802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812000" cy="58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183520" cy="61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69483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667640" cy="57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8742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596000" cy="56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596360" cy="56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9296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59636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68204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74072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"/>
          <p:cNvPicPr/>
          <p:nvPr/>
        </p:nvPicPr>
        <p:blipFill>
          <a:blip r:embed="rId1"/>
          <a:stretch/>
        </p:blipFill>
        <p:spPr>
          <a:xfrm>
            <a:off x="539640" y="719280"/>
            <a:ext cx="7777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09964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812000" cy="58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8739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8724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0T19:19:19Z</dcterms:created>
  <dc:creator>user</dc:creator>
  <dc:description/>
  <dc:language>en-US</dc:language>
  <cp:lastModifiedBy>Валентина Коканова</cp:lastModifiedBy>
  <dcterms:modified xsi:type="dcterms:W3CDTF">2017-09-10T17:43:47Z</dcterms:modified>
  <cp:revision>60</cp:revision>
  <dc:subject/>
  <dc:title>Слайд 1</dc:title>
</cp:coreProperties>
</file>